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A3D-E090-439D-812B-F8D7FC983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EF95-B5F9-4EE9-991F-28C5D303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EF4-2143-47C4-BC6B-9A291FCD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29A8-1D4E-4DAF-B2C9-953416729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70F-C1A2-4C43-A7E7-A3F142C70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C8E5-AD5C-4077-8C0C-315705430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A97B-2C94-4951-A46C-0BF7B642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5718-B2F5-4F03-9348-B443833AC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2A5D-25C1-4ED0-9CE9-E68BB8602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1A05-D8BC-4B3F-90D2-7ADB80B1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9245F-5C46-4823-9463-AC1BC180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DCE0-D5CF-4B74-9C26-70944676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9D4F-7F67-4BAA-925B-5181CE90B1E9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Network.png"/>
          <p:cNvPicPr/>
          <p:nvPr/>
        </p:nvPicPr>
        <p:blipFill>
          <a:blip r:embed="rId1"/>
          <a:stretch/>
        </p:blipFill>
        <p:spPr>
          <a:xfrm>
            <a:off x="-11160" y="0"/>
            <a:ext cx="6297840" cy="29527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Pipes.png"/>
          <p:cNvPicPr/>
          <p:nvPr/>
        </p:nvPicPr>
        <p:blipFill>
          <a:blip r:embed="rId2"/>
          <a:stretch/>
        </p:blipFill>
        <p:spPr>
          <a:xfrm>
            <a:off x="7000920" y="214200"/>
            <a:ext cx="1685880" cy="3638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Demands.png"/>
          <p:cNvPicPr/>
          <p:nvPr/>
        </p:nvPicPr>
        <p:blipFill>
          <a:blip r:embed="rId3"/>
          <a:stretch/>
        </p:blipFill>
        <p:spPr>
          <a:xfrm>
            <a:off x="142920" y="2824200"/>
            <a:ext cx="6288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Pattern.png"/>
          <p:cNvPicPr/>
          <p:nvPr/>
        </p:nvPicPr>
        <p:blipFill>
          <a:blip r:embed="rId1"/>
          <a:stretch/>
        </p:blipFill>
        <p:spPr>
          <a:xfrm>
            <a:off x="142920" y="214200"/>
            <a:ext cx="50101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01T23:20:08Z</dcterms:created>
  <dc:creator>John</dc:creator>
  <dc:description/>
  <dc:language>en-US</dc:language>
  <cp:lastModifiedBy>John</cp:lastModifiedBy>
  <dcterms:modified xsi:type="dcterms:W3CDTF">2017-11-02T00:16:29Z</dcterms:modified>
  <cp:revision>2</cp:revision>
  <dc:subject/>
  <dc:title>Slide 1</dc:title>
</cp:coreProperties>
</file>