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E6C-F8FB-4C38-9D87-94A50D55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C95-D89D-4D67-8937-884F5CD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859-8F4D-4279-B33B-C8E7FF9D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D1E-72B3-4670-A30D-ED7F8C5B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8D2-8D7B-45F7-B134-72FBA24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3C9-8F32-42EE-AA4F-9A6B531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249-B2D1-4F97-BFF9-8AC40779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338-61C8-4E64-A9BC-06950EC0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346-1313-484F-99FD-C7FF9E67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AFA-D294-4B0A-8D00-6D9969B1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6A6-0527-4FD6-8C2B-30900DD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19D-A473-4398-8D17-88D7128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CB19-5ECB-44DB-8F86-4EB8FBA172C5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work.png"/>
          <p:cNvPicPr/>
          <p:nvPr/>
        </p:nvPicPr>
        <p:blipFill>
          <a:blip r:embed="rId1"/>
          <a:stretch/>
        </p:blipFill>
        <p:spPr>
          <a:xfrm>
            <a:off x="-11160" y="0"/>
            <a:ext cx="629784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ipes.png"/>
          <p:cNvPicPr/>
          <p:nvPr/>
        </p:nvPicPr>
        <p:blipFill>
          <a:blip r:embed="rId2"/>
          <a:stretch/>
        </p:blipFill>
        <p:spPr>
          <a:xfrm>
            <a:off x="7000920" y="214200"/>
            <a:ext cx="1685880" cy="363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emands.png"/>
          <p:cNvPicPr/>
          <p:nvPr/>
        </p:nvPicPr>
        <p:blipFill>
          <a:blip r:embed="rId3"/>
          <a:stretch/>
        </p:blipFill>
        <p:spPr>
          <a:xfrm>
            <a:off x="142920" y="2824200"/>
            <a:ext cx="628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attern.png"/>
          <p:cNvPicPr/>
          <p:nvPr/>
        </p:nvPicPr>
        <p:blipFill>
          <a:blip r:embed="rId1"/>
          <a:stretch/>
        </p:blipFill>
        <p:spPr>
          <a:xfrm>
            <a:off x="142920" y="214200"/>
            <a:ext cx="5010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1T23:20:08Z</dcterms:created>
  <dc:creator>John</dc:creator>
  <dc:description/>
  <dc:language>en-US</dc:language>
  <cp:lastModifiedBy>John</cp:lastModifiedBy>
  <dcterms:modified xsi:type="dcterms:W3CDTF">2017-11-02T00:16:29Z</dcterms:modified>
  <cp:revision>2</cp:revision>
  <dc:subject/>
  <dc:title>Slide 1</dc:title>
</cp:coreProperties>
</file>