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AAB-7634-4698-9009-E9E29531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820-1949-4AD6-B756-D05CA88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A0B-45E2-4E62-837A-B22763A3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FC0-731C-4D60-BA48-88CC109B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118-2504-4DF8-9609-FE4A267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A9C-EB79-4AE4-878B-4A71264D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185-6B1D-4A1D-B8B2-9ECACC95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449-BA5D-4160-B3F1-1CF8CAF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44B-D15F-4F4C-AE92-3453DA21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5FE-B98C-4EA4-AD6D-7FC2413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864-CB8D-4B9E-8DA6-8D090E2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795-09A9-4340-8FF7-229EBA7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C6F1-AC27-4AF3-8F47-30B8E8BAD47A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work.png"/>
          <p:cNvPicPr/>
          <p:nvPr/>
        </p:nvPicPr>
        <p:blipFill>
          <a:blip r:embed="rId1"/>
          <a:stretch/>
        </p:blipFill>
        <p:spPr>
          <a:xfrm>
            <a:off x="-11160" y="0"/>
            <a:ext cx="629784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ipes.png"/>
          <p:cNvPicPr/>
          <p:nvPr/>
        </p:nvPicPr>
        <p:blipFill>
          <a:blip r:embed="rId2"/>
          <a:stretch/>
        </p:blipFill>
        <p:spPr>
          <a:xfrm>
            <a:off x="7000920" y="214200"/>
            <a:ext cx="1685880" cy="363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emands.png"/>
          <p:cNvPicPr/>
          <p:nvPr/>
        </p:nvPicPr>
        <p:blipFill>
          <a:blip r:embed="rId3"/>
          <a:stretch/>
        </p:blipFill>
        <p:spPr>
          <a:xfrm>
            <a:off x="142920" y="2824200"/>
            <a:ext cx="628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attern.png"/>
          <p:cNvPicPr/>
          <p:nvPr/>
        </p:nvPicPr>
        <p:blipFill>
          <a:blip r:embed="rId1"/>
          <a:stretch/>
        </p:blipFill>
        <p:spPr>
          <a:xfrm>
            <a:off x="142920" y="214200"/>
            <a:ext cx="5010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1T23:20:08Z</dcterms:created>
  <dc:creator>John</dc:creator>
  <dc:description/>
  <dc:language>en-US</dc:language>
  <cp:lastModifiedBy>John</cp:lastModifiedBy>
  <dcterms:modified xsi:type="dcterms:W3CDTF">2017-11-02T00:16:29Z</dcterms:modified>
  <cp:revision>2</cp:revision>
  <dc:subject/>
  <dc:title>Slide 1</dc:title>
</cp:coreProperties>
</file>