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519-36BB-4612-8F81-5B7F52042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FFD5-60C4-4CCD-84F2-88F1C96D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DA2-E5D2-4DA4-85B4-78F27BDBC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BEC8-34F4-4D57-80FA-7E152A3A9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C7A-F494-4659-831A-C8991085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0A7-FF24-4A9F-819A-C9ECFAA1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019-4B8A-48E4-B9F8-E3C373436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5DAC-C8F5-4678-BEA8-8ADD8CAF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E50-F01E-4DD3-BB81-606F5D6E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50CB-A9F5-42C2-9A92-77E20B6F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4E1-3A61-4981-9F37-DF7957F8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7BD6-85D1-4127-BE26-E7EE902D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F9BC-C15F-4371-AF5A-837D7B5A8935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Network.png"/>
          <p:cNvPicPr/>
          <p:nvPr/>
        </p:nvPicPr>
        <p:blipFill>
          <a:blip r:embed="rId1"/>
          <a:stretch/>
        </p:blipFill>
        <p:spPr>
          <a:xfrm>
            <a:off x="-11160" y="0"/>
            <a:ext cx="6297840" cy="2952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ipes.png"/>
          <p:cNvPicPr/>
          <p:nvPr/>
        </p:nvPicPr>
        <p:blipFill>
          <a:blip r:embed="rId2"/>
          <a:stretch/>
        </p:blipFill>
        <p:spPr>
          <a:xfrm>
            <a:off x="7000920" y="214200"/>
            <a:ext cx="1685880" cy="3638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emands.png"/>
          <p:cNvPicPr/>
          <p:nvPr/>
        </p:nvPicPr>
        <p:blipFill>
          <a:blip r:embed="rId3"/>
          <a:stretch/>
        </p:blipFill>
        <p:spPr>
          <a:xfrm>
            <a:off x="142920" y="2824200"/>
            <a:ext cx="628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Pattern.png"/>
          <p:cNvPicPr/>
          <p:nvPr/>
        </p:nvPicPr>
        <p:blipFill>
          <a:blip r:embed="rId1"/>
          <a:stretch/>
        </p:blipFill>
        <p:spPr>
          <a:xfrm>
            <a:off x="142920" y="214200"/>
            <a:ext cx="5010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1T23:20:08Z</dcterms:created>
  <dc:creator>John</dc:creator>
  <dc:description/>
  <dc:language>en-US</dc:language>
  <cp:lastModifiedBy>John</cp:lastModifiedBy>
  <dcterms:modified xsi:type="dcterms:W3CDTF">2017-11-02T00:16:29Z</dcterms:modified>
  <cp:revision>2</cp:revision>
  <dc:subject/>
  <dc:title>Slide 1</dc:title>
</cp:coreProperties>
</file>