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E3007-76A7-4182-8EED-15EA7685C98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FE14E-26E8-4BF5-A6FB-62E7D4C03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A8910-C438-4760-81C3-550A85813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06DB7-36F3-406A-A995-C034ABD50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1B0B5C-21BD-4FE7-83B0-044C7464E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1BAF0-6E95-4526-99D1-7A780E3BD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BECC7-A33F-46F3-A173-C0E6BDD71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91459-C1D1-4653-A420-B2CF11CD2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34F997-A8A9-4203-AC9C-2FB2F5333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5AF9B-5980-4DCB-9D2D-8957896AF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34524-5B2C-4AD6-B927-7070A5231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2273E-9C69-466D-B759-944857B1E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176BA-3782-42D3-9E58-9AE618327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1F52A-8779-4E74-AD81-84A7A700D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87C07-0D74-4DD7-B3EF-2D3204104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7892B-5A3A-4620-8910-9180F2470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93967-AC07-4841-A9A1-18B2F947A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ACD77-EE08-472A-A4D1-99B7538DB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200BB-E4ED-4419-B82C-6C863D844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793CF-FDFC-4AA6-85EB-E84D70F38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11853-B644-4FDD-A61E-5CCD2DEC7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21CD9-94F0-47D7-91C1-97A75194B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A85F5-658C-4DE9-9CFB-559478594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D3F75-362A-4798-ACE0-4D39135A6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75FCF-1E36-4EF2-B687-D4E8FABF1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122CF-84DD-4CE8-84A4-3144354460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A784D35-3F7E-4E1E-9D19-BE08CDDBDD4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E2E7DEA-D16F-4AF8-BE1B-D03AC75B769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085B8CD-8F64-4170-B3C8-96DBA8D61E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1D223C1F-04E2-48CC-97AA-F573448E4A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FEA564C-8ABC-4E49-A88C-595BCFC9DCB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C05C521-7AC5-4FB1-89A3-CC3760513BC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2BC874F-3462-45B4-A613-DCFDB19A0A8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BA598E5-06D2-466D-9DF5-6A1AFF07A9C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DC3097F3-6762-4862-A503-548B469D58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B4F002F5-ECBB-46D5-BDC4-3B96B794590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D8CB685-A00B-4AD2-A1EB-2323CCC8CB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55E163D-957F-46DE-B744-748BCE185B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F21606B-E932-4CF3-919D-0E57EBD586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D689D5D-8EBD-4EA6-A354-9DAC5538233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72A505C-E9E8-4D8B-94D4-CE633D5D62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FC58E91-9C89-468B-89EC-5F5000CD00E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00C0980-B47D-4FDF-9CB5-72E2AB74767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FA8C87B-D1B5-4DF8-858D-F2BEF9F087F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3A6B9B9-9277-47CE-AEB3-FB89B2E5A4B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82CD87E-92FE-4108-BF20-986A20541F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67F10EA-C12E-4626-AC18-085C154E126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3015FB36-8B23-4DC6-86CA-B50D36851E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8B65DF0-851C-4AD1-817B-42E74B86D0C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0FF2A48-CAFF-4442-8AF5-D14310BC4C9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882AD65-5FB4-4258-BEA2-973266A5F07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28129DC-529B-4373-9A95-CE38475C9C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AF748FA-B732-47B7-B5FB-A604E217C1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8167A4A-A48B-41E0-A592-76C21C845D0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5B0C223D-BF8E-4C5F-B276-DC441BB619A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B59CF7F-4B64-409A-9209-9AF9A23377C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A1180F1-FFE1-4036-9F74-98A59B13FAC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6AC873D-CFA4-453B-86A0-14E2BAD65C0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C9F3EB14-CAC5-4438-BD2B-B8C6C36C89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99B255-0173-4F3A-B367-356DF03A2FB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CF1F927-63A2-4066-8A56-94973A7D0B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68A53DA8-2520-4BF4-8D7D-45292EFF4EE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38A2A51-D3C0-41C4-ACAC-46CE3215B6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89C43F6-B255-4641-890B-20EB026EB8C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2347093-8FD8-45AF-B594-F0967A0C44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9BF1EEA-AA72-45E1-839C-E41A1883A33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DFFDBCD-9154-42AB-A00E-C8376D79646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F84D8EF-685B-4C9E-AD50-87827A58686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E2BC7601-5702-46B4-9320-6C5BF52860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FB85E9A-44A9-436E-8683-0A81B44836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E7653AB-6E39-48CD-AA6D-6B7EBE51ADE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537FB97-72A3-4CAA-8ACA-8FB01EF80FA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E3BF36A-9519-42A3-9D24-C0EB48190CC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1141146-5A21-48DB-BCC6-92D9464345B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02C707C-C4E1-4F44-8A56-326C1E49969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9F0E5EB6-2CE1-48D2-9952-280E647FDC0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1DCA708-E67B-4D69-89A7-232BDD529D7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2822FB6-CCF0-4B14-A672-2B7F1EDCD1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60EB4AF-D855-4F98-8B32-73B74F0EB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2DC7334-4E94-43D6-84F7-DC3068F14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E11426DA-33F0-4E06-9860-73C0E771F4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1994B66-4B21-43D6-A01E-5517E4F232F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FE8D2155-9D1F-4833-A15A-8860295549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090D8C1-BA55-4A93-96C3-ECBD07336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4EB07C7-1A5A-4CAB-BECD-6F5AEB004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D277F80-193B-4B73-ADE6-FCDD3C024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1BDF78F-B306-4C76-9CDB-A508DDE3B2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F515DE62-5495-4C42-B519-201DB66F71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69DBB77-D0A9-4011-82D8-17467E878CC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D328BC1-A46C-496F-AD54-1C17A05126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C5DD2A5-D99F-49B7-B9B5-35E4ADA0BB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14648EC-65B3-4AD1-A693-F82A1A9B6A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4D67435-6385-45A2-8386-E544B0E153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819A8D0-246A-4055-89C7-5F91DD1D7C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9370679-E3CF-4AA4-8DC0-31D36955AF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D6EF5C4-CB5D-4B03-BD2B-A573BC4915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CA599EA-99A3-47EC-876D-F1DD7CD9D6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6E07AEE-D599-49BD-88AD-DDC63802C2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162D547-CBC9-476F-8802-6123461E001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BAD105-D1CC-49B7-9D82-F713515CD7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C52108-86A1-4E5F-BDB8-128379955C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D6F496-6A40-4644-BD3A-49DF3A231F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07DE517-B2DC-455D-A9B3-16ACC488E7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C83822-C5BF-4F86-977B-21E29BC327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EDAF2C4-4DB5-4D4F-8274-D9029ED375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ED339CF-B294-4AEF-96DF-14AFDD7665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668E77C-EDBB-4342-A23F-BFA5BD09A0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14DE8D7-4399-4478-BE95-A76F792C7B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1833444-74A4-4D00-ACC7-A0C0C99C3E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A91BEA2-1555-4D2B-B32B-860902CCBD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D6CB6DD-D25E-4D76-9048-87ECD52EBB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6F5BC129-CD47-4376-90CA-52738FFF12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A4FAA7-5DB2-491D-A124-74086104BE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C3BA4BC-5E48-4BE5-8C23-2BB6591931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3F6A30A-7050-4F88-9530-D39C2BF1A9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8510E5A-0CA2-4C84-9B1A-B61BA8EC1F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8B5784D-9E83-4C5F-987F-244D96B6E25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C65DD5A-7DFB-4303-B569-159091A1072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F73FA748-B1E8-421E-808A-8553EA162D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A3CA191-83A3-4538-8CB2-9CA5EE4EA6F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AB9AB15-B9A3-49E8-9CE6-C99964E3251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D6EF961-BC9A-4E5E-B337-7B473B64E75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8355839-4422-4846-9325-EF868D658E8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9BFD03FF-DD42-438B-806A-B0DA1342943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94B484D5-E3C3-40C4-B3C3-7FA9690D7D0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5C7BD5-9F58-46A5-888E-51535ED20D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A2F47B9-60BA-49AA-A028-136DF11D43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1F3CDCA-C7BE-4146-AB4B-FCA14348DF3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6CC1A8B-F446-4CD5-8D51-AD6E4910E5B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0D6439F-13FC-4424-BD6D-4AB8984911F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E6E62FA-88FF-4AB0-A58E-4F044F11784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ED72E9F-017B-44F7-A166-01D7E950397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ED03DB5-8195-4F75-BDE1-1922F13C89B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E4BD59E-1B50-468D-918F-C70E2EEBF71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14198EC-415E-4DDD-8460-5FBC2352EFA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598A03D-DE88-43D0-BED8-413E071EBE5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0AC194A-7B68-4D2A-BD70-B9FE1E63D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5EAE02B-29C2-4A53-9E22-4ED2601C7E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2C68353-F6DF-447C-8501-7908F99E4BB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A5BC39F-A2BB-458C-8C96-8B8EB1B3A19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78B3508-D550-4569-AD16-521A65B4F88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619260D-94EB-467A-941B-37E7CB0121C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DB7C876-2299-4755-A20B-5CB8CD2C193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EEF6FF5-4D41-425F-B796-F9C98ECC260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1F2B40E9-CC82-4162-B1E3-F69B97DB180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5B103B8-231F-43AB-856D-08DABB04B28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2DE624F-7F65-4A79-AAD0-8C22FF8C138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88EA4B2-0828-4555-9452-38814773F0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657982D-5948-4812-985E-F056693795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32E6356-865C-4372-8DCF-F2BB9D6682B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31BA7DE8-A26C-4CF4-A52D-AA810C7EFAE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FDEC54F5-68ED-462B-B640-FB551AC5D06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01D5692-B160-4A9C-8A97-3735A4F9074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C055D83-9D6E-40D0-920E-A750F8A0A84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F4529B8-44D3-47F7-B583-F87B3466963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FE701FB-B664-42F1-9EB3-82B314C0496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845F8C9-F25F-4CDD-BB38-46279FCECA3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7A166D4-4CEB-4D9A-8814-9AE86CEBE06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3E135DA-9A29-4649-B0A2-93961C1EE6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715AAD1-6709-4D66-AE41-CE7E3E5D1D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AF6FE3A-E297-49BC-834C-667EA88DD4C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85C7334-21B5-453D-8678-7AB2409EAF9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7C1731D-87D8-47EA-BF52-FBD23628143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EDF1C73-67D9-4658-B533-953658EE2F5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F8C3B0CE-11A3-4FE8-BFEC-39C343F7D58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A4E562E-E60A-41F2-87DA-6FF5BB19964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B12FCCA-1D21-4753-BE68-BFE1E143C7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0B586B0-76EF-40BE-9470-C364309D38A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3300B3D-4870-46FF-BBDE-2AD8CB103CF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38977959-982E-429F-8C78-56B0EF6439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5455E15-723D-44E9-9472-3106C0A4CC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1A68B78-6474-4244-A3DB-7B69517351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957D331-7BFF-46EC-B496-B7041EF4EA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E7F8582-88D2-4645-BD71-8C21072F1A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D8A030D-E22B-4D3D-8539-B6089D445E0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C122D53-4ACA-4664-BC0C-3985D28FF4F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174DBE97-D7E9-45DE-AC6A-4F6385BC8A7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6356C7D-36AA-4637-B0D1-CBC087D1830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E8E24E4-E7B2-4F39-BF94-A35B533531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E001820-C62B-4106-AECC-15A7A1A4AA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4B008B7-645B-47A7-B844-A3E2FF192D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E5E81-9E79-4702-A4CF-68A88514D9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E2F54-653E-465B-9512-D8A22EB72E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1F402-B47D-4E8E-9C69-CE6C8FEC96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36D60-D0A3-45DA-A8CD-122AFE842C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4B1BA3-CC76-40D9-8A7C-199A3C59DAE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17064-35E3-4D2F-8564-A3AE2ABE65A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AF877-BC27-421D-AE6E-D26BD8E113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2113F8-3EA6-4348-ADDF-650F92E542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B3E5C3-8E2A-4CA7-8BDA-98C1D675F1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EF083A-EC7F-4D72-935F-BAB8ABB7BC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E7824-87E5-4905-95CF-871E8F23E5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D9EFA-0D60-464F-9C80-D279FEF851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4E573-50E7-45A3-A02B-5121557B8B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611280" y="1407960"/>
            <a:ext cx="820872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193760"/>
            <a:ext cx="8208720" cy="4830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611280" y="1469880"/>
            <a:ext cx="8208720" cy="4278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839960"/>
            <a:ext cx="8208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611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66" name="" descr=""/>
          <p:cNvPicPr/>
          <p:nvPr/>
        </p:nvPicPr>
        <p:blipFill>
          <a:blip r:embed="rId1"/>
          <a:stretch/>
        </p:blipFill>
        <p:spPr>
          <a:xfrm>
            <a:off x="0" y="0"/>
            <a:ext cx="9144000" cy="1368360"/>
          </a:xfrm>
          <a:prstGeom prst="rect">
            <a:avLst/>
          </a:prstGeom>
          <a:ln w="0">
            <a:noFill/>
          </a:ln>
        </p:spPr>
      </p:pic>
      <p:pic>
        <p:nvPicPr>
          <p:cNvPr id="767" name="" descr=""/>
          <p:cNvPicPr/>
          <p:nvPr/>
        </p:nvPicPr>
        <p:blipFill>
          <a:blip r:embed="rId2"/>
          <a:stretch/>
        </p:blipFill>
        <p:spPr>
          <a:xfrm>
            <a:off x="1258920" y="2060640"/>
            <a:ext cx="1297080" cy="1528560"/>
          </a:xfrm>
          <a:prstGeom prst="rect">
            <a:avLst/>
          </a:prstGeom>
          <a:ln w="0">
            <a:noFill/>
          </a:ln>
        </p:spPr>
      </p:pic>
      <p:pic>
        <p:nvPicPr>
          <p:cNvPr id="768" name="" descr=""/>
          <p:cNvPicPr/>
          <p:nvPr/>
        </p:nvPicPr>
        <p:blipFill>
          <a:blip r:embed="rId3"/>
          <a:stretch/>
        </p:blipFill>
        <p:spPr>
          <a:xfrm>
            <a:off x="6948360" y="1989000"/>
            <a:ext cx="1444680" cy="1573200"/>
          </a:xfrm>
          <a:prstGeom prst="rect">
            <a:avLst/>
          </a:prstGeom>
          <a:ln w="0">
            <a:noFill/>
          </a:ln>
        </p:spPr>
      </p:pic>
      <p:sp>
        <p:nvSpPr>
          <p:cNvPr id="769"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7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
        <p:nvSpPr>
          <p:cNvPr id="584"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395280" y="977760"/>
            <a:ext cx="8497800" cy="5262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250920" y="1407960"/>
            <a:ext cx="856908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611280" y="2054160"/>
            <a:ext cx="8208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21Z</dcterms:modified>
  <cp:revision>157</cp:revision>
  <dc:subject/>
  <dc:title>Παρουσίαση του PowerPoint</dc:title>
</cp:coreProperties>
</file>