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008AE4-326C-48A8-8B82-7A57426FC30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EFF0D-8204-4C81-8202-55015B020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62626-34F2-4A14-931E-E11A39F03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CFEA4-64E9-4082-BA4C-100EB5FAB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7D65F-8F80-4C62-A70E-70390B50C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FB8043-98C8-4E29-8C12-7AE4E5193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3E890-9F6C-49EE-AA13-D9CB55D0B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C1A8B-A18A-49A4-B9A2-1684F16F2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FA053-2248-4B28-8F47-D7EED1F4E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3DB62-39B4-409B-A6B7-6DD606B9C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DD23A-2F06-43E2-8F78-AA42FB9FA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18296-CD83-4BB0-AD60-6DACD1E92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E9E28-94B6-4152-A412-455170A38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EB621-8B90-41DE-A322-4FB18B467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1A27C-6700-464E-A556-28DFC0846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9852D-1859-40B0-8814-9601B5D04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E1FF4-0AE6-497D-8BCD-A2FE528AB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359A4-9BB7-46D6-93B6-09DCCBEA1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922DB-7B64-4A31-A94E-0A842BA19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68CF0-BAE7-4953-810E-AC15D9DC4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59AA4-651E-451F-9472-8F9A17BFB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EB1A2-52E6-4BD3-8995-AFD5C866F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45C37-01AD-45BA-AB0A-8D3868369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1AB2C-D16A-4E8D-9CDD-C9378EAEE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B6140-3EB8-497B-BD2A-5319766FF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4CCB4-6983-4075-B75A-0AAB0701E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0F096-991F-4B19-873C-6FB250BC3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9653A-FC3D-4619-9522-0BB149103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7799B-C62B-4CCC-B579-F3820DC0E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7AC19-4B7D-478F-961B-5C6C7AEE5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68D59-7CF0-496F-9E42-3EF1E6B0B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65DA3-13BB-4628-928C-8C5D9F245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46625-92B2-4E99-BF62-B0ABB428A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B3D12-45D3-45F4-A17C-5D04A25F3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FF520-9931-42F5-828D-AFA1300FA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CDB502-9B47-4D6F-90C2-57DD525C4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4C665-474D-4943-97D3-B488ECF93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70862-3E1D-46E9-9C17-3E75669DC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2464B-CB3F-44C0-ABD1-2D0454C7C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4A853-ED6C-4B42-BD60-9CFD7B16D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AF633-4494-4642-B26A-47749F168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7DB0F-F3A6-4093-B69F-0FB13BDB6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8F495-3BFE-4A22-878E-0C2FACCC7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F1811-620C-454A-AB16-227D975D8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295DF-FE11-4842-8D71-43413BD03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012E2-69A5-4311-A58D-447B97436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794E55-77BD-4927-890A-22BD5DDAE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F843B-3FFA-4E6D-A050-0823AA734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496D9-395C-403D-B6F6-B23A8E710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FF554-ADC2-4713-BFB9-89A7A0C87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E6519-7D5B-4CEA-9B5F-71D6EE8C8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1F16EE-A42D-4295-8AE0-EFB4054E8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AAB2E-E479-4518-89A7-1C2B3A280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1390D-DF7B-42E6-B879-DF6455281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80169-A839-4493-A49A-654B86982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3E9F8-D2D7-42DB-8642-DC089B73E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0963E-CC73-4FA5-922A-E0509D019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273D0-4C56-490F-B724-EE82042ED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D9024-437C-48E4-97EB-E00FF1F73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8EBD8-76B9-482D-94D5-370631C64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0C470-6703-4B9A-B38C-E112AAEE6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188E7-C84B-4D2D-B6A4-62992CA8B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E4C98F-44FB-46F7-A1F2-C18501962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8C377-7F0F-4D30-871E-F71105477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EF5D9-37DC-4C1F-AFA0-9B5582E4C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9230C-D05B-4F55-BF3F-17AFF1930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645C8-8462-43CA-9727-69A8CDCAC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D6F029-FD84-46CA-84C1-9FCEC63AF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A22D8-3436-4028-9FEE-24D6B8D60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9E176-9D77-467D-B8D3-DE9360FDE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915C12-24E5-452E-95C9-582B7E2FE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D4A20-9944-460E-BE17-1EBB4CD52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077B99D-163F-41E4-B9E4-F69D62D882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D0E53AE-7446-483E-857C-6B969DD16D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79E004F1-D58A-400C-B276-500BAFFBFA3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2BCA45B-37C4-45A7-92D7-3B88CDC5C58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35C4F5B-9634-401D-89AB-4AB2BC96E1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7C483DA-1F50-4207-BD25-A5A7262339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0029104-84C6-4861-A0D3-9F408F9523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D77AC72-76D9-48E8-9FE5-090476E845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5F088AB6-E771-4A3E-8AC2-912C28D128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DF19F33-9E3C-4822-BFB7-152C52ABC6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BEDA627-D41C-4CE9-B00B-326170C478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478212B-00A6-46E9-9BAD-AB96D64C1FA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4D805F1-325C-4E25-AAC0-1308A036273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F7FD942-0D99-4B3E-B423-352BBAB9C6B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389E4F9-BF7C-4EEA-9092-6F92A071224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8774B6C4-6AD1-49E5-B26C-E6B3DAFD481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FD61AAA9-27D5-42AE-A0A4-8DA33992700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973EB7D-F602-4625-90C2-D8BA3507D7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EC82A18-8933-45B0-84DC-2E974B42E4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3AC16DB-D963-43FC-BF9F-330C04B4884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AA6B5BA-716D-4208-A781-FF983975B8A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860B410-D406-437C-B579-53D8A6D36E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507AC54-8439-450B-AEC4-1DE304F253A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43E2C7A-91C8-46BA-A461-83167385C70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E9C3265-63DB-4235-8A39-F2E2D65A7DA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90E7B55-E1D9-4159-A8FB-C196CE3360C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CF107DE-6D57-46FD-9B0F-30F5029F72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14C2376-E538-4089-B191-F0A1724AB2E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0BD81E4E-4B91-4BD0-828B-6504706128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9F924A2-C29A-417A-9919-E60304C2F6D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819ECF0-A9D4-479B-A69A-72FE8E3AB24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4085C1C-142F-44AB-BFA2-77D9398C37F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5386533-2B9D-445B-90FC-C7875DC318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7C55F3-065D-4791-BEAA-BE81B26EA43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FE923E6-075A-4DEF-B9E3-DEB30480FF9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D469B843-7F1A-4784-AE8E-A3DB338F889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D364E3F-1895-46C7-BEB9-0C9E1F24839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23B1C47-7F29-4231-AE92-20BA4FE4CC0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696B3D0-CB87-4A87-914B-5BE9E3DC04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A66378F-A4B6-40DC-B9D7-8F8E4F89301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450493D-5833-4165-8D2A-1E6D82743D4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7E8C4E29-37D1-4363-92D1-0EB013079BC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69DA7F2-5C8F-4833-B9AC-2917900B477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4B94055-B4E3-4709-9EDC-FF8A43FA2D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12CC3E9-7C8A-4410-B661-E388843BBDA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6A11081-E4B4-4E96-817F-6BB091D78FE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3D37D76-E425-4BDD-89A8-A0E43660A5C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C9EF83E-7BC6-45B3-AA96-B8956B0B493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42E24858-BFD7-442F-A871-584294CF30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98EEB173-BF1A-48E1-A32B-4E4F594432D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FF29E04-88FA-4D01-BF06-30ABC47B711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E226C24-9070-4CDB-AE77-3C68A51B1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1766C81-B30E-4B81-AF83-3C3C86B7E9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585EBEF-6B3F-48A3-A5DA-6D274EDD9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538938B-2075-443A-93ED-DF063B6C1C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D59B5B5-1D5A-4719-9CE8-B8B7352ADD2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0B0A1D9D-4EFF-427C-817A-08AC79B47C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F1A07C3-5F3E-4331-9A22-8EF5CC5319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B480F77-32CB-414A-9E8C-EE33BC05CD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A902624-11F7-489A-95A7-0009CE269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4F039D3-53E1-4E81-913B-1D42E49C47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E058E2D-7B3F-41D7-AC0E-78C4654E3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43B846A-62F2-40B9-9A1C-47C5A21FCA8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8D33B7A-42F1-448F-ABB5-CC6AA0BAB0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2BC7D7C-1B64-4965-AA33-6952F1BA24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985EEEC-E0AE-41D3-AC43-0B03461B1F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6E1F97F-5901-419C-B797-B7A7BD7C53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33C5FD6-5936-4A5D-87E5-A890BB6CD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A992453-2D34-429E-AF23-956C6F4D6C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61276F7-E8B8-4678-A015-4E76A6555A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3F80C03-0138-402C-B62E-B0F606F647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0554083-AA14-4678-B5C1-625549F523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36DC155-C399-4704-AE23-D70F31F5509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122936-CF98-46FD-AA82-20B40777BC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2542B1-B3C7-4AE5-A7A0-6D2688AC61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EB81CD-CC23-4F97-A92B-DABEB83BAA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289C6D5-ACA3-4D92-912F-297BD161F3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06EFDA-A584-4E68-BCB1-DC3A055077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936157F-D9B6-49DA-ACD0-8804019D12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733701D-CC21-4470-B794-8327FBC349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B0A08A3-B88F-4E50-AC74-0F63963AD0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CB7F3E8-EC3C-4309-A52F-C48531F240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7206C90-F951-42C9-8170-6A51A6A2F2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B75D357-01AE-40D4-8696-A6A71D9C22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657FC827-5B6D-458A-9A3B-3767672A1B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A6D207E-75D4-4D82-B58D-099E21C714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EFC8FF-A584-46FC-A676-B46365DD18B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A0F2745-94C3-454B-8A66-2E62B0E6B66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93EAAB5-C8D8-4BC8-B1FE-2CC2D8D265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6180779-EEFF-4C0A-8CA0-D4D0ADD3AB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BE60982-957E-4368-9E21-897DBBA8CB2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8F8CA64A-ED32-4B10-96F0-2BAC7B4ACFD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A2FC970-6468-4EC2-80DB-B31FD33E4B8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5FE226B-5B1E-40C3-8D0A-02A8FCD2E94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5A4D0D0-1690-4E98-93BE-353D8F3296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C59F528-8623-4DB0-B658-CB0221EAF0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29ABC53-06A3-4C26-ACA7-C72F682285D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46874523-B808-4ECA-A094-A9F9ABBC6E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6DA8BE76-F404-414A-B3D2-EEB32903403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A26940A-7549-4D35-B0ED-F7DD5F8FD0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FFC4284-4330-4CB2-98D6-BBA2DDF806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1D516F4-D42E-4DC6-A2FB-66B34DD8A2F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EE4199D-44F0-4A36-A509-C6B7CC00D86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14FD51F-EE56-479E-A9EC-69EB398F5A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81FC17B0-94C2-4FD6-A2C6-81C225DB6D9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CE141FA-E67C-4F50-BCD4-FEDED6890CD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FA92D84-C4D8-4A6D-B529-C9670C9DD8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88D5643-137E-4E4C-B833-32409DE1495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6E4C01B-F36B-464F-BFC9-3A486776B17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3F4828D-C747-4BB3-8731-4C782456710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791D009-468D-4CD8-8CE8-A52E46B18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2724096-F4D3-4B97-ABF6-DB065C09E24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DC2DB2B-EB9A-4C1C-A418-5FEB5BB79F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E90F03C-6425-4495-A1DB-BA3ACC21139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EB64BD6-2014-4BE5-B62F-C1534253BBC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963F608-E818-45CC-87BD-1FE70770056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801A2CC-BB25-45F9-BC53-CF8EBD417A2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E3A3C687-A981-4446-B458-3395D99037E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0E957234-C7E0-465A-9C16-0707A3E53F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198BC1C-5C83-4782-9ECC-F6A938ADCC5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251C868-BFF7-49CA-A054-4E822A9F397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4ED6E04-75C0-4B8F-B7C1-86DB065A9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BBF6478-B2FE-47AB-8BC4-3F9BD296E69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B8BB74B-26FD-4C81-A825-BDE98F34770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9FE9FD8A-4D70-43A1-A1A7-E49EA5D3B17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C9AA5E1-D846-43AE-8E94-CA8FC2BDFA3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D0991B2-80BB-4AE3-A2B3-E790130CE2D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3916288-3329-4DB6-8E00-09B3B1A339D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8E7833C-FE90-42CB-A330-D93820B7FEB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6900466-A658-45AB-A30F-B236B4F9275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4E485369-4F67-4151-9BFD-0A575C5C6B4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C347D85-38C4-46AF-8A69-2A37C50F82B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E261EC6-958F-4785-90C2-E3E8DEE40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4108A24-BA45-44F9-AA27-2C3343C347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F3282E9-A546-4278-8B33-D7879496CA8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685EB1B-11DA-4CA9-A971-A333F07CE1C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DCAAC81-B568-468C-97DD-7F5EBCE578E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C532479-9596-4CF4-A9B9-B6972E5403B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B0E2E02-7B43-4F5C-95D7-EE949457019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DDEBAAF-E1A3-4398-A697-D1074D4C0BC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FB2B5E4-E583-4021-AAAE-BD9F30DB422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4C484D6-6AE8-4242-BEA8-9638B9AA80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6570BD3-F903-486A-B7E0-A7F91A8DB7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0F372BB2-80C4-4B97-B91A-8D78A98F72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4A2659C-E86F-4CF1-9CA9-BBD224B250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19F005F-72A1-471C-A834-F2EE7136D53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A0CBF8D-C727-4100-A319-23E2B4C6D1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DBCF960-E4FA-4A3D-960F-ED1AB4852E5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D4193C8-2925-4963-8ADB-0AF7E2A1F26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D4C2B5B-2FBF-4D40-8C20-5451443BCB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61D89F40-C97D-4F03-88DF-BDD4C876220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F717090-EBEE-46AC-82E0-150EB1051A1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C49C5DF-EBD7-4735-AF8D-9153980280E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4A53E2F-7C5D-41A1-AFBC-34EA87F00BE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2E612B0-C324-44CE-BF1E-2E1631072A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1EDCA-9D51-4A29-B2DD-96F192E249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D2BA6-31EA-4B79-9CA8-5917B95582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69980-3ACA-4E93-90BC-3A1DAB074E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86D3D-0F91-46E7-821F-48E598E551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32500-FC5C-487B-A8C0-B12FB367F28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54F28-2C98-475C-B61E-35E336D1F1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BCFBE-0470-40BD-BD0F-8625688418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6FB43-6698-437F-8FFF-28D79CA02A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2E2F43-557A-4FC8-B79C-ABC40212D9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4E4EA-5659-4E3C-983F-569846FA3D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50F6B-5E85-4EF8-8A99-9FE94C0723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359A3-FFFE-4BD7-ABBC-939969BC9C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CA5D37-89E4-490A-86E4-3CDED565A0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0800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81080" y="1392120"/>
            <a:ext cx="82785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24000" y="1268280"/>
            <a:ext cx="849600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539640" y="1268280"/>
            <a:ext cx="827748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24000" y="121284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εξωτερικές δραστηριότητες </a:t>
            </a:r>
            <a:br>
              <a:rPr sz="2800"/>
            </a:br>
            <a:r>
              <a:rPr b="1" lang="el-GR" sz="2800" spc="-1" strike="noStrike">
                <a:solidFill>
                  <a:srgbClr val="000000"/>
                </a:solidFill>
                <a:latin typeface="Times New Roman"/>
              </a:rPr>
              <a:t>(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125360"/>
            <a:ext cx="8207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137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773280" y="1233360"/>
            <a:ext cx="759744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97164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80" name="" descr=""/>
          <p:cNvPicPr/>
          <p:nvPr/>
        </p:nvPicPr>
        <p:blipFill>
          <a:blip r:embed="rId1"/>
          <a:stretch/>
        </p:blipFill>
        <p:spPr>
          <a:xfrm>
            <a:off x="0" y="0"/>
            <a:ext cx="9144000" cy="1368360"/>
          </a:xfrm>
          <a:prstGeom prst="rect">
            <a:avLst/>
          </a:prstGeom>
          <a:ln w="0">
            <a:noFill/>
          </a:ln>
        </p:spPr>
      </p:pic>
      <p:pic>
        <p:nvPicPr>
          <p:cNvPr id="1181" name="" descr=""/>
          <p:cNvPicPr/>
          <p:nvPr/>
        </p:nvPicPr>
        <p:blipFill>
          <a:blip r:embed="rId2"/>
          <a:stretch/>
        </p:blipFill>
        <p:spPr>
          <a:xfrm>
            <a:off x="1258920" y="2060640"/>
            <a:ext cx="1297080" cy="1528560"/>
          </a:xfrm>
          <a:prstGeom prst="rect">
            <a:avLst/>
          </a:prstGeom>
          <a:ln w="0">
            <a:noFill/>
          </a:ln>
        </p:spPr>
      </p:pic>
      <p:pic>
        <p:nvPicPr>
          <p:cNvPr id="1182" name="" descr=""/>
          <p:cNvPicPr/>
          <p:nvPr/>
        </p:nvPicPr>
        <p:blipFill>
          <a:blip r:embed="rId3"/>
          <a:stretch/>
        </p:blipFill>
        <p:spPr>
          <a:xfrm>
            <a:off x="6948360" y="1989000"/>
            <a:ext cx="1444680" cy="1573200"/>
          </a:xfrm>
          <a:prstGeom prst="rect">
            <a:avLst/>
          </a:prstGeom>
          <a:ln w="0">
            <a:noFill/>
          </a:ln>
        </p:spPr>
      </p:pic>
      <p:sp>
        <p:nvSpPr>
          <p:cNvPr id="1183"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84"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24000" y="1125360"/>
            <a:ext cx="8351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907920"/>
            <a:ext cx="813744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40Z</dcterms:modified>
  <cp:revision>170</cp:revision>
  <dc:subject/>
  <dc:title>Παρουσίαση του PowerPoint</dc:title>
</cp:coreProperties>
</file>