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D92D27-2EDC-40D3-B2DB-5F6F8CFB692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C21264-0C35-45DA-A379-BD0883EB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548FDE-2469-408C-879A-8B96FF98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709FBB-17F4-40FF-B9E6-CCC50474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1CF8EF-F9BE-4BDC-AB61-50CEF898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B1E695-99B2-4A9C-8675-84F5509B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E6A055-7031-4FEF-B213-06BE161F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2B8E90-82AB-437D-8D78-0C8057387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4F3AD9-DA23-4E49-8834-885389BE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1FB714-2079-4D62-B3F7-6C79B954F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1D1B65-A311-41C6-BE75-48E81AA9D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62ADB2-ABB9-4264-A257-8915F7BC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A4588-E1CB-442F-9C7A-50A1DA245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85DDD-46BD-4468-891C-1D5AB726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47789-E3E9-4C6D-A301-AFA60526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743E0-99DF-48C7-9CAE-10B75CCB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AF5982-E7C2-45F2-A85A-C0196EE1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519ECB-442F-4C74-8D37-D7141327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D0D81-E7DF-4A4C-B928-39A1D68C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9A4D4A-472B-48CB-ACCD-A481E4DE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7957AF-EF45-4643-9D73-2716FA2A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043571-AA7E-490D-8351-F554A578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BCDB91-DE3F-43D5-8273-9429154B3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D766C4-86CD-4679-ABDB-19E55E1E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254D56-287F-434B-846D-A6BAB8AF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8D25D4-D5A2-4C6C-9537-22E442E3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831C8-420A-431F-96AD-5D6CD0C8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CEC987-999E-40F2-92E8-144005FB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DC76D3-A495-476B-9BA8-39F4642F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E2CB78-2EA4-46FD-A30C-93BF680A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B68D10-05B1-4387-8C61-C6E92D29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22F91D-1D6C-43FD-A20E-565E7C25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B821-5960-4F0F-97DA-897B9EFBC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B9EA-7420-49A6-9ED2-8D89F7B645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94C7-F028-411A-A19D-06FC5D48F4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D4DA-86A0-40D5-B2B6-63CEBA11B2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F340-3642-4AD3-B1CA-4B4EE5BD2D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034E-1059-4345-B165-8A1084837B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4AC9-BB3A-4B9E-A33D-3694A8E095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A049-F87B-4925-B04B-6B66054B9B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8755-FB36-4D96-8B41-40A532D9F6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4F40-308F-4087-8501-B8B7892C3A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8188-6493-4A1B-A557-9ED9A7F879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9A42F-96D3-4876-9B56-D2FFEC42B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F1D1-8886-46F3-9A3F-F22533E6C50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7486C-07AC-424E-9C9B-3E5DFC5D09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4084B-2EE8-45E8-B276-9541A589C4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CBD0E-D32E-4660-A567-1982E69FF1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6CEFF-4213-4108-AAEA-C1D931FB9D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485BE-F88E-4594-9698-B7D891D176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B72CE-A70A-443A-84DB-3EF6AD9FF4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0686E-FB79-458E-BB4D-7DD33C7353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8D031-DA7D-4B48-BE72-8E77080E65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FCFCD-9540-48AF-89EC-6DFA89B5DF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8C41B-9B2D-4B1E-801A-11C99F614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A67A-2226-44D1-8A14-453E30FB38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6197F-47BA-436E-B349-A97C5F86D8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B8A09-42CE-489B-A90A-806CC8BE58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5439B-65B8-4150-8840-03988AD1F0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612E4-CFE1-496D-BE4A-EBCB7BD479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99F91-25CC-424A-86F3-FB909C19D2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18C46-6B63-4BCC-924D-59E7F10D4C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06626-B73F-4B1C-B456-4965CC1628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F22D9-81B7-4C9F-949F-AEDD7B6239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3A62F-111E-4702-8971-3327B9DCB2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2499F-F8A4-4483-B58E-2E3149FF1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DA31-6B0E-4D32-8387-CD356FBEAF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B05C7-712B-487D-AA8C-0E55A2D392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252BD-3F88-4E62-A8D1-FEDCB9C4BA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A3EEC-C966-498D-932F-52DA99354D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0277-281D-4473-8965-2E3A9EC5285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CB44-1FB4-4FB1-92FA-1A94E4B1A69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5295-D2DB-480D-8B94-DC72892170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CF7B-28A3-4C81-9C8D-C34EF3E244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2B6D-1ABF-4CEA-94A5-DA9F63310A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9AAA-BB48-46D4-A3F4-F1F4C56C9B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3BFB-1D7A-45CD-813D-30299296B7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37FD-9B29-4375-9987-D5C89FF6678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3BF3-F6BE-4B7D-B1AE-283C3A48F1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BC8A-6829-4EE9-B942-805BC1761D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59E6-D8BF-4653-B2C3-F3CB723853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97D3-E348-46A1-9EB1-E4AD299E7C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68AA-FD6B-4E0F-A5C8-4F680538C3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24DE7-2838-4F53-8E46-E71E9997E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75A0D-7C7B-46F6-B651-EC16765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9D7AC-86D6-4C65-BA5B-A680316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5047D-252E-4A45-9E4A-7DD7062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0CBB0-9A04-4B6A-9ED0-FA79F9A0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CFDE-4103-48C6-9721-343DBEF6508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5A621-0FD6-4D27-BC8A-7C9FD66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C2EBC-27F1-48CC-B7D9-27D8FD6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2FBC9-AF2F-4BD5-B2B6-77DD18E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239B5-122F-4053-B956-832D28E7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88EB2-2DE8-4139-A6CC-F249778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33E14-03AA-43C7-8C54-6F32E89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D226F-0833-4219-B20B-24A1A89AA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837C-C11E-4AA1-A7E5-810433625A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5200-2716-4C29-AECE-246363CDF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3F64-4A71-4D19-9F2B-5767298E3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19AD-357E-445A-ADE7-001854D6A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6AD3-3565-4D31-8CEA-1C3061CE4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A72F-6AD2-409F-B863-734AFE00D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BDB0-FD15-467B-9085-C2322A2B03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FE9D-BD79-4791-8BD1-9AE6E71719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DD38-D455-4BBB-AE56-ED4FFBD73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4CB1-15D0-4845-BFF6-E0D570E361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04-1C0E-4FD5-885A-FCBD739C38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E79-EC75-4BDB-B1B2-16C71902C5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7E5-FC7A-4F5D-8CA1-DECD021A90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FDD-FBCB-40B3-8F1B-001433C835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1B4-6045-47FF-8F3A-A0181B3D6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69B0-8E77-4B44-BCEE-94623839A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D47-6E4F-43FC-9AF2-112A08C140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1D7-D2C6-4D85-92D7-F60615905F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B95-9535-4263-BC9B-28172A59AF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82F-C537-4B07-B28E-621D8C9C60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78D-0481-4694-B7CE-EBCD844B50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3CE-FE20-47A7-9966-649DC9E2CB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28A-BF3F-403A-B5FA-6D4FBBADD7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A2044-84C5-4707-9820-7B52EF6D44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1176-2FD3-4A38-8581-3AB34E8506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56A3E-C5C5-426B-AD80-7548AC49B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413E-8994-48B2-B698-630839FB3B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CE18-5AFB-4D18-A467-B654D12878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1F58-2A9A-4840-B0FE-5BBE9B57A5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044C5-93A5-49E9-940E-B44651E9E9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6F9FD-215A-4E97-9DB9-67154F73BB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23C6E-EA39-48E5-8343-0019CEDA8A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E2C5A-476F-46D2-A37B-F6B36CCAF2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B1F59-48F2-4AA2-99A6-3F5EFFBED0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4E85-80CA-4AE1-A81E-4239A4D0E3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A5D9E-144E-4D72-8FFA-658C1F4234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02742-56EC-434C-87F7-BF36EE71E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4101-696D-46C3-9F46-5D984593EC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218D-4466-4620-9892-5DB09FF356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613B0-1BCE-44DB-9A0E-9A9EDAD763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45B7-CB1E-427F-9275-D0035085DF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9CF02-87CE-4D54-8FA1-223DAA7C43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C40C6-48BF-4F0C-A36B-99752617EA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5523C-0185-4EC8-B9E2-C3A913E97E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8ACF4-0802-4B55-9D62-AECCD25B92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64B6F-FC43-4B07-B7C9-96E758DE66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084D-0F13-4ADC-82E4-88D1A2D5AF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3AAE-ACCA-4CBC-8781-5576592BE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638D-2712-490A-A177-237AAA9D24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CCAB7-9297-4EC1-B2E6-C2389E8D48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7D62-B7E3-46F0-BB59-BD3A14A879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652-FD89-4208-95C9-AA631122CB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AF71-3511-4641-9EEB-CAEEED58B6F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947E-53A7-4769-8907-98C19A3BBB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0BF-8901-493C-8EC2-AC80301ABA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DB30-CD0A-4485-ACF0-9C414A7D4F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40F7-B6DA-4CA4-9337-96A71551E1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7C5-4CF6-4927-A7CE-E448DD6DB1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512-114C-41AD-9189-6C72BAE6E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1311-6B54-4782-A4C5-42F06631BA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9F08-CB9F-408C-A3AD-793B62CA51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858-EA25-45C6-B430-7413200DFD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1D3F-BA6A-4A31-9007-F93685BB69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DEEBA-53C0-4DB0-91CE-EABAF8CFAF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92710-6777-43E1-9621-E507F58701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F9891-FA7F-4299-B8BB-235C449DBE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08F3E-34E8-4564-94D2-9587DCD5C6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325C0-1261-4878-B7DA-4FB762F7BC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8F47D-D072-4858-8C0C-D15EEB310B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76779-83A4-45D7-999F-9AF332876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907E-349D-42B0-A300-EB2C0FCA2D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1D308-7530-4F74-B7ED-FE1632BAE5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AABF6-8869-4D1F-8E3B-FD580D6139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4BEF6-4BA6-42B5-AB8C-87FB21923C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6B760-D605-4AEA-AA4B-0661B4C3CC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A41C59-B2E6-4ADA-859A-737DF659BA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86A9F-A59D-45C0-BB1B-8BDAB1DFC0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E9CAB-6E87-4B61-AE91-0D70A81740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95AF0-4EF7-429C-B2EB-4CD3C97545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F41A3-BA2B-40BB-A2ED-43F901F326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79713-9666-43EC-9847-83F16A2CB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B16-D749-475E-B61D-9173421514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A8A42-BC98-4996-B342-CC6E71E462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FCAC-9E6B-4F9C-AED2-31C8442A1D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91550-2C5F-4F03-897B-5C9FD433D0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7B0F9-1BAE-4836-AB84-0AE685379C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97A8E-560F-4FD1-9C69-73970F5EAD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A8B38-8F26-4928-AC93-088F1CF277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A530E-3A0D-4A22-8E7F-50F983D72D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026E-1ABE-4DD0-8ACE-4218FFEB35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F351-2A32-4420-A716-6C654EEA40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0290-D1D9-469C-AE1C-AAFEF37B6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ED9710-AC0F-489B-838C-B6496A3C26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D1C35-28F7-4B66-8DB2-8B935D385F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96DA4-3E8F-40B7-AF9D-C8C2AE65617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504CD2-D548-4A60-BC6E-B30D402310A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BF630A-7955-4157-9640-065CD2D5A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66435D-C979-4602-8FEC-6224C6E0BA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31B5B6-D615-45A5-A93C-E267446682E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C82E6-D456-4263-A7D8-7FCC3599E4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4EE2F5-BFCE-4070-8895-44CEF10419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EFC88A-AAB1-4BF8-9276-8E17D1040C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96F09C-202A-4CD9-A687-FA9AC916AE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2A12FA-4B4F-48A0-8D05-1DF83E1D8F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FBB918-921E-4E55-9141-F81D139D59B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6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7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8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8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9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0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0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1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1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2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3:27Z</dcterms:modified>
  <cp:revision>160</cp:revision>
  <dc:subject/>
  <dc:title>Παρουσίαση του PowerPoint</dc:title>
</cp:coreProperties>
</file>