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FD362-6DEE-46A7-8264-30AE1ED6E4B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F3BCF-C633-4100-A547-EA288FB2B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45AA6-1E7B-43F9-A8A0-B4FCBBFD1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1ADAB-EC98-4389-9206-3B2E3647C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DC44C-B51D-407D-9843-9E7145CD0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995C8-DB47-4621-91E1-ED08B3D53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041B6-48B1-40E9-89DA-034B4E25F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4A5B9-A5F6-42D0-B2D2-DBD42A02D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F1C3B-3EC3-4705-AD1D-C3F94B881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80A71-C4CC-44B7-8FB2-2193398D6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AE8C5-BF17-4D7D-903A-7363039AB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2BA5C-041E-4D5C-996F-97EEF0335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20912-284E-44CE-BC33-F42E658F3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222D9-4088-4E15-9E37-92F4E677B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714D1-5022-4E35-8A6F-D8761886F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966E9-79B0-457D-A827-E22F51432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03C78-CF1C-44D0-BB25-E845A35A2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DF7D2-4ED8-487C-AE69-79BFF602D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4F6B3-D2EB-4EF0-9E1C-56BEF7FB5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856CF-7E44-4E18-994A-9993B837B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9C78F-F1C7-4BD5-9A69-32A3C5F4D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C6DD4-A859-470E-8507-4E53CB2DB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8D86B9-6E6A-4CE6-9C9B-C15B1CF14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C7417-42D9-4C91-95BD-363737A5E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FCADF-F792-4EF9-A3E3-086134DAE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3636C-4CA0-4C65-96EF-F4D6848A8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90EAD-0F2A-486E-8121-E625265EE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759B6F-6576-4B4C-8AA9-541850650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DFB04-31F6-4A8F-88F2-FD8F0B098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2BEDE-F601-42EE-B898-80D6CA8FC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3EA01-83A8-4113-ABA2-05F0CC4C3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241D4-A238-4BC4-8213-85F9A570A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EF424-F812-44EB-BD3A-325A0C4CE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68809-6547-4921-A4AB-7B2E723A4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F3C45-96DC-49F5-AD5D-0354380AE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9B514-D03C-471A-8B88-AFA1A0A56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A669E-B7F3-4BF0-892A-688F74DFD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B90F7-9E60-4E1C-9439-30347AD96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7B211-1297-407E-A7E4-01BC34543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4F86C-C7CF-4EAB-88A1-0661AFABE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F4FBF-5E4E-4C01-921C-A4C79402C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C2099-C596-40FE-9CC6-9E0E70622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2CB82-F18B-4E7B-B6EE-B331D17E2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68048-74AD-4506-AA43-D4E0CD6B6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8372F-3C06-4233-A7E9-84FE3DB38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2E29A-7674-4A68-9B32-B098BB376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B517B-B1BC-4440-87E2-84DAF8175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258E9-BB7B-4009-B1CB-F4115962B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3ED24-5869-4BA5-BF18-AD9F45029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05758-FEA9-4096-9C3F-37182C320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3E5E8-F3B0-45F5-AE0D-2D1FC3739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5CA0A-671C-4ECC-BEC5-DD7D69C74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01296-2832-468A-8B06-B4B32BB16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8D074-E9BB-4829-9A41-C721673C6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FB753-6C7A-4980-BFD8-E8140CFCA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DC5FD-266A-417E-BAD8-782766FC9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9E845-3D02-42AF-9EDE-6853B1B9E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00456-184D-4091-9705-6E2987234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D7E5E-0F48-4819-AC85-6CB4F54A0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C988B-1D4C-4C8B-B1DA-ECADE77CC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F22F3-4D65-42EA-8725-26100AC25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7E86C-ADF8-4A35-822B-1AC10D669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77D2C-576F-446A-82F4-40018DE3E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14C81-91FD-46DB-9099-7309B70E6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B4DCE-FE9C-4D37-B669-E47D40443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97AFD-31DF-4F36-BD2D-11E1D8409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C1012-0CBE-4459-85AB-AB97C75AD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147C1-7314-4A0C-952C-93DA4EED9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66F4C-6440-437A-919A-53B73A2C6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A8230-C05D-4926-B143-BC8613B24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824C1-E1BC-4FFC-91DE-3846953D0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69A86-DF6F-43D3-A8BC-0FF466F4A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EE6B36C-C401-4DDB-BCDB-52BCE4D965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631155F-94C4-4005-894C-7CCEFF05380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FD3E39D-8936-4210-B4C2-721582D5AF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7787B33-19BA-4965-81AD-5278C9A3A3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F7CBF68-1495-4CBD-AB70-8AE57CBC45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71725E7-5F84-4AAD-9912-C7F00C501A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3CBE26E-85A6-4618-BB6F-A5A5C63D87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EC5B804-4835-4476-8277-0FA780EC13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0F78BDE-5881-4B76-A130-3197BB0668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F057089-FC7B-43A7-83F7-25323110E1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AF19C7A-06F7-44B5-9055-AD44BB9B5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6AEDDE0-C7BA-4923-BDD2-DA3CBDBBB4F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E434DA6-9C0A-4478-8045-333126E7775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338BD97-0F7E-4188-87E9-532849AE6EC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57B7DDB-BEF3-4597-8435-EE5E52175C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929186F-F420-43E8-862F-388352B8E7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BAB98FB-5DCE-4039-AB7D-319D079190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6655256-A375-418F-95DB-5F1DB2DFD7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E5E3F96-C5A0-4E74-9858-60CBCA726C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96C0C7E-53C8-477F-9FB6-E19536EE581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B91483C-141F-4801-933F-30669F5DA2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089F957-B3B7-4F76-B408-679C9F4C2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80E0AB1-0C17-47AB-9E57-CFF2CD4472F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0BD70663-5B24-40CF-8D95-F2D0AEBBB6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8A057A4-DC41-4A28-B703-4B64E8BFDE6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D64638F-D957-4A83-9985-3C758AB923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C3B3472-3356-49A5-BAC4-B72D79844F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7C1611F-09AD-428C-B9F5-5D3E24EC505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E64A022-D2DD-4B7A-95D2-4C6BE49798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F9F4F5F-4B37-49AC-9BF9-767666A3D8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D7019D4-C265-45AC-90B7-FBE05A3C6D9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B4F04A1-97AE-4327-BCDA-5D98682972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7257EF4-BEB1-4CE4-B508-CE3B94B12D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70B31D-A4EF-4D4C-A643-5BA9F8D11D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C6265C2-E284-42FC-9132-5C41D08B217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818B212-A5A3-4F43-844E-8EF955E034E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1A53C3E-679D-448A-B880-6CA28299DED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DAD9A7C-DABA-457F-8E3B-4EC9CF3F57B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636F829-70EE-4871-9EDB-BFD7476283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8411FC3-5C97-4E81-9FBB-15C938A94B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A9EB2D3-543E-4AE1-9B97-8AE414649CC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68A2168-7470-48F2-A470-D60782B65E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C2213CC6-8FD2-49B3-BB64-A0AC98E1920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9F040A0-C327-4754-974B-A83624F073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DAB9156-27F1-42D3-BFF2-6F6949E0F4F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C7CC65F-A50E-4AAB-AA2A-9078D782E1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53DA59F-DB1E-4A5E-A726-D7261AFEFC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25833A5-8C59-41E3-85F2-FC28B6250B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5652043-A5B0-4570-87AA-019B4C097C4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74E5A2B-A923-41DA-841A-B8917B7F112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DE217B4-A117-4EA9-9B2E-56083D7FA41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A7519FC-58BC-45C0-9C55-AA121AF8C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AF63271-66E3-441C-95D7-321569A6B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0D5F246-6FA1-47A5-8C43-F22A3D1A7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1C16D60-8403-4063-BD72-728ACD4AD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3B837ED-5C6F-43F7-B01C-6C5FE39CFD4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22AF1C1-A094-441D-BE11-CBF5AF1645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37B7991-DE0B-4E28-AEC9-6753C550B7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4B8F51B-65AD-4C93-8A06-40F603E0A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0173A11-3261-4450-88A1-D71E3BD1B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E99D18F-56DA-4336-B80C-DA817084C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EE6E96F-1852-49D4-BD41-42679BAF6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898D589-CB6E-4727-AAD7-B3D87C85DFE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85231A0-DE3D-4829-BF5B-17370D35E9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46A3351-DC73-4E4B-BD8E-A253B41690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0F1EA97-C771-4647-BB6C-235BE6B4C3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CCE661-F141-4BE7-A45E-293241A086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73912BC-45DC-4E35-8553-3232AB22C6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BBA9576-8552-4601-9466-CFBD240AAD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3F666B-8589-4EF0-B66E-FF9EE89F8E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843FD49-0BE2-4D49-9D7A-33CE4CFEA6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B7610C5-FB91-45D6-A780-59CBFCD033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F0E6959-B3DC-45AD-95D0-199B4A9053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6116193-7C6D-4A66-ABB2-34370CA2BB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C919A5-26C0-416B-894D-868022F7C6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75B897-F3A8-43BE-95F2-174AA0005E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4BBC0F8-EFB6-467F-AAF2-2A37013A26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BE1169-8C69-421A-9A42-4317AA58A7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6B5912D-F76F-4EA8-B175-BCADEF16AE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2FC2D34-B2BE-4CA5-8CDF-DBD4323CEF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2F539F5-2503-4B4D-80F1-68442915F8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359C3CC-5922-4A79-AB14-01302DDD70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352734E-5A22-4B72-AFCA-55DD825B30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F8EDA4E-A324-4FC4-A8BB-1F0598B6C2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7738AD7-7F82-4FD8-B34E-4B1E2B6114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61D4962-271A-497F-BAB7-B70C609A43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828A1-D52E-4E09-AACF-83D74CD97F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94FF374-ACCF-4DA4-8183-4297F26AF4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ECAE764-736F-4A2A-A287-932F29B5A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1AF4AF2-FCA1-47A1-BD85-0D66986ABA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D7F5F53-C79B-4F1E-B9F6-011168C0F8E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7BC8563-F6D8-4F2D-9D86-D9B2380E50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35FC3E4-97AD-4A03-8668-E570A7B5BB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756558B-DC63-462C-A68B-143FBF5037D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2FCD1B5-B505-4D72-B901-A87C1247F93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E8F3678-7FBA-4F3E-8379-0E8994C254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43D5814-3F14-4ADE-9A76-96471655F8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69B4B024-5874-49F3-88A7-FF2B0EC249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1D3135A2-1B36-4868-92E2-84A3AB1758B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1CBDE1-B891-493C-BB67-F883DDB61D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28A0FC7-D62D-4BC7-8B5A-D9F73A0151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F199187-1561-4C8A-9828-7E375E4DFF4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7032D4A-5F47-429E-BFAA-86F4333DA3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68FA78B-4D3E-45C1-B123-20BD3E4F62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84E6D884-FAC7-462E-908B-A314BA8769C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7CB6EE99-E750-4706-B4D9-9B88307415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80B4859-90D6-45F2-934D-6D3818CFDFE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F944E62-F64A-49D9-A2D9-13B750C5F1D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4CA990B-B44C-4D84-B8CB-F20E68A3669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E6D1C16-5A5E-429F-AEC0-07544AF9E48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0347AE9-1608-48AE-B639-4B5BFE17DD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F80AC2D-48CC-4D41-BD86-9ECE5766E2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6FEC077-E8DE-4B4F-B0F5-695FF3CB683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29767B-2A38-4B09-9A24-A7A46A791A6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670D728-2A9A-4F5A-ADD6-EE150FF306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8DBE202-3105-46F9-BC71-C32B261FAE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82EBD4E-975C-4446-AF5F-7567A443F0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555700E4-613B-4E12-BAFE-813EE1310E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8C68B5B7-2680-46E8-A385-D8440D23056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EC7BD85-8070-4C27-99EE-18AD6C3558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D51B5FD-80D1-43F7-8C68-CD957FD0AA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562439B-38F4-4B0B-B801-31D9258BE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7A8536F-17E1-423A-9ACE-AA9C0BC95D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0026118-95B9-4B1C-8C99-A5D0403A2FA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F1B78D8-7A75-4C47-9903-9EF59626DF4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5D19C106-8604-4295-898F-1FDEE4E900F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8C211A1-6E35-4A0A-9524-999AFAC8F59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CAC9841-39A1-4105-9673-6280B349BB1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AAAD979-03A1-4799-BA2D-ED029AA43E7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D2592F8-6425-4F09-A33B-99FF82A77B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D294BB2-9617-46DD-99C9-DB08A6DAFCF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1D79DBC-A1DB-4ACE-9895-DBFD717F601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FF09F85-90DC-4E33-AA8E-3EBDF4CB8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0D9D37E-4FD5-4DEE-8B56-89902CE190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CECB3FF-167F-4AC5-9A72-23EB0A2BE3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98ED653-9840-4B32-8B01-827618DD96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AC83C42-6F1F-4DFF-814E-87AD222179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6622E5F3-BE32-4C32-93D0-C60A134D65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9F5F98F2-7049-4D93-B3DF-5E798398FBC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086731A-D813-4F3F-BEB2-056D89FC1A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C156435-6485-41C4-8B6C-7ED6E45C94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E282F5A-A597-40C8-84F5-48870D94FD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0B492BB-DBE6-400D-8A72-F21F6C6265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F22184E0-7146-4229-A2F7-5AAD9BFF5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1D2F16E-6A63-4BF2-8035-2C533D029E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7ED17B1-810C-4C76-A112-5529448BD9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2A2BA32-9BC1-40C1-9F1C-96D497B2F2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670769D-0BF3-4443-B0BB-C2BB59EA9E8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EC44FCE-346C-4D60-8F84-E9B1C730D9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B538655-DD69-4B5C-B7C6-D12A7087036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481AA57-97D5-4FDB-9F47-E41EF2387E6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592536D-39C6-4EB2-A54B-4809DF3A45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C3D7054-4022-403B-9746-D40D45279C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82362F1-9C11-4713-BD12-A06696B198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8363E6F-24AF-4D8A-BF0B-5DD694BD3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A4598-83D8-4745-A377-49E48A16AF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963FD-0F00-4149-A7A8-DB9B48A2FA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7813D-5B6A-4671-9399-169FBC524B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71EBD-1AC2-4534-A492-41C62FAE0F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D0255-EF49-46CF-98A1-8EAA0DF9BB6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175CD-AFED-41C2-8EF9-7C6CFB7396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C1727-89F8-4923-8C4C-21D9B60B49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EF528-1A5C-497D-8BF6-C47725DD54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B0E28-4CB2-41FA-910D-281A910FEC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48DCF-6A42-41D6-B1B0-E0926C5546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5D4D6-CC4D-463A-ABB3-DE18FA5FDB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24C89-75D0-4D1C-9A86-86CBC51961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CBCF8-5691-49BC-B95A-2DF0704D2E9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0800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81080" y="1392120"/>
            <a:ext cx="82785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24000" y="1268280"/>
            <a:ext cx="849600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21284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125360"/>
            <a:ext cx="8207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137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773280" y="1233360"/>
            <a:ext cx="759744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80" name="" descr=""/>
          <p:cNvPicPr/>
          <p:nvPr/>
        </p:nvPicPr>
        <p:blipFill>
          <a:blip r:embed="rId1"/>
          <a:stretch/>
        </p:blipFill>
        <p:spPr>
          <a:xfrm>
            <a:off x="0" y="0"/>
            <a:ext cx="9144000" cy="1368360"/>
          </a:xfrm>
          <a:prstGeom prst="rect">
            <a:avLst/>
          </a:prstGeom>
          <a:ln w="0">
            <a:noFill/>
          </a:ln>
        </p:spPr>
      </p:pic>
      <p:pic>
        <p:nvPicPr>
          <p:cNvPr id="1181" name="" descr=""/>
          <p:cNvPicPr/>
          <p:nvPr/>
        </p:nvPicPr>
        <p:blipFill>
          <a:blip r:embed="rId2"/>
          <a:stretch/>
        </p:blipFill>
        <p:spPr>
          <a:xfrm>
            <a:off x="1258920" y="2060640"/>
            <a:ext cx="1297080" cy="1528560"/>
          </a:xfrm>
          <a:prstGeom prst="rect">
            <a:avLst/>
          </a:prstGeom>
          <a:ln w="0">
            <a:noFill/>
          </a:ln>
        </p:spPr>
      </p:pic>
      <p:pic>
        <p:nvPicPr>
          <p:cNvPr id="1182" name="" descr=""/>
          <p:cNvPicPr/>
          <p:nvPr/>
        </p:nvPicPr>
        <p:blipFill>
          <a:blip r:embed="rId3"/>
          <a:stretch/>
        </p:blipFill>
        <p:spPr>
          <a:xfrm>
            <a:off x="6948360" y="1989000"/>
            <a:ext cx="1444680" cy="1573200"/>
          </a:xfrm>
          <a:prstGeom prst="rect">
            <a:avLst/>
          </a:prstGeom>
          <a:ln w="0">
            <a:noFill/>
          </a:ln>
        </p:spPr>
      </p:pic>
      <p:sp>
        <p:nvSpPr>
          <p:cNvPr id="118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8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907920"/>
            <a:ext cx="813744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40Z</dcterms:modified>
  <cp:revision>170</cp:revision>
  <dc:subject/>
  <dc:title>Παρουσίαση του PowerPoint</dc:title>
</cp:coreProperties>
</file>