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9442E9-A667-4B41-9B1D-388084A95241}"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306B46-B2FB-48D8-9F3E-CB9EEFA60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985680" y="741240"/>
            <a:ext cx="4886640" cy="3665520"/>
          </a:xfrm>
          <a:prstGeom prst="rect">
            <a:avLst/>
          </a:prstGeom>
          <a:ln w="0">
            <a:noFill/>
          </a:ln>
        </p:spPr>
      </p:sp>
      <p:sp>
        <p:nvSpPr>
          <p:cNvPr id="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A4CD50-95B3-4189-81B1-1CBEA2C13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985680" y="741240"/>
            <a:ext cx="4886640" cy="3665520"/>
          </a:xfrm>
          <a:prstGeom prst="rect">
            <a:avLst/>
          </a:prstGeom>
          <a:ln w="0">
            <a:noFill/>
          </a:ln>
        </p:spPr>
      </p:sp>
      <p:sp>
        <p:nvSpPr>
          <p:cNvPr id="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F19D7A-581B-4F2A-AFB6-A09BCD658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985680" y="741240"/>
            <a:ext cx="4886640" cy="3665520"/>
          </a:xfrm>
          <a:prstGeom prst="rect">
            <a:avLst/>
          </a:prstGeom>
          <a:ln w="0">
            <a:noFill/>
          </a:ln>
        </p:spPr>
      </p:sp>
      <p:sp>
        <p:nvSpPr>
          <p:cNvPr id="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AF40BD-6596-41E0-AFC6-5A9A798AF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985680" y="741240"/>
            <a:ext cx="4886640" cy="3665520"/>
          </a:xfrm>
          <a:prstGeom prst="rect">
            <a:avLst/>
          </a:prstGeom>
          <a:ln w="0">
            <a:noFill/>
          </a:ln>
        </p:spPr>
      </p:sp>
      <p:sp>
        <p:nvSpPr>
          <p:cNvPr id="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37F0C5-FDC4-4C6E-8299-2B11CBB01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985680" y="741240"/>
            <a:ext cx="4886640" cy="3665520"/>
          </a:xfrm>
          <a:prstGeom prst="rect">
            <a:avLst/>
          </a:prstGeom>
          <a:ln w="0">
            <a:noFill/>
          </a:ln>
        </p:spPr>
      </p:sp>
      <p:sp>
        <p:nvSpPr>
          <p:cNvPr id="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21BCF2-A540-45DD-8096-DB50C9BE7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985680" y="741240"/>
            <a:ext cx="4886640" cy="3665520"/>
          </a:xfrm>
          <a:prstGeom prst="rect">
            <a:avLst/>
          </a:prstGeom>
          <a:ln w="0">
            <a:noFill/>
          </a:ln>
        </p:spPr>
      </p:sp>
      <p:sp>
        <p:nvSpPr>
          <p:cNvPr id="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FCDA00-4221-4B84-AAD7-96A7C1497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985680" y="741240"/>
            <a:ext cx="4886640" cy="3665520"/>
          </a:xfrm>
          <a:prstGeom prst="rect">
            <a:avLst/>
          </a:prstGeom>
          <a:ln w="0">
            <a:noFill/>
          </a:ln>
        </p:spPr>
      </p:sp>
      <p:sp>
        <p:nvSpPr>
          <p:cNvPr id="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61F8D5-E56A-4114-95B5-344F22E3E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985680" y="741240"/>
            <a:ext cx="4886640" cy="3665520"/>
          </a:xfrm>
          <a:prstGeom prst="rect">
            <a:avLst/>
          </a:prstGeom>
          <a:ln w="0">
            <a:noFill/>
          </a:ln>
        </p:spPr>
      </p:sp>
      <p:sp>
        <p:nvSpPr>
          <p:cNvPr id="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D4C220-7DB4-43C0-A2D1-9205B0CB4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985680" y="741240"/>
            <a:ext cx="4886640" cy="3665520"/>
          </a:xfrm>
          <a:prstGeom prst="rect">
            <a:avLst/>
          </a:prstGeom>
          <a:ln w="0">
            <a:noFill/>
          </a:ln>
        </p:spPr>
      </p:sp>
      <p:sp>
        <p:nvSpPr>
          <p:cNvPr id="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A7CB05-B1E8-439E-8DE5-4295CC3AA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985680" y="741240"/>
            <a:ext cx="4886640" cy="3665520"/>
          </a:xfrm>
          <a:prstGeom prst="rect">
            <a:avLst/>
          </a:prstGeom>
          <a:ln w="0">
            <a:noFill/>
          </a:ln>
        </p:spPr>
      </p:sp>
      <p:sp>
        <p:nvSpPr>
          <p:cNvPr id="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24F99F-A5DE-4444-B326-921E66BD4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985680" y="741240"/>
            <a:ext cx="4886640" cy="3665520"/>
          </a:xfrm>
          <a:prstGeom prst="rect">
            <a:avLst/>
          </a:prstGeom>
          <a:ln w="0">
            <a:noFill/>
          </a:ln>
        </p:spPr>
      </p:sp>
      <p:sp>
        <p:nvSpPr>
          <p:cNvPr id="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34D12-9C08-4209-BE13-6EBC3AD52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985680" y="741240"/>
            <a:ext cx="4886640" cy="3665520"/>
          </a:xfrm>
          <a:prstGeom prst="rect">
            <a:avLst/>
          </a:prstGeom>
          <a:ln w="0">
            <a:noFill/>
          </a:ln>
        </p:spPr>
      </p:sp>
      <p:sp>
        <p:nvSpPr>
          <p:cNvPr id="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51FB63-C9C2-46A6-90A2-8FCACF8FD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85680" y="741240"/>
            <a:ext cx="4886640" cy="3665520"/>
          </a:xfrm>
          <a:prstGeom prst="rect">
            <a:avLst/>
          </a:prstGeom>
          <a:ln w="0">
            <a:noFill/>
          </a:ln>
        </p:spPr>
      </p:sp>
      <p:sp>
        <p:nvSpPr>
          <p:cNvPr id="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56B312-7BF6-42C8-9015-FD093BC94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985680" y="741240"/>
            <a:ext cx="4886640" cy="3665520"/>
          </a:xfrm>
          <a:prstGeom prst="rect">
            <a:avLst/>
          </a:prstGeom>
          <a:ln w="0">
            <a:noFill/>
          </a:ln>
        </p:spPr>
      </p:sp>
      <p:sp>
        <p:nvSpPr>
          <p:cNvPr id="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25DD25-C5DF-46A1-A7D2-D7AFEDFB9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985680" y="741240"/>
            <a:ext cx="4886640" cy="3665520"/>
          </a:xfrm>
          <a:prstGeom prst="rect">
            <a:avLst/>
          </a:prstGeom>
          <a:ln w="0">
            <a:noFill/>
          </a:ln>
        </p:spPr>
      </p:sp>
      <p:sp>
        <p:nvSpPr>
          <p:cNvPr id="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1C7260-98CB-4BAB-97D5-8A22C720C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985680" y="741240"/>
            <a:ext cx="4886640" cy="3665520"/>
          </a:xfrm>
          <a:prstGeom prst="rect">
            <a:avLst/>
          </a:prstGeom>
          <a:ln w="0">
            <a:noFill/>
          </a:ln>
        </p:spPr>
      </p:sp>
      <p:sp>
        <p:nvSpPr>
          <p:cNvPr id="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E86412-AEB3-4247-BE27-4DA5DC080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985680" y="741240"/>
            <a:ext cx="4886640" cy="3665520"/>
          </a:xfrm>
          <a:prstGeom prst="rect">
            <a:avLst/>
          </a:prstGeom>
          <a:ln w="0">
            <a:noFill/>
          </a:ln>
        </p:spPr>
      </p:sp>
      <p:sp>
        <p:nvSpPr>
          <p:cNvPr id="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A8C090-8261-4C08-B9A2-80D7EFF1F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985680" y="741240"/>
            <a:ext cx="4886640" cy="3665520"/>
          </a:xfrm>
          <a:prstGeom prst="rect">
            <a:avLst/>
          </a:prstGeom>
          <a:ln w="0">
            <a:noFill/>
          </a:ln>
        </p:spPr>
      </p:sp>
      <p:sp>
        <p:nvSpPr>
          <p:cNvPr id="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5D5A80-AE23-4816-AD37-925509F0B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985680" y="741240"/>
            <a:ext cx="4886640" cy="3665520"/>
          </a:xfrm>
          <a:prstGeom prst="rect">
            <a:avLst/>
          </a:prstGeom>
          <a:ln w="0">
            <a:noFill/>
          </a:ln>
        </p:spPr>
      </p:sp>
      <p:sp>
        <p:nvSpPr>
          <p:cNvPr id="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F8D509-4479-403D-BF01-A7C276BF6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985680" y="741240"/>
            <a:ext cx="4886640" cy="3665520"/>
          </a:xfrm>
          <a:prstGeom prst="rect">
            <a:avLst/>
          </a:prstGeom>
          <a:ln w="0">
            <a:noFill/>
          </a:ln>
        </p:spPr>
      </p:sp>
      <p:sp>
        <p:nvSpPr>
          <p:cNvPr id="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4FEEBD-B9C1-46AE-87D9-8C83E00FE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985680" y="741240"/>
            <a:ext cx="4886640" cy="3665520"/>
          </a:xfrm>
          <a:prstGeom prst="rect">
            <a:avLst/>
          </a:prstGeom>
          <a:ln w="0">
            <a:noFill/>
          </a:ln>
        </p:spPr>
      </p:sp>
      <p:sp>
        <p:nvSpPr>
          <p:cNvPr id="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241641-4AB2-418A-BDE0-3C08AAC40A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2B5F6AA-8F4E-49B8-A556-25C1B78467B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521C611-33E3-4647-ACF8-48490BA928E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26595B81-8082-4192-8202-302BC0272A5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A6FB5EC6-09CD-484F-A5A8-40AB2A9110F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D1BDEC1-3CA2-42A6-8016-01594E7D3DB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1D478C0-EB63-4B5C-84C5-6DC6612C0C5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7F87685-9F56-4E4C-842B-05289B4A56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8510A1C-6DD3-4F1B-BA0E-8B5966DF040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86CC3BE6-1476-4FF1-B93E-C323BBCBD0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94A4A54C-DDFB-472C-B110-E3E6DB0F1DB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96AD604-BC71-42C9-9025-748F01A866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0D8D3DF0-2C5D-4E91-83B6-7A3611D4771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5743F986-99FE-48DB-A30D-0E4590B0F92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1ED765C-CF21-430E-95ED-54C1B006432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7D9C0A4-C892-424B-855F-CD3E644BE15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58C83F4E-45A4-4028-A611-358DD192972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E66EEDC5-62E8-41A4-A0AB-45225DCD096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27F8DFA-B927-4011-9429-7A7D36D5823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B246960-BF84-40FC-B09D-4354BEF7836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0C3E631-FE32-4501-9617-5F974D6AACA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02460F2-8F8D-4F2A-A098-F2524047C88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F8407403-1B20-467D-A1BA-DFE207F6DB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2C9795B3-58DA-4F84-BD78-57C683BFAC8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E1682751-5DA6-47E6-9EB0-EF82AD4C823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198CDBC-1B97-4352-BA9D-2C2C5C89640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D50F366E-EEC0-454F-87C1-1064D5A2BD1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68AB9A3E-C0B0-4A21-B428-78DC08FCC42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62615328-4972-4F4C-AF5D-24FC566D230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6C63E0FF-4AA1-41E9-BBE5-2AA5CB869A5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37FFE5E3-1C45-44DC-B3BD-D9652F5E274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3366B43-9144-4624-820A-656CA2064EF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F11972A-1722-4608-A00E-A2085DBED97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EB9E76D-A73A-419E-ADC3-7E1AE482F4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9A7BE1-0D19-4DAE-829F-3786EF8D75F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14FF107-2B0F-4A8C-8451-EB900451CA5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3B7A020A-B117-42B9-8BDD-BBB3E64626D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F4CCFD89-5DAE-42A6-AA1B-8D426BCA520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DC04826-5051-4A69-992E-6DE999745FC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B0267B3-56F3-4DE0-940B-CE7B0182526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1AC468B-1CFC-42E1-A7F4-1BDD2345C9C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32B38DF-EAF9-433D-855C-FDE29AC6C46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94205B63-0BAE-44CF-8F51-D51519E1665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8192431C-4257-4A44-A4F2-DB4944C2EEE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249FA49-7DEB-4729-B8AB-C5AADFB74E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593661D-E40A-4045-9CBE-E2375C40855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443AC3B-8277-4421-A648-0CDDEBFCD9C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97B5D02-E094-47F7-9B3F-8A099205B5B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88CB06C-E88B-431C-842C-130B19005DA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F12392C1-488C-40EC-898F-E12556D01DA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AD2EFB1E-728D-494A-85EE-BBC6B83EDBD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AEFDFBA-89B5-4EA4-A379-F702917A3D6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786FF4E-B03F-41EA-8BF7-5580211169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ADBC20E-7E71-4F97-91E9-F5AF4F8016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00B0469-530B-4B13-A019-4E36FA52DA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3D7DDED0-31CA-48CF-AC37-6C632CB7CD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8A21A0C-AD0B-40FE-AC98-B4FD35508AE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78B906B2-1A8B-497D-A579-615622C77F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7047E24-DB2B-4463-8352-937E28FBA4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83FE088-2CE0-4FC1-A75A-1246AC1BB4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0912D69-D5F9-42A6-8828-6A031FFCBC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329EB6E3-2762-4C45-9B4E-2A453DA757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41333E1D-ADE5-4A86-83FC-46D0C4663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CC3763E0-A862-480F-9017-B2E85B4BA93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8368E10-E470-4A10-B2CB-1C77B47498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7C438B1D-136E-4532-9921-BC1E04CAA2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3F1620E-01C3-4A26-B252-2DD64521A8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E905031-1323-4B5B-A808-93C0680B67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FC80D2E-28C3-4E23-A35A-F46A7559BD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6C1CAD3-0EAE-4E78-83D6-45E82CBD99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FEE202E-1BDE-4BE6-A3E9-51EAF5DE38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E2BBB58-AEC2-441E-8485-D2D4FEA89F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FB370CC6-296C-438B-A314-D1A58E36AF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504D364-D5C4-46AA-8999-511171FA30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E70B59C-2A05-4AB0-A451-D259C98E98C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79AA21-1B6E-411D-83D3-77B4A93AD0B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B597B5-AE63-489D-89AA-92093DB8C3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AC15EF7-A4D9-4A9F-B8C0-CC5AB867EEA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5BF434-1EE2-4580-A603-9C55D673E7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8C76CB5-018F-4599-A4F7-32A505EE36A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F36A5FF-BCD8-47C5-A076-817BC0F57C4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71EEF32-7EAB-4D7B-918E-2F0259EEC1E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ABA23E6-35B4-4433-96D6-C44112CE3F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F128678-3135-46FB-A4DB-92ACB176E5E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82CC2C1-DD62-4991-8641-E1FD3CA9271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E4F7FB80-9702-48D7-95DE-E9ACC8F086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902AC46C-80F0-4B5C-8C68-1F6B6146A98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5E4DB7-970B-4768-A83E-4F157B44BCD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1F08B32E-7B92-4F4D-AA48-2BF756489E7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4F603887-33BC-4981-8AFC-BA1FA33AB5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EB1F56A-0F7A-4A43-A6BF-03986A319C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D388317-46D0-45D0-8CCA-E68EBE6132B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C7012946-7FBE-4768-8F87-A21AD0EB531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0F11714E-7A92-4FE2-AA97-66E17D2311D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CB8C6E0-95AD-4076-9D35-C1F22790F79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B6A3DD6-4D5E-4269-963A-F84DB97D08D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8DA46C3-8B72-4CB0-A23D-67C5069C866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B75C088-7D11-4C0B-B32A-A8BB39413DE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0FFF84F7-8E0F-4B60-A8F0-65F92DD0208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C22C2E96-F673-4905-9BE5-C0537B4CF75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9E31BB0-493B-486F-99E4-2F5E0A199E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A1BCC60-90B0-45E8-B5B9-D7D0F36CF7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077EB7B-59CE-4EB5-A431-D037990E1A4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0D16E7B-54FF-4E41-982C-3F8E8F3B827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199B732-2CBC-42D1-A708-A6904159190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8CCF2754-5540-4B85-9B1B-32F1A7E7740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932AA7EB-0A77-499C-A048-FFF5F186845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1614F00-4132-4A2C-BCA8-20A9F644FED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FC8633A-F226-4441-B19D-A52F7B46C9B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53754EC-1378-4B76-A698-63C75D492B8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BC8A30A-BEDB-43BC-8F42-CDA68CC1DA2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045B6D41-A919-468A-8D85-3C7D870129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C01D438-4D5B-48CF-8502-A546687BCF9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CD3CB685-B11C-49F9-8FD7-8A612FABCF0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34FF26B-7A0B-4812-9373-09FB31756BC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8AE0E83-883A-43D8-840C-807AF29859B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29A4166-AC7D-4AD2-91F1-AF0E084E011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16FE984-1BEC-449E-94FB-191DDD4F381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2F397285-FDF9-46E8-8CEE-BB9F2ED96D6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5F978156-BDA5-44B9-AD5B-43D224B95C1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A93C66B-995C-4DEA-8C6D-DC649C512FA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2F6EA73-3F84-4B6F-9831-A9919E46F70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BAF96F1-CEB2-473F-9A17-504F66F572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645B16E-7E43-4C16-8CEB-D6B18B037B1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347B48B-5F4B-4043-B219-503C4F7C661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7F995A82-CC8E-4ED4-B3B6-C2EC61EF6F8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082ACA48-ACA3-4FC0-8E5F-C977168C6FE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6145969-C539-44CD-809F-F97E44A4126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4EC2A5EB-DAD2-407E-BA2B-6FC84A8CBBE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770638B-7B84-4110-BB3E-AFE56C4075D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9A2BB25-100B-4EE4-9501-F04243907C5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6EFDEFD-C63C-4787-8D87-A463BCE033E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DE7EDBD0-9A8B-483C-952B-3BBC02C67BD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1353B9B-3DE9-414E-B7F1-5C5564B3F7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84B7921-9DA6-43B3-B8B5-1FDADD40C03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64DB607-A2BF-4553-83B2-39E8D64080B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62406A2-065A-4D23-A00D-0D890DD0AFE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BB0DBDA-8DB8-47E4-AD19-6AA25C9EBE6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DD51A7B1-C788-4473-AA9D-950164373BE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9C742AF6-10B5-43AB-93ED-B96D448EFB8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D97960D-BA49-4684-877F-7FD24F57278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062990B-4067-4B5E-A2E8-AC11ACDC0BC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789325E0-F082-480E-838B-339F58625C2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DF0AFE0-882B-4834-877C-9D3959D4070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E13B27C4-F485-4F3A-B98A-E3DCD51F19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1EE3DF3-2BB4-4A2D-BCEB-4DA6A6ADB22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82280570-6675-4415-AB2A-913878357FA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209D998-B071-4F86-AB33-BDB7690B529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6A43007-21C2-4131-B608-BFADCBCCF1B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E4B0E9A-CFCD-4E02-8E03-3EA102F73D4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76FD0D8-64CD-4ADD-8E38-0CD4EC894C2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944E83BA-6CA9-4B94-971B-B647F3557F7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60D5BE81-6644-4F71-A8C1-2901D924D9D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D61862F-FF89-42BB-9A71-4826F1521AA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D5A0E8C-9B22-48BC-958C-173C7BA7835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EC37A24-B2BC-4F4E-8A0F-31D5DD814E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F9350C-DA73-4DDA-96ED-8288FD7A2D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EC4C05-937E-4BD8-8B9B-EBF1FFDE6E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B0A3B8-7212-4B1B-BE0F-4899B1B0B9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B06027-C3B5-4322-80D5-F99D77689A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620F71-CFCE-4769-806B-C53D9E81E24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11D9B3-2E76-4603-9701-99869AE978B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68D5FC-BCFB-49C1-8BD4-719760E8DE5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D0F277-F7F1-4CAE-9B7F-AD2524EA12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61F2D9-6514-48C7-99DF-1DB35DE354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59B096-863E-4CD7-978B-695436ED14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36147C-8553-4240-90F8-5A6BB8E6960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D12D48-AB96-47AB-8246-8D4211B1D9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FD7828-BF64-4C8F-83D5-83C3D56FD7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μεγάλα ποσά διατίθενται για την Πρωτοβάθμια και τη</a:t>
            </a:r>
            <a:r>
              <a:rPr b="0" lang="en-US" sz="2800" spc="-1" strike="noStrike">
                <a:solidFill>
                  <a:srgbClr val="000000"/>
                </a:solidFill>
                <a:latin typeface="Times New Roman"/>
              </a:rPr>
              <a:t> </a:t>
            </a:r>
            <a:r>
              <a:rPr b="0" lang="el-GR" sz="2800" spc="-1" strike="noStrike">
                <a:solidFill>
                  <a:srgbClr val="000000"/>
                </a:solidFill>
                <a:latin typeface="Times New Roman"/>
              </a:rPr>
              <a:t>Δευτεροβάθμια Εκπαίδευση από το Επιχειρησιακό Πρόγραμμα Εκπαίδευσης και</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Κατάρτισης (Ε.Π.ΕΑ.Ε.Κ. Ι και Ε.Π.ΕΑ.Ε.Κ. II).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a:t>
            </a:r>
            <a:r>
              <a:rPr b="0" lang="en-US" sz="2800" spc="-1" strike="noStrike">
                <a:solidFill>
                  <a:srgbClr val="000000"/>
                </a:solidFill>
                <a:latin typeface="Times New Roman"/>
              </a:rPr>
              <a:t> </a:t>
            </a:r>
            <a:r>
              <a:rPr b="0" lang="el-GR" sz="2800" spc="-1" strike="noStrike">
                <a:solidFill>
                  <a:srgbClr val="000000"/>
                </a:solidFill>
                <a:latin typeface="Times New Roman"/>
              </a:rPr>
              <a:t>πλαίσιο του Ε.Π.ΕΑ.Ε.Κ. Ι πραγματοποιήθηκαν έργα που αφορούσαν Προγράμματα</a:t>
            </a:r>
            <a:r>
              <a:rPr b="0" lang="en-US" sz="2800" spc="-1" strike="noStrike">
                <a:solidFill>
                  <a:srgbClr val="000000"/>
                </a:solidFill>
                <a:latin typeface="Times New Roman"/>
              </a:rPr>
              <a:t> </a:t>
            </a:r>
            <a:r>
              <a:rPr b="0" lang="el-GR" sz="2800" spc="-1" strike="noStrike">
                <a:solidFill>
                  <a:srgbClr val="000000"/>
                </a:solidFill>
                <a:latin typeface="Times New Roman"/>
              </a:rPr>
              <a:t>Σπουδών, </a:t>
            </a:r>
            <a:br>
              <a:rPr sz="2800"/>
            </a:br>
            <a:r>
              <a:rPr b="0" lang="el-GR" sz="2800" spc="-1" strike="noStrike">
                <a:solidFill>
                  <a:srgbClr val="000000"/>
                </a:solidFill>
                <a:latin typeface="Times New Roman"/>
              </a:rPr>
              <a:t>βιβλία και υποδομές των δύο πρώτων βαθμίδων της εκπαίδευσης.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539640" y="981000"/>
            <a:ext cx="820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οωθήθηκαν επίσης ,</a:t>
            </a:r>
            <a:br>
              <a:rPr sz="2800"/>
            </a:br>
            <a:r>
              <a:rPr b="0" lang="el-GR" sz="2800" spc="-1" strike="noStrike">
                <a:solidFill>
                  <a:srgbClr val="000000"/>
                </a:solidFill>
                <a:latin typeface="Times New Roman"/>
              </a:rPr>
              <a:t> η εισαγωγή των Νέων Τεχνολογιών στην εκπαίδευση, χρηματοδοτήθηκαν οι σχολικές δραστηριότητες (Περιβαλλοντική Εκπαίδευση, Αγωγή</a:t>
            </a:r>
            <a:br>
              <a:rPr sz="2800"/>
            </a:br>
            <a:r>
              <a:rPr b="0" lang="el-GR" sz="2800" spc="-1" strike="noStrike">
                <a:solidFill>
                  <a:srgbClr val="000000"/>
                </a:solidFill>
                <a:latin typeface="Times New Roman"/>
              </a:rPr>
              <a:t>Υγείας, Αγωγή Καταναλωτή) και επιμορφώθηκε μεγάλος αριθμός εκπαιδευτικών.</a:t>
            </a:r>
            <a:br>
              <a:rPr sz="2800"/>
            </a:br>
            <a:r>
              <a:rPr b="0" lang="el-GR" sz="2800" spc="-1" strike="noStrike">
                <a:solidFill>
                  <a:srgbClr val="000000"/>
                </a:solidFill>
                <a:latin typeface="Times New Roman"/>
              </a:rPr>
              <a:t>, μουσουλμανόπαιδες, άτομα με ειδικές ανάγκες (ΥΠ.Ε.Π.Θ., 2000).</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539640" y="981000"/>
            <a:ext cx="820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Προωθήθηκαν, συγχρόνως, μέτρα ένταξης στο εκπαιδευτικό σύστημα μαθητών ειδικών κατηγοριών, όπως παλιννοστούντες, τσιγγανόπαιδες, μουσουλμανόπαιδες, καθώς και τα άτομα με ειδικές ανάγκες (ΥΠ.Ε.Π.Θ., 2000).</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του Ε.Π.Ε.Α.Ε.Κ. II συνεχίστηκαν ορισμένες από τις ενέργειες του</a:t>
            </a:r>
            <a:br>
              <a:rPr sz="2800"/>
            </a:br>
            <a:r>
              <a:rPr b="0" lang="el-GR" sz="2800" spc="-1" strike="noStrike">
                <a:solidFill>
                  <a:srgbClr val="000000"/>
                </a:solidFill>
                <a:latin typeface="Times New Roman"/>
              </a:rPr>
              <a:t>Ε.Π.Ε.Α.Ε.Κ. Ι. Κατά τη διάρκεια της προγραμματικής περιόδου του Γ' Κοινοτικού</a:t>
            </a:r>
            <a:br>
              <a:rPr sz="2800"/>
            </a:br>
            <a:r>
              <a:rPr b="0" lang="el-GR" sz="2800" spc="-1" strike="noStrike">
                <a:solidFill>
                  <a:srgbClr val="000000"/>
                </a:solidFill>
                <a:latin typeface="Times New Roman"/>
              </a:rPr>
              <a:t>Πλαισίου Στήριξης (2000-2006) δόθηκε έμφαση σε επιπρόσθετα μέτρα, όπως η</a:t>
            </a:r>
            <a:br>
              <a:rPr sz="2800"/>
            </a:br>
            <a:r>
              <a:rPr b="0" lang="el-GR" sz="2800" spc="-1" strike="noStrike">
                <a:solidFill>
                  <a:srgbClr val="000000"/>
                </a:solidFill>
                <a:latin typeface="Times New Roman"/>
              </a:rPr>
              <a:t>καταπολέμηση της σχολικής αποτυχίας με εναλλακτικές μορφές μάθησης.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ροώθηση της ισότητας των ευκαιριών πρόσβασης στην αγορά εργασίας για όλους</a:t>
            </a:r>
            <a:br>
              <a:rPr sz="2800"/>
            </a:br>
            <a:r>
              <a:rPr b="0" lang="el-GR" sz="2800" spc="-1" strike="noStrike">
                <a:solidFill>
                  <a:srgbClr val="000000"/>
                </a:solidFill>
                <a:latin typeface="Times New Roman"/>
              </a:rPr>
              <a:t>και ιδιαίτερα για όσους απειλούνται </a:t>
            </a:r>
            <a:br>
              <a:rPr sz="2800"/>
            </a:br>
            <a:r>
              <a:rPr b="0" lang="el-GR" sz="2800" spc="-1" strike="noStrike">
                <a:solidFill>
                  <a:srgbClr val="000000"/>
                </a:solidFill>
                <a:latin typeface="Times New Roman"/>
              </a:rPr>
              <a:t>με κοινωνικό αποκλεισμό, </a:t>
            </a:r>
            <a:br>
              <a:rPr sz="2800"/>
            </a:br>
            <a:r>
              <a:rPr b="0" lang="el-GR" sz="2800" spc="-1" strike="noStrike">
                <a:solidFill>
                  <a:srgbClr val="000000"/>
                </a:solidFill>
                <a:latin typeface="Times New Roman"/>
              </a:rPr>
              <a:t>η βελτίωση της</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εκπαίδευσης </a:t>
            </a:r>
            <a:br>
              <a:rPr sz="2800"/>
            </a:br>
            <a:r>
              <a:rPr b="0" lang="el-GR" sz="2800" spc="-1" strike="noStrike">
                <a:solidFill>
                  <a:srgbClr val="000000"/>
                </a:solidFill>
                <a:latin typeface="Times New Roman"/>
              </a:rPr>
              <a:t>και κατάρτισης στο πλαίσιο της διά βίου μάθησης </a:t>
            </a:r>
            <a:br>
              <a:rPr sz="2800"/>
            </a:br>
            <a:r>
              <a:rPr b="0" lang="el-GR" sz="2800" spc="-1" strike="noStrike">
                <a:solidFill>
                  <a:srgbClr val="000000"/>
                </a:solidFill>
                <a:latin typeface="Times New Roman"/>
              </a:rPr>
              <a:t>και η προώθηση του επαγγελματικού προσανατολισμού και της σύνδεσης με την αγορά εργασίας </a:t>
            </a:r>
            <a:br>
              <a:rPr sz="2800"/>
            </a:br>
            <a:r>
              <a:rPr b="0" lang="el-GR" sz="2800" spc="-1" strike="noStrike">
                <a:solidFill>
                  <a:srgbClr val="000000"/>
                </a:solidFill>
                <a:latin typeface="Times New Roman"/>
              </a:rPr>
              <a:t>(ΥΠ.Ε.Π.Θ., 2007).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τέταρτη προγραμματική</a:t>
            </a:r>
            <a:br>
              <a:rPr sz="2800"/>
            </a:br>
            <a:r>
              <a:rPr b="0" lang="el-GR" sz="2800" spc="-1" strike="noStrike">
                <a:solidFill>
                  <a:srgbClr val="000000"/>
                </a:solidFill>
                <a:latin typeface="Times New Roman"/>
              </a:rPr>
              <a:t>περίοδο (2007-2013) του Δ' Κοινοτικού Πλαισίου Στήριξης αποτυπωνόταν η</a:t>
            </a:r>
            <a:br>
              <a:rPr sz="2800"/>
            </a:br>
            <a:r>
              <a:rPr b="0" lang="el-GR" sz="2800" spc="-1" strike="noStrike">
                <a:solidFill>
                  <a:srgbClr val="000000"/>
                </a:solidFill>
                <a:latin typeface="Times New Roman"/>
              </a:rPr>
              <a:t>στρατηγική επένδυσης στην ανάπτυξη του ανθρώπινου δυναμικού των κοινωνιών της</a:t>
            </a:r>
            <a:br>
              <a:rPr sz="2800"/>
            </a:br>
            <a:r>
              <a:rPr b="0" lang="el-GR" sz="2800" spc="-1" strike="noStrike">
                <a:solidFill>
                  <a:srgbClr val="000000"/>
                </a:solidFill>
                <a:latin typeface="Times New Roman"/>
              </a:rPr>
              <a:t>Ευρωπαϊκής Ένωσης και για αυτό δίνονταν ιδιαίτερο βάρος στον τομέα της εκπαίδευσης </a:t>
            </a:r>
            <a:br>
              <a:rPr sz="2800"/>
            </a:br>
            <a:r>
              <a:rPr b="0" lang="el-GR" sz="2800" spc="-1" strike="noStrike">
                <a:solidFill>
                  <a:srgbClr val="000000"/>
                </a:solidFill>
                <a:latin typeface="Times New Roman"/>
              </a:rPr>
              <a:t>(ΥΠ.ΕΘ.Ο.Ο., 2007).</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βάσει του Εθνικού Στρατηγικού Πλαισίου Αναφοράς (Ε.Σ.Π.Α.) οργανώνονται και υλοποιούνται καινοτόμα και αναπτυξιακά προγράμματα που χρηματοδοτούνται κατά 75% από πόρους της Ευρωπαϊκής Ένωσης και κατά 25% από εθνικούς πόρους. </a:t>
            </a:r>
            <a:br>
              <a:rPr sz="2800"/>
            </a:b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Βασικός στόχος του εγχειρήματος είναι η οργάνωση εκπαίδευσης και Διά Βίου Μάθησης κατά τρόπο ικανό να δίνει ενεργό συμμετοχή στην κοινωνία, να οδηγεί σε απρόσκοπτη ένταξη στην αγορά εργασίας και να καταπολεμά τη σχολική διαρροή, ιδιαίτερα για τις ευπαθείς ομάδες </a:t>
            </a:r>
            <a:br>
              <a:rPr sz="2800"/>
            </a:br>
            <a:r>
              <a:rPr b="0" lang="el-GR" sz="2800" spc="-1" strike="noStrike">
                <a:solidFill>
                  <a:srgbClr val="000000"/>
                </a:solidFill>
                <a:latin typeface="Times New Roman"/>
              </a:rPr>
              <a:t>(ΥΠ.Ε.Π.Θ/Παιδαγωγικό Ινστιτούτο, 2008).</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ε μεγάλης κλίμακα έρευνα ερευνητών (των Σπυροπούλου, Κόνταρη, Αντωνακάκη</a:t>
            </a:r>
            <a:br>
              <a:rPr sz="2800"/>
            </a:br>
            <a:r>
              <a:rPr b="0" lang="el-GR" sz="2800" spc="-1" strike="noStrike">
                <a:solidFill>
                  <a:srgbClr val="000000"/>
                </a:solidFill>
                <a:latin typeface="Times New Roman"/>
              </a:rPr>
              <a:t>και Χαλά, (2007) αναφορικά με τους οικονομικούς πόρους που δίνονται στην</a:t>
            </a:r>
            <a:br>
              <a:rPr sz="2800"/>
            </a:br>
            <a:r>
              <a:rPr b="0" lang="el-GR" sz="2800" spc="-1" strike="noStrike">
                <a:solidFill>
                  <a:srgbClr val="000000"/>
                </a:solidFill>
                <a:latin typeface="Times New Roman"/>
              </a:rPr>
              <a:t>εκπαίδευση, οι συμμετέχοντες (στελέχη, διευθυντές, εκπαιδευτικοί και γονείς) ιδίως η</a:t>
            </a:r>
            <a:br>
              <a:rPr sz="2800"/>
            </a:br>
            <a:r>
              <a:rPr b="0" lang="el-GR" sz="2800" spc="-1" strike="noStrike">
                <a:solidFill>
                  <a:srgbClr val="000000"/>
                </a:solidFill>
                <a:latin typeface="Times New Roman"/>
              </a:rPr>
              <a:t>μερίδα των διευθυντών και των εκπαιδευτικών δήλωσαν τη μη επάρκεια των πόρων</a:t>
            </a:r>
            <a:br>
              <a:rPr sz="2800"/>
            </a:br>
            <a:r>
              <a:rPr b="0" lang="el-GR" sz="2800" spc="-1" strike="noStrike">
                <a:solidFill>
                  <a:srgbClr val="000000"/>
                </a:solidFill>
                <a:latin typeface="Times New Roman"/>
              </a:rPr>
              <a:t>για κάλυψη των λειτουργικών αναγκών των σχολικών μονάδων που εργάζονται.</a:t>
            </a:r>
            <a:br>
              <a:rPr sz="20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357120" y="1268280"/>
            <a:ext cx="84297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ργάνωση Υποδομών και Διαμόρφωση Περιβάλλοντος Εκπαίδευσης και Μάθησης</a:t>
            </a:r>
            <a:br>
              <a:rPr sz="3600"/>
            </a:br>
            <a:br>
              <a:rPr sz="3600"/>
            </a:b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Συγκεκριμένα, αποτυπώνονται ως σημαντικά προβλήματα της παρεχόμενης</a:t>
            </a:r>
            <a:br>
              <a:rPr sz="2800"/>
            </a:br>
            <a:r>
              <a:rPr b="0" lang="el-GR" sz="2800" spc="-1" strike="noStrike">
                <a:solidFill>
                  <a:srgbClr val="000000"/>
                </a:solidFill>
                <a:latin typeface="Times New Roman"/>
              </a:rPr>
              <a:t>εκπαίδευσης </a:t>
            </a:r>
            <a:br>
              <a:rPr sz="2800"/>
            </a:br>
            <a:r>
              <a:rPr b="0" lang="el-GR" sz="2800" spc="-1" strike="noStrike">
                <a:solidFill>
                  <a:srgbClr val="000000"/>
                </a:solidFill>
                <a:latin typeface="Times New Roman"/>
              </a:rPr>
              <a:t>η έλλειψη χώρου, καθώς και</a:t>
            </a:r>
            <a:br>
              <a:rPr sz="2800"/>
            </a:br>
            <a:r>
              <a:rPr b="0" lang="el-GR" sz="2800" spc="-1" strike="noStrike">
                <a:solidFill>
                  <a:srgbClr val="000000"/>
                </a:solidFill>
                <a:latin typeface="Times New Roman"/>
              </a:rPr>
              <a:t> η έλλειψη χρηματοδότησης για την αγορά</a:t>
            </a:r>
            <a:br>
              <a:rPr sz="2800"/>
            </a:br>
            <a:r>
              <a:rPr b="0" lang="el-GR" sz="2800" spc="-1" strike="noStrike">
                <a:solidFill>
                  <a:srgbClr val="000000"/>
                </a:solidFill>
                <a:latin typeface="Times New Roman"/>
              </a:rPr>
              <a:t>νέων βιβλίων και </a:t>
            </a:r>
            <a:br>
              <a:rPr sz="2800"/>
            </a:br>
            <a:r>
              <a:rPr b="0" lang="el-GR" sz="2800" spc="-1" strike="noStrike">
                <a:solidFill>
                  <a:srgbClr val="000000"/>
                </a:solidFill>
                <a:latin typeface="Times New Roman"/>
              </a:rPr>
              <a:t>εργαστηριακού εξοπλισμού.</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αρχιτεκτονική των σχολικών κτιρίων έχει ιδιαίτερη σημασία στο φαινόμενο της</a:t>
            </a:r>
            <a:br>
              <a:rPr sz="2800"/>
            </a:br>
            <a:r>
              <a:rPr b="0" lang="el-GR" sz="2800" spc="-1" strike="noStrike">
                <a:solidFill>
                  <a:srgbClr val="000000"/>
                </a:solidFill>
                <a:latin typeface="Times New Roman"/>
              </a:rPr>
              <a:t>αγωγής και αποπνέει το δικό της ψυχοπαιδαγωγικό κλίμα προδιαθέτοντας θετικά ή</a:t>
            </a:r>
            <a:br>
              <a:rPr sz="2800"/>
            </a:br>
            <a:r>
              <a:rPr b="0" lang="el-GR" sz="2800" spc="-1" strike="noStrike">
                <a:solidFill>
                  <a:srgbClr val="000000"/>
                </a:solidFill>
                <a:latin typeface="Times New Roman"/>
              </a:rPr>
              <a:t>αρνητικά όχι μόνο τη μάθηση, αλλά και την εσωτερική διάθεση των χρηστών και</a:t>
            </a:r>
            <a:br>
              <a:rPr sz="2800"/>
            </a:br>
            <a:r>
              <a:rPr b="0" lang="el-GR" sz="2800" spc="-1" strike="noStrike">
                <a:solidFill>
                  <a:srgbClr val="000000"/>
                </a:solidFill>
                <a:latin typeface="Times New Roman"/>
              </a:rPr>
              <a:t>ασκεί τη δική της παιδαγωγική επενέργεια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739" name="" descr=""/>
          <p:cNvPicPr/>
          <p:nvPr/>
        </p:nvPicPr>
        <p:blipFill>
          <a:blip r:embed="rId1"/>
          <a:stretch/>
        </p:blipFill>
        <p:spPr>
          <a:xfrm>
            <a:off x="0" y="0"/>
            <a:ext cx="9144000" cy="1368360"/>
          </a:xfrm>
          <a:prstGeom prst="rect">
            <a:avLst/>
          </a:prstGeom>
          <a:ln w="0">
            <a:noFill/>
          </a:ln>
        </p:spPr>
      </p:pic>
      <p:pic>
        <p:nvPicPr>
          <p:cNvPr id="740" name="" descr=""/>
          <p:cNvPicPr/>
          <p:nvPr/>
        </p:nvPicPr>
        <p:blipFill>
          <a:blip r:embed="rId2"/>
          <a:stretch/>
        </p:blipFill>
        <p:spPr>
          <a:xfrm>
            <a:off x="1258920" y="2060640"/>
            <a:ext cx="1297080" cy="1528560"/>
          </a:xfrm>
          <a:prstGeom prst="rect">
            <a:avLst/>
          </a:prstGeom>
          <a:ln w="0">
            <a:noFill/>
          </a:ln>
        </p:spPr>
      </p:pic>
      <p:pic>
        <p:nvPicPr>
          <p:cNvPr id="741" name="" descr=""/>
          <p:cNvPicPr/>
          <p:nvPr/>
        </p:nvPicPr>
        <p:blipFill>
          <a:blip r:embed="rId3"/>
          <a:stretch/>
        </p:blipFill>
        <p:spPr>
          <a:xfrm>
            <a:off x="6948360" y="1989000"/>
            <a:ext cx="1444680" cy="1573200"/>
          </a:xfrm>
          <a:prstGeom prst="rect">
            <a:avLst/>
          </a:prstGeom>
          <a:ln w="0">
            <a:noFill/>
          </a:ln>
        </p:spPr>
      </p:pic>
      <p:sp>
        <p:nvSpPr>
          <p:cNvPr id="742"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743"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268280"/>
            <a:ext cx="8748720" cy="45165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σιαρδής &amp; Πασιαρδή (2000) συγκαταλέγουν στους παράγοντε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αποτελεσματικότητα των σχολείων, μεταξύ άλλων, την υλικοτεχνική υποδομή και</a:t>
            </a:r>
            <a:r>
              <a:rPr b="0" lang="en-US" sz="2800" spc="-1" strike="noStrike">
                <a:solidFill>
                  <a:srgbClr val="000000"/>
                </a:solidFill>
                <a:latin typeface="Times New Roman"/>
              </a:rPr>
              <a:t> </a:t>
            </a:r>
            <a:r>
              <a:rPr b="0" lang="el-GR" sz="2800" spc="-1" strike="noStrike">
                <a:solidFill>
                  <a:srgbClr val="000000"/>
                </a:solidFill>
                <a:latin typeface="Times New Roman"/>
              </a:rPr>
              <a:t>τους </a:t>
            </a:r>
            <a:r>
              <a:rPr b="1" lang="el-GR" sz="2800" spc="-1" strike="noStrike">
                <a:solidFill>
                  <a:srgbClr val="000000"/>
                </a:solidFill>
                <a:latin typeface="Times New Roman"/>
              </a:rPr>
              <a:t>οικονομικούς πόρους</a:t>
            </a:r>
            <a:r>
              <a:rPr b="0" lang="el-GR" sz="2800" spc="-1" strike="noStrike">
                <a:solidFill>
                  <a:srgbClr val="000000"/>
                </a:solidFill>
                <a:latin typeface="Times New Roman"/>
              </a:rPr>
              <a:t>. </a:t>
            </a:r>
            <a:br>
              <a:rPr sz="2000"/>
            </a:br>
            <a:endParaRPr b="0" lang="en-US" sz="2800" spc="-1" strike="noStrike">
              <a:solidFill>
                <a:srgbClr val="000000"/>
              </a:solidFill>
              <a:latin typeface="Times New Roman"/>
            </a:endParaRPr>
          </a:p>
        </p:txBody>
      </p:sp>
      <p:grpSp>
        <p:nvGrpSpPr>
          <p:cNvPr id="559" name=""/>
          <p:cNvGrpSpPr/>
          <p:nvPr/>
        </p:nvGrpSpPr>
        <p:grpSpPr>
          <a:xfrm>
            <a:off x="0" y="306360"/>
            <a:ext cx="9140760" cy="6548400"/>
            <a:chOff x="0" y="306360"/>
            <a:chExt cx="9140760" cy="6548400"/>
          </a:xfrm>
        </p:grpSpPr>
        <p:grpSp>
          <p:nvGrpSpPr>
            <p:cNvPr id="560" name=""/>
            <p:cNvGrpSpPr/>
            <p:nvPr/>
          </p:nvGrpSpPr>
          <p:grpSpPr>
            <a:xfrm>
              <a:off x="0" y="306360"/>
              <a:ext cx="9140760" cy="6548400"/>
              <a:chOff x="0" y="306360"/>
              <a:chExt cx="9140760" cy="6548400"/>
            </a:xfrm>
          </p:grpSpPr>
          <p:sp>
            <p:nvSpPr>
              <p:cNvPr id="561" name=""/>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1268280"/>
            <a:ext cx="8748720" cy="45165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άλογα με την επάρκεια και την</a:t>
            </a:r>
            <a:r>
              <a:rPr b="0" lang="en-US" sz="2800" spc="-1" strike="noStrike">
                <a:solidFill>
                  <a:srgbClr val="000000"/>
                </a:solidFill>
                <a:latin typeface="Times New Roman"/>
              </a:rPr>
              <a:t> </a:t>
            </a:r>
            <a:r>
              <a:rPr b="0" lang="el-GR" sz="2800" spc="-1" strike="noStrike">
                <a:solidFill>
                  <a:srgbClr val="000000"/>
                </a:solidFill>
                <a:latin typeface="Times New Roman"/>
              </a:rPr>
              <a:t>καταλληλότητα διοχέτευσής τους, </a:t>
            </a:r>
            <a:r>
              <a:rPr b="1" lang="el-GR" sz="2800" spc="-1" strike="noStrike">
                <a:solidFill>
                  <a:srgbClr val="000000"/>
                </a:solidFill>
                <a:latin typeface="Times New Roman"/>
              </a:rPr>
              <a:t>οι οικονομικοί πόροι </a:t>
            </a:r>
            <a:r>
              <a:rPr b="0" lang="el-GR" sz="2800" spc="-1" strike="noStrike">
                <a:solidFill>
                  <a:srgbClr val="000000"/>
                </a:solidFill>
                <a:latin typeface="Times New Roman"/>
              </a:rPr>
              <a:t>διευκολύνουν ή περιορίζουν</a:t>
            </a:r>
            <a:r>
              <a:rPr b="0" lang="en-US" sz="2800" spc="-1" strike="noStrike">
                <a:solidFill>
                  <a:srgbClr val="000000"/>
                </a:solidFill>
                <a:latin typeface="Times New Roman"/>
              </a:rPr>
              <a:t> </a:t>
            </a:r>
            <a:r>
              <a:rPr b="0" lang="el-GR" sz="2800" spc="-1" strike="noStrike">
                <a:solidFill>
                  <a:srgbClr val="000000"/>
                </a:solidFill>
                <a:latin typeface="Times New Roman"/>
              </a:rPr>
              <a:t>τη λειτουργία της σχολικής μονάδας .</a:t>
            </a:r>
            <a:br>
              <a:rPr sz="2000"/>
            </a:br>
            <a:endParaRPr b="0" lang="en-US" sz="2800" spc="-1" strike="noStrike">
              <a:solidFill>
                <a:srgbClr val="000000"/>
              </a:solidFill>
              <a:latin typeface="Times New Roman"/>
            </a:endParaRPr>
          </a:p>
        </p:txBody>
      </p:sp>
      <p:grpSp>
        <p:nvGrpSpPr>
          <p:cNvPr id="568" name=""/>
          <p:cNvGrpSpPr/>
          <p:nvPr/>
        </p:nvGrpSpPr>
        <p:grpSpPr>
          <a:xfrm>
            <a:off x="0" y="306360"/>
            <a:ext cx="9140760" cy="6548400"/>
            <a:chOff x="0" y="306360"/>
            <a:chExt cx="9140760" cy="6548400"/>
          </a:xfrm>
        </p:grpSpPr>
        <p:grpSp>
          <p:nvGrpSpPr>
            <p:cNvPr id="569" name=""/>
            <p:cNvGrpSpPr/>
            <p:nvPr/>
          </p:nvGrpSpPr>
          <p:grpSpPr>
            <a:xfrm>
              <a:off x="0" y="306360"/>
              <a:ext cx="9140760" cy="6548400"/>
              <a:chOff x="0" y="306360"/>
              <a:chExt cx="9140760" cy="6548400"/>
            </a:xfrm>
          </p:grpSpPr>
          <p:sp>
            <p:nvSpPr>
              <p:cNvPr id="570" name=""/>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η χρηματοδότηση της δημόσιας εκπαίδευσης πραγματοποιείται, κατά</a:t>
            </a:r>
            <a:br>
              <a:rPr sz="2800"/>
            </a:br>
            <a:r>
              <a:rPr b="0" lang="el-GR" sz="2800" spc="-1" strike="noStrike">
                <a:solidFill>
                  <a:srgbClr val="000000"/>
                </a:solidFill>
                <a:latin typeface="Times New Roman"/>
              </a:rPr>
              <a:t>κύριο λόγο, από το κράτος μέσω του τακτικού προϋπολογισμού και του</a:t>
            </a:r>
            <a:br>
              <a:rPr sz="2800"/>
            </a:br>
            <a:r>
              <a:rPr b="0" lang="el-GR" sz="2800" spc="-1" strike="noStrike">
                <a:solidFill>
                  <a:srgbClr val="000000"/>
                </a:solidFill>
                <a:latin typeface="Times New Roman"/>
              </a:rPr>
              <a:t>Προγράμματος Δημοσίων Επενδύσεων και σε μικρότερο βαθμό από μη κρατικές</a:t>
            </a:r>
            <a:br>
              <a:rPr sz="2800"/>
            </a:br>
            <a:r>
              <a:rPr b="0" lang="el-GR" sz="2800" spc="-1" strike="noStrike">
                <a:solidFill>
                  <a:srgbClr val="000000"/>
                </a:solidFill>
                <a:latin typeface="Times New Roman"/>
              </a:rPr>
              <a:t>πηγές.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οσοστό των συνολικών χρηματοδοτικών πόρων που διατίθενται στην εκπαίδευση αποτελεί μια κρίσιμη απόφαση για τις εθνικές κυβερνήσεις.</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413000"/>
            <a:ext cx="75960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Πρόκειται για μια επένδυση της οποίας τα κέρδη γίνονται αντιληπτά μακροπρόθεσμα</a:t>
            </a:r>
            <a:br>
              <a:rPr sz="2800"/>
            </a:br>
            <a:r>
              <a:rPr b="0" lang="el-GR" sz="2800" spc="-1" strike="noStrike">
                <a:solidFill>
                  <a:srgbClr val="000000"/>
                </a:solidFill>
                <a:latin typeface="Times New Roman"/>
              </a:rPr>
              <a:t> και έχουν αισθητό αντίκτυπο</a:t>
            </a:r>
            <a:br>
              <a:rPr sz="2800"/>
            </a:br>
            <a:r>
              <a:rPr b="0" lang="el-GR" sz="2800" spc="-1" strike="noStrike">
                <a:solidFill>
                  <a:srgbClr val="000000"/>
                </a:solidFill>
                <a:latin typeface="Times New Roman"/>
              </a:rPr>
              <a:t>σε κρίσιμους τομείς, </a:t>
            </a:r>
            <a:br>
              <a:rPr sz="2800"/>
            </a:br>
            <a:r>
              <a:rPr b="0" lang="el-GR" sz="2800" spc="-1" strike="noStrike">
                <a:solidFill>
                  <a:srgbClr val="000000"/>
                </a:solidFill>
                <a:latin typeface="Times New Roman"/>
              </a:rPr>
              <a:t>όπως η κοινωνική συνοχή,</a:t>
            </a:r>
            <a:br>
              <a:rPr sz="2800"/>
            </a:br>
            <a:r>
              <a:rPr b="0" lang="el-GR" sz="2800" spc="-1" strike="noStrike">
                <a:solidFill>
                  <a:srgbClr val="000000"/>
                </a:solidFill>
                <a:latin typeface="Times New Roman"/>
              </a:rPr>
              <a:t>ο διεθνής ανταγωνισμός και η</a:t>
            </a:r>
            <a:br>
              <a:rPr sz="2800"/>
            </a:br>
            <a:r>
              <a:rPr b="0" lang="el-GR" sz="2800" spc="-1" strike="noStrike">
                <a:solidFill>
                  <a:srgbClr val="000000"/>
                </a:solidFill>
                <a:latin typeface="Times New Roman"/>
              </a:rPr>
              <a:t>βιώσιμη ανάπτυξη.</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απάνες για την εκπαίδευση διακρίνονται σε: </a:t>
            </a:r>
            <a:r>
              <a:rPr b="1" lang="el-GR" sz="2800" spc="-1" strike="noStrike">
                <a:solidFill>
                  <a:srgbClr val="000000"/>
                </a:solidFill>
                <a:latin typeface="Times New Roman"/>
              </a:rPr>
              <a:t>δαπάνες παγίου κεφαλαίου και </a:t>
            </a:r>
            <a:br>
              <a:rPr sz="2800"/>
            </a:br>
            <a:r>
              <a:rPr b="1" lang="el-GR" sz="2800" spc="-1" strike="noStrike">
                <a:solidFill>
                  <a:srgbClr val="000000"/>
                </a:solidFill>
                <a:latin typeface="Times New Roman"/>
              </a:rPr>
              <a:t>σε</a:t>
            </a:r>
            <a:br>
              <a:rPr sz="2800"/>
            </a:br>
            <a:r>
              <a:rPr b="1" lang="el-GR" sz="2800" spc="-1" strike="noStrike">
                <a:solidFill>
                  <a:srgbClr val="000000"/>
                </a:solidFill>
                <a:latin typeface="Times New Roman"/>
              </a:rPr>
              <a:t>τρέχουσες δαπάνες.</a:t>
            </a:r>
            <a:br>
              <a:rPr sz="2800"/>
            </a:br>
            <a:r>
              <a:rPr b="1" lang="el-GR" sz="2800" spc="-1" strike="noStrike">
                <a:solidFill>
                  <a:srgbClr val="000000"/>
                </a:solidFill>
                <a:latin typeface="Times New Roman"/>
              </a:rPr>
              <a:t>Οι δαπάνες παγίου κεφαλαίου </a:t>
            </a:r>
            <a:r>
              <a:rPr b="0" lang="el-GR" sz="2800" spc="-1" strike="noStrike">
                <a:solidFill>
                  <a:srgbClr val="000000"/>
                </a:solidFill>
                <a:latin typeface="Times New Roman"/>
              </a:rPr>
              <a:t>αφορούν στα έξοδα κατασκευής</a:t>
            </a:r>
            <a:br>
              <a:rPr sz="2800"/>
            </a:br>
            <a:r>
              <a:rPr b="0" lang="el-GR" sz="2800" spc="-1" strike="noStrike">
                <a:solidFill>
                  <a:srgbClr val="000000"/>
                </a:solidFill>
                <a:latin typeface="Times New Roman"/>
              </a:rPr>
              <a:t>και συντήρησης σχολικών κτιρίων και υποδομών, καθώς και στην προμήθεια και</a:t>
            </a:r>
            <a:br>
              <a:rPr sz="2800"/>
            </a:br>
            <a:r>
              <a:rPr b="0" lang="el-GR" sz="2800" spc="-1" strike="noStrike">
                <a:solidFill>
                  <a:srgbClr val="000000"/>
                </a:solidFill>
                <a:latin typeface="Times New Roman"/>
              </a:rPr>
              <a:t>συντήρηση του εξοπλισμού (πρόγραμμα δημοσίων επενδύσεων).</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τρέχουσες δαπάνες </a:t>
            </a:r>
            <a:r>
              <a:rPr b="0" lang="el-GR" sz="2800" spc="-1" strike="noStrike">
                <a:solidFill>
                  <a:srgbClr val="000000"/>
                </a:solidFill>
                <a:latin typeface="Times New Roman"/>
              </a:rPr>
              <a:t>αφορούν </a:t>
            </a:r>
            <a:br>
              <a:rPr sz="2800"/>
            </a:br>
            <a:r>
              <a:rPr b="0" lang="el-GR" sz="2800" spc="-1" strike="noStrike">
                <a:solidFill>
                  <a:srgbClr val="000000"/>
                </a:solidFill>
                <a:latin typeface="Times New Roman"/>
              </a:rPr>
              <a:t>σε αγαθά και υπηρεσίες για την υποστήριξη της  διαδικασίας ενώ σε αυτές συμπεριλαμβάνονται</a:t>
            </a:r>
            <a:br>
              <a:rPr sz="2800"/>
            </a:br>
            <a:r>
              <a:rPr b="0" lang="el-GR" sz="2800" spc="-1" strike="noStrike">
                <a:solidFill>
                  <a:srgbClr val="000000"/>
                </a:solidFill>
                <a:latin typeface="Times New Roman"/>
              </a:rPr>
              <a:t>οι μισθοί εκπαιδευτικού και διοικητικού προσωπικού, </a:t>
            </a:r>
            <a:br>
              <a:rPr sz="2800"/>
            </a:br>
            <a:r>
              <a:rPr b="0" lang="el-GR" sz="2800" spc="-1" strike="noStrike">
                <a:solidFill>
                  <a:srgbClr val="000000"/>
                </a:solidFill>
                <a:latin typeface="Times New Roman"/>
              </a:rPr>
              <a:t>η παραγωγή εκπαιδευτικού υλικού και μέσων, διάφορες επιδοτήσεις και ενοικιάσεις κτιρίων (τακτικός προϋπολογισμός).</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51Z</dcterms:modified>
  <cp:revision>154</cp:revision>
  <dc:subject/>
  <dc:title>Παρουσίαση του PowerPoint</dc:title>
</cp:coreProperties>
</file>