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25719-5FF4-4EE2-B807-7D54CF7F8817}"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B7C62F-2513-4DE2-AAEA-9773889B2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985680" y="741240"/>
            <a:ext cx="4886640" cy="3665520"/>
          </a:xfrm>
          <a:prstGeom prst="rect">
            <a:avLst/>
          </a:prstGeom>
          <a:ln w="0">
            <a:noFill/>
          </a:ln>
        </p:spPr>
      </p:sp>
      <p:sp>
        <p:nvSpPr>
          <p:cNvPr id="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4BAFC-4487-4FBA-8585-F05C28FEF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985680" y="741240"/>
            <a:ext cx="4886640" cy="3665520"/>
          </a:xfrm>
          <a:prstGeom prst="rect">
            <a:avLst/>
          </a:prstGeom>
          <a:ln w="0">
            <a:noFill/>
          </a:ln>
        </p:spPr>
      </p:sp>
      <p:sp>
        <p:nvSpPr>
          <p:cNvPr id="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EAFE63-5C7B-4426-A680-BF837B5C0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985680" y="741240"/>
            <a:ext cx="4886640" cy="3665520"/>
          </a:xfrm>
          <a:prstGeom prst="rect">
            <a:avLst/>
          </a:prstGeom>
          <a:ln w="0">
            <a:noFill/>
          </a:ln>
        </p:spPr>
      </p:sp>
      <p:sp>
        <p:nvSpPr>
          <p:cNvPr id="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018AB-D835-43E3-A7F5-706DC3DE9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985680" y="741240"/>
            <a:ext cx="4886640" cy="3665520"/>
          </a:xfrm>
          <a:prstGeom prst="rect">
            <a:avLst/>
          </a:prstGeom>
          <a:ln w="0">
            <a:noFill/>
          </a:ln>
        </p:spPr>
      </p:sp>
      <p:sp>
        <p:nvSpPr>
          <p:cNvPr id="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60DF9-9FE1-4F7E-A971-CC053C3D6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985680" y="741240"/>
            <a:ext cx="4886640" cy="3665520"/>
          </a:xfrm>
          <a:prstGeom prst="rect">
            <a:avLst/>
          </a:prstGeom>
          <a:ln w="0">
            <a:noFill/>
          </a:ln>
        </p:spPr>
      </p:sp>
      <p:sp>
        <p:nvSpPr>
          <p:cNvPr id="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4ECBC-EF50-4275-86A2-0C98D7F17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985680" y="741240"/>
            <a:ext cx="4886640" cy="3665520"/>
          </a:xfrm>
          <a:prstGeom prst="rect">
            <a:avLst/>
          </a:prstGeom>
          <a:ln w="0">
            <a:noFill/>
          </a:ln>
        </p:spPr>
      </p:sp>
      <p:sp>
        <p:nvSpPr>
          <p:cNvPr id="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6E2C18-6CBE-49FD-8222-66AAC1849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985680" y="741240"/>
            <a:ext cx="4886640" cy="3665520"/>
          </a:xfrm>
          <a:prstGeom prst="rect">
            <a:avLst/>
          </a:prstGeom>
          <a:ln w="0">
            <a:noFill/>
          </a:ln>
        </p:spPr>
      </p:sp>
      <p:sp>
        <p:nvSpPr>
          <p:cNvPr id="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0E0439-B8FB-4A27-A43A-9915B1CE9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985680" y="741240"/>
            <a:ext cx="4886640" cy="3665520"/>
          </a:xfrm>
          <a:prstGeom prst="rect">
            <a:avLst/>
          </a:prstGeom>
          <a:ln w="0">
            <a:noFill/>
          </a:ln>
        </p:spPr>
      </p:sp>
      <p:sp>
        <p:nvSpPr>
          <p:cNvPr id="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E4ACFE-AC77-4B9F-98B3-A3317CEA0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985680" y="741240"/>
            <a:ext cx="4886640" cy="3665520"/>
          </a:xfrm>
          <a:prstGeom prst="rect">
            <a:avLst/>
          </a:prstGeom>
          <a:ln w="0">
            <a:noFill/>
          </a:ln>
        </p:spPr>
      </p:sp>
      <p:sp>
        <p:nvSpPr>
          <p:cNvPr id="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26A36-3DBE-4837-89A8-B1D03A242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985680" y="741240"/>
            <a:ext cx="4886640" cy="3665520"/>
          </a:xfrm>
          <a:prstGeom prst="rect">
            <a:avLst/>
          </a:prstGeom>
          <a:ln w="0">
            <a:noFill/>
          </a:ln>
        </p:spPr>
      </p:sp>
      <p:sp>
        <p:nvSpPr>
          <p:cNvPr id="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B0B6A-B0C3-4653-8893-A814A6E62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985680" y="741240"/>
            <a:ext cx="4886640" cy="3665520"/>
          </a:xfrm>
          <a:prstGeom prst="rect">
            <a:avLst/>
          </a:prstGeom>
          <a:ln w="0">
            <a:noFill/>
          </a:ln>
        </p:spPr>
      </p:sp>
      <p:sp>
        <p:nvSpPr>
          <p:cNvPr id="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C2D65-8D09-4890-B448-A037B036D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955BE-216B-4D33-BD70-0CC48CDA8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304A08-F87B-4DC7-BCA3-7AE4419B6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B553C7-19A6-444D-A183-7867B2A8D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985680" y="741240"/>
            <a:ext cx="4886640" cy="3665520"/>
          </a:xfrm>
          <a:prstGeom prst="rect">
            <a:avLst/>
          </a:prstGeom>
          <a:ln w="0">
            <a:noFill/>
          </a:ln>
        </p:spPr>
      </p:sp>
      <p:sp>
        <p:nvSpPr>
          <p:cNvPr id="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DE5161-CDAA-4E71-8360-16058E251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985680" y="741240"/>
            <a:ext cx="4886640" cy="3665520"/>
          </a:xfrm>
          <a:prstGeom prst="rect">
            <a:avLst/>
          </a:prstGeom>
          <a:ln w="0">
            <a:noFill/>
          </a:ln>
        </p:spPr>
      </p:sp>
      <p:sp>
        <p:nvSpPr>
          <p:cNvPr id="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B6204-E927-4E2F-B34F-E6F9D8EAB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985680" y="741240"/>
            <a:ext cx="4886640" cy="3665520"/>
          </a:xfrm>
          <a:prstGeom prst="rect">
            <a:avLst/>
          </a:prstGeom>
          <a:ln w="0">
            <a:noFill/>
          </a:ln>
        </p:spPr>
      </p:sp>
      <p:sp>
        <p:nvSpPr>
          <p:cNvPr id="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D4A979-C7AD-40DC-A791-4104E5CE6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985680" y="741240"/>
            <a:ext cx="4886640" cy="3665520"/>
          </a:xfrm>
          <a:prstGeom prst="rect">
            <a:avLst/>
          </a:prstGeom>
          <a:ln w="0">
            <a:noFill/>
          </a:ln>
        </p:spPr>
      </p:sp>
      <p:sp>
        <p:nvSpPr>
          <p:cNvPr id="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E9190-4673-4EDA-BE56-E9EEF43CA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985680" y="741240"/>
            <a:ext cx="4886640" cy="3665520"/>
          </a:xfrm>
          <a:prstGeom prst="rect">
            <a:avLst/>
          </a:prstGeom>
          <a:ln w="0">
            <a:noFill/>
          </a:ln>
        </p:spPr>
      </p:sp>
      <p:sp>
        <p:nvSpPr>
          <p:cNvPr id="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3F521-5C34-473C-B859-CD4887713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985680" y="741240"/>
            <a:ext cx="4886640" cy="3665520"/>
          </a:xfrm>
          <a:prstGeom prst="rect">
            <a:avLst/>
          </a:prstGeom>
          <a:ln w="0">
            <a:noFill/>
          </a:ln>
        </p:spPr>
      </p:sp>
      <p:sp>
        <p:nvSpPr>
          <p:cNvPr id="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4EB4F-E762-4592-BAFB-72E611040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985680" y="741240"/>
            <a:ext cx="4886640" cy="3665520"/>
          </a:xfrm>
          <a:prstGeom prst="rect">
            <a:avLst/>
          </a:prstGeom>
          <a:ln w="0">
            <a:noFill/>
          </a:ln>
        </p:spPr>
      </p:sp>
      <p:sp>
        <p:nvSpPr>
          <p:cNvPr id="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77F334-5EEF-48AE-A353-DF32FE9358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70C506C-3718-487D-9A61-C9A20178438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94286FD6-DF32-4DE2-8637-6FF11B298E0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08FCB457-07CD-4513-B9E7-3C51063F854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C197D72C-EE5B-409B-9147-96F28CA2460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F5EAA9B-70AF-4B61-BDD0-1CC9DDDCAC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318368C-AA54-48D7-9634-13A910AF094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88FA58F-C209-4E7C-9EEF-996DF3E36D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2B0E9D5-3E6B-45DC-A3AD-0D1DADF592D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8BA19575-E619-4A5A-B1E8-FEF89CF7CEC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A9CBF810-A02C-4BD2-AC0F-D3ADBDE5594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BF5CB5D-B020-48FC-9750-DED91E5650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0A0CB74-4545-45F7-A7E1-F29D0C7D4EE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75F943F-69F0-4668-AF26-CF650055F5A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3F5B473-4935-4425-9FF3-ECC5246E838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805D06B-263C-4D68-BB1D-2892FF4016E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7F5BD17D-6E96-426A-B55E-703C9B02FAE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3E04A14C-5B38-46A6-B8C4-DE348962B7A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49D375E-02BD-44F4-B782-22AC75A879D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DC24220-90E4-44FA-AE6A-6F188070E28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FDA21A6-8D74-42D0-BEB3-D8F63DBCE10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2950BAA-A1A5-4F85-81CB-F8E6DDE4211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8FE14A37-8DDB-4297-95DE-E9806FC461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AC75398-48D9-49CE-AB91-77597481886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9A78711B-9C02-44A0-AF6E-C483126FAAA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66BAEF4-A2F2-428F-96F3-631515AB88B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81DEA09-CA72-456D-899A-EDCA5C030B6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878308C-DE51-42F4-B441-0C166C16B58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A770A54-0C03-4EEB-A7C0-F82D34CE0F0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417DB4F6-5712-420B-92F9-34C9797799C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62F7AF49-55D5-4496-B10A-816E3C89491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CB999D9-B973-40E0-A3FB-581BDE3FBC2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DA144C1-23A9-46FA-9E84-58054D5B751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35AFFCE-5C52-4D4B-9E2E-DA62B636DC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41DFC4-09D9-4335-8D51-B821888C1A5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DC67D131-E58B-4FCD-B2C3-6AA3202BE02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741F2693-503E-4CF9-A57A-B3D867EAF76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A9CD1E5C-8CD6-4FED-8D68-7F290A0F1F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E312433-1A59-4C28-963E-3A7AB47DD49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9D97D7A-65B4-47D8-9885-CA362158B08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9F38F47-7B78-4275-AF8D-6BBC5A65126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0A09DC7-E668-47FA-88BA-674411F24F6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5FC045C0-8BE5-414F-A0F0-2AADF1316F6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D0DF80E8-9360-4C6E-939A-10208B6A84D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9713B0E-D78B-45DA-A54D-5F7C5B8413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A5CC265-AD1B-4B4D-8909-7B4BB15CE5B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DA7319D-2D9D-455D-B7E6-9342834C814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17A7558-8680-4DCD-B138-A010B1A4914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42480E5-63DB-4B16-88AE-AE39348BC63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3FFC5774-6AC3-4005-8A44-8121EDCB477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9B947373-5BCD-4369-9EC6-51C6A169D30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B8EB9E6-053D-4727-B863-05F6A6E611E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1589DF3-210F-40B3-9C74-7D3EA34FAD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6634CC5-C427-4197-A0C0-793C9EB3DF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D1A5199-39A8-4FD8-9384-1C4DCA933A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146BB58A-CD9E-4FD0-84D7-315BC376EB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7503CED-5D8E-4AD4-BD74-872471FDF93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8659D00D-8DCF-4005-A050-E23CD46358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F42207B-0CB4-4F0D-BD54-3D758D137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B08DF37-71CE-43C7-8AB9-EF4AC83E09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A7D9DBD-E827-4304-974D-245A84B3C1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1276CD4-1675-4F0F-9393-6110635564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D7D8386B-428C-4AEA-A0B5-4B8DA5BA2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8BA1623F-C8B5-4942-8FD9-82D37AA4CFF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5C31567-CC15-430F-A9C5-BCE49F57F7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C82E4F4B-72B9-4B8A-A0C1-79DAFCC9CB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75613BF-6E9B-4E45-8356-30124FDBCA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89AABA1-1A18-4204-B784-49C5680D0F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04CE3D5-AB98-428F-B061-703D604292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AC8493A-7304-4268-AC7F-D8D5E8DDF0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D36944E-8261-4D84-B04E-BE04E7F6A5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045218A-33F4-4230-8C57-24F7E9FF3F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EE77967-5B3F-47EE-B9F3-BE74CA2B08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E74EA45-1FA5-400E-929F-0531EF2EE0D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3164B3-2B94-428C-8574-041C3BA592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F9A07E-533F-43E5-9407-06C834C054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73F3F0-9866-4CB7-970F-4358CB941F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1B73CB9-4695-4165-9401-1D648C015AF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35A688-8D9A-4044-A629-CFC1C320C3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1B9E3B9-7B8A-4526-A2C8-ACB6472EAA3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4223DB2-9B66-4474-BBF6-B27A06A2F24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02EE741-0990-40D5-B96A-E213C5802E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130ED5C-A056-42F1-BAFF-9B96322150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823A635-85D8-4D56-B6EC-2A068DA857B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91B4AE1-29FA-424B-8625-44C8811627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B85B3E0-D8C6-4E6C-885F-CBC15218C4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600B77BC-446C-4698-AEB5-94FB54D907B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DFEA9D-65BD-498C-B3D3-E6A83199097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92A473C-BCE8-4644-997D-1EC4D984F5C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457D76E-1CE6-438C-B7B3-54901922F5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5B2866F-36F5-45B9-9FE8-CAF947FB358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9BCB8BA-50B2-4C9D-93EA-375737D2ADF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C4E4A473-B343-4B4F-8210-5B00620B035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D825BF7-4179-45E8-BBE7-E20F433ABFD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55E260C-DDCE-47C6-9C1A-A7FFBB39A25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A27A1F8-1FA1-4438-9774-49BA14A5195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7E375A8-A98F-4A00-84E5-DB517517768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96BFA7F-8128-4581-A5FF-7BE1FC8D7AE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A041088A-8910-4A5E-BA07-5D148F5866E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C9B7C0FF-952D-451D-875A-25E84BC2D98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C62E3AF-A47C-43F8-B6D1-84F9E9E8A1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40700D0-49C4-4DA8-A57A-6640C6A7F5B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B98FA77-6F3E-4BB8-83F2-B69C9118540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5F231CD-80EF-419E-8390-223450BEEB3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3743238-6847-4E7A-AC1A-31487F640B8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09808ACE-9C6C-4311-BEA1-0EFF3132B9A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17E54FD2-1B23-4041-AB70-6915687FBCE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269406D-DB4F-4844-86A9-78C13A241BC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D44786A-7D7A-4B97-9377-28C7BA18B0F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2413A13-3C01-479B-8715-F8144E73A19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8C75315-B781-4CC8-ABA8-8FA1B434118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B5A17A59-DAFA-4495-B2F1-B557416A32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D08A263-DFFF-46E5-B452-093B6A05D49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147CB881-09FE-4EAD-9018-C0E6D3763D9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3A1DED4-784B-4EE5-B0B1-B57CC054293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28243A1-DC0F-44C8-9432-622B57F067B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05BFDF0-A2AD-4686-8571-B80A3B4DE8F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4B5CE58-2909-4AD1-90E0-323DEC96012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DE104E21-B0AA-4D80-8CA7-B9DDBD82A80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71134249-0E47-4E44-B328-0DB35379C46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CED4A17-DD59-49FB-8DC4-D21421D19CA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91BB5A2-FEA9-4F3F-A31A-A4E44B101D6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9143A48-5E7F-439E-899A-98B9B15D3E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4519F73-3FCA-4765-AE8C-A14E38885A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3F1F91D-38F9-4CE3-9704-594F6D6C313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5F56C56-71AF-4F55-8F36-30701A413AB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96FF7671-9DD5-4680-A4A1-598758881F8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3A2A774-9972-4F70-9339-5035AE56DE9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C1CFB16-F346-4414-A398-C6CD4A574A8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CEB71F5-A5A4-46F8-B80E-FF91880831B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C530BBF-0EBD-4C25-A86A-A50D475A472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BC3E4CDE-81CB-4E94-A2C3-EAA1217CACF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72A47A2F-D97B-4841-8017-AE8FD91B08B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C284CFB-017A-4AB2-9866-B00F0C85BD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233CFF2-1BC2-4F5F-BC07-7A02B362028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1A3CB98-0EBB-454D-B438-FEEA7B2B652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8C2E6A2-4A38-4C97-9942-75DBE0BEA9E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002C517-E36A-4670-8460-FE8367E63C5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EEFDBE3C-BF90-4D16-8D63-46003EBA1DD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C49F289-EFEB-4AAE-9A05-29B9A5315CE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A02CAA4-D7DD-4BBC-89B5-9DB8FB4C39B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AD69F75-C807-48F6-BE78-41827BA8488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4185A1E-8962-4837-A9CB-F3AE09A7F99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6D39E20-FD55-4374-B903-CAD28CDF8EE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0338B07E-31C8-49CE-A198-AE29DD4DED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48D7CC9-65DF-40B5-8A76-3A221354224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09F1470-ABA4-4473-9F48-00FDD26C8AC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920A0BD-05D8-46EC-BA6E-5BC697CAC85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CFF5513-CAB7-44DA-9B5A-65A2DE16B6D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B1DC180-5DB6-45AF-B333-2A35D543AA2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EF04061-9285-4A9E-9932-7628F849AA9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01912DB0-4B88-45BD-A66F-C4F425F88AD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491C0791-3BBE-47FB-AA5A-E5D19934014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860BB8B-CC92-40EA-8D63-6D4086D5607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612898E-8FC3-434F-859B-9D3FCBB9825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F3B5784-ABA4-45C5-A6D5-43F1903031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91AA60-704F-44C1-85AB-913304317B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CA2FB6-77F4-45D7-9460-3C64E3359D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281F80-9BAA-4689-B0F7-54A79F5C5D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1AD1B-695B-4681-BF31-C4069096A5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3C3B6B-0392-451A-B6C8-988E8A83131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288FC-D979-4144-90B7-2C597AC0CB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F3A72-51CE-474B-B668-E45CF070A2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2D7B7-DAB3-40F7-930C-FC51E88559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16FC9-635A-435F-B202-C2E66D5641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9A5D3-8FD1-4BBC-BEB4-DBA7D330D1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CA8D95-305E-4919-BDE9-8F266F14D6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91C34-1206-4066-B36D-859C3F2680D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CCB2B-75DC-4D21-8590-ACC6C3F82D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39640" y="981000"/>
            <a:ext cx="820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539640" y="981000"/>
            <a:ext cx="820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357120" y="1268280"/>
            <a:ext cx="84297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39" name="" descr=""/>
          <p:cNvPicPr/>
          <p:nvPr/>
        </p:nvPicPr>
        <p:blipFill>
          <a:blip r:embed="rId1"/>
          <a:stretch/>
        </p:blipFill>
        <p:spPr>
          <a:xfrm>
            <a:off x="0" y="0"/>
            <a:ext cx="9144000" cy="1368360"/>
          </a:xfrm>
          <a:prstGeom prst="rect">
            <a:avLst/>
          </a:prstGeom>
          <a:ln w="0">
            <a:noFill/>
          </a:ln>
        </p:spPr>
      </p:pic>
      <p:pic>
        <p:nvPicPr>
          <p:cNvPr id="740" name="" descr=""/>
          <p:cNvPicPr/>
          <p:nvPr/>
        </p:nvPicPr>
        <p:blipFill>
          <a:blip r:embed="rId2"/>
          <a:stretch/>
        </p:blipFill>
        <p:spPr>
          <a:xfrm>
            <a:off x="1258920" y="2060640"/>
            <a:ext cx="1297080" cy="1528560"/>
          </a:xfrm>
          <a:prstGeom prst="rect">
            <a:avLst/>
          </a:prstGeom>
          <a:ln w="0">
            <a:noFill/>
          </a:ln>
        </p:spPr>
      </p:pic>
      <p:pic>
        <p:nvPicPr>
          <p:cNvPr id="741" name="" descr=""/>
          <p:cNvPicPr/>
          <p:nvPr/>
        </p:nvPicPr>
        <p:blipFill>
          <a:blip r:embed="rId3"/>
          <a:stretch/>
        </p:blipFill>
        <p:spPr>
          <a:xfrm>
            <a:off x="6948360" y="1989000"/>
            <a:ext cx="1444680" cy="1573200"/>
          </a:xfrm>
          <a:prstGeom prst="rect">
            <a:avLst/>
          </a:prstGeom>
          <a:ln w="0">
            <a:noFill/>
          </a:ln>
        </p:spPr>
      </p:pic>
      <p:sp>
        <p:nvSpPr>
          <p:cNvPr id="742"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268280"/>
            <a:ext cx="874872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559" name=""/>
          <p:cNvGrpSpPr/>
          <p:nvPr/>
        </p:nvGrpSpPr>
        <p:grpSpPr>
          <a:xfrm>
            <a:off x="0" y="306360"/>
            <a:ext cx="9140760" cy="6548400"/>
            <a:chOff x="0" y="306360"/>
            <a:chExt cx="9140760" cy="6548400"/>
          </a:xfrm>
        </p:grpSpPr>
        <p:grpSp>
          <p:nvGrpSpPr>
            <p:cNvPr id="560" name=""/>
            <p:cNvGrpSpPr/>
            <p:nvPr/>
          </p:nvGrpSpPr>
          <p:grpSpPr>
            <a:xfrm>
              <a:off x="0" y="306360"/>
              <a:ext cx="9140760" cy="6548400"/>
              <a:chOff x="0" y="306360"/>
              <a:chExt cx="9140760" cy="6548400"/>
            </a:xfrm>
          </p:grpSpPr>
          <p:sp>
            <p:nvSpPr>
              <p:cNvPr id="561" name=""/>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268280"/>
            <a:ext cx="874872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000000"/>
              </a:solidFill>
              <a:latin typeface="Times New Roman"/>
            </a:endParaRPr>
          </a:p>
        </p:txBody>
      </p:sp>
      <p:grpSp>
        <p:nvGrpSpPr>
          <p:cNvPr id="568" name=""/>
          <p:cNvGrpSpPr/>
          <p:nvPr/>
        </p:nvGrpSpPr>
        <p:grpSpPr>
          <a:xfrm>
            <a:off x="0" y="306360"/>
            <a:ext cx="9140760" cy="6548400"/>
            <a:chOff x="0" y="306360"/>
            <a:chExt cx="9140760" cy="6548400"/>
          </a:xfrm>
        </p:grpSpPr>
        <p:grpSp>
          <p:nvGrpSpPr>
            <p:cNvPr id="569" name=""/>
            <p:cNvGrpSpPr/>
            <p:nvPr/>
          </p:nvGrpSpPr>
          <p:grpSpPr>
            <a:xfrm>
              <a:off x="0" y="306360"/>
              <a:ext cx="9140760" cy="6548400"/>
              <a:chOff x="0" y="306360"/>
              <a:chExt cx="9140760" cy="6548400"/>
            </a:xfrm>
          </p:grpSpPr>
          <p:sp>
            <p:nvSpPr>
              <p:cNvPr id="570" name=""/>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413000"/>
            <a:ext cx="75960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51Z</dcterms:modified>
  <cp:revision>154</cp:revision>
  <dc:subject/>
  <dc:title>Παρουσίαση του PowerPoint</dc:title>
</cp:coreProperties>
</file>