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79377-8B14-4B0A-B93B-F93D95B596F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D34CE-BC57-44C4-91A7-BCDEF87AD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1357E-09D5-4BD1-844A-F17D9EA81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84A93-9B8E-4ED2-822B-B9D3BF766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29423-6B0D-45DB-BEFE-95BAE4FD7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5DFE1-190D-49C3-AC81-CFAF033D1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C5AFE-6530-44B3-B827-04E7BB6B4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5A1C4-504C-46DE-AADA-3B54C33D5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E0B3E-4B5E-4A3C-9D32-A4D2A15E1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A8C0C-8F59-4286-919A-0E9EEBD93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764EA-73D7-4351-B3BF-995FAC928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D723B-9148-4FF7-BE01-67C22925C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1C153-E06E-4ABB-8A31-E88CF0168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C1915-6725-4186-BFA5-81517435E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A010E-F0D2-44A0-B5D9-218AFE99A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8610D-91B6-477B-AE3F-94A9624CE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CB2F3-20A4-4D8C-81A9-A62F06FCC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3ECEA-19E2-4589-829B-869DC38B0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E7A92-E5F6-4D88-B7BB-E430B1EBE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EC503-367E-4DA2-A79A-098FBC5F0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DC24C-41FC-4BAA-90AE-E0E1BBBDF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F04FE-264D-4DAC-9791-13BA1F68A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1F719-1E75-4E75-98C9-F7CE4371E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3B492-4BE1-4799-B537-0089A6A8B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1D4C0-0C1C-47A4-8FC1-D9906D064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AA53E-11C4-4FB4-BA11-CFD8222E3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34C48-9C85-4114-8E4A-C60BCD92D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18019-C4FD-4D69-8169-3A2FEED86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643F5-150B-41A7-BAFF-50EECC0DA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5242C-AC39-4975-8B2C-1836CFCEB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83E34-1C4E-48E3-8896-B255209C0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26085-1EC3-4066-8B2C-961D4D117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F6F00-EAD8-454F-AD0B-CC6D60EC6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985CC-1DB2-4B22-BA94-9D983266C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01D25-B108-4B51-A99D-2FAFE072E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5C389-AFB1-445A-8621-5E4BC4FEA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E7D5168-5A66-4DB7-A5A3-E3F89E26FD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2F54D24-E8B4-40C4-AE59-2A89D24A83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69715EF-B7F8-4D1A-BD4E-A5C00BDA87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54FBEEF-020F-4E49-AE43-95C41659CB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B3951CC-B96F-4319-856B-B97570E5BC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44B4B4B-DBDB-4A3B-B92C-4873AE4EDC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11F8F38-046E-45E9-9AE7-58706DEC06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EFDA19F-CF57-48E2-93DE-5B08E89561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3E37E96-5393-437C-86FF-DCB41F08F2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C3F54FC-734D-402C-BB34-3837BEE77BB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E3C3B9-6B10-4ECB-911B-92717ECE9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FDB10D4-949C-4B12-91E0-0F6D3D82B4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99D9979-CFC8-47D6-837F-4E78C01FEEC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231838A-3B75-4993-9283-590784B7FA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0B296C9-64B7-411F-BE5D-C450992EBA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C60853D-9845-4DCF-A51A-434D823566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4E7D936-B445-44D5-BD29-F6B764D5C5F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566EE32-E229-499E-86CE-A443562ACE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9224BFC-0E72-490D-BA96-EBE3ACD4FC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41FC6FA-E2F2-4578-BCE5-D17C9AE90E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5517098-C1B5-4317-A563-398F99F57B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052B4D9-0509-41A4-A0E4-0A771A108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A67C68C-FFCD-4597-9E3B-0F5435823C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1FB2376-D1C9-4B30-A23D-15EF271C01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8DAFEE0-3A07-4FBD-91C6-BE1D6A3535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D2F3B3D-A758-48F6-B467-18F6025FCD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5D74125-FF89-4446-916B-8F7B3DEF4BF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8C0DFF3-1610-441C-B5E0-AB69C667E28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C08E77D-1F81-46F5-B8A7-79C2D202F56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031C669-775A-439B-BCBE-D4413F6FB2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7EB6290-BF62-45CF-A82D-811412BB05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DEE0774-FCB6-4188-9BE0-2A403B477C9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BEA90B8-0197-4D41-843F-033818E60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768817-4CC5-40E0-8C80-267CCAB4513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9337AF7-097E-4BAA-9932-19FE46A418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C1AFFBE-C1BB-4E8A-8472-859B085693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2A18683-7680-4802-AB20-029DC0857A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3553957-80F6-43AE-A946-6C336795D4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65D48DD-1936-4DA9-A26A-013B0F49FF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15883E6-1A57-475A-8E74-79684BB394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E47985B-FC97-4B95-BEC6-DA478DF35D3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724786F-E051-42B9-A6CB-BB5EE2FDED1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707BAF5-1CFC-4480-8E97-88F1B32867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D63E434-63EB-4BE1-916A-CAD267B97C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779625E-7E03-46C4-B757-83EDF04A022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FEFA813-E6ED-4DB0-A45B-C5A1B410B7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14F102B-FD12-4E27-BB23-D52247F529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DE13E75-28B0-43C8-85AD-D7D4B88893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B9C7530-D80F-4DE4-BA9D-525342170C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EBFA7FE-28EC-46F5-8898-2965793A435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7D1EDE9-32EE-4A8F-8CFD-1200ADDEAB0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410EE50-3800-453D-8CB1-E33D2AC1F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7705BF6-A95B-4350-A77F-9CDBEB5CD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C6FA1D9-BD1C-4166-8AEC-314876002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0291BE7-A8F7-489C-86A1-307406B204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D114F9-72C6-4BE1-8654-389CF7B180D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24B3E58-8CD3-45D6-849B-4B23412AB2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01F863A-B581-45D6-9ECB-3E1E9784F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213EEC5-54B3-4589-B627-BBE4BE48F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197F91F-B9C3-44C7-A23D-2B1B3E13D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107C178-7BFA-478D-AD77-5BF408B93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3578609-D780-4ABD-8FF8-88075778F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39A3752-3DE8-4095-BF9A-3730E3587E2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F0E85E-65CE-4B6C-A542-31046145A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83C1140-4506-43BF-BD7E-240B2E2D85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95346D9-281A-4D0E-9C14-FF9836722E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AF679A-B23A-43BE-8958-A0624D2C41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13B48B-D5EF-4705-8E63-AF55C60B9C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89458C-0BFA-4A9B-B8DC-014B58CD0B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FAA832-C1D8-434C-961E-A281A70C7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C315938-1DF2-4517-8841-D8113D843F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C227B5A-2983-44AE-9567-578D8D18A2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1D8E515-70A2-48F9-BDDC-60F994DEEF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7899E0-C72B-44F7-A011-192D6125D1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76090A-5A61-413C-9F8A-9911579616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99FC2F-AAD0-46E7-85D1-02B68F9678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6983A40-790C-4D49-A71A-E5B87C525E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DCD2BE-3914-4969-9786-47C1AD65B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64BAAE-2D14-4D44-92E9-69EF48F896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5DC3612-B20A-49B7-A7C5-01D9CCCB70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91D0C17-E406-4DE1-ADA8-E16E9DB1A2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6150E0C-964F-4E9E-BC63-B54EF6A5AB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BF33FAC-83AF-4D70-AD26-073DE0F4A2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F1B94E0-5DF1-4227-83DB-E843D14505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38B787D-DDB5-4704-A156-386FB18114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71932E5-796F-4B07-BC04-364C290336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0532C7-78DE-4555-A9DC-613F6B6DBF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BD898B1-C4E1-4757-B062-B11483C148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4F986D1-7E37-4EFA-9819-73DEB1E957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E9506D8-7D85-4C23-BF21-99423DFC6F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A46B27E-2A2E-409B-A636-1A2E4A3F4A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E4878CB-E7EA-42D8-AAEF-BC004F9584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86E3114-3369-4B32-80F0-ACFC5BADCB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97EE20F-F44A-4044-A53E-F4E2595DD2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052032A-101B-4BD0-9193-D8CE9028FB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2AB00AC-99F2-4D75-854E-C5D84F90AF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66DF316-B99B-447D-BC45-4E475A37EBE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6E14FDA-D433-4E1F-B424-AECC41EC2B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32FF5CB-7786-4D81-8BB8-7D4B19173E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553CFB-FD7C-4D27-99BC-9096A9757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40E19A5-ED6C-418C-AE14-5C8AE76F8E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D849C35-9CD3-48B1-826E-B826D4BFC3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28A4D6A-51D8-4A58-8179-D84368DA52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113B40F-54B6-4835-8B6B-E466CCD7C6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C28E3EA-C071-4556-84B8-22252757C02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47325A7-2EE9-43CD-929A-66EE0CA3E5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E7B91BC-C7E0-42B9-B164-18D7EE29B7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AEBF867-577F-4CA6-B68D-F1FB30077B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E1F5970-9613-4819-B8DA-36D4804E0F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B4B6B25-7195-4A99-98C5-AC487C50BD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A572631-C0C2-4493-92F6-2EFDD69851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A3E0834-087C-42E9-85D1-78A27CA26A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3E4D3F3-7234-4E4B-8CA8-715D52D4F8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1492C0-0F5A-4A4E-87E8-56640C7936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3ED5269-1411-49D7-95F4-207D564A00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031678-6412-4603-9C99-3DCC4866BA5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3EA9C28-C64D-4388-9C3B-445A30E1514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4EEF7A6-2582-44DB-9C5F-3DA548C619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05960AA-D66B-4B69-B6F3-C4B0D589724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7114D43-052C-4C56-8E80-603EA28EEAE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7AB73C5-074D-422B-A77D-C3E57F8B5A1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02724E9-AB71-4D87-A787-6D43FA033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236C6B9-419F-45D9-A30C-5E99A8046E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B6C70D0-E7A7-40A2-9956-EB169E2FB58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DF1D765-2F10-4741-9F6F-89B5A693F9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2E9CB99-B23B-4EE2-AA3A-4DB2FA6F74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D524D95-D760-4677-9193-192816FC59C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1CC2C8C-999C-43F8-9D01-EEA7A7DA54B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F35A6BC-CB2F-4251-9F73-7A9EE24892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B049761-4FB8-4706-BC19-0D11E013A4A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1C770CD-8DB1-4856-B616-9E902D645AB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56E74C8-74BF-49DD-9934-DC51C5EB64F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A8852E0-153C-49DF-9E13-E7D46D14B1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F298C06-7A67-494C-BA4F-4BF8373BB5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6C24A22-871F-4255-9FE7-CD7DB05757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EB04FE8-F5A5-4DE2-AC96-233E879F02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55C87E8-2F9D-4941-A584-02BB5A2F64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857733B-8778-4011-B1B1-A8B045DD18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7CCAF82-08F2-443F-9458-5B78FED4DB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E0596B8-A7EB-405D-8AE0-F5163371E1E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25DAD25-0C5C-4C29-AD18-7DB1E5465B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F18DD4E-6E26-4BF8-A969-D326A1C486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D072735-6889-49D9-9C8F-06AB762C83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DB55C74-EBA3-460F-9277-8FA65E4E6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6E0948-0A0F-4717-842E-0B84BE7817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2F4D47A-5405-4E9C-9379-E4F30F7B7A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9F4606E-4784-415D-81F0-982B1989D4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539ED74-7575-485F-AD6B-6D73E24E6A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E7587FF-C932-4EC5-8949-26683ECA358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E508740-5DE8-4F99-9290-DF8B2E0619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D66CBC0-4416-4D96-BD48-464D87C2C0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4F82DFF-D79F-4C24-ACD7-0B8F09088C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1E69CEA-3146-49DA-B4FB-4F4C5AFF08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63D7B86-EB28-40A8-A267-8DF73E30B1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773099E-B240-41BE-ACD5-1543C5ADD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E286A-C387-4AB7-919F-9674795453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01AA6-D0DA-4456-8857-AE56C98250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64575-D306-4680-A0E9-84DD017FBA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132B2-81F3-4099-AFE4-B2B81D8B0F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76D9D-A7EC-491B-A2F4-FEB56664203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5E754-72D2-484F-BC96-40B72448E3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73C00-E4D0-49DB-A277-3260984C69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F315E-4DA2-4BEC-A5E1-1DA4344EC2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949E9-CA06-47F5-8D9B-C848D01827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2A7FA-DC5A-4B2F-8A61-4D1BBE32D3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BBEA2-30DB-4F94-9C63-C8F58AEBCD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60622-D260-4947-95EC-45EEA464AE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D351A-60FC-4F83-895B-6E8F3A55BB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85840" y="1071720"/>
            <a:ext cx="8534160" cy="47131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57120" y="1392120"/>
            <a:ext cx="83581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00040" y="1392120"/>
            <a:ext cx="79596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56" name="" descr=""/>
          <p:cNvPicPr/>
          <p:nvPr/>
        </p:nvPicPr>
        <p:blipFill>
          <a:blip r:embed="rId1"/>
          <a:stretch/>
        </p:blipFill>
        <p:spPr>
          <a:xfrm>
            <a:off x="0" y="0"/>
            <a:ext cx="9144000" cy="1368360"/>
          </a:xfrm>
          <a:prstGeom prst="rect">
            <a:avLst/>
          </a:prstGeom>
          <a:ln w="0">
            <a:noFill/>
          </a:ln>
        </p:spPr>
      </p:pic>
      <p:pic>
        <p:nvPicPr>
          <p:cNvPr id="857" name="" descr=""/>
          <p:cNvPicPr/>
          <p:nvPr/>
        </p:nvPicPr>
        <p:blipFill>
          <a:blip r:embed="rId2"/>
          <a:stretch/>
        </p:blipFill>
        <p:spPr>
          <a:xfrm>
            <a:off x="1258920" y="2060640"/>
            <a:ext cx="1297080" cy="1528560"/>
          </a:xfrm>
          <a:prstGeom prst="rect">
            <a:avLst/>
          </a:prstGeom>
          <a:ln w="0">
            <a:noFill/>
          </a:ln>
        </p:spPr>
      </p:pic>
      <p:pic>
        <p:nvPicPr>
          <p:cNvPr id="858" name="" descr=""/>
          <p:cNvPicPr/>
          <p:nvPr/>
        </p:nvPicPr>
        <p:blipFill>
          <a:blip r:embed="rId3"/>
          <a:stretch/>
        </p:blipFill>
        <p:spPr>
          <a:xfrm>
            <a:off x="6948360" y="1989000"/>
            <a:ext cx="1444680" cy="1573200"/>
          </a:xfrm>
          <a:prstGeom prst="rect">
            <a:avLst/>
          </a:prstGeom>
          <a:ln w="0">
            <a:noFill/>
          </a:ln>
        </p:spPr>
      </p:pic>
      <p:sp>
        <p:nvSpPr>
          <p:cNvPr id="85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6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6:39Z</dcterms:modified>
  <cp:revision>156</cp:revision>
  <dc:subject/>
  <dc:title>Παρουσίαση του PowerPoint</dc:title>
</cp:coreProperties>
</file>