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A1B5C-C8D7-469B-9FAD-14FD0D0DB0D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5B325-9954-4BDF-8D31-61BFF806C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4133D-2717-4149-8EB4-B8A57F5B6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EF761-1A31-483D-B244-DA03A07A4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DBC13-725B-4ACC-970C-E0C58D25E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D73B7-B509-4992-AB66-CEAD23F43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8741F-46C1-44D5-87FE-915645B5C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C2E7E-5AF2-4118-8C29-6E189F100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EB034-E3EA-4EF4-9D89-4975467F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039D0-F8B1-415C-AC1F-F5ED8EF71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F7A35-7A4B-4D19-A32E-33D0008E9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07BEE-3249-4B9E-A08A-048364959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FA80D-0D76-4F2F-AB5A-798D45E5C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7C20A-A12C-4174-B210-CD6B9C607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0AA16-498E-43E8-9056-4A69561B7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A38DD-FE67-45A5-8201-77397A070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CD583-4B12-45FE-A257-8DBB22D5F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7BE26-7797-421A-828B-3A8AD1DFB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F1A5A-060D-43D0-873F-228AFC839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189B8-B8C3-4D6B-A9F7-1EEF7249D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3A9E7-7E86-478E-B15F-79991FE84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2065C-299C-4334-8268-34A3460E2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0A227-D865-481B-A8CE-10296AEDC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04860-786D-4C5E-80DB-891DA85E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AE4C6-F082-44BB-9261-1AF8F09FB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5A25A-F5E3-41E7-AD49-2CFCEAB37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07F2312-3528-4554-BB29-BFB55265D0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9D58D82-32BB-4E03-81C7-86E687AD0B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B618F50-BEEC-420C-974A-ACDD193A5F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EF13391-B78C-467F-B4BE-A6E6F13ED8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7D825E7-F6F1-4409-A981-A90EBCABBD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169511C-D9D9-4E80-ACBA-3052A458E4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91CF7FE-6311-40A4-9DA7-46144BAA44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1AC56C8-2C5F-4B7C-8160-EA8565E522A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1693CF9E-2E5C-4542-80BC-1B8B896309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08D296D-6910-4892-9A53-E1FB4319B8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EBED24-0801-4E22-9573-AFD35E99B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692847D-95CB-4A9A-9FA2-5D5CE11D3D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D5A0D3B-ED06-45C6-8C56-85653356FC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C073401-4B92-43D4-9610-1083CB37795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4A9800A-63DF-42E0-B0F8-209DEFA3C0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D59823F-B61F-4F36-AE3B-5C995E900C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C1BDCD3-305A-4682-A252-03271908FB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EBC4B61-51BE-412E-9DAF-31E7F132D7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3158B82-2BA9-4FE0-A535-9A11AEFB26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5D1B9EA-7FE6-4D7C-B8D4-AE234F1F8B6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876919B-E94D-4841-AF20-ACABBAA419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2796A13-4C06-41AD-8A2F-7131843C8A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3B70C99-6A84-4089-8CCB-138F15863A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68253592-3B8D-4BB4-A742-C0FB324682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17FD256-307B-45B5-8C19-EC2F7AA28C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FB877E2-FDB4-44B8-BC20-9F9A193939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D5E8D3B-6358-424D-B3C7-08145DA3DF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A63B8D2-72B0-4021-A4C2-1CC1A214424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6564FB9-6716-46FD-B009-E0FF3782F2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E692139-E5B5-46EE-8C45-6856CE6B8E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7BA2EF1-B7AE-44A4-B21D-DC10E8D7915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9AE4CCF-3EDE-47D7-B0A4-32E474565D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A0E73FA-3FF2-4433-A94D-8F0FC3A2C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9BD4DB-9648-49C4-BFD0-A15A2A7F4F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B690061-00D6-4E25-8261-DC92B64659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2FDFBFD-3C6B-49F3-A76A-3A8D3F1F87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A26A2A6-31DE-4C64-8A16-C55C436A46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A2871E7-29FC-40BE-B162-EE5D3E3597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B6B3865-4C06-4A5F-96B3-BE2757648A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059E045-F80B-4573-AB4A-008C5860F7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62EA64C-FF73-46F4-9723-82D9B4318A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ADBF8F5E-402A-430C-A5AA-D698AC2194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82FEC3A-94C2-4EFC-8550-55FD3C8822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34BA653-9CA8-4196-8F53-B7EAA6FB7B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17CB390-46D1-4047-B153-8492FBF4AE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8AC41E8-28B8-4CB5-A0FD-2DF4580E0C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15E70E4-F7DF-4F2D-B43D-BDA1CC16EC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88722ED-BA6B-40E2-A54B-1867BAC695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3B0D683-CC56-4BBF-9BF7-754DB69874E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75E2CE9-00AB-4805-A896-EF6C6E62989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E9F3E2C-F780-4CE5-8D03-4D73A86D62D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772C10C-4AE2-44C8-9C65-2B864E0C1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C7C9D85-3272-4D0B-AF5E-6DDFE87A1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A6E2214-D40F-4D13-AEFC-ADBAA9547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68B473B-E734-4E82-9F66-03639CF687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02E3E4-1EB7-4BEE-B35F-31356919EEE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23C1E2C-9631-4D94-A149-232087607C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309DD92-20CF-42AE-AE36-2DE9DF9B5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B796779-8F52-4F90-8671-41959DFE2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AB8A2C2-5657-4313-AF4A-6B5D0AE37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956EAD1-6FEC-482A-9A50-BD147A713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2002305-6B38-413F-ABCF-B417E9BAE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1452761-848C-45CD-A4FC-39979AB08F0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462E54E-13FC-42F7-AD8B-15B0FAD6CC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806385F-B83D-4513-B1B6-4AF7A9414E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AA971AE-C83D-4692-B411-6D2BC9284F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E08389C-0537-4380-8BAD-70169EDD75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B4158C7-AE09-40FF-B252-E29811E5E9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2C76CD-9C93-42B2-B38E-D1CD8C69C2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1AF518-F416-4267-9E23-FE8B7079AB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EACF36-128C-4A96-8BF0-286F9A62C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F7691EF-5849-4570-B45B-124358E80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3FD4C38-3A56-4296-B2CD-A66142816B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7A1969-101E-407C-B178-684FDFC040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D1E16D-4D9D-4D2C-B613-FA4972320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1C7199-65B6-407D-BAD2-E1302FA751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7AD9623-79DA-404A-9A8F-FF8E488164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D1144-0F2F-4A3A-A6C2-1E8478BDF8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6A73AC6-3897-4B26-821D-5EE03A83FA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72B8F5-DCA0-4235-ACB1-A59825A93F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1AF6FD6-EC70-455A-AA51-A72FCA90FE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F72E3B6-2F84-4D71-A4B6-0A977241E0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57D30D8-0B8D-48F3-9221-919809E942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37BA137-AF89-4A17-95E6-6BD1113C2E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1800969-4EC7-4B44-81A3-A5B5FA5EC9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1C65356-3080-491B-A420-D41214C82B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FC1289-0B1B-43D5-A5C2-B486AB6372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D25C158-5A55-4047-ACAD-0B041BCE6E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77F1C7E-139F-48FB-B75F-6EF896F52F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E10495C-9823-4CA3-9BFD-6ACFC68506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DBA0147-27E8-4538-94FD-B7FA4C39ED9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3B0A763-140C-4011-AF2F-DF5B49A2ED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F5EA5E6-C21B-45B3-8890-F519A29437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6A8324E-16AD-4738-BC78-C0C6D788AD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993412F-DB12-4D84-A85D-F9D0D90E1D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6F68AA5-93EC-4801-88D4-A9832046E1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93A3701-64B9-4A06-B3C6-365F75B5ABD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44CE9BF-B6C7-4AD9-A9DA-0C8A2AE02D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12D5257D-D86B-4D25-90EC-DACFA67BC0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CA52ACE-AA8A-4175-B9D7-2F7F93EB9B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7BFE9A3-F5BF-4D0F-9AD2-BD9CDEA6F0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C99E58B-07A5-44BD-A218-9777DF82BFC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773A0C6-8A75-4FAC-BDB8-9CD52D754E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F7F1CFA-6D25-4D2E-BD64-21BE075007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AD42F80-5F3F-4AF4-8BB4-62E1F43B5A4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CFDF85C-7290-4854-AAE8-7FE61F2125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48448A6-1BD9-4020-A4EE-46DF3C46EB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072551-9456-4F00-B55E-B45F04E038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6B95C6C-9165-4974-AE51-E6681191E3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D011409-F1AD-4360-A702-93984BC03E0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5CB7053-B82D-40A5-BDCC-0A069B276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9B190C6-060F-4276-807C-DD4E282C18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8F3F6BF-084C-4CDA-91E1-9B99EFC635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847743-2F97-49B4-AFE1-67294EDC82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9477368-F522-4BE1-BB43-AD24FB7836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416BC60-00F3-4287-ADEB-A8B2580923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601D0CE-9581-45EF-B435-635405290E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B1D4449-2A18-4BC1-8134-11CC652C2C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D483599B-C761-4A29-94D5-E8B62B9234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9E69F26-6F32-4BF0-B8EE-AE56C6E2960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3E22F15-CD0B-4DA7-8D52-010240D895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31920A0-D794-4A02-ABC5-EAF4B9CB9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E181439-773F-4051-AC3B-E37AB9B3B6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68D4034-D194-483B-B9E8-3998580EA8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903E968-9C6C-4457-8F40-0BCB93B6E1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E460F12-00AA-4AA7-B955-597C360989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A29FABF-E33C-436E-8503-FA31FEA688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01431E5-464A-42B0-8EFE-50B7335825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F45D299-318D-46CE-8FB3-4EB78D2AD6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EC20DAA-9C97-45D0-952C-9C3B749073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501F625-98D9-4162-B25C-FFAC1F97F3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E31B955-16AF-4935-A55B-44C148AA58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141CEC9-8957-43B2-842C-A89A1FA5E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03CE69B-EC5D-4125-B36A-527C304F49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A35AB73-CDFC-445F-A4A2-88CADD533D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AD90A70-58C5-4683-A3E2-F8D79E4A98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CF4A838-47EF-4E95-A2EB-322F893EFF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802CF5D-5574-44C5-BFF3-A80C51A6F85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9955C4C-579C-4643-9B17-049BD7EC76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5811DA-4B08-4AA2-A081-500192AB2B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CCC94F3-6017-4F60-93DD-06CDDDA3DD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F3AB1C0-AC56-4626-A44F-A31A98C1F5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6B2EE50-FAC2-4992-9DB3-E07B5B8166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2A28EE0-89D1-440A-A105-892FFE8E7A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2D3F62-7B0E-4A75-A087-1FBB81C826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B25D8B3-8E78-4A40-AC80-A9197D7A7D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F2D142F-F6B1-4730-9C8C-39C2F0F954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E4C382A-7688-4346-B674-5FD14DAD08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BEBFD43-6BC6-4369-B79D-495A546772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D1C2F5E-D09A-4AE2-A7B9-2CEE4F303C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42468C9-2BBA-4D6C-B752-DE6AB63255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C120262-1302-45BC-A761-BF8125D19F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E485C2A-DA8D-4693-B405-76B700F31E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2649FF2-6B86-4560-9BFE-9C0902E372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E9AC69C-7757-4C97-A36E-B7D3422EF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F4EDB-42D8-4F03-A33D-86CED071EB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035E1-5C91-49C4-93B1-42053786933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6EA1A-8BD5-4CD0-BEF2-4DEE17053F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EC775-E66F-4091-8E67-C51E7B1D51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88329-3291-48DB-AF8D-E8BCBC9B876E}"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5E3CE-66FE-49A2-803E-5980FFDFA7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B1211-9D2D-4A62-98F4-E3A8B89AD5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540F3-CE92-4088-B472-9E4667714B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71FA6-8CF0-41DA-AC50-BF6CBA6FC8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8CE82-1789-4638-9B85-2E10334DFEB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77395-BBE5-4FF6-AEED-2B0581C806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3A4F-8670-402B-BF0C-02014539A8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62DE7-9327-440A-A2CB-801EA7881C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611280" y="1407960"/>
            <a:ext cx="820872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193760"/>
            <a:ext cx="8208720" cy="4830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611280" y="1469880"/>
            <a:ext cx="8208720" cy="4278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839960"/>
            <a:ext cx="8208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66" name="" descr=""/>
          <p:cNvPicPr/>
          <p:nvPr/>
        </p:nvPicPr>
        <p:blipFill>
          <a:blip r:embed="rId1"/>
          <a:stretch/>
        </p:blipFill>
        <p:spPr>
          <a:xfrm>
            <a:off x="0" y="0"/>
            <a:ext cx="9144000" cy="1368360"/>
          </a:xfrm>
          <a:prstGeom prst="rect">
            <a:avLst/>
          </a:prstGeom>
          <a:ln w="0">
            <a:noFill/>
          </a:ln>
        </p:spPr>
      </p:pic>
      <p:pic>
        <p:nvPicPr>
          <p:cNvPr id="767" name="" descr=""/>
          <p:cNvPicPr/>
          <p:nvPr/>
        </p:nvPicPr>
        <p:blipFill>
          <a:blip r:embed="rId2"/>
          <a:stretch/>
        </p:blipFill>
        <p:spPr>
          <a:xfrm>
            <a:off x="1258920" y="2060640"/>
            <a:ext cx="1297080" cy="1528560"/>
          </a:xfrm>
          <a:prstGeom prst="rect">
            <a:avLst/>
          </a:prstGeom>
          <a:ln w="0">
            <a:noFill/>
          </a:ln>
        </p:spPr>
      </p:pic>
      <p:pic>
        <p:nvPicPr>
          <p:cNvPr id="768" name="" descr=""/>
          <p:cNvPicPr/>
          <p:nvPr/>
        </p:nvPicPr>
        <p:blipFill>
          <a:blip r:embed="rId3"/>
          <a:stretch/>
        </p:blipFill>
        <p:spPr>
          <a:xfrm>
            <a:off x="6948360" y="1989000"/>
            <a:ext cx="1444680" cy="1573200"/>
          </a:xfrm>
          <a:prstGeom prst="rect">
            <a:avLst/>
          </a:prstGeom>
          <a:ln w="0">
            <a:noFill/>
          </a:ln>
        </p:spPr>
      </p:pic>
      <p:sp>
        <p:nvSpPr>
          <p:cNvPr id="769"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7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
        <p:nvSpPr>
          <p:cNvPr id="584"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395280" y="977760"/>
            <a:ext cx="8497800" cy="5262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250920" y="1407960"/>
            <a:ext cx="856908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611280" y="2054160"/>
            <a:ext cx="8208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21Z</dcterms:modified>
  <cp:revision>157</cp:revision>
  <dc:subject/>
  <dc:title>Παρουσίαση του PowerPoint</dc:title>
</cp:coreProperties>
</file>