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AFA7B5-8A54-4795-B1B2-066A43A8056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8B6982-2553-4633-86BE-6059B6FF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616A60-CD2E-471F-8E24-328B2445A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BC0280-5D78-4D3B-8FEC-019D3DC0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AE25E-5596-45F9-9216-60A3E3C6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26670E-8145-45B5-AAA7-6705901C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43D8B9-07CE-48C9-A6AD-4A2E20F2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7D964C-DF3D-4D03-A030-BF9E56FB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6B397A-572C-4BF1-9A34-288E714F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EC632-1100-4733-9E51-9A1B9A37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991AB7-4216-4A2D-A37F-915257CA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830EBD-F86A-4533-8E82-C32510CF2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D320F6-577C-45C5-A251-701106B1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C7BE2-752C-4E75-A41A-3D74972C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CA1817-BB28-4849-8BCC-C34AEBCE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7B0513-E54F-4A4D-AB1C-E4AF6E05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D1B0BD-C1EC-47A6-97DD-244DAFC6D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2289B-ECD9-4895-8BD3-682C6522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6F6D44-AF1E-4DAB-9F99-66F12F61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410C2-2198-442D-A647-024C7FDA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E3387-33EF-4F70-A4F4-E85C64ED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16FC94-BC04-468F-86AD-2D9B436C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9B5875-E137-4335-B4B9-730DAF28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1D74D-1D72-4092-9C0B-5A7398DF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3A5598-4D39-4A87-95C4-1150EEB5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C30344-9482-47E4-986E-E4A41E8F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57500-3DF3-4177-BA96-49D3F19D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02C403-2CEB-43ED-8F7A-C9C2B852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742FDD-12DD-4FB6-982D-1BCD2C5D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BEBB35-40AF-4C91-A683-8B9FFD3F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C9F3DE-8872-4F8C-8703-C68129FDF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3B91E-F92A-4DA1-8A2D-BC9961A6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A31F-C203-456F-A89B-982E850C3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492E-523C-4E3B-87EA-56720A31EF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8A24-32FE-48FE-B42F-921D1EC6FE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79B1-2F0B-4F59-ABA9-1E878E98E6E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E054-0BA1-464D-8827-30A42130FE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5A4D-34D2-42D4-B380-FE837E148B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B438-6B43-4564-8DB6-ABCBBD1BA6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D140-233E-4B59-B23E-56ECB99A34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C5DC-EBA6-4CE1-A448-F766274738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F653-2C6E-45BC-8E08-48E7D3F1ED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0AE9-6892-40F9-9861-88ED60B607B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2EA9E-E839-49DD-AFDF-FAAF78FED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0EE5-A3AE-4F6C-9128-834BF02A04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456B7-7C71-4F65-97B2-8BC3F54210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10CC4-3A0E-401C-998C-0964DA06D2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E0F56-D324-400D-851F-785130A392F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AB92D-4D8F-4CE2-A2A6-10AA7376DF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D9B85-69BE-4CD9-9E8D-57CAD8F1E4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40B85-5064-450C-80D2-FDA9D672C8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BC9DC-CC8B-44EF-9E4E-1D8EAB156C5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779B5-425E-4656-AC09-68FFDA4DE6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78C85-BA4D-490C-9301-3AC1C6A393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857A3-D66F-4EE3-B4A6-8B97169F7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3A5A-5E09-415B-87E0-1C48FEC2A41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940F7-CBDE-4B14-9FA5-30B05F893F8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EE421-24B2-47A4-B974-C570B6F796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CCC8D-3BD0-466D-A236-B7E862C5C4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6D0CE-CA64-4D65-9FF2-56C64AADA3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A6D4E-A7FF-4F05-90E9-685AC65C2ED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BD289-4858-42E8-828F-81F872207D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AB4DD-0614-45A5-AD27-51FEE302B8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41903-06CB-4CB6-B7DA-70BC26CF83D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5D4AF-405C-4214-B817-51675FF18E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3CD0A-6F0C-429A-AB8A-CC43CC553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4FF5-9C3B-4B28-8C63-5080CEB4887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6D07A-E4B5-474F-89E7-BF73A14DFB4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BFB2C-9B2D-4021-B723-424175BB65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79183-7BE3-458C-A4B3-E6F66B833C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22A8-B9D8-412B-86A3-842A9379F4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B07C-89B0-4226-81EA-1F8A4CA85E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A821-0234-409A-BAC0-A7F941187F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2CAB-EBC3-489A-BEF4-46E4B0F41E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443D-E902-4DFF-8F93-9789E53FA4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2678-9BDC-47DC-BD98-615EC8D7C3F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0ECA-F34E-4D1E-80FC-591DAD2016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1245-5BA8-4115-96AB-533F57DD54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52E9-99DE-43C1-8E76-495CDF541E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9CBD-D1C6-471D-A21E-95C27F756B0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DCDF-EAF0-45EC-B97E-270C030C6C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CFCC-279E-4AE8-86E1-5FFE9AE50A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426D-7E66-42FE-A325-172DC72EB3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6D59E-6A20-4030-A0E8-CED600015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8BA6E-AC04-4E3F-A365-2E2CAA24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59215-2186-4420-8649-CAFFF7C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75554-D299-4AD1-A88B-A0E2BCA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6A58C-A345-47C2-A424-5A3D141A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CF01-F7A1-41DA-AA7C-01AF56DD102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4EFAC-2AC7-4982-9C50-382C825F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65B33-C1FF-4A07-AE53-BBEDB1CB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2ED5A-EA23-4389-BF6C-1B426638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90025-636C-445E-8025-0EBD063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4AC0E-E756-4EEE-9C4A-B58148A2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D1B74-E92C-4ACE-BF95-3631F2B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F91A9-2653-43AC-A533-6E9FCFB86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DC1C-207D-4780-A4D7-55E1B23EB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0CF0-C416-4EF6-84CE-A193F384DF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D64D-3420-46B4-BBE2-02536A94F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2572-74C8-4510-9E11-A7131BB33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C320-3C4F-4CB6-8897-3DBA5CB4D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9A82-8866-473A-81A3-D7B6B9E7D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565C-716B-4FC5-B6B1-C8D8F8F6F7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CD4C-2B79-44D5-BFC1-1287B70395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2E42-E864-4906-9C8E-04C1C2DB1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19DC-C007-4044-BC85-CAC50463E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8E6-00EA-4FBB-B894-07690A7A4A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59C-0066-4DFE-B138-4FB28B8221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11D-F602-432A-9D99-805B4D8DB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AA3-7666-4CB8-AD1B-9E9B1733F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310-F76D-4E8C-9FD6-AF39C63D1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26D7-D829-4790-B64D-A25F3B2BA8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AC3-7690-4EF6-BBD0-D448F270A1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49B-AE66-4A4E-8790-8C2BE4FAEE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59A-0F81-4297-B198-6201A57859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7AF-8B3E-4B74-8456-E58B8226BD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139-482C-416C-A3B4-1F3083B763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236-9F21-4AC1-8FEE-FCD5AFB6B3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460-DA94-44FA-AC85-005D9FF03A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EC1E7-DBEF-4A38-87EC-F5991A1298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B2912-ED85-4B49-BB99-C606C1F244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9A3E9-75F7-4281-A297-095936419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E370-687F-44E5-879E-8AAFCB877B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6A3B-847C-4CEA-9441-523CD81F24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8E812-9574-4B7F-931C-07F73398C0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BE73-09A9-4FF6-B7F0-EEBD05F3F9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18E97-C573-4CAC-AFC4-20EB1471AC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2F8C-5D10-4295-8860-C1E9DAE6A1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A03CF-1F2B-4F70-87E6-1AEE10A7AF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3A752-0B19-452B-B545-1E35748F3F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25F40-3D7C-44F5-B7AB-034C627C8D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27F1D-268E-4FE1-9FDE-D298DB5BF3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D076-B4C1-4566-85B4-626883021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B0A3-9BA3-43D2-A253-3C759B1565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EBA77-1B60-44CB-BAF8-D3D748C187E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AC43-B931-4518-9788-E8DC954878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B545E-EF1B-47AE-BC00-219B5FFB4E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8000-F9D1-4D76-ABF8-B0AD486138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48F4-E58E-4114-B44B-1ABC6D639C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85A5-5C8F-49E9-AD40-573EC770F1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C345-2975-4B90-B44D-968AA4AAB3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85E30-19F9-43BC-B5DD-AECC2F88FE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7CB2A-842C-446D-B7C9-131316CD82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1CC4-BC29-4249-93CD-FA9918136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196E-87FE-4885-BAB5-D896D07857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2B9F-DCA1-4A3C-A9F7-F778A84458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E37-6B31-4F23-9242-C39CB9BB5E8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FFD4-ABDD-4994-AD97-ED9F023BD2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09EE-B5E0-4FD9-A97F-996A331DDC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996C-3A1B-4775-87D1-2CAB6BA8DD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13C-8648-4B3C-A089-36DEDA74DA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767-0129-4406-A069-66F8060D00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E32-F033-4304-8ECB-2C392FD38E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9057-7775-4547-B027-4C2B5E46FE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219C-5DA6-44A4-90AC-2BF410340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54B4-E11B-4498-AD5D-1F88974F5E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71F9-6A95-4BDF-B136-B656A1C388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4908-31E3-4F5C-8F78-AB37735335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F31-3479-453E-ADF9-EB1A092B61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F1D13-7D94-4372-B499-4784D00FA7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13B55-C377-4022-B27C-13192D4003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FAEC8-5455-426F-B02D-6D4635F186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6D938-5CB4-4A9B-BD48-02F0CB986C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DA1F6-9174-4DC5-A2B8-0C24574837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76A88-F665-416A-9947-90091C14B8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228DD-CAA3-488A-8601-C1EEF9908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77F4-990A-44FC-8CE9-0BCDF6B002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0DDCE-BEA7-4A06-A474-9CD3E78319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B834B-EFF7-4EFE-9965-592A2B57EA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1B813-8187-4BFE-B7F4-6092434374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EDBDB-1CAC-4820-99DC-CB057DB30C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9C671-2D51-47DA-817A-C8468D3B04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DCE3E-F0D4-4403-83CB-03DBD7309E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5E22A-9D14-410B-AC2E-1497438CFAB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D91AC-B02A-4FC8-BCD4-81CD27B6EC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7D700-3661-4E56-8A82-DBC591532E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C9C25-9471-42A8-B692-AE85967B2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1585-8AD3-4306-BA86-743CF6E47A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D09EC-369A-40AA-94BE-329EF9B293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55679-3682-428F-9D22-5FD91BEA34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B0EBA-F833-4B1F-9A6E-2A9CF07D00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125A2-3BC0-4F5D-BCBD-39C463EDF2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53FC5-6086-4E62-89FA-8858E3F0D4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2C779-D680-4DDB-8F96-8428A02507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19713-5BB9-4627-B5BF-00D986D7ED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8417-35E7-4094-84A2-223A7B2C2F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3344-966A-465E-9E01-0D2DBCAF05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0829-E7D9-4265-9FE7-9145323D3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B6F66C-48E2-40AC-B68D-D70D2BE66BE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647F22-69ED-4B75-ADCA-9BCF50A2A95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08272F-9172-42EC-B49E-914BFE03B3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F1DCDD-8DA8-428F-9515-0364B04B5E2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84353-0AAB-4A07-BD61-54C4C0C57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A0F02B-C724-4D20-8FAE-E8E4F6CADBF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8ED489-FEB4-4004-AEF9-3F67745EF7B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1002E-0722-4255-B0E2-1ECD33015FE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0FE24D-D056-489F-8157-4B3E61E41F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A02935-EF53-4021-9731-A5D8CC005B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EEB647-C29D-437B-9FBC-B3FE181353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5CB43C-03C2-4047-958E-9CE3109A0F5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0B05CD-EDA5-40B6-B9AC-E28C34E5AC4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6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7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8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8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9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0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0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1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1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2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3:27Z</dcterms:modified>
  <cp:revision>160</cp:revision>
  <dc:subject/>
  <dc:title>Παρουσίαση του PowerPoint</dc:title>
</cp:coreProperties>
</file>