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7C7DDE-8042-4E71-B53C-286B3E1E5078}"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4A4BFF-3BBC-411F-8491-F115DC68A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985680" y="741240"/>
            <a:ext cx="4886640" cy="3665520"/>
          </a:xfrm>
          <a:prstGeom prst="rect">
            <a:avLst/>
          </a:prstGeom>
          <a:ln w="0">
            <a:noFill/>
          </a:ln>
        </p:spPr>
      </p:sp>
      <p:sp>
        <p:nvSpPr>
          <p:cNvPr id="10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CD0CCE-25F1-483B-9A8C-7B965A699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985680" y="741240"/>
            <a:ext cx="4886640" cy="3665520"/>
          </a:xfrm>
          <a:prstGeom prst="rect">
            <a:avLst/>
          </a:prstGeom>
          <a:ln w="0">
            <a:noFill/>
          </a:ln>
        </p:spPr>
      </p:sp>
      <p:sp>
        <p:nvSpPr>
          <p:cNvPr id="10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3CA957-49FC-4437-A8D7-541E512B5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985680" y="741240"/>
            <a:ext cx="4886640" cy="3665520"/>
          </a:xfrm>
          <a:prstGeom prst="rect">
            <a:avLst/>
          </a:prstGeom>
          <a:ln w="0">
            <a:noFill/>
          </a:ln>
        </p:spPr>
      </p:sp>
      <p:sp>
        <p:nvSpPr>
          <p:cNvPr id="10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B9323-8FF7-46FC-989F-0D7EE3593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985680" y="741240"/>
            <a:ext cx="4886640" cy="3665520"/>
          </a:xfrm>
          <a:prstGeom prst="rect">
            <a:avLst/>
          </a:prstGeom>
          <a:ln w="0">
            <a:noFill/>
          </a:ln>
        </p:spPr>
      </p:sp>
      <p:sp>
        <p:nvSpPr>
          <p:cNvPr id="10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014DDE-C7FB-4BF5-B914-639A293BE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985680" y="741240"/>
            <a:ext cx="4886640" cy="3665520"/>
          </a:xfrm>
          <a:prstGeom prst="rect">
            <a:avLst/>
          </a:prstGeom>
          <a:ln w="0">
            <a:noFill/>
          </a:ln>
        </p:spPr>
      </p:sp>
      <p:sp>
        <p:nvSpPr>
          <p:cNvPr id="10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045433-DD43-4066-808A-50EA15C44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985680" y="741240"/>
            <a:ext cx="4886640" cy="3665520"/>
          </a:xfrm>
          <a:prstGeom prst="rect">
            <a:avLst/>
          </a:prstGeom>
          <a:ln w="0">
            <a:noFill/>
          </a:ln>
        </p:spPr>
      </p:sp>
      <p:sp>
        <p:nvSpPr>
          <p:cNvPr id="10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66EAE0-0DA8-429E-94C2-73FEB09B8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9" name="PlaceHolder 1"/>
          <p:cNvSpPr>
            <a:spLocks noGrp="1"/>
          </p:cNvSpPr>
          <p:nvPr>
            <p:ph type="sldImg"/>
          </p:nvPr>
        </p:nvSpPr>
        <p:spPr>
          <a:xfrm>
            <a:off x="985680" y="741240"/>
            <a:ext cx="4886640" cy="3665520"/>
          </a:xfrm>
          <a:prstGeom prst="rect">
            <a:avLst/>
          </a:prstGeom>
          <a:ln w="0">
            <a:noFill/>
          </a:ln>
        </p:spPr>
      </p:sp>
      <p:sp>
        <p:nvSpPr>
          <p:cNvPr id="10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E9364E-2A55-4662-B935-B5D12EE29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985680" y="741240"/>
            <a:ext cx="4886640" cy="3665520"/>
          </a:xfrm>
          <a:prstGeom prst="rect">
            <a:avLst/>
          </a:prstGeom>
          <a:ln w="0">
            <a:noFill/>
          </a:ln>
        </p:spPr>
      </p:sp>
      <p:sp>
        <p:nvSpPr>
          <p:cNvPr id="10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D768AA-7229-4B50-9B85-4CA983E78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985680" y="741240"/>
            <a:ext cx="4886640" cy="3665520"/>
          </a:xfrm>
          <a:prstGeom prst="rect">
            <a:avLst/>
          </a:prstGeom>
          <a:ln w="0">
            <a:noFill/>
          </a:ln>
        </p:spPr>
      </p:sp>
      <p:sp>
        <p:nvSpPr>
          <p:cNvPr id="10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55B884-A0C8-420C-9881-A96EF476F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985680" y="741240"/>
            <a:ext cx="4886640" cy="3665520"/>
          </a:xfrm>
          <a:prstGeom prst="rect">
            <a:avLst/>
          </a:prstGeom>
          <a:ln w="0">
            <a:noFill/>
          </a:ln>
        </p:spPr>
      </p:sp>
      <p:sp>
        <p:nvSpPr>
          <p:cNvPr id="10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040246-BD96-4C3C-9544-76F212660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985680" y="741240"/>
            <a:ext cx="4886640" cy="3665520"/>
          </a:xfrm>
          <a:prstGeom prst="rect">
            <a:avLst/>
          </a:prstGeom>
          <a:ln w="0">
            <a:noFill/>
          </a:ln>
        </p:spPr>
      </p:sp>
      <p:sp>
        <p:nvSpPr>
          <p:cNvPr id="9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74D01-EA51-4698-85C3-9EE5CFCF6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985680" y="741240"/>
            <a:ext cx="4886640" cy="3665520"/>
          </a:xfrm>
          <a:prstGeom prst="rect">
            <a:avLst/>
          </a:prstGeom>
          <a:ln w="0">
            <a:noFill/>
          </a:ln>
        </p:spPr>
      </p:sp>
      <p:sp>
        <p:nvSpPr>
          <p:cNvPr id="10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A45ABE-D524-4BB7-80D5-1F2CFE7FB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985680" y="741240"/>
            <a:ext cx="4886640" cy="3665520"/>
          </a:xfrm>
          <a:prstGeom prst="rect">
            <a:avLst/>
          </a:prstGeom>
          <a:ln w="0">
            <a:noFill/>
          </a:ln>
        </p:spPr>
      </p:sp>
      <p:sp>
        <p:nvSpPr>
          <p:cNvPr id="10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FBB67D-2CEC-41BB-8CCB-C06C8ACF7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985680" y="741240"/>
            <a:ext cx="4886640" cy="3665520"/>
          </a:xfrm>
          <a:prstGeom prst="rect">
            <a:avLst/>
          </a:prstGeom>
          <a:ln w="0">
            <a:noFill/>
          </a:ln>
        </p:spPr>
      </p:sp>
      <p:sp>
        <p:nvSpPr>
          <p:cNvPr id="10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8EACAD-2792-4C9D-8B86-F6D5BCDC9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985680" y="741240"/>
            <a:ext cx="4886640" cy="3665520"/>
          </a:xfrm>
          <a:prstGeom prst="rect">
            <a:avLst/>
          </a:prstGeom>
          <a:ln w="0">
            <a:noFill/>
          </a:ln>
        </p:spPr>
      </p:sp>
      <p:sp>
        <p:nvSpPr>
          <p:cNvPr id="10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A44A10-B307-4FA2-BC25-F206C4124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985680" y="741240"/>
            <a:ext cx="4886640" cy="3665520"/>
          </a:xfrm>
          <a:prstGeom prst="rect">
            <a:avLst/>
          </a:prstGeom>
          <a:ln w="0">
            <a:noFill/>
          </a:ln>
        </p:spPr>
      </p:sp>
      <p:sp>
        <p:nvSpPr>
          <p:cNvPr id="10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717248-1D08-42A0-8C5D-EC6120C57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985680" y="741240"/>
            <a:ext cx="4886640" cy="3665520"/>
          </a:xfrm>
          <a:prstGeom prst="rect">
            <a:avLst/>
          </a:prstGeom>
          <a:ln w="0">
            <a:noFill/>
          </a:ln>
        </p:spPr>
      </p:sp>
      <p:sp>
        <p:nvSpPr>
          <p:cNvPr id="10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9568EA-BB1E-4208-AA3E-E92FEF4E5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985680" y="741240"/>
            <a:ext cx="4886640" cy="3665520"/>
          </a:xfrm>
          <a:prstGeom prst="rect">
            <a:avLst/>
          </a:prstGeom>
          <a:ln w="0">
            <a:noFill/>
          </a:ln>
        </p:spPr>
      </p:sp>
      <p:sp>
        <p:nvSpPr>
          <p:cNvPr id="10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EADCFA-6A2B-44DB-B659-D74555E0B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985680" y="741240"/>
            <a:ext cx="4886640" cy="3665520"/>
          </a:xfrm>
          <a:prstGeom prst="rect">
            <a:avLst/>
          </a:prstGeom>
          <a:ln w="0">
            <a:noFill/>
          </a:ln>
        </p:spPr>
      </p:sp>
      <p:sp>
        <p:nvSpPr>
          <p:cNvPr id="10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601287-23E5-4B2D-9B90-A23CBFA38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985680" y="741240"/>
            <a:ext cx="4886640" cy="3665520"/>
          </a:xfrm>
          <a:prstGeom prst="rect">
            <a:avLst/>
          </a:prstGeom>
          <a:ln w="0">
            <a:noFill/>
          </a:ln>
        </p:spPr>
      </p:sp>
      <p:sp>
        <p:nvSpPr>
          <p:cNvPr id="10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CE3A01-1081-41B8-843F-A0B37E06C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985680" y="741240"/>
            <a:ext cx="4886640" cy="3665520"/>
          </a:xfrm>
          <a:prstGeom prst="rect">
            <a:avLst/>
          </a:prstGeom>
          <a:ln w="0">
            <a:noFill/>
          </a:ln>
        </p:spPr>
      </p:sp>
      <p:sp>
        <p:nvSpPr>
          <p:cNvPr id="10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EACDED-154D-499D-8B7F-F343ED5A2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985680" y="741240"/>
            <a:ext cx="4886640" cy="3665520"/>
          </a:xfrm>
          <a:prstGeom prst="rect">
            <a:avLst/>
          </a:prstGeom>
          <a:ln w="0">
            <a:noFill/>
          </a:ln>
        </p:spPr>
      </p:sp>
      <p:sp>
        <p:nvSpPr>
          <p:cNvPr id="10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57F729-20A8-448F-856C-1DA7FBAF9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985680" y="741240"/>
            <a:ext cx="4886640" cy="3665520"/>
          </a:xfrm>
          <a:prstGeom prst="rect">
            <a:avLst/>
          </a:prstGeom>
          <a:ln w="0">
            <a:noFill/>
          </a:ln>
        </p:spPr>
      </p:sp>
      <p:sp>
        <p:nvSpPr>
          <p:cNvPr id="10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85D690-998B-4C4A-BABB-047F78ADC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985680" y="741240"/>
            <a:ext cx="4886640" cy="3665520"/>
          </a:xfrm>
          <a:prstGeom prst="rect">
            <a:avLst/>
          </a:prstGeom>
          <a:ln w="0">
            <a:noFill/>
          </a:ln>
        </p:spPr>
      </p:sp>
      <p:sp>
        <p:nvSpPr>
          <p:cNvPr id="10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0C40C0-E2D0-4222-BC07-D71E3DBEE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985680" y="741240"/>
            <a:ext cx="4886640" cy="3665520"/>
          </a:xfrm>
          <a:prstGeom prst="rect">
            <a:avLst/>
          </a:prstGeom>
          <a:ln w="0">
            <a:noFill/>
          </a:ln>
        </p:spPr>
      </p:sp>
      <p:sp>
        <p:nvSpPr>
          <p:cNvPr id="10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8A873A-DDDA-4B94-AADD-E941B61C4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985680" y="741240"/>
            <a:ext cx="4886640" cy="3665520"/>
          </a:xfrm>
          <a:prstGeom prst="rect">
            <a:avLst/>
          </a:prstGeom>
          <a:ln w="0">
            <a:noFill/>
          </a:ln>
        </p:spPr>
      </p:sp>
      <p:sp>
        <p:nvSpPr>
          <p:cNvPr id="10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4D03AD-4568-4681-A155-8E98EB7E8D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985680" y="741240"/>
            <a:ext cx="4886640" cy="3665520"/>
          </a:xfrm>
          <a:prstGeom prst="rect">
            <a:avLst/>
          </a:prstGeom>
          <a:ln w="0">
            <a:noFill/>
          </a:ln>
        </p:spPr>
      </p:sp>
      <p:sp>
        <p:nvSpPr>
          <p:cNvPr id="10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C1347F-B096-4D8C-8C94-AE6D5C580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6" name="PlaceHolder 1"/>
          <p:cNvSpPr>
            <a:spLocks noGrp="1"/>
          </p:cNvSpPr>
          <p:nvPr>
            <p:ph type="sldImg"/>
          </p:nvPr>
        </p:nvSpPr>
        <p:spPr>
          <a:xfrm>
            <a:off x="985680" y="741240"/>
            <a:ext cx="4886640" cy="3665520"/>
          </a:xfrm>
          <a:prstGeom prst="rect">
            <a:avLst/>
          </a:prstGeom>
          <a:ln w="0">
            <a:noFill/>
          </a:ln>
        </p:spPr>
      </p:sp>
      <p:sp>
        <p:nvSpPr>
          <p:cNvPr id="10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6DDC96-65C1-4EBE-986E-96786AF09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985680" y="741240"/>
            <a:ext cx="4886640" cy="3665520"/>
          </a:xfrm>
          <a:prstGeom prst="rect">
            <a:avLst/>
          </a:prstGeom>
          <a:ln w="0">
            <a:noFill/>
          </a:ln>
        </p:spPr>
      </p:sp>
      <p:sp>
        <p:nvSpPr>
          <p:cNvPr id="11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C0A567-2B3A-401F-88FF-5AC9BD06E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985680" y="741240"/>
            <a:ext cx="4886640" cy="3665520"/>
          </a:xfrm>
          <a:prstGeom prst="rect">
            <a:avLst/>
          </a:prstGeom>
          <a:ln w="0">
            <a:noFill/>
          </a:ln>
        </p:spPr>
      </p:sp>
      <p:sp>
        <p:nvSpPr>
          <p:cNvPr id="11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ED1154-A50F-47F4-9162-74690C1D3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985680" y="741240"/>
            <a:ext cx="4886640" cy="3665520"/>
          </a:xfrm>
          <a:prstGeom prst="rect">
            <a:avLst/>
          </a:prstGeom>
          <a:ln w="0">
            <a:noFill/>
          </a:ln>
        </p:spPr>
      </p:sp>
      <p:sp>
        <p:nvSpPr>
          <p:cNvPr id="11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D31263-36DB-4D79-B077-792B0FBDF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985680" y="741240"/>
            <a:ext cx="4886640" cy="3665520"/>
          </a:xfrm>
          <a:prstGeom prst="rect">
            <a:avLst/>
          </a:prstGeom>
          <a:ln w="0">
            <a:noFill/>
          </a:ln>
        </p:spPr>
      </p:sp>
      <p:sp>
        <p:nvSpPr>
          <p:cNvPr id="11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C9544A-7BA9-4436-8A2F-94157AA96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985680" y="741240"/>
            <a:ext cx="4886640" cy="3665520"/>
          </a:xfrm>
          <a:prstGeom prst="rect">
            <a:avLst/>
          </a:prstGeom>
          <a:ln w="0">
            <a:noFill/>
          </a:ln>
        </p:spPr>
      </p:sp>
      <p:sp>
        <p:nvSpPr>
          <p:cNvPr id="10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27F1EA-C73B-4ABB-91D0-46ED99EE1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985680" y="741240"/>
            <a:ext cx="4886640" cy="3665520"/>
          </a:xfrm>
          <a:prstGeom prst="rect">
            <a:avLst/>
          </a:prstGeom>
          <a:ln w="0">
            <a:noFill/>
          </a:ln>
        </p:spPr>
      </p:sp>
      <p:sp>
        <p:nvSpPr>
          <p:cNvPr id="11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790D10-4930-4A28-9BF9-6D40C6CB4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985680" y="741240"/>
            <a:ext cx="4886640" cy="3665520"/>
          </a:xfrm>
          <a:prstGeom prst="rect">
            <a:avLst/>
          </a:prstGeom>
          <a:ln w="0">
            <a:noFill/>
          </a:ln>
        </p:spPr>
      </p:sp>
      <p:sp>
        <p:nvSpPr>
          <p:cNvPr id="11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4FC74C-5F95-4A9A-95B2-3786BD5CE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985680" y="741240"/>
            <a:ext cx="4886640" cy="3665520"/>
          </a:xfrm>
          <a:prstGeom prst="rect">
            <a:avLst/>
          </a:prstGeom>
          <a:ln w="0">
            <a:noFill/>
          </a:ln>
        </p:spPr>
      </p:sp>
      <p:sp>
        <p:nvSpPr>
          <p:cNvPr id="11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F12000-33E2-41A3-96EF-3A2E46437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985680" y="741240"/>
            <a:ext cx="4886640" cy="3665520"/>
          </a:xfrm>
          <a:prstGeom prst="rect">
            <a:avLst/>
          </a:prstGeom>
          <a:ln w="0">
            <a:noFill/>
          </a:ln>
        </p:spPr>
      </p:sp>
      <p:sp>
        <p:nvSpPr>
          <p:cNvPr id="11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E37F15-94C5-447D-8CF5-D321D54D0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985680" y="741240"/>
            <a:ext cx="4886640" cy="3665520"/>
          </a:xfrm>
          <a:prstGeom prst="rect">
            <a:avLst/>
          </a:prstGeom>
          <a:ln w="0">
            <a:noFill/>
          </a:ln>
        </p:spPr>
      </p:sp>
      <p:sp>
        <p:nvSpPr>
          <p:cNvPr id="11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48BE4C-1BD7-4D19-844B-BA01E5C33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985680" y="741240"/>
            <a:ext cx="4886640" cy="3665520"/>
          </a:xfrm>
          <a:prstGeom prst="rect">
            <a:avLst/>
          </a:prstGeom>
          <a:ln w="0">
            <a:noFill/>
          </a:ln>
        </p:spPr>
      </p:sp>
      <p:sp>
        <p:nvSpPr>
          <p:cNvPr id="11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AC78DE-960D-4F28-8A79-9CDEF06A5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985680" y="741240"/>
            <a:ext cx="4886640" cy="3665520"/>
          </a:xfrm>
          <a:prstGeom prst="rect">
            <a:avLst/>
          </a:prstGeom>
          <a:ln w="0">
            <a:noFill/>
          </a:ln>
        </p:spPr>
      </p:sp>
      <p:sp>
        <p:nvSpPr>
          <p:cNvPr id="11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F9C83C-FC3D-475A-9F67-9434A2698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985680" y="741240"/>
            <a:ext cx="4886640" cy="3665520"/>
          </a:xfrm>
          <a:prstGeom prst="rect">
            <a:avLst/>
          </a:prstGeom>
          <a:ln w="0">
            <a:noFill/>
          </a:ln>
        </p:spPr>
      </p:sp>
      <p:sp>
        <p:nvSpPr>
          <p:cNvPr id="11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EBB923-4E5F-48B9-B01F-E5CF09D21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985680" y="741240"/>
            <a:ext cx="4886640" cy="3665520"/>
          </a:xfrm>
          <a:prstGeom prst="rect">
            <a:avLst/>
          </a:prstGeom>
          <a:ln w="0">
            <a:noFill/>
          </a:ln>
        </p:spPr>
      </p:sp>
      <p:sp>
        <p:nvSpPr>
          <p:cNvPr id="11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69D830-1380-4D47-A385-DA66FCF91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985680" y="741240"/>
            <a:ext cx="4886640" cy="3665520"/>
          </a:xfrm>
          <a:prstGeom prst="rect">
            <a:avLst/>
          </a:prstGeom>
          <a:ln w="0">
            <a:noFill/>
          </a:ln>
        </p:spPr>
      </p:sp>
      <p:sp>
        <p:nvSpPr>
          <p:cNvPr id="11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702C13-6717-4188-B418-34289D538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6" name="PlaceHolder 1"/>
          <p:cNvSpPr>
            <a:spLocks noGrp="1"/>
          </p:cNvSpPr>
          <p:nvPr>
            <p:ph type="sldImg"/>
          </p:nvPr>
        </p:nvSpPr>
        <p:spPr>
          <a:xfrm>
            <a:off x="985680" y="741240"/>
            <a:ext cx="4886640" cy="3665520"/>
          </a:xfrm>
          <a:prstGeom prst="rect">
            <a:avLst/>
          </a:prstGeom>
          <a:ln w="0">
            <a:noFill/>
          </a:ln>
        </p:spPr>
      </p:sp>
      <p:sp>
        <p:nvSpPr>
          <p:cNvPr id="10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A479E9-9743-4B49-9477-E920F70874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985680" y="741240"/>
            <a:ext cx="4886640" cy="3665520"/>
          </a:xfrm>
          <a:prstGeom prst="rect">
            <a:avLst/>
          </a:prstGeom>
          <a:ln w="0">
            <a:noFill/>
          </a:ln>
        </p:spPr>
      </p:sp>
      <p:sp>
        <p:nvSpPr>
          <p:cNvPr id="11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43F324-8A1C-4690-BD62-5A44D5F3B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985680" y="741240"/>
            <a:ext cx="4886640" cy="3665520"/>
          </a:xfrm>
          <a:prstGeom prst="rect">
            <a:avLst/>
          </a:prstGeom>
          <a:ln w="0">
            <a:noFill/>
          </a:ln>
        </p:spPr>
      </p:sp>
      <p:sp>
        <p:nvSpPr>
          <p:cNvPr id="10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5D2D4E-E4E6-4000-AAC1-771F16933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985680" y="741240"/>
            <a:ext cx="4886640" cy="3665520"/>
          </a:xfrm>
          <a:prstGeom prst="rect">
            <a:avLst/>
          </a:prstGeom>
          <a:ln w="0">
            <a:noFill/>
          </a:ln>
        </p:spPr>
      </p:sp>
      <p:sp>
        <p:nvSpPr>
          <p:cNvPr id="10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82FC38-939F-4616-9045-081E18E21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985680" y="741240"/>
            <a:ext cx="4886640" cy="3665520"/>
          </a:xfrm>
          <a:prstGeom prst="rect">
            <a:avLst/>
          </a:prstGeom>
          <a:ln w="0">
            <a:noFill/>
          </a:ln>
        </p:spPr>
      </p:sp>
      <p:sp>
        <p:nvSpPr>
          <p:cNvPr id="10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B54F33-E3CE-47BA-A284-D0466FFD6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985680" y="741240"/>
            <a:ext cx="4886640" cy="3665520"/>
          </a:xfrm>
          <a:prstGeom prst="rect">
            <a:avLst/>
          </a:prstGeom>
          <a:ln w="0">
            <a:noFill/>
          </a:ln>
        </p:spPr>
      </p:sp>
      <p:sp>
        <p:nvSpPr>
          <p:cNvPr id="10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5A7BD5-3E1B-4E04-990B-373D6E9AD8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B492B0B-7B56-47DE-A708-D4650E727BE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56C30B76-7F72-4B22-AAB2-01F88443D23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0D4A4D8D-7B96-4C78-9A2F-4A66B3FF720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98ED8347-D59F-48FE-AC07-8FFA5963BC5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074862E-6CA6-42EE-847B-1CAE4567001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DCE1D2D-1709-4292-BA85-B6F103CFB56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C38C6A5-E763-401C-8681-AA6C3343833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B7F684D6-2FD1-4DF6-848F-7E08AC758C9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AEE34892-CAA4-49CE-9301-DDCB44DEFC7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8F212CB5-8202-4492-8DB8-5FE9CA39F0E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48DB8CE-37ED-41E1-826A-B96EEA2EBF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47EC3BD7-F0F0-4594-AB17-3B3EE28585A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3B0685B-EAB5-4A41-AF0F-4CF31918450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50669A66-5360-4860-AE16-56091A2A692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68515B6-621C-4AE0-8421-AB935EF7D33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4C2506F1-234E-4A2A-97B9-8609AE457BD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B2FABA61-87B5-4A7F-8D5B-589ED082FBE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46B3D93-1DB2-487A-818B-9B4963EDD29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C2CDF67-9CDC-4561-B6D8-3A81D105FFC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9217EA3-12A5-4BCD-87A5-E28551D96DF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4337A2E3-B4E5-484C-BC79-A44EF9E72C3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A00299F2-C6C8-441D-A4F6-21C32EFF38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B6DD3918-39FA-49E0-9A52-17F4CA64A6D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A27A98CE-404E-48BB-BB84-626435F6BF8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5956962-232A-4669-9CD8-CF60E88DE7B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662111C6-5C6F-4402-AAA9-5FCFF74EEE0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634C057-4680-41B4-8E64-B042EC900D0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B6B91DA9-548D-4A9A-B8A2-24DBE0764CA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77CC074E-967E-4F49-9417-409E3757C2A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97045E34-3215-4B54-BA58-4E8CB428814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0B7E4AA-6611-4D30-8FF0-D2522430BB0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7326E9E5-CC69-4C12-9DB1-E8A127B187C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69820C3-CC45-4D70-A029-DCA8470757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5ACC11-F1B4-4A5F-B295-E31AFE0A851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21F476AA-1FEC-4C44-BA5A-934747FF43B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E89F7732-FCC6-4576-AF19-9EEDE827715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F4AE169A-159B-4F44-B4CF-E0754389CBE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8299079-5A43-4221-8A43-80D1A89DEEA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763D1E5-38BD-4AB0-A61D-E1A5C73640F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76850821-B81C-48DB-B4E1-675FC8D94B6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31ADBF53-B708-4E66-A708-1199FDD6C5B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E1A98B26-8E4F-4002-9A19-A9CE55BD5C5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AECB702E-D488-44E8-A2E0-B495486608B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F45F3BC-478F-4D8D-BDD5-6FA659D2CC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6B516D5-472A-4A60-8D9A-C1A98717870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A8F2680-CC5A-48D1-8DF9-1B40BD90D09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6878286-C0CB-4D91-B7CA-1A466DFDEF6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BB0EEEEA-51C9-4F44-9868-5A60C3E564E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1C99343B-98AC-4F5F-996B-09117B9E67E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4D5C4960-8E76-4F98-83FB-02B63A8291E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5812551-8A64-447B-932C-84C69153045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C47977D3-18D8-461A-8247-4234E65611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82195F8D-E492-4A9F-9F8E-680EB82B39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8C1AFB1C-7B77-4E8E-B045-909FE938FE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E41D7DB7-CED0-4BD2-AC90-B93C2B8E98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C62E499-6E7F-4EF2-94FF-E5726CB32B7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B571EDE6-78B5-4661-89FB-B0DCF2FC87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0E21E34-4910-4F9A-9E62-5A00C63171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0755493-D0AF-4923-881C-E050D55795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8021B31-BF4E-4524-BA07-1D553B907E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652D6E8-8DBC-45A4-A085-AB54D6EC60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BA3C08BE-36D2-4F7A-A4F9-3F1BBB6505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64341992-4DCD-4368-8D7B-D2E77DA4494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6FFEDF4-E3CC-4C47-8B2D-FA322F2B51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375AB55A-760B-42D2-BCD5-4E73A97A44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1BEFB9F-1D3D-4380-BFD3-9B11BE7A83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0F44A38-7CF4-4B21-8AA6-AD48CFDB59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2936119-ED9E-402D-8434-CAC8ED0B3B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2705B07-D36F-48CF-87D2-0DFBDA2EC1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89FFCD5-BF5F-480F-ABE5-9DF689A48F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CE636DD-80FB-44AD-8160-B2F7241066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9B4A997-33E1-4F97-9EDA-1D66692E03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EDD1E85-23F8-4400-B814-63C9AC94E3C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ACF12CD-CC10-402E-A2B3-32B0C40E48C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B6EF53-3379-4EB6-884D-C841A7944FE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42B0A4-DE6F-448C-BE6F-1798D05C7EA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EF22A59-02D5-4003-9048-A0B8A958E6A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58784B-79C6-48E2-B6C0-C51FA0FA4C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14E6B82-D394-4A56-BD72-0970C3CF120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7307FFA-DAD4-4DF1-A9F7-3474F73DB58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E03B75A-7F27-4172-915A-2E8B0D86234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219862A-FDD8-4400-9696-167BC7C13F3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556058E-A718-408B-8243-70A373C3A2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A4CC5D31-88F6-456C-97A1-833FBDD0B5E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C10C1B7F-29AE-4C3D-BCD5-0CBB9EE6E5B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6725A8B5-917F-4532-80D9-7450339E2BD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AD9E5B-3F4D-4D50-A784-67D7D65E450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C5D22D2-4A64-4435-92A9-59CC59DB2B8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7F8FD64-3DFC-4573-AF89-1E2A88C932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24CB17E-6433-45E9-AACA-A9FFB685B1E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5CAD13F6-34A1-4FE3-8116-7F477045AAC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900606B4-1D7D-43FF-B464-74463F21E8C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C0D03BFD-FAF4-4B40-8E2A-C8FAF689111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8843782-C91E-4835-A136-535544A58FD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0646A04-5DC5-4158-B6C7-506037D715A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52F85FB-06EB-4088-BE58-A53360743DB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17E6AE3B-59BA-451C-BB86-CBD60E4FE27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AA3B324A-EC14-4CA2-BF87-F82FF365676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C32948E-08F3-4D16-9E39-19B28822361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182D684-2F6F-4540-8AAD-0C97FE63D2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174993B3-60E6-44F0-891A-38038292E2D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F5D41B13-B835-487B-9AF1-B0530013596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3FF652BB-F2A8-407A-8093-451808AC22F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04E77EFC-3AA6-4562-9304-039DB2B1CB9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976C1D6B-8D5D-42C0-B2B9-855CD86C64F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0E4572B2-E6FC-4D96-88E9-124D567FA25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69E924C-34E3-4999-8BBD-66437616AB5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84CB493-7912-46ED-BFF5-D8A081E1732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5BD143F-3AC9-486A-A3A9-96846053C23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68EACE3D-D0A9-41A6-B51E-64A4AFBD053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FFBEA7B4-6CB6-41D8-94C2-E31EC8B580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65EB2CAE-FAC4-490A-89BC-679489A6C66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7C331807-C35A-4968-8282-92B14D226CD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4757DF6-2BDC-489A-B882-FA392EE544E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9F978E5-9595-4063-9CD2-915E3385BB2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11E7A8E-FC06-401E-8399-D043E2D21EB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1BB932CA-82C3-4F2E-96CD-4CD39FBB802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D175A8F1-B31C-4C36-B72F-B0561477808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DCCA7EB0-9245-4630-8E4C-84203E2910B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749B3EC-F012-483F-B69D-49D557B74EB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D952E86-2661-4E45-81B2-AFF7D416A3D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4C9763CB-A3A4-43A6-8E28-CE5592DE33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806C11A-01CD-4597-B9D5-A231E691BF2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D69F2C18-DA90-43F8-AD1B-B6436DE38F7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9B00203A-6EAF-419D-A8C0-607ECCFA154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6D8F89A4-2E0F-4AD4-BEC6-4ACE5E55D4F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7C45D32-4BD7-41E0-A385-B56C7404487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276A5CB-E231-44A0-B6B7-B4BAA8EC86E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1D9C36A-6A9F-45F3-9517-F9620AC0213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8ED6646-DAC7-4571-AE71-31FCCC3934C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CCEE6661-23A1-4C4F-B43B-C597AB4028D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ED889521-35A9-4D4F-8D79-737938C7657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86C04E5-9784-4D5C-8D9B-7053E1405D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D0C1859-FB4E-4166-B8B0-6D37915EA32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FDAB5C4-EF50-4595-876C-416B25DD1FE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664FA4B-D471-4FA8-A732-AECD69E00D6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C13D1500-AD23-4C72-AADF-0D11C34EE5D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445483D8-04B9-4F97-A640-85C01D45BB9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1226FB5C-DAC6-495B-AB77-93F44B3857D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2AAE18A-03E0-4C6D-A4E9-30EE82D199E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4ADC832E-AAC4-4D4D-9FCA-FDD0421D92F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4CF4B76E-7342-453C-B842-06C63C8639A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ED5FF10-C552-4967-B9C8-DCA836A46F8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F9C40C3D-7983-4007-9028-E3ABAD300D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B70F4D0-A702-495B-B3A7-B35971CA5D9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4D586E9E-D298-440B-9C25-5910B739EBD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15DEAA2-5C54-4335-8526-9120E664FE9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84AA80D-09B9-4582-865B-BE8576ED82B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ADA450A-804F-41E6-88BE-C9B58EE488B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47E2E035-A844-46CA-9A08-CD4232A7A3F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809DD0D7-283C-45D6-B326-1822390FFFD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75D970DD-FBEF-4C6A-9874-0D0D38AB1D0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6E166B5-9F8A-4397-A487-066480A5485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1222D478-6D53-409C-A2BE-C57F3EBBB3D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E582021E-327E-49DE-96B6-ECD341055F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256B73-5E05-4E69-A55C-9F7EB0D8B5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9611CB-F094-41FF-A329-2FF0E6A482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756492-4B37-434A-AF86-C8A958CC20E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513C05-771D-46A3-834F-D3D4F6BE9D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2E7ED3-D143-4ED9-B3A2-B5CB55984DE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B1DA6B-814A-4B11-89A0-7D7F93EA391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0280FD-9D72-4F11-93FE-E789A17207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5FEE08-051D-4EDA-B192-0EAD799766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AFDEC4-B618-400F-AB47-1A465878E9D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5F0720-EBF0-4374-80DE-142BEDA1DD3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5E41E8-31B3-4E9D-A13E-72ACF46EEAA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A47682-428C-453C-8496-E2C53694EEB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A0FF50-3A4D-45FF-8B75-732D81E7651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και ο εξοπλισμός </a:t>
            </a:r>
            <a:br>
              <a:rPr sz="2800"/>
            </a:br>
            <a:r>
              <a:rPr b="0" lang="el-GR" sz="2800" spc="-1" strike="noStrike">
                <a:solidFill>
                  <a:srgbClr val="000000"/>
                </a:solidFill>
                <a:latin typeface="Times New Roman"/>
              </a:rPr>
              <a:t>(θρανία , καρέκλες, επίπλωση, υλικά, όργανα, εποπτικά μέσα, μηχανήματα κ.λπ.) </a:t>
            </a:r>
            <a:br>
              <a:rPr sz="2800"/>
            </a:br>
            <a:r>
              <a:rPr b="0" lang="el-GR" sz="2800" spc="-1" strike="noStrike">
                <a:solidFill>
                  <a:srgbClr val="000000"/>
                </a:solidFill>
                <a:latin typeface="Times New Roman"/>
              </a:rPr>
              <a:t>θα πρέπει όχι μόνο να επαρκούν αλλά και να είναι εργονομικά κατάλληλα και να  ανταποκρίνονται στις σύγχρονες διδακτικές και</a:t>
            </a:r>
            <a:br>
              <a:rPr sz="2800"/>
            </a:br>
            <a:r>
              <a:rPr b="0" lang="el-GR" sz="2800" spc="-1" strike="noStrike">
                <a:solidFill>
                  <a:srgbClr val="000000"/>
                </a:solidFill>
                <a:latin typeface="Times New Roman"/>
              </a:rPr>
              <a:t>μαθησιακές διαδικασίες .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θα πρέπει </a:t>
            </a:r>
            <a:br>
              <a:rPr sz="2800"/>
            </a:br>
            <a:r>
              <a:rPr b="0" lang="el-GR" sz="2800" spc="-1" strike="noStrike">
                <a:solidFill>
                  <a:srgbClr val="000000"/>
                </a:solidFill>
                <a:latin typeface="Times New Roman"/>
              </a:rPr>
              <a:t>να λαμβάνει υπόψη τον αριθμό των μαθητών </a:t>
            </a:r>
            <a:br>
              <a:rPr sz="2800"/>
            </a:br>
            <a:r>
              <a:rPr b="0" lang="el-GR" sz="2800" spc="-1" strike="noStrike">
                <a:solidFill>
                  <a:srgbClr val="000000"/>
                </a:solidFill>
                <a:latin typeface="Times New Roman"/>
              </a:rPr>
              <a:t>και του προσωπικού, τη</a:t>
            </a:r>
            <a:br>
              <a:rPr sz="2800"/>
            </a:br>
            <a:r>
              <a:rPr b="0" lang="el-GR" sz="2800" spc="-1" strike="noStrike">
                <a:solidFill>
                  <a:srgbClr val="000000"/>
                </a:solidFill>
                <a:latin typeface="Times New Roman"/>
              </a:rPr>
              <a:t>χρηματοδότηση και τους οικονομικούς πόρους της σχολικής μονάδας, καθώς και τις</a:t>
            </a:r>
            <a:br>
              <a:rPr sz="2800"/>
            </a:br>
            <a:r>
              <a:rPr b="0" lang="el-GR" sz="2800" spc="-1" strike="noStrike">
                <a:solidFill>
                  <a:srgbClr val="000000"/>
                </a:solidFill>
                <a:latin typeface="Times New Roman"/>
              </a:rPr>
              <a:t>ανάγκες των διαφόρων μαθημάτων και δραστηριοτήτων που προβλέπονται από το</a:t>
            </a:r>
            <a:br>
              <a:rPr sz="2800"/>
            </a:br>
            <a:r>
              <a:rPr b="0" lang="el-GR" sz="2800" spc="-1" strike="noStrike">
                <a:solidFill>
                  <a:srgbClr val="000000"/>
                </a:solidFill>
                <a:latin typeface="Times New Roman"/>
              </a:rPr>
              <a:t>αντίστοιχο αναλυτικό πρόγραμμα σπουδών. Επίσης, θα πρέπει να ληφθούν υπόψη οι</a:t>
            </a:r>
            <a:br>
              <a:rPr sz="2800"/>
            </a:br>
            <a:r>
              <a:rPr b="0" lang="el-GR" sz="2800" spc="-1" strike="noStrike">
                <a:solidFill>
                  <a:srgbClr val="000000"/>
                </a:solidFill>
                <a:latin typeface="Times New Roman"/>
              </a:rPr>
              <a:t>προδιαγραφές, όπως αυτές ορίζονται στην ισχύουσα νομοθεσία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ημαντικό ρόλο παίζει και η συντήρηση των σχολικών κτιρίων</a:t>
            </a:r>
            <a:br>
              <a:rPr sz="2800"/>
            </a:br>
            <a:r>
              <a:rPr b="0" lang="el-GR" sz="2800" spc="-1" strike="noStrike">
                <a:solidFill>
                  <a:srgbClr val="000000"/>
                </a:solidFill>
                <a:latin typeface="Times New Roman"/>
              </a:rPr>
              <a:t>δεδομένης της παλαιότητάς τους.</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πολύ σωστά επισημαίνει ο Ζωγόπουλος (2013) η ποιότητα του σχολικού χώρου δεν επηρεάζεται αποκλειστικά και μόνο από τις ποσοτικές ελλείψεις σε αίθουσες και τα υπόλοιπα στοιχεία της υλικοτεχνικής υποδομής. </a:t>
            </a:r>
            <a:br>
              <a:rPr sz="2800"/>
            </a:br>
            <a:r>
              <a:rPr b="0" lang="el-GR" sz="2800" spc="-1" strike="noStrike">
                <a:solidFill>
                  <a:srgbClr val="000000"/>
                </a:solidFill>
                <a:latin typeface="Times New Roman"/>
              </a:rPr>
              <a:t>Είναι αναγκαίο να διερευνηθεί εάν το σχολικό περιβάλλον από πλευράς λειτουργικότητας και αισθητικής, εκφράζει ή ακυρώνει το ισχύον εκπαιδευτικό σύστημα και τις αρχές που το διέπουν. </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ευνοεί για παράδειγμα αρχές όπως</a:t>
            </a:r>
            <a:br>
              <a:rPr sz="2800"/>
            </a:br>
            <a:r>
              <a:rPr b="0" lang="el-GR" sz="2800" spc="-1" strike="noStrike">
                <a:solidFill>
                  <a:srgbClr val="000000"/>
                </a:solidFill>
                <a:latin typeface="Times New Roman"/>
              </a:rPr>
              <a:t> η ομαδοσυνεργατική διδασκαλία και μάθηση,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ανθρωπίνων σχέσεων, </a:t>
            </a:r>
            <a:br>
              <a:rPr sz="2800"/>
            </a:br>
            <a:r>
              <a:rPr b="0" lang="el-GR" sz="2800" spc="-1" strike="noStrike">
                <a:solidFill>
                  <a:srgbClr val="000000"/>
                </a:solidFill>
                <a:latin typeface="Times New Roman"/>
              </a:rPr>
              <a:t>η δημιουργική χρήση εποπτικών μέσων.</a:t>
            </a:r>
            <a:br>
              <a:rPr sz="2800"/>
            </a:b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ριτήρια ποιότητας </a:t>
            </a:r>
            <a:br>
              <a:rPr sz="2800"/>
            </a:br>
            <a:r>
              <a:rPr b="1" lang="el-GR" sz="2800" spc="-1" strike="noStrike">
                <a:solidFill>
                  <a:srgbClr val="000000"/>
                </a:solidFill>
                <a:latin typeface="Times New Roman"/>
              </a:rPr>
              <a:t>σχολικών χώρων αποτελούν</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1. Βιοκλιματική Σχεδίαση και αρχιτεκτονική</a:t>
            </a:r>
            <a:br>
              <a:rPr sz="2800"/>
            </a:br>
            <a:br>
              <a:rPr sz="2800"/>
            </a:br>
            <a:r>
              <a:rPr b="0" lang="el-GR" sz="2800" spc="-1" strike="noStrike">
                <a:solidFill>
                  <a:srgbClr val="000000"/>
                </a:solidFill>
                <a:latin typeface="Times New Roman"/>
              </a:rPr>
              <a:t>Από το 2007 τα σχολικά κτίρια οικοδομούνται βάσει ενεργειακού σχεδιασμού, τα αποκαλούμενα βιοκλιματικά σχολεία. </a:t>
            </a:r>
            <a:br>
              <a:rPr sz="2800"/>
            </a:br>
            <a:r>
              <a:rPr b="0" lang="el-GR" sz="2800" spc="-1" strike="noStrike">
                <a:solidFill>
                  <a:srgbClr val="000000"/>
                </a:solidFill>
                <a:latin typeface="Times New Roman"/>
              </a:rPr>
              <a:t>Πρόκειται για ένα νέο τύπο προηγμένου τεχνολογικά και κατασκευαστικά σχολείου που αξιοποιεί κυρίως την ηλιακή ενέργεια για την αντιμετώπιση των λειτουργικών του αναγκών.. </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κοπός αυτού του τύπου διδακτηρίων είναι η υλοποίηση ενός σύγχρονου φιλικού προς το περιβάλλον κτιρίου, το οποίο θα καλύπτει όλες τις απαιτούμενες προδιαγραφές ασφάλειας και θα εξασφαλίζει καλύτερες συνθήκες λειτουργίας των χώρων, ενώ παράλληλα θα λειτουργεί ως ένα ζωντανό εργαστήριο περιβαλλοντικής εκπαίδευσης. </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τριες έχουν τη δυνατότητα να βιώσουν την πρακτική εφαρμογή όλων όσων μαθαίνουν σχετικά με την εξοικονόμηση ενέργειας, ενώ ταυτόχρονα τα σχολικά κτίρια μπορούν να λειτουργήσουν ως “καλό παράδειγμα” και να περάσουν ένα μήνυμα σε μεγάλο ποσοστό του πληθυσμού προκειμένου να εξοικειωθούν με αυτού του τύπου τον αρχιτεκτονικό σχεδιασμό.  </a:t>
            </a:r>
            <a:br>
              <a:rPr sz="2800"/>
            </a:b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24000" y="981000"/>
            <a:ext cx="813564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Κύρια χαρακτηριστικά τους είναι </a:t>
            </a:r>
            <a:br>
              <a:rPr sz="2800"/>
            </a:br>
            <a:r>
              <a:rPr b="0" lang="el-GR" sz="2800" spc="-1" strike="noStrike">
                <a:solidFill>
                  <a:srgbClr val="000000"/>
                </a:solidFill>
                <a:latin typeface="Times New Roman"/>
              </a:rPr>
              <a:t>η καλύτερη δυνατή αξιοποίηση του ήλιου κατά τη διάρκεια του χειμώνα, </a:t>
            </a:r>
            <a:br>
              <a:rPr sz="2800"/>
            </a:br>
            <a:r>
              <a:rPr b="0" lang="el-GR" sz="2800" spc="-1" strike="noStrike">
                <a:solidFill>
                  <a:srgbClr val="000000"/>
                </a:solidFill>
                <a:latin typeface="Times New Roman"/>
              </a:rPr>
              <a:t>η ισχυρή μόνωση, λιγότερα βόρεια ανοίγματα για την προστασία από το κρύο και αρχιτεκτονικές παρεμβάσεις για τον καλύτερο αερισμό. </a:t>
            </a:r>
            <a:br>
              <a:rPr sz="2800"/>
            </a:br>
            <a:r>
              <a:rPr b="0" lang="el-GR" sz="2800" spc="-1" strike="noStrike">
                <a:solidFill>
                  <a:srgbClr val="000000"/>
                </a:solidFill>
                <a:latin typeface="Times New Roman"/>
              </a:rPr>
              <a:t>Στις υπόλοιπες χώρες της Ευρώπης το ποσοστό τόσο γενικά των βιοκλιματικών κτιρίων, όσο και των βιοκλιματικών σχολείων είναι μεγαλύτερο από ότι στην Ελλάδα.</a:t>
            </a:r>
            <a:br>
              <a:rPr sz="2800"/>
            </a:b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468360" y="836640"/>
            <a:ext cx="8280360" cy="4948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2. Προϋποθέσεις ανέγερσης σχολικών κτιρίων</a:t>
            </a:r>
            <a:br>
              <a:rPr sz="2800"/>
            </a:br>
            <a:r>
              <a:rPr b="0" lang="el-GR" sz="2800" spc="-1" strike="noStrike">
                <a:solidFill>
                  <a:srgbClr val="000000"/>
                </a:solidFill>
                <a:latin typeface="Times New Roman"/>
              </a:rPr>
              <a:t>Αρχικά, πρέπει να επισημανθεί πως η ανέγερση, ενός σχολείου δεν αποτελεί απλή υπόθεση αλλά αντίθετα, πολύπλοκη και χρονοβόρα διαδικασία, καθώς εμπλέκονται πλήθος φορέων σε όλα τα στάδια, από την απόφαση της ανέγερσης, τη χωροθέτηση, τη μελέτη, την κατασκευή και την παράδοση για χρήση, και βέβαια η δαπάνη ανέγερσης, καθώς το κόστος μιας εκπαιδευτικής μονάδας με σύγχρονες προδιαγραφές είναι αρκετά υψηλό, όπως εξάλλου και η συντήρησή της </a:t>
            </a:r>
            <a:br>
              <a:rPr sz="2800"/>
            </a:br>
            <a:r>
              <a:rPr b="0" lang="el-GR" sz="2800" spc="-1" strike="noStrike">
                <a:solidFill>
                  <a:srgbClr val="000000"/>
                </a:solidFill>
                <a:latin typeface="Times New Roman"/>
              </a:rPr>
              <a:t>(Σταμάτης, 2006).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u="sng">
                <a:solidFill>
                  <a:srgbClr val="000000"/>
                </a:solidFill>
                <a:uFillTx/>
                <a:latin typeface="Times New Roman"/>
              </a:rPr>
              <a:t>3. Χωροταξική κατανομή - Συσχετισμός με το Πολεοδομικό Σχέδιο – Αποστάσεις</a:t>
            </a:r>
            <a:br>
              <a:rPr sz="2800"/>
            </a:br>
            <a:r>
              <a:rPr b="1" i="1" lang="el-GR" sz="2800" spc="-1" strike="noStrike" u="sng">
                <a:solidFill>
                  <a:srgbClr val="000000"/>
                </a:solidFill>
                <a:uFillTx/>
                <a:latin typeface="Times New Roman"/>
              </a:rPr>
              <a:t> </a:t>
            </a:r>
            <a:br>
              <a:rPr sz="2800"/>
            </a:br>
            <a:r>
              <a:rPr b="0" lang="el-GR" sz="2800" spc="-1" strike="noStrike">
                <a:solidFill>
                  <a:srgbClr val="000000"/>
                </a:solidFill>
                <a:latin typeface="Times New Roman"/>
              </a:rPr>
              <a:t>Η επιλογή των σχολικών χώρων πρέπει να επιδιώκεται στο πλαίσιο της διαδικασίας κατάρτισης−έγκρισης του Πολεοδομικού Σχεδίου. </a:t>
            </a:r>
            <a:br>
              <a:rPr sz="2800"/>
            </a:br>
            <a:br>
              <a:rPr sz="2800"/>
            </a:b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95280" y="126828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ι μέγιστες διανυόμενες αποστάσεις από τους μαθητές, εξαιρουμένων των μαθητών Α.Μ.Ε.Α., με αφετηρία μέτρησης το γεωμετρικό κέντρο του προτεινομένου οικοπέδου, να είναι οι εξής: </a:t>
            </a:r>
            <a:br>
              <a:rPr sz="2800"/>
            </a:br>
            <a:r>
              <a:rPr b="0" lang="el-GR" sz="2800" spc="-1" strike="noStrike">
                <a:solidFill>
                  <a:srgbClr val="000000"/>
                </a:solidFill>
                <a:latin typeface="Times New Roman"/>
              </a:rPr>
              <a:t>Απόσταση 400−500 μέτρα για τα νήπια. </a:t>
            </a:r>
            <a:br>
              <a:rPr sz="2800"/>
            </a:br>
            <a:r>
              <a:rPr b="0" lang="el-GR" sz="2800" spc="-1" strike="noStrike">
                <a:solidFill>
                  <a:srgbClr val="000000"/>
                </a:solidFill>
                <a:latin typeface="Times New Roman"/>
              </a:rPr>
              <a:t>Απόσταση 400−800 μέτρα για μαθητές του Δημοτικού. </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Σε οικιστικές περιοχές, που δεν υπάρχουν οικόπεδα στην προαναφερομένη απόσταση, μπορεί να γίνουν αποδεκτοί χώροι που βρίσκονται σε μεγαλύτερη απόσταση και πάντως όχι μεγαλύτερη του διπλασίου της κατώτερης αποδεκτής απόστασης κατά περίπτωση. </a:t>
            </a:r>
            <a:br>
              <a:rPr sz="2800"/>
            </a:b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u="sng">
                <a:solidFill>
                  <a:srgbClr val="000000"/>
                </a:solidFill>
                <a:uFillTx/>
                <a:latin typeface="Times New Roman"/>
              </a:rPr>
              <a:t>4. Προσπέλαση − Προσβασιμότητα</a:t>
            </a:r>
            <a:br>
              <a:rPr sz="2800"/>
            </a:br>
            <a:br>
              <a:rPr sz="2800"/>
            </a:br>
            <a:r>
              <a:rPr b="0" lang="el-GR" sz="2800" spc="-1" strike="noStrike">
                <a:solidFill>
                  <a:srgbClr val="000000"/>
                </a:solidFill>
                <a:latin typeface="Times New Roman"/>
              </a:rPr>
              <a:t>Κατά την επιλογή του οικοπέδου λαμβάνονται υπόψη όλα τα μέτρα που προβλέπονται για την ισότιμη προσβασιμότητα και την ασφάλεια των μαθητών κατά την μετακίνησή τους προς και από το Σχολικό Κτίριο.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ρέπει να αποφεύγεται </a:t>
            </a:r>
            <a:br>
              <a:rPr sz="2800"/>
            </a:br>
            <a:r>
              <a:rPr b="0" lang="el-GR" sz="2800" spc="-1" strike="noStrike">
                <a:solidFill>
                  <a:srgbClr val="000000"/>
                </a:solidFill>
                <a:latin typeface="Times New Roman"/>
              </a:rPr>
              <a:t>η γειτνίαση με οδικές αρτηρίες μεγάλου κυκλοφοριακού φόρτου, σιδηροδρομικές γραμμές, σταθμούς λεωφορείων, επαγγελματικούς χώρους στάθμευσης αυτοκινήτων, ζώνη άμεσης επιρροής διαδρόμων αερολιμένων και αεροδιαδρόμων κ.λ.π. και γενικότερα κάθε χώρου που η λειτουργία του μπορεί να βλάψει την ασφάλεια και την υγεία των μετακινουμένων μαθητών.</a:t>
            </a:r>
            <a:br>
              <a:rPr sz="2800"/>
            </a:b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5. Οχλούσες χρήσεις του περιβάλλοντος χώρου</a:t>
            </a:r>
            <a:br>
              <a:rPr sz="2800"/>
            </a:br>
            <a:r>
              <a:rPr b="0" lang="el-GR" sz="2800" spc="-1" strike="noStrike">
                <a:solidFill>
                  <a:srgbClr val="000000"/>
                </a:solidFill>
                <a:latin typeface="Times New Roman"/>
              </a:rPr>
              <a:t>Ο προτεινόμενος χώρος επιβάλλεται να βρίσκεται σε απόσταση από: </a:t>
            </a:r>
            <a:br>
              <a:rPr sz="2800"/>
            </a:br>
            <a:r>
              <a:rPr b="0" lang="el-GR" sz="2800" spc="-1" strike="noStrike">
                <a:solidFill>
                  <a:srgbClr val="000000"/>
                </a:solidFill>
                <a:latin typeface="Times New Roman"/>
              </a:rPr>
              <a:t>Σταθμούς κεραιών στην ξηρά − </a:t>
            </a:r>
            <a:br>
              <a:rPr sz="2800"/>
            </a:br>
            <a:r>
              <a:rPr b="0" lang="el-GR" sz="2800" spc="-1" strike="noStrike">
                <a:solidFill>
                  <a:srgbClr val="000000"/>
                </a:solidFill>
                <a:latin typeface="Times New Roman"/>
              </a:rPr>
              <a:t>Γραμμές μεταφοράς ηλεκτρικής ενέργειας, υποσταθμούς υψηλής τάσης</a:t>
            </a:r>
            <a:br>
              <a:rPr sz="2800"/>
            </a:br>
            <a:r>
              <a:rPr b="0" lang="el-GR" sz="2800" spc="-1" strike="noStrike">
                <a:solidFill>
                  <a:srgbClr val="000000"/>
                </a:solidFill>
                <a:latin typeface="Times New Roman"/>
              </a:rPr>
              <a:t>Πρατήρια υγρών και αερίων καυσίμων. </a:t>
            </a:r>
            <a:br>
              <a:rPr sz="2800"/>
            </a:br>
            <a:r>
              <a:rPr b="0" lang="el-GR" sz="2800" spc="-1" strike="noStrike">
                <a:solidFill>
                  <a:srgbClr val="000000"/>
                </a:solidFill>
                <a:latin typeface="Times New Roman"/>
              </a:rPr>
              <a:t>Βιομηχανικές δραστηριότητες, </a:t>
            </a:r>
            <a:br>
              <a:rPr sz="2800"/>
            </a:br>
            <a:r>
              <a:rPr b="0" lang="el-GR" sz="2800" spc="-1" strike="noStrike">
                <a:solidFill>
                  <a:srgbClr val="000000"/>
                </a:solidFill>
                <a:latin typeface="Times New Roman"/>
              </a:rPr>
              <a:t>αποθήκες επικίνδυνων εμπορευμάτων. </a:t>
            </a:r>
            <a:br>
              <a:rPr sz="2800"/>
            </a:br>
            <a:r>
              <a:rPr b="0" lang="el-GR" sz="2800" spc="-1" strike="noStrike">
                <a:solidFill>
                  <a:srgbClr val="000000"/>
                </a:solidFill>
                <a:latin typeface="Times New Roman"/>
              </a:rPr>
              <a:t>Καταστήματα, όπως μπάρ, χώροι τυχερών παιγνίων, οίκοι ανοχής κ.λ.π. </a:t>
            </a:r>
            <a:br>
              <a:rPr sz="2800"/>
            </a:b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ωφρονιστικά ιδρύματα, </a:t>
            </a:r>
            <a:br>
              <a:rPr sz="2800"/>
            </a:br>
            <a:r>
              <a:rPr b="0" lang="el-GR" sz="2800" spc="-1" strike="noStrike">
                <a:solidFill>
                  <a:srgbClr val="000000"/>
                </a:solidFill>
                <a:latin typeface="Times New Roman"/>
              </a:rPr>
              <a:t>Νοσηλευτικά Ιδρύματα, Νεκροταφεία. </a:t>
            </a:r>
            <a:br>
              <a:rPr sz="2800"/>
            </a:br>
            <a:r>
              <a:rPr b="0" lang="el-GR" sz="2800" spc="-1" strike="noStrike">
                <a:solidFill>
                  <a:srgbClr val="000000"/>
                </a:solidFill>
                <a:latin typeface="Times New Roman"/>
              </a:rPr>
              <a:t>Πτηνοκτηνοτροφικές μονάδες.</a:t>
            </a:r>
            <a:br>
              <a:rPr sz="2800"/>
            </a:br>
            <a:br>
              <a:rPr sz="2800"/>
            </a:br>
            <a:r>
              <a:rPr b="0" lang="el-GR" sz="2800" spc="-1" strike="noStrike">
                <a:solidFill>
                  <a:srgbClr val="000000"/>
                </a:solidFill>
                <a:latin typeface="Times New Roman"/>
              </a:rPr>
              <a:t>Να αποφεύγονται γενικά χώροι ή λειτουργίες, που αποτελούν εστίες ηχορύπανσης, ατμοσφαιρικής ρύπανσης, επικίνδυνης ηλεκτρομαγνητικής ακτινοβολίας, πυρκαγιάς, εκρήξεων και λοιπών μολύνσεων, ώστε να αποτρέπονται οι ενδεχόμενοι κίνδυνοι που απορρέουν από τη γειτνίαση.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68360" y="1392120"/>
            <a:ext cx="813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6. Εμβαδόν και Τεχνικά Χαρακτηριστικά Χώρων </a:t>
            </a:r>
            <a:br>
              <a:rPr sz="2800"/>
            </a:br>
            <a:r>
              <a:rPr b="0" lang="el-GR" sz="2800" spc="-1" strike="noStrike">
                <a:solidFill>
                  <a:srgbClr val="000000"/>
                </a:solidFill>
                <a:latin typeface="Times New Roman"/>
              </a:rPr>
              <a:t>Το εμβαδόν των απαιτουμένων χώρων για ανέγερση σχολικών κτιρίων ανά βαθμίδα εκπαίδευσης και αριθμό μαθητών: </a:t>
            </a:r>
            <a:br>
              <a:rPr sz="2800"/>
            </a:br>
            <a:br>
              <a:rPr sz="2800"/>
            </a:br>
            <a:r>
              <a:rPr b="0" lang="el-GR" sz="2800" spc="-1" strike="noStrike">
                <a:solidFill>
                  <a:srgbClr val="000000"/>
                </a:solidFill>
                <a:latin typeface="Times New Roman"/>
              </a:rPr>
              <a:t>περίπου 1.200μ2 για Νηπιαγωγείο 2 τάξεων, </a:t>
            </a:r>
            <a:br>
              <a:rPr sz="2800"/>
            </a:br>
            <a:r>
              <a:rPr b="0" lang="el-GR" sz="2800" spc="-1" strike="noStrike">
                <a:solidFill>
                  <a:srgbClr val="000000"/>
                </a:solidFill>
                <a:latin typeface="Times New Roman"/>
              </a:rPr>
              <a:t>30 νηπίων. </a:t>
            </a:r>
            <a:br>
              <a:rPr sz="2800"/>
            </a:br>
            <a:br>
              <a:rPr sz="2800"/>
            </a:br>
            <a:r>
              <a:rPr b="0" lang="el-GR" sz="2800" spc="-1" strike="noStrike">
                <a:solidFill>
                  <a:srgbClr val="000000"/>
                </a:solidFill>
                <a:latin typeface="Times New Roman"/>
              </a:rPr>
              <a:t>περίπου 1.400μ2 για Νηπιαγωγείο 3τάξεων, </a:t>
            </a:r>
            <a:br>
              <a:rPr sz="2800"/>
            </a:br>
            <a:r>
              <a:rPr b="0" lang="el-GR" sz="2800" spc="-1" strike="noStrike">
                <a:solidFill>
                  <a:srgbClr val="000000"/>
                </a:solidFill>
                <a:latin typeface="Times New Roman"/>
              </a:rPr>
              <a:t>60 νηπίων. </a:t>
            </a:r>
            <a:br>
              <a:rPr sz="2800"/>
            </a:br>
            <a:br>
              <a:rPr sz="2800"/>
            </a:br>
            <a:r>
              <a:rPr b="0" lang="el-GR" sz="2800" spc="-1" strike="noStrike">
                <a:solidFill>
                  <a:srgbClr val="000000"/>
                </a:solidFill>
                <a:latin typeface="Times New Roman"/>
              </a:rPr>
              <a:t>.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ερίπου 1.850μ2 για 3/θέσιο Δημοτικό Σχολείο, </a:t>
            </a:r>
            <a:br>
              <a:rPr sz="2800"/>
            </a:br>
            <a:r>
              <a:rPr b="0" lang="el-GR" sz="2800" spc="-1" strike="noStrike">
                <a:solidFill>
                  <a:srgbClr val="000000"/>
                </a:solidFill>
                <a:latin typeface="Times New Roman"/>
              </a:rPr>
              <a:t>90 μαθητών. </a:t>
            </a:r>
            <a:br>
              <a:rPr sz="2800"/>
            </a:br>
            <a:r>
              <a:rPr b="0" lang="el-GR" sz="2800" spc="-1" strike="noStrike">
                <a:solidFill>
                  <a:srgbClr val="000000"/>
                </a:solidFill>
                <a:latin typeface="Times New Roman"/>
              </a:rPr>
              <a:t>περίπου 2.600μ2 για 6/θέσιο Δημοτικό Σχολείο, 180 μαθητών </a:t>
            </a:r>
            <a:br>
              <a:rPr sz="2800"/>
            </a:br>
            <a:br>
              <a:rPr sz="2800"/>
            </a:br>
            <a:r>
              <a:rPr b="0" lang="el-GR" sz="2800" spc="-1" strike="noStrike">
                <a:solidFill>
                  <a:srgbClr val="000000"/>
                </a:solidFill>
                <a:latin typeface="Times New Roman"/>
              </a:rPr>
              <a:t>περίπου 3.200μ2 για 9/θέσιο Δημοτικό Σχολείο, 270 μαθητών. </a:t>
            </a:r>
            <a:br>
              <a:rPr sz="2800"/>
            </a:br>
            <a:br>
              <a:rPr sz="2800"/>
            </a:br>
            <a:r>
              <a:rPr b="0" lang="el-GR" sz="2800" spc="-1" strike="noStrike">
                <a:solidFill>
                  <a:srgbClr val="000000"/>
                </a:solidFill>
                <a:latin typeface="Times New Roman"/>
              </a:rPr>
              <a:t>περίπου 3.800μ2 για 12/θέσιο Δημοτικό Σχολείο, 360 μαθητών</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παρούσα ενότητα εξετάζονται </a:t>
            </a:r>
            <a:br>
              <a:rPr sz="2800"/>
            </a:br>
            <a:r>
              <a:rPr b="0" lang="el-GR" sz="2800" spc="-1" strike="noStrike">
                <a:solidFill>
                  <a:srgbClr val="000000"/>
                </a:solidFill>
                <a:latin typeface="Times New Roman"/>
              </a:rPr>
              <a:t>τα </a:t>
            </a:r>
            <a:r>
              <a:rPr b="1" i="1" lang="el-GR" sz="2800" spc="-1" strike="noStrike">
                <a:solidFill>
                  <a:srgbClr val="000000"/>
                </a:solidFill>
                <a:latin typeface="Times New Roman"/>
              </a:rPr>
              <a:t>κριτήρια διασφάλισης και</a:t>
            </a:r>
            <a:br>
              <a:rPr sz="2800"/>
            </a:br>
            <a:r>
              <a:rPr b="1" i="1" lang="el-GR" sz="2800" spc="-1" strike="noStrike">
                <a:solidFill>
                  <a:srgbClr val="000000"/>
                </a:solidFill>
                <a:latin typeface="Times New Roman"/>
              </a:rPr>
              <a:t>αξιολόγησης της ποιότητας των διδακτηρίων,</a:t>
            </a:r>
            <a:br>
              <a:rPr sz="2800"/>
            </a:br>
            <a:r>
              <a:rPr b="1" i="1" lang="el-GR" sz="2800" spc="-1" strike="noStrike">
                <a:solidFill>
                  <a:srgbClr val="000000"/>
                </a:solidFill>
                <a:latin typeface="Times New Roman"/>
              </a:rPr>
              <a:t> η καταλληλότητα των υποδομών τους</a:t>
            </a:r>
            <a:br>
              <a:rPr sz="2800"/>
            </a:br>
            <a:r>
              <a:rPr b="1" i="1" lang="el-GR" sz="2800" spc="-1" strike="noStrike">
                <a:solidFill>
                  <a:srgbClr val="000000"/>
                </a:solidFill>
                <a:latin typeface="Times New Roman"/>
              </a:rPr>
              <a:t>και η επάρκεια του εξοπλισμού τους.</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Κατά τον σχεδιασμό θα πρέπει να λαμβάνεται υπόψη το απαιτούμενο κτιριολογικό πρόγραμμα για κάθε βαθμίδα εκπαίδευσης. </a:t>
            </a:r>
            <a:br>
              <a:rPr sz="2800"/>
            </a:br>
            <a:br>
              <a:rPr sz="2800"/>
            </a:br>
            <a:r>
              <a:rPr b="0" lang="el-GR" sz="2800" spc="-1" strike="noStrike">
                <a:solidFill>
                  <a:srgbClr val="000000"/>
                </a:solidFill>
                <a:latin typeface="Times New Roman"/>
              </a:rPr>
              <a:t>Τα κτιριολογικά προγράμματα για τα νηπιαγωγεία μπορούν να αναπτυχθούν σε ισόγεια κτίρια και για τα δημοτικά σε τριώροφα κτίρια.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7. Βασικές αρχές διδακτηρίων </a:t>
            </a:r>
            <a:br>
              <a:rPr sz="2800"/>
            </a:br>
            <a:r>
              <a:rPr b="0" lang="el-GR" sz="2800" spc="-1" strike="noStrike">
                <a:solidFill>
                  <a:srgbClr val="000000"/>
                </a:solidFill>
                <a:latin typeface="Times New Roman"/>
              </a:rPr>
              <a:t>Η χωροθέτηση του κτιρίου μέσα στο οικόπεδο αποτελεί την αρχή του σχεδιασμού κάθε μελέτης. Για το λόγο αυτό θα πρέπει να εξασφαλίζονται ο αύλειος χώρος προστατευμένος από τον βορρά και ο καλός φωτισμός των αιθουσών. </a:t>
            </a:r>
            <a:br>
              <a:rPr sz="2800"/>
            </a:br>
            <a:r>
              <a:rPr b="0" lang="el-GR" sz="2800" spc="-1" strike="noStrike">
                <a:solidFill>
                  <a:srgbClr val="000000"/>
                </a:solidFill>
                <a:latin typeface="Times New Roman"/>
              </a:rPr>
              <a:t>Ο ανατολικός και ο δυτικός προσανατολισμός θα πρέπει να αποφεύγονται.</a:t>
            </a:r>
            <a:br>
              <a:rPr sz="2800"/>
            </a:b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χώροι υγιεινής τοποθετούνται στο ισόγειο, για την καλύτερη λειτουργία της αποχέτευσης. Στον ίδιο χώρο εντάσσεται και ένα WC για άτομα με ειδικές ανάγκες, αποθήκη ειδών καθαρισμού με παροχή νερού. </a:t>
            </a:r>
            <a:br>
              <a:rPr sz="2800"/>
            </a:br>
            <a:r>
              <a:rPr b="0" lang="el-GR" sz="2800" spc="-1" strike="noStrike">
                <a:solidFill>
                  <a:srgbClr val="000000"/>
                </a:solidFill>
                <a:latin typeface="Times New Roman"/>
              </a:rPr>
              <a:t>Στους ορόφους προβλέπονται 1-2 WC βοηθητικά, καθώς και παροχή νερού σε θέσεις κατάλληλες για την διευκόλυνση του καθαρισμού σχολείου. </a:t>
            </a:r>
            <a:br>
              <a:rPr sz="2800"/>
            </a:b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a:t>
            </a:r>
            <a:br>
              <a:rPr sz="2800"/>
            </a:br>
            <a:r>
              <a:rPr b="0" lang="el-GR" sz="2800" spc="-1" strike="noStrike">
                <a:solidFill>
                  <a:srgbClr val="000000"/>
                </a:solidFill>
                <a:latin typeface="Times New Roman"/>
              </a:rPr>
              <a:t>Δυνατότητα εισόδου στον αύλειο χώρο από δύο σημεία. Απαραίτητη η πρόσβαση αυτοκινήτου μέσα στον αύλειο χώρο μέχρι την είσοδο του κτιρίου </a:t>
            </a:r>
            <a:br>
              <a:rPr sz="2800"/>
            </a:br>
            <a:r>
              <a:rPr b="0" lang="el-GR" sz="2800" spc="-1" strike="noStrike">
                <a:solidFill>
                  <a:srgbClr val="000000"/>
                </a:solidFill>
                <a:latin typeface="Times New Roman"/>
              </a:rPr>
              <a:t>(μεταφορά βιβλίων, ασθενοφόρο κλπ.). </a:t>
            </a:r>
            <a:br>
              <a:rPr sz="2800"/>
            </a:br>
            <a:r>
              <a:rPr b="0" lang="el-GR" sz="2800" spc="-1" strike="noStrike">
                <a:solidFill>
                  <a:srgbClr val="000000"/>
                </a:solidFill>
                <a:latin typeface="Times New Roman"/>
              </a:rPr>
              <a:t>Τοποθέτηση του λεβητοστασίου σε κεντρική θέση. </a:t>
            </a:r>
            <a:br>
              <a:rPr sz="2800"/>
            </a:br>
            <a:r>
              <a:rPr b="0" lang="el-GR" sz="2800" spc="-1" strike="noStrike">
                <a:solidFill>
                  <a:srgbClr val="000000"/>
                </a:solidFill>
                <a:latin typeface="Times New Roman"/>
              </a:rPr>
              <a:t>Δυνατότητα χρήσης της αίθουσας πολλαπλών χρήσεων καθώς και της βιβλιοθήκης από την κοινότητα σε χρόνο ανεξάρτητο από την λειτουργία του σχολείου.</a:t>
            </a:r>
            <a:br>
              <a:rPr sz="2800"/>
            </a:b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Δυνατότητα προσέγγισης όλων των κτιρίων του διδακτηρίου καθώς και του αυλείου χώρου </a:t>
            </a:r>
            <a:br>
              <a:rPr sz="2800"/>
            </a:br>
            <a:r>
              <a:rPr b="0" lang="el-GR" sz="2800" spc="-1" strike="noStrike">
                <a:solidFill>
                  <a:srgbClr val="000000"/>
                </a:solidFill>
                <a:latin typeface="Times New Roman"/>
              </a:rPr>
              <a:t>για άτομα με κινητικά προβλήματα, </a:t>
            </a:r>
            <a:br>
              <a:rPr sz="2800"/>
            </a:br>
            <a:r>
              <a:rPr b="0" lang="el-GR" sz="2800" spc="-1" strike="noStrike">
                <a:solidFill>
                  <a:srgbClr val="000000"/>
                </a:solidFill>
                <a:latin typeface="Times New Roman"/>
              </a:rPr>
              <a:t>με ράμπες και ανελκυστήρες (Οδηγός, 2008).</a:t>
            </a:r>
            <a:br>
              <a:rPr sz="2800"/>
            </a:b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61128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8. Προδιαγραφές ειδικών εξυπηρετήσεων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Οι μαθητές με πρόβλημα κινητικότητας, που χαρακτηρίζεται «κινητική δυσκολία» μέχρι και «κινητική αναπηρία» όχι σοβαρής μορφής, εξυπηρετούνται στα κανονικά σχολεία, εφόσον αυτά παρέχουν ορισμένες ειδικές εξυπηρετήσεις. </a:t>
            </a:r>
            <a:br>
              <a:rPr sz="2800"/>
            </a:br>
            <a:r>
              <a:rPr b="0" lang="el-GR" sz="2800" spc="-1" strike="noStrike">
                <a:solidFill>
                  <a:srgbClr val="000000"/>
                </a:solidFill>
                <a:latin typeface="Times New Roman"/>
              </a:rPr>
              <a:t>Οι ειδικές εξυπηρετήσεις του σχολείου αφορούν: </a:t>
            </a:r>
            <a:br>
              <a:rPr sz="2800"/>
            </a:br>
            <a:r>
              <a:rPr b="0" lang="el-GR" sz="2800" spc="-1" strike="noStrike">
                <a:solidFill>
                  <a:srgbClr val="000000"/>
                </a:solidFill>
                <a:latin typeface="Times New Roman"/>
              </a:rPr>
              <a:t>Στην προσπελασιμότητα των χώρων του σχολικού κτιρίου (διάδρομοι, ράμπες, ανελκυστήρες κλπ)</a:t>
            </a:r>
            <a:br>
              <a:rPr sz="2800"/>
            </a:br>
            <a:r>
              <a:rPr b="0" lang="el-GR" sz="2800" spc="-1" strike="noStrike">
                <a:solidFill>
                  <a:srgbClr val="000000"/>
                </a:solidFill>
                <a:latin typeface="Times New Roman"/>
              </a:rPr>
              <a:t>Στη δυνατότητα χρήσης των βοηθητικών χώρων (χώροι υγιεινής κλπ).</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ε σχολεία άνω του ενός ορόφου τοποθετείται ανελκυστήρας . </a:t>
            </a:r>
            <a:br>
              <a:rPr sz="2800"/>
            </a:br>
            <a:r>
              <a:rPr b="0" lang="el-GR" sz="2800" spc="-1" strike="noStrike">
                <a:solidFill>
                  <a:srgbClr val="000000"/>
                </a:solidFill>
                <a:latin typeface="Times New Roman"/>
              </a:rPr>
              <a:t>Σε όλα τα σχολεία τοποθετείται ένα WC αναπήρου </a:t>
            </a:r>
            <a:br>
              <a:rPr sz="2800"/>
            </a:br>
            <a:r>
              <a:rPr b="0" lang="el-GR" sz="2800" spc="-1" strike="noStrike">
                <a:solidFill>
                  <a:srgbClr val="000000"/>
                </a:solidFill>
                <a:latin typeface="Times New Roman"/>
              </a:rPr>
              <a:t>Αναγκαία είναι επίσης και η δυνατότητα προσπέλασης από τους ανάπηρους όλων των υπαίθριων χώρων με πιθανή εξαίρεση ορισμένων σε οικόπεδα με μεγάλες κλίσεις, ύστερα από αξιολόγηση των απαραίτητων κινήσεων.</a:t>
            </a:r>
            <a:br>
              <a:rPr sz="2800"/>
            </a:b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9. Αίθουσα Διδασκαλίας</a:t>
            </a:r>
            <a:br>
              <a:rPr sz="2800"/>
            </a:br>
            <a:r>
              <a:rPr b="0" lang="el-GR" sz="2800" spc="-1" strike="noStrike">
                <a:solidFill>
                  <a:srgbClr val="000000"/>
                </a:solidFill>
                <a:latin typeface="Times New Roman"/>
              </a:rPr>
              <a:t>Δυναμικό: 30 μαθητές</a:t>
            </a:r>
            <a:br>
              <a:rPr sz="2800"/>
            </a:br>
            <a:r>
              <a:rPr b="0" lang="el-GR" sz="2800" spc="-1" strike="noStrike">
                <a:solidFill>
                  <a:srgbClr val="000000"/>
                </a:solidFill>
                <a:latin typeface="Times New Roman"/>
              </a:rPr>
              <a:t>Ελάχιστη εσωτερική διάσταση: 6,90m.-Ελεύθερο ύψος ≥ 3,00m.-Απαιτούμενη φωτιστική επιφάνεια, το 1/5 της επιφανείας της αίθουσας.-Απαραίτητη η δυνατότητα συσκότισης (κουρτίνες).</a:t>
            </a:r>
            <a:br>
              <a:rPr sz="2800"/>
            </a:br>
            <a:r>
              <a:rPr b="0" lang="el-GR" sz="2800" spc="-1" strike="noStrike">
                <a:solidFill>
                  <a:srgbClr val="000000"/>
                </a:solidFill>
                <a:latin typeface="Times New Roman"/>
              </a:rPr>
              <a:t>Βιβλιοθήκη με κλειστά φύλα επιφανείας ≥ 2,50m2 για την φύλαξη εποπτικού υλικού, βιβλίων γραφικής ύλης κλπ.Κρεμάστρες ιματισμού σε μήκος ≥ 2,30m, με απόσταση αγκίστρων ≥ 10cm.</a:t>
            </a:r>
            <a:br>
              <a:rPr sz="2800"/>
            </a:b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10. Χώροι υγιεινής μαθητών</a:t>
            </a:r>
            <a:br>
              <a:rPr sz="2800"/>
            </a:br>
            <a:br>
              <a:rPr sz="2800"/>
            </a:br>
            <a:r>
              <a:rPr b="0" lang="el-GR" sz="2800" spc="-1" strike="noStrike">
                <a:solidFill>
                  <a:srgbClr val="000000"/>
                </a:solidFill>
                <a:latin typeface="Times New Roman"/>
              </a:rPr>
              <a:t>Ελεύθερο ύψος ≥ 2,40m </a:t>
            </a:r>
            <a:br>
              <a:rPr sz="2800"/>
            </a:br>
            <a:r>
              <a:rPr b="0" lang="el-GR" sz="2800" spc="-1" strike="noStrike">
                <a:solidFill>
                  <a:srgbClr val="000000"/>
                </a:solidFill>
                <a:latin typeface="Times New Roman"/>
              </a:rPr>
              <a:t>Φυσικός φωτισμός 1,10 της επιφανείας του χώρου. </a:t>
            </a:r>
            <a:br>
              <a:rPr sz="2800"/>
            </a:br>
            <a:r>
              <a:rPr b="0" lang="el-GR" sz="2800" spc="-1" strike="noStrike">
                <a:solidFill>
                  <a:srgbClr val="000000"/>
                </a:solidFill>
                <a:latin typeface="Times New Roman"/>
              </a:rPr>
              <a:t>Μόνωση χώρου: θερμική, υγρομόνωση.</a:t>
            </a:r>
            <a:br>
              <a:rPr sz="2800"/>
            </a:br>
            <a:r>
              <a:rPr b="0" lang="el-GR" sz="2800" spc="-1" strike="noStrike">
                <a:solidFill>
                  <a:srgbClr val="000000"/>
                </a:solidFill>
                <a:latin typeface="Times New Roman"/>
              </a:rPr>
              <a:t>40 αγόρια: 1 WC – 2 ουρητήρια – 2 νιπτήρες.</a:t>
            </a:r>
            <a:br>
              <a:rPr sz="2800"/>
            </a:br>
            <a:r>
              <a:rPr b="0" lang="el-GR" sz="2800" spc="-1" strike="noStrike">
                <a:solidFill>
                  <a:srgbClr val="000000"/>
                </a:solidFill>
                <a:latin typeface="Times New Roman"/>
              </a:rPr>
              <a:t>20 κορίτσια: 1 WC – 1νιπτήρας </a:t>
            </a:r>
            <a:br>
              <a:rPr sz="2800"/>
            </a:br>
            <a:r>
              <a:rPr b="0" lang="el-GR" sz="2800" spc="-1" strike="noStrike">
                <a:solidFill>
                  <a:srgbClr val="000000"/>
                </a:solidFill>
                <a:latin typeface="Times New Roman"/>
              </a:rPr>
              <a:t>Ανά σχολική μονάδα: 1WC αναπήρου</a:t>
            </a:r>
            <a:br>
              <a:rPr sz="2800"/>
            </a:b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11. Συντήρηση σχολικού χώρου</a:t>
            </a:r>
            <a:br>
              <a:rPr sz="2800"/>
            </a:br>
            <a:br>
              <a:rPr sz="2800"/>
            </a:br>
            <a:r>
              <a:rPr b="0" lang="el-GR" sz="2800" spc="-1" strike="noStrike">
                <a:solidFill>
                  <a:srgbClr val="000000"/>
                </a:solidFill>
                <a:latin typeface="Times New Roman"/>
              </a:rPr>
              <a:t>Εξίσου, σημαντικό ρόλο παίζει και η συντήρηση των σχολικών κτιρίων δεδομένης της παλαιότητάς τους, αλλά και της κακής ποιότητας των νέων (Κωσταρέλα &amp; Δημούδη, 2006).</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χαρακτηρίζεται ως «ακρογωνιαίος λίθος» των εκπαιδευτικών συστημάτων και θεμέλιο της  εκπαιδευτικής πραγματικότητας </a:t>
            </a:r>
            <a:br>
              <a:rPr sz="2800"/>
            </a:br>
            <a:r>
              <a:rPr b="0" lang="el-GR" sz="2800" spc="-1" strike="noStrike">
                <a:solidFill>
                  <a:srgbClr val="000000"/>
                </a:solidFill>
                <a:latin typeface="Times New Roman"/>
              </a:rPr>
              <a:t>και σχολικής καθημερινότητας.</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το Σωματείο Εργαζομένων του Οργανισμού Σχολικών Κτιρίων Α.Ε., περισσότερα από τα μισά σχολικά κτίρια της χώρας χρονολογούνται μεταξύ των δεκαετιών του 1960 και του 1980 και χρήζουν άμεσων κατασκευαστικών βελτιώσεων, ενισχύσεων ή και αντικατάστασης τουλάχιστον σε βάθος πενταετίας έτσι, ώστε να μετατραπούν σε ασφαλή και αποτελεσματικά εκπαιδευτικά ιδρύματα </a:t>
            </a:r>
            <a:br>
              <a:rPr sz="2800"/>
            </a:br>
            <a:r>
              <a:rPr b="0" lang="el-GR" sz="2800" spc="-1" strike="noStrike">
                <a:solidFill>
                  <a:srgbClr val="000000"/>
                </a:solidFill>
                <a:latin typeface="Times New Roman"/>
              </a:rPr>
              <a:t>(Το Βήμα, 2012).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ην πλήρη και αποκλειστική ευθύνη της συντήρησης των σχολείων έχουν οι Ο.Τ.Α., οι οποίοι θα μπορούν να κατασκευάζουν και σχολικές μονάδες, ωστόσο, μόνο εάν διαθέτουν τα χρήματα ή μπορούν να εντάξουν το έργο αυτό στο Ε.Σ.Π.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ροβλήματα διαβιβάζονται συνήθως από τον Διευθυντή  της σχολικής μονάδας στη Σχολική Επιτροπή και στη συνέχεια ανήκει στη διακριτική ευχέρεια των τεχνικών υπηρεσιών του Δήμου (επιλογή χρόνου, υλικών, προσωπικού), οι οποίες είναι επιφορτισμένες με την αντιμετώπιση επισκευών και συντηρήσεων των σχολικών κτιρίων, καθώς αυτά αποτελούν περιουσιακά του στοιχεί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διευθυντής της σχολικής μονάδας  μεριμνά για την καθαριότητα και την καλή κατάσταση των εγκαταστάσεων του σχολικού περιβάλλοντος. Είναι αρμόδιος προκειμένου να εξασφαλίζεται η έγκριση των αρχών και υπηρεσιών για κάθε εργασία κτιριακής φύσεως και έχει λόγο στην οποιαδήποτε διαμόρφωση του φυσικού χώρου του σχολείου ή για οποιοδήποτε έργο εκτελείται στο πλαίσιο αυτό.</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Συνάμα, είναι υπεύθυνος για την παραγγελία των διδακτικών και εξοπλιστικών μέσων και την καταλληλότητά τους</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υνοψίζοντας, </a:t>
            </a:r>
            <a:br>
              <a:rPr sz="2800"/>
            </a:br>
            <a:r>
              <a:rPr b="0" lang="el-GR" sz="2800" spc="-1" strike="noStrike">
                <a:solidFill>
                  <a:srgbClr val="000000"/>
                </a:solidFill>
                <a:latin typeface="Times New Roman"/>
              </a:rPr>
              <a:t>φαίνεται πως έχει γίνει μια αξιόλογη προσπάθεια διατύπωσης όλων εκείνων των απαραίτητων κριτηρίων για την καταλληλότητα, τη λειτουργικότητα και την ασφάλεια ενός σχολικού περιβάλλοντος. </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λά διδακτήρια χρήζουν άμεσων κατασκευαστικών βελτιώσεων, ενισχύσεων ή και αντικατάσταση, έτσι, ώστε να μετατραπούν σε</a:t>
            </a:r>
            <a:br>
              <a:rPr sz="2800"/>
            </a:br>
            <a:r>
              <a:rPr b="0" lang="el-GR" sz="2800" spc="-1" strike="noStrike">
                <a:solidFill>
                  <a:srgbClr val="000000"/>
                </a:solidFill>
                <a:latin typeface="Times New Roman"/>
              </a:rPr>
              <a:t>ασφαλή και αποτελεσματικά εκπαιδευτικά ιδρύματα</a:t>
            </a:r>
            <a:r>
              <a:rPr b="0" i="1"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του σχολικού</a:t>
            </a:r>
            <a:br>
              <a:rPr sz="2800"/>
            </a:br>
            <a:r>
              <a:rPr b="0" lang="el-GR" sz="2800" spc="-1" strike="noStrike">
                <a:solidFill>
                  <a:srgbClr val="000000"/>
                </a:solidFill>
                <a:latin typeface="Times New Roman"/>
              </a:rPr>
              <a:t>χώρου  επηρεάζεται και καθορίζεται και από τις ποσοτικές ελλείψεις σε</a:t>
            </a:r>
            <a:br>
              <a:rPr sz="2800"/>
            </a:br>
            <a:r>
              <a:rPr b="0" lang="el-GR" sz="2800" spc="-1" strike="noStrike">
                <a:solidFill>
                  <a:srgbClr val="000000"/>
                </a:solidFill>
                <a:latin typeface="Times New Roman"/>
              </a:rPr>
              <a:t>αίθουσες  αλλά και τα υπόλοιπα στοιχεία </a:t>
            </a:r>
            <a:br>
              <a:rPr sz="2800"/>
            </a:br>
            <a:r>
              <a:rPr b="0" lang="el-GR" sz="2800" spc="-1" strike="noStrike">
                <a:solidFill>
                  <a:srgbClr val="000000"/>
                </a:solidFill>
                <a:latin typeface="Times New Roman"/>
              </a:rPr>
              <a:t>της υλικοτεχνικής υποδομής. </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Είναι αναγκαίο να</a:t>
            </a:r>
            <a:br>
              <a:rPr sz="2800"/>
            </a:br>
            <a:r>
              <a:rPr b="0" lang="el-GR" sz="2800" spc="-1" strike="noStrike">
                <a:solidFill>
                  <a:srgbClr val="000000"/>
                </a:solidFill>
                <a:latin typeface="Times New Roman"/>
              </a:rPr>
              <a:t>διερευνηθεί εάν το σχολικό περιβάλλον από πλευράς λειτουργικότητας και</a:t>
            </a:r>
            <a:br>
              <a:rPr sz="2800"/>
            </a:br>
            <a:r>
              <a:rPr b="0" lang="el-GR" sz="2800" spc="-1" strike="noStrike">
                <a:solidFill>
                  <a:srgbClr val="000000"/>
                </a:solidFill>
                <a:latin typeface="Times New Roman"/>
              </a:rPr>
              <a:t>αισθητικής, συμπορεύεται και εκφράζει ή </a:t>
            </a:r>
            <a:br>
              <a:rPr sz="2800"/>
            </a:br>
            <a:r>
              <a:rPr b="0" lang="el-GR" sz="2800" spc="-1" strike="noStrike">
                <a:solidFill>
                  <a:srgbClr val="000000"/>
                </a:solidFill>
                <a:latin typeface="Times New Roman"/>
              </a:rPr>
              <a:t>ακυρώνει το ισχύον εκπαιδευτικό σύστημα </a:t>
            </a:r>
            <a:br>
              <a:rPr sz="2800"/>
            </a:br>
            <a:r>
              <a:rPr b="0" lang="el-GR" sz="2800" spc="-1" strike="noStrike">
                <a:solidFill>
                  <a:srgbClr val="000000"/>
                </a:solidFill>
                <a:latin typeface="Times New Roman"/>
              </a:rPr>
              <a:t>και τις αρχές που το διέπουν.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Αν ευνοεί για παράδειγμα αρχές, όπως η ομαδοσυνεργατική διδασκαλία και μάθηση, η διαφορετική διάταξη των θρανίων ,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και η ενδυνάμωση των μαθητικών σχέσεων,</a:t>
            </a:r>
            <a:br>
              <a:rPr sz="2800"/>
            </a:br>
            <a:r>
              <a:rPr b="0" lang="el-GR" sz="2800" spc="-1" strike="noStrike">
                <a:solidFill>
                  <a:srgbClr val="000000"/>
                </a:solidFill>
                <a:latin typeface="Times New Roman"/>
              </a:rPr>
              <a:t>η δημιουργική χρήση εποπτικών μέσων.</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νοια του χώρου μπορεί</a:t>
            </a:r>
            <a:br>
              <a:rPr sz="2800"/>
            </a:br>
            <a:r>
              <a:rPr b="0" lang="el-GR" sz="2800" spc="-1" strike="noStrike">
                <a:solidFill>
                  <a:srgbClr val="000000"/>
                </a:solidFill>
                <a:latin typeface="Times New Roman"/>
              </a:rPr>
              <a:t>να θεωρείται υποκειμενική, ωστόσο,  κάθε λογικός</a:t>
            </a:r>
            <a:br>
              <a:rPr sz="2800"/>
            </a:br>
            <a:r>
              <a:rPr b="0" lang="el-GR" sz="2800" spc="-1" strike="noStrike">
                <a:solidFill>
                  <a:srgbClr val="000000"/>
                </a:solidFill>
                <a:latin typeface="Times New Roman"/>
              </a:rPr>
              <a:t>άνθρωπος διαθέτει την αίσθηση του μέτρου </a:t>
            </a:r>
            <a:br>
              <a:rPr sz="2800"/>
            </a:br>
            <a:r>
              <a:rPr b="0" lang="el-GR" sz="2800" spc="-1" strike="noStrike">
                <a:solidFill>
                  <a:srgbClr val="000000"/>
                </a:solidFill>
                <a:latin typeface="Times New Roman"/>
              </a:rPr>
              <a:t>για ένα χώρο,  αν δηλαδή είναι επαρκής ή ανεπαρκής, ώστε να φιλοξενήσει ένα σύνολο μαθητών ή </a:t>
            </a:r>
            <a:br>
              <a:rPr sz="2800"/>
            </a:br>
            <a:r>
              <a:rPr b="0" lang="el-GR" sz="2800" spc="-1" strike="noStrike">
                <a:solidFill>
                  <a:srgbClr val="000000"/>
                </a:solidFill>
                <a:latin typeface="Times New Roman"/>
              </a:rPr>
              <a:t>αν είναι κατάλληλος ή ακατάλληλος </a:t>
            </a:r>
            <a:br>
              <a:rPr sz="2800"/>
            </a:br>
            <a:r>
              <a:rPr b="0" lang="el-GR" sz="2800" spc="-1" strike="noStrike">
                <a:solidFill>
                  <a:srgbClr val="000000"/>
                </a:solidFill>
                <a:latin typeface="Times New Roman"/>
              </a:rPr>
              <a:t>για να στεγάσει αποτελεσματικά </a:t>
            </a:r>
            <a:br>
              <a:rPr sz="2800"/>
            </a:br>
            <a:r>
              <a:rPr b="0" lang="el-GR" sz="2800" spc="-1" strike="noStrike">
                <a:solidFill>
                  <a:srgbClr val="000000"/>
                </a:solidFill>
                <a:latin typeface="Times New Roman"/>
              </a:rPr>
              <a:t>το σύνολο των δραστηριοτήτων </a:t>
            </a:r>
            <a:br>
              <a:rPr sz="2800"/>
            </a:br>
            <a:r>
              <a:rPr b="0" lang="el-GR" sz="2800" spc="-1" strike="noStrike">
                <a:solidFill>
                  <a:srgbClr val="000000"/>
                </a:solidFill>
                <a:latin typeface="Times New Roman"/>
              </a:rPr>
              <a:t>μιας εκπαιδευτικής μονάδας.</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991" name="" descr=""/>
          <p:cNvPicPr/>
          <p:nvPr/>
        </p:nvPicPr>
        <p:blipFill>
          <a:blip r:embed="rId1"/>
          <a:stretch/>
        </p:blipFill>
        <p:spPr>
          <a:xfrm>
            <a:off x="0" y="0"/>
            <a:ext cx="9144000" cy="1368360"/>
          </a:xfrm>
          <a:prstGeom prst="rect">
            <a:avLst/>
          </a:prstGeom>
          <a:ln w="0">
            <a:noFill/>
          </a:ln>
        </p:spPr>
      </p:pic>
      <p:pic>
        <p:nvPicPr>
          <p:cNvPr id="992" name="" descr=""/>
          <p:cNvPicPr/>
          <p:nvPr/>
        </p:nvPicPr>
        <p:blipFill>
          <a:blip r:embed="rId2"/>
          <a:stretch/>
        </p:blipFill>
        <p:spPr>
          <a:xfrm>
            <a:off x="1258920" y="2060640"/>
            <a:ext cx="1297080" cy="1528560"/>
          </a:xfrm>
          <a:prstGeom prst="rect">
            <a:avLst/>
          </a:prstGeom>
          <a:ln w="0">
            <a:noFill/>
          </a:ln>
        </p:spPr>
      </p:pic>
      <p:pic>
        <p:nvPicPr>
          <p:cNvPr id="993" name="" descr=""/>
          <p:cNvPicPr/>
          <p:nvPr/>
        </p:nvPicPr>
        <p:blipFill>
          <a:blip r:embed="rId3"/>
          <a:stretch/>
        </p:blipFill>
        <p:spPr>
          <a:xfrm>
            <a:off x="6948360" y="1989000"/>
            <a:ext cx="1444680" cy="1573200"/>
          </a:xfrm>
          <a:prstGeom prst="rect">
            <a:avLst/>
          </a:prstGeom>
          <a:ln w="0">
            <a:noFill/>
          </a:ln>
        </p:spPr>
      </p:pic>
      <p:sp>
        <p:nvSpPr>
          <p:cNvPr id="994"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995"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να </a:t>
            </a:r>
            <a:r>
              <a:rPr b="1" lang="el-GR" sz="2800" spc="-1" strike="noStrike">
                <a:solidFill>
                  <a:srgbClr val="000000"/>
                </a:solidFill>
                <a:latin typeface="Times New Roman"/>
              </a:rPr>
              <a:t>αποτελεσματικό σχολείο </a:t>
            </a:r>
            <a:r>
              <a:rPr b="0" lang="el-GR" sz="2800" spc="-1" strike="noStrike">
                <a:solidFill>
                  <a:srgbClr val="000000"/>
                </a:solidFill>
                <a:latin typeface="Times New Roman"/>
              </a:rPr>
              <a:t>έχει</a:t>
            </a:r>
            <a:br>
              <a:rPr sz="2800"/>
            </a:br>
            <a:r>
              <a:rPr b="0" lang="el-GR" sz="2800" spc="-1" strike="noStrike">
                <a:solidFill>
                  <a:srgbClr val="000000"/>
                </a:solidFill>
                <a:latin typeface="Times New Roman"/>
              </a:rPr>
              <a:t> αναμφισβήτητα ανάγκη </a:t>
            </a:r>
            <a:br>
              <a:rPr sz="2800"/>
            </a:br>
            <a:r>
              <a:rPr b="0" lang="el-GR" sz="2800" spc="-1" strike="noStrike">
                <a:solidFill>
                  <a:srgbClr val="000000"/>
                </a:solidFill>
                <a:latin typeface="Times New Roman"/>
              </a:rPr>
              <a:t>από κατάλληλες και ασφαλείς κτιριακές εγκαταστάσεις,  λειτουργικές αίθουσες διδασκαλίας, σύγχρονα εργαστήρια </a:t>
            </a:r>
            <a:br>
              <a:rPr sz="2800"/>
            </a:br>
            <a:r>
              <a:rPr b="0" lang="el-GR" sz="2800" spc="-1" strike="noStrike">
                <a:solidFill>
                  <a:srgbClr val="000000"/>
                </a:solidFill>
                <a:latin typeface="Times New Roman"/>
              </a:rPr>
              <a:t>και αξιόλογες βιβλιοθήκες</a:t>
            </a:r>
            <a:br>
              <a:rPr sz="2800"/>
            </a:br>
            <a:r>
              <a:rPr b="0" lang="el-GR" sz="2800" spc="-1" strike="noStrike">
                <a:solidFill>
                  <a:srgbClr val="000000"/>
                </a:solidFill>
                <a:latin typeface="Times New Roman"/>
              </a:rPr>
              <a:t>για την εξασφάλιση υψηλού επιπέδου ποιότητα παρεχόμενης εκπαίδευσης.</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ληρότητα, η καταλληλότητα των σχολικών χώρων και η ορθολογική διάταξή</a:t>
            </a:r>
            <a:br>
              <a:rPr sz="2800"/>
            </a:br>
            <a:r>
              <a:rPr b="0" lang="el-GR" sz="2800" spc="-1" strike="noStrike">
                <a:solidFill>
                  <a:srgbClr val="000000"/>
                </a:solidFill>
                <a:latin typeface="Times New Roman"/>
              </a:rPr>
              <a:t>τους με βάση τις ανάγκες του σχολικού προγράμματος των μαθητών και των</a:t>
            </a:r>
            <a:br>
              <a:rPr sz="2800"/>
            </a:br>
            <a:r>
              <a:rPr b="0" lang="el-GR" sz="2800" spc="-1" strike="noStrike">
                <a:solidFill>
                  <a:srgbClr val="000000"/>
                </a:solidFill>
                <a:latin typeface="Times New Roman"/>
              </a:rPr>
              <a:t>εκπαιδευτικών, είναι σημαντικές υλικές συνθήκες για τη διαμόρφωση ενός</a:t>
            </a:r>
            <a:br>
              <a:rPr sz="2800"/>
            </a:br>
            <a:r>
              <a:rPr b="0" lang="el-GR" sz="2800" spc="-1" strike="noStrike">
                <a:solidFill>
                  <a:srgbClr val="000000"/>
                </a:solidFill>
                <a:latin typeface="Times New Roman"/>
              </a:rPr>
              <a:t>ευχάριστου, δημιουργικού και λειτουργικού περιβάλλοντος μάθησης . </a:t>
            </a:r>
            <a:br>
              <a:rPr sz="2800"/>
            </a:b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ίθουσες διδασκαλίας πρέπει να είναι ευρύχωρες βάσει του</a:t>
            </a:r>
            <a:br>
              <a:rPr sz="2800"/>
            </a:br>
            <a:r>
              <a:rPr b="0" lang="el-GR" sz="2800" spc="-1" strike="noStrike">
                <a:solidFill>
                  <a:srgbClr val="000000"/>
                </a:solidFill>
                <a:latin typeface="Times New Roman"/>
              </a:rPr>
              <a:t>καθορισμένου από την ισχύουσα νομοθεσία αριθμού μαθητών, </a:t>
            </a:r>
            <a:br>
              <a:rPr sz="2800"/>
            </a:br>
            <a:r>
              <a:rPr b="0" lang="el-GR" sz="2800" spc="-1" strike="noStrike">
                <a:solidFill>
                  <a:srgbClr val="000000"/>
                </a:solidFill>
                <a:latin typeface="Times New Roman"/>
              </a:rPr>
              <a:t>λειτουργικές, και ασφαλείς,</a:t>
            </a:r>
            <a:br>
              <a:rPr sz="2800"/>
            </a:br>
            <a:r>
              <a:rPr b="0" lang="el-GR" sz="2800" spc="-1" strike="noStrike">
                <a:solidFill>
                  <a:srgbClr val="000000"/>
                </a:solidFill>
                <a:latin typeface="Times New Roman"/>
              </a:rPr>
              <a:t>ώστε να καλύπτουν τις μαθησιακές και κοινωνικές ανάγκες όλων των μαθητών </a:t>
            </a:r>
            <a:br>
              <a:rPr sz="2800"/>
            </a:br>
            <a:r>
              <a:rPr b="0" lang="el-GR" sz="2800" spc="-1" strike="noStrike">
                <a:solidFill>
                  <a:srgbClr val="000000"/>
                </a:solidFill>
                <a:latin typeface="Times New Roman"/>
              </a:rPr>
              <a:t>και τις εργασιακές απαιτήσεις των εκπαιδευτικών.</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95280" y="1125360"/>
            <a:ext cx="8424720" cy="4588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εργαστήρια υλοποίησης ειδικών προγραμμάτων, </a:t>
            </a:r>
            <a:br>
              <a:rPr sz="2800"/>
            </a:br>
            <a:r>
              <a:rPr b="0" lang="el-GR" sz="2800" spc="-1" strike="noStrike">
                <a:solidFill>
                  <a:srgbClr val="000000"/>
                </a:solidFill>
                <a:latin typeface="Times New Roman"/>
              </a:rPr>
              <a:t>η βιβλιοθήκη- το αναγνωστήριο, </a:t>
            </a:r>
            <a:br>
              <a:rPr sz="2800"/>
            </a:br>
            <a:r>
              <a:rPr b="0" lang="el-GR" sz="2800" spc="-1" strike="noStrike">
                <a:solidFill>
                  <a:srgbClr val="000000"/>
                </a:solidFill>
                <a:latin typeface="Times New Roman"/>
              </a:rPr>
              <a:t>οι χώροι άθλησης,  </a:t>
            </a:r>
            <a:br>
              <a:rPr sz="2800"/>
            </a:br>
            <a:r>
              <a:rPr b="0" lang="el-GR" sz="2800" spc="-1" strike="noStrike">
                <a:solidFill>
                  <a:srgbClr val="000000"/>
                </a:solidFill>
                <a:latin typeface="Times New Roman"/>
              </a:rPr>
              <a:t>οι χώροι πολιτιστικών εκδηλώσεων, </a:t>
            </a:r>
            <a:br>
              <a:rPr sz="2800"/>
            </a:br>
            <a:r>
              <a:rPr b="0" lang="el-GR" sz="2800" spc="-1" strike="noStrike">
                <a:solidFill>
                  <a:srgbClr val="000000"/>
                </a:solidFill>
                <a:latin typeface="Times New Roman"/>
              </a:rPr>
              <a:t>οι χώροι αναμονής, ανάπαυσης μαθητών και εκπαιδευτικών, </a:t>
            </a:r>
            <a:br>
              <a:rPr sz="2800"/>
            </a:br>
            <a:r>
              <a:rPr b="0" lang="el-GR" sz="2800" spc="-1" strike="noStrike">
                <a:solidFill>
                  <a:srgbClr val="000000"/>
                </a:solidFill>
                <a:latin typeface="Times New Roman"/>
              </a:rPr>
              <a:t>οι αίθουσες συνεδριάσεων-συσκέψεων και σεμιναρίων,  οι αποθηκευτικοί χώροι και οπωσδήποτε </a:t>
            </a:r>
            <a:br>
              <a:rPr sz="2800"/>
            </a:br>
            <a:r>
              <a:rPr b="0" lang="el-GR" sz="2800" spc="-1" strike="noStrike">
                <a:solidFill>
                  <a:srgbClr val="000000"/>
                </a:solidFill>
                <a:latin typeface="Times New Roman"/>
              </a:rPr>
              <a:t>τα  γραφεία εκπαιδευτικών καθώς και </a:t>
            </a:r>
            <a:br>
              <a:rPr sz="2800"/>
            </a:br>
            <a:r>
              <a:rPr b="0" lang="el-GR" sz="2800" spc="-1" strike="noStrike">
                <a:solidFill>
                  <a:srgbClr val="000000"/>
                </a:solidFill>
                <a:latin typeface="Times New Roman"/>
              </a:rPr>
              <a:t>το γραφείο διευθυντή πρέπει να είναι κατάλληλα.</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35Z</dcterms:modified>
  <cp:revision>160</cp:revision>
  <dc:subject/>
  <dc:title>Παρουσίαση του PowerPoint</dc:title>
</cp:coreProperties>
</file>