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2D8B12-A226-4451-9CDE-4468C49455CD}"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E3C63-9C98-4119-ACDD-510A1D2B3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985680" y="741240"/>
            <a:ext cx="4886640" cy="3665520"/>
          </a:xfrm>
          <a:prstGeom prst="rect">
            <a:avLst/>
          </a:prstGeom>
          <a:ln w="0">
            <a:noFill/>
          </a:ln>
        </p:spPr>
      </p:sp>
      <p:sp>
        <p:nvSpPr>
          <p:cNvPr id="1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47CCFA-C37D-49D6-A439-11BA933E9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9" name="PlaceHolder 1"/>
          <p:cNvSpPr>
            <a:spLocks noGrp="1"/>
          </p:cNvSpPr>
          <p:nvPr>
            <p:ph type="sldImg"/>
          </p:nvPr>
        </p:nvSpPr>
        <p:spPr>
          <a:xfrm>
            <a:off x="985680" y="741240"/>
            <a:ext cx="4886640" cy="3665520"/>
          </a:xfrm>
          <a:prstGeom prst="rect">
            <a:avLst/>
          </a:prstGeom>
          <a:ln w="0">
            <a:noFill/>
          </a:ln>
        </p:spPr>
      </p:sp>
      <p:sp>
        <p:nvSpPr>
          <p:cNvPr id="19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D9462-8D31-4E0F-B01B-8AF0CF557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2" name="PlaceHolder 1"/>
          <p:cNvSpPr>
            <a:spLocks noGrp="1"/>
          </p:cNvSpPr>
          <p:nvPr>
            <p:ph type="sldImg"/>
          </p:nvPr>
        </p:nvSpPr>
        <p:spPr>
          <a:xfrm>
            <a:off x="985680" y="741240"/>
            <a:ext cx="4886640" cy="3665520"/>
          </a:xfrm>
          <a:prstGeom prst="rect">
            <a:avLst/>
          </a:prstGeom>
          <a:ln w="0">
            <a:noFill/>
          </a:ln>
        </p:spPr>
      </p:sp>
      <p:sp>
        <p:nvSpPr>
          <p:cNvPr id="1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1A2BD1-D651-46A5-A6D9-05BE377E3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5" name="PlaceHolder 1"/>
          <p:cNvSpPr>
            <a:spLocks noGrp="1"/>
          </p:cNvSpPr>
          <p:nvPr>
            <p:ph type="sldImg"/>
          </p:nvPr>
        </p:nvSpPr>
        <p:spPr>
          <a:xfrm>
            <a:off x="985680" y="741240"/>
            <a:ext cx="4886640" cy="3665520"/>
          </a:xfrm>
          <a:prstGeom prst="rect">
            <a:avLst/>
          </a:prstGeom>
          <a:ln w="0">
            <a:noFill/>
          </a:ln>
        </p:spPr>
      </p:sp>
      <p:sp>
        <p:nvSpPr>
          <p:cNvPr id="1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9F2D4A-85A4-4622-96D6-8949CD53B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8" name="PlaceHolder 1"/>
          <p:cNvSpPr>
            <a:spLocks noGrp="1"/>
          </p:cNvSpPr>
          <p:nvPr>
            <p:ph type="sldImg"/>
          </p:nvPr>
        </p:nvSpPr>
        <p:spPr>
          <a:xfrm>
            <a:off x="985680" y="741240"/>
            <a:ext cx="4886640" cy="3665520"/>
          </a:xfrm>
          <a:prstGeom prst="rect">
            <a:avLst/>
          </a:prstGeom>
          <a:ln w="0">
            <a:noFill/>
          </a:ln>
        </p:spPr>
      </p:sp>
      <p:sp>
        <p:nvSpPr>
          <p:cNvPr id="19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F7A8F2-DDA2-4B2F-825A-2C3FB41A9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1" name="PlaceHolder 1"/>
          <p:cNvSpPr>
            <a:spLocks noGrp="1"/>
          </p:cNvSpPr>
          <p:nvPr>
            <p:ph type="sldImg"/>
          </p:nvPr>
        </p:nvSpPr>
        <p:spPr>
          <a:xfrm>
            <a:off x="985680" y="741240"/>
            <a:ext cx="4886640" cy="3665520"/>
          </a:xfrm>
          <a:prstGeom prst="rect">
            <a:avLst/>
          </a:prstGeom>
          <a:ln w="0">
            <a:noFill/>
          </a:ln>
        </p:spPr>
      </p:sp>
      <p:sp>
        <p:nvSpPr>
          <p:cNvPr id="19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55C04-7895-4BA4-8DBD-1B442EF7A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4" name="PlaceHolder 1"/>
          <p:cNvSpPr>
            <a:spLocks noGrp="1"/>
          </p:cNvSpPr>
          <p:nvPr>
            <p:ph type="sldImg"/>
          </p:nvPr>
        </p:nvSpPr>
        <p:spPr>
          <a:xfrm>
            <a:off x="985680" y="741240"/>
            <a:ext cx="4886640" cy="3665520"/>
          </a:xfrm>
          <a:prstGeom prst="rect">
            <a:avLst/>
          </a:prstGeom>
          <a:ln w="0">
            <a:noFill/>
          </a:ln>
        </p:spPr>
      </p:sp>
      <p:sp>
        <p:nvSpPr>
          <p:cNvPr id="19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7AF0B6-55F7-41B7-B15B-1BF67C691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7" name="PlaceHolder 1"/>
          <p:cNvSpPr>
            <a:spLocks noGrp="1"/>
          </p:cNvSpPr>
          <p:nvPr>
            <p:ph type="sldImg"/>
          </p:nvPr>
        </p:nvSpPr>
        <p:spPr>
          <a:xfrm>
            <a:off x="985680" y="741240"/>
            <a:ext cx="4886640" cy="3665520"/>
          </a:xfrm>
          <a:prstGeom prst="rect">
            <a:avLst/>
          </a:prstGeom>
          <a:ln w="0">
            <a:noFill/>
          </a:ln>
        </p:spPr>
      </p:sp>
      <p:sp>
        <p:nvSpPr>
          <p:cNvPr id="1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22EC56-8AAF-4A71-B970-57ECF20DC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0" name="PlaceHolder 1"/>
          <p:cNvSpPr>
            <a:spLocks noGrp="1"/>
          </p:cNvSpPr>
          <p:nvPr>
            <p:ph type="sldImg"/>
          </p:nvPr>
        </p:nvSpPr>
        <p:spPr>
          <a:xfrm>
            <a:off x="985680" y="741240"/>
            <a:ext cx="4886640" cy="3665520"/>
          </a:xfrm>
          <a:prstGeom prst="rect">
            <a:avLst/>
          </a:prstGeom>
          <a:ln w="0">
            <a:noFill/>
          </a:ln>
        </p:spPr>
      </p:sp>
      <p:sp>
        <p:nvSpPr>
          <p:cNvPr id="19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65D858-277B-462E-BC31-BA09A2C42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3" name="PlaceHolder 1"/>
          <p:cNvSpPr>
            <a:spLocks noGrp="1"/>
          </p:cNvSpPr>
          <p:nvPr>
            <p:ph type="sldImg"/>
          </p:nvPr>
        </p:nvSpPr>
        <p:spPr>
          <a:xfrm>
            <a:off x="985680" y="741240"/>
            <a:ext cx="4886640" cy="3665520"/>
          </a:xfrm>
          <a:prstGeom prst="rect">
            <a:avLst/>
          </a:prstGeom>
          <a:ln w="0">
            <a:noFill/>
          </a:ln>
        </p:spPr>
      </p:sp>
      <p:sp>
        <p:nvSpPr>
          <p:cNvPr id="19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167DDA-4F75-43F1-9C6C-08867D85B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6" name="PlaceHolder 1"/>
          <p:cNvSpPr>
            <a:spLocks noGrp="1"/>
          </p:cNvSpPr>
          <p:nvPr>
            <p:ph type="sldImg"/>
          </p:nvPr>
        </p:nvSpPr>
        <p:spPr>
          <a:xfrm>
            <a:off x="985680" y="741240"/>
            <a:ext cx="4886640" cy="3665520"/>
          </a:xfrm>
          <a:prstGeom prst="rect">
            <a:avLst/>
          </a:prstGeom>
          <a:ln w="0">
            <a:noFill/>
          </a:ln>
        </p:spPr>
      </p:sp>
      <p:sp>
        <p:nvSpPr>
          <p:cNvPr id="19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B2354-7510-4EB2-BB42-1C7D4EB0C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985680" y="741240"/>
            <a:ext cx="4886640" cy="3665520"/>
          </a:xfrm>
          <a:prstGeom prst="rect">
            <a:avLst/>
          </a:prstGeom>
          <a:ln w="0">
            <a:noFill/>
          </a:ln>
        </p:spPr>
      </p:sp>
      <p:sp>
        <p:nvSpPr>
          <p:cNvPr id="16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164BF0-5843-4854-9CEF-416D71C8F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9" name="PlaceHolder 1"/>
          <p:cNvSpPr>
            <a:spLocks noGrp="1"/>
          </p:cNvSpPr>
          <p:nvPr>
            <p:ph type="sldImg"/>
          </p:nvPr>
        </p:nvSpPr>
        <p:spPr>
          <a:xfrm>
            <a:off x="985680" y="741240"/>
            <a:ext cx="4886640" cy="3665520"/>
          </a:xfrm>
          <a:prstGeom prst="rect">
            <a:avLst/>
          </a:prstGeom>
          <a:ln w="0">
            <a:noFill/>
          </a:ln>
        </p:spPr>
      </p:sp>
      <p:sp>
        <p:nvSpPr>
          <p:cNvPr id="1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C2B2E1-9D00-4CE3-B9A6-BC861078D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2" name="PlaceHolder 1"/>
          <p:cNvSpPr>
            <a:spLocks noGrp="1"/>
          </p:cNvSpPr>
          <p:nvPr>
            <p:ph type="sldImg"/>
          </p:nvPr>
        </p:nvSpPr>
        <p:spPr>
          <a:xfrm>
            <a:off x="985680" y="741240"/>
            <a:ext cx="4886640" cy="3665520"/>
          </a:xfrm>
          <a:prstGeom prst="rect">
            <a:avLst/>
          </a:prstGeom>
          <a:ln w="0">
            <a:noFill/>
          </a:ln>
        </p:spPr>
      </p:sp>
      <p:sp>
        <p:nvSpPr>
          <p:cNvPr id="19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D231DA-5D47-4300-B935-5AF571DA1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5" name="PlaceHolder 1"/>
          <p:cNvSpPr>
            <a:spLocks noGrp="1"/>
          </p:cNvSpPr>
          <p:nvPr>
            <p:ph type="sldImg"/>
          </p:nvPr>
        </p:nvSpPr>
        <p:spPr>
          <a:xfrm>
            <a:off x="985680" y="741240"/>
            <a:ext cx="4886640" cy="3665520"/>
          </a:xfrm>
          <a:prstGeom prst="rect">
            <a:avLst/>
          </a:prstGeom>
          <a:ln w="0">
            <a:noFill/>
          </a:ln>
        </p:spPr>
      </p:sp>
      <p:sp>
        <p:nvSpPr>
          <p:cNvPr id="19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59179-4C7A-46D4-9485-F74E1562E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8" name="PlaceHolder 1"/>
          <p:cNvSpPr>
            <a:spLocks noGrp="1"/>
          </p:cNvSpPr>
          <p:nvPr>
            <p:ph type="sldImg"/>
          </p:nvPr>
        </p:nvSpPr>
        <p:spPr>
          <a:xfrm>
            <a:off x="985680" y="741240"/>
            <a:ext cx="4886640" cy="3665520"/>
          </a:xfrm>
          <a:prstGeom prst="rect">
            <a:avLst/>
          </a:prstGeom>
          <a:ln w="0">
            <a:noFill/>
          </a:ln>
        </p:spPr>
      </p:sp>
      <p:sp>
        <p:nvSpPr>
          <p:cNvPr id="19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A22FF9-D426-40B9-877B-18FC710B4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1" name="PlaceHolder 1"/>
          <p:cNvSpPr>
            <a:spLocks noGrp="1"/>
          </p:cNvSpPr>
          <p:nvPr>
            <p:ph type="sldImg"/>
          </p:nvPr>
        </p:nvSpPr>
        <p:spPr>
          <a:xfrm>
            <a:off x="985680" y="741240"/>
            <a:ext cx="4886640" cy="3665520"/>
          </a:xfrm>
          <a:prstGeom prst="rect">
            <a:avLst/>
          </a:prstGeom>
          <a:ln w="0">
            <a:noFill/>
          </a:ln>
        </p:spPr>
      </p:sp>
      <p:sp>
        <p:nvSpPr>
          <p:cNvPr id="19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E04009-3764-4FD9-AC97-CEEC84719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4" name="PlaceHolder 1"/>
          <p:cNvSpPr>
            <a:spLocks noGrp="1"/>
          </p:cNvSpPr>
          <p:nvPr>
            <p:ph type="sldImg"/>
          </p:nvPr>
        </p:nvSpPr>
        <p:spPr>
          <a:xfrm>
            <a:off x="985680" y="741240"/>
            <a:ext cx="4886640" cy="3665520"/>
          </a:xfrm>
          <a:prstGeom prst="rect">
            <a:avLst/>
          </a:prstGeom>
          <a:ln w="0">
            <a:noFill/>
          </a:ln>
        </p:spPr>
      </p:sp>
      <p:sp>
        <p:nvSpPr>
          <p:cNvPr id="19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8351E-EA4E-45EE-B4DC-301A62040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7" name="PlaceHolder 1"/>
          <p:cNvSpPr>
            <a:spLocks noGrp="1"/>
          </p:cNvSpPr>
          <p:nvPr>
            <p:ph type="sldImg"/>
          </p:nvPr>
        </p:nvSpPr>
        <p:spPr>
          <a:xfrm>
            <a:off x="985680" y="741240"/>
            <a:ext cx="4886640" cy="3665520"/>
          </a:xfrm>
          <a:prstGeom prst="rect">
            <a:avLst/>
          </a:prstGeom>
          <a:ln w="0">
            <a:noFill/>
          </a:ln>
        </p:spPr>
      </p:sp>
      <p:sp>
        <p:nvSpPr>
          <p:cNvPr id="19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6BAB2E-C659-4EC3-8A5B-268A3BF07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0" name="PlaceHolder 1"/>
          <p:cNvSpPr>
            <a:spLocks noGrp="1"/>
          </p:cNvSpPr>
          <p:nvPr>
            <p:ph type="sldImg"/>
          </p:nvPr>
        </p:nvSpPr>
        <p:spPr>
          <a:xfrm>
            <a:off x="985680" y="741240"/>
            <a:ext cx="4886640" cy="3665520"/>
          </a:xfrm>
          <a:prstGeom prst="rect">
            <a:avLst/>
          </a:prstGeom>
          <a:ln w="0">
            <a:noFill/>
          </a:ln>
        </p:spPr>
      </p:sp>
      <p:sp>
        <p:nvSpPr>
          <p:cNvPr id="19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5D8368-BBED-4EFA-BCCA-FEC8C649F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3" name="PlaceHolder 1"/>
          <p:cNvSpPr>
            <a:spLocks noGrp="1"/>
          </p:cNvSpPr>
          <p:nvPr>
            <p:ph type="sldImg"/>
          </p:nvPr>
        </p:nvSpPr>
        <p:spPr>
          <a:xfrm>
            <a:off x="985680" y="741240"/>
            <a:ext cx="4886640" cy="3665520"/>
          </a:xfrm>
          <a:prstGeom prst="rect">
            <a:avLst/>
          </a:prstGeom>
          <a:ln w="0">
            <a:noFill/>
          </a:ln>
        </p:spPr>
      </p:sp>
      <p:sp>
        <p:nvSpPr>
          <p:cNvPr id="19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F13EB3-2495-4974-8671-D0CB832CA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6" name="PlaceHolder 1"/>
          <p:cNvSpPr>
            <a:spLocks noGrp="1"/>
          </p:cNvSpPr>
          <p:nvPr>
            <p:ph type="sldImg"/>
          </p:nvPr>
        </p:nvSpPr>
        <p:spPr>
          <a:xfrm>
            <a:off x="985680" y="741240"/>
            <a:ext cx="4886640" cy="3665520"/>
          </a:xfrm>
          <a:prstGeom prst="rect">
            <a:avLst/>
          </a:prstGeom>
          <a:ln w="0">
            <a:noFill/>
          </a:ln>
        </p:spPr>
      </p:sp>
      <p:sp>
        <p:nvSpPr>
          <p:cNvPr id="19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74136-463C-4BE4-A4E0-1856ADFC6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985680" y="741240"/>
            <a:ext cx="4886640" cy="3665520"/>
          </a:xfrm>
          <a:prstGeom prst="rect">
            <a:avLst/>
          </a:prstGeom>
          <a:ln w="0">
            <a:noFill/>
          </a:ln>
        </p:spPr>
      </p:sp>
      <p:sp>
        <p:nvSpPr>
          <p:cNvPr id="16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36F6B0-D310-484D-A4AE-D9FC943D8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9" name="PlaceHolder 1"/>
          <p:cNvSpPr>
            <a:spLocks noGrp="1"/>
          </p:cNvSpPr>
          <p:nvPr>
            <p:ph type="sldImg"/>
          </p:nvPr>
        </p:nvSpPr>
        <p:spPr>
          <a:xfrm>
            <a:off x="985680" y="741240"/>
            <a:ext cx="4886640" cy="3665520"/>
          </a:xfrm>
          <a:prstGeom prst="rect">
            <a:avLst/>
          </a:prstGeom>
          <a:ln w="0">
            <a:noFill/>
          </a:ln>
        </p:spPr>
      </p:sp>
      <p:sp>
        <p:nvSpPr>
          <p:cNvPr id="20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66DEFE-FF37-469A-8D6F-ECF474616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2" name="PlaceHolder 1"/>
          <p:cNvSpPr>
            <a:spLocks noGrp="1"/>
          </p:cNvSpPr>
          <p:nvPr>
            <p:ph type="sldImg"/>
          </p:nvPr>
        </p:nvSpPr>
        <p:spPr>
          <a:xfrm>
            <a:off x="985680" y="741240"/>
            <a:ext cx="4886640" cy="3665520"/>
          </a:xfrm>
          <a:prstGeom prst="rect">
            <a:avLst/>
          </a:prstGeom>
          <a:ln w="0">
            <a:noFill/>
          </a:ln>
        </p:spPr>
      </p:sp>
      <p:sp>
        <p:nvSpPr>
          <p:cNvPr id="20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EB8D6A-6594-4402-91C1-FD0BC825C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5" name="PlaceHolder 1"/>
          <p:cNvSpPr>
            <a:spLocks noGrp="1"/>
          </p:cNvSpPr>
          <p:nvPr>
            <p:ph type="sldImg"/>
          </p:nvPr>
        </p:nvSpPr>
        <p:spPr>
          <a:xfrm>
            <a:off x="985680" y="741240"/>
            <a:ext cx="4886640" cy="3665520"/>
          </a:xfrm>
          <a:prstGeom prst="rect">
            <a:avLst/>
          </a:prstGeom>
          <a:ln w="0">
            <a:noFill/>
          </a:ln>
        </p:spPr>
      </p:sp>
      <p:sp>
        <p:nvSpPr>
          <p:cNvPr id="20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40E76-2945-4BC2-B987-058793719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985680" y="741240"/>
            <a:ext cx="4886640" cy="3665520"/>
          </a:xfrm>
          <a:prstGeom prst="rect">
            <a:avLst/>
          </a:prstGeom>
          <a:ln w="0">
            <a:noFill/>
          </a:ln>
        </p:spPr>
      </p:sp>
      <p:sp>
        <p:nvSpPr>
          <p:cNvPr id="16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0A249-E7F4-4CDC-B9F1-93799D157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985680" y="741240"/>
            <a:ext cx="4886640" cy="3665520"/>
          </a:xfrm>
          <a:prstGeom prst="rect">
            <a:avLst/>
          </a:prstGeom>
          <a:ln w="0">
            <a:noFill/>
          </a:ln>
        </p:spPr>
      </p:sp>
      <p:sp>
        <p:nvSpPr>
          <p:cNvPr id="1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741EB-619B-4966-BDF9-6E929A203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985680" y="741240"/>
            <a:ext cx="4886640" cy="3665520"/>
          </a:xfrm>
          <a:prstGeom prst="rect">
            <a:avLst/>
          </a:prstGeom>
          <a:ln w="0">
            <a:noFill/>
          </a:ln>
        </p:spPr>
      </p:sp>
      <p:sp>
        <p:nvSpPr>
          <p:cNvPr id="16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0499A7-B833-47CE-AFD6-455330C59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PlaceHolder 1"/>
          <p:cNvSpPr>
            <a:spLocks noGrp="1"/>
          </p:cNvSpPr>
          <p:nvPr>
            <p:ph type="sldImg"/>
          </p:nvPr>
        </p:nvSpPr>
        <p:spPr>
          <a:xfrm>
            <a:off x="985680" y="741240"/>
            <a:ext cx="4886640" cy="3665520"/>
          </a:xfrm>
          <a:prstGeom prst="rect">
            <a:avLst/>
          </a:prstGeom>
          <a:ln w="0">
            <a:noFill/>
          </a:ln>
        </p:spPr>
      </p:sp>
      <p:sp>
        <p:nvSpPr>
          <p:cNvPr id="16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5B0A83-E91F-4A26-A594-7E1FC661A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85680" y="741240"/>
            <a:ext cx="4886640" cy="3665520"/>
          </a:xfrm>
          <a:prstGeom prst="rect">
            <a:avLst/>
          </a:prstGeom>
          <a:ln w="0">
            <a:noFill/>
          </a:ln>
        </p:spPr>
      </p:sp>
      <p:sp>
        <p:nvSpPr>
          <p:cNvPr id="16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97574-80F4-4EB2-8AF7-589D05875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PlaceHolder 1"/>
          <p:cNvSpPr>
            <a:spLocks noGrp="1"/>
          </p:cNvSpPr>
          <p:nvPr>
            <p:ph type="sldImg"/>
          </p:nvPr>
        </p:nvSpPr>
        <p:spPr>
          <a:xfrm>
            <a:off x="985680" y="741240"/>
            <a:ext cx="4886640" cy="3665520"/>
          </a:xfrm>
          <a:prstGeom prst="rect">
            <a:avLst/>
          </a:prstGeom>
          <a:ln w="0">
            <a:noFill/>
          </a:ln>
        </p:spPr>
      </p:sp>
      <p:sp>
        <p:nvSpPr>
          <p:cNvPr id="16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B14B0D-6453-4A08-B8A9-9CF7E5C98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85680" y="741240"/>
            <a:ext cx="4886640" cy="3665520"/>
          </a:xfrm>
          <a:prstGeom prst="rect">
            <a:avLst/>
          </a:prstGeom>
          <a:ln w="0">
            <a:noFill/>
          </a:ln>
        </p:spPr>
      </p:sp>
      <p:sp>
        <p:nvSpPr>
          <p:cNvPr id="16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92CB0E-11A2-4C76-8192-B70603F9C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985680" y="741240"/>
            <a:ext cx="4886640" cy="3665520"/>
          </a:xfrm>
          <a:prstGeom prst="rect">
            <a:avLst/>
          </a:prstGeom>
          <a:ln w="0">
            <a:noFill/>
          </a:ln>
        </p:spPr>
      </p:sp>
      <p:sp>
        <p:nvSpPr>
          <p:cNvPr id="1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A4534C-0CC1-4948-878D-AB1C8911A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9" name="PlaceHolder 1"/>
          <p:cNvSpPr>
            <a:spLocks noGrp="1"/>
          </p:cNvSpPr>
          <p:nvPr>
            <p:ph type="sldImg"/>
          </p:nvPr>
        </p:nvSpPr>
        <p:spPr>
          <a:xfrm>
            <a:off x="985680" y="741240"/>
            <a:ext cx="4886640" cy="3665520"/>
          </a:xfrm>
          <a:prstGeom prst="rect">
            <a:avLst/>
          </a:prstGeom>
          <a:ln w="0">
            <a:noFill/>
          </a:ln>
        </p:spPr>
      </p:sp>
      <p:sp>
        <p:nvSpPr>
          <p:cNvPr id="17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DD5BE5-D746-4D73-BEAE-466881416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2" name="PlaceHolder 1"/>
          <p:cNvSpPr>
            <a:spLocks noGrp="1"/>
          </p:cNvSpPr>
          <p:nvPr>
            <p:ph type="sldImg"/>
          </p:nvPr>
        </p:nvSpPr>
        <p:spPr>
          <a:xfrm>
            <a:off x="985680" y="741240"/>
            <a:ext cx="4886640" cy="3665520"/>
          </a:xfrm>
          <a:prstGeom prst="rect">
            <a:avLst/>
          </a:prstGeom>
          <a:ln w="0">
            <a:noFill/>
          </a:ln>
        </p:spPr>
      </p:sp>
      <p:sp>
        <p:nvSpPr>
          <p:cNvPr id="17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E0750B-571D-4303-853E-A9E6E7B7E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5" name="PlaceHolder 1"/>
          <p:cNvSpPr>
            <a:spLocks noGrp="1"/>
          </p:cNvSpPr>
          <p:nvPr>
            <p:ph type="sldImg"/>
          </p:nvPr>
        </p:nvSpPr>
        <p:spPr>
          <a:xfrm>
            <a:off x="985680" y="741240"/>
            <a:ext cx="4886640" cy="3665520"/>
          </a:xfrm>
          <a:prstGeom prst="rect">
            <a:avLst/>
          </a:prstGeom>
          <a:ln w="0">
            <a:noFill/>
          </a:ln>
        </p:spPr>
      </p:sp>
      <p:sp>
        <p:nvSpPr>
          <p:cNvPr id="17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A162A7-3C6A-4597-85C2-300F66B0B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985680" y="741240"/>
            <a:ext cx="4886640" cy="3665520"/>
          </a:xfrm>
          <a:prstGeom prst="rect">
            <a:avLst/>
          </a:prstGeom>
          <a:ln w="0">
            <a:noFill/>
          </a:ln>
        </p:spPr>
      </p:sp>
      <p:sp>
        <p:nvSpPr>
          <p:cNvPr id="17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A71751-D862-41F7-95BE-A9D0CC526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1" name="PlaceHolder 1"/>
          <p:cNvSpPr>
            <a:spLocks noGrp="1"/>
          </p:cNvSpPr>
          <p:nvPr>
            <p:ph type="sldImg"/>
          </p:nvPr>
        </p:nvSpPr>
        <p:spPr>
          <a:xfrm>
            <a:off x="985680" y="741240"/>
            <a:ext cx="4886640" cy="3665520"/>
          </a:xfrm>
          <a:prstGeom prst="rect">
            <a:avLst/>
          </a:prstGeom>
          <a:ln w="0">
            <a:noFill/>
          </a:ln>
        </p:spPr>
      </p:sp>
      <p:sp>
        <p:nvSpPr>
          <p:cNvPr id="17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171A35-2B11-4510-9925-7D0231BAE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4" name="PlaceHolder 1"/>
          <p:cNvSpPr>
            <a:spLocks noGrp="1"/>
          </p:cNvSpPr>
          <p:nvPr>
            <p:ph type="sldImg"/>
          </p:nvPr>
        </p:nvSpPr>
        <p:spPr>
          <a:xfrm>
            <a:off x="985680" y="741240"/>
            <a:ext cx="4886640" cy="3665520"/>
          </a:xfrm>
          <a:prstGeom prst="rect">
            <a:avLst/>
          </a:prstGeom>
          <a:ln w="0">
            <a:noFill/>
          </a:ln>
        </p:spPr>
      </p:sp>
      <p:sp>
        <p:nvSpPr>
          <p:cNvPr id="17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162034-9388-41E8-81E1-BA4684890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7" name="PlaceHolder 1"/>
          <p:cNvSpPr>
            <a:spLocks noGrp="1"/>
          </p:cNvSpPr>
          <p:nvPr>
            <p:ph type="sldImg"/>
          </p:nvPr>
        </p:nvSpPr>
        <p:spPr>
          <a:xfrm>
            <a:off x="985680" y="741240"/>
            <a:ext cx="4886640" cy="3665520"/>
          </a:xfrm>
          <a:prstGeom prst="rect">
            <a:avLst/>
          </a:prstGeom>
          <a:ln w="0">
            <a:noFill/>
          </a:ln>
        </p:spPr>
      </p:sp>
      <p:sp>
        <p:nvSpPr>
          <p:cNvPr id="17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D67852-043B-4C24-A539-DF92DF221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0" name="PlaceHolder 1"/>
          <p:cNvSpPr>
            <a:spLocks noGrp="1"/>
          </p:cNvSpPr>
          <p:nvPr>
            <p:ph type="sldImg"/>
          </p:nvPr>
        </p:nvSpPr>
        <p:spPr>
          <a:xfrm>
            <a:off x="985680" y="741240"/>
            <a:ext cx="4886640" cy="3665520"/>
          </a:xfrm>
          <a:prstGeom prst="rect">
            <a:avLst/>
          </a:prstGeom>
          <a:ln w="0">
            <a:noFill/>
          </a:ln>
        </p:spPr>
      </p:sp>
      <p:sp>
        <p:nvSpPr>
          <p:cNvPr id="17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A909BD-15B4-4073-9488-3C221EB2C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3" name="PlaceHolder 1"/>
          <p:cNvSpPr>
            <a:spLocks noGrp="1"/>
          </p:cNvSpPr>
          <p:nvPr>
            <p:ph type="sldImg"/>
          </p:nvPr>
        </p:nvSpPr>
        <p:spPr>
          <a:xfrm>
            <a:off x="985680" y="741240"/>
            <a:ext cx="4886640" cy="3665520"/>
          </a:xfrm>
          <a:prstGeom prst="rect">
            <a:avLst/>
          </a:prstGeom>
          <a:ln w="0">
            <a:noFill/>
          </a:ln>
        </p:spPr>
      </p:sp>
      <p:sp>
        <p:nvSpPr>
          <p:cNvPr id="17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679BAF-643E-45DA-8798-2F2E9D66F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6" name="PlaceHolder 1"/>
          <p:cNvSpPr>
            <a:spLocks noGrp="1"/>
          </p:cNvSpPr>
          <p:nvPr>
            <p:ph type="sldImg"/>
          </p:nvPr>
        </p:nvSpPr>
        <p:spPr>
          <a:xfrm>
            <a:off x="985680" y="741240"/>
            <a:ext cx="4886640" cy="3665520"/>
          </a:xfrm>
          <a:prstGeom prst="rect">
            <a:avLst/>
          </a:prstGeom>
          <a:ln w="0">
            <a:noFill/>
          </a:ln>
        </p:spPr>
      </p:sp>
      <p:sp>
        <p:nvSpPr>
          <p:cNvPr id="17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F6981E-7B16-47CB-A4F5-154250B2A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85680" y="741240"/>
            <a:ext cx="4886640" cy="3665520"/>
          </a:xfrm>
          <a:prstGeom prst="rect">
            <a:avLst/>
          </a:prstGeom>
          <a:ln w="0">
            <a:noFill/>
          </a:ln>
        </p:spPr>
      </p:sp>
      <p:sp>
        <p:nvSpPr>
          <p:cNvPr id="16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A1E1C-9C29-4B75-ABD5-92DA1F490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PlaceHolder 1"/>
          <p:cNvSpPr>
            <a:spLocks noGrp="1"/>
          </p:cNvSpPr>
          <p:nvPr>
            <p:ph type="sldImg"/>
          </p:nvPr>
        </p:nvSpPr>
        <p:spPr>
          <a:xfrm>
            <a:off x="985680" y="741240"/>
            <a:ext cx="4886640" cy="3665520"/>
          </a:xfrm>
          <a:prstGeom prst="rect">
            <a:avLst/>
          </a:prstGeom>
          <a:ln w="0">
            <a:noFill/>
          </a:ln>
        </p:spPr>
      </p:sp>
      <p:sp>
        <p:nvSpPr>
          <p:cNvPr id="17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E64F49-8542-4C8C-B72B-2153F3511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85680" y="741240"/>
            <a:ext cx="4886640" cy="3665520"/>
          </a:xfrm>
          <a:prstGeom prst="rect">
            <a:avLst/>
          </a:prstGeom>
          <a:ln w="0">
            <a:noFill/>
          </a:ln>
        </p:spPr>
      </p:sp>
      <p:sp>
        <p:nvSpPr>
          <p:cNvPr id="17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FEDFED-23A8-47F4-834F-1E737AB28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PlaceHolder 1"/>
          <p:cNvSpPr>
            <a:spLocks noGrp="1"/>
          </p:cNvSpPr>
          <p:nvPr>
            <p:ph type="sldImg"/>
          </p:nvPr>
        </p:nvSpPr>
        <p:spPr>
          <a:xfrm>
            <a:off x="985680" y="741240"/>
            <a:ext cx="4886640" cy="3665520"/>
          </a:xfrm>
          <a:prstGeom prst="rect">
            <a:avLst/>
          </a:prstGeom>
          <a:ln w="0">
            <a:noFill/>
          </a:ln>
        </p:spPr>
      </p:sp>
      <p:sp>
        <p:nvSpPr>
          <p:cNvPr id="17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4970A2-BCF9-49A9-BFF3-83CA0ADF2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985680" y="741240"/>
            <a:ext cx="4886640" cy="3665520"/>
          </a:xfrm>
          <a:prstGeom prst="rect">
            <a:avLst/>
          </a:prstGeom>
          <a:ln w="0">
            <a:noFill/>
          </a:ln>
        </p:spPr>
      </p:sp>
      <p:sp>
        <p:nvSpPr>
          <p:cNvPr id="17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77480-4100-4E6A-A708-FE69B19A4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1" name="PlaceHolder 1"/>
          <p:cNvSpPr>
            <a:spLocks noGrp="1"/>
          </p:cNvSpPr>
          <p:nvPr>
            <p:ph type="sldImg"/>
          </p:nvPr>
        </p:nvSpPr>
        <p:spPr>
          <a:xfrm>
            <a:off x="985680" y="741240"/>
            <a:ext cx="4886640" cy="3665520"/>
          </a:xfrm>
          <a:prstGeom prst="rect">
            <a:avLst/>
          </a:prstGeom>
          <a:ln w="0">
            <a:noFill/>
          </a:ln>
        </p:spPr>
      </p:sp>
      <p:sp>
        <p:nvSpPr>
          <p:cNvPr id="17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D772BC-06F1-4C31-AFB9-B47FA1D9D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985680" y="741240"/>
            <a:ext cx="4886640" cy="3665520"/>
          </a:xfrm>
          <a:prstGeom prst="rect">
            <a:avLst/>
          </a:prstGeom>
          <a:ln w="0">
            <a:noFill/>
          </a:ln>
        </p:spPr>
      </p:sp>
      <p:sp>
        <p:nvSpPr>
          <p:cNvPr id="17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A69FF-97F6-4AC4-A27C-C909DFE26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7" name="PlaceHolder 1"/>
          <p:cNvSpPr>
            <a:spLocks noGrp="1"/>
          </p:cNvSpPr>
          <p:nvPr>
            <p:ph type="sldImg"/>
          </p:nvPr>
        </p:nvSpPr>
        <p:spPr>
          <a:xfrm>
            <a:off x="985680" y="741240"/>
            <a:ext cx="4886640" cy="3665520"/>
          </a:xfrm>
          <a:prstGeom prst="rect">
            <a:avLst/>
          </a:prstGeom>
          <a:ln w="0">
            <a:noFill/>
          </a:ln>
        </p:spPr>
      </p:sp>
      <p:sp>
        <p:nvSpPr>
          <p:cNvPr id="17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94539-2BBB-4727-9E1E-404EE3ACD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0" name="PlaceHolder 1"/>
          <p:cNvSpPr>
            <a:spLocks noGrp="1"/>
          </p:cNvSpPr>
          <p:nvPr>
            <p:ph type="sldImg"/>
          </p:nvPr>
        </p:nvSpPr>
        <p:spPr>
          <a:xfrm>
            <a:off x="985680" y="741240"/>
            <a:ext cx="4886640" cy="3665520"/>
          </a:xfrm>
          <a:prstGeom prst="rect">
            <a:avLst/>
          </a:prstGeom>
          <a:ln w="0">
            <a:noFill/>
          </a:ln>
        </p:spPr>
      </p:sp>
      <p:sp>
        <p:nvSpPr>
          <p:cNvPr id="17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0335E1-0D77-49B4-A476-73D973AB3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985680" y="741240"/>
            <a:ext cx="4886640" cy="3665520"/>
          </a:xfrm>
          <a:prstGeom prst="rect">
            <a:avLst/>
          </a:prstGeom>
          <a:ln w="0">
            <a:noFill/>
          </a:ln>
        </p:spPr>
      </p:sp>
      <p:sp>
        <p:nvSpPr>
          <p:cNvPr id="17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F689A9-4AB1-4B8A-A158-634F7270E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6" name="PlaceHolder 1"/>
          <p:cNvSpPr>
            <a:spLocks noGrp="1"/>
          </p:cNvSpPr>
          <p:nvPr>
            <p:ph type="sldImg"/>
          </p:nvPr>
        </p:nvSpPr>
        <p:spPr>
          <a:xfrm>
            <a:off x="985680" y="741240"/>
            <a:ext cx="4886640" cy="3665520"/>
          </a:xfrm>
          <a:prstGeom prst="rect">
            <a:avLst/>
          </a:prstGeom>
          <a:ln w="0">
            <a:noFill/>
          </a:ln>
        </p:spPr>
      </p:sp>
      <p:sp>
        <p:nvSpPr>
          <p:cNvPr id="17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0E06EA-66CC-4512-B1E6-5F6A1B3F3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985680" y="741240"/>
            <a:ext cx="4886640" cy="3665520"/>
          </a:xfrm>
          <a:prstGeom prst="rect">
            <a:avLst/>
          </a:prstGeom>
          <a:ln w="0">
            <a:noFill/>
          </a:ln>
        </p:spPr>
      </p:sp>
      <p:sp>
        <p:nvSpPr>
          <p:cNvPr id="16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B587CD-C217-4C49-AB28-4163DEB7E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9" name="PlaceHolder 1"/>
          <p:cNvSpPr>
            <a:spLocks noGrp="1"/>
          </p:cNvSpPr>
          <p:nvPr>
            <p:ph type="sldImg"/>
          </p:nvPr>
        </p:nvSpPr>
        <p:spPr>
          <a:xfrm>
            <a:off x="985680" y="741240"/>
            <a:ext cx="4886640" cy="3665520"/>
          </a:xfrm>
          <a:prstGeom prst="rect">
            <a:avLst/>
          </a:prstGeom>
          <a:ln w="0">
            <a:noFill/>
          </a:ln>
        </p:spPr>
      </p:sp>
      <p:sp>
        <p:nvSpPr>
          <p:cNvPr id="17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191896-6695-426C-8C7B-064876483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2" name="PlaceHolder 1"/>
          <p:cNvSpPr>
            <a:spLocks noGrp="1"/>
          </p:cNvSpPr>
          <p:nvPr>
            <p:ph type="sldImg"/>
          </p:nvPr>
        </p:nvSpPr>
        <p:spPr>
          <a:xfrm>
            <a:off x="985680" y="741240"/>
            <a:ext cx="4886640" cy="3665520"/>
          </a:xfrm>
          <a:prstGeom prst="rect">
            <a:avLst/>
          </a:prstGeom>
          <a:ln w="0">
            <a:noFill/>
          </a:ln>
        </p:spPr>
      </p:sp>
      <p:sp>
        <p:nvSpPr>
          <p:cNvPr id="17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7983F6-C994-42C7-B9A4-719DA728D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985680" y="741240"/>
            <a:ext cx="4886640" cy="3665520"/>
          </a:xfrm>
          <a:prstGeom prst="rect">
            <a:avLst/>
          </a:prstGeom>
          <a:ln w="0">
            <a:noFill/>
          </a:ln>
        </p:spPr>
      </p:sp>
      <p:sp>
        <p:nvSpPr>
          <p:cNvPr id="17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A05DE7-4156-4516-BBED-3CF950460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985680" y="741240"/>
            <a:ext cx="4886640" cy="3665520"/>
          </a:xfrm>
          <a:prstGeom prst="rect">
            <a:avLst/>
          </a:prstGeom>
          <a:ln w="0">
            <a:noFill/>
          </a:ln>
        </p:spPr>
      </p:sp>
      <p:sp>
        <p:nvSpPr>
          <p:cNvPr id="17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F3FB0-F3FE-43ED-A217-68566B9A5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985680" y="741240"/>
            <a:ext cx="4886640" cy="3665520"/>
          </a:xfrm>
          <a:prstGeom prst="rect">
            <a:avLst/>
          </a:prstGeom>
          <a:ln w="0">
            <a:noFill/>
          </a:ln>
        </p:spPr>
      </p:sp>
      <p:sp>
        <p:nvSpPr>
          <p:cNvPr id="17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1F542B-10BE-4F5E-8430-A4C37B617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4" name="PlaceHolder 1"/>
          <p:cNvSpPr>
            <a:spLocks noGrp="1"/>
          </p:cNvSpPr>
          <p:nvPr>
            <p:ph type="sldImg"/>
          </p:nvPr>
        </p:nvSpPr>
        <p:spPr>
          <a:xfrm>
            <a:off x="985680" y="741240"/>
            <a:ext cx="4886640" cy="3665520"/>
          </a:xfrm>
          <a:prstGeom prst="rect">
            <a:avLst/>
          </a:prstGeom>
          <a:ln w="0">
            <a:noFill/>
          </a:ln>
        </p:spPr>
      </p:sp>
      <p:sp>
        <p:nvSpPr>
          <p:cNvPr id="17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7E75B4-369D-4E3E-A1AA-9D29F3D8D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7" name="PlaceHolder 1"/>
          <p:cNvSpPr>
            <a:spLocks noGrp="1"/>
          </p:cNvSpPr>
          <p:nvPr>
            <p:ph type="sldImg"/>
          </p:nvPr>
        </p:nvSpPr>
        <p:spPr>
          <a:xfrm>
            <a:off x="985680" y="741240"/>
            <a:ext cx="4886640" cy="3665520"/>
          </a:xfrm>
          <a:prstGeom prst="rect">
            <a:avLst/>
          </a:prstGeom>
          <a:ln w="0">
            <a:noFill/>
          </a:ln>
        </p:spPr>
      </p:sp>
      <p:sp>
        <p:nvSpPr>
          <p:cNvPr id="17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F11E0-9CF0-4F53-AF3A-47F80DD13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0" name="PlaceHolder 1"/>
          <p:cNvSpPr>
            <a:spLocks noGrp="1"/>
          </p:cNvSpPr>
          <p:nvPr>
            <p:ph type="sldImg"/>
          </p:nvPr>
        </p:nvSpPr>
        <p:spPr>
          <a:xfrm>
            <a:off x="985680" y="741240"/>
            <a:ext cx="4886640" cy="3665520"/>
          </a:xfrm>
          <a:prstGeom prst="rect">
            <a:avLst/>
          </a:prstGeom>
          <a:ln w="0">
            <a:noFill/>
          </a:ln>
        </p:spPr>
      </p:sp>
      <p:sp>
        <p:nvSpPr>
          <p:cNvPr id="17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282E13-2BD1-44F9-A17B-6EDB1974F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3" name="PlaceHolder 1"/>
          <p:cNvSpPr>
            <a:spLocks noGrp="1"/>
          </p:cNvSpPr>
          <p:nvPr>
            <p:ph type="sldImg"/>
          </p:nvPr>
        </p:nvSpPr>
        <p:spPr>
          <a:xfrm>
            <a:off x="985680" y="741240"/>
            <a:ext cx="4886640" cy="3665520"/>
          </a:xfrm>
          <a:prstGeom prst="rect">
            <a:avLst/>
          </a:prstGeom>
          <a:ln w="0">
            <a:noFill/>
          </a:ln>
        </p:spPr>
      </p:sp>
      <p:sp>
        <p:nvSpPr>
          <p:cNvPr id="17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877F4A-51BE-4A38-86F1-968C61BCF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6" name="PlaceHolder 1"/>
          <p:cNvSpPr>
            <a:spLocks noGrp="1"/>
          </p:cNvSpPr>
          <p:nvPr>
            <p:ph type="sldImg"/>
          </p:nvPr>
        </p:nvSpPr>
        <p:spPr>
          <a:xfrm>
            <a:off x="985680" y="741240"/>
            <a:ext cx="4886640" cy="3665520"/>
          </a:xfrm>
          <a:prstGeom prst="rect">
            <a:avLst/>
          </a:prstGeom>
          <a:ln w="0">
            <a:noFill/>
          </a:ln>
        </p:spPr>
      </p:sp>
      <p:sp>
        <p:nvSpPr>
          <p:cNvPr id="17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3A406D-C218-4D7B-93DB-F3ABD5AD4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85680" y="741240"/>
            <a:ext cx="4886640" cy="3665520"/>
          </a:xfrm>
          <a:prstGeom prst="rect">
            <a:avLst/>
          </a:prstGeom>
          <a:ln w="0">
            <a:noFill/>
          </a:ln>
        </p:spPr>
      </p:sp>
      <p:sp>
        <p:nvSpPr>
          <p:cNvPr id="16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1EF4F7-5D09-4218-AB1B-0CA7056B2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9" name="PlaceHolder 1"/>
          <p:cNvSpPr>
            <a:spLocks noGrp="1"/>
          </p:cNvSpPr>
          <p:nvPr>
            <p:ph type="sldImg"/>
          </p:nvPr>
        </p:nvSpPr>
        <p:spPr>
          <a:xfrm>
            <a:off x="985680" y="741240"/>
            <a:ext cx="4886640" cy="3665520"/>
          </a:xfrm>
          <a:prstGeom prst="rect">
            <a:avLst/>
          </a:prstGeom>
          <a:ln w="0">
            <a:noFill/>
          </a:ln>
        </p:spPr>
      </p:sp>
      <p:sp>
        <p:nvSpPr>
          <p:cNvPr id="17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09A326-EFAE-491F-8142-BF0CEC1AC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2" name="PlaceHolder 1"/>
          <p:cNvSpPr>
            <a:spLocks noGrp="1"/>
          </p:cNvSpPr>
          <p:nvPr>
            <p:ph type="sldImg"/>
          </p:nvPr>
        </p:nvSpPr>
        <p:spPr>
          <a:xfrm>
            <a:off x="985680" y="741240"/>
            <a:ext cx="4886640" cy="3665520"/>
          </a:xfrm>
          <a:prstGeom prst="rect">
            <a:avLst/>
          </a:prstGeom>
          <a:ln w="0">
            <a:noFill/>
          </a:ln>
        </p:spPr>
      </p:sp>
      <p:sp>
        <p:nvSpPr>
          <p:cNvPr id="17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FDD09F-0F13-4A24-9398-F691AE271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5" name="PlaceHolder 1"/>
          <p:cNvSpPr>
            <a:spLocks noGrp="1"/>
          </p:cNvSpPr>
          <p:nvPr>
            <p:ph type="sldImg"/>
          </p:nvPr>
        </p:nvSpPr>
        <p:spPr>
          <a:xfrm>
            <a:off x="985680" y="741240"/>
            <a:ext cx="4886640" cy="3665520"/>
          </a:xfrm>
          <a:prstGeom prst="rect">
            <a:avLst/>
          </a:prstGeom>
          <a:ln w="0">
            <a:noFill/>
          </a:ln>
        </p:spPr>
      </p:sp>
      <p:sp>
        <p:nvSpPr>
          <p:cNvPr id="17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111238-BD5F-446C-B008-98BE79475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8" name="PlaceHolder 1"/>
          <p:cNvSpPr>
            <a:spLocks noGrp="1"/>
          </p:cNvSpPr>
          <p:nvPr>
            <p:ph type="sldImg"/>
          </p:nvPr>
        </p:nvSpPr>
        <p:spPr>
          <a:xfrm>
            <a:off x="985680" y="741240"/>
            <a:ext cx="4886640" cy="3665520"/>
          </a:xfrm>
          <a:prstGeom prst="rect">
            <a:avLst/>
          </a:prstGeom>
          <a:ln w="0">
            <a:noFill/>
          </a:ln>
        </p:spPr>
      </p:sp>
      <p:sp>
        <p:nvSpPr>
          <p:cNvPr id="17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0B4E26-AD81-466A-B41C-5E3492E90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1" name="PlaceHolder 1"/>
          <p:cNvSpPr>
            <a:spLocks noGrp="1"/>
          </p:cNvSpPr>
          <p:nvPr>
            <p:ph type="sldImg"/>
          </p:nvPr>
        </p:nvSpPr>
        <p:spPr>
          <a:xfrm>
            <a:off x="985680" y="741240"/>
            <a:ext cx="4886640" cy="3665520"/>
          </a:xfrm>
          <a:prstGeom prst="rect">
            <a:avLst/>
          </a:prstGeom>
          <a:ln w="0">
            <a:noFill/>
          </a:ln>
        </p:spPr>
      </p:sp>
      <p:sp>
        <p:nvSpPr>
          <p:cNvPr id="18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FD7767-C1C3-4C69-852B-7716C404A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4" name="PlaceHolder 1"/>
          <p:cNvSpPr>
            <a:spLocks noGrp="1"/>
          </p:cNvSpPr>
          <p:nvPr>
            <p:ph type="sldImg"/>
          </p:nvPr>
        </p:nvSpPr>
        <p:spPr>
          <a:xfrm>
            <a:off x="985680" y="741240"/>
            <a:ext cx="4886640" cy="3665520"/>
          </a:xfrm>
          <a:prstGeom prst="rect">
            <a:avLst/>
          </a:prstGeom>
          <a:ln w="0">
            <a:noFill/>
          </a:ln>
        </p:spPr>
      </p:sp>
      <p:sp>
        <p:nvSpPr>
          <p:cNvPr id="18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256B7-A04F-41C8-8257-9D6DCE0F5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7" name="PlaceHolder 1"/>
          <p:cNvSpPr>
            <a:spLocks noGrp="1"/>
          </p:cNvSpPr>
          <p:nvPr>
            <p:ph type="sldImg"/>
          </p:nvPr>
        </p:nvSpPr>
        <p:spPr>
          <a:xfrm>
            <a:off x="985680" y="741240"/>
            <a:ext cx="4886640" cy="3665520"/>
          </a:xfrm>
          <a:prstGeom prst="rect">
            <a:avLst/>
          </a:prstGeom>
          <a:ln w="0">
            <a:noFill/>
          </a:ln>
        </p:spPr>
      </p:sp>
      <p:sp>
        <p:nvSpPr>
          <p:cNvPr id="18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D04532-D3FE-4C0E-A76F-59B9805E3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0" name="PlaceHolder 1"/>
          <p:cNvSpPr>
            <a:spLocks noGrp="1"/>
          </p:cNvSpPr>
          <p:nvPr>
            <p:ph type="sldImg"/>
          </p:nvPr>
        </p:nvSpPr>
        <p:spPr>
          <a:xfrm>
            <a:off x="985680" y="741240"/>
            <a:ext cx="4886640" cy="3665520"/>
          </a:xfrm>
          <a:prstGeom prst="rect">
            <a:avLst/>
          </a:prstGeom>
          <a:ln w="0">
            <a:noFill/>
          </a:ln>
        </p:spPr>
      </p:sp>
      <p:sp>
        <p:nvSpPr>
          <p:cNvPr id="18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A3A18D-AF4A-4845-8A65-9C319D930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3" name="PlaceHolder 1"/>
          <p:cNvSpPr>
            <a:spLocks noGrp="1"/>
          </p:cNvSpPr>
          <p:nvPr>
            <p:ph type="sldImg"/>
          </p:nvPr>
        </p:nvSpPr>
        <p:spPr>
          <a:xfrm>
            <a:off x="985680" y="741240"/>
            <a:ext cx="4886640" cy="3665520"/>
          </a:xfrm>
          <a:prstGeom prst="rect">
            <a:avLst/>
          </a:prstGeom>
          <a:ln w="0">
            <a:noFill/>
          </a:ln>
        </p:spPr>
      </p:sp>
      <p:sp>
        <p:nvSpPr>
          <p:cNvPr id="18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53D86A-0AF4-483F-A65D-0ADBE6903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6" name="PlaceHolder 1"/>
          <p:cNvSpPr>
            <a:spLocks noGrp="1"/>
          </p:cNvSpPr>
          <p:nvPr>
            <p:ph type="sldImg"/>
          </p:nvPr>
        </p:nvSpPr>
        <p:spPr>
          <a:xfrm>
            <a:off x="985680" y="741240"/>
            <a:ext cx="4886640" cy="3665520"/>
          </a:xfrm>
          <a:prstGeom prst="rect">
            <a:avLst/>
          </a:prstGeom>
          <a:ln w="0">
            <a:noFill/>
          </a:ln>
        </p:spPr>
      </p:sp>
      <p:sp>
        <p:nvSpPr>
          <p:cNvPr id="18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02C55A-1233-4EEB-9FF2-4C5799950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985680" y="741240"/>
            <a:ext cx="4886640" cy="3665520"/>
          </a:xfrm>
          <a:prstGeom prst="rect">
            <a:avLst/>
          </a:prstGeom>
          <a:ln w="0">
            <a:noFill/>
          </a:ln>
        </p:spPr>
      </p:sp>
      <p:sp>
        <p:nvSpPr>
          <p:cNvPr id="1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FF95E2-81B1-4AF6-9FC9-CDDF5A69B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9" name="PlaceHolder 1"/>
          <p:cNvSpPr>
            <a:spLocks noGrp="1"/>
          </p:cNvSpPr>
          <p:nvPr>
            <p:ph type="sldImg"/>
          </p:nvPr>
        </p:nvSpPr>
        <p:spPr>
          <a:xfrm>
            <a:off x="985680" y="741240"/>
            <a:ext cx="4886640" cy="3665520"/>
          </a:xfrm>
          <a:prstGeom prst="rect">
            <a:avLst/>
          </a:prstGeom>
          <a:ln w="0">
            <a:noFill/>
          </a:ln>
        </p:spPr>
      </p:sp>
      <p:sp>
        <p:nvSpPr>
          <p:cNvPr id="18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402624-C410-453B-BC66-43A497553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2" name="PlaceHolder 1"/>
          <p:cNvSpPr>
            <a:spLocks noGrp="1"/>
          </p:cNvSpPr>
          <p:nvPr>
            <p:ph type="sldImg"/>
          </p:nvPr>
        </p:nvSpPr>
        <p:spPr>
          <a:xfrm>
            <a:off x="985680" y="741240"/>
            <a:ext cx="4886640" cy="3665520"/>
          </a:xfrm>
          <a:prstGeom prst="rect">
            <a:avLst/>
          </a:prstGeom>
          <a:ln w="0">
            <a:noFill/>
          </a:ln>
        </p:spPr>
      </p:sp>
      <p:sp>
        <p:nvSpPr>
          <p:cNvPr id="18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BC060-90C1-478D-9685-A594CDB88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5" name="PlaceHolder 1"/>
          <p:cNvSpPr>
            <a:spLocks noGrp="1"/>
          </p:cNvSpPr>
          <p:nvPr>
            <p:ph type="sldImg"/>
          </p:nvPr>
        </p:nvSpPr>
        <p:spPr>
          <a:xfrm>
            <a:off x="985680" y="741240"/>
            <a:ext cx="4886640" cy="3665520"/>
          </a:xfrm>
          <a:prstGeom prst="rect">
            <a:avLst/>
          </a:prstGeom>
          <a:ln w="0">
            <a:noFill/>
          </a:ln>
        </p:spPr>
      </p:sp>
      <p:sp>
        <p:nvSpPr>
          <p:cNvPr id="18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24B265-A21C-4E0E-83E6-0C28DBC8C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8" name="PlaceHolder 1"/>
          <p:cNvSpPr>
            <a:spLocks noGrp="1"/>
          </p:cNvSpPr>
          <p:nvPr>
            <p:ph type="sldImg"/>
          </p:nvPr>
        </p:nvSpPr>
        <p:spPr>
          <a:xfrm>
            <a:off x="985680" y="741240"/>
            <a:ext cx="4886640" cy="3665520"/>
          </a:xfrm>
          <a:prstGeom prst="rect">
            <a:avLst/>
          </a:prstGeom>
          <a:ln w="0">
            <a:noFill/>
          </a:ln>
        </p:spPr>
      </p:sp>
      <p:sp>
        <p:nvSpPr>
          <p:cNvPr id="18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076C29-ECFB-4E9E-8937-1F4037501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1" name="PlaceHolder 1"/>
          <p:cNvSpPr>
            <a:spLocks noGrp="1"/>
          </p:cNvSpPr>
          <p:nvPr>
            <p:ph type="sldImg"/>
          </p:nvPr>
        </p:nvSpPr>
        <p:spPr>
          <a:xfrm>
            <a:off x="985680" y="741240"/>
            <a:ext cx="4886640" cy="3665520"/>
          </a:xfrm>
          <a:prstGeom prst="rect">
            <a:avLst/>
          </a:prstGeom>
          <a:ln w="0">
            <a:noFill/>
          </a:ln>
        </p:spPr>
      </p:sp>
      <p:sp>
        <p:nvSpPr>
          <p:cNvPr id="18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0BA349-C344-44C7-9635-C665658C1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4" name="PlaceHolder 1"/>
          <p:cNvSpPr>
            <a:spLocks noGrp="1"/>
          </p:cNvSpPr>
          <p:nvPr>
            <p:ph type="sldImg"/>
          </p:nvPr>
        </p:nvSpPr>
        <p:spPr>
          <a:xfrm>
            <a:off x="985680" y="741240"/>
            <a:ext cx="4886640" cy="3665520"/>
          </a:xfrm>
          <a:prstGeom prst="rect">
            <a:avLst/>
          </a:prstGeom>
          <a:ln w="0">
            <a:noFill/>
          </a:ln>
        </p:spPr>
      </p:sp>
      <p:sp>
        <p:nvSpPr>
          <p:cNvPr id="18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0E0951-9A60-4D1F-A406-B20050CBD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PlaceHolder 1"/>
          <p:cNvSpPr>
            <a:spLocks noGrp="1"/>
          </p:cNvSpPr>
          <p:nvPr>
            <p:ph type="sldImg"/>
          </p:nvPr>
        </p:nvSpPr>
        <p:spPr>
          <a:xfrm>
            <a:off x="985680" y="741240"/>
            <a:ext cx="4886640" cy="3665520"/>
          </a:xfrm>
          <a:prstGeom prst="rect">
            <a:avLst/>
          </a:prstGeom>
          <a:ln w="0">
            <a:noFill/>
          </a:ln>
        </p:spPr>
      </p:sp>
      <p:sp>
        <p:nvSpPr>
          <p:cNvPr id="18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92C2C1-FE33-4669-9573-3931875E1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985680" y="741240"/>
            <a:ext cx="4886640" cy="3665520"/>
          </a:xfrm>
          <a:prstGeom prst="rect">
            <a:avLst/>
          </a:prstGeom>
          <a:ln w="0">
            <a:noFill/>
          </a:ln>
        </p:spPr>
      </p:sp>
      <p:sp>
        <p:nvSpPr>
          <p:cNvPr id="18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4C12E-27E4-4BC2-93C4-5DE6A318F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3" name="PlaceHolder 1"/>
          <p:cNvSpPr>
            <a:spLocks noGrp="1"/>
          </p:cNvSpPr>
          <p:nvPr>
            <p:ph type="sldImg"/>
          </p:nvPr>
        </p:nvSpPr>
        <p:spPr>
          <a:xfrm>
            <a:off x="985680" y="741240"/>
            <a:ext cx="4886640" cy="3665520"/>
          </a:xfrm>
          <a:prstGeom prst="rect">
            <a:avLst/>
          </a:prstGeom>
          <a:ln w="0">
            <a:noFill/>
          </a:ln>
        </p:spPr>
      </p:sp>
      <p:sp>
        <p:nvSpPr>
          <p:cNvPr id="18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5915D1-039C-4FC5-B97D-44121B492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6" name="PlaceHolder 1"/>
          <p:cNvSpPr>
            <a:spLocks noGrp="1"/>
          </p:cNvSpPr>
          <p:nvPr>
            <p:ph type="sldImg"/>
          </p:nvPr>
        </p:nvSpPr>
        <p:spPr>
          <a:xfrm>
            <a:off x="985680" y="741240"/>
            <a:ext cx="4886640" cy="3665520"/>
          </a:xfrm>
          <a:prstGeom prst="rect">
            <a:avLst/>
          </a:prstGeom>
          <a:ln w="0">
            <a:noFill/>
          </a:ln>
        </p:spPr>
      </p:sp>
      <p:sp>
        <p:nvSpPr>
          <p:cNvPr id="18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73D566-8806-4266-9C62-6DD4EC561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85680" y="741240"/>
            <a:ext cx="4886640" cy="3665520"/>
          </a:xfrm>
          <a:prstGeom prst="rect">
            <a:avLst/>
          </a:prstGeom>
          <a:ln w="0">
            <a:noFill/>
          </a:ln>
        </p:spPr>
      </p:sp>
      <p:sp>
        <p:nvSpPr>
          <p:cNvPr id="16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380755-3201-4B7F-BE8D-FCE03F16B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9" name="PlaceHolder 1"/>
          <p:cNvSpPr>
            <a:spLocks noGrp="1"/>
          </p:cNvSpPr>
          <p:nvPr>
            <p:ph type="sldImg"/>
          </p:nvPr>
        </p:nvSpPr>
        <p:spPr>
          <a:xfrm>
            <a:off x="985680" y="741240"/>
            <a:ext cx="4886640" cy="3665520"/>
          </a:xfrm>
          <a:prstGeom prst="rect">
            <a:avLst/>
          </a:prstGeom>
          <a:ln w="0">
            <a:noFill/>
          </a:ln>
        </p:spPr>
      </p:sp>
      <p:sp>
        <p:nvSpPr>
          <p:cNvPr id="18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19089B-2BB0-47F9-84D2-DFA678F27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2" name="PlaceHolder 1"/>
          <p:cNvSpPr>
            <a:spLocks noGrp="1"/>
          </p:cNvSpPr>
          <p:nvPr>
            <p:ph type="sldImg"/>
          </p:nvPr>
        </p:nvSpPr>
        <p:spPr>
          <a:xfrm>
            <a:off x="985680" y="741240"/>
            <a:ext cx="4886640" cy="3665520"/>
          </a:xfrm>
          <a:prstGeom prst="rect">
            <a:avLst/>
          </a:prstGeom>
          <a:ln w="0">
            <a:noFill/>
          </a:ln>
        </p:spPr>
      </p:sp>
      <p:sp>
        <p:nvSpPr>
          <p:cNvPr id="18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A9D469-881A-4DF3-8844-55A8FEFAF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5" name="PlaceHolder 1"/>
          <p:cNvSpPr>
            <a:spLocks noGrp="1"/>
          </p:cNvSpPr>
          <p:nvPr>
            <p:ph type="sldImg"/>
          </p:nvPr>
        </p:nvSpPr>
        <p:spPr>
          <a:xfrm>
            <a:off x="985680" y="741240"/>
            <a:ext cx="4886640" cy="3665520"/>
          </a:xfrm>
          <a:prstGeom prst="rect">
            <a:avLst/>
          </a:prstGeom>
          <a:ln w="0">
            <a:noFill/>
          </a:ln>
        </p:spPr>
      </p:sp>
      <p:sp>
        <p:nvSpPr>
          <p:cNvPr id="18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2C4089-F4F8-4B1F-A0C9-C92C8BA9E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8" name="PlaceHolder 1"/>
          <p:cNvSpPr>
            <a:spLocks noGrp="1"/>
          </p:cNvSpPr>
          <p:nvPr>
            <p:ph type="sldImg"/>
          </p:nvPr>
        </p:nvSpPr>
        <p:spPr>
          <a:xfrm>
            <a:off x="985680" y="741240"/>
            <a:ext cx="4886640" cy="3665520"/>
          </a:xfrm>
          <a:prstGeom prst="rect">
            <a:avLst/>
          </a:prstGeom>
          <a:ln w="0">
            <a:noFill/>
          </a:ln>
        </p:spPr>
      </p:sp>
      <p:sp>
        <p:nvSpPr>
          <p:cNvPr id="18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0390A4-EA19-45B0-A33D-C54495537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1" name="PlaceHolder 1"/>
          <p:cNvSpPr>
            <a:spLocks noGrp="1"/>
          </p:cNvSpPr>
          <p:nvPr>
            <p:ph type="sldImg"/>
          </p:nvPr>
        </p:nvSpPr>
        <p:spPr>
          <a:xfrm>
            <a:off x="985680" y="741240"/>
            <a:ext cx="4886640" cy="3665520"/>
          </a:xfrm>
          <a:prstGeom prst="rect">
            <a:avLst/>
          </a:prstGeom>
          <a:ln w="0">
            <a:noFill/>
          </a:ln>
        </p:spPr>
      </p:sp>
      <p:sp>
        <p:nvSpPr>
          <p:cNvPr id="18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3639B5-F7D3-4B24-B673-5C662DF5D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4" name="PlaceHolder 1"/>
          <p:cNvSpPr>
            <a:spLocks noGrp="1"/>
          </p:cNvSpPr>
          <p:nvPr>
            <p:ph type="sldImg"/>
          </p:nvPr>
        </p:nvSpPr>
        <p:spPr>
          <a:xfrm>
            <a:off x="985680" y="741240"/>
            <a:ext cx="4886640" cy="3665520"/>
          </a:xfrm>
          <a:prstGeom prst="rect">
            <a:avLst/>
          </a:prstGeom>
          <a:ln w="0">
            <a:noFill/>
          </a:ln>
        </p:spPr>
      </p:sp>
      <p:sp>
        <p:nvSpPr>
          <p:cNvPr id="18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78AF7-3891-47F0-994C-6979DDEF4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7" name="PlaceHolder 1"/>
          <p:cNvSpPr>
            <a:spLocks noGrp="1"/>
          </p:cNvSpPr>
          <p:nvPr>
            <p:ph type="sldImg"/>
          </p:nvPr>
        </p:nvSpPr>
        <p:spPr>
          <a:xfrm>
            <a:off x="985680" y="741240"/>
            <a:ext cx="4886640" cy="3665520"/>
          </a:xfrm>
          <a:prstGeom prst="rect">
            <a:avLst/>
          </a:prstGeom>
          <a:ln w="0">
            <a:noFill/>
          </a:ln>
        </p:spPr>
      </p:sp>
      <p:sp>
        <p:nvSpPr>
          <p:cNvPr id="18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247AF7-16B2-49F1-84DD-56257C0C6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0" name="PlaceHolder 1"/>
          <p:cNvSpPr>
            <a:spLocks noGrp="1"/>
          </p:cNvSpPr>
          <p:nvPr>
            <p:ph type="sldImg"/>
          </p:nvPr>
        </p:nvSpPr>
        <p:spPr>
          <a:xfrm>
            <a:off x="985680" y="741240"/>
            <a:ext cx="4886640" cy="3665520"/>
          </a:xfrm>
          <a:prstGeom prst="rect">
            <a:avLst/>
          </a:prstGeom>
          <a:ln w="0">
            <a:noFill/>
          </a:ln>
        </p:spPr>
      </p:sp>
      <p:sp>
        <p:nvSpPr>
          <p:cNvPr id="1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2E580D-E863-44E6-AA41-EA4611F1E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3" name="PlaceHolder 1"/>
          <p:cNvSpPr>
            <a:spLocks noGrp="1"/>
          </p:cNvSpPr>
          <p:nvPr>
            <p:ph type="sldImg"/>
          </p:nvPr>
        </p:nvSpPr>
        <p:spPr>
          <a:xfrm>
            <a:off x="985680" y="741240"/>
            <a:ext cx="4886640" cy="3665520"/>
          </a:xfrm>
          <a:prstGeom prst="rect">
            <a:avLst/>
          </a:prstGeom>
          <a:ln w="0">
            <a:noFill/>
          </a:ln>
        </p:spPr>
      </p:sp>
      <p:sp>
        <p:nvSpPr>
          <p:cNvPr id="1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BED56B-4D9D-44E3-8026-9EDA1EA40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6" name="PlaceHolder 1"/>
          <p:cNvSpPr>
            <a:spLocks noGrp="1"/>
          </p:cNvSpPr>
          <p:nvPr>
            <p:ph type="sldImg"/>
          </p:nvPr>
        </p:nvSpPr>
        <p:spPr>
          <a:xfrm>
            <a:off x="985680" y="741240"/>
            <a:ext cx="4886640" cy="3665520"/>
          </a:xfrm>
          <a:prstGeom prst="rect">
            <a:avLst/>
          </a:prstGeom>
          <a:ln w="0">
            <a:noFill/>
          </a:ln>
        </p:spPr>
      </p:sp>
      <p:sp>
        <p:nvSpPr>
          <p:cNvPr id="1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0149CA-F2C1-440E-88BC-B7429A753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985680" y="741240"/>
            <a:ext cx="4886640" cy="3665520"/>
          </a:xfrm>
          <a:prstGeom prst="rect">
            <a:avLst/>
          </a:prstGeom>
          <a:ln w="0">
            <a:noFill/>
          </a:ln>
        </p:spPr>
      </p:sp>
      <p:sp>
        <p:nvSpPr>
          <p:cNvPr id="16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2DBEFA-5B13-4B6C-845E-F4881D213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9" name="PlaceHolder 1"/>
          <p:cNvSpPr>
            <a:spLocks noGrp="1"/>
          </p:cNvSpPr>
          <p:nvPr>
            <p:ph type="sldImg"/>
          </p:nvPr>
        </p:nvSpPr>
        <p:spPr>
          <a:xfrm>
            <a:off x="985680" y="741240"/>
            <a:ext cx="4886640" cy="3665520"/>
          </a:xfrm>
          <a:prstGeom prst="rect">
            <a:avLst/>
          </a:prstGeom>
          <a:ln w="0">
            <a:noFill/>
          </a:ln>
        </p:spPr>
      </p:sp>
      <p:sp>
        <p:nvSpPr>
          <p:cNvPr id="1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8B1312-8773-4F08-B5C8-F4342D563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2" name="PlaceHolder 1"/>
          <p:cNvSpPr>
            <a:spLocks noGrp="1"/>
          </p:cNvSpPr>
          <p:nvPr>
            <p:ph type="sldImg"/>
          </p:nvPr>
        </p:nvSpPr>
        <p:spPr>
          <a:xfrm>
            <a:off x="985680" y="741240"/>
            <a:ext cx="4886640" cy="3665520"/>
          </a:xfrm>
          <a:prstGeom prst="rect">
            <a:avLst/>
          </a:prstGeom>
          <a:ln w="0">
            <a:noFill/>
          </a:ln>
        </p:spPr>
      </p:sp>
      <p:sp>
        <p:nvSpPr>
          <p:cNvPr id="1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C7DCC7-F03A-47EE-8645-79E990829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5" name="PlaceHolder 1"/>
          <p:cNvSpPr>
            <a:spLocks noGrp="1"/>
          </p:cNvSpPr>
          <p:nvPr>
            <p:ph type="sldImg"/>
          </p:nvPr>
        </p:nvSpPr>
        <p:spPr>
          <a:xfrm>
            <a:off x="985680" y="741240"/>
            <a:ext cx="4886640" cy="3665520"/>
          </a:xfrm>
          <a:prstGeom prst="rect">
            <a:avLst/>
          </a:prstGeom>
          <a:ln w="0">
            <a:noFill/>
          </a:ln>
        </p:spPr>
      </p:sp>
      <p:sp>
        <p:nvSpPr>
          <p:cNvPr id="1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1D1947-990A-4B31-808C-8B58E0314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8" name="PlaceHolder 1"/>
          <p:cNvSpPr>
            <a:spLocks noGrp="1"/>
          </p:cNvSpPr>
          <p:nvPr>
            <p:ph type="sldImg"/>
          </p:nvPr>
        </p:nvSpPr>
        <p:spPr>
          <a:xfrm>
            <a:off x="985680" y="741240"/>
            <a:ext cx="4886640" cy="3665520"/>
          </a:xfrm>
          <a:prstGeom prst="rect">
            <a:avLst/>
          </a:prstGeom>
          <a:ln w="0">
            <a:noFill/>
          </a:ln>
        </p:spPr>
      </p:sp>
      <p:sp>
        <p:nvSpPr>
          <p:cNvPr id="18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E57705-1BD2-473B-9079-65193EDEF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1" name="PlaceHolder 1"/>
          <p:cNvSpPr>
            <a:spLocks noGrp="1"/>
          </p:cNvSpPr>
          <p:nvPr>
            <p:ph type="sldImg"/>
          </p:nvPr>
        </p:nvSpPr>
        <p:spPr>
          <a:xfrm>
            <a:off x="985680" y="741240"/>
            <a:ext cx="4886640" cy="3665520"/>
          </a:xfrm>
          <a:prstGeom prst="rect">
            <a:avLst/>
          </a:prstGeom>
          <a:ln w="0">
            <a:noFill/>
          </a:ln>
        </p:spPr>
      </p:sp>
      <p:sp>
        <p:nvSpPr>
          <p:cNvPr id="1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CF32B3-57D8-491A-B197-618E66AFE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4" name="PlaceHolder 1"/>
          <p:cNvSpPr>
            <a:spLocks noGrp="1"/>
          </p:cNvSpPr>
          <p:nvPr>
            <p:ph type="sldImg"/>
          </p:nvPr>
        </p:nvSpPr>
        <p:spPr>
          <a:xfrm>
            <a:off x="985680" y="741240"/>
            <a:ext cx="4886640" cy="3665520"/>
          </a:xfrm>
          <a:prstGeom prst="rect">
            <a:avLst/>
          </a:prstGeom>
          <a:ln w="0">
            <a:noFill/>
          </a:ln>
        </p:spPr>
      </p:sp>
      <p:sp>
        <p:nvSpPr>
          <p:cNvPr id="1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0AF3FB-73B5-41B2-96BC-7B19B55F3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7" name="PlaceHolder 1"/>
          <p:cNvSpPr>
            <a:spLocks noGrp="1"/>
          </p:cNvSpPr>
          <p:nvPr>
            <p:ph type="sldImg"/>
          </p:nvPr>
        </p:nvSpPr>
        <p:spPr>
          <a:xfrm>
            <a:off x="985680" y="741240"/>
            <a:ext cx="4886640" cy="3665520"/>
          </a:xfrm>
          <a:prstGeom prst="rect">
            <a:avLst/>
          </a:prstGeom>
          <a:ln w="0">
            <a:noFill/>
          </a:ln>
        </p:spPr>
      </p:sp>
      <p:sp>
        <p:nvSpPr>
          <p:cNvPr id="1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4F4073-115C-4A92-ABBB-1413D48D0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0" name="PlaceHolder 1"/>
          <p:cNvSpPr>
            <a:spLocks noGrp="1"/>
          </p:cNvSpPr>
          <p:nvPr>
            <p:ph type="sldImg"/>
          </p:nvPr>
        </p:nvSpPr>
        <p:spPr>
          <a:xfrm>
            <a:off x="985680" y="741240"/>
            <a:ext cx="4886640" cy="3665520"/>
          </a:xfrm>
          <a:prstGeom prst="rect">
            <a:avLst/>
          </a:prstGeom>
          <a:ln w="0">
            <a:noFill/>
          </a:ln>
        </p:spPr>
      </p:sp>
      <p:sp>
        <p:nvSpPr>
          <p:cNvPr id="19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FFB0F2-2BF8-4706-BE2B-B121CEE04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3" name="PlaceHolder 1"/>
          <p:cNvSpPr>
            <a:spLocks noGrp="1"/>
          </p:cNvSpPr>
          <p:nvPr>
            <p:ph type="sldImg"/>
          </p:nvPr>
        </p:nvSpPr>
        <p:spPr>
          <a:xfrm>
            <a:off x="985680" y="741240"/>
            <a:ext cx="4886640" cy="3665520"/>
          </a:xfrm>
          <a:prstGeom prst="rect">
            <a:avLst/>
          </a:prstGeom>
          <a:ln w="0">
            <a:noFill/>
          </a:ln>
        </p:spPr>
      </p:sp>
      <p:sp>
        <p:nvSpPr>
          <p:cNvPr id="1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EA52B-A585-40BF-886B-305D4E2E3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6" name="PlaceHolder 1"/>
          <p:cNvSpPr>
            <a:spLocks noGrp="1"/>
          </p:cNvSpPr>
          <p:nvPr>
            <p:ph type="sldImg"/>
          </p:nvPr>
        </p:nvSpPr>
        <p:spPr>
          <a:xfrm>
            <a:off x="985680" y="741240"/>
            <a:ext cx="4886640" cy="3665520"/>
          </a:xfrm>
          <a:prstGeom prst="rect">
            <a:avLst/>
          </a:prstGeom>
          <a:ln w="0">
            <a:noFill/>
          </a:ln>
        </p:spPr>
      </p:sp>
      <p:sp>
        <p:nvSpPr>
          <p:cNvPr id="1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AF037-E233-4AC1-96D0-EB573D1EA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85680" y="741240"/>
            <a:ext cx="4886640" cy="3665520"/>
          </a:xfrm>
          <a:prstGeom prst="rect">
            <a:avLst/>
          </a:prstGeom>
          <a:ln w="0">
            <a:noFill/>
          </a:ln>
        </p:spPr>
      </p:sp>
      <p:sp>
        <p:nvSpPr>
          <p:cNvPr id="16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E3C634-6108-4377-9838-C8CDC9F5C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9" name="PlaceHolder 1"/>
          <p:cNvSpPr>
            <a:spLocks noGrp="1"/>
          </p:cNvSpPr>
          <p:nvPr>
            <p:ph type="sldImg"/>
          </p:nvPr>
        </p:nvSpPr>
        <p:spPr>
          <a:xfrm>
            <a:off x="985680" y="741240"/>
            <a:ext cx="4886640" cy="3665520"/>
          </a:xfrm>
          <a:prstGeom prst="rect">
            <a:avLst/>
          </a:prstGeom>
          <a:ln w="0">
            <a:noFill/>
          </a:ln>
        </p:spPr>
      </p:sp>
      <p:sp>
        <p:nvSpPr>
          <p:cNvPr id="1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B38C23-7306-46A9-8150-C6B2F6957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2" name="PlaceHolder 1"/>
          <p:cNvSpPr>
            <a:spLocks noGrp="1"/>
          </p:cNvSpPr>
          <p:nvPr>
            <p:ph type="sldImg"/>
          </p:nvPr>
        </p:nvSpPr>
        <p:spPr>
          <a:xfrm>
            <a:off x="985680" y="741240"/>
            <a:ext cx="4886640" cy="3665520"/>
          </a:xfrm>
          <a:prstGeom prst="rect">
            <a:avLst/>
          </a:prstGeom>
          <a:ln w="0">
            <a:noFill/>
          </a:ln>
        </p:spPr>
      </p:sp>
      <p:sp>
        <p:nvSpPr>
          <p:cNvPr id="19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D7295E-64F6-4AE2-804B-EBAE32B67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5" name="PlaceHolder 1"/>
          <p:cNvSpPr>
            <a:spLocks noGrp="1"/>
          </p:cNvSpPr>
          <p:nvPr>
            <p:ph type="sldImg"/>
          </p:nvPr>
        </p:nvSpPr>
        <p:spPr>
          <a:xfrm>
            <a:off x="985680" y="741240"/>
            <a:ext cx="4886640" cy="3665520"/>
          </a:xfrm>
          <a:prstGeom prst="rect">
            <a:avLst/>
          </a:prstGeom>
          <a:ln w="0">
            <a:noFill/>
          </a:ln>
        </p:spPr>
      </p:sp>
      <p:sp>
        <p:nvSpPr>
          <p:cNvPr id="19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23E53B-0F3A-4BD5-9304-99700EFB4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8" name="PlaceHolder 1"/>
          <p:cNvSpPr>
            <a:spLocks noGrp="1"/>
          </p:cNvSpPr>
          <p:nvPr>
            <p:ph type="sldImg"/>
          </p:nvPr>
        </p:nvSpPr>
        <p:spPr>
          <a:xfrm>
            <a:off x="985680" y="741240"/>
            <a:ext cx="4886640" cy="3665520"/>
          </a:xfrm>
          <a:prstGeom prst="rect">
            <a:avLst/>
          </a:prstGeom>
          <a:ln w="0">
            <a:noFill/>
          </a:ln>
        </p:spPr>
      </p:sp>
      <p:sp>
        <p:nvSpPr>
          <p:cNvPr id="1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3CA244-1447-450C-B7A5-97B99E79E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1" name="PlaceHolder 1"/>
          <p:cNvSpPr>
            <a:spLocks noGrp="1"/>
          </p:cNvSpPr>
          <p:nvPr>
            <p:ph type="sldImg"/>
          </p:nvPr>
        </p:nvSpPr>
        <p:spPr>
          <a:xfrm>
            <a:off x="985680" y="741240"/>
            <a:ext cx="4886640" cy="3665520"/>
          </a:xfrm>
          <a:prstGeom prst="rect">
            <a:avLst/>
          </a:prstGeom>
          <a:ln w="0">
            <a:noFill/>
          </a:ln>
        </p:spPr>
      </p:sp>
      <p:sp>
        <p:nvSpPr>
          <p:cNvPr id="1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8F5ABC-C910-4620-9FF3-EEBC0F20F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4" name="PlaceHolder 1"/>
          <p:cNvSpPr>
            <a:spLocks noGrp="1"/>
          </p:cNvSpPr>
          <p:nvPr>
            <p:ph type="sldImg"/>
          </p:nvPr>
        </p:nvSpPr>
        <p:spPr>
          <a:xfrm>
            <a:off x="985680" y="741240"/>
            <a:ext cx="4886640" cy="3665520"/>
          </a:xfrm>
          <a:prstGeom prst="rect">
            <a:avLst/>
          </a:prstGeom>
          <a:ln w="0">
            <a:noFill/>
          </a:ln>
        </p:spPr>
      </p:sp>
      <p:sp>
        <p:nvSpPr>
          <p:cNvPr id="19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E3B815-8A8B-4E8A-91AC-FB6F3CAD6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7" name="PlaceHolder 1"/>
          <p:cNvSpPr>
            <a:spLocks noGrp="1"/>
          </p:cNvSpPr>
          <p:nvPr>
            <p:ph type="sldImg"/>
          </p:nvPr>
        </p:nvSpPr>
        <p:spPr>
          <a:xfrm>
            <a:off x="985680" y="741240"/>
            <a:ext cx="4886640" cy="3665520"/>
          </a:xfrm>
          <a:prstGeom prst="rect">
            <a:avLst/>
          </a:prstGeom>
          <a:ln w="0">
            <a:noFill/>
          </a:ln>
        </p:spPr>
      </p:sp>
      <p:sp>
        <p:nvSpPr>
          <p:cNvPr id="19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C08A6D-BB96-4969-A78E-91288DE13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0" name="PlaceHolder 1"/>
          <p:cNvSpPr>
            <a:spLocks noGrp="1"/>
          </p:cNvSpPr>
          <p:nvPr>
            <p:ph type="sldImg"/>
          </p:nvPr>
        </p:nvSpPr>
        <p:spPr>
          <a:xfrm>
            <a:off x="985680" y="741240"/>
            <a:ext cx="4886640" cy="3665520"/>
          </a:xfrm>
          <a:prstGeom prst="rect">
            <a:avLst/>
          </a:prstGeom>
          <a:ln w="0">
            <a:noFill/>
          </a:ln>
        </p:spPr>
      </p:sp>
      <p:sp>
        <p:nvSpPr>
          <p:cNvPr id="1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A520B3-7DE7-4C68-8C8A-542233889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3" name="PlaceHolder 1"/>
          <p:cNvSpPr>
            <a:spLocks noGrp="1"/>
          </p:cNvSpPr>
          <p:nvPr>
            <p:ph type="sldImg"/>
          </p:nvPr>
        </p:nvSpPr>
        <p:spPr>
          <a:xfrm>
            <a:off x="985680" y="741240"/>
            <a:ext cx="4886640" cy="3665520"/>
          </a:xfrm>
          <a:prstGeom prst="rect">
            <a:avLst/>
          </a:prstGeom>
          <a:ln w="0">
            <a:noFill/>
          </a:ln>
        </p:spPr>
      </p:sp>
      <p:sp>
        <p:nvSpPr>
          <p:cNvPr id="1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C9FB2A-AD51-4567-8B0E-4AFFE837D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6" name="PlaceHolder 1"/>
          <p:cNvSpPr>
            <a:spLocks noGrp="1"/>
          </p:cNvSpPr>
          <p:nvPr>
            <p:ph type="sldImg"/>
          </p:nvPr>
        </p:nvSpPr>
        <p:spPr>
          <a:xfrm>
            <a:off x="985680" y="741240"/>
            <a:ext cx="4886640" cy="3665520"/>
          </a:xfrm>
          <a:prstGeom prst="rect">
            <a:avLst/>
          </a:prstGeom>
          <a:ln w="0">
            <a:noFill/>
          </a:ln>
        </p:spPr>
      </p:sp>
      <p:sp>
        <p:nvSpPr>
          <p:cNvPr id="19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EA5FA8-BCF7-4046-B68A-83C998FC90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7656B1B-0CBC-41B4-ADCF-61A0A24D92A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38697CBB-F3E3-4308-B7D0-4F64D08285D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488A0100-462C-485F-868E-B055D665F40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E819E5A3-3601-4F5B-8B7C-786D0938901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94A87CB-1081-49DE-A8FB-CF1B1735B6D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F142B2C-81C0-4575-AC26-F6117BA5B00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2DF7023-9D04-4BD3-A222-CFD0F61E221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DAB0D2B-3281-4A56-9EC4-10EB525CC9B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EAB16D3F-882E-4C66-BA0C-D549B3B6A0F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3EA913BF-4ECA-4A0A-A291-25D8ADFA6AC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A27E101-13FD-44B8-B220-3F4327A7E1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1CE08502-FC7E-43C7-9EB5-FC69B2404DD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DCFE418-C248-4A8B-A156-C3C96EC7B58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519FA610-251B-423F-AF60-5C5C0B07261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3DCA5AE-E770-4025-8F14-50C645BFCCA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FA2BE50F-64BE-4FD1-A183-4A6F223DF88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60286C6-59B9-4270-9DCC-179565AD26D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4E2B3A0-2EC1-4E75-9CAE-7EE2A6BF4B6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B1F0F45-782A-44D7-84A8-2E2A7944F2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9EAEE29-7B6D-4ED1-999C-73C866A7DA4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EC4BD629-8229-43A3-8C2F-5ADBD322E5E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4549B7C7-FA8F-4803-9517-D7B12380CB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91238F54-9C99-4C4A-ACD3-CDE0A4042FC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4CD61344-11BE-42F6-9B8B-B550B598DDC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C75D3B7-0B3D-4069-92E1-3C5462E0422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E8F85000-9646-434B-8337-737BC7F90BE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A6E7295-5B2A-4F91-9ABB-46BCD79D0BE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0F6A252-7769-4A29-BD6D-5FC4CEAB566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B8537A6D-7929-4B06-8C11-C60E58CFDB2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5BDAEC0F-0A79-4BC0-8D78-20E23F56257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0956309-7E77-47A8-8D2B-41DC97884EF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0DF2B1A-0A4C-467A-84DF-F49F2858001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C61E90D4-73BD-4F2B-82C9-93F1AD7ACB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56F0EF-911F-48F8-87E3-854B653C178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4DFD8603-6CD8-4BE0-85AC-5FD18155769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F0BF4298-EF76-4C02-83B2-00DB9C9CE25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8AC93B05-3868-4811-ADEC-F74C4EDA0CB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6FF0793-A2CB-47AF-AF99-6BBF1C3EF83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9D30A75-2AD4-4E85-A8CD-A3E83CB26A6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0BDCDCA6-EF2E-4CFF-9CEB-089CBD4DD4C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E791282-0FA4-41DC-9BB2-482429AC165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DDF4C7ED-555F-4D28-941F-0AF13F27EE9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6C46238B-7A19-4D9B-B4C9-4B9D083031B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44D6B5D-669F-4451-9E1A-8F3DECA8ED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B29C0CF-5D7E-4805-836C-68742D32EE1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3E26A93-D2A6-4676-88DB-CD89795ECDE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5ACF710-EC52-417B-B2E0-A7A84AFE2E2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2F66CAFB-6A7B-46EC-AA3F-9B777E44DF6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ED786388-783B-4783-A95B-3116CACD9C5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A0D259AE-5AF7-4729-B911-1611089F572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8EB81E1-BB65-4EC3-A9E5-60C3BB29179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E1DFC74-EBFE-42DE-B122-195B7D4177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0700385-5933-4628-8D0D-327CC955C0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1B594839-1C28-40CA-9FA5-248888F996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D3319F4C-3DDA-426C-AB69-C1E14F36A5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3A55CD6-882A-4899-A515-885A7B0C88E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43BA94F1-A68B-476D-97C5-B4B0DB9BE3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4BA3D1C-6C22-43CA-A364-4E5794F471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EC08F40-5B3D-4775-8704-21F4A88D47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42D1DA8-48A3-4327-A2F1-43827D6F65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DEA16CEA-6677-4651-A064-B6E9298CD1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30EEFFB4-61E0-4B95-8B29-CD6C44D9C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04B7BE6E-76C5-4C78-8543-22AF9A827A4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854160B-DD19-40F9-9349-2DB0B8A16C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AB84CF0-3108-41B6-9C71-1DAFFA114A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666416C-2C4D-4897-B6C0-3AE2295B4B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ABC23D7-480D-4D6F-88CF-A1F1DD4E1D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EF612B2-9D2A-4395-BBD9-D4651618A1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02220A6-8257-4D39-923E-73657BA1B6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AAEE451-4521-4DB8-999C-D871BA92D0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AD60574-B4D6-4E94-973F-6295D26E4E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60015B0-2188-4CA2-91D5-4734D7034B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60EC719-8FBF-4A4F-8407-4A22E65005A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40AA6E-DFFA-4813-8B92-AB72209CEFF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FFE10F-D977-441C-9749-10BF7D45CA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3C1E76-8623-4A35-ABE2-82E10CC8BC1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4E5EAE4-3B67-4154-BCBE-12CC08E51A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522A3F-08A5-46A7-BC47-70E4A964A4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BA2D185-4021-4E96-AE73-82812211D98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47FE13F-95CA-4A5D-A4DB-A299C379EB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8E9FA6F-268F-4445-A6BF-8DEA86C9CDA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A42D0CE-F231-46F1-825C-E362A8B4C54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70C35F3-15C7-4752-8BA4-99A22518671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2FA3115-257D-4FB3-8447-8026ABF42FC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03A9EBB4-AF19-45F2-9C64-C7A798E708D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D806A56B-C205-4EB2-A2EB-CDA8B75811F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7829EB-3F10-46F8-8FCA-7ECAC2A0576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6D2E3E3-8E37-4903-946B-638ECFD2CFC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20532A97-A127-466F-B892-7AC5384786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F3D7735-FC83-4C96-AABF-B6585530010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A2EE448-9850-4D68-B428-7E88DE3FDB3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240C1BC0-ABEC-4E6A-8B1A-9FA857FC0B4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081E6A08-5790-480C-964C-6DA11B60328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6BB7DC1-54B6-48FF-AC31-81854A78A15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DEBF9A3-718E-4EA9-B15A-D34248E7CB5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A17EEE0-8C27-4208-AE75-D855E9DD7ED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43DF28E-2AA0-4AEB-97CA-2CE0BC25483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F1AF0120-9277-4EDC-AB1B-D28D6B80DCC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7406B630-ABCB-4CF2-B743-AB65B9D3C3E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AFBCE94-A256-44D6-A256-F49ADC4258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04F13727-027E-4CE0-97BC-FBA59A6AD09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99E8F0F-853F-4B50-BAD1-4C1B096FA77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3A0E9B0-90BF-4543-88C6-D8DE28856B2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092C2B1-F13E-48C7-B703-C1D46043D6A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16BD74C3-FAD7-4DAC-8AC3-3E6F9B3D826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918665B8-5090-480B-A79E-01B42FC5F7B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5763658-6E0D-455B-A0A5-9C344880067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1B12D39-9A9A-4EB6-9615-EA2B640C9F7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22DECBE-6BB9-4C31-9F1D-B0AECA31792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4B1ACAE-F058-4300-93FA-AD770C24B59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B1150155-BE4A-44F6-9CF7-86D5D0AE2F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5CBC8F9-66AE-4A79-85C3-541496000E5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5DCA9CB1-3767-4AD0-B144-E92D4D81247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A3F6089-ED54-423E-8547-4485A6A3C92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A2AB3C1-1F70-4C9E-A6DF-AFBE0218308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C9E367B-FC46-4BA8-AA41-44BB231FEB1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38A05600-DFE2-45ED-BF9E-C4346B41D89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9B4839F7-7366-43F6-8A16-016D164BDB7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3142AE5E-5177-4D9C-8A3F-7D35E114F40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71238B3-5153-4139-B6D7-411CEACC246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89BCA63-46F5-4F0E-BE5F-746F95589E7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472318D-9FF3-4F34-B963-E4E4D91329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C3826BC-FF54-4FE7-B658-F99706F5E66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D62DED2-7526-4848-9629-672EEC62C59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36063C0D-CDEA-4DE8-BC94-02C1F2EE89A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AFDEE776-F557-4297-9F50-2755562D1AC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8052EC0-85FF-44A8-90A5-0B0F8A1EBA7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D78A42D-0A7A-4007-B1A8-DAE5139E1AC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93DC064-65A3-4133-97AD-2B385352A4E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0190205-FDBA-4324-9CC7-FAB04E4FC3D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93D6F016-12E3-4F76-A618-78BD06AEF6B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57A79225-76FE-48C8-A974-F1FC345989C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B0BF348-E160-41D4-802C-727E4A6B6E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5C9D186-F573-40AC-B7A5-80FE53648BF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D028FB5-07CD-4D12-BB15-5758CD7AD15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0B3DACE-143B-49E4-A7AD-9F3F3643A56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0384E69-155B-4422-B37F-3FA38855706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168209BD-74F2-4A73-8629-F0E1A429FD8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437AE27E-6F22-4BA6-A697-6B72038D544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A7019AB-7DBE-4E78-AF05-72F75A13FB3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6AF5301-4F35-4C4E-9C47-07A1532EECF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D5263DF4-E1BB-4FA1-91F6-D030B25B196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E400824-462D-4759-A2D3-DC581BF7893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C400AE7A-0B41-4428-BBE2-DB40F20427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EA4A0F9-234E-4887-AA88-8CAA1A614DC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0C23F9B9-420B-497B-944D-B6E839D03C7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A5F37D0-5CAD-4B28-90F0-0100DF57387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7FFF7E0-53C6-4940-88CF-533EA567FFB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E5C36BD-92E3-4F63-9A40-804849CF639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0B2377B-7C74-4737-BBC9-E7559A8634E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F4B286A2-1604-4960-A55E-BE0C9750BF4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E9A23031-4D9E-4810-9C66-2B3CA351B4B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3E7C8D6-3A00-4579-8B97-AE5CF2AB556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3F09B6C-5043-4A13-904D-A7D78ADA2A8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452CD52-6457-4834-B5AB-EC6D3243E2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735C1E-91BE-4B2A-9D07-529F9494505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F3D700-B3CF-4D77-8425-57C7562184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70981C-10E1-4AF7-99B1-2B85042319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3B126D-279F-4689-90CE-BA3810A1CB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D046CB-7309-43F3-AFC3-BC1E74DE818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FF686C-8399-40A3-A046-367C5ACD86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B4791E-5FD1-42D4-AC81-66765F3D11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DA2AA0-DD83-40CA-9105-7D594C7428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197239-867D-47AC-BE32-F0B8F9D9285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8E66F-A883-4DDF-831A-5908624FDA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3D2AAA-0EF7-42E3-9FCC-CD2DB2480D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24BB18-86D6-4C62-917B-6EE6717D43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34A235-6F9A-4383-80B9-F740EE859B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250920" y="1197000"/>
            <a:ext cx="856908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στις περιπτώσεις που οι εμπειρίες τους</a:t>
            </a:r>
            <a:br>
              <a:rPr sz="2800"/>
            </a:br>
            <a:r>
              <a:rPr b="0" lang="el-GR" sz="2800" spc="-1" strike="noStrike">
                <a:solidFill>
                  <a:srgbClr val="000000"/>
                </a:solidFill>
                <a:latin typeface="Times New Roman"/>
              </a:rPr>
              <a:t>(προσωπικές ή επαγγελματικές) είναι αρνητικές δεν παρουσιάζονται πρόθυμοι σε σχέση</a:t>
            </a:r>
            <a:br>
              <a:rPr sz="2800"/>
            </a:br>
            <a:r>
              <a:rPr b="0" lang="el-GR" sz="2800" spc="-1" strike="noStrike">
                <a:solidFill>
                  <a:srgbClr val="000000"/>
                </a:solidFill>
                <a:latin typeface="Times New Roman"/>
              </a:rPr>
              <a:t>με αλλαγές και καινοτόμα προγράμματα.</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Β. Να χρησιμοποιεί ποικίλες διδακτικές προσεγγίσεις και δραστηριότητες μάθησης, όπως για παράδειγμα την ομαδοσυνεργατική διδασκαλία και τον εμπλουτισμό της διδασκαλίας του με εποπτικά μέσα.</a:t>
            </a:r>
            <a:br>
              <a:rPr sz="2800"/>
            </a:br>
            <a:br>
              <a:rPr sz="2800"/>
            </a:br>
            <a:r>
              <a:rPr b="0" lang="el-GR" sz="2800" spc="-1" strike="noStrike">
                <a:solidFill>
                  <a:srgbClr val="000000"/>
                </a:solidFill>
                <a:latin typeface="Times New Roman"/>
              </a:rPr>
              <a:t> Γ.Να δημιουργεί κίνητρο για μάθηση και να οξύνει την περιέργεια των παιδιών με παρουσιάζοντας τα προβλήματα με ελκυστικό τρόπο.</a:t>
            </a:r>
            <a:br>
              <a:rPr sz="2800"/>
            </a:br>
            <a:endParaRPr b="0" lang="en-US" sz="2800" spc="-1" strike="noStrike">
              <a:solidFill>
                <a:srgbClr val="000000"/>
              </a:solidFill>
              <a:latin typeface="Times New Roman"/>
            </a:endParaRPr>
          </a:p>
        </p:txBody>
      </p:sp>
      <p:grpSp>
        <p:nvGrpSpPr>
          <p:cNvPr id="1432" name=""/>
          <p:cNvGrpSpPr/>
          <p:nvPr/>
        </p:nvGrpSpPr>
        <p:grpSpPr>
          <a:xfrm>
            <a:off x="0" y="115920"/>
            <a:ext cx="9140760" cy="6548400"/>
            <a:chOff x="0" y="115920"/>
            <a:chExt cx="9140760" cy="6548400"/>
          </a:xfrm>
        </p:grpSpPr>
        <p:grpSp>
          <p:nvGrpSpPr>
            <p:cNvPr id="1433" name=""/>
            <p:cNvGrpSpPr/>
            <p:nvPr/>
          </p:nvGrpSpPr>
          <p:grpSpPr>
            <a:xfrm>
              <a:off x="0" y="115920"/>
              <a:ext cx="9140760" cy="6548400"/>
              <a:chOff x="0" y="115920"/>
              <a:chExt cx="9140760" cy="6548400"/>
            </a:xfrm>
          </p:grpSpPr>
          <p:sp>
            <p:nvSpPr>
              <p:cNvPr id="14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9" name=""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0" name=""/>
          <p:cNvGrpSpPr/>
          <p:nvPr/>
        </p:nvGrpSpPr>
        <p:grpSpPr>
          <a:xfrm>
            <a:off x="0" y="115920"/>
            <a:ext cx="9140760" cy="6548400"/>
            <a:chOff x="0" y="115920"/>
            <a:chExt cx="9140760" cy="6548400"/>
          </a:xfrm>
        </p:grpSpPr>
        <p:grpSp>
          <p:nvGrpSpPr>
            <p:cNvPr id="1441" name=""/>
            <p:cNvGrpSpPr/>
            <p:nvPr/>
          </p:nvGrpSpPr>
          <p:grpSpPr>
            <a:xfrm>
              <a:off x="0" y="115920"/>
              <a:ext cx="9140760" cy="6548400"/>
              <a:chOff x="0" y="115920"/>
              <a:chExt cx="9140760" cy="6548400"/>
            </a:xfrm>
          </p:grpSpPr>
          <p:sp>
            <p:nvSpPr>
              <p:cNvPr id="14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7" name="" descr=""/>
          <p:cNvPicPr/>
          <p:nvPr/>
        </p:nvPicPr>
        <p:blipFill>
          <a:blip r:embed="rId3"/>
          <a:stretch/>
        </p:blipFill>
        <p:spPr>
          <a:xfrm>
            <a:off x="250920" y="333360"/>
            <a:ext cx="1417680" cy="879480"/>
          </a:xfrm>
          <a:prstGeom prst="rect">
            <a:avLst/>
          </a:prstGeom>
          <a:ln w="0">
            <a:noFill/>
          </a:ln>
        </p:spPr>
      </p:pic>
      <p:sp>
        <p:nvSpPr>
          <p:cNvPr id="1448" name=""/>
          <p:cNvSpPr/>
          <p:nvPr/>
        </p:nvSpPr>
        <p:spPr>
          <a:xfrm>
            <a:off x="539640" y="1603440"/>
            <a:ext cx="81360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Δ. Να δημιουργεί περιβάλλον συναισθηματικής σταθερότητας και ασφάλειας, όπου προωθείται ο σεβασμός για τη διαφορετικότητα, δίνεται ιδιαίτερη σημασία στη διαμόρφωση λειτουργικού περιβάλλοντος για τους μαθητές που έχουν κινητικά και άλλα προβλήματα και η ένταξη τους προϋποθέτει τη φυσική τροποποίηση και τη διαμόρφωση του χώρου για να καλλιεργηθεί περισσότερο το αίσθημα του «ανήκειν».</a:t>
            </a:r>
            <a:br>
              <a:rPr sz="2800"/>
            </a:b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9" name=""/>
          <p:cNvGrpSpPr/>
          <p:nvPr/>
        </p:nvGrpSpPr>
        <p:grpSpPr>
          <a:xfrm>
            <a:off x="0" y="115920"/>
            <a:ext cx="9140760" cy="6548400"/>
            <a:chOff x="0" y="115920"/>
            <a:chExt cx="9140760" cy="6548400"/>
          </a:xfrm>
        </p:grpSpPr>
        <p:grpSp>
          <p:nvGrpSpPr>
            <p:cNvPr id="1450" name=""/>
            <p:cNvGrpSpPr/>
            <p:nvPr/>
          </p:nvGrpSpPr>
          <p:grpSpPr>
            <a:xfrm>
              <a:off x="0" y="115920"/>
              <a:ext cx="9140760" cy="6548400"/>
              <a:chOff x="0" y="115920"/>
              <a:chExt cx="9140760" cy="6548400"/>
            </a:xfrm>
          </p:grpSpPr>
          <p:sp>
            <p:nvSpPr>
              <p:cNvPr id="14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6" name="" descr=""/>
          <p:cNvPicPr/>
          <p:nvPr/>
        </p:nvPicPr>
        <p:blipFill>
          <a:blip r:embed="rId3"/>
          <a:stretch/>
        </p:blipFill>
        <p:spPr>
          <a:xfrm>
            <a:off x="250920" y="333360"/>
            <a:ext cx="1417680" cy="879480"/>
          </a:xfrm>
          <a:prstGeom prst="rect">
            <a:avLst/>
          </a:prstGeom>
          <a:ln w="0">
            <a:noFill/>
          </a:ln>
        </p:spPr>
      </p:pic>
      <p:sp>
        <p:nvSpPr>
          <p:cNvPr id="1457" name=""/>
          <p:cNvSpPr/>
          <p:nvPr/>
        </p:nvSpPr>
        <p:spPr>
          <a:xfrm>
            <a:off x="539640" y="2249640"/>
            <a:ext cx="8136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ε. Να ενισχύει την καλλιέργεια κοινωνικών δεξιοτήτων και τη βελτίωση της συμπεριφοράς μέσα στην τάξη με την καταγραφή κανόνων και να αναλύει τις δράσεις και τους στόχους της τάξης, ακόμα και τις αιτίες που οδήγησαν στην εκδήλωση ενοχλητικής συμπεριφοράς.</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8" name=""/>
          <p:cNvGrpSpPr/>
          <p:nvPr/>
        </p:nvGrpSpPr>
        <p:grpSpPr>
          <a:xfrm>
            <a:off x="0" y="115920"/>
            <a:ext cx="9140760" cy="6548400"/>
            <a:chOff x="0" y="115920"/>
            <a:chExt cx="9140760" cy="6548400"/>
          </a:xfrm>
        </p:grpSpPr>
        <p:grpSp>
          <p:nvGrpSpPr>
            <p:cNvPr id="1459" name=""/>
            <p:cNvGrpSpPr/>
            <p:nvPr/>
          </p:nvGrpSpPr>
          <p:grpSpPr>
            <a:xfrm>
              <a:off x="0" y="115920"/>
              <a:ext cx="9140760" cy="6548400"/>
              <a:chOff x="0" y="115920"/>
              <a:chExt cx="9140760" cy="6548400"/>
            </a:xfrm>
          </p:grpSpPr>
          <p:sp>
            <p:nvSpPr>
              <p:cNvPr id="14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5" name="" descr=""/>
          <p:cNvPicPr/>
          <p:nvPr/>
        </p:nvPicPr>
        <p:blipFill>
          <a:blip r:embed="rId3"/>
          <a:stretch/>
        </p:blipFill>
        <p:spPr>
          <a:xfrm>
            <a:off x="250920" y="333360"/>
            <a:ext cx="1417680" cy="879480"/>
          </a:xfrm>
          <a:prstGeom prst="rect">
            <a:avLst/>
          </a:prstGeom>
          <a:ln w="0">
            <a:noFill/>
          </a:ln>
        </p:spPr>
      </p:pic>
      <p:sp>
        <p:nvSpPr>
          <p:cNvPr id="1466" name=""/>
          <p:cNvSpPr/>
          <p:nvPr/>
        </p:nvSpPr>
        <p:spPr>
          <a:xfrm>
            <a:off x="468360" y="1603440"/>
            <a:ext cx="842004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τ.Η τελευταία μεταβλητή είναι η εκπαιδευτική συνεργασία (</a:t>
            </a:r>
            <a:r>
              <a:rPr b="0" lang="en-US" sz="2800" spc="-1" strike="noStrike">
                <a:solidFill>
                  <a:srgbClr val="000000"/>
                </a:solidFill>
                <a:latin typeface="Times New Roman"/>
                <a:ea typeface="Calibri"/>
              </a:rPr>
              <a:t>educational collaboration</a:t>
            </a:r>
            <a:r>
              <a:rPr b="0" lang="el-GR" sz="2800" spc="-1" strike="noStrike">
                <a:solidFill>
                  <a:srgbClr val="000000"/>
                </a:solidFill>
                <a:latin typeface="Times New Roman"/>
                <a:ea typeface="Calibri"/>
              </a:rPr>
              <a:t>) ανάμεσα στους εκπαιδευτικούς της Ειδικής και Γενικής Αγωγής, οι οποίοι από κοινού καταστρώνουν και αποφασίζουν για τη διδακτική μέθοδο που θ’ ακολουθήσουν σε καθέναν από τους μαθητές ξεχωριστά (</a:t>
            </a:r>
            <a:r>
              <a:rPr b="0" lang="en-US" sz="2800" spc="-1" strike="noStrike">
                <a:solidFill>
                  <a:srgbClr val="000000"/>
                </a:solidFill>
                <a:latin typeface="Times New Roman"/>
                <a:ea typeface="Calibri"/>
              </a:rPr>
              <a:t>pull</a:t>
            </a:r>
            <a:r>
              <a:rPr b="0" lang="el-GR" sz="2800" spc="-1" strike="noStrike">
                <a:solidFill>
                  <a:srgbClr val="000000"/>
                </a:solidFill>
                <a:latin typeface="Times New Roman"/>
                <a:ea typeface="Calibri"/>
              </a:rPr>
              <a:t>-</a:t>
            </a:r>
            <a:r>
              <a:rPr b="0" lang="en-US" sz="2800" spc="-1" strike="noStrike">
                <a:solidFill>
                  <a:srgbClr val="000000"/>
                </a:solidFill>
                <a:latin typeface="Times New Roman"/>
                <a:ea typeface="Calibri"/>
              </a:rPr>
              <a:t>in support</a:t>
            </a:r>
            <a:r>
              <a:rPr b="0" lang="el-GR" sz="2800" spc="-1" strike="noStrike">
                <a:solidFill>
                  <a:srgbClr val="000000"/>
                </a:solidFill>
                <a:latin typeface="Times New Roman"/>
                <a:ea typeface="Calibri"/>
              </a:rPr>
              <a:t>) για να υπάρχουν πιο αποτελεσματικά μαθησιακά αποτελέσματα. Επιπλέον, σημαντικός παράγοντας είναι και η συνεργασία μεταξύ εκπαιδευτικού και γονέα.</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7" name=""/>
          <p:cNvGrpSpPr/>
          <p:nvPr/>
        </p:nvGrpSpPr>
        <p:grpSpPr>
          <a:xfrm>
            <a:off x="0" y="115920"/>
            <a:ext cx="9140760" cy="6548400"/>
            <a:chOff x="0" y="115920"/>
            <a:chExt cx="9140760" cy="6548400"/>
          </a:xfrm>
        </p:grpSpPr>
        <p:grpSp>
          <p:nvGrpSpPr>
            <p:cNvPr id="1468" name=""/>
            <p:cNvGrpSpPr/>
            <p:nvPr/>
          </p:nvGrpSpPr>
          <p:grpSpPr>
            <a:xfrm>
              <a:off x="0" y="115920"/>
              <a:ext cx="9140760" cy="6548400"/>
              <a:chOff x="0" y="115920"/>
              <a:chExt cx="9140760" cy="6548400"/>
            </a:xfrm>
          </p:grpSpPr>
          <p:sp>
            <p:nvSpPr>
              <p:cNvPr id="14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4" name="" descr=""/>
          <p:cNvPicPr/>
          <p:nvPr/>
        </p:nvPicPr>
        <p:blipFill>
          <a:blip r:embed="rId3"/>
          <a:stretch/>
        </p:blipFill>
        <p:spPr>
          <a:xfrm>
            <a:off x="250920" y="333360"/>
            <a:ext cx="1417680" cy="879480"/>
          </a:xfrm>
          <a:prstGeom prst="rect">
            <a:avLst/>
          </a:prstGeom>
          <a:ln w="0">
            <a:noFill/>
          </a:ln>
        </p:spPr>
      </p:pic>
      <p:sp>
        <p:nvSpPr>
          <p:cNvPr id="1475" name=""/>
          <p:cNvSpPr/>
          <p:nvPr/>
        </p:nvSpPr>
        <p:spPr>
          <a:xfrm>
            <a:off x="539640" y="2033640"/>
            <a:ext cx="792000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Ο ρόλος του δασκάλου γενικής αγωγής</a:t>
            </a:r>
            <a:br>
              <a:rPr sz="2800"/>
            </a:br>
            <a:br>
              <a:rPr sz="2800"/>
            </a:br>
            <a:r>
              <a:rPr b="0" lang="el-GR" sz="2800" spc="-1" strike="noStrike">
                <a:solidFill>
                  <a:srgbClr val="000000"/>
                </a:solidFill>
                <a:latin typeface="Times New Roman"/>
                <a:ea typeface="Calibri"/>
              </a:rPr>
              <a:t>Η συνεκπαίδευση με και χωρίς εκπαιδευτικές ανάγκες στο γενικό σχολείο μπορεί να επιτύχει, μόνο εάν ο εκπαιδευτικός γενικής εκπαίδευσης προσπαθήσει να εναρμονίσει τις δυνατότητες των παιδιών αμεα με το περιβάλλον μάθησης της γενικής τάξης. </a:t>
            </a: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6" name=""/>
          <p:cNvGrpSpPr/>
          <p:nvPr/>
        </p:nvGrpSpPr>
        <p:grpSpPr>
          <a:xfrm>
            <a:off x="0" y="115920"/>
            <a:ext cx="9140760" cy="6548400"/>
            <a:chOff x="0" y="115920"/>
            <a:chExt cx="9140760" cy="6548400"/>
          </a:xfrm>
        </p:grpSpPr>
        <p:grpSp>
          <p:nvGrpSpPr>
            <p:cNvPr id="1477" name=""/>
            <p:cNvGrpSpPr/>
            <p:nvPr/>
          </p:nvGrpSpPr>
          <p:grpSpPr>
            <a:xfrm>
              <a:off x="0" y="115920"/>
              <a:ext cx="9140760" cy="6548400"/>
              <a:chOff x="0" y="115920"/>
              <a:chExt cx="9140760" cy="6548400"/>
            </a:xfrm>
          </p:grpSpPr>
          <p:sp>
            <p:nvSpPr>
              <p:cNvPr id="14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3" name="" descr=""/>
          <p:cNvPicPr/>
          <p:nvPr/>
        </p:nvPicPr>
        <p:blipFill>
          <a:blip r:embed="rId3"/>
          <a:stretch/>
        </p:blipFill>
        <p:spPr>
          <a:xfrm>
            <a:off x="250920" y="333360"/>
            <a:ext cx="1417680" cy="879480"/>
          </a:xfrm>
          <a:prstGeom prst="rect">
            <a:avLst/>
          </a:prstGeom>
          <a:ln w="0">
            <a:noFill/>
          </a:ln>
        </p:spPr>
      </p:pic>
      <p:sp>
        <p:nvSpPr>
          <p:cNvPr id="1484" name=""/>
          <p:cNvSpPr/>
          <p:nvPr/>
        </p:nvSpPr>
        <p:spPr>
          <a:xfrm>
            <a:off x="539640" y="1819440"/>
            <a:ext cx="79200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αρουσία, λοιπόν, παιδιών με ειδικές εκπαιδευτικές ανάγκες στη γενική  τάξη συνιστά μια αλλαγή και έναν νέο προσανατολισμό στην άσκηση του εκπαιδευτικού του έργου του εκπαιδευτικού γενικής εκπαίδευσης, καθώς ο τελευταίος θεωρείται πλέον υπεύθυνος για την εφαρμογή της συνεκπαίδευσης και της αλλαγής των στάσεων απέναντι σε αυτήν (Τζουριάδου,1995).</a:t>
            </a: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5" name=""/>
          <p:cNvGrpSpPr/>
          <p:nvPr/>
        </p:nvGrpSpPr>
        <p:grpSpPr>
          <a:xfrm>
            <a:off x="0" y="115920"/>
            <a:ext cx="9140760" cy="6548400"/>
            <a:chOff x="0" y="115920"/>
            <a:chExt cx="9140760" cy="6548400"/>
          </a:xfrm>
        </p:grpSpPr>
        <p:grpSp>
          <p:nvGrpSpPr>
            <p:cNvPr id="1486" name=""/>
            <p:cNvGrpSpPr/>
            <p:nvPr/>
          </p:nvGrpSpPr>
          <p:grpSpPr>
            <a:xfrm>
              <a:off x="0" y="115920"/>
              <a:ext cx="9140760" cy="6548400"/>
              <a:chOff x="0" y="115920"/>
              <a:chExt cx="9140760" cy="6548400"/>
            </a:xfrm>
          </p:grpSpPr>
          <p:sp>
            <p:nvSpPr>
              <p:cNvPr id="14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1" name=""/>
          <p:cNvSpPr/>
          <p:nvPr/>
        </p:nvSpPr>
        <p:spPr>
          <a:xfrm>
            <a:off x="105876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2" name="" descr=""/>
          <p:cNvPicPr/>
          <p:nvPr/>
        </p:nvPicPr>
        <p:blipFill>
          <a:blip r:embed="rId3"/>
          <a:stretch/>
        </p:blipFill>
        <p:spPr>
          <a:xfrm>
            <a:off x="250920" y="333360"/>
            <a:ext cx="1417680" cy="879480"/>
          </a:xfrm>
          <a:prstGeom prst="rect">
            <a:avLst/>
          </a:prstGeom>
          <a:ln w="0">
            <a:noFill/>
          </a:ln>
        </p:spPr>
      </p:pic>
      <p:sp>
        <p:nvSpPr>
          <p:cNvPr id="1493" name=""/>
          <p:cNvSpPr/>
          <p:nvPr/>
        </p:nvSpPr>
        <p:spPr>
          <a:xfrm>
            <a:off x="539640" y="2095560"/>
            <a:ext cx="7920000" cy="2986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Calibri"/>
              </a:rPr>
              <a:t>Επομένως για να είναι αποτελεσματικός ένας εκπαιδευτικός πρέπει να έχει τη δυνατότητα να προσφέρει ίσες ευκαιρίες μάθησης σε όλους τους μαθητές της τάξης, λαμβάνοντας σοβαρά υπόψη του τις ατομικές ανάγκες όλων των παιδιών. Αυτό μπορεί να επιτευχθεί μόνο αν ο εκπαιδευτικός</a:t>
            </a:r>
            <a:r>
              <a:rPr b="0" lang="en-US" sz="2800" spc="-1" strike="noStrike">
                <a:solidFill>
                  <a:srgbClr val="000000"/>
                </a:solidFill>
                <a:latin typeface="Times New Roman"/>
                <a:ea typeface="Calibri"/>
              </a:rPr>
              <a:t>:</a:t>
            </a: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4" name=""/>
          <p:cNvGrpSpPr/>
          <p:nvPr/>
        </p:nvGrpSpPr>
        <p:grpSpPr>
          <a:xfrm>
            <a:off x="0" y="115920"/>
            <a:ext cx="9140760" cy="6548400"/>
            <a:chOff x="0" y="115920"/>
            <a:chExt cx="9140760" cy="6548400"/>
          </a:xfrm>
        </p:grpSpPr>
        <p:grpSp>
          <p:nvGrpSpPr>
            <p:cNvPr id="1495" name=""/>
            <p:cNvGrpSpPr/>
            <p:nvPr/>
          </p:nvGrpSpPr>
          <p:grpSpPr>
            <a:xfrm>
              <a:off x="0" y="115920"/>
              <a:ext cx="9140760" cy="6548400"/>
              <a:chOff x="0" y="115920"/>
              <a:chExt cx="9140760" cy="6548400"/>
            </a:xfrm>
          </p:grpSpPr>
          <p:sp>
            <p:nvSpPr>
              <p:cNvPr id="14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1" name="" descr=""/>
          <p:cNvPicPr/>
          <p:nvPr/>
        </p:nvPicPr>
        <p:blipFill>
          <a:blip r:embed="rId3"/>
          <a:stretch/>
        </p:blipFill>
        <p:spPr>
          <a:xfrm>
            <a:off x="250920" y="333360"/>
            <a:ext cx="1417680" cy="879480"/>
          </a:xfrm>
          <a:prstGeom prst="rect">
            <a:avLst/>
          </a:prstGeom>
          <a:ln w="0">
            <a:noFill/>
          </a:ln>
        </p:spPr>
      </p:pic>
      <p:sp>
        <p:nvSpPr>
          <p:cNvPr id="1502" name=""/>
          <p:cNvSpPr/>
          <p:nvPr/>
        </p:nvSpPr>
        <p:spPr>
          <a:xfrm>
            <a:off x="250920" y="1176480"/>
            <a:ext cx="8208720" cy="470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χεδιάζει εξατομικευμένα προγράμματα διδασκαλίας για μαθητές με ειδικές εκπαιδευτικές ανάγκες.</a:t>
            </a:r>
            <a:br>
              <a:rPr sz="2800"/>
            </a:br>
            <a:br>
              <a:rPr sz="2800"/>
            </a:br>
            <a:r>
              <a:rPr b="0" lang="el-GR" sz="2800" spc="-1" strike="noStrike">
                <a:solidFill>
                  <a:srgbClr val="000000"/>
                </a:solidFill>
                <a:latin typeface="Times New Roman"/>
                <a:ea typeface="Calibri"/>
              </a:rPr>
              <a:t>Ακολουθεί ευέλικτες μεθόδους διδασκαλίας προσαρμοσμένες στις ανάγκες των μαθητών.</a:t>
            </a:r>
            <a:br>
              <a:rPr sz="2800"/>
            </a:br>
            <a:br>
              <a:rPr sz="2800"/>
            </a:br>
            <a:r>
              <a:rPr b="0" lang="el-GR" sz="2800" spc="-1" strike="noStrike">
                <a:solidFill>
                  <a:srgbClr val="000000"/>
                </a:solidFill>
                <a:latin typeface="Times New Roman"/>
                <a:ea typeface="Calibri"/>
              </a:rPr>
              <a:t>Για την εκπόνηση των εξατομικευμένων </a:t>
            </a:r>
            <a:br>
              <a:rPr sz="2800"/>
            </a:br>
            <a:r>
              <a:rPr b="0" lang="el-GR" sz="2800" spc="-1" strike="noStrike">
                <a:solidFill>
                  <a:srgbClr val="000000"/>
                </a:solidFill>
                <a:latin typeface="Times New Roman"/>
                <a:ea typeface="Calibri"/>
              </a:rPr>
              <a:t>προγραμμάτων διδασκαλίας φυσικά πρέπει να έρχεται σε επαφή με τους γονείς των παιδιών με ιδιαιτερότητες και να συνεργάζεται μαζί τους. </a:t>
            </a:r>
            <a:br>
              <a:rPr sz="2000"/>
            </a:b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3" name=""/>
          <p:cNvGrpSpPr/>
          <p:nvPr/>
        </p:nvGrpSpPr>
        <p:grpSpPr>
          <a:xfrm>
            <a:off x="0" y="115920"/>
            <a:ext cx="9140760" cy="6548400"/>
            <a:chOff x="0" y="115920"/>
            <a:chExt cx="9140760" cy="6548400"/>
          </a:xfrm>
        </p:grpSpPr>
        <p:grpSp>
          <p:nvGrpSpPr>
            <p:cNvPr id="1504" name=""/>
            <p:cNvGrpSpPr/>
            <p:nvPr/>
          </p:nvGrpSpPr>
          <p:grpSpPr>
            <a:xfrm>
              <a:off x="0" y="115920"/>
              <a:ext cx="9140760" cy="6548400"/>
              <a:chOff x="0" y="115920"/>
              <a:chExt cx="9140760" cy="6548400"/>
            </a:xfrm>
          </p:grpSpPr>
          <p:sp>
            <p:nvSpPr>
              <p:cNvPr id="15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0" name="" descr=""/>
          <p:cNvPicPr/>
          <p:nvPr/>
        </p:nvPicPr>
        <p:blipFill>
          <a:blip r:embed="rId3"/>
          <a:stretch/>
        </p:blipFill>
        <p:spPr>
          <a:xfrm>
            <a:off x="250920" y="333360"/>
            <a:ext cx="1417680" cy="879480"/>
          </a:xfrm>
          <a:prstGeom prst="rect">
            <a:avLst/>
          </a:prstGeom>
          <a:ln w="0">
            <a:noFill/>
          </a:ln>
        </p:spPr>
      </p:pic>
      <p:sp>
        <p:nvSpPr>
          <p:cNvPr id="1511" name=""/>
          <p:cNvSpPr/>
          <p:nvPr/>
        </p:nvSpPr>
        <p:spPr>
          <a:xfrm>
            <a:off x="539640" y="1819440"/>
            <a:ext cx="79200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Επίσης είναι σημαντικό να αποδέχεται το συμβουλευτικό ρόλο του ειδικού προσωπικού, ενώ, παράλληλα θα συνειδητοποιεί ότι ο ίδιος έχει τη μεγαλύτερη ευθύνη για τη σωστή λειτουργία της τάξης και τη δημιουργία κλίματος συνεργασίας μεταξύ των παιδιών.</a:t>
            </a:r>
            <a:br>
              <a:rPr sz="2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2" name=""/>
          <p:cNvGrpSpPr/>
          <p:nvPr/>
        </p:nvGrpSpPr>
        <p:grpSpPr>
          <a:xfrm>
            <a:off x="0" y="115920"/>
            <a:ext cx="9140760" cy="6548400"/>
            <a:chOff x="0" y="115920"/>
            <a:chExt cx="9140760" cy="6548400"/>
          </a:xfrm>
        </p:grpSpPr>
        <p:grpSp>
          <p:nvGrpSpPr>
            <p:cNvPr id="1513" name=""/>
            <p:cNvGrpSpPr/>
            <p:nvPr/>
          </p:nvGrpSpPr>
          <p:grpSpPr>
            <a:xfrm>
              <a:off x="0" y="115920"/>
              <a:ext cx="9140760" cy="6548400"/>
              <a:chOff x="0" y="115920"/>
              <a:chExt cx="9140760" cy="6548400"/>
            </a:xfrm>
          </p:grpSpPr>
          <p:sp>
            <p:nvSpPr>
              <p:cNvPr id="15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9" name="" descr=""/>
          <p:cNvPicPr/>
          <p:nvPr/>
        </p:nvPicPr>
        <p:blipFill>
          <a:blip r:embed="rId3"/>
          <a:stretch/>
        </p:blipFill>
        <p:spPr>
          <a:xfrm>
            <a:off x="250920" y="333360"/>
            <a:ext cx="1417680" cy="879480"/>
          </a:xfrm>
          <a:prstGeom prst="rect">
            <a:avLst/>
          </a:prstGeom>
          <a:ln w="0">
            <a:noFill/>
          </a:ln>
        </p:spPr>
      </p:pic>
      <p:sp>
        <p:nvSpPr>
          <p:cNvPr id="1520" name=""/>
          <p:cNvSpPr/>
          <p:nvPr/>
        </p:nvSpPr>
        <p:spPr>
          <a:xfrm>
            <a:off x="611280" y="2065320"/>
            <a:ext cx="784836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ίναι απαραίτητο ο εκπαιδευτικός της γενικής τάξης να εμπλουτίζει το ρεπερτόριό του με στρατηγικές διαχείρισης κρίσεων, ώστε να είναι σε θέση να διατηρεί τον έλεγχο της τάξης και να καλλιεργεί την αρμονία μεταξύ των μαθητών με και χωρίς εκπαιδευτικές ανάγκες.</a:t>
            </a:r>
            <a:br>
              <a:rPr sz="2400"/>
            </a:b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οι εκπαιδευτικοί με πολλά χρόνια</a:t>
            </a:r>
            <a:br>
              <a:rPr sz="2800"/>
            </a:br>
            <a:r>
              <a:rPr b="0" lang="el-GR" sz="2800" spc="-1" strike="noStrike">
                <a:solidFill>
                  <a:srgbClr val="000000"/>
                </a:solidFill>
                <a:latin typeface="Times New Roman"/>
              </a:rPr>
              <a:t>προϋπηρεσίας, στην περίπτωση που είναι εξίσου αρνητικοί ως προς την ένταξη μαθητών</a:t>
            </a:r>
            <a:br>
              <a:rPr sz="2800"/>
            </a:br>
            <a:r>
              <a:rPr b="0" lang="el-GR" sz="2800" spc="-1" strike="noStrike">
                <a:solidFill>
                  <a:srgbClr val="000000"/>
                </a:solidFill>
                <a:latin typeface="Times New Roman"/>
              </a:rPr>
              <a:t>με εκπαιδευτικές δυσκολίες, προτάσσουν την έλλειψη γνώσεων από τη μεριά τους.</a:t>
            </a:r>
            <a:br>
              <a:rPr sz="28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1" name=""/>
          <p:cNvGrpSpPr/>
          <p:nvPr/>
        </p:nvGrpSpPr>
        <p:grpSpPr>
          <a:xfrm>
            <a:off x="0" y="115920"/>
            <a:ext cx="9140760" cy="6548400"/>
            <a:chOff x="0" y="115920"/>
            <a:chExt cx="9140760" cy="6548400"/>
          </a:xfrm>
        </p:grpSpPr>
        <p:grpSp>
          <p:nvGrpSpPr>
            <p:cNvPr id="1522" name=""/>
            <p:cNvGrpSpPr/>
            <p:nvPr/>
          </p:nvGrpSpPr>
          <p:grpSpPr>
            <a:xfrm>
              <a:off x="0" y="115920"/>
              <a:ext cx="9140760" cy="6548400"/>
              <a:chOff x="0" y="115920"/>
              <a:chExt cx="9140760" cy="6548400"/>
            </a:xfrm>
          </p:grpSpPr>
          <p:sp>
            <p:nvSpPr>
              <p:cNvPr id="15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8" name="" descr=""/>
          <p:cNvPicPr/>
          <p:nvPr/>
        </p:nvPicPr>
        <p:blipFill>
          <a:blip r:embed="rId3"/>
          <a:stretch/>
        </p:blipFill>
        <p:spPr>
          <a:xfrm>
            <a:off x="250920" y="333360"/>
            <a:ext cx="1417680" cy="879480"/>
          </a:xfrm>
          <a:prstGeom prst="rect">
            <a:avLst/>
          </a:prstGeom>
          <a:ln w="0">
            <a:noFill/>
          </a:ln>
        </p:spPr>
      </p:pic>
      <p:sp>
        <p:nvSpPr>
          <p:cNvPr id="1529" name=""/>
          <p:cNvSpPr/>
          <p:nvPr/>
        </p:nvSpPr>
        <p:spPr>
          <a:xfrm>
            <a:off x="539640" y="981000"/>
            <a:ext cx="8064720" cy="39085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Calibri"/>
              </a:rPr>
              <a:t>Επιπλέον, η δυνατότητα υιοθέτησης τεχνικών αναπροσαρμογής του Αναλυτικού προγράμματος και τεχνικών αναθεώρησης της παιδαγωγικής πρακτικής αποτελούν σημαντικά προσόντα που πρέπει να διαθέτει ο εκπαιδευτικός γενικής εκπαίδευσης, ώστε να συμβάλλει θετικά στη διάγνωση των αδυναμιών των παιδιών και στην έγκαιρη ενημέρωση των γονέων τους και των κατάλληλων εκπαιδευτικών αρχών.</a:t>
            </a:r>
            <a:endParaRPr b="0" lang="en-US" sz="28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0" name=""/>
          <p:cNvGrpSpPr/>
          <p:nvPr/>
        </p:nvGrpSpPr>
        <p:grpSpPr>
          <a:xfrm>
            <a:off x="0" y="115920"/>
            <a:ext cx="9140760" cy="6548400"/>
            <a:chOff x="0" y="115920"/>
            <a:chExt cx="9140760" cy="6548400"/>
          </a:xfrm>
        </p:grpSpPr>
        <p:grpSp>
          <p:nvGrpSpPr>
            <p:cNvPr id="1531" name=""/>
            <p:cNvGrpSpPr/>
            <p:nvPr/>
          </p:nvGrpSpPr>
          <p:grpSpPr>
            <a:xfrm>
              <a:off x="0" y="115920"/>
              <a:ext cx="9140760" cy="6548400"/>
              <a:chOff x="0" y="115920"/>
              <a:chExt cx="9140760" cy="6548400"/>
            </a:xfrm>
          </p:grpSpPr>
          <p:sp>
            <p:nvSpPr>
              <p:cNvPr id="15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7" name="" descr=""/>
          <p:cNvPicPr/>
          <p:nvPr/>
        </p:nvPicPr>
        <p:blipFill>
          <a:blip r:embed="rId3"/>
          <a:stretch/>
        </p:blipFill>
        <p:spPr>
          <a:xfrm>
            <a:off x="250920" y="333360"/>
            <a:ext cx="1417680" cy="879480"/>
          </a:xfrm>
          <a:prstGeom prst="rect">
            <a:avLst/>
          </a:prstGeom>
          <a:ln w="0">
            <a:noFill/>
          </a:ln>
        </p:spPr>
      </p:pic>
      <p:sp>
        <p:nvSpPr>
          <p:cNvPr id="1538" name=""/>
          <p:cNvSpPr/>
          <p:nvPr/>
        </p:nvSpPr>
        <p:spPr>
          <a:xfrm>
            <a:off x="684360" y="2033640"/>
            <a:ext cx="777528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Βέβαια είναι απαραίτητο ο εκπαιδευτικός να θέτει τους ίδιους εκπαιδευτικούς στόχους για όλους τους μαθητές προσπαθώντας όμως να αποτρέψει τη μεταξύ τους σύγκριση και την επακόλουθη εμφάνιση αισθημάτων αποτυχίας σε ορισμένους μαθητές.</a:t>
            </a:r>
            <a:br>
              <a:rPr sz="2800"/>
            </a:br>
            <a:endParaRPr b="0" lang="en-US" sz="28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9" name=""/>
          <p:cNvGrpSpPr/>
          <p:nvPr/>
        </p:nvGrpSpPr>
        <p:grpSpPr>
          <a:xfrm>
            <a:off x="0" y="115920"/>
            <a:ext cx="9140760" cy="6548400"/>
            <a:chOff x="0" y="115920"/>
            <a:chExt cx="9140760" cy="6548400"/>
          </a:xfrm>
        </p:grpSpPr>
        <p:grpSp>
          <p:nvGrpSpPr>
            <p:cNvPr id="1540" name=""/>
            <p:cNvGrpSpPr/>
            <p:nvPr/>
          </p:nvGrpSpPr>
          <p:grpSpPr>
            <a:xfrm>
              <a:off x="0" y="115920"/>
              <a:ext cx="9140760" cy="6548400"/>
              <a:chOff x="0" y="115920"/>
              <a:chExt cx="9140760" cy="6548400"/>
            </a:xfrm>
          </p:grpSpPr>
          <p:sp>
            <p:nvSpPr>
              <p:cNvPr id="15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6" name="" descr=""/>
          <p:cNvPicPr/>
          <p:nvPr/>
        </p:nvPicPr>
        <p:blipFill>
          <a:blip r:embed="rId3"/>
          <a:stretch/>
        </p:blipFill>
        <p:spPr>
          <a:xfrm>
            <a:off x="250920" y="333360"/>
            <a:ext cx="1417680" cy="879480"/>
          </a:xfrm>
          <a:prstGeom prst="rect">
            <a:avLst/>
          </a:prstGeom>
          <a:ln w="0">
            <a:noFill/>
          </a:ln>
        </p:spPr>
      </p:pic>
      <p:sp>
        <p:nvSpPr>
          <p:cNvPr id="1547" name=""/>
          <p:cNvSpPr/>
          <p:nvPr/>
        </p:nvSpPr>
        <p:spPr>
          <a:xfrm>
            <a:off x="684360" y="1603440"/>
            <a:ext cx="77752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κόμη, χρειάζεται να είναι ενήμερος σε θέματα που αφορούν τις νομοθετικές ρυθμίσεις σχετικές με την Ειδική Αγωγή.</a:t>
            </a:r>
            <a:br>
              <a:rPr sz="2800"/>
            </a:br>
            <a:r>
              <a:rPr b="0" lang="el-GR" sz="2800" spc="-1" strike="noStrike">
                <a:solidFill>
                  <a:srgbClr val="000000"/>
                </a:solidFill>
                <a:latin typeface="Times New Roman"/>
                <a:ea typeface="Calibri"/>
              </a:rPr>
              <a:t>Τέλος, είναι απαραίτητο ο εκπαιδευτικός να αξιολογεί το πρόγραμμα διδασκαλίας που έχει ακολουθήσει για όλα τα παιδιά και να είναι έτοιμος να προβεί σε αλλαγές, εάν αυτό επιβάλλεται από τις περιστάσεις.</a:t>
            </a:r>
            <a:endParaRPr b="0" lang="en-US" sz="2800" spc="-1" strike="noStrike">
              <a:solidFill>
                <a:srgbClr val="000000"/>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8" name=""/>
          <p:cNvGrpSpPr/>
          <p:nvPr/>
        </p:nvGrpSpPr>
        <p:grpSpPr>
          <a:xfrm>
            <a:off x="0" y="115920"/>
            <a:ext cx="9140760" cy="6548400"/>
            <a:chOff x="0" y="115920"/>
            <a:chExt cx="9140760" cy="6548400"/>
          </a:xfrm>
        </p:grpSpPr>
        <p:grpSp>
          <p:nvGrpSpPr>
            <p:cNvPr id="1549" name=""/>
            <p:cNvGrpSpPr/>
            <p:nvPr/>
          </p:nvGrpSpPr>
          <p:grpSpPr>
            <a:xfrm>
              <a:off x="0" y="115920"/>
              <a:ext cx="9140760" cy="6548400"/>
              <a:chOff x="0" y="115920"/>
              <a:chExt cx="9140760" cy="6548400"/>
            </a:xfrm>
          </p:grpSpPr>
          <p:sp>
            <p:nvSpPr>
              <p:cNvPr id="15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5" name="" descr=""/>
          <p:cNvPicPr/>
          <p:nvPr/>
        </p:nvPicPr>
        <p:blipFill>
          <a:blip r:embed="rId3"/>
          <a:stretch/>
        </p:blipFill>
        <p:spPr>
          <a:xfrm>
            <a:off x="250920" y="333360"/>
            <a:ext cx="1417680" cy="879480"/>
          </a:xfrm>
          <a:prstGeom prst="rect">
            <a:avLst/>
          </a:prstGeom>
          <a:ln w="0">
            <a:noFill/>
          </a:ln>
        </p:spPr>
      </p:pic>
      <p:sp>
        <p:nvSpPr>
          <p:cNvPr id="1556" name=""/>
          <p:cNvSpPr/>
          <p:nvPr/>
        </p:nvSpPr>
        <p:spPr>
          <a:xfrm>
            <a:off x="468360" y="1419120"/>
            <a:ext cx="7991280" cy="4338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 </a:t>
            </a:r>
            <a:r>
              <a:rPr b="1" lang="el-GR" sz="2800" spc="-1" strike="noStrike">
                <a:solidFill>
                  <a:srgbClr val="000000"/>
                </a:solidFill>
                <a:latin typeface="Times New Roman"/>
                <a:ea typeface="Calibri"/>
              </a:rPr>
              <a:t>Ο ρόλος των άλλων εκπαιδευτικών του σχολείου</a:t>
            </a:r>
            <a:br>
              <a:rPr sz="2800"/>
            </a:br>
            <a:br>
              <a:rPr sz="2800"/>
            </a:br>
            <a:r>
              <a:rPr b="0" lang="el-GR" sz="2800" spc="-1" strike="noStrike">
                <a:solidFill>
                  <a:srgbClr val="000000"/>
                </a:solidFill>
                <a:latin typeface="Times New Roman"/>
                <a:ea typeface="Calibri"/>
              </a:rPr>
              <a:t>Στα πλαίσια της συμπεριληπτικής – ενταξιακής διαδικασίας σημαντικό ρόλο παίζουν και οι άλλοι εκπαιδευτικοί της σχολικής κοινότητας. </a:t>
            </a:r>
            <a:br>
              <a:rPr sz="2800"/>
            </a:br>
            <a:r>
              <a:rPr b="0" lang="el-GR" sz="2800" spc="-1" strike="noStrike">
                <a:solidFill>
                  <a:srgbClr val="000000"/>
                </a:solidFill>
                <a:latin typeface="Times New Roman"/>
                <a:ea typeface="Calibri"/>
              </a:rPr>
              <a:t>Στα προγράµµατα  συµπεριληπτικής εκπαίδευσης, ένα σηµαντικό στοιχείο είναι η συνεργασία τόσο των εκπαιδευτικών µεταξύ τους, όσο και µεταξύ των µαθητών. </a:t>
            </a:r>
            <a:br>
              <a:rPr sz="2000"/>
            </a:br>
            <a:endParaRPr b="0" lang="en-US" sz="28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7" name=""/>
          <p:cNvGrpSpPr/>
          <p:nvPr/>
        </p:nvGrpSpPr>
        <p:grpSpPr>
          <a:xfrm>
            <a:off x="0" y="115920"/>
            <a:ext cx="9140760" cy="6548400"/>
            <a:chOff x="0" y="115920"/>
            <a:chExt cx="9140760" cy="6548400"/>
          </a:xfrm>
        </p:grpSpPr>
        <p:grpSp>
          <p:nvGrpSpPr>
            <p:cNvPr id="1558" name=""/>
            <p:cNvGrpSpPr/>
            <p:nvPr/>
          </p:nvGrpSpPr>
          <p:grpSpPr>
            <a:xfrm>
              <a:off x="0" y="115920"/>
              <a:ext cx="9140760" cy="6548400"/>
              <a:chOff x="0" y="115920"/>
              <a:chExt cx="9140760" cy="6548400"/>
            </a:xfrm>
          </p:grpSpPr>
          <p:sp>
            <p:nvSpPr>
              <p:cNvPr id="15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4" name="" descr=""/>
          <p:cNvPicPr/>
          <p:nvPr/>
        </p:nvPicPr>
        <p:blipFill>
          <a:blip r:embed="rId3"/>
          <a:stretch/>
        </p:blipFill>
        <p:spPr>
          <a:xfrm>
            <a:off x="250920" y="333360"/>
            <a:ext cx="1417680" cy="879480"/>
          </a:xfrm>
          <a:prstGeom prst="rect">
            <a:avLst/>
          </a:prstGeom>
          <a:ln w="0">
            <a:noFill/>
          </a:ln>
        </p:spPr>
      </p:pic>
      <p:sp>
        <p:nvSpPr>
          <p:cNvPr id="1565" name=""/>
          <p:cNvSpPr/>
          <p:nvPr/>
        </p:nvSpPr>
        <p:spPr>
          <a:xfrm>
            <a:off x="468360" y="1603440"/>
            <a:ext cx="82072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Όσον αφορά τα παιδιά µε ειδικές εκπαιδευτικές ανάγκες, η συνεκπαίδευσή τους σχετίζεται µε την συλλογική υπευθυνότητα ολόκληρης της σχολικής κοινότητας και όχι µόνο του δασκάλου της τάξης ή του ειδικού δασκάλου. Ο διαχωρισµός των ρόλων των εκπαιδευτικών και η συνεργασία µεταξύ των εκπαιδευτικών µέσα στη σχολική κοινότητα µπορεί να επηρεάσει τη συνεκπαίδευση των παιδιών είτε θετικά,  είτε αρνητικά. </a:t>
            </a:r>
            <a:endParaRPr b="0" lang="en-US" sz="2800" spc="-1" strike="noStrike">
              <a:solidFill>
                <a:srgbClr val="000000"/>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6" name=""/>
          <p:cNvGrpSpPr/>
          <p:nvPr/>
        </p:nvGrpSpPr>
        <p:grpSpPr>
          <a:xfrm>
            <a:off x="0" y="115920"/>
            <a:ext cx="9140760" cy="6548400"/>
            <a:chOff x="0" y="115920"/>
            <a:chExt cx="9140760" cy="6548400"/>
          </a:xfrm>
        </p:grpSpPr>
        <p:grpSp>
          <p:nvGrpSpPr>
            <p:cNvPr id="1567" name=""/>
            <p:cNvGrpSpPr/>
            <p:nvPr/>
          </p:nvGrpSpPr>
          <p:grpSpPr>
            <a:xfrm>
              <a:off x="0" y="115920"/>
              <a:ext cx="9140760" cy="6548400"/>
              <a:chOff x="0" y="115920"/>
              <a:chExt cx="9140760" cy="6548400"/>
            </a:xfrm>
          </p:grpSpPr>
          <p:sp>
            <p:nvSpPr>
              <p:cNvPr id="15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3" name="" descr=""/>
          <p:cNvPicPr/>
          <p:nvPr/>
        </p:nvPicPr>
        <p:blipFill>
          <a:blip r:embed="rId3"/>
          <a:stretch/>
        </p:blipFill>
        <p:spPr>
          <a:xfrm>
            <a:off x="250920" y="333360"/>
            <a:ext cx="1417680" cy="879480"/>
          </a:xfrm>
          <a:prstGeom prst="rect">
            <a:avLst/>
          </a:prstGeom>
          <a:ln w="0">
            <a:noFill/>
          </a:ln>
        </p:spPr>
      </p:pic>
      <p:sp>
        <p:nvSpPr>
          <p:cNvPr id="1574" name=""/>
          <p:cNvSpPr/>
          <p:nvPr/>
        </p:nvSpPr>
        <p:spPr>
          <a:xfrm>
            <a:off x="250920" y="1603440"/>
            <a:ext cx="86374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Όταν υπάρχει µια σαφής κατανοµή των ρόλων αλλά και µια σωστή και υπεύθυνη συνεργασία όλων των ειδικοτήτων που υπάρχουν στη σχολική κοινότητα τότε θα υλοποιηθεί και θα επιτευχθεί το πρόγραµµα της συνεκπαίδευσης. </a:t>
            </a:r>
            <a:br>
              <a:rPr sz="2800"/>
            </a:br>
            <a:r>
              <a:rPr b="0" lang="el-GR" sz="2800" spc="-1" strike="noStrike">
                <a:solidFill>
                  <a:srgbClr val="000000"/>
                </a:solidFill>
                <a:latin typeface="Times New Roman"/>
                <a:ea typeface="Calibri"/>
              </a:rPr>
              <a:t>Αντίθετα αν δεν υπάρχουν όλα αυτά δεν θα πραγµατοποιηθεί τίποτα µε επιτυχία και ο µόνος που θα ζηµιωθεί θα είναι το παιδί µε ειδικές εκπαιδευτικές ανάγκες (Τάφα, 1998).</a:t>
            </a:r>
            <a:endParaRPr b="0" lang="en-US" sz="28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µε τη συνεργασία µεταξύ εκπαιδευτικών και µαθητών στα πλαίσια της συμπεριληπτικής εκπαίδευσης, οι εκπαιδευτικοί πρέπει να κάνουν συζητήσεις µε τους µαθητές έτσι ώστε να µην ξεχωρίζουν τον συµµαθητή τους εξαιτίας των γνωστικών, συµπεριφορικών ή ακόµα και των εξωτερικών του διαφορών. </a:t>
            </a:r>
            <a:endParaRPr b="0" lang="en-US" sz="2800" spc="-1" strike="noStrike">
              <a:solidFill>
                <a:srgbClr val="000000"/>
              </a:solidFill>
              <a:latin typeface="Times New Roman"/>
            </a:endParaRPr>
          </a:p>
        </p:txBody>
      </p:sp>
      <p:grpSp>
        <p:nvGrpSpPr>
          <p:cNvPr id="1576" name=""/>
          <p:cNvGrpSpPr/>
          <p:nvPr/>
        </p:nvGrpSpPr>
        <p:grpSpPr>
          <a:xfrm>
            <a:off x="0" y="115920"/>
            <a:ext cx="9140760" cy="6548400"/>
            <a:chOff x="0" y="115920"/>
            <a:chExt cx="9140760" cy="6548400"/>
          </a:xfrm>
        </p:grpSpPr>
        <p:grpSp>
          <p:nvGrpSpPr>
            <p:cNvPr id="1577" name=""/>
            <p:cNvGrpSpPr/>
            <p:nvPr/>
          </p:nvGrpSpPr>
          <p:grpSpPr>
            <a:xfrm>
              <a:off x="0" y="115920"/>
              <a:ext cx="9140760" cy="6548400"/>
              <a:chOff x="0" y="115920"/>
              <a:chExt cx="9140760" cy="6548400"/>
            </a:xfrm>
          </p:grpSpPr>
          <p:sp>
            <p:nvSpPr>
              <p:cNvPr id="1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3" name=""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4" name=""/>
          <p:cNvGrpSpPr/>
          <p:nvPr/>
        </p:nvGrpSpPr>
        <p:grpSpPr>
          <a:xfrm>
            <a:off x="0" y="115920"/>
            <a:ext cx="9140760" cy="6548400"/>
            <a:chOff x="0" y="115920"/>
            <a:chExt cx="9140760" cy="6548400"/>
          </a:xfrm>
        </p:grpSpPr>
        <p:grpSp>
          <p:nvGrpSpPr>
            <p:cNvPr id="1585" name=""/>
            <p:cNvGrpSpPr/>
            <p:nvPr/>
          </p:nvGrpSpPr>
          <p:grpSpPr>
            <a:xfrm>
              <a:off x="0" y="115920"/>
              <a:ext cx="9140760" cy="6548400"/>
              <a:chOff x="0" y="115920"/>
              <a:chExt cx="9140760" cy="6548400"/>
            </a:xfrm>
          </p:grpSpPr>
          <p:sp>
            <p:nvSpPr>
              <p:cNvPr id="15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1" name="" descr=""/>
          <p:cNvPicPr/>
          <p:nvPr/>
        </p:nvPicPr>
        <p:blipFill>
          <a:blip r:embed="rId3"/>
          <a:stretch/>
        </p:blipFill>
        <p:spPr>
          <a:xfrm>
            <a:off x="250920" y="333360"/>
            <a:ext cx="1417680" cy="879480"/>
          </a:xfrm>
          <a:prstGeom prst="rect">
            <a:avLst/>
          </a:prstGeom>
          <a:ln w="0">
            <a:noFill/>
          </a:ln>
        </p:spPr>
      </p:pic>
      <p:sp>
        <p:nvSpPr>
          <p:cNvPr id="1592" name=""/>
          <p:cNvSpPr/>
          <p:nvPr/>
        </p:nvSpPr>
        <p:spPr>
          <a:xfrm>
            <a:off x="611280" y="1603440"/>
            <a:ext cx="78483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µια ακόµα αρµοδιότητα του εκπαιδευτικού είναι να αναγνωρίζει τα </a:t>
            </a:r>
            <a:r>
              <a:rPr b="0" lang="el-GR" sz="2800" spc="-1" strike="noStrike">
                <a:solidFill>
                  <a:srgbClr val="000000"/>
                </a:solidFill>
                <a:latin typeface="Times New Roman"/>
                <a:ea typeface="Arial"/>
              </a:rPr>
              <a:t>επιτεύγματα</a:t>
            </a:r>
            <a:r>
              <a:rPr b="0" lang="el-GR" sz="2800" spc="-1" strike="noStrike">
                <a:solidFill>
                  <a:srgbClr val="000000"/>
                </a:solidFill>
                <a:latin typeface="Times New Roman"/>
                <a:ea typeface="Calibri"/>
              </a:rPr>
              <a:t> του παιδιού µε ιδιαιτερότητες µε εµφανείς τρόπους (Σούλης, 2008).</a:t>
            </a:r>
            <a:br>
              <a:rPr sz="2800"/>
            </a:br>
            <a:r>
              <a:rPr b="0" lang="el-GR" sz="2800" spc="-1" strike="noStrike">
                <a:solidFill>
                  <a:srgbClr val="000000"/>
                </a:solidFill>
                <a:latin typeface="Times New Roman"/>
                <a:ea typeface="Calibri"/>
              </a:rPr>
              <a:t>Τέλος, κρίνεται σκόπιμο ν’ αναφερθεί πως είναι ιδιαίτερα σημαντική η ανταλλαγή ιδεών, η σύμπραξη και η εξασφάλιση κλίματος συναίνεσης στο πλαίσιο δράσης του Ειδικού Παιδαγωγού μέσα στην διεπιστημονική ομάδα με στόχο το συμφέρον των παιδιών και των οικογενειών τους.</a:t>
            </a:r>
            <a:endParaRPr b="0" lang="en-US" sz="2800" spc="-1" strike="noStrike">
              <a:solidFill>
                <a:srgbClr val="000000"/>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3" name=""/>
          <p:cNvGrpSpPr/>
          <p:nvPr/>
        </p:nvGrpSpPr>
        <p:grpSpPr>
          <a:xfrm>
            <a:off x="0" y="115920"/>
            <a:ext cx="9140760" cy="6548400"/>
            <a:chOff x="0" y="115920"/>
            <a:chExt cx="9140760" cy="6548400"/>
          </a:xfrm>
        </p:grpSpPr>
        <p:grpSp>
          <p:nvGrpSpPr>
            <p:cNvPr id="1594" name=""/>
            <p:cNvGrpSpPr/>
            <p:nvPr/>
          </p:nvGrpSpPr>
          <p:grpSpPr>
            <a:xfrm>
              <a:off x="0" y="115920"/>
              <a:ext cx="9140760" cy="6548400"/>
              <a:chOff x="0" y="115920"/>
              <a:chExt cx="9140760" cy="6548400"/>
            </a:xfrm>
          </p:grpSpPr>
          <p:sp>
            <p:nvSpPr>
              <p:cNvPr id="15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0" name="" descr=""/>
          <p:cNvPicPr/>
          <p:nvPr/>
        </p:nvPicPr>
        <p:blipFill>
          <a:blip r:embed="rId3"/>
          <a:stretch/>
        </p:blipFill>
        <p:spPr>
          <a:xfrm>
            <a:off x="250920" y="333360"/>
            <a:ext cx="1417680" cy="879480"/>
          </a:xfrm>
          <a:prstGeom prst="rect">
            <a:avLst/>
          </a:prstGeom>
          <a:ln w="0">
            <a:noFill/>
          </a:ln>
        </p:spPr>
      </p:pic>
      <p:sp>
        <p:nvSpPr>
          <p:cNvPr id="1601" name=""/>
          <p:cNvSpPr/>
          <p:nvPr/>
        </p:nvSpPr>
        <p:spPr>
          <a:xfrm>
            <a:off x="181080" y="1603440"/>
            <a:ext cx="82785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νακεφαλαιώνοντας και συνοψίζοντας</a:t>
            </a:r>
            <a:br>
              <a:rPr sz="2800"/>
            </a:br>
            <a:r>
              <a:rPr b="0" lang="el-GR" sz="2800" spc="-1" strike="noStrike">
                <a:solidFill>
                  <a:srgbClr val="000000"/>
                </a:solidFill>
                <a:latin typeface="Times New Roman"/>
                <a:ea typeface="Calibri"/>
              </a:rPr>
              <a:t> η προώθηση της κοινωνικής ένταξης και η επιτυχής υλοποίηση κατάλληλων παρεμβάσεων καθορίζεται κατά ένα μεγάλο μέρος από τη θέληση, τη διάθεση, τις γνώσεις και την εμπειρία του κάθε εκπαιδευτικού. Απαραίτητες θεωρούνται για τους εκπαιδευτικούς που συμμετέχουν σε προγράμματα ένταξης κάποιες σημαντικές προϋποθέσεις. </a:t>
            </a:r>
            <a:endParaRPr b="0" lang="en-US" sz="2800" spc="-1" strike="noStrike">
              <a:solidFill>
                <a:srgbClr val="000000"/>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2" name=""/>
          <p:cNvGrpSpPr/>
          <p:nvPr/>
        </p:nvGrpSpPr>
        <p:grpSpPr>
          <a:xfrm>
            <a:off x="0" y="115920"/>
            <a:ext cx="9140760" cy="6548400"/>
            <a:chOff x="0" y="115920"/>
            <a:chExt cx="9140760" cy="6548400"/>
          </a:xfrm>
        </p:grpSpPr>
        <p:grpSp>
          <p:nvGrpSpPr>
            <p:cNvPr id="1603" name=""/>
            <p:cNvGrpSpPr/>
            <p:nvPr/>
          </p:nvGrpSpPr>
          <p:grpSpPr>
            <a:xfrm>
              <a:off x="0" y="115920"/>
              <a:ext cx="9140760" cy="6548400"/>
              <a:chOff x="0" y="115920"/>
              <a:chExt cx="9140760" cy="6548400"/>
            </a:xfrm>
          </p:grpSpPr>
          <p:sp>
            <p:nvSpPr>
              <p:cNvPr id="16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9" name="" descr=""/>
          <p:cNvPicPr/>
          <p:nvPr/>
        </p:nvPicPr>
        <p:blipFill>
          <a:blip r:embed="rId3"/>
          <a:stretch/>
        </p:blipFill>
        <p:spPr>
          <a:xfrm>
            <a:off x="250920" y="333360"/>
            <a:ext cx="1417680" cy="879480"/>
          </a:xfrm>
          <a:prstGeom prst="rect">
            <a:avLst/>
          </a:prstGeom>
          <a:ln w="0">
            <a:noFill/>
          </a:ln>
        </p:spPr>
      </p:pic>
      <p:sp>
        <p:nvSpPr>
          <p:cNvPr id="1610" name=""/>
          <p:cNvSpPr/>
          <p:nvPr/>
        </p:nvSpPr>
        <p:spPr>
          <a:xfrm>
            <a:off x="181080" y="2681280"/>
            <a:ext cx="8278560" cy="1814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ρχικά, πρέπει να έχουν επιστημονική κατάρτιση σε θέματα συνεκπαίδευσης και αυθεντικό ενδιαφέρον για τη συμμετοχή τους στις παρεμβάσεις.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179280" y="1392120"/>
            <a:ext cx="8785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οι εκπαιδευτικοί, ασχέτως χρόνων προϋπηρεσίας, είναι ιδιαιτέρως επιφυλακτικοί όσον αφορά την ενεργητική εμπλοκή τους αναφορικά με την ένταξη των</a:t>
            </a:r>
            <a:br>
              <a:rPr sz="2800"/>
            </a:br>
            <a:r>
              <a:rPr b="0" lang="el-GR" sz="2800" spc="-1" strike="noStrike">
                <a:solidFill>
                  <a:srgbClr val="000000"/>
                </a:solidFill>
                <a:latin typeface="Times New Roman"/>
              </a:rPr>
              <a:t>μαθητών αμεα στο γενικό σχολείο. </a:t>
            </a:r>
            <a:br>
              <a:rPr sz="2800"/>
            </a:br>
            <a:br>
              <a:rPr sz="2800"/>
            </a:br>
            <a:r>
              <a:rPr b="0" lang="el-GR" sz="2800" spc="-1" strike="noStrike">
                <a:solidFill>
                  <a:srgbClr val="000000"/>
                </a:solidFill>
                <a:latin typeface="Times New Roman"/>
              </a:rPr>
              <a:t>Από ερευνητικά πορίσματα σχετικά με απόψεις τους για την ένταξη των μαθητών με ειδικές</a:t>
            </a:r>
            <a:br>
              <a:rPr sz="2800"/>
            </a:br>
            <a:r>
              <a:rPr b="0" lang="el-GR" sz="2800" spc="-1" strike="noStrike">
                <a:solidFill>
                  <a:srgbClr val="000000"/>
                </a:solidFill>
                <a:latin typeface="Times New Roman"/>
              </a:rPr>
              <a:t>εκπαιδευτικές ανάγκες και την προώθηση προγραμμάτων συνύπαρξης αναδεικνύεται πως θεωρούν ότι:</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1" name=""/>
          <p:cNvGrpSpPr/>
          <p:nvPr/>
        </p:nvGrpSpPr>
        <p:grpSpPr>
          <a:xfrm>
            <a:off x="0" y="115920"/>
            <a:ext cx="9140760" cy="6548400"/>
            <a:chOff x="0" y="115920"/>
            <a:chExt cx="9140760" cy="6548400"/>
          </a:xfrm>
        </p:grpSpPr>
        <p:grpSp>
          <p:nvGrpSpPr>
            <p:cNvPr id="1612" name=""/>
            <p:cNvGrpSpPr/>
            <p:nvPr/>
          </p:nvGrpSpPr>
          <p:grpSpPr>
            <a:xfrm>
              <a:off x="0" y="115920"/>
              <a:ext cx="9140760" cy="6548400"/>
              <a:chOff x="0" y="115920"/>
              <a:chExt cx="9140760" cy="6548400"/>
            </a:xfrm>
          </p:grpSpPr>
          <p:sp>
            <p:nvSpPr>
              <p:cNvPr id="16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8" name="" descr=""/>
          <p:cNvPicPr/>
          <p:nvPr/>
        </p:nvPicPr>
        <p:blipFill>
          <a:blip r:embed="rId3"/>
          <a:stretch/>
        </p:blipFill>
        <p:spPr>
          <a:xfrm>
            <a:off x="250920" y="333360"/>
            <a:ext cx="1417680" cy="879480"/>
          </a:xfrm>
          <a:prstGeom prst="rect">
            <a:avLst/>
          </a:prstGeom>
          <a:ln w="0">
            <a:noFill/>
          </a:ln>
        </p:spPr>
      </p:pic>
      <p:sp>
        <p:nvSpPr>
          <p:cNvPr id="1619" name=""/>
          <p:cNvSpPr/>
          <p:nvPr/>
        </p:nvSpPr>
        <p:spPr>
          <a:xfrm>
            <a:off x="539640" y="1819440"/>
            <a:ext cx="806472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φείλουν να έχουν υπόψη τους συγκεκριμένη μεθοδολογία κατάλληλη για όλους τους μαθητές καθώς και τεχνικές που μπορούν ν’ ανταποκριθούν στις ιδιαιτερότητες του κάθε μαθητή. </a:t>
            </a:r>
            <a:br>
              <a:rPr sz="2800"/>
            </a:br>
            <a:r>
              <a:rPr b="0" lang="el-GR" sz="2800" spc="-1" strike="noStrike">
                <a:solidFill>
                  <a:srgbClr val="000000"/>
                </a:solidFill>
                <a:latin typeface="Times New Roman"/>
                <a:ea typeface="Calibri"/>
              </a:rPr>
              <a:t>Επιπρόσθετα, είναι καλό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endParaRPr b="0" lang="en-US" sz="28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0" name=""/>
          <p:cNvGrpSpPr/>
          <p:nvPr/>
        </p:nvGrpSpPr>
        <p:grpSpPr>
          <a:xfrm>
            <a:off x="0" y="115920"/>
            <a:ext cx="9140760" cy="6548400"/>
            <a:chOff x="0" y="115920"/>
            <a:chExt cx="9140760" cy="6548400"/>
          </a:xfrm>
        </p:grpSpPr>
        <p:grpSp>
          <p:nvGrpSpPr>
            <p:cNvPr id="1621" name=""/>
            <p:cNvGrpSpPr/>
            <p:nvPr/>
          </p:nvGrpSpPr>
          <p:grpSpPr>
            <a:xfrm>
              <a:off x="0" y="115920"/>
              <a:ext cx="9140760" cy="6548400"/>
              <a:chOff x="0" y="115920"/>
              <a:chExt cx="9140760" cy="6548400"/>
            </a:xfrm>
          </p:grpSpPr>
          <p:sp>
            <p:nvSpPr>
              <p:cNvPr id="16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7" name="" descr=""/>
          <p:cNvPicPr/>
          <p:nvPr/>
        </p:nvPicPr>
        <p:blipFill>
          <a:blip r:embed="rId3"/>
          <a:stretch/>
        </p:blipFill>
        <p:spPr>
          <a:xfrm>
            <a:off x="250920" y="333360"/>
            <a:ext cx="1417680" cy="879480"/>
          </a:xfrm>
          <a:prstGeom prst="rect">
            <a:avLst/>
          </a:prstGeom>
          <a:ln w="0">
            <a:noFill/>
          </a:ln>
        </p:spPr>
      </p:pic>
      <p:sp>
        <p:nvSpPr>
          <p:cNvPr id="1628" name=""/>
          <p:cNvSpPr/>
          <p:nvPr/>
        </p:nvSpPr>
        <p:spPr>
          <a:xfrm>
            <a:off x="539640" y="2681280"/>
            <a:ext cx="7920000" cy="1814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έλος, είναι απαραίτητο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a:t>
            </a:r>
            <a:endParaRPr b="0" lang="en-US" sz="2800" spc="-1" strike="noStrike">
              <a:solidFill>
                <a:srgbClr val="000000"/>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9" name=""/>
          <p:cNvGrpSpPr/>
          <p:nvPr/>
        </p:nvGrpSpPr>
        <p:grpSpPr>
          <a:xfrm>
            <a:off x="0" y="115920"/>
            <a:ext cx="9140760" cy="6548400"/>
            <a:chOff x="0" y="115920"/>
            <a:chExt cx="9140760" cy="6548400"/>
          </a:xfrm>
        </p:grpSpPr>
        <p:grpSp>
          <p:nvGrpSpPr>
            <p:cNvPr id="1630" name=""/>
            <p:cNvGrpSpPr/>
            <p:nvPr/>
          </p:nvGrpSpPr>
          <p:grpSpPr>
            <a:xfrm>
              <a:off x="0" y="115920"/>
              <a:ext cx="9140760" cy="6548400"/>
              <a:chOff x="0" y="115920"/>
              <a:chExt cx="9140760" cy="6548400"/>
            </a:xfrm>
          </p:grpSpPr>
          <p:sp>
            <p:nvSpPr>
              <p:cNvPr id="16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6" name="" descr=""/>
          <p:cNvPicPr/>
          <p:nvPr/>
        </p:nvPicPr>
        <p:blipFill>
          <a:blip r:embed="rId3"/>
          <a:stretch/>
        </p:blipFill>
        <p:spPr>
          <a:xfrm>
            <a:off x="250920" y="333360"/>
            <a:ext cx="1417680" cy="879480"/>
          </a:xfrm>
          <a:prstGeom prst="rect">
            <a:avLst/>
          </a:prstGeom>
          <a:ln w="0">
            <a:noFill/>
          </a:ln>
        </p:spPr>
      </p:pic>
      <p:sp>
        <p:nvSpPr>
          <p:cNvPr id="1637" name=""/>
          <p:cNvSpPr/>
          <p:nvPr/>
        </p:nvSpPr>
        <p:spPr>
          <a:xfrm>
            <a:off x="179280" y="1819440"/>
            <a:ext cx="828036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εκπαιδευτικοί  τόσο της γενικής όσο και της ειδικής εκπαίδευσης, θα πρέπει να συνεργάζονται για μια μεθοδευμένη και αποτελεσματική εκπαιδευτική ενταξιακή διαδικασία, δημιουργώντας ένα περιβάλλον ισότιμων ακαδημαϊκών ευκαιριών και ένα εκπαιδευτικό πρόγραμμα σχεδιασμένο και διαμορφωμένο πάνω στις ιδιαίτερες ανάγκες του κάθε παιδιού </a:t>
            </a:r>
            <a:br>
              <a:rPr sz="2800"/>
            </a:br>
            <a:r>
              <a:rPr b="0" lang="el-GR" sz="2800" spc="-1" strike="noStrike">
                <a:solidFill>
                  <a:srgbClr val="000000"/>
                </a:solidFill>
                <a:latin typeface="Times New Roman"/>
                <a:ea typeface="Calibri"/>
              </a:rPr>
              <a:t>(Παντελιάδου &amp; Πατσιοδήμου, 2004).</a:t>
            </a:r>
            <a:endParaRPr b="0" lang="en-US" sz="28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639" name="" descr=""/>
          <p:cNvPicPr/>
          <p:nvPr/>
        </p:nvPicPr>
        <p:blipFill>
          <a:blip r:embed="rId1"/>
          <a:stretch/>
        </p:blipFill>
        <p:spPr>
          <a:xfrm>
            <a:off x="0" y="0"/>
            <a:ext cx="9144000" cy="1368360"/>
          </a:xfrm>
          <a:prstGeom prst="rect">
            <a:avLst/>
          </a:prstGeom>
          <a:ln w="0">
            <a:noFill/>
          </a:ln>
        </p:spPr>
      </p:pic>
      <p:pic>
        <p:nvPicPr>
          <p:cNvPr id="1640" name="" descr=""/>
          <p:cNvPicPr/>
          <p:nvPr/>
        </p:nvPicPr>
        <p:blipFill>
          <a:blip r:embed="rId2"/>
          <a:stretch/>
        </p:blipFill>
        <p:spPr>
          <a:xfrm>
            <a:off x="1258920" y="2060640"/>
            <a:ext cx="1297080" cy="1528560"/>
          </a:xfrm>
          <a:prstGeom prst="rect">
            <a:avLst/>
          </a:prstGeom>
          <a:ln w="0">
            <a:noFill/>
          </a:ln>
        </p:spPr>
      </p:pic>
      <p:pic>
        <p:nvPicPr>
          <p:cNvPr id="1641" name="" descr=""/>
          <p:cNvPicPr/>
          <p:nvPr/>
        </p:nvPicPr>
        <p:blipFill>
          <a:blip r:embed="rId3"/>
          <a:stretch/>
        </p:blipFill>
        <p:spPr>
          <a:xfrm>
            <a:off x="6948360" y="1989000"/>
            <a:ext cx="1444680" cy="1573200"/>
          </a:xfrm>
          <a:prstGeom prst="rect">
            <a:avLst/>
          </a:prstGeom>
          <a:ln w="0">
            <a:noFill/>
          </a:ln>
        </p:spPr>
      </p:pic>
      <p:sp>
        <p:nvSpPr>
          <p:cNvPr id="1642"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643"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δεν υπάρχουν πολλά περιθώρια τροποποίησης του καθημερινού ωρολογίου προγράμματος </a:t>
            </a:r>
            <a:br>
              <a:rPr sz="2800"/>
            </a:br>
            <a:br>
              <a:rPr sz="2800"/>
            </a:br>
            <a:r>
              <a:rPr b="0" lang="el-GR" sz="2800" spc="-1" strike="noStrike">
                <a:solidFill>
                  <a:srgbClr val="000000"/>
                </a:solidFill>
                <a:latin typeface="Times New Roman"/>
              </a:rPr>
              <a:t>β) οι μαθητές με τυπική ανάπτυξη δεν ωφελούνται σημαντικά σε κάποιο τομέα</a:t>
            </a:r>
            <a:br>
              <a:rPr sz="28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γ) οι μαθητές αμεα δεν αναπτύσσουν περαιτέρω γνωστικές και επαγγελματικές δεξιότητες μετά την εφαρμογή των παρεμβάσεω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δ) οι ίδιοι ως εκπαιδευτικοί δεν είναι υπεύθυνοι για την προώθηση των προγραμμάτων ένταξης</a:t>
            </a:r>
            <a:br>
              <a:rPr sz="2800"/>
            </a:br>
            <a:br>
              <a:rPr sz="2800"/>
            </a:br>
            <a:r>
              <a:rPr b="0" lang="el-GR" sz="2800" spc="-1" strike="noStrike">
                <a:solidFill>
                  <a:srgbClr val="000000"/>
                </a:solidFill>
                <a:latin typeface="Times New Roman"/>
              </a:rPr>
              <a:t>ε) η ένταξη δεν είναι εφικτή για όλους τους μαθητές αμεα</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 τα ειδικά σχολεία προσφέρουν εξειδικευμένες υπηρεσίες σε μαθητές και γονείς και </a:t>
            </a:r>
            <a:br>
              <a:rPr sz="2800"/>
            </a:br>
            <a:br>
              <a:rPr sz="2800"/>
            </a:br>
            <a:r>
              <a:rPr b="0" lang="el-GR" sz="2800" spc="-1" strike="noStrike">
                <a:solidFill>
                  <a:srgbClr val="000000"/>
                </a:solidFill>
                <a:latin typeface="Times New Roman"/>
              </a:rPr>
              <a:t>ζ) οι μαθητές με ειδικές ανάγκες δεν μπορούν να τα καταφέρουν μόνοι τους σε κοινωνικό και συναισθηματικό επίπεδο και χρειάζονται τη βοήθεια των οικογενειών τους και των ειδικών επιστημόνων.</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βάση τα παραπάνω, μπορεί να ερμηνευτεί το γεγονός ότι πολλοί εκπαιδευτικοί αν</a:t>
            </a:r>
            <a:br>
              <a:rPr sz="2800"/>
            </a:br>
            <a:r>
              <a:rPr b="0" lang="el-GR" sz="2800" spc="-1" strike="noStrike">
                <a:solidFill>
                  <a:srgbClr val="000000"/>
                </a:solidFill>
                <a:latin typeface="Times New Roman"/>
              </a:rPr>
              <a:t>και εμφανίζονται θεωρητικά υπέρ της ένταξης, θεωρούν πως είναι καλύτερο τα παιδιά με</a:t>
            </a:r>
            <a:br>
              <a:rPr sz="2800"/>
            </a:br>
            <a:r>
              <a:rPr b="0" lang="el-GR" sz="2800" spc="-1" strike="noStrike">
                <a:solidFill>
                  <a:srgbClr val="000000"/>
                </a:solidFill>
                <a:latin typeface="Times New Roman"/>
              </a:rPr>
              <a:t>αναπηρία να φοιτούν σε ειδικές τάξεις ή ειδικά σχολεία.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ολλοί  εκπαιδευτικοί θεωρούν πως  η προώθηση των διαδικασιών ένταξης δεν είναι δική τους αρμοδιότητα αλλά αποτελεί</a:t>
            </a:r>
            <a:br>
              <a:rPr sz="2800"/>
            </a:br>
            <a:r>
              <a:rPr b="0" lang="el-GR" sz="2800" spc="-1" strike="noStrike">
                <a:solidFill>
                  <a:srgbClr val="000000"/>
                </a:solidFill>
                <a:latin typeface="Times New Roman"/>
              </a:rPr>
              <a:t>ζήτημα που αφορά τους ειδικούς παιδαγωγούς και τους ψυχολόγου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τις περιπτώσεις που καλούνται να συμμετέχουν σε παρεμβάσεις ένταξης η συμβολή τους αποτυπώνεται με όρους ηθικής και ανθρωπισμού, καθώς θεωρούν πως τα γνωστικά</a:t>
            </a:r>
            <a:br>
              <a:rPr sz="2800"/>
            </a:br>
            <a:r>
              <a:rPr b="0" lang="el-GR" sz="2800" spc="-1" strike="noStrike">
                <a:solidFill>
                  <a:srgbClr val="000000"/>
                </a:solidFill>
                <a:latin typeface="Times New Roman"/>
              </a:rPr>
              <a:t>οφέλη δεν θα είναι μεγάλα για κανένα μαθητή και επισημαίνουν το γεγονός πως την</a:t>
            </a:r>
            <a:br>
              <a:rPr sz="2800"/>
            </a:br>
            <a:r>
              <a:rPr b="0" lang="el-GR" sz="2800" spc="-1" strike="noStrike">
                <a:solidFill>
                  <a:srgbClr val="000000"/>
                </a:solidFill>
                <a:latin typeface="Times New Roman"/>
              </a:rPr>
              <a:t>ευθύνη της παρέμβασης την έχει κάποιος εξωσχολικός παράγοντας.</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26920" y="1484280"/>
            <a:ext cx="75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πάνω αντιφατική στάση των εκπαιδευτικών αποδίδεται στους περιορισμούς του εκάστοτε εκπαιδευτικού συστήματος και σε παράγοντες όπως η ελλιπής υποστήριξη ή ο περιορισμένος χρόνος που έχουν οι εκπαιδευτικοί για να</a:t>
            </a:r>
            <a:br>
              <a:rPr sz="2800"/>
            </a:br>
            <a:r>
              <a:rPr b="0" lang="el-GR" sz="2800" spc="-1" strike="noStrike">
                <a:solidFill>
                  <a:srgbClr val="000000"/>
                </a:solidFill>
                <a:latin typeface="Times New Roman"/>
              </a:rPr>
              <a:t>ασχοληθούν εξατομικευμένα με κάθε μαθητή.</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835280" y="2421000"/>
            <a:ext cx="784512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r>
              <a:rPr b="1" lang="en-US" sz="3200" spc="-1" strike="noStrike">
                <a:solidFill>
                  <a:srgbClr val="000000"/>
                </a:solidFill>
                <a:latin typeface="Times New Roman"/>
                <a:ea typeface="Arial"/>
              </a:rPr>
              <a:t>-</a:t>
            </a:r>
            <a:br>
              <a:rPr sz="3200"/>
            </a:br>
            <a:r>
              <a:rPr b="1" lang="el-GR" sz="3200" spc="-1" strike="noStrike">
                <a:solidFill>
                  <a:srgbClr val="000000"/>
                </a:solidFill>
                <a:latin typeface="Times New Roman"/>
              </a:rPr>
              <a:t>O ρόλος του Εκπαιδευτικού Προσωπικού</a:t>
            </a:r>
            <a:br>
              <a:rPr sz="3200"/>
            </a:br>
            <a:br>
              <a:rPr sz="3200"/>
            </a:br>
            <a:r>
              <a:rPr b="1" lang="el-GR" sz="2000" spc="-1" strike="noStrike">
                <a:solidFill>
                  <a:srgbClr val="000099"/>
                </a:solidFill>
                <a:latin typeface="Arial"/>
                <a:ea typeface="Arial"/>
              </a:rPr>
              <a:t>ΕΙΣΗΓΗΤΗΣ: Γούπος Θεόδωρος,  δρ. Παιδαγωγικών</a:t>
            </a:r>
            <a:br>
              <a:rPr sz="3200"/>
            </a:br>
            <a:br>
              <a:rPr sz="32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90000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ένταξη</a:t>
            </a:r>
            <a:br>
              <a:rPr sz="2800"/>
            </a:br>
            <a:r>
              <a:rPr b="0" lang="el-GR" sz="2800" spc="-1" strike="noStrike">
                <a:solidFill>
                  <a:srgbClr val="000000"/>
                </a:solidFill>
                <a:latin typeface="Times New Roman"/>
              </a:rPr>
              <a:t>των μαθητών αμεα δεν είναι δυνατόν να επιτευχθεί σε εκπαιδευτικές δομές και σε</a:t>
            </a:r>
            <a:br>
              <a:rPr sz="2800"/>
            </a:br>
            <a:r>
              <a:rPr b="0" lang="el-GR" sz="2800" spc="-1" strike="noStrike">
                <a:solidFill>
                  <a:srgbClr val="000000"/>
                </a:solidFill>
                <a:latin typeface="Times New Roman"/>
              </a:rPr>
              <a:t>συνθήκες οι οποίες εμποδίζουν την ανάπτυξη συνεργασιών, δεν παρέχουν τη δυνατότητα</a:t>
            </a:r>
            <a:br>
              <a:rPr sz="2800"/>
            </a:br>
            <a:r>
              <a:rPr b="0" lang="el-GR" sz="2800" spc="-1" strike="noStrike">
                <a:solidFill>
                  <a:srgbClr val="000000"/>
                </a:solidFill>
                <a:latin typeface="Times New Roman"/>
              </a:rPr>
              <a:t>αναγνώρισης του παιδαγωγικού έργου και δεν προωθούν την αποδοχή μεγαλύτερης</a:t>
            </a:r>
            <a:br>
              <a:rPr sz="2800"/>
            </a:br>
            <a:r>
              <a:rPr b="0" lang="el-GR" sz="2800" spc="-1" strike="noStrike">
                <a:solidFill>
                  <a:srgbClr val="000000"/>
                </a:solidFill>
                <a:latin typeface="Times New Roman"/>
              </a:rPr>
              <a:t>υπευθυνότητας από τους εκπαιδευτικούς.</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προώθηση της κοινωνικής ένταξης και η επιτυχής υλοποίηση</a:t>
            </a:r>
            <a:br>
              <a:rPr sz="2800"/>
            </a:br>
            <a:r>
              <a:rPr b="0" lang="el-GR" sz="2800" spc="-1" strike="noStrike">
                <a:solidFill>
                  <a:srgbClr val="000000"/>
                </a:solidFill>
                <a:latin typeface="Times New Roman"/>
              </a:rPr>
              <a:t>κατάλληλων παρεμβάσεων καθορίζεται κατά ένα μεγάλο μέρος από τη θέληση, τη</a:t>
            </a:r>
            <a:br>
              <a:rPr sz="2800"/>
            </a:br>
            <a:r>
              <a:rPr b="0" lang="el-GR" sz="2800" spc="-1" strike="noStrike">
                <a:solidFill>
                  <a:srgbClr val="000000"/>
                </a:solidFill>
                <a:latin typeface="Times New Roman"/>
              </a:rPr>
              <a:t>διάθεση, τις γνώσεις και την εμπειρία του κάθε εκπαιδευτικού. Απαραίτητες θεωρούνται</a:t>
            </a:r>
            <a:br>
              <a:rPr sz="2800"/>
            </a:br>
            <a:r>
              <a:rPr b="0" lang="el-GR" sz="2800" spc="-1" strike="noStrike">
                <a:solidFill>
                  <a:srgbClr val="000000"/>
                </a:solidFill>
                <a:latin typeface="Times New Roman"/>
              </a:rPr>
              <a:t>για τους εκπαιδευτικούς που συμμετέχουν σε προγράμματα ένταξης οι παρακάτω</a:t>
            </a:r>
            <a:br>
              <a:rPr sz="2800"/>
            </a:br>
            <a:r>
              <a:rPr b="0" lang="el-GR" sz="2800" spc="-1" strike="noStrike">
                <a:solidFill>
                  <a:srgbClr val="000000"/>
                </a:solidFill>
                <a:latin typeface="Times New Roman"/>
              </a:rPr>
              <a:t>προϋποθέσεις:</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να έχουν επιστημονική κατάρτιση σε θέματα συνεκπαίδευσης και αυθεντικό ενδιαφέρον για τη συμμετοχή τους στις παρεμβάσει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να έχουν υπόψη τους συγκεκριμένη μεθοδολογία κατάλληλη για όλους τους μαθητές καθώς και τεχνικές που να μπορούν να ανταποκριθούν στις ιδιαιτερότητες του κάθε μαθητή </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γ)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br>
              <a:rPr sz="2800"/>
            </a:br>
            <a:br>
              <a:rPr sz="2800"/>
            </a:br>
            <a:r>
              <a:rPr b="0" lang="el-GR" sz="2800" spc="-1" strike="noStrike">
                <a:solidFill>
                  <a:srgbClr val="000000"/>
                </a:solidFill>
                <a:latin typeface="Times New Roman"/>
              </a:rPr>
              <a:t>δ)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 </a:t>
            </a:r>
            <a:br>
              <a:rPr sz="2800"/>
            </a:b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Καθοριστικός παράγοντας που συμβάλλει στη διαμόρφωση της κουλτούρας σε μία σχολική οργανισμό είναι η διαχείριση του ανθρώπινου δυναμικού.</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179280" y="1392120"/>
            <a:ext cx="856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ην επιτυχή και αποτελεσματική διαχείριση του ανθρώπινου δυναμικού μείζονος σημαντική</a:t>
            </a:r>
            <a:br>
              <a:rPr sz="2800"/>
            </a:br>
            <a:r>
              <a:rPr b="0" lang="el-GR" sz="2800" spc="-1" strike="noStrike">
                <a:solidFill>
                  <a:srgbClr val="000000"/>
                </a:solidFill>
                <a:latin typeface="Times New Roman"/>
              </a:rPr>
              <a:t>αποτελεί </a:t>
            </a:r>
            <a:r>
              <a:rPr b="1" lang="el-GR" sz="2800" spc="-1" strike="noStrike">
                <a:solidFill>
                  <a:srgbClr val="000000"/>
                </a:solidFill>
                <a:latin typeface="Times New Roman"/>
              </a:rPr>
              <a:t>η ταυτότητα του περιβάλλοντος μέσα στο οποίο λειτουργεί η σχολική μονάδα </a:t>
            </a:r>
            <a:r>
              <a:rPr b="0" lang="el-GR" sz="2800" spc="-1" strike="noStrike">
                <a:solidFill>
                  <a:srgbClr val="000000"/>
                </a:solidFill>
                <a:latin typeface="Times New Roman"/>
              </a:rPr>
              <a:t>και η οποία σχετίζεται με την εξωτερική και εσωτερική διάσταση της κουλτούρας. μονάδας (κτιριακές εγκαταστάσεις κλπ)</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ξωτερική διάσταση της κουλτούρας σχετίζεται με την υποδομή της σχολικής μονάδας/ υλικοτεχνικός εξοπλισμός), </a:t>
            </a:r>
            <a:br>
              <a:rPr sz="2800"/>
            </a:br>
            <a:r>
              <a:rPr b="0" lang="el-GR" sz="2800" spc="-1" strike="noStrike">
                <a:solidFill>
                  <a:srgbClr val="000000"/>
                </a:solidFill>
                <a:latin typeface="Times New Roman"/>
              </a:rPr>
              <a:t>ενώ η εσωτερική σχετίζεται με το διευθυντή του σχολείου , τους εκπαιδευτικούς  και τη δημιουργία των ανθρωπίνων σχέσεων (Ρες, 2007).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ν Κονταξή (2008), ο ηγέτης στο πλαίσιο της σχολικής μονάδας είναι «</a:t>
            </a:r>
            <a:r>
              <a:rPr b="0" i="1" lang="el-GR" sz="2800" spc="-1" strike="noStrike">
                <a:solidFill>
                  <a:srgbClr val="000000"/>
                </a:solidFill>
                <a:latin typeface="Times New Roman"/>
              </a:rPr>
              <a:t>το άτομο που ενεργεί ως φάρος, καθοδηγώντας τους εκπαιδευτικούς σε ένα κοινό όραμα ή στόχο προς όφελος των μαθητών»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179280" y="981000"/>
            <a:ext cx="8425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ρόλος του ηγέτη στη διαμόρφωση της σχολικής κουλτούρας έγκειται στο ότι ως ηγέτης εντάσσει στους κόλπους του σχολείου τη φιλοσοφία, τις αξίες, τις πεποιθήσεις και τα πιστεύω της τοπικής κοινότητας, με απώτερο στόχο την ενεργοποίηση της κοινωνίας και τη δημιουργία δεσμών με την τοπική κοινότητα, εφαρμόζει προγράμματα και καινοτόμες δράσεις με τη συμμετοχή των εκπαιδευτικών, των γονέων αλλά και της τοπικής κοινότητας, αναγνωρίζει τις επιτυχίες των μαθητών και του σχολείου, με αποτέλεσμα να δίνει νόημα και ταυτότητα στο σχολείο (Κονταξή, 2008).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τονίζουν οι Πασιαρδής και Σαββίδης (2008)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οι επιτυχημένοι ηγέτες σχολείου καθοδηγούνται από ένα προσωπικό σύστημα αξιών και δημιουργούν μια ξεκάθαρη αίσθηση σκοπού και κατεύθυνσης στο σχολείο»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εύθυνοι για την υιοθέτηση, διαμόρφωση και την προώθηση της σχολικής κουλτούρας είναι κυρίως </a:t>
            </a:r>
            <a:br>
              <a:rPr sz="2800"/>
            </a:b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a:t>
            </a:r>
            <a:br>
              <a:rPr sz="2800"/>
            </a:br>
            <a:r>
              <a:rPr b="0" lang="el-GR" sz="2800" spc="-1" strike="noStrike">
                <a:solidFill>
                  <a:srgbClr val="000000"/>
                </a:solidFill>
                <a:latin typeface="Times New Roman"/>
              </a:rPr>
              <a:t>Οι στάσεις, οι πεποιθήσεις, οι γνώσεις και οι καθημερινές πρακτικές των εκπαιδευτικών </a:t>
            </a:r>
            <a:br>
              <a:rPr sz="2800"/>
            </a:br>
            <a:r>
              <a:rPr b="0" lang="el-GR" sz="2800" spc="-1" strike="noStrike">
                <a:solidFill>
                  <a:srgbClr val="000000"/>
                </a:solidFill>
                <a:latin typeface="Times New Roman"/>
              </a:rPr>
              <a:t>αποτυπώνουν το είδος της κουλτούρας που ακολουθείται από τον εκάστοτε σύλλογο διδασκόντων.</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50920" y="1212840"/>
            <a:ext cx="8497800" cy="4572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ρόλος του διευθυντή στη διαμόρφωση της κουλτούρας στο σχολικό οργανισμό είναι ζωτικής σημασίας, καθώς ως ηγετική φυσιογνωμία στη σχολική μονάδα είναι ο συνδετικός κρίκος για τη δημιουργία κλίματος μέσω του οποίου θα προάγονται οι ανθρώπινες σχέσεις και θα διατηρείται η συνοχή του προσωπικού και των μαθητών ως συνεργαζόμενης ομάδας για την επίτευξη ορισμένων εκπαιδευτικών στόχων (Πασιαρδής, 2004).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διευθυντής είναι εκείνος ο οποίος συν-διαμορφώνει  τη σχολική κουλτούρα, επικεντρώνεται στη διατήρηση της σταθερότητας στη σχολική μονάδα προωθώντας ταυτόχρονα και τις απαραίτητες αλλαγές  υιοθετεί ατομικές αξίες και πεποιθήσεις ίδιες με τις αξίες και τις πεποιθήσεις του σχολικού οργανισμού.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κοινωνεί με τα υπόλοιπα μέλη </a:t>
            </a:r>
            <a:br>
              <a:rPr sz="2800"/>
            </a:br>
            <a:r>
              <a:rPr b="0" lang="el-GR" sz="2800" spc="-1" strike="noStrike">
                <a:solidFill>
                  <a:srgbClr val="000000"/>
                </a:solidFill>
                <a:latin typeface="Times New Roman"/>
              </a:rPr>
              <a:t>(εκπαιδευτικούς, γονείς, τοπική κοινότητα), </a:t>
            </a:r>
            <a:br>
              <a:rPr sz="2800"/>
            </a:br>
            <a:r>
              <a:rPr b="0" lang="el-GR" sz="2800" spc="-1" strike="noStrike">
                <a:solidFill>
                  <a:srgbClr val="000000"/>
                </a:solidFill>
                <a:latin typeface="Times New Roman"/>
              </a:rPr>
              <a:t>αποτελεί πρότυπο για την προαγωγή της κουλτούρας και τέλος εκφράζει την προσωπική του ικανοποίηση για τις επιτυχίες της σχολικής μονάδας </a:t>
            </a:r>
            <a:br>
              <a:rPr sz="2800"/>
            </a:br>
            <a:r>
              <a:rPr b="0" lang="el-GR" sz="2800" spc="-1" strike="noStrike">
                <a:solidFill>
                  <a:srgbClr val="000000"/>
                </a:solidFill>
                <a:latin typeface="Times New Roman"/>
              </a:rPr>
              <a:t>(Κυθραιώτης κ. συν., 2010).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95280" y="1413000"/>
            <a:ext cx="820908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ιευθυντές στο χώρο της εκπαίδευσης θα πρέπει να επιδεικνύουν υψηλό επίπεδο δεξιοτήτων συνδεδεμένων με τον σκοπό της εκπαίδευσης και στην περίπτωση που αυτές συμπληρώνονται από υψηλό επίπεδο συναισθηματικής νοημοσύνης όπως ικανότητες αυτεπίγνωσης, αυτοδιαχείρισης, κοινωνικής επίγνωσης και διαχείρισης σχέσεων. Ο διευθυντής για να διασφαλίσει την αποτελεσματικότητα της σχολικής μονάδας που ηγείται χρειάζεται να διαθέτει χαρακτηριστικά που αφορούν τρεις κατηγορίες: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a:t>
            </a:r>
            <a:r>
              <a:rPr b="1" lang="el-GR" sz="2800" spc="-1" strike="noStrike">
                <a:solidFill>
                  <a:srgbClr val="000000"/>
                </a:solidFill>
                <a:latin typeface="Times New Roman"/>
              </a:rPr>
              <a:t> </a:t>
            </a:r>
            <a:r>
              <a:rPr b="1" i="1" lang="el-GR" sz="2800" spc="-1" strike="noStrike">
                <a:solidFill>
                  <a:srgbClr val="000000"/>
                </a:solidFill>
                <a:latin typeface="Times New Roman"/>
              </a:rPr>
              <a:t>επαγγελματική ικανότητα που προκύπτει ως αποτέλεσμα διοικητικής πείρας και άρτιας επιστημονικής κατάρτισης. </a:t>
            </a:r>
            <a:br>
              <a:rPr sz="2800"/>
            </a:br>
            <a:r>
              <a:rPr b="0" i="1" lang="el-GR" sz="2800" spc="-1" strike="noStrike">
                <a:solidFill>
                  <a:srgbClr val="000000"/>
                </a:solidFill>
                <a:latin typeface="Times New Roman"/>
              </a:rPr>
              <a:t>Στην κατηγορία αυτή περιλαμβάνονται οι ικανότητες εκτίμησης των καθηκόντων, των ευθυνών και των προβλημάτων των υφισταμένων, η ικανότητα αποτελεσματικής εποπτείας και η ικανότητα λήψης ορθολογικών αποφάσεων </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β)  </a:t>
            </a:r>
            <a:r>
              <a:rPr b="1" i="1" lang="el-GR" sz="2800" spc="-1" strike="noStrike">
                <a:solidFill>
                  <a:srgbClr val="000000"/>
                </a:solidFill>
                <a:latin typeface="Times New Roman"/>
              </a:rPr>
              <a:t>ικανότητα του συνεργάζεσθαι. </a:t>
            </a:r>
            <a:br>
              <a:rPr sz="2800"/>
            </a:br>
            <a:br>
              <a:rPr sz="2800"/>
            </a:br>
            <a:r>
              <a:rPr b="0" i="1" lang="el-GR" sz="2800" spc="-1" strike="noStrike">
                <a:solidFill>
                  <a:srgbClr val="000000"/>
                </a:solidFill>
                <a:latin typeface="Times New Roman"/>
              </a:rPr>
              <a:t>Σε αυτή την κατηγορία μεταξύ άλλων περιλαμβάνονται η γνώση και η ικανότητα χειρισμού της ψυχολογικής κατάστασης των ατόμων και των ομάδων, η αντικειμενικότητα, η ανεκτικότητα, η υπομονή και η καλή διάθεση, η ικανότητα επικοινωνίας, η ικανότητα διαχείρισης συγκρούσεων και κρίσεων.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γ) </a:t>
            </a:r>
            <a:r>
              <a:rPr b="1" i="1" lang="el-GR" sz="2800" spc="-1" strike="noStrike">
                <a:solidFill>
                  <a:srgbClr val="000000"/>
                </a:solidFill>
                <a:latin typeface="Times New Roman"/>
              </a:rPr>
              <a:t> αντιληπτική ικανότητα</a:t>
            </a:r>
            <a:r>
              <a:rPr b="0" i="1" lang="el-GR" sz="2800" spc="-1" strike="noStrike">
                <a:solidFill>
                  <a:srgbClr val="000000"/>
                </a:solidFill>
                <a:latin typeface="Times New Roman"/>
              </a:rPr>
              <a:t>, η οποία πρέπει να συνοδεύεται από παρατηρητικότητα, διοικητική φαντασία και ενεργητικότητα, ικανότητα εντοπισμού αδυναμιών, ικανότητα σχεδιασμού και εφαρμογής (Σαΐτης, 2000) .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ολλαπλές δεξιότητες που χρειάζεται να αναπτύξει ο αποτελεσματικός διευθυντής-ηγέτης προκειμένου να συμβάλλει στη διαμόρφωση της σχολικής κουλτούρας που θα διασφαλίσει την ομαλή λειτουργία της σχολικής μονάδας είναι οι ακόλουθες: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a:solidFill>
                  <a:srgbClr val="000000"/>
                </a:solidFill>
                <a:latin typeface="Times New Roman"/>
              </a:rPr>
              <a:t>Επικέντρωση στην καθοδήγηση: </a:t>
            </a:r>
            <a:br>
              <a:rPr sz="2800"/>
            </a:br>
            <a:r>
              <a:rPr b="0" i="1" lang="el-GR" sz="2800" spc="-1" strike="noStrike">
                <a:solidFill>
                  <a:srgbClr val="000000"/>
                </a:solidFill>
                <a:latin typeface="Times New Roman"/>
              </a:rPr>
              <a:t>η ηγεσία του διευθυντή είναι αυτή της παρακολούθησης του τι συμβαίνει στο σχολείο και της καθοδήγησης του προσωπικού με την ανάθεση εργασιών και ρόλων στα μέλη του. </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 </a:t>
            </a:r>
            <a:r>
              <a:rPr b="1" i="1" lang="el-GR" sz="2800" spc="-1" strike="noStrike">
                <a:solidFill>
                  <a:srgbClr val="000000"/>
                </a:solidFill>
                <a:latin typeface="Times New Roman"/>
              </a:rPr>
              <a:t>Εστίαση στον εκπαιδευτικό: </a:t>
            </a:r>
            <a:br>
              <a:rPr sz="2800"/>
            </a:br>
            <a:r>
              <a:rPr b="0" i="1" lang="el-GR" sz="2800" spc="-1" strike="noStrike">
                <a:solidFill>
                  <a:srgbClr val="000000"/>
                </a:solidFill>
                <a:latin typeface="Times New Roman"/>
              </a:rPr>
              <a:t>οι διευθυντές υποστηρίζουν τους δασκάλους με διάφορους τρόπους, όπως είναι ο έπαινος, η ενθάρρυνση, η ενημέρωση και η διάθεση χρόνου σε αυτούς για την αντιμετώπιση των προβλημάτων τους. </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βιβλιογραφική ανασκόπηση αναφορικά με</a:t>
            </a:r>
            <a:br>
              <a:rPr sz="2800"/>
            </a:br>
            <a:r>
              <a:rPr b="0" lang="el-GR" sz="2800" spc="-1" strike="noStrike">
                <a:solidFill>
                  <a:srgbClr val="000000"/>
                </a:solidFill>
                <a:latin typeface="Times New Roman"/>
              </a:rPr>
              <a:t>τον ρόλο των εκπαιδευτικών στις διαδικασίες κοινωνικής ένταξης των μαθητών αμεα επικεντρώνεται στις στάσεις </a:t>
            </a:r>
            <a:br>
              <a:rPr sz="2800"/>
            </a:br>
            <a:r>
              <a:rPr b="0" lang="el-GR" sz="2800" spc="-1" strike="noStrike">
                <a:solidFill>
                  <a:srgbClr val="000000"/>
                </a:solidFill>
                <a:latin typeface="Times New Roman"/>
              </a:rPr>
              <a:t>που οι εκπαιδευτικοί υιοθετούν</a:t>
            </a:r>
            <a:br>
              <a:rPr sz="2800"/>
            </a:br>
            <a:r>
              <a:rPr b="0" lang="el-GR" sz="2800" spc="-1" strike="noStrike">
                <a:solidFill>
                  <a:srgbClr val="000000"/>
                </a:solidFill>
                <a:latin typeface="Times New Roman"/>
              </a:rPr>
              <a:t> απέναντι στους</a:t>
            </a:r>
            <a:br>
              <a:rPr sz="2800"/>
            </a:br>
            <a:r>
              <a:rPr b="0" lang="el-GR" sz="2800" spc="-1" strike="noStrike">
                <a:solidFill>
                  <a:srgbClr val="000000"/>
                </a:solidFill>
                <a:latin typeface="Times New Roman"/>
              </a:rPr>
              <a:t>μαθητές αμεα και στην εκπαίδευσή τους.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79280" y="1557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i="1" lang="el-GR" sz="2800" spc="-1" strike="noStrike">
                <a:solidFill>
                  <a:srgbClr val="000000"/>
                </a:solidFill>
                <a:latin typeface="Times New Roman"/>
              </a:rPr>
              <a:t>Ευρύτητα γνώσης: </a:t>
            </a:r>
            <a:br>
              <a:rPr sz="2800"/>
            </a:br>
            <a:r>
              <a:rPr b="0" i="1" lang="el-GR" sz="2800" spc="-1" strike="noStrike">
                <a:solidFill>
                  <a:srgbClr val="000000"/>
                </a:solidFill>
                <a:latin typeface="Times New Roman"/>
              </a:rPr>
              <a:t>οι διευθυντές είναι συνήθως καλά πληροφορημένοι για τις σύγχρονες εκπαιδευτικές τάσεις και επωφελούνται των νέων ευκαιριώ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Λήψη αποφάσεων: </a:t>
            </a:r>
            <a:br>
              <a:rPr sz="2800"/>
            </a:br>
            <a:r>
              <a:rPr b="0" i="1" lang="el-GR" sz="2800" spc="-1" strike="noStrike">
                <a:solidFill>
                  <a:srgbClr val="000000"/>
                </a:solidFill>
                <a:latin typeface="Times New Roman"/>
              </a:rPr>
              <a:t>οι διευθυντές δημιουργούν αποτελεσματικές διαδικασίες στη λήψη αποφάσεων, εστιάζοντας σε καθορισμένους στόχους, μέσω της συμμετοχικότητας και της συλλογικότητας.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Συμβολική και πολιτιστική αντίληψη: </a:t>
            </a:r>
            <a:br>
              <a:rPr sz="2800"/>
            </a:br>
            <a:r>
              <a:rPr b="0" i="1" lang="el-GR" sz="2800" spc="-1" strike="noStrike">
                <a:solidFill>
                  <a:srgbClr val="000000"/>
                </a:solidFill>
                <a:latin typeface="Times New Roman"/>
              </a:rPr>
              <a:t>οι διευθυντές χρησιμοποιούν τα φανερά και τα κρυφά μηνύματα που απορρέουν από τις πράξεις τους, για να επηρεάσουν εποικοδομητικά τη συμπεριφορά των άλλων.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i="1" lang="el-GR" sz="2800" spc="-1" strike="noStrike">
                <a:solidFill>
                  <a:srgbClr val="000000"/>
                </a:solidFill>
                <a:latin typeface="Times New Roman"/>
              </a:rPr>
              <a:t>Αξίες: </a:t>
            </a:r>
            <a:r>
              <a:rPr b="0" i="1" lang="el-GR" sz="2800" spc="-1" strike="noStrike">
                <a:solidFill>
                  <a:srgbClr val="000000"/>
                </a:solidFill>
                <a:latin typeface="Times New Roman"/>
              </a:rPr>
              <a:t>οι αξίες των διευθυντών σχετίζονται με τον τύπο της ηγεσίας που εφαρμόζου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Επικέντρωση στους γονείς και στην κοινότητα: </a:t>
            </a:r>
            <a:br>
              <a:rPr sz="2800"/>
            </a:br>
            <a:r>
              <a:rPr b="0" i="1" lang="el-GR" sz="2800" spc="-1" strike="noStrike">
                <a:solidFill>
                  <a:srgbClr val="000000"/>
                </a:solidFill>
                <a:latin typeface="Times New Roman"/>
              </a:rPr>
              <a:t>οι διευθυντές επιδιώκουν να εξασφαλίσουν τόσο την πρόσβαση όσο και τη συμμετοχή των γονέων στο σχολείο καθώς και την αίσθηση ότι το σχολείο κατανοεί και ανταποκρίνεται στις γονικές και κοινοτικές προσδοκίες. </a:t>
            </a:r>
            <a:br>
              <a:rPr sz="2800"/>
            </a:b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i="1" lang="el-GR" sz="2800" spc="-1" strike="noStrike">
                <a:solidFill>
                  <a:srgbClr val="000000"/>
                </a:solidFill>
                <a:latin typeface="Times New Roman"/>
              </a:rPr>
              <a:t>Επικέντρωση στο μαθητή: </a:t>
            </a:r>
            <a:br>
              <a:rPr sz="2800"/>
            </a:br>
            <a:r>
              <a:rPr b="0" i="1" lang="el-GR" sz="2800" spc="-1" strike="noStrike">
                <a:solidFill>
                  <a:srgbClr val="000000"/>
                </a:solidFill>
                <a:latin typeface="Times New Roman"/>
              </a:rPr>
              <a:t>οι πράξεις του διευθυντή είναι συμβολικά σημαντικές για τους μαθητές. Κίνητρα, όπως η δημόσια αναγνώριση, χρησιμοποιούνται για να ενθαρρύνουν κατάλληλες συμπεριφορές στους μαθητές.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 διευθυντής της σχολικής μονάδας όπου φοιτούν μαθητές με ειδικές εκπαιδευτικές ανάγκες οφείλει να στηρίζει τους εκπαιδευτικούς που έχουν στο τμήμα τους μαθητές με αναπηρίες, να παρέχει τις απαραίτητες διευκολύνσεις για τη διδασκαλία των παιδιών με αναπηρία. </a:t>
            </a:r>
            <a:br>
              <a:rPr sz="2800"/>
            </a:b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φείλει επίσης να φροντίζει για την προμήθεια κατάλληλων υλικών και εξοπλισμού ώστε να καλυφθούν οι ανάγκες των μαθητών αυτών, </a:t>
            </a:r>
            <a:br>
              <a:rPr sz="2800"/>
            </a:br>
            <a:r>
              <a:rPr b="0" lang="el-GR" sz="2800" spc="-1" strike="noStrike">
                <a:solidFill>
                  <a:srgbClr val="000000"/>
                </a:solidFill>
                <a:latin typeface="Times New Roman"/>
              </a:rPr>
              <a:t>να υλοποιεί  προγράμματα ενδοσχολικής επιμόρφωσης για τη συμπεριληπτική εκπαίδευση, να συνεργάζεται με τους γονείς, τους ειδικούς και σχολικούς συμβούλους.</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395280" y="1392120"/>
            <a:ext cx="856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O</a:t>
            </a:r>
            <a:r>
              <a:rPr b="0" lang="el-GR" sz="2800" spc="-1" strike="noStrike">
                <a:solidFill>
                  <a:srgbClr val="000000"/>
                </a:solidFill>
                <a:latin typeface="Times New Roman"/>
              </a:rPr>
              <a:t>ι διευθυντές που έχουν στη σχολική τους μονάδα </a:t>
            </a:r>
            <a:r>
              <a:rPr b="1" lang="el-GR" sz="2800" spc="-1" strike="noStrike">
                <a:solidFill>
                  <a:srgbClr val="000000"/>
                </a:solidFill>
                <a:latin typeface="Times New Roman"/>
              </a:rPr>
              <a:t>τμήμα ένταξης</a:t>
            </a:r>
            <a:r>
              <a:rPr b="0" lang="el-GR" sz="2800" spc="-1" strike="noStrike">
                <a:solidFill>
                  <a:srgbClr val="000000"/>
                </a:solidFill>
                <a:latin typeface="Times New Roman"/>
              </a:rPr>
              <a:t> δεν πρέπει απλώς να στηριχθούν στο ότι ένταξη είναι βασικό συστατικό της κοινωνικής και εκπαιδευτικής πολιτικής και άμεση προτεραιότητα της ευρωπαϊκής ένωσης (Raniels &amp; Garner, 2000), αλλά να ξεδιπλώσουν το ηγετικό τους προφίλ με αιχμή την ηγετική τους συμπεριφορά, ξεδιπλώνοντας το γνήσιο ενδιαφέρον και την ευαισθησία τους ώστε αυτά τα παιδιά να κερδίσουν το πρόβλημά τους, και να αποκτήσουν την πλήρη ένταξή τους μέσα στην κοινωνία.</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179280" y="1125360"/>
            <a:ext cx="8425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Οι διευθυντές ειδικών σχολείων έχουν τις εξής αρμοδιότητες:  </a:t>
            </a:r>
            <a:br>
              <a:rPr sz="2800"/>
            </a:br>
            <a:br>
              <a:rPr sz="2800"/>
            </a:br>
            <a:r>
              <a:rPr b="0" lang="el-GR" sz="2800" spc="-1" strike="noStrike">
                <a:solidFill>
                  <a:srgbClr val="000000"/>
                </a:solidFill>
                <a:latin typeface="Times New Roman"/>
              </a:rPr>
              <a:t> α. επιβλέπουν και συντονίζουν το έργο του προσωπικού που υπηρετεί με οιαδήποτε σχέση στη σχολική μονάδα.</a:t>
            </a:r>
            <a:br>
              <a:rPr sz="2800"/>
            </a:br>
            <a:br>
              <a:rPr sz="2800"/>
            </a:br>
            <a:br>
              <a:rPr sz="2800"/>
            </a:br>
            <a:endParaRPr b="0" lang="en-US" sz="2800" spc="-1" strike="noStrike">
              <a:solidFill>
                <a:srgbClr val="000000"/>
              </a:solidFill>
              <a:latin typeface="Times New Roman"/>
            </a:endParaRPr>
          </a:p>
        </p:txBody>
      </p:sp>
      <p:grpSp>
        <p:nvGrpSpPr>
          <p:cNvPr id="955" name=""/>
          <p:cNvGrpSpPr/>
          <p:nvPr/>
        </p:nvGrpSpPr>
        <p:grpSpPr>
          <a:xfrm>
            <a:off x="0" y="0"/>
            <a:ext cx="9140760" cy="6548400"/>
            <a:chOff x="0" y="0"/>
            <a:chExt cx="9140760" cy="6548400"/>
          </a:xfrm>
        </p:grpSpPr>
        <p:grpSp>
          <p:nvGrpSpPr>
            <p:cNvPr id="956" name=""/>
            <p:cNvGrpSpPr/>
            <p:nvPr/>
          </p:nvGrpSpPr>
          <p:grpSpPr>
            <a:xfrm>
              <a:off x="0" y="0"/>
              <a:ext cx="9140760" cy="6548400"/>
              <a:chOff x="0" y="0"/>
              <a:chExt cx="9140760" cy="6548400"/>
            </a:xfrm>
          </p:grpSpPr>
          <p:sp>
            <p:nvSpPr>
              <p:cNvPr id="957"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179280" y="1125360"/>
            <a:ext cx="8425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Β. ορίζουν, συγκαλούν και προεδρεύουν στη διεπιστημονική ομάδα του σχολείου, για τη διάγνωση και αξιολόγηση των μαθητών κατά τη διαδικασία ένταξής τους και το σχεδίασμά προγραμμάτων κατά τη διάρκεια φοίτησης στη σχολική μονάδα. </a:t>
            </a:r>
            <a:br>
              <a:rPr sz="2800"/>
            </a:br>
            <a:br>
              <a:rPr sz="2800"/>
            </a:br>
            <a:endParaRPr b="0" lang="en-US" sz="2800" spc="-1" strike="noStrike">
              <a:solidFill>
                <a:srgbClr val="000000"/>
              </a:solidFill>
              <a:latin typeface="Times New Roman"/>
            </a:endParaRPr>
          </a:p>
        </p:txBody>
      </p:sp>
      <p:grpSp>
        <p:nvGrpSpPr>
          <p:cNvPr id="964" name=""/>
          <p:cNvGrpSpPr/>
          <p:nvPr/>
        </p:nvGrpSpPr>
        <p:grpSpPr>
          <a:xfrm>
            <a:off x="0" y="0"/>
            <a:ext cx="9140760" cy="6548400"/>
            <a:chOff x="0" y="0"/>
            <a:chExt cx="9140760" cy="6548400"/>
          </a:xfrm>
        </p:grpSpPr>
        <p:grpSp>
          <p:nvGrpSpPr>
            <p:cNvPr id="965" name=""/>
            <p:cNvGrpSpPr/>
            <p:nvPr/>
          </p:nvGrpSpPr>
          <p:grpSpPr>
            <a:xfrm>
              <a:off x="0" y="0"/>
              <a:ext cx="9140760" cy="6548400"/>
              <a:chOff x="0" y="0"/>
              <a:chExt cx="9140760" cy="6548400"/>
            </a:xfrm>
          </p:grpSpPr>
          <p:sp>
            <p:nvSpPr>
              <p:cNvPr id="966"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γ.προσκαλούν σε συνεδρίαση τα μέλη του συλλόγου (εκπαιδευτικούς, ειδικό εκπαιδευτικό προσωπικό, ειδικό βοηθητικό προσωπικό) και διευκολύνουν τη μεταξύ τους συνεργασία. </a:t>
            </a:r>
            <a:br>
              <a:rPr sz="2800"/>
            </a:br>
            <a:endParaRPr b="0" lang="en-US" sz="2800" spc="-1" strike="noStrike">
              <a:solidFill>
                <a:srgbClr val="000000"/>
              </a:solidFill>
              <a:latin typeface="Times New Roman"/>
            </a:endParaRPr>
          </a:p>
        </p:txBody>
      </p:sp>
      <p:grpSp>
        <p:nvGrpSpPr>
          <p:cNvPr id="973" name=""/>
          <p:cNvGrpSpPr/>
          <p:nvPr/>
        </p:nvGrpSpPr>
        <p:grpSpPr>
          <a:xfrm>
            <a:off x="0" y="0"/>
            <a:ext cx="9140760" cy="6548400"/>
            <a:chOff x="0" y="0"/>
            <a:chExt cx="9140760" cy="6548400"/>
          </a:xfrm>
        </p:grpSpPr>
        <p:grpSp>
          <p:nvGrpSpPr>
            <p:cNvPr id="974" name=""/>
            <p:cNvGrpSpPr/>
            <p:nvPr/>
          </p:nvGrpSpPr>
          <p:grpSpPr>
            <a:xfrm>
              <a:off x="0" y="0"/>
              <a:ext cx="9140760" cy="6548400"/>
              <a:chOff x="0" y="0"/>
              <a:chExt cx="9140760" cy="6548400"/>
            </a:xfrm>
          </p:grpSpPr>
          <p:sp>
            <p:nvSpPr>
              <p:cNvPr id="975"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539640" y="981000"/>
            <a:ext cx="79200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ύμφωνα με ερευνητικά</a:t>
            </a:r>
            <a:br>
              <a:rPr sz="2800"/>
            </a:br>
            <a:r>
              <a:rPr b="0" lang="el-GR" sz="2800" spc="-1" strike="noStrike">
                <a:solidFill>
                  <a:srgbClr val="000000"/>
                </a:solidFill>
                <a:latin typeface="Times New Roman"/>
              </a:rPr>
              <a:t>δεδομένα, ενώ οι εκπαιδευτικοί, παρόλο που σε θεωρητικό επίπεδο εμφανίζονται θετικοί</a:t>
            </a:r>
            <a:br>
              <a:rPr sz="2800"/>
            </a:br>
            <a:r>
              <a:rPr b="0" lang="el-GR" sz="2800" spc="-1" strike="noStrike">
                <a:solidFill>
                  <a:srgbClr val="000000"/>
                </a:solidFill>
                <a:latin typeface="Times New Roman"/>
              </a:rPr>
              <a:t>ως προς τη συνεκπαίδευση, </a:t>
            </a:r>
            <a:br>
              <a:rPr sz="2800"/>
            </a:br>
            <a:r>
              <a:rPr b="0" lang="el-GR" sz="2800" spc="-1" strike="noStrike">
                <a:solidFill>
                  <a:srgbClr val="000000"/>
                </a:solidFill>
                <a:latin typeface="Times New Roman"/>
              </a:rPr>
              <a:t>στη πράξη κρατούν ουδέτερη και πολλές φορές μη</a:t>
            </a:r>
            <a:br>
              <a:rPr sz="2800"/>
            </a:br>
            <a:r>
              <a:rPr b="0" lang="el-GR" sz="2800" spc="-1" strike="noStrike">
                <a:solidFill>
                  <a:srgbClr val="000000"/>
                </a:solidFill>
                <a:latin typeface="Times New Roman"/>
              </a:rPr>
              <a:t>διευκολυντική στάση απέναντι στην κοινωνική ένταξη των μαθητών με ειδικές</a:t>
            </a:r>
            <a:br>
              <a:rPr sz="2800"/>
            </a:br>
            <a:r>
              <a:rPr b="0" lang="el-GR" sz="2800" spc="-1" strike="noStrike">
                <a:solidFill>
                  <a:srgbClr val="000000"/>
                </a:solidFill>
                <a:latin typeface="Times New Roman"/>
              </a:rPr>
              <a:t>εκπαιδευτικές ανάγκες, έχοντας την πεποίθηση πως οι συγκεκριμένοι μαθητές στερούνται προοπτικών κοινωνικοποίησης ως ενήλικες.</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συνεργάζονται με το σχολικό σύμβουλο ειδικής αγωγής και με τις υποστηρικτικές υπηρεσίες (ΚΔΑΥ, ιατροπαιδαγωγικές υπηρεσίες κ.ά.) για τη σχολική, κοινωνική και επαγγελματική ένταξη των μαθητώ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συμπράττουν με τους διευθυντές της γενικής εκπαίδευσης για το σχεδιασμό και την υλοποίηση κοινών προγραμμάτων διευκολύνουν τη συμμετοχή των μαθητών στα προγράμματα αποκατάστασης </a:t>
            </a:r>
            <a:br>
              <a:rPr sz="2800"/>
            </a:b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συνεργάζονται με τους γονείς και παρέχουν σε αυτούς κάθε διευκόλυνση στη συνεργασία με το προσωπικό του σχολείου. Προγραμματίζουν και οργανώνουν ενημερωτικές συναντήσεις των γονέων με τους εκπαιδευτικούς, το ειδικό εκπαιδευτικό προσωπικό άλλους εμπλεκόμενους φορείς σε θέματα κοινού ενδιαφέροντος. </a:t>
            </a:r>
            <a:br>
              <a:rPr sz="2800"/>
            </a:b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ζ. είναι συνολικά υπεύθυνοι για την υλοποίηση της εκπαιδευτικής πολιτικής σε ό,τι αφορά στους μαθητές με ειδικές εκπαιδευτικές ανάγκες και την επικοινωνία του σχολείου με τους γονείς και τις αρμόδιες υπηρεσίες. </a:t>
            </a:r>
            <a:br>
              <a:rPr sz="2800"/>
            </a:b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φροντίζουν για τη συνεχή επιμόρφωση και ενημέρωση του προσωπικού σε νέες εκπαιδευτικές προσεγγίσεις και διδακτικές μεθόδους.</a:t>
            </a:r>
            <a:br>
              <a:rPr sz="2800"/>
            </a:br>
            <a:br>
              <a:rPr sz="2800"/>
            </a:br>
            <a:r>
              <a:rPr b="0" lang="el-GR" sz="2800" spc="-1" strike="noStrike">
                <a:solidFill>
                  <a:srgbClr val="000000"/>
                </a:solidFill>
                <a:latin typeface="Times New Roman"/>
              </a:rPr>
              <a:t> Θ.υποβάλλουν για θεώρηση στο σχολικό σύμβουλο ειδικής αγωγής, το εβδομαδιαίο ωρολόγιο πρόγραμμα και την ετήσια αξιολογική έκθεση λειτουργίας του σχολείου.</a:t>
            </a:r>
            <a:br>
              <a:rPr sz="2800"/>
            </a:b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ημαντικός στη διαμόρφωση της σχολικής κουλτούρας είναι </a:t>
            </a:r>
            <a:r>
              <a:rPr b="1" lang="el-GR" sz="2800" spc="-1" strike="noStrike">
                <a:solidFill>
                  <a:srgbClr val="000000"/>
                </a:solidFill>
                <a:latin typeface="Times New Roman"/>
              </a:rPr>
              <a:t>ο ρόλος των εκπαιδευτικών </a:t>
            </a:r>
            <a:r>
              <a:rPr b="0" lang="el-GR" sz="2800" spc="-1" strike="noStrike">
                <a:solidFill>
                  <a:srgbClr val="000000"/>
                </a:solidFill>
                <a:latin typeface="Times New Roman"/>
              </a:rPr>
              <a:t>καθώς οι αντιλήψεις και οι αξίες που αναπτύσσουν καθορίζουν τη στάση και τη δράση τους τόσο εντός της σχολικής τάξης όσο και εντός του ευρύτερου εκπαιδευτικού πλαισίου.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395280" y="1392120"/>
            <a:ext cx="811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νώσεις και οι πεποιθήσεις τους είναι μείζονος σημασίας στην εκπαιδευτική διαδικασία, </a:t>
            </a:r>
            <a:br>
              <a:rPr sz="2800"/>
            </a:br>
            <a:r>
              <a:rPr b="0" lang="el-GR" sz="2800" spc="-1" strike="noStrike">
                <a:solidFill>
                  <a:srgbClr val="000000"/>
                </a:solidFill>
                <a:latin typeface="Times New Roman"/>
              </a:rPr>
              <a:t>στην εισαγωγή καινοτόμων εκπαιδευτικών προγραμμάτων, διαφοροποιημένων παιδαγωγικών προσεγγίσεων και στο σύνολο της βελτίωσης της αποτελεσματικότητας της σχολικής μονάδας (Θεριανός, 2006). </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ις Παντελιάδου και Πατσιοδήμου (2000) ο ρόλος των εκπαιδευτικών οι οποίοι διδάσκουν σε τάξεις με ετερογενή μαθητικό πληθυσμό, όπως τάξη με μαθητές με Ειδικές Εκπαιδευτικές Ανάγκες, γλωσσικές ή πολιτισμικές διαφορές είναι σημαντικός, απαιτητικός, δύσκολος αλλά και με εύρος υποχρεώσεων.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δομένου ότι η συμβολή τους είναι καταλυτική στο σχεδιασμό και στην κατάρτιση εκπαιδευτικών προγραμμάτων ένταξης και παρέμβασης βασικό χαρακτηριστικό τους είναι η αποδοχή των αρχών της ένταξης καθώς και   η προαγωγή των αξιών της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εκπαιδευτικών αποτελεί σημαντικό παράγοντα διαμόρφωσης της σχολικής ένταξης. Δεν είναι λίγες οι περιπτώσεις που οι εκπαιδευτικοί παρουσιάζουν αντιδράσεις, φόβους αλλά και ανασφάλειες όταν καλούνται να διδάξουν σε τμήματα στα οποία φοιτούν άτομα με ειδικές εκπαιδευτικές ανάγκες και αυτό γιατί δεν έχουν επαρκή ενημέρωση για τον τρόπο διαχείρισής τους.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ν είναι επίσης λίγες οι περιπτώσεις που ορισμένοι αρνούνται να αλλάξουν τις εδραιωμένες εκπαιδευτικές διαδικασίες που ακολουθούν και να υιοθετήσουν τις αντίστοιχες της διαφοροποιημένης διδασκαλίας. Για τους παραπάνω λόγους χρειάζεται να είναι κύριο μέλημα και πεποίθηση όλων η αξία της αρχής ενός σχολείου για όλους και της παράλληλης εκπαίδευσης παιδιών με ειδικές εκπαιδευτικές ανάγκες με το γενικό πληθυσμό μαθητών. </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ο παράγοντας που οι</a:t>
            </a:r>
            <a:br>
              <a:rPr sz="2800"/>
            </a:br>
            <a:r>
              <a:rPr b="0" lang="el-GR" sz="2800" spc="-1" strike="noStrike">
                <a:solidFill>
                  <a:srgbClr val="000000"/>
                </a:solidFill>
                <a:latin typeface="Times New Roman"/>
              </a:rPr>
              <a:t>εκπαιδευτικοί επικαλούνται και φαίνεται ότι καθορίζει σε μεγάλο βαθμό την στάση τους</a:t>
            </a:r>
            <a:br>
              <a:rPr sz="2800"/>
            </a:br>
            <a:r>
              <a:rPr b="0" lang="el-GR" sz="2800" spc="-1" strike="noStrike">
                <a:solidFill>
                  <a:srgbClr val="000000"/>
                </a:solidFill>
                <a:latin typeface="Times New Roman"/>
              </a:rPr>
              <a:t>απέναντι στις διαδικασίες ένταξης είναι </a:t>
            </a:r>
            <a:br>
              <a:rPr sz="2800"/>
            </a:br>
            <a:r>
              <a:rPr b="0" lang="el-GR" sz="2800" spc="-1" strike="noStrike">
                <a:solidFill>
                  <a:srgbClr val="000000"/>
                </a:solidFill>
                <a:latin typeface="Times New Roman"/>
              </a:rPr>
              <a:t>η έλλειψη γνώσεων αναφορικά με την</a:t>
            </a:r>
            <a:br>
              <a:rPr sz="2800"/>
            </a:br>
            <a:r>
              <a:rPr b="0" lang="el-GR" sz="2800" spc="-1" strike="noStrike">
                <a:solidFill>
                  <a:srgbClr val="000000"/>
                </a:solidFill>
                <a:latin typeface="Times New Roman"/>
              </a:rPr>
              <a:t>εκπαίδευση των  μαθητών αμεα και </a:t>
            </a:r>
            <a:br>
              <a:rPr sz="2800"/>
            </a:br>
            <a:r>
              <a:rPr b="0" lang="el-GR" sz="2800" spc="-1" strike="noStrike">
                <a:solidFill>
                  <a:srgbClr val="000000"/>
                </a:solidFill>
                <a:latin typeface="Times New Roman"/>
              </a:rPr>
              <a:t>η έλλειψη ανάλογης εμπειρίας.</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πτύσσοντας οι ίδιοι διαφορετική στάση απέναντι στη διαφορετικότητα θα αποτρέψουν το διαχωρισμό των μαθητών και θα αξιοποιήσουν τη διαφορετικότητα για να προάγουν τη μάθηση (IECP, 2003).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αποβάλλοντας στερεοτυπικές αντιλήψεις και ενθαρρύνοντας τις πολιτικές και τις πρακτικές της εκπαιδευτικής ένταξης θα συμβάλλουν στη διαμόρφωση της θετικής </a:t>
            </a:r>
            <a:br>
              <a:rPr sz="2800"/>
            </a:br>
            <a:r>
              <a:rPr b="0" lang="el-GR" sz="2800" spc="-1" strike="noStrike">
                <a:solidFill>
                  <a:srgbClr val="000000"/>
                </a:solidFill>
                <a:latin typeface="Times New Roman"/>
              </a:rPr>
              <a:t>θα δημιουργήσουν μία θετική παιδαγωγική σχέση με τους μαθητές τους και </a:t>
            </a:r>
            <a:br>
              <a:rPr sz="2800"/>
            </a:br>
            <a:r>
              <a:rPr b="0" lang="el-GR" sz="2800" spc="-1" strike="noStrike">
                <a:solidFill>
                  <a:srgbClr val="000000"/>
                </a:solidFill>
                <a:latin typeface="Times New Roman"/>
              </a:rPr>
              <a:t>επαγγελματική με τους συναδέλφους τους.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της σχολικής τάξης είναι διαμορφωτής της σχολικής ένταξης καθώς είναι αρμόδιος για τη δημιουργία θετικού κλίματος εντός της τάξης. </a:t>
            </a:r>
            <a:br>
              <a:rPr sz="2800"/>
            </a:br>
            <a:r>
              <a:rPr b="0" lang="el-GR" sz="2800" spc="-1" strike="noStrike">
                <a:solidFill>
                  <a:srgbClr val="000000"/>
                </a:solidFill>
                <a:latin typeface="Times New Roman"/>
              </a:rPr>
              <a:t>Η δημιουργία θετικού κλίματος διαμορφώνεται από τον τρόπο που εκπαιδευτικός δομεί τη διδασκαλία του, διαχειρίζεται την τάξη ως σύνολο αλλά και κάθε μαθητή ξεχωριστά.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250920" y="1052640"/>
            <a:ext cx="86374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όταν ο εκπαιδευτικός προάγει την αποδοχή δημιουργεί κλίμα ασφάλειας σε όλους τους μαθητές και αυτοί αισθάνονται αγαπητοί από τον εκπαιδευτικό, αποδεκτοί από τους υπόλοιπους συμμαθητές τους αλλά και ασφαλείς από ενδεχόμενες επιθετικές συμπεριφορές. </a:t>
            </a:r>
            <a:br>
              <a:rPr sz="2800"/>
            </a:br>
            <a:r>
              <a:rPr b="0" lang="el-GR" sz="2800" spc="-1" strike="noStrike">
                <a:solidFill>
                  <a:srgbClr val="000000"/>
                </a:solidFill>
                <a:latin typeface="Times New Roman"/>
              </a:rPr>
              <a:t>Όλοι οι μαθητές μπορούν να  συμμετέχουν στην εκπαιδευτική διαδικασία ενεργά χωρίς το φόβο της απόρριψης εξ΄ αιτίας της διαφορετικότητάς τους αλλά και της κοροϊδίας από ενδεχόμενη λανθασμένη απάντηση.</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ουσιαστική σχολική ένταξη θα επιτευχθεί μέσα από το σεβασμό των δυνατοτήτων αλλά και των αδυναμιών των μαθητών, αναγνωρίζοντας τη διαφορετικότητά τους, αποδεχόμενος τα ιδιαίτερα χαρακτηριστικά τους, συμμετέχοντας και συνεργαζόμενος μαζί τους, θα τους ενθαρρύνει και θα τους ωθήσει στην υλοποίηση των στόχων του αναλυτικού προγράμματος, στην υλοποίηση άλλων δραστηριοτήτων πέραν των καθαρά εκπαιδευτικών και στην ευρύτερη ένταξη στις δράσεις του σχολείου (Τσιπλητάρης, 2002).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βόμενος ο εκπαιδευτικός τα διαφορετικά γνωσιακά, κοινωνικά, συναισθηματικά και πολιτισμικά χαρακτηριστικά όλων των μαθητών καθώς και των ποικίλων δυνατοτήτων αλλά και αδυναμιών τους αποβάλει τις διακρίσεις και συμπεριφέρεται ισότιμα προς όλα τα παιδιά.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θέτοντας ο ίδιος σεβασμό δημιουργεί τις απαραίτητες συνθήκες για την αποδοχή της διαφορετικότητας αλλά και της αντιμετώπισής της ως ίση. </a:t>
            </a:r>
            <a:br>
              <a:rPr sz="2800"/>
            </a:br>
            <a:r>
              <a:rPr b="0" lang="el-GR" sz="2800" spc="-1" strike="noStrike">
                <a:solidFill>
                  <a:srgbClr val="000000"/>
                </a:solidFill>
                <a:latin typeface="Times New Roman"/>
              </a:rPr>
              <a:t>Η αποδοχή της ετερότητας της κοινωνίας και η παροχή ισότιμων ευκαιριών μάθησης αποτελεί ουσιαστική εφαρμογή της ισότιμης ένταξης όλων εντός της εκπαιδευτικής μονάδας (Οικονομίδης, 2011).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εφαρμογής του αναλυτικού προγράμματος σπουδών ο σεβασμός του διαφορετικού ρυθμού μάθησης του κάθε μαθητή με την παράλληλη χρήση τεχνικών διαφοροποιημένης διδασκαλίας βοηθούν όλους τους μαθητές να αποβάλλουν το άγχος, τους αποφορτίζει αλλά και τους βοηθά να επιτύχουν τους μαθησιακούς στόχους που έχει ο καθένας (Θεοφιλίδης, 2008).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ακόμη δυνατότητα που διαθέτουν οι εκπαιδευτικοί και αδιαμφισβήτητα είναι η παροχή ευκαιριών στους ίδιους τους μαθητές να ενεργήσουν, να δράσουν, να επιλέξουν μέσα και υλικά υλοποίησης των δραστηριοτήτων τους έτσι ώστε να αποκτήσουν τη γνώση μέσα σε πλαίσιο αλληλοσεβασμού που συνιστά ένα από τα κυριότερα στοιχεία της ισότητας στα πλαίσια της σχολική ζωής (Michelli, 2005).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ιλογή του μαθητή να εκφράσει αυτό που επιθυμεί με τον τρόπο που επιθυμεί και με τις δυνάμεις που διαθέτει αποτελούν χαρακτηριστικά στοιχεία ελευθερίας, δημοκρατίας, αυτοπραγμάτωσης στον χώρο του σχολείου. </a:t>
            </a:r>
            <a:br>
              <a:rPr sz="2800"/>
            </a:br>
            <a:r>
              <a:rPr b="0" lang="el-GR" sz="2800" spc="-1" strike="noStrike">
                <a:solidFill>
                  <a:srgbClr val="000000"/>
                </a:solidFill>
                <a:latin typeface="Times New Roman"/>
              </a:rPr>
              <a:t>Η ελευθερία κάθε παιδιού στις επιλογές αυτές περιορίζεται μόνο από τη συνετή χρήση τους και από το σεβασμό προς την αξιοπρέπεια, τις ανάγκες και τις παρόμοιες επιλογές των άλλων παιδιών.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24000" y="1125360"/>
            <a:ext cx="8569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ριμένα, οι νεοδιόριστοι εκπαιδευτικοί, επικαλούμενοι την έλλειψη εμπειρίας,</a:t>
            </a:r>
            <a:br>
              <a:rPr sz="2800"/>
            </a:br>
            <a:r>
              <a:rPr b="0" lang="el-GR" sz="2800" spc="-1" strike="noStrike">
                <a:solidFill>
                  <a:srgbClr val="000000"/>
                </a:solidFill>
                <a:latin typeface="Times New Roman"/>
              </a:rPr>
              <a:t>παρουσιάζονται χωρίς αυτοπεποίθηση για να διδάξουν μαθητές αμεα, γεγονός που επηρεάζει αρνητικά τις προθέσεις και τη συμπεριφορά τους απέναντι στους</a:t>
            </a:r>
            <a:br>
              <a:rPr sz="2800"/>
            </a:br>
            <a:r>
              <a:rPr b="0" lang="el-GR" sz="2800" spc="-1" strike="noStrike">
                <a:solidFill>
                  <a:srgbClr val="000000"/>
                </a:solidFill>
                <a:latin typeface="Times New Roman"/>
              </a:rPr>
              <a:t> μαθητές  και είναι απρόθυμοι να</a:t>
            </a:r>
            <a:br>
              <a:rPr sz="2800"/>
            </a:br>
            <a:r>
              <a:rPr b="0" lang="el-GR" sz="2800" spc="-1" strike="noStrike">
                <a:solidFill>
                  <a:srgbClr val="000000"/>
                </a:solidFill>
                <a:latin typeface="Times New Roman"/>
              </a:rPr>
              <a:t>εμπλακούν σε παρεμβάσεις συνύπαρξης παιδιών.</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φροντίζει για την από κοινού δημιουργία  των κανόνων της τάξης, ενός κλίματος ασφάλειας, αγάπης, αποδοχής για όλα τα παιδιά μέσα στο οποίο τα ίδια θα μπορούν να εκφράζονται χωρίς τον φόβο  της απόρριψης από την εκπαιδευτικό ή </a:t>
            </a:r>
            <a:br>
              <a:rPr sz="2800"/>
            </a:br>
            <a:r>
              <a:rPr b="0" lang="el-GR" sz="2800" spc="-1" strike="noStrike">
                <a:solidFill>
                  <a:srgbClr val="000000"/>
                </a:solidFill>
                <a:latin typeface="Times New Roman"/>
              </a:rPr>
              <a:t>από την υπόλοιπη σχολική ομάδα </a:t>
            </a:r>
            <a:br>
              <a:rPr sz="2800"/>
            </a:br>
            <a:r>
              <a:rPr b="0" lang="el-GR" sz="2800" spc="-1" strike="noStrike">
                <a:solidFill>
                  <a:srgbClr val="000000"/>
                </a:solidFill>
                <a:latin typeface="Times New Roman"/>
              </a:rPr>
              <a:t>(Ματσαγγούρας, 2000).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λεύθερη διατύπωση από τους μαθητές των απόψεών τους, των συναισθημάτων τους, των βιωμάτων τους σε συνδυασμό με τη δυνατότητά τους να επιλέγουν ελεύθερα (με σεβασμό προς τους άλλους) τις μορφές (λεκτική, σωματική, δραματική, εικαστική, μουσική) και τα υλικά με τα οποία θα εκφραστούν αποτελεί βασικό στοιχείο ενός παιδαγωγικού κλίματος ελευθερίας και δημοκρατίας</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οδηγεί τους μαθητές της σχολικής τάξης στη σταδιακή διαμόρφωση της έννοιας της κοινότητας. Προσπαθεί, δηλαδή, να οδηγήσει τη μεταμόρφωση της σχολικής τάξης από σύνολο ατόμων σε κοινότητα προσώπων βοηθώντας τους μαθητές να επιλέγουν και να υιοθετούν κοινούς σκοπούς και να εργάζονται για την επίτευξή τους, και να προσφέρει ευκαιρίες ισότιμης συμμετοχής στην αντιμετώπιση προβλημάτων που αναδύονται στην ομάδα (Ματσαγγούρας, 2000). </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καλούνται σταδιακά να κατανοήσουν ότι αποτελούν μέλη ομάδων  με τις οποίες  μοιράζονται τους κοινούς στόχους. Είναι ιδιαίτερα αποτελεσματικό να δίνουμε τη δυνατότητα στους μαθητές να αποτελούν μέλη και μικρότερων ομάδων και όχι μόνο της μεγάλης ομάδας της τάξης, καθώς το συναίσθημα του ανήκειν διαμορφώνεται σταδιακά κατά την υπέρβαση του εγωκεντρισμού (Cole &amp; Cole, 2002). </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σε αυτή την περίπτωση, με παιδαγωγικό τακτ και ευασθησία  προτείνει στα παιδιά τη συμπερίληψη και άλλων στην ομάδα τους ή και την εναλλαγή των προσώπων που συγκροτούν τις διάφορες αυτοσχηματιζόμενες ομάδες (Ματσαγγούρας, 2000). </a:t>
            </a: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50920" y="981000"/>
            <a:ext cx="8637480" cy="46436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σχολική τάξη με θετικό παιδαγωγικό κλίμα ο εκπαιδευτικός: </a:t>
            </a:r>
            <a:br>
              <a:rPr sz="2800"/>
            </a:br>
            <a:r>
              <a:rPr b="0" lang="el-GR" sz="2800" spc="-1" strike="noStrike">
                <a:solidFill>
                  <a:srgbClr val="000000"/>
                </a:solidFill>
                <a:latin typeface="Times New Roman"/>
              </a:rPr>
              <a:t>α) αναγνωρίζει και ενισχύει κάθε παιδί για την ατομικότητά του, η οποία αποτελεί ισότιμο στοιχείο της ομάδας, </a:t>
            </a:r>
            <a:br>
              <a:rPr sz="2800"/>
            </a:br>
            <a:r>
              <a:rPr b="0" lang="el-GR" sz="2800" spc="-1" strike="noStrike">
                <a:solidFill>
                  <a:srgbClr val="000000"/>
                </a:solidFill>
                <a:latin typeface="Times New Roman"/>
              </a:rPr>
              <a:t>β) φροντίζει να ανατίθενται σε κάθε παιδί συγκεκριμένες ευθύνες / αρμοδιότητες / καθήκοντα που συμβάλλουν στην επίτευξη του κοινού έργου της ομάδας, </a:t>
            </a:r>
            <a:br>
              <a:rPr sz="2800"/>
            </a:br>
            <a:r>
              <a:rPr b="0" lang="el-GR" sz="2800" spc="-1" strike="noStrike">
                <a:solidFill>
                  <a:srgbClr val="000000"/>
                </a:solidFill>
                <a:latin typeface="Times New Roman"/>
              </a:rPr>
              <a:t>γ) επιβραβεύει και ενισχύει τις πράξεις συνεργασίας. </a:t>
            </a: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539640" y="1233360"/>
            <a:ext cx="8064720" cy="4391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χιουμοριστική  και θετική διάθεση του εκπαιδευτικού μπορεί να αποτελέσει ένα παράγοντα αποφόρτισης έντονων καταστάσεων ή και κρίσεων που δημιουργούνται συχνά στη σχολική τάξη ή να βοηθήσει τα παιδιά να χαλαρώσουν από την έντονη μαθησιακή πίεση που συχνά δέχονται. </a:t>
            </a:r>
            <a:endParaRPr b="0" lang="en-US" sz="2800" spc="-1" strike="noStrike">
              <a:solidFill>
                <a:srgbClr val="000000"/>
              </a:solidFill>
              <a:latin typeface="Times New Roman"/>
            </a:endParaRPr>
          </a:p>
        </p:txBody>
      </p:sp>
      <p:grpSp>
        <p:nvGrpSpPr>
          <p:cNvPr id="1216" name=""/>
          <p:cNvGrpSpPr/>
          <p:nvPr/>
        </p:nvGrpSpPr>
        <p:grpSpPr>
          <a:xfrm>
            <a:off x="0" y="115920"/>
            <a:ext cx="9140760" cy="6548400"/>
            <a:chOff x="0" y="115920"/>
            <a:chExt cx="9140760" cy="6548400"/>
          </a:xfrm>
        </p:grpSpPr>
        <p:grpSp>
          <p:nvGrpSpPr>
            <p:cNvPr id="1217" name=""/>
            <p:cNvGrpSpPr/>
            <p:nvPr/>
          </p:nvGrpSpPr>
          <p:grpSpPr>
            <a:xfrm>
              <a:off x="0" y="115920"/>
              <a:ext cx="9140760" cy="6548400"/>
              <a:chOff x="0" y="115920"/>
              <a:chExt cx="9140760" cy="6548400"/>
            </a:xfrm>
          </p:grpSpPr>
          <p:sp>
            <p:nvSpPr>
              <p:cNvPr id="1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3"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λειτουργεί ως πρότυπο δημοκρατικού ανθρώπου και πολίτη για τους μαθητές της τάξης του. Σέβεται κάθε μαθητή, ενθαρρύνει προς την ανάπτυξη του αλληλοσεβασμού, ακούει τις απόψεις των μαθητών, τους δίνει τη δυνατότητα να συμμετέχουν στη διαμόρφωση βασικών στοιχείων της σχολικής ζωής.</a:t>
            </a:r>
            <a:endParaRPr b="0" lang="en-US" sz="2800" spc="-1" strike="noStrike">
              <a:solidFill>
                <a:srgbClr val="000000"/>
              </a:solidFill>
              <a:latin typeface="Times New Roman"/>
            </a:endParaRPr>
          </a:p>
        </p:txBody>
      </p:sp>
      <p:grpSp>
        <p:nvGrpSpPr>
          <p:cNvPr id="1225" name=""/>
          <p:cNvGrpSpPr/>
          <p:nvPr/>
        </p:nvGrpSpPr>
        <p:grpSpPr>
          <a:xfrm>
            <a:off x="0" y="115920"/>
            <a:ext cx="9140760" cy="6548400"/>
            <a:chOff x="0" y="115920"/>
            <a:chExt cx="9140760" cy="6548400"/>
          </a:xfrm>
        </p:grpSpPr>
        <p:grpSp>
          <p:nvGrpSpPr>
            <p:cNvPr id="1226" name=""/>
            <p:cNvGrpSpPr/>
            <p:nvPr/>
          </p:nvGrpSpPr>
          <p:grpSpPr>
            <a:xfrm>
              <a:off x="0" y="115920"/>
              <a:ext cx="9140760" cy="6548400"/>
              <a:chOff x="0" y="115920"/>
              <a:chExt cx="9140760" cy="6548400"/>
            </a:xfrm>
          </p:grpSpPr>
          <p:sp>
            <p:nvSpPr>
              <p:cNvPr id="1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2"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φαρμογή από τον εκπαιδευτικό του δημοκρατικού/συμμετοχικού στυλ διοίκησης και οργάνωσης της τάξης έναντι του αυταρχικού και του ελευθεριάζοντος/επιτρεπτικού στυλ αποτελεί τον πιο σταθερό και αποτελεσματικό παράγοντα ανάπτυξης δημοκρατικής συμπεριφοράς από τα παιδιά (Ματσαγγούρας, 2003). </a:t>
            </a:r>
            <a:endParaRPr b="0" lang="en-US" sz="2800" spc="-1" strike="noStrike">
              <a:solidFill>
                <a:srgbClr val="000000"/>
              </a:solidFill>
              <a:latin typeface="Times New Roman"/>
            </a:endParaRPr>
          </a:p>
        </p:txBody>
      </p:sp>
      <p:grpSp>
        <p:nvGrpSpPr>
          <p:cNvPr id="1234" name=""/>
          <p:cNvGrpSpPr/>
          <p:nvPr/>
        </p:nvGrpSpPr>
        <p:grpSpPr>
          <a:xfrm>
            <a:off x="0" y="115920"/>
            <a:ext cx="9140760" cy="6548400"/>
            <a:chOff x="0" y="115920"/>
            <a:chExt cx="9140760" cy="6548400"/>
          </a:xfrm>
        </p:grpSpPr>
        <p:grpSp>
          <p:nvGrpSpPr>
            <p:cNvPr id="1235" name=""/>
            <p:cNvGrpSpPr/>
            <p:nvPr/>
          </p:nvGrpSpPr>
          <p:grpSpPr>
            <a:xfrm>
              <a:off x="0" y="115920"/>
              <a:ext cx="9140760" cy="6548400"/>
              <a:chOff x="0" y="115920"/>
              <a:chExt cx="9140760" cy="6548400"/>
            </a:xfrm>
          </p:grpSpPr>
          <p:sp>
            <p:nvSpPr>
              <p:cNvPr id="1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1"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ραπάνω ενέργειες του εκπαιδευτικού οδηγούν στη διαμόρφωση δημοκρατικού παιδαγωγικού κλίματος στο σχολείο. Άλλωστε, θα ήταν αντιφατικό να διδάσκονται στοιχεία για το δημοκρατικό πολίτευμα όταν το παιδαγωγικό κλίμα, το στυλ διοίκησης και διαχείρισης της τάξης, δεν είναι δημοκρατικό αλλά αυταρχικό ή αδιάφορο. </a:t>
            </a:r>
            <a:endParaRPr b="0" lang="en-US" sz="2800" spc="-1" strike="noStrike">
              <a:solidFill>
                <a:srgbClr val="000000"/>
              </a:solidFill>
              <a:latin typeface="Times New Roman"/>
            </a:endParaRPr>
          </a:p>
        </p:txBody>
      </p:sp>
      <p:grpSp>
        <p:nvGrpSpPr>
          <p:cNvPr id="1243" name=""/>
          <p:cNvGrpSpPr/>
          <p:nvPr/>
        </p:nvGrpSpPr>
        <p:grpSpPr>
          <a:xfrm>
            <a:off x="0" y="115920"/>
            <a:ext cx="9140760" cy="6548400"/>
            <a:chOff x="0" y="115920"/>
            <a:chExt cx="9140760" cy="6548400"/>
          </a:xfrm>
        </p:grpSpPr>
        <p:grpSp>
          <p:nvGrpSpPr>
            <p:cNvPr id="1244" name=""/>
            <p:cNvGrpSpPr/>
            <p:nvPr/>
          </p:nvGrpSpPr>
          <p:grpSpPr>
            <a:xfrm>
              <a:off x="0" y="115920"/>
              <a:ext cx="9140760" cy="6548400"/>
              <a:chOff x="0" y="115920"/>
              <a:chExt cx="9140760" cy="6548400"/>
            </a:xfrm>
          </p:grpSpPr>
          <p:sp>
            <p:nvSpPr>
              <p:cNvPr id="1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0"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οι εκπαιδευτικοί με αρκετά χρόνια εμπειρίας παρουσιάζονται εξίσου δύσπιστοι, σε σύγκριση με συναδέλφους τους με λιγότερα χρόνια προϋπηρεσίας, αναφορικά με την εκπαίδευση μαθητών με ειδικές εκπαιδευτικές ανάγκες στο γενικό σχολείο.</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 Ρόλος του εκπαιδευτικού της παράλληλης στήρι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ι ρόλοι μεταξύ των δύο εκπαιδευτικών του εκπαιδευτικού της τάξης και του εκπαιδευτικού της παράλληλης στήριξης και τα μεταξύ τους όρια ενέχουν δυσκολίες για αυτό και οι μεταξύ τους αρμοδιότητες πρέπει να είναι διαχωρισμένες, διακριτές και πλήρως κατανοητές και από τους δύο.</a:t>
            </a:r>
            <a:endParaRPr b="0" lang="en-US" sz="2800" spc="-1" strike="noStrike">
              <a:solidFill>
                <a:srgbClr val="000000"/>
              </a:solidFill>
              <a:latin typeface="Times New Roman"/>
            </a:endParaRPr>
          </a:p>
        </p:txBody>
      </p:sp>
      <p:grpSp>
        <p:nvGrpSpPr>
          <p:cNvPr id="1252" name=""/>
          <p:cNvGrpSpPr/>
          <p:nvPr/>
        </p:nvGrpSpPr>
        <p:grpSpPr>
          <a:xfrm>
            <a:off x="0" y="115920"/>
            <a:ext cx="9140760" cy="6548400"/>
            <a:chOff x="0" y="115920"/>
            <a:chExt cx="9140760" cy="6548400"/>
          </a:xfrm>
        </p:grpSpPr>
        <p:grpSp>
          <p:nvGrpSpPr>
            <p:cNvPr id="1253" name=""/>
            <p:cNvGrpSpPr/>
            <p:nvPr/>
          </p:nvGrpSpPr>
          <p:grpSpPr>
            <a:xfrm>
              <a:off x="0" y="115920"/>
              <a:ext cx="9140760" cy="6548400"/>
              <a:chOff x="0" y="115920"/>
              <a:chExt cx="9140760" cy="6548400"/>
            </a:xfrm>
          </p:grpSpPr>
          <p:sp>
            <p:nvSpPr>
              <p:cNvPr id="1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μεταξύ τους συνεργασία όντας συνεργατική και όχι συμπληρωματική η μία της άλλης θα βοηθήσει στην αντιμετώπιση τυχόν προβλημάτων και δυσκολιών και συνεργαζόμενοι μεταξύ τους θα συντελέσουν στην αποτελεσματική μάθηση (Clery, 2004) . </a:t>
            </a:r>
            <a:endParaRPr b="0" lang="en-US" sz="2800" spc="-1" strike="noStrike">
              <a:solidFill>
                <a:srgbClr val="000000"/>
              </a:solidFill>
              <a:latin typeface="Times New Roman"/>
            </a:endParaRPr>
          </a:p>
        </p:txBody>
      </p:sp>
      <p:grpSp>
        <p:nvGrpSpPr>
          <p:cNvPr id="1261" name=""/>
          <p:cNvGrpSpPr/>
          <p:nvPr/>
        </p:nvGrpSpPr>
        <p:grpSpPr>
          <a:xfrm>
            <a:off x="0" y="115920"/>
            <a:ext cx="9140760" cy="6548400"/>
            <a:chOff x="0" y="115920"/>
            <a:chExt cx="9140760" cy="6548400"/>
          </a:xfrm>
        </p:grpSpPr>
        <p:grpSp>
          <p:nvGrpSpPr>
            <p:cNvPr id="1262" name=""/>
            <p:cNvGrpSpPr/>
            <p:nvPr/>
          </p:nvGrpSpPr>
          <p:grpSpPr>
            <a:xfrm>
              <a:off x="0" y="115920"/>
              <a:ext cx="9140760" cy="6548400"/>
              <a:chOff x="0" y="115920"/>
              <a:chExt cx="9140760" cy="6548400"/>
            </a:xfrm>
          </p:grpSpPr>
          <p:sp>
            <p:nvSpPr>
              <p:cNvPr id="1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8"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εκπαιδευτικού της παράλληλης στήριξης είναι να στηρίζει όλους τους μαθητές αμεα στην επίτευξη βραχυπρόθεσμων και μακροπρόθεσμων εκπαιδευτικών στόχων. </a:t>
            </a:r>
            <a:br>
              <a:rPr sz="2800"/>
            </a:br>
            <a:r>
              <a:rPr b="0" lang="el-GR" sz="2800" spc="-1" strike="noStrike">
                <a:solidFill>
                  <a:srgbClr val="000000"/>
                </a:solidFill>
                <a:latin typeface="Times New Roman"/>
              </a:rPr>
              <a:t>Χρειάζεται να γίνει κατανοητό ότι οι μαθητές με ειδικές εκπαιδευτικές ικανότητες δεν χρήζουν ιδιαίτερης μεταχείρισης αλλά και ούτε αποτελούν αποκλειστική αρμοδιότητα του εκπαιδευτικού της παράλληλης στήριξης. </a:t>
            </a:r>
            <a:endParaRPr b="0" lang="en-US" sz="2800" spc="-1" strike="noStrike">
              <a:solidFill>
                <a:srgbClr val="000000"/>
              </a:solidFill>
              <a:latin typeface="Times New Roman"/>
            </a:endParaRPr>
          </a:p>
        </p:txBody>
      </p:sp>
      <p:grpSp>
        <p:nvGrpSpPr>
          <p:cNvPr id="1270" name=""/>
          <p:cNvGrpSpPr/>
          <p:nvPr/>
        </p:nvGrpSpPr>
        <p:grpSpPr>
          <a:xfrm>
            <a:off x="0" y="115920"/>
            <a:ext cx="9140760" cy="6548400"/>
            <a:chOff x="0" y="115920"/>
            <a:chExt cx="9140760" cy="6548400"/>
          </a:xfrm>
        </p:grpSpPr>
        <p:grpSp>
          <p:nvGrpSpPr>
            <p:cNvPr id="1271" name=""/>
            <p:cNvGrpSpPr/>
            <p:nvPr/>
          </p:nvGrpSpPr>
          <p:grpSpPr>
            <a:xfrm>
              <a:off x="0" y="115920"/>
              <a:ext cx="9140760" cy="6548400"/>
              <a:chOff x="0" y="115920"/>
              <a:chExt cx="9140760" cy="6548400"/>
            </a:xfrm>
          </p:grpSpPr>
          <p:sp>
            <p:nvSpPr>
              <p:cNvPr id="127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7" name=""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ο εκπαιδευτικός της τάξης είναι αυτός που έχει την ευθύνη όλων των μαθητών συμπεριλαμβανομένων και αυτών με ειδικές εκπαιδευτικές ανάγκες </a:t>
            </a:r>
            <a:endParaRPr b="0" lang="en-US" sz="2800" spc="-1" strike="noStrike">
              <a:solidFill>
                <a:srgbClr val="000000"/>
              </a:solidFill>
              <a:latin typeface="Times New Roman"/>
            </a:endParaRPr>
          </a:p>
        </p:txBody>
      </p:sp>
      <p:grpSp>
        <p:nvGrpSpPr>
          <p:cNvPr id="1279" name=""/>
          <p:cNvGrpSpPr/>
          <p:nvPr/>
        </p:nvGrpSpPr>
        <p:grpSpPr>
          <a:xfrm>
            <a:off x="0" y="115920"/>
            <a:ext cx="9140760" cy="6548400"/>
            <a:chOff x="0" y="115920"/>
            <a:chExt cx="9140760" cy="6548400"/>
          </a:xfrm>
        </p:grpSpPr>
        <p:grpSp>
          <p:nvGrpSpPr>
            <p:cNvPr id="1280" name=""/>
            <p:cNvGrpSpPr/>
            <p:nvPr/>
          </p:nvGrpSpPr>
          <p:grpSpPr>
            <a:xfrm>
              <a:off x="0" y="115920"/>
              <a:ext cx="9140760" cy="6548400"/>
              <a:chOff x="0" y="115920"/>
              <a:chExt cx="9140760" cy="6548400"/>
            </a:xfrm>
          </p:grpSpPr>
          <p:sp>
            <p:nvSpPr>
              <p:cNvPr id="128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6" name=""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της παράλληλης στήριξης λειτουργεί υποστηρικτικά προς τον εκπαιδευτικό της τάξης, τον στηρίζει, τον συμβουλεύει και τον βοηθά προκειμένου να επιτευχθεί η ένταξη (Porter &amp;Stone, 1998). </a:t>
            </a:r>
            <a:endParaRPr b="0" lang="en-US" sz="2800" spc="-1" strike="noStrike">
              <a:solidFill>
                <a:srgbClr val="000000"/>
              </a:solidFill>
              <a:latin typeface="Times New Roman"/>
            </a:endParaRPr>
          </a:p>
        </p:txBody>
      </p:sp>
      <p:grpSp>
        <p:nvGrpSpPr>
          <p:cNvPr id="1288" name=""/>
          <p:cNvGrpSpPr/>
          <p:nvPr/>
        </p:nvGrpSpPr>
        <p:grpSpPr>
          <a:xfrm>
            <a:off x="0" y="115920"/>
            <a:ext cx="9140760" cy="6548400"/>
            <a:chOff x="0" y="115920"/>
            <a:chExt cx="9140760" cy="6548400"/>
          </a:xfrm>
        </p:grpSpPr>
        <p:grpSp>
          <p:nvGrpSpPr>
            <p:cNvPr id="1289" name=""/>
            <p:cNvGrpSpPr/>
            <p:nvPr/>
          </p:nvGrpSpPr>
          <p:grpSpPr>
            <a:xfrm>
              <a:off x="0" y="115920"/>
              <a:ext cx="9140760" cy="6548400"/>
              <a:chOff x="0" y="115920"/>
              <a:chExt cx="9140760" cy="6548400"/>
            </a:xfrm>
          </p:grpSpPr>
          <p:sp>
            <p:nvSpPr>
              <p:cNvPr id="129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5" name=""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φυσικά δεν σημαίνει ότι έχει ρόλο βοηθού, αντίθετα είναι απόλυτα ισότιμος με τον εκπαιδευτικό της τάξης συμμετέχοντας ενεργά στη διαμόρφωση του μαθησιακού περιεχομένου, στη διαφοροποίηση του, στους στόχους που χρειάζεται να τεθούν καθώς και στην αξιολόγησή αυτών αλλά και ολόκληρης της εκπαιδευτικής διαδικασίας (Rose, 2004). </a:t>
            </a:r>
            <a:endParaRPr b="0" lang="en-US" sz="2800" spc="-1" strike="noStrike">
              <a:solidFill>
                <a:srgbClr val="000000"/>
              </a:solidFill>
              <a:latin typeface="Times New Roman"/>
            </a:endParaRPr>
          </a:p>
        </p:txBody>
      </p:sp>
      <p:grpSp>
        <p:nvGrpSpPr>
          <p:cNvPr id="1297" name=""/>
          <p:cNvGrpSpPr/>
          <p:nvPr/>
        </p:nvGrpSpPr>
        <p:grpSpPr>
          <a:xfrm>
            <a:off x="0" y="115920"/>
            <a:ext cx="9140760" cy="6548400"/>
            <a:chOff x="0" y="115920"/>
            <a:chExt cx="9140760" cy="6548400"/>
          </a:xfrm>
        </p:grpSpPr>
        <p:grpSp>
          <p:nvGrpSpPr>
            <p:cNvPr id="1298" name=""/>
            <p:cNvGrpSpPr/>
            <p:nvPr/>
          </p:nvGrpSpPr>
          <p:grpSpPr>
            <a:xfrm>
              <a:off x="0" y="115920"/>
              <a:ext cx="9140760" cy="6548400"/>
              <a:chOff x="0" y="115920"/>
              <a:chExt cx="9140760" cy="6548400"/>
            </a:xfrm>
          </p:grpSpPr>
          <p:sp>
            <p:nvSpPr>
              <p:cNvPr id="129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4" name=""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νδεχόμενες συγκρούσεις στα πλαίσια του επαγγελματισμού τους διαχειρίζονται και με την αποκλειστική ευθύνη τους επιλύονται.</a:t>
            </a:r>
            <a:br>
              <a:rPr sz="2800"/>
            </a:br>
            <a:r>
              <a:rPr b="0" lang="el-GR" sz="2800" spc="-1" strike="noStrike">
                <a:solidFill>
                  <a:srgbClr val="000000"/>
                </a:solidFill>
                <a:latin typeface="Times New Roman"/>
              </a:rPr>
              <a:t> Είναι σημαντικό όμως να δρουν προληπτικά και να αντιμετωπίσουν ενδεχόμενη περιθωριοποίηση των μαθητών με ειδικές εκπαιδευτικές ανάγκες </a:t>
            </a:r>
            <a:br>
              <a:rPr sz="2800"/>
            </a:br>
            <a:r>
              <a:rPr b="0" lang="el-GR" sz="2800" spc="-1" strike="noStrike">
                <a:solidFill>
                  <a:srgbClr val="000000"/>
                </a:solidFill>
                <a:latin typeface="Times New Roman"/>
              </a:rPr>
              <a:t>(Ζώνιου-Σιδέρη, 2004). </a:t>
            </a:r>
            <a:endParaRPr b="0" lang="en-US" sz="2800" spc="-1" strike="noStrike">
              <a:solidFill>
                <a:srgbClr val="000000"/>
              </a:solidFill>
              <a:latin typeface="Times New Roman"/>
            </a:endParaRPr>
          </a:p>
        </p:txBody>
      </p:sp>
      <p:grpSp>
        <p:nvGrpSpPr>
          <p:cNvPr id="1306" name=""/>
          <p:cNvGrpSpPr/>
          <p:nvPr/>
        </p:nvGrpSpPr>
        <p:grpSpPr>
          <a:xfrm>
            <a:off x="0" y="115920"/>
            <a:ext cx="9140760" cy="6548400"/>
            <a:chOff x="0" y="115920"/>
            <a:chExt cx="9140760" cy="6548400"/>
          </a:xfrm>
        </p:grpSpPr>
        <p:grpSp>
          <p:nvGrpSpPr>
            <p:cNvPr id="1307" name=""/>
            <p:cNvGrpSpPr/>
            <p:nvPr/>
          </p:nvGrpSpPr>
          <p:grpSpPr>
            <a:xfrm>
              <a:off x="0" y="115920"/>
              <a:ext cx="9140760" cy="6548400"/>
              <a:chOff x="0" y="115920"/>
              <a:chExt cx="9140760" cy="6548400"/>
            </a:xfrm>
          </p:grpSpPr>
          <p:sp>
            <p:nvSpPr>
              <p:cNvPr id="130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3" name=""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έβαια, η αρμονική συνύπαρξη μαθητών με ειδικές εκπαιδευτικές ανάγκες και μαθητών τυπικής ανάπτυξης προϋποθέτει την αντίστοιχη αναπροσαρμογή των αναλυτικών εκπαιδευτικών προγραμμάτων και τη χρησιμοποίησή του από τους εκπαιδευτικούς της ένταξης ανάλογα με τις εκάστοτε ανάγκες των μαθητών της τάξης. </a:t>
            </a:r>
            <a:endParaRPr b="0" lang="en-US" sz="2800" spc="-1" strike="noStrike">
              <a:solidFill>
                <a:srgbClr val="000000"/>
              </a:solidFill>
              <a:latin typeface="Times New Roman"/>
            </a:endParaRPr>
          </a:p>
        </p:txBody>
      </p:sp>
      <p:grpSp>
        <p:nvGrpSpPr>
          <p:cNvPr id="1315" name=""/>
          <p:cNvGrpSpPr/>
          <p:nvPr/>
        </p:nvGrpSpPr>
        <p:grpSpPr>
          <a:xfrm>
            <a:off x="0" y="115920"/>
            <a:ext cx="9140760" cy="6548400"/>
            <a:chOff x="0" y="115920"/>
            <a:chExt cx="9140760" cy="6548400"/>
          </a:xfrm>
        </p:grpSpPr>
        <p:grpSp>
          <p:nvGrpSpPr>
            <p:cNvPr id="1316" name=""/>
            <p:cNvGrpSpPr/>
            <p:nvPr/>
          </p:nvGrpSpPr>
          <p:grpSpPr>
            <a:xfrm>
              <a:off x="0" y="115920"/>
              <a:ext cx="9140760" cy="6548400"/>
              <a:chOff x="0" y="115920"/>
              <a:chExt cx="9140760" cy="6548400"/>
            </a:xfrm>
          </p:grpSpPr>
          <p:sp>
            <p:nvSpPr>
              <p:cNvPr id="131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2" name=""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γενικής εκπαίδευσης χρειάζεται </a:t>
            </a:r>
            <a:br>
              <a:rPr sz="2800"/>
            </a:br>
            <a:r>
              <a:rPr b="0" lang="el-GR" sz="2800" spc="-1" strike="noStrike">
                <a:solidFill>
                  <a:srgbClr val="000000"/>
                </a:solidFill>
                <a:latin typeface="Times New Roman"/>
              </a:rPr>
              <a:t>να επιμορφωθούν στις αρχές της ένταξης ενώ της ειδικής Αγωγής στις αρχές της συνεργασίας και της συμβουλευτικής.  Οι δύο  εκπαιδευτικοί είναι απαραίτητο να είναι σε θέση να εφαρμόζουν καινοτόμα διδακτικά σχέδια να τροποποιούν, να μεταβάλλουν και να αναπροσαρμόζουν το υπάρχον αναλυτικό πρόγραμμα σπουδών. </a:t>
            </a:r>
            <a:endParaRPr b="0" lang="en-US" sz="2800" spc="-1" strike="noStrike">
              <a:solidFill>
                <a:srgbClr val="000000"/>
              </a:solidFill>
              <a:latin typeface="Times New Roman"/>
            </a:endParaRPr>
          </a:p>
        </p:txBody>
      </p:sp>
      <p:grpSp>
        <p:nvGrpSpPr>
          <p:cNvPr id="1324" name=""/>
          <p:cNvGrpSpPr/>
          <p:nvPr/>
        </p:nvGrpSpPr>
        <p:grpSpPr>
          <a:xfrm>
            <a:off x="0" y="115920"/>
            <a:ext cx="9140760" cy="6548400"/>
            <a:chOff x="0" y="115920"/>
            <a:chExt cx="9140760" cy="6548400"/>
          </a:xfrm>
        </p:grpSpPr>
        <p:grpSp>
          <p:nvGrpSpPr>
            <p:cNvPr id="1325" name=""/>
            <p:cNvGrpSpPr/>
            <p:nvPr/>
          </p:nvGrpSpPr>
          <p:grpSpPr>
            <a:xfrm>
              <a:off x="0" y="115920"/>
              <a:ext cx="9140760" cy="6548400"/>
              <a:chOff x="0" y="115920"/>
              <a:chExt cx="9140760" cy="6548400"/>
            </a:xfrm>
          </p:grpSpPr>
          <p:sp>
            <p:nvSpPr>
              <p:cNvPr id="132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1" name=""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ρώντας  οι δύο εκπαιδευτικοί παράλληλα και συνεργατικά  λαμβάνοντας υπόψη τις ικανότητες, τις αδυναμίες αλλά και τις επιθυμίες των μαθητών τους μπορούν να διαμορφώσουν από κοινού τη μαθησιακή διαδικασία κατανέμοντας όπου χρειάζεται στους μαθητές με ειδικές εκπαιδευτικές ανάγκες περισσότερο χρόνο (IECP, 2003). </a:t>
            </a:r>
            <a:endParaRPr b="0" lang="en-US" sz="2800" spc="-1" strike="noStrike">
              <a:solidFill>
                <a:srgbClr val="000000"/>
              </a:solidFill>
              <a:latin typeface="Times New Roman"/>
            </a:endParaRPr>
          </a:p>
        </p:txBody>
      </p:sp>
      <p:grpSp>
        <p:nvGrpSpPr>
          <p:cNvPr id="1333" name=""/>
          <p:cNvGrpSpPr/>
          <p:nvPr/>
        </p:nvGrpSpPr>
        <p:grpSpPr>
          <a:xfrm>
            <a:off x="0" y="115920"/>
            <a:ext cx="9140760" cy="6548400"/>
            <a:chOff x="0" y="115920"/>
            <a:chExt cx="9140760" cy="6548400"/>
          </a:xfrm>
        </p:grpSpPr>
        <p:grpSp>
          <p:nvGrpSpPr>
            <p:cNvPr id="1334" name=""/>
            <p:cNvGrpSpPr/>
            <p:nvPr/>
          </p:nvGrpSpPr>
          <p:grpSpPr>
            <a:xfrm>
              <a:off x="0" y="115920"/>
              <a:ext cx="9140760" cy="6548400"/>
              <a:chOff x="0" y="115920"/>
              <a:chExt cx="9140760" cy="6548400"/>
            </a:xfrm>
          </p:grpSpPr>
          <p:sp>
            <p:nvSpPr>
              <p:cNvPr id="133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0"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197000"/>
            <a:ext cx="856908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τάση αυτή σχετίζεται με την ποιότητα των προηγούμενων εμπειριών με μαθητές αμεα. </a:t>
            </a:r>
            <a:br>
              <a:rPr sz="2800"/>
            </a:br>
            <a:r>
              <a:rPr b="0" lang="el-GR" sz="2800" spc="-1" strike="noStrike">
                <a:solidFill>
                  <a:srgbClr val="000000"/>
                </a:solidFill>
                <a:latin typeface="Times New Roman"/>
              </a:rPr>
              <a:t>Οι εκπαιδευτικοί που έχουν, πριν από την εφαρμογή</a:t>
            </a:r>
            <a:br>
              <a:rPr sz="2800"/>
            </a:br>
            <a:r>
              <a:rPr b="0" lang="el-GR" sz="2800" spc="-1" strike="noStrike">
                <a:solidFill>
                  <a:srgbClr val="000000"/>
                </a:solidFill>
                <a:latin typeface="Times New Roman"/>
              </a:rPr>
              <a:t>προγραμμάτων ένταξης, θετικές εμπειρίες από την συνύπαρξή τους με μαθητές αμεα, είναι θετικοί σε μελλοντική ενεργητική τους συμμετοχή σε παρεμβάσεις που αφορούν μαθητές αμεα.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ο εκπαιδευτικός της παράλληλης στήριξης διαθέτοντας επαγγελματική επάρκεια και χρησιμοποιώντας επικοινωνιακές δεξιότητες,  ωφελεί και βοηθά το σύνολο των μαθητών της τάξης </a:t>
            </a:r>
            <a:br>
              <a:rPr sz="2800"/>
            </a:br>
            <a:r>
              <a:rPr b="0" lang="el-GR" sz="2800" spc="-1" strike="noStrike">
                <a:solidFill>
                  <a:srgbClr val="000000"/>
                </a:solidFill>
                <a:latin typeface="Times New Roman"/>
              </a:rPr>
              <a:t>(York-Bar, 2005). </a:t>
            </a:r>
            <a:endParaRPr b="0" lang="en-US" sz="2800" spc="-1" strike="noStrike">
              <a:solidFill>
                <a:srgbClr val="000000"/>
              </a:solidFill>
              <a:latin typeface="Times New Roman"/>
            </a:endParaRPr>
          </a:p>
        </p:txBody>
      </p:sp>
      <p:grpSp>
        <p:nvGrpSpPr>
          <p:cNvPr id="1342" name=""/>
          <p:cNvGrpSpPr/>
          <p:nvPr/>
        </p:nvGrpSpPr>
        <p:grpSpPr>
          <a:xfrm>
            <a:off x="0" y="115920"/>
            <a:ext cx="9140760" cy="6548400"/>
            <a:chOff x="0" y="115920"/>
            <a:chExt cx="9140760" cy="6548400"/>
          </a:xfrm>
        </p:grpSpPr>
        <p:grpSp>
          <p:nvGrpSpPr>
            <p:cNvPr id="1343" name=""/>
            <p:cNvGrpSpPr/>
            <p:nvPr/>
          </p:nvGrpSpPr>
          <p:grpSpPr>
            <a:xfrm>
              <a:off x="0" y="115920"/>
              <a:ext cx="9140760" cy="6548400"/>
              <a:chOff x="0" y="115920"/>
              <a:chExt cx="9140760" cy="6548400"/>
            </a:xfrm>
          </p:grpSpPr>
          <p:sp>
            <p:nvSpPr>
              <p:cNvPr id="13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9" name=""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κόμη σημαντικός ρόλος του εκπαιδευτικού της παράλληλης στήριξης </a:t>
            </a:r>
            <a:r>
              <a:rPr b="0" i="1" lang="el-GR" sz="2800" spc="-1" strike="noStrike">
                <a:solidFill>
                  <a:srgbClr val="000000"/>
                </a:solidFill>
                <a:latin typeface="Times New Roman"/>
              </a:rPr>
              <a:t>είναι η άμεση επικοινωνία του με συμβουλευτικούς φορείς, ειδικό υποστηρικτικό προσωπικό, ιατρούς, ψυχολόγους, κοινωνικούς λειτουργούς, εργοθεραπευτές, λογοθεραπευτές και φυσιοθεραπευτές </a:t>
            </a:r>
            <a:r>
              <a:rPr b="0" lang="el-GR" sz="2800" spc="-1" strike="noStrike">
                <a:solidFill>
                  <a:srgbClr val="000000"/>
                </a:solidFill>
                <a:latin typeface="Times New Roman"/>
              </a:rPr>
              <a:t>υποστηρίζοντας τους μαθητές τους και πράττοντας τα αναγκαία για την ισότιμη πρόσβαση τους στην κοινωνία (Ζώνιου-Σιδέρη, 2004). </a:t>
            </a:r>
            <a:endParaRPr b="0" lang="en-US" sz="2800" spc="-1" strike="noStrike">
              <a:solidFill>
                <a:srgbClr val="000000"/>
              </a:solidFill>
              <a:latin typeface="Times New Roman"/>
            </a:endParaRPr>
          </a:p>
        </p:txBody>
      </p:sp>
      <p:grpSp>
        <p:nvGrpSpPr>
          <p:cNvPr id="1351" name=""/>
          <p:cNvGrpSpPr/>
          <p:nvPr/>
        </p:nvGrpSpPr>
        <p:grpSpPr>
          <a:xfrm>
            <a:off x="0" y="115920"/>
            <a:ext cx="9140760" cy="6548400"/>
            <a:chOff x="0" y="115920"/>
            <a:chExt cx="9140760" cy="6548400"/>
          </a:xfrm>
        </p:grpSpPr>
        <p:grpSp>
          <p:nvGrpSpPr>
            <p:cNvPr id="1352" name=""/>
            <p:cNvGrpSpPr/>
            <p:nvPr/>
          </p:nvGrpSpPr>
          <p:grpSpPr>
            <a:xfrm>
              <a:off x="0" y="115920"/>
              <a:ext cx="9140760" cy="6548400"/>
              <a:chOff x="0" y="115920"/>
              <a:chExt cx="9140760" cy="6548400"/>
            </a:xfrm>
          </p:grpSpPr>
          <p:sp>
            <p:nvSpPr>
              <p:cNvPr id="135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8" name=""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λο το εκπαιδευτικό προσωπικό επαναπροσδιορίζοντας το ρόλο τους από ατομικό επίπεδο σε συλλογικό καλλιεργώντας και ενισχύοντας την κοινωνική αλληλεπίδραση όλων των μαθητών προωθούν την ουσιαστική ανάπτυξη των σχέσεων μεταξύ των μαθητών μεταξύ τους αλλά και συνέχεια των γονιών τους (IECP, 2003). </a:t>
            </a:r>
            <a:endParaRPr b="0" lang="en-US" sz="2800" spc="-1" strike="noStrike">
              <a:solidFill>
                <a:srgbClr val="000000"/>
              </a:solidFill>
              <a:latin typeface="Times New Roman"/>
            </a:endParaRPr>
          </a:p>
        </p:txBody>
      </p:sp>
      <p:grpSp>
        <p:nvGrpSpPr>
          <p:cNvPr id="1360" name=""/>
          <p:cNvGrpSpPr/>
          <p:nvPr/>
        </p:nvGrpSpPr>
        <p:grpSpPr>
          <a:xfrm>
            <a:off x="0" y="115920"/>
            <a:ext cx="9140760" cy="6548400"/>
            <a:chOff x="0" y="115920"/>
            <a:chExt cx="9140760" cy="6548400"/>
          </a:xfrm>
        </p:grpSpPr>
        <p:grpSp>
          <p:nvGrpSpPr>
            <p:cNvPr id="1361" name=""/>
            <p:cNvGrpSpPr/>
            <p:nvPr/>
          </p:nvGrpSpPr>
          <p:grpSpPr>
            <a:xfrm>
              <a:off x="0" y="115920"/>
              <a:ext cx="9140760" cy="6548400"/>
              <a:chOff x="0" y="115920"/>
              <a:chExt cx="9140760" cy="6548400"/>
            </a:xfrm>
          </p:grpSpPr>
          <p:sp>
            <p:nvSpPr>
              <p:cNvPr id="13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7" name=""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H ανάπτυξη σχέσεων αλληλεπίδρασης μεταξύ των εκπαιδευτικών και των μαθητών δημιουργεί συνθήκες ενίσχυσης της ταυτότητας  της εκπαιδευτικής διαδικασίας (Cummins, 1999). </a:t>
            </a:r>
            <a:br>
              <a:rPr sz="2800"/>
            </a:br>
            <a:r>
              <a:rPr b="0" lang="el-GR" sz="2800" spc="-1" strike="noStrike">
                <a:solidFill>
                  <a:srgbClr val="000000"/>
                </a:solidFill>
                <a:latin typeface="Times New Roman"/>
              </a:rPr>
              <a:t>Με αυτό τον τρόπο θα αποφευχθούν οι κοινωνικές ανισότητες, θα αναπτυχθεί μία όσο το δυνατόν ουδέτερη αλληλεπίδραση αποβάλλοντας τις εξουσιαστικές σχέσεις που η ευρύτερη κοινωνία προβάλλει. </a:t>
            </a:r>
            <a:endParaRPr b="0" lang="en-US" sz="2800" spc="-1" strike="noStrike">
              <a:solidFill>
                <a:srgbClr val="000000"/>
              </a:solidFill>
              <a:latin typeface="Times New Roman"/>
            </a:endParaRPr>
          </a:p>
        </p:txBody>
      </p:sp>
      <p:grpSp>
        <p:nvGrpSpPr>
          <p:cNvPr id="1369" name=""/>
          <p:cNvGrpSpPr/>
          <p:nvPr/>
        </p:nvGrpSpPr>
        <p:grpSpPr>
          <a:xfrm>
            <a:off x="0" y="115920"/>
            <a:ext cx="9140760" cy="6548400"/>
            <a:chOff x="0" y="115920"/>
            <a:chExt cx="9140760" cy="6548400"/>
          </a:xfrm>
        </p:grpSpPr>
        <p:grpSp>
          <p:nvGrpSpPr>
            <p:cNvPr id="1370" name=""/>
            <p:cNvGrpSpPr/>
            <p:nvPr/>
          </p:nvGrpSpPr>
          <p:grpSpPr>
            <a:xfrm>
              <a:off x="0" y="115920"/>
              <a:ext cx="9140760" cy="6548400"/>
              <a:chOff x="0" y="115920"/>
              <a:chExt cx="9140760" cy="6548400"/>
            </a:xfrm>
          </p:grpSpPr>
          <p:sp>
            <p:nvSpPr>
              <p:cNvPr id="13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6" name=""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ένταξη δεν αποτελεί εύκολη διαδικασία για τους εκπαιδευτικούς αλλά στο πλευρό τους σε όλη αυτή την αέναη προσπάθεια όπως έχει αποτυπωθεί σε διάφορες μελέτες βρίσκονται οι μαθητές έχοντας ενεργητικό ρόλο συμμετοχής στην επίλυση προβλημάτων και στη συνεργασία στα πλαίσια της εκπαιδευτικής διαδικασίας. </a:t>
            </a:r>
            <a:endParaRPr b="0" lang="en-US" sz="2800" spc="-1" strike="noStrike">
              <a:solidFill>
                <a:srgbClr val="000000"/>
              </a:solidFill>
              <a:latin typeface="Times New Roman"/>
            </a:endParaRPr>
          </a:p>
        </p:txBody>
      </p:sp>
      <p:grpSp>
        <p:nvGrpSpPr>
          <p:cNvPr id="1378" name=""/>
          <p:cNvGrpSpPr/>
          <p:nvPr/>
        </p:nvGrpSpPr>
        <p:grpSpPr>
          <a:xfrm>
            <a:off x="0" y="115920"/>
            <a:ext cx="9140760" cy="6548400"/>
            <a:chOff x="0" y="115920"/>
            <a:chExt cx="9140760" cy="6548400"/>
          </a:xfrm>
        </p:grpSpPr>
        <p:grpSp>
          <p:nvGrpSpPr>
            <p:cNvPr id="1379" name=""/>
            <p:cNvGrpSpPr/>
            <p:nvPr/>
          </p:nvGrpSpPr>
          <p:grpSpPr>
            <a:xfrm>
              <a:off x="0" y="115920"/>
              <a:ext cx="9140760" cy="6548400"/>
              <a:chOff x="0" y="115920"/>
              <a:chExt cx="9140760" cy="6548400"/>
            </a:xfrm>
          </p:grpSpPr>
          <p:sp>
            <p:nvSpPr>
              <p:cNvPr id="13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5" name=""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όπως αποτυπώθηκε από τον King-Sears (1997) οι μαθητές προσαρμόζονται ευκολότερα σε σχέση με τους εκπαιδευτικούς όταν οι συνθήκες το απαιτούν αναπτύσσοντας δημιουργικές στρατηγικές. </a:t>
            </a:r>
            <a:br>
              <a:rPr sz="2800"/>
            </a:br>
            <a:r>
              <a:rPr b="0" lang="el-GR" sz="2800" spc="-1" strike="noStrike">
                <a:solidFill>
                  <a:srgbClr val="000000"/>
                </a:solidFill>
                <a:latin typeface="Times New Roman"/>
              </a:rPr>
              <a:t>Ο δρόμος για την ένταξη χρειάζεται τη συνεργασία όλων των εμπλεκόμενων φορέων γιατί η μάθηση δε προκαθορίζεται, ούτε έχει τέλος αντίθετα κινείται συνεχώς και εξελίσσεται (Allan, 2006). </a:t>
            </a:r>
            <a:endParaRPr b="0" lang="en-US" sz="2800" spc="-1" strike="noStrike">
              <a:solidFill>
                <a:srgbClr val="000000"/>
              </a:solidFill>
              <a:latin typeface="Times New Roman"/>
            </a:endParaRPr>
          </a:p>
        </p:txBody>
      </p:sp>
      <p:grpSp>
        <p:nvGrpSpPr>
          <p:cNvPr id="1387" name=""/>
          <p:cNvGrpSpPr/>
          <p:nvPr/>
        </p:nvGrpSpPr>
        <p:grpSpPr>
          <a:xfrm>
            <a:off x="0" y="115920"/>
            <a:ext cx="9140760" cy="6548400"/>
            <a:chOff x="0" y="115920"/>
            <a:chExt cx="9140760" cy="6548400"/>
          </a:xfrm>
        </p:grpSpPr>
        <p:grpSp>
          <p:nvGrpSpPr>
            <p:cNvPr id="1388" name=""/>
            <p:cNvGrpSpPr/>
            <p:nvPr/>
          </p:nvGrpSpPr>
          <p:grpSpPr>
            <a:xfrm>
              <a:off x="0" y="115920"/>
              <a:ext cx="9140760" cy="6548400"/>
              <a:chOff x="0" y="115920"/>
              <a:chExt cx="9140760" cy="6548400"/>
            </a:xfrm>
          </p:grpSpPr>
          <p:sp>
            <p:nvSpPr>
              <p:cNvPr id="13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οκειμένου να προαχθεί στο μέγιστο δυνατό βαθμό ο θεσμός της σχολικής ένταξης η παροχή επιμόρφωσης στους εκπαιδευτικούς τόσο γενικής αγωγής όσο και στους αντίστοιχους των τμημάτων ένταξης είναι απαραίτητη για την υποστήριξή τους εντός και εκτός του εκπαιδευτικού πλαισίου. </a:t>
            </a:r>
            <a:br>
              <a:rPr sz="2800"/>
            </a:br>
            <a:endParaRPr b="0" lang="en-US" sz="2800" spc="-1" strike="noStrike">
              <a:solidFill>
                <a:srgbClr val="000000"/>
              </a:solidFill>
              <a:latin typeface="Times New Roman"/>
            </a:endParaRPr>
          </a:p>
        </p:txBody>
      </p:sp>
      <p:grpSp>
        <p:nvGrpSpPr>
          <p:cNvPr id="1396" name=""/>
          <p:cNvGrpSpPr/>
          <p:nvPr/>
        </p:nvGrpSpPr>
        <p:grpSpPr>
          <a:xfrm>
            <a:off x="0" y="115920"/>
            <a:ext cx="9140760" cy="6548400"/>
            <a:chOff x="0" y="115920"/>
            <a:chExt cx="9140760" cy="6548400"/>
          </a:xfrm>
        </p:grpSpPr>
        <p:grpSp>
          <p:nvGrpSpPr>
            <p:cNvPr id="1397" name=""/>
            <p:cNvGrpSpPr/>
            <p:nvPr/>
          </p:nvGrpSpPr>
          <p:grpSpPr>
            <a:xfrm>
              <a:off x="0" y="115920"/>
              <a:ext cx="9140760" cy="6548400"/>
              <a:chOff x="0" y="115920"/>
              <a:chExt cx="9140760" cy="6548400"/>
            </a:xfrm>
          </p:grpSpPr>
          <p:sp>
            <p:nvSpPr>
              <p:cNvPr id="13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3" name=""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ιμόρφωση θα τους βοηθήσει να επανεξετάσουν τις αξίες και τις αρχές της εκπαίδευσης, να μπορέσουν να καταπολεμήσουν προκαταλήψεις, να αποδεχτούν τη διαφορετικότητα και μέσα από την παροχή ίσων ευκαιριών και το σχεδιασμό κατάλληλων αναλυτικών εκπαιδευτικών προγραμμάτων να αλλάξουν τις εργασιακές τους συνθήκες και το ρόλο του σχολείου όντας πλήρως προετοιμασμένοι προς την επίτευξη των ενταξιακών πρακτικών (Ζώνιου-Σιδέρη, 2004). </a:t>
            </a:r>
            <a:endParaRPr b="0" lang="en-US" sz="2800" spc="-1" strike="noStrike">
              <a:solidFill>
                <a:srgbClr val="000000"/>
              </a:solidFill>
              <a:latin typeface="Times New Roman"/>
            </a:endParaRPr>
          </a:p>
        </p:txBody>
      </p:sp>
      <p:grpSp>
        <p:nvGrpSpPr>
          <p:cNvPr id="1405" name=""/>
          <p:cNvGrpSpPr/>
          <p:nvPr/>
        </p:nvGrpSpPr>
        <p:grpSpPr>
          <a:xfrm>
            <a:off x="0" y="115920"/>
            <a:ext cx="9140760" cy="6548400"/>
            <a:chOff x="0" y="115920"/>
            <a:chExt cx="9140760" cy="6548400"/>
          </a:xfrm>
        </p:grpSpPr>
        <p:grpSp>
          <p:nvGrpSpPr>
            <p:cNvPr id="1406" name=""/>
            <p:cNvGrpSpPr/>
            <p:nvPr/>
          </p:nvGrpSpPr>
          <p:grpSpPr>
            <a:xfrm>
              <a:off x="0" y="115920"/>
              <a:ext cx="9140760" cy="6548400"/>
              <a:chOff x="0" y="115920"/>
              <a:chExt cx="9140760" cy="6548400"/>
            </a:xfrm>
          </p:grpSpPr>
          <p:sp>
            <p:nvSpPr>
              <p:cNvPr id="14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3" name=""/>
          <p:cNvGrpSpPr/>
          <p:nvPr/>
        </p:nvGrpSpPr>
        <p:grpSpPr>
          <a:xfrm>
            <a:off x="0" y="115920"/>
            <a:ext cx="9140760" cy="6548400"/>
            <a:chOff x="0" y="115920"/>
            <a:chExt cx="9140760" cy="6548400"/>
          </a:xfrm>
        </p:grpSpPr>
        <p:grpSp>
          <p:nvGrpSpPr>
            <p:cNvPr id="1414" name=""/>
            <p:cNvGrpSpPr/>
            <p:nvPr/>
          </p:nvGrpSpPr>
          <p:grpSpPr>
            <a:xfrm>
              <a:off x="0" y="115920"/>
              <a:ext cx="9140760" cy="6548400"/>
              <a:chOff x="0" y="115920"/>
              <a:chExt cx="9140760" cy="6548400"/>
            </a:xfrm>
          </p:grpSpPr>
          <p:sp>
            <p:nvSpPr>
              <p:cNvPr id="14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0" name="" descr=""/>
          <p:cNvPicPr/>
          <p:nvPr/>
        </p:nvPicPr>
        <p:blipFill>
          <a:blip r:embed="rId3"/>
          <a:stretch/>
        </p:blipFill>
        <p:spPr>
          <a:xfrm>
            <a:off x="250920" y="333360"/>
            <a:ext cx="1417680" cy="879480"/>
          </a:xfrm>
          <a:prstGeom prst="rect">
            <a:avLst/>
          </a:prstGeom>
          <a:ln w="0">
            <a:noFill/>
          </a:ln>
        </p:spPr>
      </p:pic>
      <p:sp>
        <p:nvSpPr>
          <p:cNvPr id="1421" name=""/>
          <p:cNvSpPr/>
          <p:nvPr/>
        </p:nvSpPr>
        <p:spPr>
          <a:xfrm>
            <a:off x="250920" y="1555920"/>
            <a:ext cx="8497800" cy="3970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ρόλος του  εκπαιδευτικού της παράλληλης στήριξης στη σχολική ενσωμάτωση – ένταξη είναι ιδιαίτερα σημαντικός. </a:t>
            </a:r>
            <a:br>
              <a:rPr sz="2800"/>
            </a:br>
            <a:r>
              <a:rPr b="0" lang="el-GR" sz="2800" spc="-1" strike="noStrike">
                <a:solidFill>
                  <a:srgbClr val="000000"/>
                </a:solidFill>
                <a:latin typeface="Times New Roman"/>
                <a:ea typeface="Calibri"/>
              </a:rPr>
              <a:t>Οι </a:t>
            </a:r>
            <a:r>
              <a:rPr b="0" lang="en-US" sz="2800" spc="-1" strike="noStrike">
                <a:solidFill>
                  <a:srgbClr val="000000"/>
                </a:solidFill>
                <a:latin typeface="Times New Roman"/>
                <a:ea typeface="Calibri"/>
              </a:rPr>
              <a:t>Voltz Deborah L</a:t>
            </a:r>
            <a:r>
              <a:rPr b="0" lang="el-GR"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Brazil Nettye</a:t>
            </a:r>
            <a:r>
              <a:rPr b="0" lang="el-GR" sz="2800" spc="-1" strike="noStrike">
                <a:solidFill>
                  <a:srgbClr val="000000"/>
                </a:solidFill>
                <a:latin typeface="Times New Roman"/>
                <a:ea typeface="Calibri"/>
              </a:rPr>
              <a:t> &amp; </a:t>
            </a:r>
            <a:r>
              <a:rPr b="0" lang="en-US" sz="2800" spc="-1" strike="noStrike">
                <a:solidFill>
                  <a:srgbClr val="000000"/>
                </a:solidFill>
                <a:latin typeface="Times New Roman"/>
                <a:ea typeface="Calibri"/>
              </a:rPr>
              <a:t>Ford Alison</a:t>
            </a:r>
            <a:r>
              <a:rPr b="0" lang="el-GR" sz="2800" spc="-1" strike="noStrike">
                <a:solidFill>
                  <a:srgbClr val="000000"/>
                </a:solidFill>
                <a:latin typeface="Times New Roman"/>
                <a:ea typeface="Calibri"/>
              </a:rPr>
              <a:t> (2001), σύμφωνα με έρευνά τους, αναφέρουν πέντε μεταβλητές που αν λειτουργήσουν σωστά, τότε η συμμετοχική εκπαίδευση μπορεί να εξελιχθεί σε δυναμική προοπτική με εκπαιδευτικά και παιδαγωγικά οφέλη για όλους τους μαθητές.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ειδικός παιδαγωγός πρέπει: </a:t>
            </a:r>
            <a:br>
              <a:rPr sz="2800"/>
            </a:br>
            <a:br>
              <a:rPr sz="2800"/>
            </a:br>
            <a:r>
              <a:rPr b="0" lang="el-GR" sz="2800" spc="-1" strike="noStrike">
                <a:solidFill>
                  <a:srgbClr val="000000"/>
                </a:solidFill>
                <a:latin typeface="Times New Roman"/>
                <a:ea typeface="Calibri"/>
              </a:rPr>
              <a:t>Α. </a:t>
            </a:r>
            <a:r>
              <a:rPr b="0" lang="el-GR" sz="2800" spc="-1" strike="noStrike">
                <a:solidFill>
                  <a:srgbClr val="000000"/>
                </a:solidFill>
                <a:latin typeface="Times New Roman"/>
                <a:ea typeface="Calibri"/>
              </a:rPr>
              <a:t>Να ακολουθεί ποικίλες διδακτικές στρατηγικές με στόχο ν’ αναδειχθούν οι ιδιαίτερες ικανότητες και ταλέντα των παιδιών, προσαρμοσμένες πάντα στο μαθησιακό τους επίπεδο, τις ανάγκες και τα ενδιαφέροντά τους.</a:t>
            </a:r>
            <a:br>
              <a:rPr sz="2800"/>
            </a:br>
            <a:endParaRPr b="0" lang="en-US" sz="2800" spc="-1" strike="noStrike">
              <a:solidFill>
                <a:srgbClr val="000000"/>
              </a:solidFill>
              <a:latin typeface="Times New Roman"/>
            </a:endParaRPr>
          </a:p>
        </p:txBody>
      </p:sp>
      <p:grpSp>
        <p:nvGrpSpPr>
          <p:cNvPr id="1423" name=""/>
          <p:cNvGrpSpPr/>
          <p:nvPr/>
        </p:nvGrpSpPr>
        <p:grpSpPr>
          <a:xfrm>
            <a:off x="0" y="115920"/>
            <a:ext cx="9140760" cy="6548400"/>
            <a:chOff x="0" y="115920"/>
            <a:chExt cx="9140760" cy="6548400"/>
          </a:xfrm>
        </p:grpSpPr>
        <p:grpSp>
          <p:nvGrpSpPr>
            <p:cNvPr id="1424" name=""/>
            <p:cNvGrpSpPr/>
            <p:nvPr/>
          </p:nvGrpSpPr>
          <p:grpSpPr>
            <a:xfrm>
              <a:off x="0" y="115920"/>
              <a:ext cx="9140760" cy="6548400"/>
              <a:chOff x="0" y="115920"/>
              <a:chExt cx="9140760" cy="6548400"/>
            </a:xfrm>
          </p:grpSpPr>
          <p:sp>
            <p:nvSpPr>
              <p:cNvPr id="14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9:35Z</dcterms:modified>
  <cp:revision>180</cp:revision>
  <dc:subject/>
  <dc:title>Παρουσίαση του PowerPoint</dc:title>
</cp:coreProperties>
</file>