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F788E-439E-49C0-B60C-AE1D8750D74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C2183-E8C2-4A76-9DAA-68072660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E9E944-4228-46A4-872B-7E43F98A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BD7B6F-F473-462D-AE5D-1978B50A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30444B-1D5E-4554-983E-3C9CF2B2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AB229-30E5-4049-B031-F9A7BB3B5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10F00-9F45-4FFA-8448-1987F472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4EF176-A465-4B66-B79A-20AB0978D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8C297-7238-4E69-9E4F-AE707E74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EE258D-2E9A-4572-835D-9D293A27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178080-1714-46BE-801E-9EEFAE97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4E430C-C27D-43AF-B6A2-796AFB21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0786-AC7F-46C2-83DC-7FD9D9B15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CE22-2F4E-44F4-B0AC-B248AC2A2A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12C2-BAD1-4C3D-A159-5C2DC5EE84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2CF6-832A-4A93-A921-3189431B3E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0162-4530-4BD8-A713-DBED8BE220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F4E5-30C1-40F0-B95D-077E85C1EB8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3713-394E-4B0D-BDF8-7FA4DA34F7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C9B9-9AA7-4642-A03B-1A7FBF0A31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8073-6D84-490A-B923-2CAD295400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E7B7-FD6F-4C56-8D6C-EA5CB4B0CE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1699-FFD0-4BF0-B0E0-5050D71C9E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4CFCB-C032-46DD-8A66-893113B2D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8CE0-2675-4930-A899-2FEE4656F7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CDE5B-2E58-408D-98B6-EF52829A4E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5CDFF-8792-4C9E-9103-B26802D975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899D9-976C-4AF5-A58E-C578E0862A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1DEA1-C22B-4F29-9A3C-99968AD98D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6BC6E-18F2-4FBF-88A6-5E0767F02B7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87EC5-7F4A-4C7D-91B3-F99591FD66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D1736-3534-47AE-BDBC-39F2048C9F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88629-49B6-4B66-B490-68ECB81607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B6EA1-01AB-40D7-AEBA-EFFFA7273B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AD770-0CD5-4083-99B9-2715E8B8D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CDF5-3B9B-4A98-9B7B-D9BF930A2D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BC5EE-CCAB-4B06-94C2-DDCFDF91D1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2DFDA-AC65-46FF-8DA5-AE7C3EBBA9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107C7-B852-4BE3-A74A-2D0F3AA4EA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3284E-4B53-4068-B2DF-75E4DD3314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EDE06-7664-4972-87E4-D545C6BF87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66B80-99A9-4C62-B528-B471063BBF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8AB7E-EFD3-4446-A51C-FC471B6A4C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1574E-D0B4-4E61-86D3-5860B8D794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18058-5C1A-4187-8719-D9423C1C47A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3584C-25D2-4530-84A7-F3B852686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7DDA-ED09-4232-ABC6-240E380304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215CA-3046-4D0A-B7D2-3C963D4999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965A6-0F0C-4A34-8395-16EE872800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B16D2-A132-4774-821E-F113BC4045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809B-7D92-4D11-B6E3-27C849779E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9C86-F56E-4137-8E6F-595B819DB2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001D-07F2-4B44-9DFA-EF5D6C7EC04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6EEA-5966-414A-B75D-963023A3F01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935B-D924-4AC3-AAA8-8040275F8A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16ED-FB97-4930-A841-4B9EAA3B57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A26E-3C35-41E1-BCC1-407D8987B4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E26B-F851-4512-AAA2-6D558C5826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5A3A-5AF1-46B8-B6B4-28DA078DD07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85E9-E73E-45B5-B28C-32EFA3039F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EABC-84EB-4521-AEB3-36BFF1C010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0F6C-DD0B-4BB2-8A39-5B23D67A15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AE33-BF2D-443C-96B3-4CCB229830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7EFD5-2275-460A-8ED4-6EF0314C7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C06D2-7C99-4288-B21C-AE0AC5A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F9AF6-8270-42F9-990C-513693D1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E8E92-6B6D-447A-AFA1-A952A1C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B588A-106E-45AE-9B32-5F93775A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7C9C-3191-497A-9BB6-FA45EE9F87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D62A-5DDF-4046-8B6F-BB995940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97A7E-C1CD-4DB5-816D-45CFC364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746B9-54B5-452E-9942-F0015856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AE2CE-5B5C-47FE-8BA8-16630EB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699B1-2C67-40B2-9622-5B0BD215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AFD1D-9B8A-41FF-A2DB-EBD5045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40928-5039-4C99-B836-9C4A97729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3B4C-B03C-4ED2-915E-611869CDA1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7FFC-CADC-4FDF-AF85-2F0C66F14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1746-2518-4C79-B799-3404E1344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F240-0575-47A4-9D1B-A680BB22A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B3A1-FD60-4FCB-8DFB-F61104976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1CA2-D032-45E7-8312-257C7CA838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3191-B959-4C88-B7E3-8636F0466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3A55-822C-4950-BEB0-941EBF87A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97B0-D5FA-415F-B625-E3362FC7D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F795-5B6A-4DA5-BD7D-994C325A13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6B1-692C-48FF-B261-8E9C8A8E14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8A9-0532-4DD1-A5DC-6425A0A8EA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E4C-0614-419C-8D29-1E56E1EB6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8D3-8BC5-4022-A0CA-165AEC9D80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F51-35AD-44CC-9874-4E99C4287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38E3-630B-45B4-8755-B3F017ACAA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7C3-A147-4737-B5BC-DB721A7F12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332-944C-4A63-9331-56E2048F80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62E-1BBD-4041-B606-94D51702B5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668-3E9D-491A-899E-0F7DF97D35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950-0CF3-4817-90A8-2CE211E52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FDD-049C-4491-BE21-05B93D8899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0BB-6577-4C07-9B70-F7B5BB6EB6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D95E1-9DC9-46ED-A0DA-ECF2FA7286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895F3-746E-43F1-9E0F-FFD1914D9B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C141-13DB-4C5B-B8D2-5049287B2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50D0-9250-4363-AFED-670DB6A320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54719-FEAC-439B-BF04-D33C11705D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2179-10B3-475D-B6E9-E871F7B4D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1E4E3-F4A0-4723-B7CF-DB538DE524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09453-FAE2-476E-AA37-7B7C7F5BD2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4EA0-8502-44D8-99E8-2CC69BC58D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17410-09BC-4921-A5E9-4E7B22FABB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8082C-85F0-4FDA-B889-0955EEC419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DC065-8002-4EF0-9108-6DACAF9DD8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64A21-00DA-444D-A6F0-AA2DC1E679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6C88-0793-45AA-8F7F-ACFA8965A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8ACA-C4E2-4F7A-910D-666D549296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7FD2E-1C6D-41E5-828B-C90E2F6B3B7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6D21C-6959-4757-A540-F08B956BAA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F6A2C-744F-408F-9466-034CD3E39B9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19653-C875-4557-80CA-AEEE6BEDE7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DDEB7-1048-443F-ABF0-A110DEB6BB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1950C-06CD-4DE4-9B3F-9F7FD71311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A1915-39B4-452E-BD5F-664871E787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2155-D321-4A51-A087-F679C6F3363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4F768-86E6-4A34-8B74-8DF916F10F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C03A-7D5D-4171-9D38-F87221EE8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09E9-E628-4451-8A06-12261D985B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5AFA-EE72-4F35-9A2D-D91FD6DC8A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F17-965A-4F4D-9E4C-A6E670EADC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D9BD-34A7-4D2F-9DE3-DCCE191431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2B9-68A4-4C2F-869B-75D06426D7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B09-5B23-4A08-811C-1ACCD1B9BF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32BB-B136-462E-88D8-12E0D3E0FE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343C-2943-493A-AFDB-7FE00950E0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8FFF-9350-4D98-834F-0D2195FD64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B1D-7C7B-4A4B-BD81-7A17A3DB3C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733-2A40-4441-B9D2-30CA6E7D1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3756-6ECD-404E-A70F-87A6BC13E1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62E4-E0F5-4C8F-ABA6-F10464806A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20C-7064-4275-A261-1017CBDD16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D8C8-E4FF-46A2-9ED4-8A557A88F1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2B2F8-7B0B-4965-85A5-D546E3B3FC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C3759-FE26-4143-A1B9-BDC9308D19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332D4-A76C-4300-ADF4-6A71C84A84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DCF4D-FDE4-405D-928C-60C0FF7E17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A3434-5180-4B63-B2BC-435D692F4C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1AD1F-7E2B-4C13-A48D-EBE4559557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3BC2C-5F9C-4C96-9106-72F1A6212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61F5-F00C-47C8-BFC2-00110D52BD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5E8C4-53FD-4755-8622-2364E520A7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EFB37-BA2E-4795-9DB3-656F1A1E24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2D511-D538-4CDD-ACB2-65ADEDCA74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5C14B-AC3D-44F0-A3EF-0AEB310ECB3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B31B9-908C-4EDA-8EBA-240BF277C0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F3AF3-46BC-46DB-9DF8-3D16BB7697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EE58D-47B8-4FA3-8367-41FC9CCAF5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00960-5028-439F-9B6B-3FFEF956E7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74BE3-2B3A-4424-AE80-87BCB4E9C0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72F93-00CE-4877-8C92-5E290F779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6159-307A-4B1A-A30B-B960E422F5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145DC-00F6-4284-8480-6F120BB9ED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6CD32-0914-4AC6-B94B-D7EF618A17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B94E9-9D8E-4B9A-911C-A18DF77171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208A8-23F5-4622-BE84-3A66897BE1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40B7A-07DF-40AE-AE94-97A87D4432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0365A-72A5-4496-993D-44874A7D31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C28C0-E393-4A72-A348-6DF7AF1B3C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48F5-299E-4D65-86BD-4B08E8B58B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5987-32A9-4BA9-9895-B5A851B55CC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2D79-87FE-4589-9DB1-30C3279A7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1B618-D607-43BD-B640-24AAD466A96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152C9E-159F-4A4A-9C60-6E740CBAB8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FCB33-5BFA-4EA1-B53B-5B81EEE0A94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2B4293-6942-4601-A827-D772796468D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EBB10E-0C05-41B6-832F-5594EA62D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499FF0-7740-4AB3-B96F-536F762EABA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C7D8BE-8C3F-4C2B-A2E5-7FF4A71F55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ABF923-D840-482C-AC2D-3AE2302D5AA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31ABFB-A832-455F-AD3F-335F18FF37C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BE4452-632A-46C2-A63E-CD2E07B2836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F0C3FB-C2D9-4E8E-9268-C3F49E555B1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C82B52-EE1E-45AF-A367-DF472F3CF5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599549-72F8-43DE-B894-828877068BF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1:30Z</dcterms:modified>
  <cp:revision>159</cp:revision>
  <dc:subject/>
  <dc:title>Παρουσίαση του PowerPoint</dc:title>
</cp:coreProperties>
</file>