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dt" idx="15"/>
          </p:nvPr>
        </p:nvSpPr>
        <p:spPr>
          <a:xfrm>
            <a:off x="3884760" y="-36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ldImg"/>
          </p:nvPr>
        </p:nvSpPr>
        <p:spPr>
          <a:xfrm>
            <a:off x="985320" y="733320"/>
            <a:ext cx="4883400" cy="366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body"/>
          </p:nvPr>
        </p:nvSpPr>
        <p:spPr>
          <a:xfrm>
            <a:off x="685440" y="4642920"/>
            <a:ext cx="5483160" cy="43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sldNum" idx="16"/>
          </p:nvPr>
        </p:nvSpPr>
        <p:spPr>
          <a:xfrm>
            <a:off x="3884760" y="928332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5E6B79-4730-4D45-BC6F-B03B6B74BC8D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0B0DBF-AF2C-47C4-A53A-8FCEF86FC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AF8680A-8D98-48DF-B1A0-7C59D511E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D24385-CE02-4B3F-B525-B47022D62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2BFC48-EC71-4ED8-BAF5-B6FEAAFB7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98FF52B-3ACD-4F29-A711-C6544B0E2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286299-0513-4A46-82F6-FFA8E54E1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F67D9C-8A03-4EB1-90B8-68D2FB049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D284DD5-8940-4FCE-BC5B-38585AD75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2146E-42CC-4D5C-9ED6-D8F23049EB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4056A-5CF2-4CF5-955E-7E0A25C90B1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E01AE-2EA6-4EA4-8AFD-571E19274C2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1FDA0-4F99-479C-A61C-140404B64D5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E6ED2-5C28-4F19-BA8E-A7D2C9873FD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C6266-6D18-48DC-99A1-A65B1A4E4C8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7E777-849C-42F3-9223-CC1D7C672A2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8DFAB-6311-4610-9044-62286C5B7CC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A8ADB-A6DC-4676-8E9A-B61397C71E9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7B38C-26F7-40C3-997A-CD4E542F25E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BD6D5-F84B-42D5-B571-1E98544B001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18F1FC-19F0-4EA7-9ED2-F5BF3E64AD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8CE9E-42A4-4F07-8363-C08AD02C97A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AFCB84-43FA-4693-9E0D-0D2FA80C09D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36C152-E002-4C23-9CA4-620727DC508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3ECE8A-BD4E-4D5A-9134-000A94ABEAA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56CE06-0EB3-42EA-B03E-449E3269D85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DD7BB4-6000-49C1-8590-B784AFCEF1D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5B981F-69F3-418E-AE20-074025B667E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744514-AD03-44A5-9AB6-FE87311283D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886BD6-62B1-4A0F-9AB8-D61E986C4D3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FF8DFB-3EC0-4AD0-BB89-6135688768B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4EF3B6-27B8-4D79-9A70-CD9681CB6C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DDAE4-5CBC-4548-A8D5-ECA350AEA52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4FED53-6CE6-40F6-991F-F9F7A927B86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D59BD1-F5CB-4405-BD77-1C1927B4596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3F43D2-3E6F-42A3-874A-B10B5ECD0B7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B1F660-346D-4932-83C7-C5E472511EA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D2C4EF-C8A2-4828-83B1-278729C6DF6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A5E989-AE21-4914-B072-A7D34D262C4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2173C7-EB29-4E64-BF1D-CDB04E2A47D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43A125-F547-4EBB-A8ED-0078CE029F7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9025BB-CF04-4AC0-87F3-D6742C224F2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2E609F-946B-49D4-A2D7-2D0CB9CA81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0DC61-CAFB-453D-B99B-792EBCD1BDF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7ED5E1-04E8-406F-8AC0-7B1EF8F16E4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8DC9C1-B43B-4247-BB2D-1C823EC6A39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882764-D8A1-4614-8A9D-6AFA3D2F462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1955B-F51C-42D4-AFC0-5E4D2A0F9EB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CB743-EA6C-41C0-A886-5BF3C9315E1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5719A-F0DA-4105-B56D-E3093F01693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3548A-CB42-4DD6-BB78-964C7C5D512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B1A2E-27EB-44C7-9FE4-AA2E10283E1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F7C16-8278-4E2E-A98E-91B7573A9E7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9C633-7AC8-4BF2-B933-04FC1E95ED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95893-9F8D-439C-BF00-56CF0B6809F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FFEC6-17F3-4C0F-A0EC-3F1998A9BB6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7D301-5414-4DCC-B0C9-8B0605AD18F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73F0B-5801-4D14-89C1-8EF8FD55E4F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38AF6-7A4F-41BE-AEE2-45E0C92BD2F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C04FA-261E-4002-8355-F412AF52682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18191E-9403-4AFD-A5F4-5657EFE2ED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7309C0-EC43-4A02-A20A-F026A836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FC9C86-F1B7-4D10-BBCC-E5AB1327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811B01-F902-4155-892C-2EAEF7CB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8AF73A-86FA-42AB-A9DC-9924F6279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40FDF-0558-4C8C-9B40-480482A71BE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10B3C4-2D78-46C1-8077-E9D272BCB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1B1467-D2CE-480E-800B-23686A87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548E15-D611-4540-BD97-D6819B4D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711574-BCBB-4570-895D-53685AD8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F4E446-83C9-4CA3-8FFF-F1F26E66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F30D49-21AD-45B1-85B4-9FD12DFA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911C97-3D9E-45C9-A846-4A96DC607D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FFF83-3853-402F-9D6C-FC528EF9F2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D4B61-3A20-417D-B543-1827ECF3A7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2DC64-5187-4CBC-9684-A12AA64355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3B8C1-6EDB-41FA-9114-E789E2905A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2B052-D154-4B35-8E82-EA28CA6DCD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015B4-A9A6-48D9-BB35-EDEBBF799D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9D039-D4E0-4840-BEB3-969AC20BEE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04338-65DA-47C1-94EA-CCF6E4194A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E15C0-F151-46E3-A557-75370B968B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BEA88-0C1D-47A0-A9FA-5ABFB6188D3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89B0-3AC2-45B3-A60B-4DF9725724A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9BF8-5625-434A-A517-F331EC738AD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C864-9218-4774-9D1E-A480C48964E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ABC8-DDF1-4E7B-A502-969627E3D8F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92F8-45FE-4308-AEDA-10BCB62B6D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A3229-E8C5-42E7-9E2B-F542AB61ED4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04A7-59B2-439A-821E-3BC2BC58636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DD4D-44CD-4129-9315-8A1FE3DBC43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C424-C5E8-42CD-8CBA-E00D96A4C98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2C77-FCF7-4C70-A646-5F56E3A4871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F7A2-80D9-4AE7-B7DB-395B2322B2D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074B-BFF9-4FEC-BF2A-24D6268F8F2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87A2-0F2A-4EFD-B1CC-25BFD7FCF1D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F7D17-C219-48E6-90E0-B2C38222128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3EA8E-BC24-4176-B0A6-6570F88B206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0006F-235C-4219-B60F-B0B49C26D8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066E3-80B6-4E97-9FFC-EA0212DAE29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ACE32-D873-439D-B004-2818F093EF4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98710-6664-42C9-987E-62A42E258F9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70C20-48C8-4AEE-B377-39EDF547481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E5547-A304-49F5-9040-029D4F0D23C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EC006-6E2D-4C52-B46C-7023DE89C63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84B06-DA3C-45B8-872F-C078419BCF0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4282B-509F-4731-B879-3E2F2BB27E7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B6D89-367D-40D6-914A-27D235B735E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C66B8-93F1-447B-B103-53CBC71550F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F86C2-F6C5-4675-AFDC-CA2A71D606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C1E33-A74D-40A1-B847-6AC31A83537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8ECA9-8A82-447D-A59C-FA79A4A8088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1A467-6447-4891-8190-0CAFCAB942C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F0E85-95F0-4D59-8198-747EB66FD37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D9867-414F-4377-805B-BE03E9AE963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1256C-EA25-4EB6-A66C-F2D22F8C29F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551A8-EA6E-44A2-B380-81C57D0333C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694FD-37DB-4BB5-B4EF-AE4EF3BCE4C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87406-9748-4D01-ADC5-40E328F1050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9B3EB-3DC1-4AE6-9316-A875DB4B88F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CE171-AFF4-41F7-89E0-FC09344681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64D76-2A1F-4935-9CC5-7983CF293AC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2A0C4-6D38-42E0-935A-F03D86E1B00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1A66-9D60-41EB-AAC9-296D8CB9A83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B1C6-8984-47C0-B3E5-3705B1202CE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9AC0-5387-4490-B447-0A75ADC6808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B52F-4943-4B01-B06F-8D59CFA100B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24A0-6D2A-42BA-96EB-C0274130F20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06DE-5727-4D8F-B824-22DD1CBBADF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EC63-BCFC-41DC-BD92-454163E9280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C2FD-AFBC-4DC8-96BA-A86785FC561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2D65-0895-41B6-8549-F3389B3357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DCFDA-C10F-4B99-AD08-893C09C9274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EE12-A62B-4CE8-AB29-B66272ED7E3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333B-DA05-4DB8-A19C-2259942BABD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5B2B-41DC-4E51-A248-C8844EFD62C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9B1881-16AF-4222-B4EF-80C681EC45C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42273F-5B83-468D-AC46-5BE3D3AC708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5E8463-117F-416D-8EAB-5CFB602471E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3404DA-4DEB-4758-ACC6-BA8C299521A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174047-A886-4C19-9708-A075B10A32A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4398E3-2E4A-4B38-979D-A8F9C8C826E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4695AE-75BB-4EB5-8662-72F7684573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1A1CF-0319-4B31-9031-6060BFEE0DA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DAB227-AA87-4005-A2AA-466B05A2293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80E084-6E7C-48F8-933A-3EAE09FF118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6999D5-CE12-4C4A-A25A-3A23CAB1318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D15440-12E7-4CC6-BBE7-32F085DB37B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BFF1B0-93FC-4E91-9C23-D9AFC07B184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EEE77E-893E-42F0-A4C2-8E7440CB7D5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614005-6FD2-4E50-A9FF-572A3C0B0A5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9D9938-E6E6-4137-9F6F-25AF46EAAE4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2B4333-E78E-492B-918E-A76D2D7077F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72CF4F-1468-4B5F-939C-C6CA88B70D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500D9-D3DD-4698-BE69-4CDA071840E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04D838-B2DF-47BF-B353-67E501B9A44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7BD192-2B7C-42B9-B17E-F8E36144C93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219066-7F78-41C4-86C1-EF65D711C5A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E86881-3EE0-4667-8A49-D2FBF266ADF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848C85-0A2E-4D5E-A89C-AC6A2183F32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BE363B-BCD3-43A7-9F60-5D19A541CB9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A3D964-5A19-44FD-815B-235C3520253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D347B-061C-4A99-B63A-1EE18C47018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AFA6C-10DA-4A77-8CF0-C409E96B2A1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A361B-9F74-4287-AEDF-DA326C2ADF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675E78-BE72-45F4-A120-017DFEE7CA9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772DBC-177D-4FAC-81C3-63B39B05A7B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95D1C3-F857-41BC-8114-6AB04546CA4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729E7F-1708-4091-8E31-137EC7C238A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1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1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931442-B9C1-4F91-BB17-A51EC60E9A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CECBA3-A051-45F6-9E91-0E405D696CA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26503B-52E9-407D-8595-C8AC9E9EA58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C9BE54-D5BB-40BF-855B-2D173B492FB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9F2C1D-E9B1-4256-8660-73AA37239BD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B12FB6-8707-4C21-9655-5FD8EB6225A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D5E6B0-6792-499C-8DF0-6C57D0B1BE3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98D95E-91AE-49A8-9535-1595562C655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C9EA04D-7F74-4F1D-A603-EF2C37E5459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763640" y="299736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Δια-ιδρυματικό – Διατμηματικό Πρόγραμμα Μεταπτυχιακών Σπουδών Ακαδημαϊκού Έτους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4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-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5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332000" y="4437000"/>
            <a:ext cx="687528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υχοπαιδαγωγική της Ένταξ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26920" y="5805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905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4"/>
          <a:stretch/>
        </p:blipFill>
        <p:spPr>
          <a:xfrm>
            <a:off x="5003640" y="0"/>
            <a:ext cx="1121040" cy="12193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395280" y="3573360"/>
            <a:ext cx="813744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ΜΗΜΑ ΕΛΛΗΝΙΚΗΣ ΦΙΛΟΛΟΓΙΑΣ ΔΗΜΟΚΡΙΤΕΙΟΥ ΠΑΝΕΠΙΣΤΗΜΙΟΥ ΘΡΑΚΗΣ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ΘΝΙΚΟ ΚΕΝΤΡΟ ΕΡΕΥΝΑΣ ΦΥΣΙΚΩΝ ΕΠΙΣΤΗΜΩΝ «ΔΗΜΟΚΡΙΤΟΣ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1297080" cy="152856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444680" cy="157320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611280" y="5950080"/>
            <a:ext cx="806436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79280" y="50846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Ψυχοπαιδαγωγική της Ένταξ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324000" y="1413000"/>
            <a:ext cx="856908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ΕΝΟΤΗΤΑ 5</a:t>
            </a:r>
            <a:r>
              <a:rPr b="1" lang="el-GR" sz="2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Η</a:t>
            </a:r>
            <a:br>
              <a:rPr sz="2800"/>
            </a:b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Θεσμικό Πλαίσιο Συνδιδασκαλίας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Μοντέλα Ένταξης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Προβλήματα και προϋποθέσεις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Σχολικής Ένταξης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Παράγοντες Σχολικής Ένταξης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l-GR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ΕΙΣΗΓΗΤΗΣ: Γούπος Θεόδωρος,  δρ. Παιδαγωγικών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5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5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1298520" y="213372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826920" y="1413000"/>
            <a:ext cx="759636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3.Θεσμικό Πλαίσιο Συνδιδασκαλίας-Θεωρητικές Προσεγγίσεις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60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61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1298520" y="213372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826920" y="1413000"/>
            <a:ext cx="759636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4.Μοντέλα Σχολικής Ένταξη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69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70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1298520" y="213372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Παράγοντες Διαμόρφωσης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της Σχολικής Ένταξης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5.Η Σχολική Κουλτούρ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78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79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Παράγοντες Διαμόρφωσης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της Σχολικής Ένταξης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6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O ρόλος του Εκπαιδευτικού Προσωπικο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87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88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Παράγοντες Διαμόρφωσης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της Σχολικής Ένταξης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7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O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Ρόλος των γονέων και κηδεμόνω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96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97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1042920" y="206208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Παράγοντες Διαμόρφωσης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της Σχολικής Ένταξης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8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ρόλος του ψυχολόγο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05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06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863640" y="134136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Παράγοντες Διαμόρφωσης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της Σχολικής Ένταξης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9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Εξωσχολικές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Κοινωνικές Δραστηριότητε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14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15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8:34:10Z</dcterms:created>
  <dc:creator>Maria Petmesidou</dc:creator>
  <dc:description/>
  <dc:language>en-US</dc:language>
  <cp:lastModifiedBy/>
  <dcterms:modified xsi:type="dcterms:W3CDTF">2024-10-30T21:16:07Z</dcterms:modified>
  <cp:revision>157</cp:revision>
  <dc:subject/>
  <dc:title>Παρουσίαση του PowerPoint</dc:title>
</cp:coreProperties>
</file>