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AA22D-632C-49B6-B2AB-6D692D07590F}"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26A25-62DF-436E-B9A3-8E89F8ADE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62547-0474-4EF5-9067-020B3EF0D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3F36D-13B7-422E-84D7-73ADD0CDE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BDB50-35E0-418E-83B2-F8E12C6F1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F1D92-2DF1-4E0A-B63B-AA9A89374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B8FF39-9B60-4945-B7EB-CB876E6E9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B709A4-C1E6-4FED-AAF9-B937BEE20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9586A-9236-48A6-8713-4E54AF949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9922D-B495-4DD3-85FB-1D431DD58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FDAC3-40CD-463B-96D2-08CD19F30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A9AF7-80DD-4D8E-9E65-3E2A745A4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60D85-0F32-4B4D-8AF7-44A44DD9A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1B86B-861B-4206-9610-180EF729F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0B620-DAB1-4877-A409-C935F6FD9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7593D-7333-435B-93A0-688F08E3E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337A6-923A-424A-B1D0-1DBD3201F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57DF78-FD4C-4958-87A4-ABAB85C5E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ECCB1-C8A8-4BF6-AEF1-525560EE4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8E8C2A-8EC6-4F83-BC1E-835BAB48E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D567C-DA0D-4262-B433-8B7383FEA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B064C8-20C9-4BC0-9A02-5DC550DB6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0E224-5A10-4D75-9095-EF65D8C13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DF55A-8F49-4C18-864E-4CC36A896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42D9A-B306-4968-BDE5-9677EA781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4D874-6D0C-4D62-A139-3503C80E5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E10FE-5EA9-48FD-9729-2483CAB92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2907D4-8077-40E0-8136-A6732F027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27FB1-6D07-4477-9531-40DF816CC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64034-FEB5-4D7B-B60D-7B7CEAA52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610F4-D07F-469A-929E-61A696293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1D135-23B1-4F4F-9B68-210FBD288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8091F-AC66-467C-A158-88F0D42F3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7DCF0-0108-4791-9797-0DC34E880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0C7D3-938D-43EF-8339-4FAEB58FB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84AD9-50BF-4028-AAFB-1050FAA2F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A47F6-2371-44DC-8B98-D3648C341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17355-2599-4B2A-ACFE-F586FB0DA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F66E6A-0135-4734-9725-DC18CB605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5648D-C669-4C4B-9D18-8DF7532F0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2239BF-AC07-4297-8354-475AFC087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7B366-442C-45DA-8EEF-CF5F29117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71D69-FB8C-44C3-9140-C83937D2D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BBB50-517C-4944-BC06-47C61B65A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79722-DD49-4DF0-9091-818865B3B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A72AC-E0A7-4F75-BACD-C57CF6E46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9BBDF-8BCD-42EB-9232-8A6283E5E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A4FB8-8201-4E6F-B432-F54309EA5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CF10D-8476-4F6A-9317-46DD79F22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A577D-13AC-46F4-92D8-DB26ADAF9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E3E3C1-450B-4AEE-A686-9822E7FF4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17A55-336A-448C-9F11-93A61E98C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905FC-4BFD-4C8C-A610-B808F477D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77F4F-D881-455D-9BC6-8D60ED7E0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FCCAB-66BD-40C7-84B2-E9089AA5D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AE5C46-E52D-42C8-8B06-409E2C4A7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F6895-9E34-4C21-883C-D46386EE2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6959F-B8D9-400D-B407-648FCC9F1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D4866-0343-4EA9-8623-48EA985DC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A0AB5-800A-4C21-8C28-6E03CB682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C5E5EC-4CD6-462E-BD7B-E288D7D16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03D2D7-8A0B-42A3-A030-64F376DE6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5E158-E020-4598-8E81-63F024ACB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472C6B-2A0B-457B-856E-EEC22F61C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A5501-9327-42A4-B13B-F792B97C0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1D0BBF-C078-4440-857B-84692CAAB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406EB-5E14-40EE-9160-7D579064B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D3EF0-D405-4CE9-9E4F-A29F34D11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93E93-0F51-46C2-BD6F-D00A09030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3D079-96C9-483A-993C-2FD5B55A6D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67E2BC4-DDF8-4226-8767-2F6938D7728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395C68F-13E8-409F-BBF5-B53B23497B5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8C45DE11-9092-4646-B304-C19877E38FD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93CCC800-A96A-406C-B95A-C4B7FFA412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2D99C17-1ED5-49A9-8D59-DD1DA9C677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97E4FA3-29E3-4391-9651-90FDB2FF73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DB97938-E1AD-484C-ADF7-2204C40B0E1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BFEA172-49F4-4586-8A12-FDD69226D1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3B28264D-7CE9-41DD-AD28-4FD75F0392E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3FE4C997-6C00-413E-AB13-A186633E047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A8E25EF-2106-4F48-A7F9-8613E4017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70545E9-B975-4DEF-AFA9-FA4E628A549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AE73AEB-8B93-4D71-B7DF-95914E01B58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01747E0-D78B-4B36-9AD3-2B76892A3E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B9BB7BA-E0E6-47D0-9994-51871EC9352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A42C827E-6072-4D22-96EC-CF3A6399142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C13F3AC6-E24F-46C9-9A3B-105CD893DE2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461ED07-E16E-454A-9344-C088B16AE54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4C45904-66D5-4178-9B56-279BBC706DC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6400121-0832-4C4E-999E-70A910AA331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9664EF4-AC63-44D2-8866-D1A81AE978B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748C02B4-F38C-4A0B-99F6-A2689DC733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8508DBB-4BA3-4C25-A40A-F3FE679638F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D2D13FAF-779F-4C85-9513-646A5EEF874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50FA66E-85F6-4D9F-B486-1B28953074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2CF2B06-2FB2-4221-A287-7EFC8D099E4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19FC7B9-DA61-4B98-B266-E789FC9BA96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CDDE416-E4AD-46F9-9869-E005D6CFB1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F2BBAF9-5ABD-406E-A401-462CE0BE8A1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89366699-CBE7-4190-95B0-C3DF73A88C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CD6C145-B49B-400D-AC78-34CEA05A89B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112F756-8AF4-4CD0-B171-161D336DC72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1751A81-0C9C-4813-AFCF-6CA6F35B9D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FC8CB9-40C2-4717-A9E0-4A39DFD751C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F06E967-9A8D-40BA-AA75-6141311F5A5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58CD393-5909-4173-AD62-66BA88202FD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BF83ACC-12CE-4796-BDAF-74005D1AFE1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DD0F95B-7408-4E54-8E2F-8EC9B24EEED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F632A23-8B01-42DE-BD10-A9EDEF7565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9DE4A76-FFB7-4FDE-A508-0EE5FDBF2F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EA66939-BE51-4A34-91A9-875A404A8C1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05F90A3B-202B-4D71-B2A0-86C18C612FC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9C765264-4A1D-45EC-A4E9-FC930F84622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72B1DC1-031E-4905-B3A8-3BA1A16F84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23353B9-5757-4E71-8A46-4CC5B2CFC3B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621C90A-1EAA-428E-9D5F-C3E4D7F4DBD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834E3D8-10DE-437F-8D4E-5070073738F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563B2FE-381A-452F-9A08-E038965BF8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4B8EF140-E9DC-4F5D-93BF-6EC8F39CB1E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F2416D6-309B-4161-B193-948C576730A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7F0C8F0-34E0-43E7-9DC2-BB2D2B3BD20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33ED083-9A02-42E0-A22A-9C8FCC59CC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41EBD25-93CE-41CC-A11E-0B2D86182B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D55BD20-3924-429B-BF04-8BA145F0B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2B998632-BEE8-4A48-A128-A329276F54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90C9116-E6A5-4E2C-99E4-40F204666C9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D7CC23C9-A32F-441F-B786-7EB26E4F4C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A2DD687-ED25-4E9A-9679-B3EEFAB74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A5D6024-B619-4C09-A741-C98A6E365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8BB30A8-5FC1-48F9-A354-03A5B75FAD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88C25D4-5808-4A80-8AF7-ACD36E38C0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78B4FB2-16F8-42E3-A6C9-AC81F61BA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41BF0F3F-2C1A-430C-961B-2CA0F08CAFC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F081A66-F26D-4076-8871-626C031487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6A26F99-0BD8-4C1B-8A3B-D33585A063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86FB1DA-B390-49B8-B1BA-03F17FCF18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9797824-5A0C-4064-9C9D-722B2DCD60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D038544-F390-49BC-9EAD-1B2193ECA3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BFDE03E-2E28-42D8-937B-8FE0DE2B28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5AB966B-B767-438A-A2DB-03B8CC25C6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54A32BE-7082-4756-8D97-EC36694F45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57DC2BA-01DF-4A1F-AC4D-2A132ACFF7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6A36005-DCCB-4C31-A621-2D3573BB8D8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E4E0E2-8E20-4B6F-8715-40A8CB0A97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A7EB8A-CC25-42D3-B5DE-F33822EC69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AA8083-68C8-4103-8BA5-5AD2A3C880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DF18B6F-27B1-4833-B060-9736C08665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DA51D2-D4A2-4AA1-8F01-61BB4D4431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67934DF-4C03-4709-817D-0AAA8D15B66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BF8D3D2-9112-4CD4-9A78-F1CF7B1478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A299EBE-60F3-47A6-BB28-F9EBB707FE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0384C78-2A59-4C6E-999F-E14BE4F8442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BF8AD40-031B-4063-8CE4-9BE43E3154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70CE0AD-B50B-44D3-9A59-386FFE1464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B4117106-7BBF-4351-910B-0B9103E116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C3AD809-C443-49E3-9905-2E5BC5903A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3EF08F-F6B0-4224-9E27-A8EBC01596E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2C4CD4F-E5DB-403D-935B-661642AF75B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D3C74DF-F931-476B-A79D-68DA039898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4F29E08-8E22-49DD-B6B9-82009F4C2E2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6301475-47A5-4B0A-9F29-A601D07C2AE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1268E0A-71CD-4543-A339-933693F3FB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2CA56576-8FA3-40FC-8DAD-12BE321C720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E30D8BD-F8BE-4EB0-8E01-3756BFE202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05EC483-0114-4D56-955F-263EDA58900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D4EBCF8-E0D4-4D10-AC50-B4888680946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74E3088-05A7-4337-9FE9-09EEA74BAA5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F8C8D1F-0AA4-4006-9E5D-70E12853396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6640E50-32C6-4DDA-ADBA-DF220C45FE7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9CE45D1-185A-4302-B692-BC1FCA654D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3AC5BEC-36D6-490D-A263-46B27715847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49462D3-B577-4C5A-AABB-8C3CE038E02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D064CB8-0621-41C2-ACEC-970B142907E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E3388EE-32DF-47BF-925C-64839ACB3BB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22326347-5826-41F5-8128-65D3025952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CAECF05E-34B6-4A87-9F47-B2E7AC9C423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19F4E79-67FC-44A8-917B-8ED3B2DDD58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DAB2F86-E941-44F7-B9AF-D1D691FDE23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211FBCB-1B46-4E95-9FE7-836618D400E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CA83C8C-7ED8-4825-AE21-921C0ECB9EE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A043F598-5052-465F-AF8A-4137464408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C275475-6ABE-4E9D-AD8A-4BB5A9FDEC2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12C07CB-B2CA-4257-A43F-23B335C0CA7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D7B20DE-AF91-4A3A-9B96-078FC56ED41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250948D-4C94-45F0-A61E-8E334D08687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87FD2C3-45D3-4EDC-86BC-DFE370588CB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3532D6C-2AEF-42F4-A937-95F7556A958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72622C04-7EFD-4EF8-8682-0839A1A18BD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C5D0D13-84A1-4ABF-A3F3-8164A65D958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AA81DD8-AED9-4EFE-AC12-F3D2C60D648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CE885FA-C83F-43F3-A7FA-5E87DDB5853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F3E3E6B-7A27-4B7C-9820-7A162240B9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B4ED88B-CE10-4B94-A419-F84B8FF350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2BFD7B0-85A3-49C3-ACFF-5DBC57FCE25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4903CBA3-A9C2-48F6-B5C1-47F169D8DF0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B51FE1EB-DE6E-4E38-96A5-3D9813A5982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C73D0D7-68B7-4C6A-A911-BD8DE18CD67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B5ED4AD-4E2A-491A-8ACA-54A266D5548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E03375D-0076-4681-AFB9-DB81436BFCC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BF04FDD-EC25-4800-9BBB-51D89A25312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A1217189-2033-44EE-97C4-25164B33792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EBDD3CA-7842-4622-BA36-F630D2B68C6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88343BD-58C8-4EB9-9A47-AEDB6AE895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AA0ED8A-4369-4E9C-BF19-8A760E95E23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F644EA3-26C5-4403-85B2-148E3BF9630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9668D2D-77AA-418F-A59D-9118DD973DD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40FDE51-B4F1-4FF6-8922-94FD99170AC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D1A2B023-D257-45A2-969A-DFA0EBBE271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A90557E-28B2-4497-8A4F-7D24CC6B52F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9D7EC8-8976-4473-AE15-6EC20DE0834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3F2CEBB-4885-4C51-9938-C7327D0880C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88B2E11-03A0-4FE5-B103-1CA9136D2D7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E09E00B2-13AA-48EE-A256-885251FCC63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C05C271E-BB2F-4C1A-BA67-87B7BC294A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E88CC6F-DFD3-4928-9285-AEB14ADCE57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6B506AF-178B-47F7-9415-B687EEA347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20C40ED-85D7-4A10-934B-2DB25118D9D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3A37C0B-4494-43AF-BA04-72B469BBFD9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950D886-880B-4F95-9098-5516EF0030D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0B64F89-F721-4CAD-A72E-E85F508B990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028D97CD-3DE7-42E0-ADC8-732D531F866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A1CCE378-A965-4116-AC77-1CF24CED630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58100C8-C41A-4A6B-848A-4E4945BEE7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B637A99-5294-4276-8EEA-6C9FC2606FB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CDB0D69-0962-4D3F-BD30-965A17893E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10A95C-79B2-4004-A661-E513DA0EA1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D14C81-7EC9-4D6B-8467-D9EF4B7595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393CF-8DBF-4CC7-B62B-BC1777075DF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E0C84-5149-4C45-8CE5-19ABE874A7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7393F8-40AE-4AC9-B3F0-042C18951E7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3D6342-A7FE-40B6-B3B0-C20C295E319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BEA0C-5411-4719-9646-638C37F1DD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810D1-D3CE-4AD8-8983-4286CA2700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DA665-0AA1-4482-AF43-5043BE0154C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E56CC-EFA2-4435-BBD2-D4E9B3A101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9E581-C8DA-4FF4-AE40-C2D1A861F6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E6E70-E81F-4CCF-AE44-3D77055265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0021A-FC9D-46FA-A5B4-072FA65283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125360"/>
            <a:ext cx="7812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26920" y="1125360"/>
            <a:ext cx="799308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50920" y="981000"/>
            <a:ext cx="8642160" cy="4680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81080" y="1392120"/>
            <a:ext cx="8783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250920" y="1052640"/>
            <a:ext cx="8640720" cy="4659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468360" y="1392120"/>
            <a:ext cx="84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611280" y="1989000"/>
            <a:ext cx="827712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9528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62" name="" descr=""/>
          <p:cNvPicPr/>
          <p:nvPr/>
        </p:nvPicPr>
        <p:blipFill>
          <a:blip r:embed="rId1"/>
          <a:stretch/>
        </p:blipFill>
        <p:spPr>
          <a:xfrm>
            <a:off x="0" y="0"/>
            <a:ext cx="9144000" cy="1368360"/>
          </a:xfrm>
          <a:prstGeom prst="rect">
            <a:avLst/>
          </a:prstGeom>
          <a:ln w="0">
            <a:noFill/>
          </a:ln>
        </p:spPr>
      </p:pic>
      <p:pic>
        <p:nvPicPr>
          <p:cNvPr id="1163" name="" descr=""/>
          <p:cNvPicPr/>
          <p:nvPr/>
        </p:nvPicPr>
        <p:blipFill>
          <a:blip r:embed="rId2"/>
          <a:stretch/>
        </p:blipFill>
        <p:spPr>
          <a:xfrm>
            <a:off x="1258920" y="2060640"/>
            <a:ext cx="1297080" cy="1528560"/>
          </a:xfrm>
          <a:prstGeom prst="rect">
            <a:avLst/>
          </a:prstGeom>
          <a:ln w="0">
            <a:noFill/>
          </a:ln>
        </p:spPr>
      </p:pic>
      <p:pic>
        <p:nvPicPr>
          <p:cNvPr id="1164" name="" descr=""/>
          <p:cNvPicPr/>
          <p:nvPr/>
        </p:nvPicPr>
        <p:blipFill>
          <a:blip r:embed="rId3"/>
          <a:stretch/>
        </p:blipFill>
        <p:spPr>
          <a:xfrm>
            <a:off x="6948360" y="1989000"/>
            <a:ext cx="1444680" cy="1573200"/>
          </a:xfrm>
          <a:prstGeom prst="rect">
            <a:avLst/>
          </a:prstGeom>
          <a:ln w="0">
            <a:noFill/>
          </a:ln>
        </p:spPr>
      </p:pic>
      <p:sp>
        <p:nvSpPr>
          <p:cNvPr id="1165"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6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01Z</dcterms:modified>
  <cp:revision>175</cp:revision>
  <dc:subject/>
  <dc:title>Παρουσίαση του PowerPoint</dc:title>
</cp:coreProperties>
</file>