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54576-D166-471B-A65B-951DB3BF7F3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3D8450-D615-4FE8-866A-A00B3958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E007D-8A60-4A50-8FD0-1B3F58ED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33222D-94EB-4CCE-810A-23D41A014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8E8EC-9818-4025-942E-90FEAED8B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29C43D-A134-4644-9E65-41EB7CFB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57B53-0EEA-4393-9AB4-CDADA02F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EEAA4D-923F-4C6D-80E6-4C3CC54C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8CADB9-935D-4B58-A166-E852C2AA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AC70-0827-48E1-B932-D83BE396A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EC91-7219-4995-AA79-0D1370DC2E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3E68-F668-4B34-9D6E-BFF6B66409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99F6-B681-4D24-BFB9-B11E59BBB1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FD78-225B-46B4-B7B1-C76ED82CD1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1A84-E34B-4E19-89AF-A56C282782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F19E-7D04-4846-95B5-F2D0C4DC36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CC07-6FEC-463D-AFA9-3192F8A6D8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DA16-F6D7-47CD-9FB1-88A714249D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D486-FDE1-4C16-848B-332A4526C4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416B-DA06-482C-977B-1080AD2174F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E3F51-A17B-41DC-AD96-B0A840E9C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99E7-92E7-46D3-AE6B-319D1F0CBF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660B4-F091-44F0-8729-6581488EC7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1C72F-9554-4672-9BFF-46746CB9A0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EF36A-D422-438D-A612-9FC51E046F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434F3-B2B1-42D5-A104-3AD3A78CD44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88437-1EB9-4AEA-87D1-104B1C008A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727D8-E4CA-4099-A682-A78C59451C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0FFED-AE71-4048-8B6B-F60CB4EEC5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483B8-B426-4EEA-B92B-615F466D29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0CED7-F9F5-4B1A-8098-1C8331D6B5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1ADFC-9ED5-4E02-9222-E7120B8EF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28AE-223F-4BC9-A064-D3A4B7654E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80835-1912-41C8-B562-021E91017F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EA371-5CEC-4D8A-B424-282CEEEAC4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8F1AB-9C1A-4A2F-8725-DBE7F27D88A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39AD7-320C-4248-A582-FD14A6DAA6C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0217A-BD7E-4B9E-9AFD-2CF8C986D1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72ADF-EEF3-4478-BD1B-1CA54344DA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C461A-E2DB-4731-BE59-5458845EEC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2070A-1761-445B-BC24-F4EA65F271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C7270-0895-4A0E-933D-F98E982A18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BC22D-2CE6-4CCA-B0DA-9DDBF39D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E6A5-2ACD-4DCC-81D7-DEE60AC79B7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00E88-3F9C-4632-989C-746876B3CED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FA1B0-59C0-43C6-977C-53AD1F99FF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D33AC-B712-4081-A617-3E3B051B8C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D777-EC5B-4C3B-859F-12CC1C54A2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17E1-0A63-40FC-A084-759ACE47F41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16B6-33C6-4CD9-B789-31A7C0568D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D51E-71C5-4417-986D-272DDBF882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E0D8-7871-4F30-99E2-BCEE420F86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4560-1D64-49E9-A6C1-CFCC610115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ACF50-1D17-4F67-B8C7-26969954F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2A68-8F25-46F7-8845-7A0519A444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263A-CBFF-4B98-9729-9D55C0E89A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146D-D6E2-429F-B54C-354A8F62E9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C9A5-93DD-4590-94C3-FA1D6F4321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C9F9-0C28-4F15-B36E-3442CB0698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6B2E-E180-48A2-B3F8-E212C88513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7A510-F0C3-46DB-AA74-184FCD647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ACA28-9BB7-4AB4-A3DE-05282862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0B9E0-F909-4A39-A0C5-6ECBB68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FC510-62F9-42C6-AFA3-F215190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F7208-8173-4451-B2C4-8FB5947E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7636-7D4E-45C4-ADD5-4A42CB2824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1A8D2-78D2-4FDC-BC8F-6B897696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BCF5D-79EA-457A-9B84-2E68E57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619A4-590F-4CB4-B994-797D48F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C121C-E550-49CC-AA24-AEE2FF51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131F3-C376-40F3-997F-D50F869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61D96-06A3-4799-AE61-F3AEBBE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FCECC-E217-447C-A9CB-50943E5F5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A861-BB16-4404-A7D3-528E6880A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476C-F5E4-481E-8005-B9F9124BD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D84E-5CE0-4D2A-9AD9-D4402D2884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E143-DFB4-4F9F-ABAB-91362D05D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5426-1446-4444-9A0A-7CBB7BFD4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D874-2CAB-49AA-A68D-9A535923A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D6B0-0038-4B1B-B97B-9118581FEC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4BB9-7E54-4FEC-B2C9-E20A878369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BD92-3719-4DD1-A147-A77615B3DD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5523-1F4A-46B9-A5CD-475C058917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FFC-8C65-4531-BDD5-12AED73E10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777-B06B-4E86-B69D-831F680C6F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E37-6792-4A9C-AE56-C186936A73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45E-D20A-4A0F-8508-CF88E4F341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9E9-4EB2-44F7-AFEC-58E84743F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6670-1FFD-4E18-A9F0-E256D416CF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EC7-4A79-469A-B989-814D93040C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098-62A7-40E2-B88C-8915A0837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D4F-EF95-4FA7-9F86-A28E16E336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0BF-D85E-4846-AA6B-EB4BC4A51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DF4-106D-4E25-AFFB-CCC4F3584C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9EA-EF5D-4110-A363-AA90E5607A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0D9-99B4-4D9D-9B44-805D74A693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559C1-19A3-4194-BDF4-DF9E2A3624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A2306-EBF7-490E-ADDE-0D74768807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A6B07-F9E0-4A7E-948C-F3D215ADF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22DA-4051-4937-B6D3-2CAB45B579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56729-2FB5-4FA1-ADC6-61921CB5DD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4B021-DE7D-48B6-8AE9-49DA37B5F0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F3136-1627-488C-97CD-4B1AB4EE22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32592-0F8F-4AD1-8618-ECCA4C241E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9D49F-C249-49CF-B7B7-06207BB59C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E4010-3643-4815-8E00-72873BD1AF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C41B-0366-47EA-9120-2080FCA337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D9B15-1A5C-4DF6-B923-821A40D9C5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158CE-4EC6-4241-9CA6-9AFCD095EB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8C9D-DDC5-4433-93A6-E87074F26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3211-8622-4C03-BEA2-1B681EF393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EF58-99BA-41EE-99CE-60F8DFC141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2D585-764A-45DA-B7CF-50E1504053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ABD0-CFB1-450F-9B55-0E1C3B4A0A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4FF91-76A3-4DB7-BCA8-725044FAB7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B45AF-0738-4E0F-82EC-3D1A351C85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BF3A-B436-4694-B4DD-AD21989527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B2119-16E4-4834-B712-74AE6D700C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3DBAC-B9D6-4F3F-9C4F-982DF30A9A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E5DF6-DC90-4BCA-B211-62C5DA1D9A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BD877-E87C-42AD-88F7-B981C8972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B6CA-2475-4856-B496-1D57111FD7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92C99-BB45-4821-B289-65EFE08FEF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BED-676C-455D-B2BF-703991B3CF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3715-E723-4DC2-95E9-EC2AD5F4F9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7A0-E3AA-4B7E-95A5-6979F1E298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CAF-0DA8-488B-8980-CFFCDAC09A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E298-E0E0-48B7-BC59-9D600CC0BC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96A3-38DB-4AE3-ACA6-71992DDBD5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522D-E555-481E-B321-174AB7D119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DB3B-A647-46D0-B468-E07ABA1F78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781-0A42-40B6-9ABD-343ABCD5A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1DBE-F043-4EFF-A21C-A0710937F2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8FFA-D21F-49D4-9DBB-2188E6581A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DABD-7B78-479E-BF78-D9512BA47F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5F6-FA0F-4E9D-80D8-915A5A646B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AE605-6C28-4B00-BB08-1008913B39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10602-5B1B-4420-886E-54368536D8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8BEDB-A5EC-47AF-8739-F7F53ED60B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871C8-7842-4F58-99AB-0D8505DE58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CD12D-99BB-4CF9-8669-EB824AD997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39D11-F8E3-45EE-8246-824DDFA769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1BDD4-203A-41E0-85EB-398193869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F875-9997-4442-8268-CEF7EE5895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DF34E-451A-4D19-A1CA-A7CB47ECD2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1C74A-097E-4483-98DF-BD8425D034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2D7DF-4A6F-436A-8D8A-A86AB53CB7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3170A-C8CF-4D6E-AD86-79E09753DE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9B32D-D3A2-4229-AD45-17C9C06BD9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B1C53-AC6C-4CAB-BF33-1085C674D2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11A2F-E01C-4402-B1A9-74A567EA2A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054EC-FF16-4132-AF1C-60CD095A85E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4A45F-08D7-4C14-94D0-BF2BADED4B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BE163-B255-4DC1-B85F-8D143029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63BD-3851-408A-8C31-2CCC6CE00D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1A981-512D-4880-B2C5-F533A87482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06ECB-9C28-4A59-8F45-1637FB7673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A1BB-797B-49C4-A29A-2FF6021020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435FC-6FD1-46AF-B2F2-40CC9ECE86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6133A-C07C-4966-85CE-1389BA13575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EEA1A-C743-4C7D-A9ED-A58C81043C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DB5F5-0CE2-4BF5-B272-964C877DA9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F4B1-C562-4E12-95CD-2FEFE28934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9B0D-3B96-4CEF-84D4-482ACA44AD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2F0D-91DF-41E1-8244-637B0A506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D04846-5FAF-4B28-8AFC-F99C80EB664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4D16B0-CF30-40E0-B16F-770BB16F30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5664EC-AE1C-40A4-B478-790F1375D51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15B3F5-AEF8-4DFA-BF95-7299389DF39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F66FBB-6D6D-41FC-AAED-63E143E43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88AD05-6324-4B8B-9829-414485D6656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5A9A09-28AF-472A-ABBC-B1E68CCDD3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DD8407-564C-4A7E-88FB-0C64A091E2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1DFB61-B8AE-4BCF-9E7A-4D1FE582AF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3712A8-78DF-4DB5-84FB-ADDFF506F8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30F2EF-0903-459B-B45D-B58A7D534A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5D2F52-0F37-4C22-A7A4-FD51C8715E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22E2F0-DC9B-43A7-9FB5-D215D9461D7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16:07Z</dcterms:modified>
  <cp:revision>157</cp:revision>
  <dc:subject/>
  <dc:title>Παρουσίαση του PowerPoint</dc:title>
</cp:coreProperties>
</file>