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68180-B880-44B0-AF7B-D9FAE7D13F79}"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C01A1-DD48-406E-BFE0-C6E7BB90B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62588-BEF4-42FC-BF23-4998972EA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F5FC4-58DD-4DFC-9F18-A62741ABE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6C9DA-7ABD-4A5E-9967-7649DA488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ED33C-BA99-4DBC-B36C-F94C33FE3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559AE-8CF2-440C-BE9C-CCA98C24D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AC033-48F5-44A5-8D21-E25DE49C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E2AB4-2C32-4B14-B590-DE712C02D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4C54C-08DE-4C38-B872-D695C58B0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778EC-F9BF-4662-AEC2-B87667188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D11E7-A392-44D5-A4F3-F1100E248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49639-1E64-4EC1-9FFF-70DFD53E8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9F675-7FA2-4403-BF47-2E8ECE56F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0DAD0-792E-4A24-9F23-C8E801392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BCD34-4699-47B4-84D4-8D41CA6AA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80842-1E8C-4F77-90E0-3E4DAA09F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D3360-3F35-4D60-BBED-EE62F8370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5F5EE-593E-4B50-955F-9B76600BC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077E8-C937-4E09-B517-4961B4A4B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DEFA7-34C8-4A18-ADA0-B04E7C85B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E81AB-ED4B-4A1D-9C33-5A1D4BD0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FDE25-85C8-465E-9E61-152CAECD5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59EC8-63C9-44CE-B8C4-3CE8BF23E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BEA8C-6396-4DCC-B71F-94F8E7D0A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4979E-444D-4C5F-B5AC-54907DAA2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2D64D-D507-4D60-8E96-18F4A067D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21C37-2970-4EA4-AF96-37A480DAF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D53A9-9BD4-44ED-8018-512FB152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A4A0A-4B9A-4C83-89C8-B48BA331C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2839B-9980-4B53-8ECC-3678DF7D7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70CCE-9443-4681-A765-F4E2C3C4D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9DF7B-B2CE-4F7C-AC16-9D439B506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4CBBE-B9BE-410F-A470-9F32067FD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01626-11E4-4723-9711-BA1DC89FD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0F135-C10A-4091-BB4C-9E5A13F35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201EC44-94CB-4AFF-8A6B-B21B61A1AB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4914EF6-7910-4FF1-8EB4-4BE45E4091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2049082-CD6C-4A92-8383-24E40AAB5F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EEE8C3B-21B0-4216-9F0D-F9C6E05289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BA55C34-ACDE-481E-B2B2-4953B13A2B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F77C672-F637-41FE-8929-2B487539F8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2DAD368-8495-4990-969A-459528EA40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B0F7209-20F5-49C7-8761-43D3DEB2D8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AA5E4F2-4031-4898-B093-0B541974EE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4B366850-B7A6-470B-8463-F822830150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38B2520-23F8-4B76-8B5E-5DE6059F2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09F106A-707B-4536-9FF8-14782924CFD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B26F8C7-1E1B-4D09-881A-ED353D22B4F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6E55B05-1D16-440B-8CF0-9410A17012C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67F01BE-DC7C-42E3-9B80-F6245F5499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771FABB-A1CE-4246-A759-4863D1C192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84740AF-FF5A-4BD8-B660-10E5063A8A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6776949-4259-4AAD-841A-A5D733FE6E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D75FBD6-A319-4637-ACAE-3C659B7E532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7CD1DFF-1295-4FAE-A2CA-A1E086F5D1C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338247C-F21C-4B18-996B-8B52B3C0F1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5A1D513-7989-455E-B928-77400016F1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A15755C-639F-4802-BB05-C7B2214308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020C4C2-99C0-4AD9-A823-C8B29C8A05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F77B8B-E9BE-4CA8-963F-1FDFEE4904D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F8E6D73-73CC-4C99-962F-EC839D510BE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2EF15B8-C053-4B14-A051-E821A497E15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8E28397-C290-48F0-852C-E72FD2C6EE1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3CD568C-717D-4028-8DF6-8AB0734DE8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9D30C10-550C-44E2-B901-DE2F7D7873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1375A13-2445-48DA-8C2F-9732C32975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C283145-B1B2-4C4B-BB64-CB2DC213E6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1DC4501-9ABB-4209-821D-E3DDD4071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E7D84F-F106-4413-B9D2-C5DC2D164A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C2BAF7F-83D1-4D48-B65B-D1C2693C8C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25066674-BE3D-4819-906B-F68C84D3A2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C8D90C2-0042-4751-848E-3E3620EF9F8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03EF921-B70D-4C6D-BCA1-A909D5C742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7093028-3AD4-47E0-BEE4-1045B63CD8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FED2427-5C46-4385-A128-C5C8F9E08C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6BB1836-7350-48B9-B687-5227FE247F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20DA037-8324-44DC-9535-868C21E007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72B8656-08F6-47E4-A6EC-4A5BA24D4CA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873EBE3-FF60-4B4C-9204-C5BE9FBBB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259E03-2B5B-47D4-9852-19B51F299B6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C844192-8602-4124-8C90-9914BFF127C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A3FEB91-0D7E-4522-9F68-641983B1CC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4B1EDDD-D089-4E4A-8006-9FA3BFABBE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18D70DF-B547-4250-9E52-5068F7ECF14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B62DBB5-24AB-4B55-8FC0-44D4FCED82B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852D1CE-1D7F-4B11-AD3C-43544D384E4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D50F22B-DED3-4344-AD5E-4E2ACCE5B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7F33A98-7989-4BC7-AF53-B51B400C2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9EBD692-9DEF-4928-BBF0-96D7991F0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662F89F-3D56-45F3-9438-DD86C58A6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F5F545B-071F-4E73-8817-9180D428176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49FBC43-554A-455C-A3E5-FB0E03936D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F9E7653-F74F-4155-AED8-27E1AE974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215496A-E775-4601-B37F-8DB4FED52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3088D67-4017-4AC7-AE1C-55EDF01F7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4A1DCD8-CEEC-4D0A-9156-A11549C77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29C0AB1-A2AC-4488-82AB-E72D57E04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80A43E0-AEAC-4AEC-8FB2-D31FF15D84E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473495D-4AC0-49CF-B16F-7C060FEAF5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927A6F8-F3A4-4417-BBCF-0FC4CD8C3B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6473113-06D1-439F-A20B-FF109A6A2E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43C56BE-3590-4541-8BCD-38F3A0F2C2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3FF1973-270B-4693-A924-F69D3FFFC7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A445914-DE61-4686-AA3F-DD35D653C5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13047C-5386-4CE8-9D59-725D78571B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3EDA48D-1C0A-47A5-8342-A327BCC080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59DA90E-B879-49A1-B267-B1282E2739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07853EF-8797-4E48-91DB-6565596B08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C0FEE9-2AE1-41E0-8F3A-116AA7D303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38B07D-DAF2-44F8-9B4C-FF5781CA19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04F70-CDBB-4E55-89C9-9564770FD8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4248647-39F8-41C2-9393-C63743348F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60629A-2F6D-4AAF-88E6-113E3AA19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97924E-D8FE-445B-9A02-D997625F40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2F87B23-7A67-4167-A87C-5C946CFC86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BB9FADE-3451-4348-85CD-DAAB93DB84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045A422-D8C6-4638-AD04-D6D156D734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5B5BD32-8793-4A00-9B55-326E4647CE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34036AD-5247-4F2A-870D-C792118AD2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E5D66D0-6831-495B-A10D-08EFBE5EC1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3E2D2BD-1BBF-4792-92F1-F7C26BFD64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B77DC5-45E6-46FD-B8D6-AF74A4864D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949E792-F600-46D7-888E-980FBDF743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7D2EB17-9803-41CA-A4A2-2C21F2F8CF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9C3598F-D3FD-4BE1-8BD7-4BBB5DFAE2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C829A89-44B3-48A9-B3B8-14BCE8267C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D0E4EB8-653C-4BB6-9372-CE75270804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DEE8572-93AA-485E-A720-949B600254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ED50A53-9075-42F0-867A-A80D156C54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B9964CB-D5DA-429A-AD5A-0A85E6808D1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D39DF08-38F7-4C82-AFC9-ADB3032B00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E361718-9483-4FE8-A0A5-F7EE94248F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DC249A1-2D70-473D-8927-69C8243FC0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CC32DC7-ED77-4425-9CEC-85F03855DA0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391290F-BD55-42FB-B23B-D0A1BEEA5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4870357-78B6-4055-9FE1-98E52EA3CD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E03716B-93BE-4B1F-9E38-F03A5237E8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F07E860-92C0-4609-89E1-456FB6990A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004ADC9-F458-461B-8A93-FBCC53AEF3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AA000E3-F295-40C1-878F-FBFEB4AFE7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BD19C78-861D-47C2-8B7E-454DC1EBFA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4949282-A04F-4498-BBBA-47C46C8DF59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1167E13-6555-4EEE-9F4A-BFACC8E0DB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863A4E-29BE-4CF4-AAEF-1AA97882FF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F487612-1751-4AD5-871C-8AF9611500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72F6F78-C539-4196-BB5C-B86C80966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7F8A840-AF9E-4325-89C7-CA7F56ACEC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179F4D3-0203-4E82-811F-7D234B7FBD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871FC0-D379-44CA-956A-D2CDCB9DB0A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A88A911-E8DF-4F7E-9577-C8050C6225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0933F5C-9FAB-4826-885C-492DBCEC07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AD0F055-715A-49AE-818B-5E0BEE0372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498CAC7-8153-440C-943F-BD27689442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47D517D-B4AC-432A-B9AB-7F6B9A784F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F70EDC1-D258-4F88-A210-E8F5599B4B7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FCB98D2-26C6-474D-B71D-8A18A37B8AA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FF4CD44-2DA8-46E8-B88A-494417213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30B6A76-DB6E-418D-A5CC-650A4AD2CB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4622C4E-690B-45F4-94B1-4610F2055E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8C7B2F75-0E85-4DA3-88FB-BC823220FE2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9FE91FD-77FB-4994-A083-3D35EA89239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3EE766-D2F6-4999-847C-80781FD0D45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4C5096DF-6BC8-407A-9D45-76F3B348F46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9A1F997-F4CC-4C23-9375-EF8756FD0F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6F4B958-CDA3-4201-BA33-8922E16D09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A985FB1-893A-4436-9329-010797B365E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7B1062C-C028-4193-971B-EED02AAA68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C93D2CD-6932-4FEA-B6B5-30F4BC67E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BD38594-23E0-4A50-97B3-DE138F0806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491FFC1-2A5C-478C-A14F-0FD527ED137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D29E11A-BE2E-44F0-97E4-5E51689CFB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7D53A4D-D9A2-4513-B8CE-B27488DA6CC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98D7955-536E-4129-A5AF-9581CD382D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223C166-12DC-4FB0-80FE-564B9C40565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1378A2-67DC-4BCC-A746-5F1C2CF158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33A18C9-445A-415C-9562-91EF3FDD6A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9D5A0E6-4BA2-4F31-ACFC-3E7B2490099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A5925A5-0ECC-4703-A30E-7704A30BBF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1CA89BB-2B7C-496C-8507-74F319D0F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23CE09A-8B68-4A7A-89B8-419D2082A5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C350F27-84E1-4B10-8857-44FB1C11F9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41D0C6D-BF69-49C4-95EF-1741572B83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9206283-8511-4981-82F4-CDA787895C2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EF745C-121D-43B3-B5DB-372C4FF561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DE9124D-44E4-43B5-AA74-9B3893A3B7E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B7C7E31-E87F-4387-9389-CCF905D154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BD6EFAC-46AA-4E0B-88C0-89C80325C4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7220384-6820-492E-A774-F911E28147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5C81AB9-589A-47AF-8ADA-682998D290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3A808E4-9039-486B-8D1D-090684852F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F50A9-E51C-4AB9-B20A-6659CAFB36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D9EC1-D65E-4102-99E0-703D63776C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0B075-8A09-48E7-879E-212C9F0FD4A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DEFDC-B7C7-4276-A86E-B1775BA1A1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17661-0F22-4AE9-8018-47E15C4E620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B3542-B13A-4EAB-8ACA-59ADFCBE3D4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6373B-28E7-4507-BE47-FED9CD6E3F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54798-0D45-4634-933E-C2415880C1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34C83-F0BA-44FA-A449-1CB015930C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F5063-0D52-40F3-A854-0D251F8DD6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D418F-C58A-4F68-958D-8C39D035BD0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90997-4B26-4842-B95B-F860416A44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38C26-B2BB-46D4-9A1C-F3216723FD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85840" y="1071720"/>
            <a:ext cx="8534160" cy="47131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57120" y="1392120"/>
            <a:ext cx="83581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00040" y="1392120"/>
            <a:ext cx="79596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56" name="" descr=""/>
          <p:cNvPicPr/>
          <p:nvPr/>
        </p:nvPicPr>
        <p:blipFill>
          <a:blip r:embed="rId1"/>
          <a:stretch/>
        </p:blipFill>
        <p:spPr>
          <a:xfrm>
            <a:off x="0" y="0"/>
            <a:ext cx="9144000" cy="1368360"/>
          </a:xfrm>
          <a:prstGeom prst="rect">
            <a:avLst/>
          </a:prstGeom>
          <a:ln w="0">
            <a:noFill/>
          </a:ln>
        </p:spPr>
      </p:pic>
      <p:pic>
        <p:nvPicPr>
          <p:cNvPr id="857" name="" descr=""/>
          <p:cNvPicPr/>
          <p:nvPr/>
        </p:nvPicPr>
        <p:blipFill>
          <a:blip r:embed="rId2"/>
          <a:stretch/>
        </p:blipFill>
        <p:spPr>
          <a:xfrm>
            <a:off x="1258920" y="2060640"/>
            <a:ext cx="1297080" cy="1528560"/>
          </a:xfrm>
          <a:prstGeom prst="rect">
            <a:avLst/>
          </a:prstGeom>
          <a:ln w="0">
            <a:noFill/>
          </a:ln>
        </p:spPr>
      </p:pic>
      <p:pic>
        <p:nvPicPr>
          <p:cNvPr id="858" name="" descr=""/>
          <p:cNvPicPr/>
          <p:nvPr/>
        </p:nvPicPr>
        <p:blipFill>
          <a:blip r:embed="rId3"/>
          <a:stretch/>
        </p:blipFill>
        <p:spPr>
          <a:xfrm>
            <a:off x="6948360" y="1989000"/>
            <a:ext cx="1444680" cy="1573200"/>
          </a:xfrm>
          <a:prstGeom prst="rect">
            <a:avLst/>
          </a:prstGeom>
          <a:ln w="0">
            <a:noFill/>
          </a:ln>
        </p:spPr>
      </p:pic>
      <p:sp>
        <p:nvSpPr>
          <p:cNvPr id="85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6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6:39Z</dcterms:modified>
  <cp:revision>156</cp:revision>
  <dc:subject/>
  <dc:title>Παρουσίαση του PowerPoint</dc:title>
</cp:coreProperties>
</file>