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648BB-57B6-43D6-88D9-60456869EDB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8D3DA-AF04-4087-AF9F-51AB221C2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AFFE1-F97F-45A8-8C42-DAC56D89B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5191E-CEBB-4DD2-8CA4-6849D320E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EADCF-B82D-4AA4-9971-1C7BE838D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20BAF-7938-4737-8ECD-19755CB14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C1CC1-4193-4402-9E1E-CBA4646C2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5081D-C0FA-4BF4-95E8-7BBC72A79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29359-8ACD-412C-B78D-C75F34320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1E3CE-EF9E-4867-BA4E-C6F799F33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8A7B5-5821-448E-BBE9-56B3A1215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A146A-C581-4AE1-9A32-955D0340B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620DE-0D17-4E27-999D-4994F3C02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E99B0-5077-4381-8D23-EB6C9ABF8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77EE6-172D-4887-B287-C075320DB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99200D-93B8-4AE7-BDC1-EA0BAEECF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86AF7-BC12-4537-B85F-A9152E2B8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D3D70-AB18-4E03-B349-5EB37B554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31F48-FCB2-4CBA-A161-B5F7297C9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23665-177B-4AD5-9728-544B96B3A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8E550-2684-4B88-9040-9885DC982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6EFEC-FF13-481E-9D28-B17F082E7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FE953-3144-43C5-8A1A-F070623B2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AB87B-E723-431C-8858-F7A83BF73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40F7B-6490-4148-A472-6F3281D6B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AD63A-1466-4F0C-9A26-2F8D0D2AB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B3061-0880-4D53-A519-99BBD05F8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11541-93F9-43A2-A45C-741604E83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B7DFC-7836-4066-B277-2A7C4858B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6C86B-7F17-4B3F-B191-4151BCA83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8D9F2-AEFC-46B4-B63D-EEEBAF065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159A5-1648-46F9-A1C7-AF81C64E7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094E2-D1B6-4C72-B33A-536CBABFB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4858F-C5B1-436C-8B24-C9A344F79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D9904-C896-43FE-9683-56928DBA3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DBD6B-5780-4E39-AB86-EB525B127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E111B-9CB5-42D8-92D7-719A04586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CDC5E-1421-4110-93A6-45E50AE77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A2E5F-AFFF-4919-9310-4B8F44ECD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64B74-4C77-4058-83E1-C83F5C156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2C0A9-4C94-48ED-833F-5F4BFD700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82798-BF74-40B6-9958-04B4CFBD9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1D940-8698-440A-891B-1DB390DD1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BBBB8-988D-4B31-9E11-F065B1FB0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844A6-77F8-4364-8907-28FF53574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FDA80-DFA6-49A3-AF29-9687BB3D9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69427-8EC5-4AB2-B0CD-C0EC6108D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3A55D-1047-4024-B474-C837A0AA6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C1832-6654-4F12-BD31-550C61107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5357B-1F8D-4C27-9559-72702F66B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F905D-9955-4FEE-BEC0-EB1DF9C7F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3E53E-B543-4053-AB2A-32B6F935D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C9359-45F1-43D2-960E-D42955BCF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54DC4-1A36-430D-8B4E-D1B240908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901D0-2454-442A-873D-46C6695D0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15FB24-BD3C-42C4-A867-E92D39F05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D3288-58E9-4375-A7C2-C0B23F3D2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A62BA-3B22-404B-A0F6-3F0F087A4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EFC36-417C-4E4B-9034-0D2387C94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D14ED-CFB7-4052-856E-013B0E88B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75647-EF85-4DD0-8DCE-95B8B9156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17CAA-B1EC-4E4C-850D-EAE7C8685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295DA-F7DC-4072-836E-74FFE219D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72C68-247E-40DB-B597-763935C6B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D263B-655C-42BC-BB8B-A00B08796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EE7DC-A7B6-47FF-834B-3271E01CC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FB612-AAD5-4FC0-BEC1-5D70BECB1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22E70-537C-487E-BD40-0D17ECD0C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FCE00-6FF9-4F39-98FE-731CE854F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E4A0D-81E1-45EF-9EC0-048DC970B3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42B3868-A73B-4BB6-AC88-40856F1588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E790245-AE7D-4551-827D-4DE918AD4C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C6239E9-6C75-4A43-8725-E431C639B4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79DDAEE1-25DC-414C-A239-360E8599DE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35DAC8B-D502-4BD5-B5D2-7794A48C1F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988BD20-1AA1-4B13-83E1-CD7A9E8CE8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48FB566-529B-4B9B-BA0C-0A567C0E55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E390318-0857-4FBB-9730-4A25A05413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DEC37D6-1F96-46B5-B930-C3E37319B32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E1041E0-F9C7-4E6B-8AEE-EB98C10F50A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82D370F-362D-4477-8B51-51CAB1023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491A5DC-C413-45A5-A38C-B32DF6740F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46BEAFC-1832-423E-A54C-1F368DE2B74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1F096C4-0424-436A-91E8-EDC659D605A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B03EE71-88BD-4A96-BFC7-E1E6F97DAAD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BD3AFE0-63C6-4182-AC23-BCAD2CC3EAA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B4D3576-4BF0-4BE1-94D8-641B014E3F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6F6CD48-1556-49EE-94B1-82423210EC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BAEA702-E5AC-4598-B4AE-E303466DC2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3C403B9-3BDF-4BCA-A8D2-8FCC4264FA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61B3EAB-0021-4481-837F-F60DF53A33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CF1D43C-C4C9-473F-987E-B698671EAB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BBC3049-2FF3-40F3-9561-14E587CC9B9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AE03E15-D11A-4863-ADC8-5B33104BA9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67B3046-482B-4B84-B2E0-4A1AAB32E5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13C0B54-120C-41A9-8CEB-8F3777FF884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A4AE73B-D9B5-4C18-8171-BDA8EFF60D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E0CC72F-F601-4EA3-9937-B9622B36784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C9D22A5-F047-4515-9D8F-0CF14FF587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ED61795-FE19-4106-97F1-2DEAD4C7755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35AFB1C-6115-46B1-AAE6-5D29922E743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66A9603-A401-491B-8222-881CEB1EBB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1461CFD-04FB-4295-8501-4B87D63B5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F4A6F6-C8AC-4A84-B3B9-C47A11C93EC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C5D7B23-26E5-459C-BED5-00A1349626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06BD218-04D2-45A6-9289-14B6AA0C98B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3664FE5-E41D-4369-AB33-31EAA5FDD0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2BC2059-06AF-4059-A9C0-7F0F0130A2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62CE3E2-14CF-44BC-BD5D-92D38CC8D4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65DB25D-6178-48E1-B494-A00DBF28A9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EAC3B2C-9670-4C2C-B969-4E134338E8E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1D37036-24E3-409A-82A4-A1A4DC26558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6FFE677-387C-4A8E-982D-52E79C8512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571CF58-AF6C-43A4-ABA2-45E9B5E140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1839734-3FC8-413A-BC8E-0583C16428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3AA7920-334D-4A35-B57A-5A13A7D4AE0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02063FB-105D-42A6-BE29-0216D4D8F6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76575D8-18FB-4E2B-9DD5-4735C0C258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03B6AD6-A1AF-4B14-BAED-1AD9C50A69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D7DE376-C2CA-40F6-8E80-7111D2F177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60DB6D9-0F3C-46B8-8A53-0A69102E072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0F6D4FA-183C-46E7-9F8B-C7C449CF0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BF84E8C-668B-4ED5-9D7C-4B0AE06BE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1EC1F11-1B75-4AB4-8539-160B30DA8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5F1910CB-E33A-4B0C-B266-BD050E4AA4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BD131F-88BA-439E-9E09-41CF621837D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AA9B8E5D-600A-42E0-9739-C6C5130D6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DCE0E8C-116E-49BE-BB1D-4D5068063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67E7005-30E0-40F6-89A6-B8CFF2C65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A771BDB-62C2-44C1-9629-C6F95B6AD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5A7A83F-0D70-4CC2-A344-152526B64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69CDD67-B4ED-421A-9FCE-C99C0D8F9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28374C5-AD40-46C6-9FF2-0E495427B89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5071CD4-151C-489B-ABE5-8F26339F0D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3D45447-BC3F-476C-8603-B04A8A93F0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163CE73-5DF3-4434-AA87-FAC80058BA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C93D236-A9B8-4AE5-8074-597AD3E772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2C6A7FF-F7C1-47EE-9525-73FBD7375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6B66FC6-9964-43F1-9670-E0399BB93B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847DE02-DC93-4140-9C57-739E4E649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7293348-C544-4414-95DA-EE834AF2D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A0E6880-6D2E-4428-81FE-F4648B03F8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BA16708-1456-4993-A7DE-65ADC1AD339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533B50-68A4-4696-A2FC-25158F0F42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39E9B0-4B52-482D-8492-43B8403C6F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B84B7F-D042-4925-880D-B9CF8BF95F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824BC0C-3403-4D99-96FC-E73C68F76F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779D92-1B42-402B-8D01-71D90BBAD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CF5F62F-C229-49CB-B435-C1392667CB2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E224A1C-27E0-46B5-AA3B-0A83A31D27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9EA4981-E309-4E97-B685-DB241B0378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F48B836-6F54-4607-BA1D-C25C0DCB7F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254CA48-FEE0-4882-ABE9-353F0E940B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2C3103C-94C5-450A-8121-35F44834B4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186145D-8AC1-4776-9E82-EE648805E8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B2CB39D-1D54-4867-A1F2-A9A4CDAFFE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5483D4-CB10-40ED-99F9-C4EED076C57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2D72486-B7D7-45C7-BF9B-3CE72A62ECA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87CF67C-05A1-464E-B975-A051AAEEEB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A2D6B6-52A5-49DB-80DD-E0AE2A1955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D779BBD-2DA4-40AD-AF76-201DD56CB99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0E83CCD-7F17-4CBC-AD46-5C2AF34BEF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0E35C5E-AAAA-4309-8698-A1DFC85D3FC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1885B78-4700-4850-BE7C-6D32D78789D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D77B0B9-3CA2-404E-8E71-F04439CA0D9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487C827-021A-47F3-B6E1-1D141E73D22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3CDCBC4-3DEA-4D87-A3E2-EC451247A3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FF36A05-92B8-46B9-8037-ED7342D3F57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03AEEE8-A701-422B-8D59-50C12E7FFB0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61DED69-80EA-4EF1-AEF9-9377A6A760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913FD4C-AA14-4F7E-ADCB-1128AD3CD4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849C578-FFFD-4279-B369-9E8025B984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214836D-4339-40F8-BA93-BE3D6D3D0C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D7747C4-92DB-4D79-8576-72572346D6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0913BD0-C75A-4016-AE97-3132C29652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FF8D074A-6296-4C2F-8144-AA4CB70E2D0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9404C06-DBDD-453B-94CC-D88B7B400DE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F47F70F-849A-49F7-B067-A9D63B4E3A9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98E57AF-22A8-47DF-809A-7A888DC57B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1A18D63-5ACF-46AF-A06A-9D31615B8C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745BBBF-242D-4BEF-A356-2B3820667E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2567222-59F9-4765-AF93-CF55E6A44A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F3AE1512-E9CB-496A-9EFE-DB93B28485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46FEC3-E8B8-4ADB-9011-D83E93A38D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02653C9-CA7A-4777-991A-C904B85238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073690C-1B3F-44B7-A7D8-F1A71D1A64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15CF73B-EA3C-456A-A2CB-C094E47527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D5F27FD-84A7-4DC7-904B-C12E66D5A4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87BE8D21-F7BB-4B92-9142-766C3D5666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3217E6E-CE79-49ED-8280-B1321D34BE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F4DAEFE-22DA-4400-BF8B-05B3C546F0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08236E2-B854-4E5E-9275-346F007E66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7D6B374-9BBC-475A-85F4-8DFECA3BF4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9CB56FB-E7C1-41BF-BF73-414692503A6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1552455C-62E7-411E-8742-331CD6AD5F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8A20F39-A90E-4541-A994-80B47FEC25A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101718D-3ABE-4AA9-A8BA-7AC7A33564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422B76F-B0BE-4B0C-9D37-47969E633C7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4FA2F8D-ADB8-4512-9CA1-2AD21DE852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6CF8F73-39CF-4FFB-A3D7-FBD42C341A4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D8E562C-E831-4E6C-B855-E48852D039D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5E6E84F-B4F1-4E09-9D17-C301409E31B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4267974-B552-4A5B-906A-AFCAD1D976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4F42B83-54F8-48BA-B048-F6A22A1117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8507CC9-F123-487F-9961-6509EA1C2D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0A85BB5-8E26-453D-BE57-BC85F224A45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1FD2035-40DC-4771-AC32-DE8874375B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DB09E90-6636-47AF-8F24-14811752C9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EC89E26-7CD6-44C3-AC63-B0D7FBD9C6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507022-BEA4-4F11-A166-36D700FE844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5A4E21B-397A-4C32-BAB1-FA0BC1B600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CE3F329-EEED-4D18-BCA1-B7E860B949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9A1D2A3-E5F8-4B8F-A84F-860570A212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6E9EDB8-4399-4C98-9A02-5F91EDF58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C5ABE0D-6E40-4942-B564-0A286927E7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86772CD-0C4A-4543-B3C3-1CE1B23AF6B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BA9BA02-DCA5-489F-B769-55AE90F60D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5B413AB-4E7F-494F-802D-AF46DF7ED1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C2A3B2B-5E52-4808-93BA-976E9169A3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5931466-A40A-4BB8-BE9B-BF60127A3F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9A1D3B1-B906-4D01-B89B-F76447FDD4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16C363F-BAC4-45FA-829B-92CB1D9C55E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92A82A9-6FB8-453C-AABD-183CEF52DD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B0FCBCF-A609-4C29-BFE0-C5C46A67CD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42ADF05-C2CA-4BBE-918F-A2D24A5E2C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DE371-5FEC-46B7-BA14-9AAA296E01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CBFE0-F134-4B2F-AF7A-356681A3A3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165AD-BC20-4D87-A5FF-D198949693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5D515-7891-4E0C-8BBA-A9FE3DA595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B8768-E9C7-47A4-9F7B-459A738710D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293C3-ADF6-4FE1-A8C0-D1BBD77713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3F376-B6EB-4BA6-B894-9F458B5AB1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0CCBD-329E-4407-8BA9-6A605DE002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E8008-4B25-4419-BAB5-ABF72B93CE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2F6AD-0F58-4EA6-A3EE-1C8E41D996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08E9D-01DD-4CE6-BDEA-654DCB295C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10F04-9B45-4577-8EF3-26B62C76C5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33006-F73C-4A4C-9D8C-E4E7C13F7B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125360"/>
            <a:ext cx="7812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26920" y="1125360"/>
            <a:ext cx="799308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981000"/>
            <a:ext cx="8642160" cy="4680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81080" y="1392120"/>
            <a:ext cx="8783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250920" y="1052640"/>
            <a:ext cx="8640720" cy="4659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62" name="" descr=""/>
          <p:cNvPicPr/>
          <p:nvPr/>
        </p:nvPicPr>
        <p:blipFill>
          <a:blip r:embed="rId1"/>
          <a:stretch/>
        </p:blipFill>
        <p:spPr>
          <a:xfrm>
            <a:off x="0" y="0"/>
            <a:ext cx="9144000" cy="1368360"/>
          </a:xfrm>
          <a:prstGeom prst="rect">
            <a:avLst/>
          </a:prstGeom>
          <a:ln w="0">
            <a:noFill/>
          </a:ln>
        </p:spPr>
      </p:pic>
      <p:pic>
        <p:nvPicPr>
          <p:cNvPr id="1163" name="" descr=""/>
          <p:cNvPicPr/>
          <p:nvPr/>
        </p:nvPicPr>
        <p:blipFill>
          <a:blip r:embed="rId2"/>
          <a:stretch/>
        </p:blipFill>
        <p:spPr>
          <a:xfrm>
            <a:off x="1258920" y="2060640"/>
            <a:ext cx="1297080" cy="1528560"/>
          </a:xfrm>
          <a:prstGeom prst="rect">
            <a:avLst/>
          </a:prstGeom>
          <a:ln w="0">
            <a:noFill/>
          </a:ln>
        </p:spPr>
      </p:pic>
      <p:pic>
        <p:nvPicPr>
          <p:cNvPr id="1164" name="" descr=""/>
          <p:cNvPicPr/>
          <p:nvPr/>
        </p:nvPicPr>
        <p:blipFill>
          <a:blip r:embed="rId3"/>
          <a:stretch/>
        </p:blipFill>
        <p:spPr>
          <a:xfrm>
            <a:off x="6948360" y="1989000"/>
            <a:ext cx="1444680" cy="1573200"/>
          </a:xfrm>
          <a:prstGeom prst="rect">
            <a:avLst/>
          </a:prstGeom>
          <a:ln w="0">
            <a:noFill/>
          </a:ln>
        </p:spPr>
      </p:pic>
      <p:sp>
        <p:nvSpPr>
          <p:cNvPr id="116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6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01Z</dcterms:modified>
  <cp:revision>175</cp:revision>
  <dc:subject/>
  <dc:title>Παρουσίαση του PowerPoint</dc:title>
</cp:coreProperties>
</file>