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2EEE67-A758-42D8-B5F1-D5FEF99B850C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8E76F9-B9E8-43C2-BDE0-F13B62B69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43D369-3FEB-47A8-BE50-B414390FB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7C2B74-69E7-4CBE-B409-4FE943DDF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B0F450-4C03-44A0-8A50-5EB8CF8D0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6A12FA-19BD-4498-AD57-7A1E19EDB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E75577-BB33-4A33-BB32-F6AC0F715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4DA0A2-B256-4D5C-97D0-4EBBED89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0AB779-8853-43AF-97FA-330757000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1B9CB6-4A40-4538-8762-49DE9FD39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757AEA-FE01-48E6-80B2-DD9609AAF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4A0DF3-A370-4524-A66C-5B075DCBB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FBD8-13E4-4DFC-8005-56DF4D616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EDE0-FD31-4E2A-9EAD-A3E85286692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D8503-FC7B-4553-8A34-D92F4C1F6C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67D0-9076-4EAA-8CB7-37A2214E8F3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42C7B-C29A-4D58-845B-B43AB904C21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9C2D-FD23-41DC-88EA-B8E4FF0A823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F3DF1-FCCB-43EC-B892-BD7049DA6EF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F864-8D33-4FCD-B74D-0E5FE10E20F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454BE-75AE-4299-937F-934918EB96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13E8-EE11-4890-A7D2-9415D3B1077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0695-2385-4F0E-ADE6-E6E7BC59C90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C7AC2-A5C0-457F-A5F4-0F83364BB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4B3D-4966-414E-A483-BE14EC4D407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4089B-1A05-4970-B502-05C7A447B03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039A8C-BF33-4282-8583-4E98623FBEE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A2EA70-0D77-496F-BFFE-82102190FD5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1CE8B-9EB6-4B45-8063-19284C801DF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E8F0F6-2958-42CA-8A3E-70FB8C60B04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B8516-C1EC-483E-AF5A-26AF2502182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65CD10-E3FC-4845-B8B6-DC9A1DE088F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E3D24-A715-49BF-8410-226C5386DEE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6DF60-7C6A-4A1D-B0BE-5724624B830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5A557-131E-4A61-9DC7-71A342D9B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01E4-9571-43ED-9B22-1EEF508168F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E6231-106C-4FAE-AF98-DBCBD639242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03863-4DA2-46B2-A042-711885C0630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7F3EC-AF2A-4914-8269-71C2211C93F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7900F-0FEA-4FEB-9D35-89658D51A6B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9D95A-B381-4375-9D0C-294BA753AD9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5E35C-8458-45D1-9987-3C519021507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22F24-9F00-4FEA-86B7-E5B8EA8E23B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A1346-EFFA-42C6-9BA6-895099E5DB6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EB209B-139F-4249-BD86-4D7515F1EC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E3FEC-105D-48FB-A65E-7196D0322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3489-951F-4C62-882A-D11584F2DFA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FC171D-0211-409A-BBD5-21874E0E3F5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B4A131-1244-4848-BF78-593F766CF46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15A71-3814-4AC8-BE5C-D4B1A8D2208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BE925-2200-4B79-AD9E-A5041856D01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2F263-5928-42E9-BCDE-97EBED629B5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3E65-D65B-4821-BC9A-27FF5CC7266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62EE6-F7DF-4247-9A0B-DF66DC145D5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0F7BD-2F0E-4BA0-B6BF-B84E158475A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B5F2A-F09C-4499-A4DF-0B1891A613E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4A1F8-E5FE-4F02-B2AC-C7D4AF6D7D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B38C-3EB5-40DB-8F22-E53BEC76D85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F1CD7-90F3-491A-B547-3632283F805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3A651-71E0-46FA-9C31-CBD66B1FDC3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91794-C29D-4198-B7D8-0B935CC42FF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07934-2546-4FC0-9516-35D2BD3AB5E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20EF-E4AA-43C6-9214-C0787CAB7B1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1BA8D-69DF-4D04-8963-5263084E83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C8C08-51F0-4D2E-9CB6-1B578DA9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37ECD-7152-4A1E-BA98-727D9A4D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C6ED3-B56B-4D67-A331-A8D683B9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BA672-5F12-4164-A25B-E9E4E01F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836A-B2CD-440E-AA24-84EF94CA68D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67D02-177D-4BD9-8287-9B5A2FCD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6815C-AF91-458B-8007-BA82EBD2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2C710-FAB2-47E5-8923-500BD09B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83B8D-34DC-411A-9643-61DD26A9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8439F5-3C7C-47E0-958A-1DE9EBAF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50620-447F-403E-8B75-BB7F371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9F3FE-A2D9-403D-BB3E-6EF1503EEC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D5E98-73FD-476A-91AC-AD721A3311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739D-BA03-40E2-923F-9D14A94500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ECA8-0660-4B3E-B391-DBB75FB302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35D6A-1FAE-4A36-B611-514724BD17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6AC2-2D76-4C35-9DEC-27AA7763F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2F48-8EA8-4104-93AD-65D0AD0FEE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4D2C-E4BD-4DE4-BCD4-0A475395C2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9E54-2B6F-491F-8E59-235BECAD9A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E633-D8BC-4FCA-9052-DD742A7726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671D-381E-4EF4-9558-E9390E57B9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667-5501-4561-9694-EC1B68123C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49D-AD1A-4F69-ACC2-CB7DD16FA2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AC0-7EA2-486A-8BDA-3DCA035144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6CD-E5B0-41B9-9FA9-32DB7AB1AF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973-6C1E-4B52-8735-74EC6414D4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AE1C-CFF7-47C7-B4A2-7235BFDA87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5C5-FD81-4149-8EE9-183A3F2436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A56-0543-432B-A06F-5CFE5B4DDE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A62-FE12-4ED9-867D-D4B1440C8B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304-3F2C-4094-9FB2-C255CFCC98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FC6-D58B-4C1C-844A-9BA9DC7768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598-E33D-4519-A701-A26FFA06F7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FE8-5B3E-4F08-9406-D44D64C1A1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605F1-4B2D-4150-ADDB-8D84CC6EC7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03890-25F6-462D-AA92-FF7AB49B87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F0EDC-7D44-4220-B663-2B6CE08E0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82B2-256F-42BB-A5F7-D468D99CFC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872ED-1349-4C18-A3E7-D2BC007AC6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92238-71CB-48B8-AE01-A59AF9623F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BC07A-3C16-4240-BFE7-72915A2A6F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617DE-4D2C-49E3-B45C-36FDF848BE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7B3F1-71B5-40BB-982D-5C28FD4251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E1228-A847-4E3F-BC35-8A8BC5BCEA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464B4-815E-4D27-91B1-075DF1723D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CF9DC-6A1C-4566-88BF-E0E010673C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85F30-E599-4E1F-9C1E-CFCEFC1E1A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D40ED-7494-4C0A-82F0-BA09AFA13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1F6A-A1DC-4141-8630-495A8BD74A3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DA25C-3CFE-4161-B91F-4295DDF180E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4ECF9-6BDB-4E8C-83E7-2A6D4C78BA4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B63C9-3C94-49CD-81CF-EBACDDF0B63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0D1B9-0CD6-45E3-A0D6-223168B1C11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C6102-8A28-4799-AC83-7E41A0CBAF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AE961-76BA-4B34-ABCD-8C32EA64E71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6B4AA-156B-4D75-B34E-BA02E4167FD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B2ACA-4169-4571-9A60-E19EDF93EBB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25395-F686-4EDC-833F-D074A651083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8E0E9-4AAD-4BFF-A9C3-58770B736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8832-42EC-46F0-8717-9AD5F9C7298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7E1FE-F78A-419C-B1F5-CDAC7FB741F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1BBC-E9AE-4F14-8176-B76E66FA85E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3055-3E0C-48B2-90ED-FBEDB841890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03B8-109E-4D08-9F68-21D89F86FB6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0096-11BB-421F-901A-9465B54A41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C0A7-AB2C-4FDD-8D6E-AEBD66869D4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B97A-FD4C-4360-BB0E-7BA2C1AB0A6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349E-367D-49A8-A522-4B98B5B09ED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A1AD-FC87-4568-9D8E-6435B226191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92EA-B60A-4FBA-AA9C-348569F50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3B38-1C97-4C30-98F9-16259C79FFC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18F6-A267-43E7-9F51-161AA99306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F874-EE35-4505-BAAE-E72C67CAF1B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E5C1-3BEB-4001-848D-FB9E8CB75E3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FB587-6F62-41AD-8D13-BB12C9B6D0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D99A03-572D-411A-BAF7-844CC08C13D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A6C6FA-8FC2-4CE1-A95B-61F435CDAD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340AB7-FE7A-4BC3-92CC-E2D2DA3198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757A87-6D11-465C-A076-8FCD9B406C0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E42FB-74F5-4810-AE90-5A0563F54FE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F6673E-8605-4CF6-BD90-77AF0F49C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63C0-0824-450C-B579-00E8D1B41E2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700563-924F-48FA-9967-DA9D077ADE4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23DA7A-A857-48AA-9486-F0EC9E77497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B5FE7-BA6C-484A-8B50-C6855D1908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2AF76B-42F9-408A-857F-1EDDD2F5A91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51753-E107-4218-A64C-67DD57847F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64EE0-1EC8-4462-BED8-FC2E6FEBDF2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8A1BC-A8B0-40BD-B461-72129B68D2B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35218-FF53-4653-8443-4EE2FCF5514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59D3A-5328-406E-B1B1-0B09EF766AA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1DC8E-C49B-4452-9BE4-6AB7413BA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1187-4B05-4000-8645-65E2D0A069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841ED-F540-4759-AA08-72817A5D472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6CAF1-29A1-4594-A1E2-BCA787A68FC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669CF-527B-4957-AEAB-26B3CC8F078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75160-1F1C-4EA8-9BF3-08C5B036320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C1A81-0A3F-4B6B-84ED-9D39354FE97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00305-E396-437E-9A3C-44A181F5D3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460E9-EDCE-4F81-9378-62E87A9924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8F93-C03D-499A-8759-3B6516F9547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3A8A7-CD31-458E-B726-E0CD5F1A22A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7D063-13C5-491F-85CD-22AAC1FF6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4AB9C5-03A9-48E1-B30A-F152A092083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E2C5D3-D5B7-4C87-A677-E95A10253D2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36C8B2-00E0-471B-B37C-75B99E8AFF3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BC82C6-4977-4A80-B376-B01984AC446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7B467D-83BD-475A-A29E-157D36A94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296074-C1D5-4382-B836-FBC4DD50331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93D50D-1952-43AF-BAD2-794B14EDD79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32EF58-546B-419F-8330-A8CD5141AFF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54CAAD-8FBB-4CD0-BB36-81CE1429F45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8E3001-DDFD-48B5-8A83-7FBFFFA3010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336B58-49AD-4537-9219-1E065979F0A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DFF826-30D2-4728-8298-A5D77A5926C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8CA73D-2CDB-4B6F-818F-83D2CDBFD1B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8. Η Υποδομή της Σχολικής Τάξης</a:t>
            </a:r>
            <a:br>
              <a:rPr sz="3600"/>
            </a:b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[Οργάνωση Σχολικής Τάξης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Νηπιαγωγείο 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Δημοτικό Σχολείο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ις άλλες βαθμίδες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γωνιές μάθησης, κλπ ]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Η  Υποδομή  της Σχολικής Τάξη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 H Διαρρύθμιση της Σχολικής Τάξη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6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 Γούπος Θεόδωρος,  δρ. Παιδαγωγικών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της Ενότητας  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Ανθρωποκεντρική/Παιδαγωγική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προσέγγιση του Σχολικο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Χώρου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3. Ο Σχολικός Χώρος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Ποιότητα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ριτήρια Ποιότητας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ι Οικονομικοί Πόροι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Σχολική Τάξη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21:30Z</dcterms:modified>
  <cp:revision>159</cp:revision>
  <dc:subject/>
  <dc:title>Παρουσίαση του PowerPoint</dc:title>
</cp:coreProperties>
</file>