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1FEAE-DEAC-4941-8918-5CE7DA1DA79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F9DE6-ABA1-452F-BEFA-493A917D0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1C6CF-1F65-49EC-AB30-08E7F6896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85421C-9EB1-423E-89C0-A729E30EE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42763-5D2F-4795-84FF-268FC3E08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DD290-7A6D-426F-8A60-81C5B2662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5F59F-7F95-4C95-B7F4-23073E17D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E2CCE-54B3-4BC3-B3D9-C09D405A7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E9CFA-E716-4D73-B257-7800663EA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1A2F4-2150-4145-8AD3-07F16E509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57772-3F64-4B30-9A77-BFBAC9429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CB206-729A-4AEE-813F-FE25EC72B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7775B-C13B-4FBC-AD29-36FC349BD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4E072-350A-43AA-B09C-CB8A396EB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1A463-BAEA-409E-BE55-724AED83D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DC377-AC68-46ED-8D0E-410FDF2E3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72F71-07EE-409D-9D79-430C82281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6E7B1-207E-4868-A7E4-F8CFFD080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33797-12E3-480A-A98F-294D45497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B655A-0AA5-48D9-8C6F-1FC1EC24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5857C-31AA-499F-9C87-7AF7BC1D6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604E5-702D-4752-B86F-F4D893713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344B4-65DD-4863-B117-E56031F03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DF28A-ED01-468A-A603-CB48D6A23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F11E9-B661-4AC1-AE77-27D160DE2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C742B-D8A0-4128-985B-F1351AD58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02312-7C1E-4612-93A9-DF6640383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B4C2D-613C-4249-9CF9-892FDA0D8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553DD-CF0E-4500-9925-DDE7731D3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76680-EF9D-4A86-9465-F626A58B4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6F6D5-0A31-4A8F-9CAF-6DBA6D71D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6D4FF-3BAB-467F-98F8-57BDB911E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1B3E6-D204-4104-8410-7443FD20B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8AF3D-27D7-4A43-9905-C1F7F3D92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66E7A-39A7-4C9F-A6DB-C1A0F8B27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B21D8-8D67-4D38-8EF3-2914F5915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F28E6-3A6B-4E21-A599-7ED6E786A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43CA7-D23A-4258-8792-63DF2A3A1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49C72-E9EE-49C0-BBA1-F9C81A643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07B45-332F-4411-B23C-F516D1998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8D5BF-E142-4ABF-8A06-998973802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8CD25-AAD2-4626-A924-7DD250EEC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3794C-6CCB-4C4A-A73A-31EC209D5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1191A-B242-48B3-996F-A7BF34189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C6132-5EF7-47F7-BB6C-8F02FDFC1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536F3-CC60-4179-9C4A-AF2816EB7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40687-9A1E-4928-8B0D-1CCAAA557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4A461-33AF-462E-9CB9-936E88A54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2587C-95D5-44BA-9B21-B701D6F8A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DE3D6-89D9-473D-AF87-6840A52FE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56BEB-EF4E-494B-ADE4-1350A7611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0C8F3-2D6E-4CD9-B43D-AD16EBFCB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7BB24-257A-46B1-AF80-FE19E40BF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82F53-A833-4525-8433-8EC554DA7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F00D9-FA82-436E-B291-D40530E1F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44C63-CFED-4B25-81E1-98A831434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EDD79-5ACF-41AA-AABC-C496AF880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3F5BD-4FB4-422D-AE46-8B8269BBB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9B24E-A8F6-43EF-BB86-F22F2E423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BCB36-BB30-4BE8-B418-351434A31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3FE5A-5180-408E-95ED-873F57AAB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6DB5F-8CDD-4422-964A-655FFFF96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303A6-BF6D-4E68-9D90-7C5586919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00FC7-EE7B-4B9F-8C24-2451C7FB5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BBE3B-960C-43B1-BB47-D4F6F1B94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9B242-6D57-4128-9B15-204639764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8BA1F-6A3F-4FBC-8BA5-90A02377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04471-93F7-433B-8A6E-39652F01B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2ABB4-5E69-4DF6-B6DD-53FC1DB7A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6EAE9-C006-4B0C-BDA2-3C9506C7A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2E78C-EB3C-4BE2-9475-EF3AC6DA2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6CD32-236C-4AF1-B524-A79316306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4728D-A4B8-4E8E-A245-283970A1B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401EC-B71E-42D0-9824-90116241C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42D4A-F5BB-461D-933C-D4AFED63C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D9A1F-23F4-4638-8DC2-7796A5A31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B2C57B5-89B0-4343-B581-79D737CB14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4A63366-EB16-45CD-8878-763902CD70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A65A8B8-F597-4405-B716-0F8C00D76B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B98091C-9005-4504-95F9-ACE34D4BBB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5B9892E-7A11-4074-A426-0CB766879F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C25A689-7F0D-4363-B5CF-A6D56AE651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340CA59-E08F-4ED1-A135-24411A76F5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FFACB4D-6A1A-4DB8-B2EC-8CD0AE7B52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8F85811-E0D8-4617-BCDA-C0D4783247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B165A79C-DD13-4E9E-932F-C9D17E6F34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F5EBB71-9DCC-4809-8372-8201EEC63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FA1EA3E-7520-4111-91E8-588F5B39B3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F8F43D7-7311-4B8C-8AED-384344C3E2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EB81857-BB59-43D3-8389-BE31C46D8E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BCFCAA3-8B1D-4A95-AD2C-1610DF0D49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5425B035-AE25-4FA0-8A45-327FC024C3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1EAB9F7-7855-4BD9-BD40-6B13427080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1CC8C92-CE08-45F2-84A1-01D9889F979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05A9518-80FB-4458-B09C-BE465D3F74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30F1048-601F-4589-81A9-70E7D1BD37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61BC980-3F40-4DF7-8A51-F2CD9EFE41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5C65021-4E80-438A-B6F3-CC73CAA0C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23296E2-D87B-40EB-AACA-D9B6E74F6DC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9513013-1FB1-4272-B96B-56B7AFD844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5056F69-EC33-4780-BB5F-84473EC43C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3B2F741-F641-4D47-9365-1ED37ABAD9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9D04B4C-628F-4013-9B1E-16F0B98858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D2540FD-7C98-40E0-A9F9-1CFFD144AD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648C3EA-B5FF-4CC1-B63F-6F94B8F3DF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4FAB7BA-8DFB-4F8E-9530-2B2CBDF16A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A83980F-2CE3-42FA-AEBF-8545E709C9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AA578D1-0960-4CBA-9B28-1CA2B8B671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F93FE8D-9A93-4025-A716-E74567F966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F78FF8-6850-428C-B02D-3EC11C3558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4369AAB-1391-4108-B10F-8D3C3C879F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85D667A6-A471-48E8-A098-F8CA009D2B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1F2516A-33B2-4F4A-9592-6271143FF2C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D0AB30E-8755-4611-83CF-0CC72A576C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7F86B5A-159E-4846-98B9-E9C4826085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7D5FE1B-1143-4E5D-8173-5D056F17886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B8A0B5A-D784-44BE-9D69-8CAD6FEE8F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82F29C5-BC90-4DBE-9C92-EFB64A22A7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79C1769-EF86-45E3-B07C-663AFE654ED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89CA29C-3E5C-4ED1-A709-C9E6EADBC8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44A3F92-CBF9-4992-B7A5-27AEC55F32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DC6A396-E7AF-4D15-B23E-6093627C4C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3DC50D4-9EAB-4371-825C-FAC52C9E8A1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23AFFD6-5877-4C03-B865-31AA9FF278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0B13AD7-0851-4858-B834-7A1F1B11C8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F85E59C-BA6D-4E08-8235-67926E5EAE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85CEB1E-AC35-4EB4-A570-345715AE71C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3B228AB-7C0F-4CF8-9E4D-48F920DDC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3C07516-2D8F-42BD-8B9D-6268D98E0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EB09F1C-5503-41D3-B64A-1306C3FF2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625EF9F-BE6C-49D8-8B95-6CFB625D7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E66B7ED-D4CF-4798-8979-82336460299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DD9B7B8-ED9D-4C2E-A6A4-44D1EEF1C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2B2CA65-1B61-4060-8112-A2DFF0918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262C1D2-DD1B-45AF-AA48-273D0BC9A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64A7D77-00A8-4AA8-A71F-E8C8CA7B5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68F74B7-3893-4D75-8E86-E6F2FA245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CC2A5AFF-06D1-46AF-89F0-47CDC62D0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315ECCE-6897-49A8-90AA-71B071C335D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9E2093F-0CE4-4E6C-8F7B-F068329A90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2D3270C-85E5-4395-B642-2C77A3B543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D9CDD09-A008-43C9-8CBE-E819B80ABF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9A417B0-95DA-4FF8-9B06-633ADA7F45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A2BAF73-5139-4CC2-968F-3C5509756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A9CB8F8-73DC-400E-AE44-48479ED3D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9BB307D-D333-44F6-BA0B-CC1A80C0FE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4D1FD62-7249-4FC7-88E0-9C46898300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F8D2854-BB27-4E35-9641-357FB3A8B4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0782819-EADB-4D88-A485-1EECE41990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607C03-B55D-4D40-A843-EE9D5FF367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E0BE9E-12E4-4A9F-A7AE-8ED83D8B1F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4828C-D586-49C1-8115-CEB9418D66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23CA038-1971-44C9-A252-62D3D58AFE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E89AA6-4EE8-4A08-9608-8C039A9B3C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08F9F90-7B30-42CD-8838-FCAC453212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85F8E75-8986-45B6-9AE6-D75B29CAAA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6D97D21-6FBA-4D72-B23A-146937A624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27E1F7-E153-4802-97A2-9AF5CDFDDD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78DE648-13FF-4DF3-B10C-7DE7AE107C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841B8D3-D3B0-4394-B16A-4F6EA8C5D3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96D03F5-2E42-4010-B741-25FE02EC01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781E797-E1AC-43EB-A3E4-D2FB2D266D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88C8F-2BE2-43FF-93DD-AD5CB2AC2C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482F6A1-0687-4AA2-8191-7946FF2BCF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753D7DE-91C9-4749-8043-3E6C11C7F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49E5967-8454-4367-8243-F950637671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D0446E6-3053-4B20-B152-7F6321A9B2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83410E5-C609-4253-80AB-A8160B670BB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2C407F1-9B50-4319-ABF8-8A33D96E15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5BF86D2-98AB-4AB5-8DD5-F0CFDCB445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6D651D9-D29D-49C2-B980-9217D154625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91D59E2-B74C-4533-8F20-66EA6E9670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F4AA2FA-40AB-4922-B672-C8DD6DF10AA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4DD8051-4649-42E0-973E-2E909036D7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483C88D-809B-4F6F-9802-0FE224F2AB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1EC71B-BEC1-479D-B019-5B23723E5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E0DDA09-EE5E-40F6-BBEE-B004B3083E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A88F378-D5F3-4B2E-82DE-C3DBA70E03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73333B8-307E-4729-9328-86AF2F3E50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14B439A-46BB-4E1D-8BAA-D94BC116B0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23F7509-7BA0-4309-805F-F28693C6ADB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99C7691-43F9-4920-AE06-5B7B231AE8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0D2A5D6-4132-48C9-963F-7907449391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D728D00-5CEB-43CB-A026-1F88958C31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A9DBAFC-5FE1-401E-858E-C17C03A105A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554F630-4366-41A0-8021-E0BEC8BBCA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E03E420-FF2F-4DF6-B0CC-B7D77D69B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1A9B04D-712F-420A-9020-060F4E68C0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425ABF6-C7A2-4859-A7BA-9B52CBFD85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1D76A9-7D02-4AD4-B50A-2EEA30E4D5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C293E26-8EF2-4920-863C-580EF455A66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2FEC41-B52F-4457-9C1B-CF81D3772CD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2D6A47F-7528-4C52-89F5-E3F54FAA1F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21F037E-E02D-49BD-AA03-F0F76CE918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0B82E13-6705-42A1-BD78-210B01573ED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6E49475-515F-419C-8F27-CB6F3E7ED6A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F265FF9-38CE-49AE-8356-02C5C1281FF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A06C4E4-2939-47FB-BFBD-0618E43CAA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F02709A-FF37-4DB2-8175-E480343409B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DBDC63E-1533-49F7-A59B-8207FE0D0F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16029DF0-D446-45B7-9C92-5818D30662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7F03A9D-EA41-4067-A813-3C2F641A6CA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7879A5-9352-4673-8C2D-679181C62FD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6FA203E-DB66-43FB-8285-B8BC309997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1968069-68B2-42CA-84BD-4BEA9B84EFD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940A8D5-8310-4B0F-8CA4-7D0921586A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1625ADB-9D63-4DD3-9718-E9AED34C21C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74A130B-3142-440B-87B7-5D2E4483F7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2B6BBF8-B2A4-4156-8E47-FBC8EB92F5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449E912-49CA-4F33-81A9-6DD87D56910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FF7053D-BF00-4403-8BA6-E326C8A01D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504AC9C-2316-4B2B-BACF-08DC0544A8E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2B26167-B17C-4B93-AEC9-CF6BD9C852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30F2909-C719-42DF-942C-45C2576D08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E2DC057-9D54-47E4-AD8C-D982033B62F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F47139-2245-4C92-8DD5-8B9B92CC5B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AD73786-310D-4DC0-A5EE-08C6F2E78A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6E4FCCE-CD80-4EEA-81CC-B501D9DB36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72A5381-67CC-4579-B91C-407F477602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1F19470-22C1-4190-BC97-428D6FD23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E8B90C0-EF42-4E5B-B712-26FB188C38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9BDBA9F-D2C1-4141-9B50-C614609CD7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AD93352-5C42-4BA2-A1A4-6CF7CABC1E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49F7D15-A484-4A8F-8239-87B25A59ED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D24C18A-3A97-439D-86F4-C62710D772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329F0D9-175A-4954-834B-CC8FCA833F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7C72E45-5BEC-4C31-866E-7372AAF015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4581DA4-7640-4090-8DBC-52C8ED31D2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013CAB-0C6A-46F4-8F03-79F6F3A438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AEB73CF-6944-44BE-86C5-92839156C3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A47BB08-9203-43F6-A638-BE80C2621D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DC944-5AF1-4B86-8973-02B785447A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D43CD-8FFA-45CF-B423-79CE2FCA8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6B9C0-F5FD-4B55-BCAD-233DC26083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CC754-1CBE-4341-8761-181AA08AB2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E1EFF-1038-4808-9E01-78A6F34486D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9D9B1-DDFD-4B18-892C-B0F9E42E70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84691-FBF1-4EA9-9472-9749942B72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1DC62-FB39-48C7-A2DA-408FC36EF6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E640B-810D-4315-94C9-7912D6FBBB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D5094-1518-49C5-B13F-1109363D0A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2A1C0-EE1E-4140-AFE5-AE969171FC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6B28E-976F-481B-A0E5-6EB073BD1E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2325C-6832-4966-B642-2C26CD6CA3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773280"/>
            <a:ext cx="8353440" cy="503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938240"/>
            <a:ext cx="8280360" cy="261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076400"/>
            <a:ext cx="8064360" cy="43401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395280" y="1711440"/>
            <a:ext cx="8064360" cy="2651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395280" y="1482840"/>
            <a:ext cx="820908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90440"/>
            <a:ext cx="9140760" cy="6548400"/>
            <a:chOff x="0" y="190440"/>
            <a:chExt cx="9140760" cy="6548400"/>
          </a:xfrm>
        </p:grpSpPr>
        <p:grpSp>
          <p:nvGrpSpPr>
            <p:cNvPr id="694" name=""/>
            <p:cNvGrpSpPr/>
            <p:nvPr/>
          </p:nvGrpSpPr>
          <p:grpSpPr>
            <a:xfrm>
              <a:off x="0" y="190440"/>
              <a:ext cx="9140760" cy="6548400"/>
              <a:chOff x="0" y="190440"/>
              <a:chExt cx="9140760" cy="6548400"/>
            </a:xfrm>
          </p:grpSpPr>
          <p:sp>
            <p:nvSpPr>
              <p:cNvPr id="695"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9446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539640" y="1473120"/>
            <a:ext cx="82090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539640" y="1511280"/>
            <a:ext cx="792000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395280" y="2465280"/>
            <a:ext cx="820908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2033640"/>
            <a:ext cx="82090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971640" y="1603440"/>
            <a:ext cx="7488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395280" y="2249640"/>
            <a:ext cx="8064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539640" y="1819440"/>
            <a:ext cx="820908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1042920" y="1819440"/>
            <a:ext cx="7416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1042920" y="2033640"/>
            <a:ext cx="7416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971640" y="2465280"/>
            <a:ext cx="763272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0" y="115920"/>
            <a:ext cx="9140760" cy="6548400"/>
            <a:chOff x="0" y="115920"/>
            <a:chExt cx="9140760" cy="6548400"/>
          </a:xfrm>
        </p:grpSpPr>
        <p:grpSp>
          <p:nvGrpSpPr>
            <p:cNvPr id="865" name=""/>
            <p:cNvGrpSpPr/>
            <p:nvPr/>
          </p:nvGrpSpPr>
          <p:grpSpPr>
            <a:xfrm>
              <a:off x="0" y="115920"/>
              <a:ext cx="9140760" cy="6548400"/>
              <a:chOff x="0" y="115920"/>
              <a:chExt cx="9140760" cy="6548400"/>
            </a:xfrm>
          </p:grpSpPr>
          <p:sp>
            <p:nvSpPr>
              <p:cNvPr id="8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
        <p:nvSpPr>
          <p:cNvPr id="872" name=""/>
          <p:cNvSpPr/>
          <p:nvPr/>
        </p:nvSpPr>
        <p:spPr>
          <a:xfrm>
            <a:off x="755640" y="1484280"/>
            <a:ext cx="7812000" cy="4110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50920" y="1052640"/>
            <a:ext cx="8208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907920"/>
            <a:ext cx="842472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250920" y="1052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16" name="" descr=""/>
          <p:cNvPicPr/>
          <p:nvPr/>
        </p:nvPicPr>
        <p:blipFill>
          <a:blip r:embed="rId1"/>
          <a:stretch/>
        </p:blipFill>
        <p:spPr>
          <a:xfrm>
            <a:off x="0" y="0"/>
            <a:ext cx="9144000" cy="1368360"/>
          </a:xfrm>
          <a:prstGeom prst="rect">
            <a:avLst/>
          </a:prstGeom>
          <a:ln w="0">
            <a:noFill/>
          </a:ln>
        </p:spPr>
      </p:pic>
      <p:pic>
        <p:nvPicPr>
          <p:cNvPr id="1217" name="" descr=""/>
          <p:cNvPicPr/>
          <p:nvPr/>
        </p:nvPicPr>
        <p:blipFill>
          <a:blip r:embed="rId2"/>
          <a:stretch/>
        </p:blipFill>
        <p:spPr>
          <a:xfrm>
            <a:off x="1258920" y="2060640"/>
            <a:ext cx="1297080" cy="1528560"/>
          </a:xfrm>
          <a:prstGeom prst="rect">
            <a:avLst/>
          </a:prstGeom>
          <a:ln w="0">
            <a:noFill/>
          </a:ln>
        </p:spPr>
      </p:pic>
      <p:pic>
        <p:nvPicPr>
          <p:cNvPr id="1218" name="" descr=""/>
          <p:cNvPicPr/>
          <p:nvPr/>
        </p:nvPicPr>
        <p:blipFill>
          <a:blip r:embed="rId3"/>
          <a:stretch/>
        </p:blipFill>
        <p:spPr>
          <a:xfrm>
            <a:off x="6948360" y="1989000"/>
            <a:ext cx="1444680" cy="1573200"/>
          </a:xfrm>
          <a:prstGeom prst="rect">
            <a:avLst/>
          </a:prstGeom>
          <a:ln w="0">
            <a:noFill/>
          </a:ln>
        </p:spPr>
      </p:pic>
      <p:sp>
        <p:nvSpPr>
          <p:cNvPr id="121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2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484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08Z</dcterms:modified>
  <cp:revision>173</cp:revision>
  <dc:subject/>
  <dc:title>Παρουσίαση του PowerPoint</dc:title>
</cp:coreProperties>
</file>