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0"/>
            <a:ext cx="6858000" cy="977436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774360"/>
              <a:gd name="textAreaBottom" fmla="*/ 9774000 h 9774360"/>
            </a:gdLst>
            <a:ahLst/>
            <a:rect l="textAreaLeft" t="textAreaTop" r="textAreaRight" b="textAreaBottom"/>
            <a:pathLst>
              <a:path w="21600" h="30785">
                <a:moveTo>
                  <a:pt x="5" y="0"/>
                </a:moveTo>
                <a:arcTo wR="5" hR="5" stAng="16200000" swAng="-5400000"/>
                <a:lnTo>
                  <a:pt x="0" y="30780"/>
                </a:lnTo>
                <a:arcTo wR="5" hR="5" stAng="10800000" swAng="-5400000"/>
                <a:lnTo>
                  <a:pt x="21595" y="30785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dt" idx="15"/>
          </p:nvPr>
        </p:nvSpPr>
        <p:spPr>
          <a:xfrm>
            <a:off x="3884760" y="-36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ldImg"/>
          </p:nvPr>
        </p:nvSpPr>
        <p:spPr>
          <a:xfrm>
            <a:off x="985320" y="733320"/>
            <a:ext cx="4883400" cy="366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body"/>
          </p:nvPr>
        </p:nvSpPr>
        <p:spPr>
          <a:xfrm>
            <a:off x="685440" y="4642920"/>
            <a:ext cx="5483160" cy="439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sldNum" idx="16"/>
          </p:nvPr>
        </p:nvSpPr>
        <p:spPr>
          <a:xfrm>
            <a:off x="3884760" y="9283320"/>
            <a:ext cx="29685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3974C36-0B12-40C7-9C61-A5A68157A898}" type="slidenum">
              <a:rPr b="0" lang="el-GR" sz="12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A18A22-FB5D-4754-A288-B8C38E2070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3A9EBB-5911-4C7A-9E4A-8581749083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1463D82-3EAB-46CC-B8D6-04A419DE2D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4C7A90-6A48-45F1-B6C0-8323ECD9B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248EF85-C07B-436A-996F-729FA87C96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7AAEE3B-EDF8-4D98-8AAB-0200C632EB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2684AF3-CE9C-4657-A110-0664EEFAA7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ECEF5C-0C34-4888-9E63-1B9ACE9747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7B5959-3C79-4941-8EB8-99BCFACBE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884760" y="9283680"/>
            <a:ext cx="29718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DD28575-2F93-47D9-8416-C914EE83A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85680" y="741240"/>
            <a:ext cx="4886640" cy="366552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641480"/>
            <a:ext cx="5487840" cy="43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F6CB4-4331-417B-802F-BB09C86492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DCE2F-E828-4B56-9340-8FF52C78187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464B1-8033-499B-BA33-49C4BD7A962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FB5FB-1712-4246-8FA2-E4284DDC88E3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4FDBC-1B2F-4013-A717-7E4A9D8EF431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0AB2D-2878-4D61-901D-16EDA711179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8812D-9DC3-4598-9E2C-F8459D624A0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0086B-09AB-4CC6-908C-F54E430F18B1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81D51-CF1D-4D1F-92E4-A7D12A80AA4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886BC4-7281-4AE1-BC6D-CAE0FDE48E6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AFAC7-E837-4C7A-B512-1FE6D8729DF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E1D3827-FA4F-4A05-A9A4-630AE5F0D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91D1B-C0EF-4DD5-972E-7CC152B5E24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BD821F-7D34-4F77-8A8E-66BA9DA65B8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CD4F26B-E07E-40BB-9DC3-AEB20B27FA23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90AC99-1204-4D79-B256-1CB97D73C1A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865055-19A4-49D4-8FA6-50F45F310CAA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AAA986-1A4C-4A17-B12D-C70842A4382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3E35D5-EB11-4DF4-8D26-E5F3A5A075D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8CAE0D1-C1AA-4E4C-BE3B-02B3A03C46B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8149E19-17AE-4C16-BAD9-B1033ED45FB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D43A38-4D39-40E2-8884-12C4CC79848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A3B356-1B15-4474-8636-627DBD57FB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A4364-04B2-468B-B8CE-67AEE7DC148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E43AAB-82CD-4BAD-9A04-EB59449C961F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0A0E38D-EE89-4F03-887D-ACD5E30607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7544EF-6499-4D8B-98C5-32F172307F08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5B0594-7C4A-4E71-87A1-02151405AD9B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482EDB-4F5B-461C-8BBC-DC5D11E515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9D7FAB-7799-4125-9B9E-ED8F086F8F5F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0B3543-EA70-4E74-955C-A8B0A483EBF0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9C2E8E-267C-40DD-93BD-EDF2D0AF929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7689236-3DE1-4DA2-A556-11AF365DBE4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3DD7FD-2A84-42F3-9920-CDA863F7DD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D1D85-4870-4142-9B6E-85B51833AB57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33D2D7-8268-4232-9FBC-43B7B823DBF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C8C52A-9278-4612-B27D-67D36155A9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F4BF0AC-AECE-41C6-B9B9-13A137D5595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4F5F2C-9344-4DA2-9210-CFF8EF1B889B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B598CD-8533-49B7-8CC0-2CE0ED03C97F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2D8245-9E59-49A4-AF6F-18D06D75C35A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DD793B-7DA8-45A9-9066-66C4873EB1F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83F28-C010-48AE-AD11-4C7A5345514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1A331D-8650-4CF2-B6CC-0D5D1A3E912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3B4C8-0E36-470E-899D-70B310AF31A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92829-648E-45CA-93B2-882DF252F906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3E11B-033F-4FE7-816B-D7DB3332B3E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6EB7-11EE-4D59-9F68-CC681B3573D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4E856-321B-4010-902E-C4383F8E8970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03873-FDC2-47BA-B527-F0E82A1C44E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A1FE08-D1FE-4D11-A0A5-36FFE2C85FF2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5DE1E2-4A28-41F0-89F6-351CB4090A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125CC91-8540-4556-BAEE-82620C05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377EAD-9546-44FF-955B-57E216240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7B85001-8B7C-4213-A6E1-76EFC98B8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0C79E1-56C4-4F76-9EA6-077525BFE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6CBF-BD7E-4FEE-8EF5-7F68E85A464D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E8E433-CB23-439C-B9A2-0F50EE6A5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3513A36-7655-4868-AD51-6E39B2E64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D09568-2EF7-425C-9DD2-27851FD97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2218D8-E3E2-4385-965B-5EFD7775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063ED9-FFE7-477A-A01A-F4AE2EF4B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E703F8-1DC1-4DCE-B465-A74C84DA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5EF9E6-26D8-4B8E-8F87-95EACEB908D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7C8318-E398-4F38-8A2A-B15F3104BB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60C71-D3A6-4180-9799-581FE281B80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571862-67F2-45E4-886B-6B64EC816E2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D5785-BB46-42ED-9171-2AE142EF3E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B0B2C8-4C09-476F-A364-2AAAEC46F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C10C71-F1A6-4AD7-BB51-DDD1BF4657A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A4475-8FA8-4C97-B860-2817BCDE30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21A6-6B79-4F16-838C-A484DB435F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F215-5114-4E92-9E7E-08E709E04C0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62A00-BAA5-47FB-B63F-559164CCA8A6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D6F1-9CC8-49B6-9162-136C7578DD3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4659-F696-4F9F-A2F9-F373892666B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9C68-B2CE-49C0-AD56-8D012127FBE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C89F-4E53-44E3-9824-CAAF61189B6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C31C-2D05-4D82-9434-1057541E77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69202-51F9-43F2-A576-CB5886964C5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6468-572C-4F81-88F8-EDB788538DB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A33A-8BA9-4310-81C9-35CD956439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C039-B727-47ED-8146-E97E4610BF2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BC4F-C015-4B50-9EEF-017E2EB53C3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1328-BA4D-4CAA-83EA-D03DAC593C6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A8E92-59A3-4DBC-8343-D40C0D44996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AE1A-363F-4A3A-AA97-37264F88002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6C5395-2AD9-4367-906C-E4C899FDB34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E93C7-3AF9-437B-AC14-E0E167CC302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FA9CBD-5642-4E5D-8F7C-5E3AFA4FD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FB64D-A967-4E5B-8EDB-F9BDD8FAF3D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3A5A5-1C4D-4199-8967-25870C6A14D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22783-3617-47D5-BCBA-27A2E46C5D3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ACB44-7A25-444A-897A-6149A89541D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28CD5F-7615-4ACD-92A3-85794D92252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95A171-8258-425A-A335-029ECE1B885E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ADCB2E-8F74-4F30-A523-A0A2FF57196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0C0F25-487A-4B9D-9AF6-D4123102F78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58F96F-79C8-49C4-9024-62967C8B0914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E201F0-F79A-42E3-BFE5-B37BFAC3D1F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917489-FD13-4323-ADB5-963B983D1E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E8765-A5EF-4D3B-AB99-54DA8AA1497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F166D-4E1F-42F2-87F2-FF1B0370EB0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E638F-6C75-44F2-BEB6-3B9166EEF799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23CD7-E317-42B6-BF01-DAC222E7F0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555C3-6F02-49D4-AF96-1FAFE90A5987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806EB4-C24F-474A-938A-3D98E2915E4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01686-3AA3-4F1C-9E15-9768EAB54704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C393A0-FD7F-45F2-970E-B968419237EC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96F6A-17DC-4D4D-959F-3FCE71458D27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17AD0-AC83-4ABA-9471-4D6ADE37F3AE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113815-3D73-4E80-A13D-71529A025A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334F3-563F-4AAE-8F50-EF4F8A85975C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BF557-2D9E-4A65-BEA0-69CBA1E1450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F7EB8-CFB9-47FD-870D-A9880927AD6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C00B7-4B71-4008-AF75-0ED1777132A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03B8-D6AD-458C-91B8-1758A63D54B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91B85-1DBD-42DD-B3E4-1035D83335AF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E5A3D-C3C8-4A53-B4B5-61CAF4DDE192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26A82-73B3-4465-9772-E25840DAF9B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EE081-4EC9-4242-8140-3E22946D943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69F4-AB5B-4517-8C1C-13B76B57535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E3E6D-2DE2-4608-A5B8-8C321781A0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5F796-F8ED-458F-9D10-B4F79F39039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44F49-AB4A-4F79-8914-E238972CDE7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71483-EA0C-4135-AD55-441AAE517A5C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3AAE7-2254-42ED-975E-BEAFB4276BA9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52C76-F449-4877-91C6-D00D24ED971B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2AD114B-6AF0-4D93-AB88-814267351AD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AEE753-1BE4-4D3F-B9D6-4ACCC56BF90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3778F9-7285-43E8-A6E6-FF4FF1B06A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B3F01F-D365-4E43-A789-D8440003839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DD6CF3-E00E-4220-8F1F-8A865114D92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47E75FD-C41F-426C-923D-B1A17E36F2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0676E-156C-4A45-A804-C22B30E289F9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5AF40D-71C8-457D-A8BA-0D4B12A182A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A5E6EF-0B72-4C09-B081-35885A4BB671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83B3F8-C8F2-4215-B3CD-6DDD2A37073D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E3C2F0-6E0F-4EC1-B241-17389A2B8399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94718B1-77D9-4AB1-93DD-AF0B01DE89B5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3971A4-F587-47D1-A85A-DC42BDB13CA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EC40FFB-2B99-45C7-884E-4F2FAF6825FC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E1CC20-7795-4F5F-B0F5-078425A870F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706B6-7336-4DE9-81DF-751FAA29AFBD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EF3573-2C05-47CA-A3C8-DEAD483CDE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AF70DB-0EF2-4492-87BF-19B9EF582B3E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F87562-6D1A-4842-930F-1427D518376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816425-F107-4350-A4F0-61333E3E8CB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EAC94F-487C-42B6-8F68-07E9FE4B6AD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BE0BE7-FBF1-4CD5-A1B4-336175DD896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440" y="4129200"/>
            <a:ext cx="7769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43DB99-835B-487F-97E8-AFE96F51392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6680" y="198108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44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6680" y="4129200"/>
            <a:ext cx="37911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6979C5-9192-4F67-A22F-454230082AE8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200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38920" y="198108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44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200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38920" y="4129200"/>
            <a:ext cx="250128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45DB64-A142-4A4B-8300-CBAFD844F49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2745E-6EA4-42CC-B205-666FAC952104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8B95D-780B-42BF-ACEF-24E420510B9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825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C2907-BE41-4BE6-AD4D-64EA5AC0D0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EA8D01A-BEA7-448B-A194-17790549F8EB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Num" idx="10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8D798A8-1B08-470A-886B-37F6AEB5BD66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8977656D-6102-40E6-91D3-34D53BD873E2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9D44256-40FD-4693-8D76-236FD4D0C8D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1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2/7/1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14"/>
          </p:nvPr>
        </p:nvSpPr>
        <p:spPr>
          <a:xfrm>
            <a:off x="6553080" y="6356160"/>
            <a:ext cx="21290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3730A0-6DDC-49C1-B3A5-5CDF9591CF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CAB7D93-A579-4053-991F-71665BF8E1A5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2E4DBA8E-7CA3-4A93-B0AD-F623FC781821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2C24A88-018D-4FED-B8FA-3A45BACED354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B9066FB-0A3E-4BAD-82CE-B078FEC4E62F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1387BE-D1F6-4954-AA73-98EC7C6DF3B9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7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CE6F269-A686-4D21-B36E-D075B7AF6F4C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6D9F9AA-0C7D-4DD1-8E4F-4B7431DDCECD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440" y="1981080"/>
            <a:ext cx="776916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825"/>
              </a:spcBef>
              <a:spcAft>
                <a:spcPts val="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39480" indent="-339480">
              <a:spcBef>
                <a:spcPts val="825"/>
              </a:spcBef>
              <a:spcAft>
                <a:spcPts val="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9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marL="216000" indent="0" algn="r">
              <a:spcBef>
                <a:spcPts val="26"/>
              </a:spcBef>
              <a:spcAft>
                <a:spcPts val="2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6797663-5045-4A7D-895E-1D10654C8C57}" type="slidenum">
              <a:rPr b="0" lang="el-G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63640" y="2997360"/>
            <a:ext cx="576108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Δια-ιδρυματικό – Διατμηματικό Πρόγραμμα Μεταπτυχιακών Σπουδών Ακαδημαϊκού Έτους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3</a:t>
            </a:r>
            <a:r>
              <a:rPr b="1" lang="el-GR" sz="2400" spc="-1" strike="noStrike">
                <a:solidFill>
                  <a:srgbClr val="002060"/>
                </a:solidFill>
                <a:latin typeface="Times New Roman"/>
              </a:rPr>
              <a:t> - 20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332000" y="4437000"/>
            <a:ext cx="6875280" cy="13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Ψυχοπαιδαγωγική της Ένταξη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826920" y="580536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9144000" cy="136872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1009800" cy="1190520"/>
          </a:xfrm>
          <a:prstGeom prst="rect">
            <a:avLst/>
          </a:prstGeom>
          <a:ln w="0">
            <a:noFill/>
          </a:ln>
        </p:spPr>
      </p:pic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1116000" y="189000"/>
            <a:ext cx="3571920" cy="9428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4"/>
          <a:stretch/>
        </p:blipFill>
        <p:spPr>
          <a:xfrm>
            <a:off x="5003640" y="0"/>
            <a:ext cx="1121040" cy="121932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5"/>
          <a:stretch/>
        </p:blipFill>
        <p:spPr>
          <a:xfrm>
            <a:off x="6156360" y="115920"/>
            <a:ext cx="2867040" cy="100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Γονέων παιδιών με ειδικές εκπαιδευτικές ανάγκες για την ένταξη των μαθητών  με εεα/αναπηρίε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23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24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7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spcBef>
                <a:spcPts val="1225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2000"/>
            </a:br>
            <a:br>
              <a:rPr sz="20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Παναγιώτης Ν. Μαντάς-Κατσαντώνη Σπυριδούλα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32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33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6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"/>
          <p:cNvSpPr/>
          <p:nvPr/>
        </p:nvSpPr>
        <p:spPr>
          <a:xfrm>
            <a:off x="395280" y="3573360"/>
            <a:ext cx="8137440" cy="25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ΤΜΗΜΑ ΕΛΛΗΝΙΚΗΣ ΦΙΛΟΛΟΓΙΑΣ ΔΗΜΟΚΡΙΤΕΙΟΥ ΠΑΝΕΠΙΣΤΗΜΙΟΥ ΘΡΑΚΗΣ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ΘΝΙΚΟ ΚΕΝΤΡΟ ΕΡΕΥΝΑΣ ΦΥΣΙΚΩΝ ΕΠΙΣΤΗΜΩΝ «ΔΗΜΟΚΡΙΤΟΣ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68360"/>
          </a:xfrm>
          <a:prstGeom prst="rect">
            <a:avLst/>
          </a:prstGeom>
          <a:ln w="0">
            <a:noFill/>
          </a:ln>
        </p:spPr>
      </p:pic>
      <p:pic>
        <p:nvPicPr>
          <p:cNvPr id="641" name="" descr=""/>
          <p:cNvPicPr/>
          <p:nvPr/>
        </p:nvPicPr>
        <p:blipFill>
          <a:blip r:embed="rId2"/>
          <a:stretch/>
        </p:blipFill>
        <p:spPr>
          <a:xfrm>
            <a:off x="1258920" y="2060640"/>
            <a:ext cx="1297080" cy="152856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3"/>
          <a:stretch/>
        </p:blipFill>
        <p:spPr>
          <a:xfrm>
            <a:off x="6948360" y="1989000"/>
            <a:ext cx="1444680" cy="157320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611280" y="595008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79280" y="5084640"/>
            <a:ext cx="878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26"/>
              </a:spcBef>
              <a:spcAft>
                <a:spcPts val="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Εξειδίκευση στις Τ.Π.Ε. και Ειδική Αγωγή – Ψυχοπαιδαγωγική της Ένταξη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Ενότητα 4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Ένταξη και Ενσωμάτωση: </a:t>
            </a:r>
            <a:br>
              <a:rPr sz="3200"/>
            </a:b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l-GR" sz="2000" spc="-1" strike="noStrike">
                <a:solidFill>
                  <a:srgbClr val="000099"/>
                </a:solidFill>
                <a:latin typeface="Arial"/>
                <a:ea typeface="Arial"/>
              </a:rPr>
              <a:t>  </a:t>
            </a:r>
            <a:r>
              <a:rPr b="1" lang="el-GR" sz="1800" spc="-1" strike="noStrike">
                <a:solidFill>
                  <a:srgbClr val="000099"/>
                </a:solidFill>
                <a:latin typeface="Arial"/>
                <a:ea typeface="Arial"/>
              </a:rPr>
              <a:t>ΕΙΣΗΓΗΤΕΣ: Παναγιώτης Ν. Μαντάς-Σπυριδούλα Κατσαντώνη</a:t>
            </a:r>
            <a:br>
              <a:rPr sz="1800"/>
            </a:br>
            <a:br>
              <a:rPr sz="32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51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52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5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Times New Roman"/>
              </a:rPr>
              <a:t>Θεματικοί Άξονες Ενότητας 4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0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61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1.Ένταξη και Ενσωμάτωση: </a:t>
            </a:r>
            <a:br>
              <a:rPr sz="2800"/>
            </a:b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ημασιολογική Διασαφήνιση των όρων- Προσδιορισμοί και Οριοθετήσει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69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0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3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4.2.Αντιλήψει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στάσεις και από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μαθητών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7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78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79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2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3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4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3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Ρόλος των εκπαιδευτικών και οι απόψεις τους για την ένταξη των μαθητών με  ΕΕΑ/ΑΝΑΠΗΡΙ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6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87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88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2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"/>
          <p:cNvSpPr/>
          <p:nvPr/>
        </p:nvSpPr>
        <p:spPr>
          <a:xfrm>
            <a:off x="863640" y="1392120"/>
            <a:ext cx="7885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4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Απόψεις  και αντιλήψεις 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εκπαιδευτικών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ης Γενικής Τάξης για την ένταξη μαθητών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Ειδικές Μαθησιακές Ανάγκε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μέσα από έρευνες.</a:t>
            </a:r>
            <a:br>
              <a:rPr sz="1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596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597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5.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των μαθητώ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των συμμαθητών τους με εεα/αναπηρίε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05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06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9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0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863640" y="1392120"/>
            <a:ext cx="759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26"/>
              </a:spcBef>
              <a:spcAft>
                <a:spcPts val="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6.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Οι αντιλήψεις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ου Οικογενειακού Περιβάλλοντο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για την ένταξη </a:t>
            </a:r>
            <a:br>
              <a:rPr sz="2800"/>
            </a:br>
            <a:r>
              <a:rPr b="1" lang="el-GR" sz="2800" spc="-1" strike="noStrike">
                <a:solidFill>
                  <a:srgbClr val="000000"/>
                </a:solidFill>
                <a:latin typeface="Times New Roman"/>
              </a:rPr>
              <a:t>των μαθητών  με εεα/αναπηρίες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3" name=""/>
          <p:cNvGrpSpPr/>
          <p:nvPr/>
        </p:nvGrpSpPr>
        <p:grpSpPr>
          <a:xfrm>
            <a:off x="0" y="115920"/>
            <a:ext cx="9140760" cy="6548400"/>
            <a:chOff x="0" y="115920"/>
            <a:chExt cx="9140760" cy="6548400"/>
          </a:xfrm>
        </p:grpSpPr>
        <p:grpSp>
          <p:nvGrpSpPr>
            <p:cNvPr id="614" name=""/>
            <p:cNvGrpSpPr/>
            <p:nvPr/>
          </p:nvGrpSpPr>
          <p:grpSpPr>
            <a:xfrm>
              <a:off x="0" y="115920"/>
              <a:ext cx="9140760" cy="6548400"/>
              <a:chOff x="0" y="115920"/>
              <a:chExt cx="9140760" cy="6548400"/>
            </a:xfrm>
          </p:grpSpPr>
          <p:sp>
            <p:nvSpPr>
              <p:cNvPr id="615" name=""/>
              <p:cNvSpPr/>
              <p:nvPr/>
            </p:nvSpPr>
            <p:spPr>
              <a:xfrm>
                <a:off x="179280" y="115920"/>
                <a:ext cx="8710560" cy="0"/>
              </a:xfrm>
              <a:prstGeom prst="line">
                <a:avLst/>
              </a:prstGeom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692360" y="187200"/>
                <a:ext cx="6764400" cy="644760"/>
              </a:xfrm>
              <a:prstGeom prst="rect">
                <a:avLst/>
              </a:prstGeom>
              <a:blipFill rotWithShape="0">
                <a:blip r:embed="rId1">
                  <a:alphaModFix amt="65000"/>
                </a:blip>
                <a:srcRect/>
                <a:stretch/>
              </a:blipFill>
              <a:ln w="25560">
                <a:solidFill>
                  <a:srgbClr val="00006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Μάθημα: </a:t>
                </a:r>
                <a:r>
                  <a:rPr b="1" lang="el-GR" sz="1600" spc="-1" strike="noStrike">
                    <a:solidFill>
                      <a:srgbClr val="000000"/>
                    </a:solidFill>
                    <a:latin typeface="Times New Roman"/>
                  </a:rPr>
                  <a:t>ΠΑΙΔΑΓΩΓΙΚΗ ΤΗΣ ΕΝΤΑΞΗΣ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0" y="5948280"/>
                <a:ext cx="9140760" cy="716040"/>
              </a:xfrm>
              <a:prstGeom prst="rect">
                <a:avLst/>
              </a:prstGeom>
              <a:blipFill rotWithShape="0">
                <a:blip r:embed="rId2">
                  <a:alphaModFix amt="65000"/>
                </a:blip>
                <a:srcRect/>
                <a:stretch/>
              </a:blipFill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ΔΙΑ-ΙΔΡΥΜΑΤΙΚΟ – ΔΙΑ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-</a:t>
                </a: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ΤΜΗΜΑΤΙΚΟ ΜΕΤΑΠΤΥΧΙΑΚΟ ΠΡΟΓΡΑΜΜΑ ΣΠΟΥΔΩΝ: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Εξειδίκευση στις Τ.Π.Ε. και Ειδική Αγωγή – Ψυχοπαιδαγωγική της Ένταξης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spcBef>
                    <a:spcPts val="26"/>
                  </a:spcBef>
                  <a:spcAft>
                    <a:spcPts val="26"/>
                  </a:spcAft>
                  <a:tabLst>
                    <a:tab algn="l" pos="0"/>
                    <a:tab algn="l" pos="723960"/>
                    <a:tab algn="l" pos="1447920"/>
                    <a:tab algn="l" pos="2171880"/>
                    <a:tab algn="l" pos="2895480"/>
                    <a:tab algn="l" pos="3619440"/>
                    <a:tab algn="l" pos="4343400"/>
                    <a:tab algn="l" pos="5067360"/>
                    <a:tab algn="l" pos="5791320"/>
                    <a:tab algn="l" pos="6515280"/>
                    <a:tab algn="l" pos="7238880"/>
                    <a:tab algn="l" pos="7962840"/>
                    <a:tab algn="l" pos="86868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1" lang="el-GR" sz="1400" spc="-1" strike="noStrike">
                    <a:solidFill>
                      <a:srgbClr val="ff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8" name=""/>
            <p:cNvSpPr/>
            <p:nvPr/>
          </p:nvSpPr>
          <p:spPr>
            <a:xfrm>
              <a:off x="179280" y="115920"/>
              <a:ext cx="0" cy="136512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9" name=""/>
          <p:cNvSpPr/>
          <p:nvPr/>
        </p:nvSpPr>
        <p:spPr>
          <a:xfrm>
            <a:off x="1042920" y="1989000"/>
            <a:ext cx="784548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1417680" cy="879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2T18:34:10Z</dcterms:created>
  <dc:creator>Maria Petmesidou</dc:creator>
  <dc:description/>
  <dc:language>en-US</dc:language>
  <cp:lastModifiedBy/>
  <dcterms:modified xsi:type="dcterms:W3CDTF">2023-10-18T20:05:57Z</dcterms:modified>
  <cp:revision>161</cp:revision>
  <dc:subject/>
  <dc:title>Παρουσίαση του PowerPoint</dc:title>
</cp:coreProperties>
</file>