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dt" idx="15"/>
          </p:nvPr>
        </p:nvSpPr>
        <p:spPr>
          <a:xfrm>
            <a:off x="3884760" y="-36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ldImg"/>
          </p:nvPr>
        </p:nvSpPr>
        <p:spPr>
          <a:xfrm>
            <a:off x="985320" y="733320"/>
            <a:ext cx="4883400" cy="366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body"/>
          </p:nvPr>
        </p:nvSpPr>
        <p:spPr>
          <a:xfrm>
            <a:off x="685440" y="4642920"/>
            <a:ext cx="5483160" cy="43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sldNum" idx="16"/>
          </p:nvPr>
        </p:nvSpPr>
        <p:spPr>
          <a:xfrm>
            <a:off x="3884760" y="928332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BDB6385-CE2A-4349-BB00-1EC64C4B1B7E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97E40F5-9177-46A3-A8FD-C1450ED69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98EA436-987F-4B8D-8CB9-666AA16EB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7BF6780-AECF-42B6-BDA6-4562C44BE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AE66744-2B98-43FB-883B-F3FDDB2710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ED84DCA-2C6D-4D37-9D73-299AF8B4E7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D406F20-3F24-492A-A098-319EA1C997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301CEC9-AAD5-4B68-9969-F7024649F2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E0A63B4-175E-4B5F-A8B3-B62640A997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DE8C7B2-AF9D-4439-96A2-D4DFBD505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3705599-8F6B-439B-8438-EC67C6BED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564A6D1-9E90-4E42-B1F5-86AA0B5E96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308D44E-7CC6-4DFD-91BD-869F1993F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8577424-38B4-402E-9296-24A72E556A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38E8D0-83CC-4521-94D6-420019058F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70EAA0D-A3E1-4C0E-B92F-3C740D1F4D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47EC672-5601-49E6-B8C4-35A0E5B71D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10F3380-3B0D-4BFF-AB80-86BD7CC245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1645B54-C889-4279-B986-3947660ECC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32A67A4-A2A2-42C1-B830-517A2205E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7F9DDD1-2D9D-4363-9BC5-BC9D6466F3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4C69D61-6A51-4A58-9F0A-964A81D037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04F5951-4806-479A-8399-17BAC9970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8AF4CE7-8AFF-4A47-8C52-8FCAEBAC5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FFB06-D80E-4620-8C0C-A93A539040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7C3B4-3AA3-4DB2-90B6-6ED5CF8A3741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DF5E0-66BD-4611-9221-B0A325CFCF0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E4B67-C87F-4258-8551-D3F3C46C8BA7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F4DF43-54ED-4132-9BF7-0F8946B60459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1EE6B-2AF0-4644-BCE8-C12D5B4E8C83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996B7-41E1-46C1-8E9C-5DE26EED0D5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6DD26-4679-454B-AC3B-BD4DD184665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544BC-7334-4800-AB81-ADC4488AD28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7F0048-F76D-4314-A5CC-C17B27FD99D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7158C3-07F5-4A94-A6E2-894478F05528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D3EE45-C343-4AC7-8843-A8434B1150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B1436-439E-4A3B-AB07-DAD17F66293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4F1EA1-AA17-48A3-9B6F-05362F59A5D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507B03-E39A-4980-899C-34F6F4CE23F5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A552A5-4119-40CD-B843-E8BD8F57E7F1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417831-A86D-4069-9393-0D620C06CCD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F98634-386F-4430-A9A4-CED67547D80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712D63-0912-4939-8004-C5414114E10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A6090A-25CB-4CD0-B120-49D5EB2CF5D4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CAD122-4FF3-4D0E-AB4F-1FA4043345F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E52A7D-AF50-4652-B034-D89F4070AC6B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F2B3E05-5E15-4B9F-924C-AEA213EE38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98901-43FE-48AA-9DAE-ED1D89A5EBA4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10AAA1-9AEB-45B9-8954-C7A98E7E473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2ECA26-8D90-47C3-89D9-02D7B0F40362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35EB27-46D8-440B-9C11-15A09D9628A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5F49F55-91FD-4F3D-9772-4B994C3C29C8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4FC3A1-136F-4532-AFAA-730C536AEE95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846A80-09B5-4052-8F87-7001FDA901B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44CD278-33FF-4CC5-99F1-D8505104E24F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A8D5FC-2E1B-40BB-8084-EDE1C99F2FF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FB6EAB6-5554-46E1-A636-60EF157D9F00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E620A6-C11C-4B72-99D0-A554A12895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C46D8-764C-4B41-BC91-8C9B42077906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D22A8C-45C8-4515-96DB-70AF6EAC599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5B1DFC-16AB-4460-8C0F-048F2481BC19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3B1667-6C4C-4282-8E92-519A6EDA15C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DEBFF-AE62-42B8-BA7D-D64B083ACD5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C42C6-A8F3-4C25-AE99-07C78D43AADE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09892-C0CB-4A1F-B0F3-2E2F632DD6A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CE92A3-6F74-40E4-AB3C-F6CD43DBDE55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DF092-62A7-438B-A132-AC2E6021193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D516A-3E12-4E7D-9CB0-ADD206F4456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B48888-C25F-48A6-8618-E2627BBA68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B0B98-8EAB-489C-82ED-54AA3FB58D73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F10B27-1C9E-413C-9D26-D37A282AD45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4F07E-20F1-4375-A2A4-D8E753D44B7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74DC3C-1A8D-46E5-A026-17DB8C44309D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9C598-F97A-4DCA-9B91-19A0448F7076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660B6-9E0A-4002-B601-69E0BC621C4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2B18B6-6080-4F3A-A990-0FBB9716229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A6031A5-82A1-4992-8953-9C8B6715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B17317-55B2-4907-B0FF-7929E9E6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AF5835-E88D-4DBB-B388-0697C45C6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14D07B-2D8C-4839-B9F4-940D6BBD6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500AE-C734-4BE2-BD43-6DBE5F11DA09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C4B7E9-BA9D-42D2-8A51-97D9972D1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B2E27EF-95DA-447C-A22D-C8CEEFE16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6758EA-B2A4-4CCC-9E34-9D5D4502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4245A7-50D9-48C7-A90E-5366F4E00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A1EC2C-F75B-467B-9787-C682EC209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7886A1-05B2-497C-8AA1-233E75133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8709C1-A94D-4B57-BD0E-FD7CAC937A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679BE-8DA2-4520-9CD4-AC5F474BB96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E98D0B-8D29-45FC-8068-215BF49FB35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BFA86-00B9-43F8-97EF-FB14F75806B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1F82E-F158-48EA-B65B-66F08D24477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89D2D-74DB-4159-B6C8-5419438321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22406-9C94-4553-B25E-84BC3B7511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74214-E0AB-4345-8E21-021367DB91A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A9571-0ECC-49CA-BACE-9B421F7DC5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02FDC2-86C7-47A0-926C-137372D7CAD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7FA37B-BB34-4DD3-8889-7C57B0B7F40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0414-244B-4B59-856A-DF046DB7812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0B32-964D-41AD-B76F-235D6001546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ADEE-8E64-4BC9-AA28-47669A18755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FE4C-3BD2-4827-96FA-27FC0131528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9F79A-7D61-460B-BCF0-06898D5809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3B479-1018-4695-A6CF-EE02D78CF69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BB5F-FE27-445E-A1A6-E4B8D6730D2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DD98-3521-468C-95A7-E1F73A43B5A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CCEB-0020-4ECD-96BD-9A3DBDF0CAE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3E93-BB6C-407E-8DFA-25C36627966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6CEF-2414-4ED2-9251-7EC7B1F3142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9954-8705-45DE-B253-76FD8FED8AC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2937-6A7B-4E0C-BC65-8173A1B976A8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29199B-5D18-4198-958B-E7316436775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1AA952-0A1B-4E9E-957E-C7FD33115B77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B8D481-3804-43F6-AB52-6FBBFA0F02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8EC08-91DE-40CD-A438-F2BE4D37071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F91BE7-C1AC-4594-BA12-30FE4CF5F13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AD7CAB-EFBE-491B-A0C0-F76DBE7CBCD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963FA7-57FF-47F6-B09D-3327CECE8C5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57ACD9-6EFE-4B9E-B3C5-27841F99A61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FFDABC-B717-4E11-B05E-4C47AD77ECF8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C725E0-EC2A-465A-99C8-94E890D8827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304EB1-002B-45B3-A058-7B47476077F0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418578-49F6-4370-AB06-277CB889060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FAAAA-581E-4582-9B09-CDF0A4FD6D4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AD81F6-DBCC-425B-9DEF-80DEFF8E9C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A604F-8CE6-4EBB-976E-150E53745FC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3C7026-E84C-48B0-A977-75AC3F0479A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8F2078-4CF3-4E9E-B9BB-1BF10CB1652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AF9599-B2A2-41AA-A4B9-ECACDD2018C4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A4C745-3BE6-43F3-936D-5B9F10E6EF3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712DDE-C770-4F7B-934B-1A66B4F19F7C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11BB8-61C6-47CF-B9C6-6CDC5B960EF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C0BA64-92E3-489B-AA23-00DFF2B260D6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46FBB-C668-4761-BC19-765237EC4569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8C7046-6106-47EE-947B-81506AA9055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592957-2955-43D7-AD65-13F075D320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AD995-A8C5-4061-AE3E-B849D869853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6E757D-7854-4681-8E3F-1BA094D32086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DA32-EB77-4DD9-A3F6-1607430DEBB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D3E19-DDFA-4DD5-9163-165CC153190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CDD30-2E3F-44A7-BA91-052F2798C63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A3171-E867-4EB5-BA4E-27B8B5E2413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84CC-19A0-4EA7-B95F-A1D3C529E69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AB7E5-BBA3-41CD-B41C-6F8FB46FCA62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457D-3525-4A3D-B340-578E656A9E4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CE428-18B1-46C7-98F3-7432914358C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4DCDA-D0F5-4ADB-89BF-9412F40224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03C2A-31A2-4D9B-A66E-A6B61AFF6D8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B433-53D9-4E91-9817-170A430C4ABA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89B9-766C-4A0C-8F0B-3244087570B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449A0-500A-4CFE-9D03-47BBC6CDD43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CEA50D-31D6-4B6F-9C75-B5C18127807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2682405-1F3B-4FF3-8874-FE7AA40B777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17862F-2A5B-48C8-B286-449CCD33478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270BB1-8382-4B1A-AAEF-49FDC2147F24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53900E-064D-4068-B566-C2DC25AD1D9C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8D0537-9DF1-4925-9B0A-FFC5883EA46D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9A0644-58D1-4E18-BF84-D84E8F0C58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797F1-D1BE-4E02-BB5C-587AC3E976E6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525E908-4392-4CDD-ADA5-7BA626F28C8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1717C4-8D5E-4D1C-9BFF-47F20C762867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7AE926-681F-483A-B628-8DD1E0983E7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774A08-C255-42E3-AB33-2E48EF7655B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7B258E-57C4-4BC4-9CC2-675FA56DD2A3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B90DEC-2831-44EE-BACD-0B17CD026F06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2590C1-6AC4-4690-BC1F-E0F1B1B65A8A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F7AFDFB-6103-4178-87CF-31D66DE8E88D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78AD20-4098-498D-809C-E176F4C9B1C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1D7B3C-F498-446E-ACE5-2072BBE2AC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10565-6827-4B0A-84E9-EFAB43F0550F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A22ED5-ECA0-4DFA-B2BF-492F1BD75331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A1DF46-D7B8-40CF-97B7-713AE2C85F1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DD5154-36CF-42E7-AB40-44268F7D7111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F362D1-4F3D-483A-BAB0-4DF5F3D08014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7E1189-C9DC-4ACB-ADA3-B1607B5C433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AF276E-448E-4F47-9F60-BA3707CBD8C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9E2A4C-D795-4981-B306-DAC6D50267D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EDE97-CF1C-4A6D-B73D-E08023EFEB4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4FE21-C598-418F-B07F-7C2BCBBEEE1B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54BAAF-7CD9-4B42-856A-7E7B10C375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4313C28-D1B1-48D3-97CB-AEBEA0863AC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D247996-1FB7-43AF-B114-AAD69EF245E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38B9392-75A9-4F26-896C-D018D095129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BCE44C6-B232-45A0-9B3E-4E16D5A9BD6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1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1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5F4AE1F-21DE-4776-8B32-B5ABC03807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50D40E2-43C8-437F-9205-69AED352564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D2B2CA7-FF70-4996-BA1F-B8AF71EA818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354E39D-8E88-4295-BA51-52549D94CE88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4763736-556C-40F7-811F-C5EC280EFCD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7831CC8-957E-4826-92B8-185A2F9E8C9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33A8749-2EC6-41E6-BA4B-5D2DAFFCA14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5E07855-E0FE-454A-9753-2028C9ED1E8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8C67610-478F-4D00-8A79-581A305556C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1763640" y="2997360"/>
            <a:ext cx="576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Δια-ιδρυματικό – Διατμηματικό Πρόγραμμα Μεταπτυχιακών Σπουδών Ακαδημαϊκού Έτους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3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-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4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332000" y="4437000"/>
            <a:ext cx="687528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υχοπαιδαγωγική της Ένταξ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26920" y="580536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ΕΙΣΗΓΗΤΕΣ: Παναγιώτης Ν. Μαντάς-Σπυριδούλα Κατσαντών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36872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1009800" cy="11905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1116000" y="189000"/>
            <a:ext cx="3571920" cy="94284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4"/>
          <a:stretch/>
        </p:blipFill>
        <p:spPr>
          <a:xfrm>
            <a:off x="5003640" y="0"/>
            <a:ext cx="1121040" cy="121932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5"/>
          <a:stretch/>
        </p:blipFill>
        <p:spPr>
          <a:xfrm>
            <a:off x="6156360" y="115920"/>
            <a:ext cx="2867040" cy="100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 Philip Whitaker (2007) μελέτησε τις στάσεις και τις απόψεις των γονέων απέναντι στ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ιδιά με αυτισμό τα οποία λαμβάνουν εκπαίδευση σε σχολεία γενικής εκπαίδευσης.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α αποτελέσματα της έρευνάς τους έδειξαν ότι οι περισσότεροι απ’ τους συμμετέχοντες γονεί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ίναι ικανοποιημένοι απ’ τη μέριμνα για την εκπαίδευση των παιδιών του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24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25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8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9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Ωστόσο τόσο οι ικανοποιημένοι γονείς όσο κι η ομάδα των γονέων που δεν ήτα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ικανοποιημένοι αναφέρθηκαν στην κατανόηση που το παιδί τους λαμβάνει απ’ το προσωπικό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ου παρέχει τη μέριμνα και η κατανόηση του παιδιού τους ήταν υψίστης προτεραιότητας κα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ια τις δύο ομάδες. Οι ανησυχίες για το επίπεδο κατανόησης αποτελούσε σαφώς ενδεχόμεν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ηγή στρες και αγωνίας και για τις δύο ομάδες</a:t>
            </a: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33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34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7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8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"/>
          <p:cNvSpPr/>
          <p:nvPr/>
        </p:nvSpPr>
        <p:spPr>
          <a:xfrm>
            <a:off x="395280" y="1392120"/>
            <a:ext cx="8280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γονείς δεν φαίνεται να αναμένουν απ’ το προσωπικό της γενικής εκπαίδευσης να έχει εξειδικευμένε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νώσεις για συγκεκριμένες προσεγγίσεις στη διδασκαλία παιδιών με αυτισμό και εκτός απ’ το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να θέλουν άμεση διδασκαλία για την ανάπτυξη κοινωνικών δεξιοτήτων, δεν φαίνονταν ν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αζητούν ουσιώδη τροποποίηση στη διδακτέα ύλη ώστε να ληφθούν υπόψη οι δυσκολίες π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ετίζονται με τον αυτισμό των παιδιώ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1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42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43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6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7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άλληλα, σε έρευνα των Turnbull et al. (2002) διαπιστώθηκε πως οι θετικές στάσεις από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ονείς παιδιών με πιο σοβαρές ειδικές ανάγκες απέναντι στην ένταξη φαίνεται να είναι ο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νόνας. 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51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52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5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6" name=""/>
          <p:cNvSpPr/>
          <p:nvPr/>
        </p:nvSpPr>
        <p:spPr>
          <a:xfrm>
            <a:off x="0" y="162864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7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395280" y="1125360"/>
            <a:ext cx="8353440" cy="465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ια παράδειγμα, αρκετές μελέτες με γονείς παιδιών με σοβαρές ειδικές ανάγκες σ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ρογράμματα ένταξης από την προσχολική ηλικία έως και το Γυμνάσιο έδειξαν ότι οι γονεί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υποστήριζαν την τοποθέτηση των παιδιών τους σ’ αυτά και εξέφρασαν ικανοποίηση για τ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ποτελέσματα της εκπαίδευσης, ιδιαίτερα για τα κοινωνικά οφέλη (Gallagher et al., 2000;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line &amp; Halvorsen, 1989; McDonell, 1987; Palmer, Borthwick-Duffy, &amp; Widaman, 1998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60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61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4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5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αφορικά με την ικανοποίηση των γονέων από τα εκπαιδευτικά προγράμματα παρέμβασ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τα παιδιά με ειδικές εκπαιδευτικές ανάγκες στην διεθνή βιβλιογραφία, παρατηρείται υψηλό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βαθμός ικανοποίησης και διατυπώνονται θετικές στάσεις και απόψε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McNaughton,1994;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cWilliam et all.,1995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69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70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73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4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γκεκριμένα, σε έρευνα που πραγματοποιήθηκε στον Καναδά και μετρούσε τον βαθμό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ικανοποίησης των γονέων για τα προγράμματα παρέμβασης, οι γονείς εξέφρασαν μεγάλ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ικανοποίηση και δήλωσαν αρκετά ευχαριστημένοι από το εκπαιδευτικό έργο που παρέχεται στο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ολείο του παιδιού τους ( Falbo et.all,2003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78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79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3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4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"/>
          <p:cNvSpPr/>
          <p:nvPr/>
        </p:nvSpPr>
        <p:spPr>
          <a:xfrm>
            <a:off x="324000" y="981000"/>
            <a:ext cx="8640720" cy="48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άλληλα ,σε άλλη έρευνα, που μετρούσε την ικανοποίηση των γονέων σχετικά με τη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οιότητα των εκπαιδευτικών υπηρεσιών, βρέθηκε μεγάλος βαθμός ικανοποίησης ο οποίο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νδέεται με την αποτελεσματική επικοινωνία του σχολείου με τον γονέα ,καθώς και τη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παρκή πληροφόρηση των ίδιων από τους εκπαιδευτικούς(Bailey et all., 2003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6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87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88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1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2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324000" y="981000"/>
            <a:ext cx="8640720" cy="48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πό την άλλη πλευρά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άποιοι άλλοι ερευνητές ανέφεραν ότι μερικοί γονείς παιδιών με σοβαρές ειδικ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άγκες δεν είναι υπέρ της ένταξης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Palmer, Fuller, Arora, &amp; Nelson, 200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5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96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97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0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1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Έρευνα που έγινε σε πολιτεία των ΗΠΑ (Mandell &amp; Salzer, 2007) έδειξε ότι οι γονείς παιδιώ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ε πιο σοβαρές αναπηρίες τα οποία συμμετείχαν σε τμήματα ένταξης, ανέφεραν αρνητικ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τάσεις η εμπειρίες ως προς την τοποθέτηση των παιδιών τους, καθώς οι υπηρεσίες π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δέχονταν τα παιδιά τους στο περιβάλλον γενικής εκπαίδευσης χαρακτηρίστηκαν αδύναμες κα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χεδόν ακατάλληλε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4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05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06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9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0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863640" y="1392120"/>
            <a:ext cx="7596000" cy="23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Απόψεις Γονέων παιδιών με ειδικές εκπαιδευτικές ανάγκες για την ένταξη των μαθητών  με εεα/αναπηρίες 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51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52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147636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1332000" y="4675320"/>
            <a:ext cx="734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ΕΣ</a:t>
            </a:r>
            <a:r>
              <a:rPr b="1" lang="el-GR" sz="2800" spc="-1" strike="noStrike">
                <a:solidFill>
                  <a:srgbClr val="000099"/>
                </a:solidFill>
                <a:latin typeface="Arial"/>
                <a:ea typeface="Arial"/>
              </a:rPr>
              <a:t>: </a:t>
            </a: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Παναγιώτης Ν. Μαντάς-Κατσαντώνη Σπυριδούλ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Άλλες ανησυχίες που αναφέρθηκαν από γονείς παιδιών με ειδικές εκπαιδευτικές ανάγκες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μπεριλαμβάνουν ανησυχίες για λεκτική και σωματική κακομεταχείριση από τα άλλα παιδιά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οινωνική απομόνωση, και απώλεια ή μείωση των υπηρεσιών και της ποιότητας τη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ίδευσης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cDonnell, 1987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14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15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18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9" name=""/>
          <p:cNvSpPr/>
          <p:nvPr/>
        </p:nvSpPr>
        <p:spPr>
          <a:xfrm>
            <a:off x="971640" y="184464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539640" y="1392120"/>
            <a:ext cx="835344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Palmer et al. (2001) ανέφεραν ότι οι γονείς ανησυχούσαν ότι η σοβαρότητα της αναπηρίας του παιδιού τους εμπόδιζε τα οφέλη που θα μπορούσαν ν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ίχαν από την ένταξη, ότι η ένταξη θα μπορούσε να εξουθενώσει τους εκπαιδευτικούς της γενικής εκπαίδευσης ή τους μαθητές, και ότι το παιδί συμπεριφορικά ήταν υπερβολικά διασπαστικό και θα μπορούσε να πληγώσει τους άλλους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όμοιες ανησυχίες από Αυστραλούς γονείς αναφέρθηκαν και από τον Jenkinson (1998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23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24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8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"/>
          <p:cNvSpPr/>
          <p:nvPr/>
        </p:nvSpPr>
        <p:spPr>
          <a:xfrm>
            <a:off x="971640" y="126828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ά τις ανησυχίες που εξέφρασαν κάποιοι γονείς, σε έρευνα του Philip Whitaker (2007)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θεωρήθηκε εξίσου σημαντικό για τους γονείς το γεγονός ότι το προσωπικό θα πρέπει να έχε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άποια αίσθηση για το τι βρίσκεται κάτω απ’ τις προκλήσεις και τις δυσκολίες που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ουσιάζονται για το παιδί αλλά και κάτω από τις εμπειρίες που αυτό βιώνε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1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32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33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36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7" name=""/>
          <p:cNvSpPr/>
          <p:nvPr/>
        </p:nvSpPr>
        <p:spPr>
          <a:xfrm>
            <a:off x="1042920" y="2133720"/>
            <a:ext cx="784548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"/>
          <p:cNvSpPr/>
          <p:nvPr/>
        </p:nvSpPr>
        <p:spPr>
          <a:xfrm>
            <a:off x="324000" y="981000"/>
            <a:ext cx="8496000" cy="48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την ίδια έρευνα, σημειώθηκε πως υψίστης προτεραιότητας για τους γονείς ήταν η ανάπτυξ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οινωνικών δεξιοτήτων του παιδιού τους.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γονείς διαφοροποιούνταν επίσης ως προς τ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φιλοδοξίες τους σχετικά με την κοινωνική ανάπτυξη των παιδιών τους και τις σχέσεις τους μ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υς συνομηλίκους του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41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42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6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"/>
          <p:cNvSpPr/>
          <p:nvPr/>
        </p:nvSpPr>
        <p:spPr>
          <a:xfrm>
            <a:off x="179280" y="981000"/>
            <a:ext cx="8496360" cy="48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ενικότερα, αν και υπάρχουν πολλά στοιχεία που αναφέρουν ότι οι στάσεις των γονέων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πέναντι στην ένταξη καθορίζονται από διάφορους παράγοντες, δημογραφικά χαρακτηριστικά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κοινωνικοπολιτιστικά πλαίσια (Sigel et al., 1992)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o Stoiber (1992) αναφέρει ότι οι στάσε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και οι αντιλήψεις των γονέων παιδιών με ειδικές εκπαιδευτικές ανάγκες για την ένταξ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υνήθως βασίζονται σε δικές τους προσωπικές εμπειρίες και τείνουν να χαρακτηρίζοντα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θετικές και ικανοποιητικέ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750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751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4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395280" y="3573360"/>
            <a:ext cx="813744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ΜΗΜΑ ΕΛΛΗΝΙΚΗΣ ΦΙΛΟΛΟΓΙΑΣ ΔΗΜΟΚΡΙΤΕΙΟΥ ΠΑΝΕΠΙΣΤΗΜΙΟΥ ΘΡΑΚΗΣ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ΘΝΙΚΟ ΚΕΝΤΡΟ ΕΡΕΥΝΑΣ ΦΥΣΙΚΩΝ ΕΠΙΣΤΗΜΩΝ «ΔΗΜΟΚΡΙΤΟΣ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68360"/>
          </a:xfrm>
          <a:prstGeom prst="rect">
            <a:avLst/>
          </a:prstGeom>
          <a:ln w="0">
            <a:noFill/>
          </a:ln>
        </p:spPr>
      </p:pic>
      <p:pic>
        <p:nvPicPr>
          <p:cNvPr id="759" name="" descr=""/>
          <p:cNvPicPr/>
          <p:nvPr/>
        </p:nvPicPr>
        <p:blipFill>
          <a:blip r:embed="rId2"/>
          <a:stretch/>
        </p:blipFill>
        <p:spPr>
          <a:xfrm>
            <a:off x="1258920" y="2060640"/>
            <a:ext cx="1297080" cy="1528560"/>
          </a:xfrm>
          <a:prstGeom prst="rect">
            <a:avLst/>
          </a:prstGeom>
          <a:ln w="0">
            <a:noFill/>
          </a:ln>
        </p:spPr>
      </p:pic>
      <p:pic>
        <p:nvPicPr>
          <p:cNvPr id="760" name="" descr=""/>
          <p:cNvPicPr/>
          <p:nvPr/>
        </p:nvPicPr>
        <p:blipFill>
          <a:blip r:embed="rId3"/>
          <a:stretch/>
        </p:blipFill>
        <p:spPr>
          <a:xfrm>
            <a:off x="6948360" y="1989000"/>
            <a:ext cx="1444680" cy="1573200"/>
          </a:xfrm>
          <a:prstGeom prst="rect">
            <a:avLst/>
          </a:prstGeom>
          <a:ln w="0">
            <a:noFill/>
          </a:ln>
        </p:spPr>
      </p:pic>
      <p:sp>
        <p:nvSpPr>
          <p:cNvPr id="761" name=""/>
          <p:cNvSpPr/>
          <p:nvPr/>
        </p:nvSpPr>
        <p:spPr>
          <a:xfrm>
            <a:off x="611280" y="595008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ΕΣ: Παναγιώτης Ν. Μαντάς-Κατσαντώνη Σπυριδούλα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79280" y="508464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Ψυχοπαιδαγωγική της Ένταξ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468360" y="1392120"/>
            <a:ext cx="79912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όσο στην Ευρώπη όσο και στις ΗΠΑ κατά την τελευταία δεκαετία, η νομοθεσία έχει δώσε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έμφαση στα δικαιώματα των γονέων ώστε αυτοί να εκφράζουν τις προτιμήσεις και τις απόψε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υς και να κάνουν επιλογές όσον αφορ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ον τύπο του σχολείου,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 μέριμνα που γίνεται για να διευθετηθούν οι ειδικ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ιδευτικές ανάγκες των παιδιών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61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62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5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εμπειρίες των γονέων και οι αντιλήψεις τους για τη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ένταξη  επηρεάζουν σημαντικά τη διαμόρφωση της μελλοντική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έριμνας για τα παιδιά με ειδικές εκπαιδευτικές ανάγκες και ιδιαίτερα την έκταση και τη φύση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ποιονδήποτε περαιτέρω κινήσεων προς την επίτευξη αποτελεσματικότερης ένταξη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9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70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71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4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6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γονείς παίζουν σημαντικό ρόλο στη διαδικασία της ένταξης. Σε πολλές χώρες οι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μεταρρυθμίσεις και οι κανονισμοί που αφορούν την ειδική εκπαίδευση παρέχουν οδηγίες για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ην ενεργή εμπλοκή και συμμετοχή των γονέων στην εκπαίδευση των παιδιών τους ενώ κατά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τις τελευταίες δύο δεκαετίες έχουν γίνει αρκετές μελέτες που εξετάζουν τις απόψεις και τ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ησυχίες των γονέω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79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80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4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 γονείς θεωρούνται οι πιο κατάλληλοι αξιολογητές τόσο της εκπαιδευτικής διαδικασίας όσο και των εκπαιδευτικών υπηρεσιών που δέχονται τα παιδιά τους από τους εκπαιδευτικούς γενικής και ειδικής εκπαίδευσης 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(Jinnah&amp;Walters,2008). (Lindsay&amp;Dockrell,2004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7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88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89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2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4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"/>
          <p:cNvSpPr/>
          <p:nvPr/>
        </p:nvSpPr>
        <p:spPr>
          <a:xfrm>
            <a:off x="1042920" y="1484280"/>
            <a:ext cx="7596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Ο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ροσδοκίες και οι απαιτήσεις των γονέων ως προς την εκπαιδευτική δράση και τι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ιδευτικές υπηρεσίες που προσφέρονται στο παιδί τους, αποτελούν τον βασικότερο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παράγοντα για μια επιτυχημένη εκπαιδευτική διαδικασία(Lindsay&amp;Dockrell,2004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6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97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98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1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"/>
          <p:cNvSpPr/>
          <p:nvPr/>
        </p:nvSpPr>
        <p:spPr>
          <a:xfrm>
            <a:off x="250920" y="1197000"/>
            <a:ext cx="8642160" cy="45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Ανατρέχοντας σε παλαιότερες βιβλιογραφικές αναφορές, έρευνες έχουν δείξει (McDonnell,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1987; Ryndak, Downing, Jacqueline &amp; Morisson, 1995) πως οι γονείς παιδιών με ειδικές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εκπαιδευτικές ανάγκες διατυπώνουν γενικά θετικές απόψεις και αντιλήψεις προς την ένταξη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06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07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0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1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2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250920" y="1197000"/>
            <a:ext cx="8642160" cy="45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Σε σχετικά πρόσφατη έρευνα που πραγματοποιήθηκε από τους Leyser and Kirk (2004) βρήκ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υψηλότερα ποσοστά υποστήριξης από τους γονείς παιδιών με ήπιες αναπηρίες σε σύγκριση με</a:t>
            </a:r>
            <a:br>
              <a:rPr sz="2800"/>
            </a:br>
            <a:r>
              <a:rPr b="0" lang="el-GR" sz="2800" spc="-1" strike="noStrike">
                <a:solidFill>
                  <a:srgbClr val="000000"/>
                </a:solidFill>
                <a:latin typeface="Times New Roman"/>
              </a:rPr>
              <a:t>γονείς παιδιών με πιο βαριάς μορφής αναπηρίες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4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15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16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2T18:34:10Z</dcterms:created>
  <dc:creator>Maria Petmesidou</dc:creator>
  <dc:description/>
  <dc:language>en-US</dc:language>
  <cp:lastModifiedBy/>
  <dcterms:modified xsi:type="dcterms:W3CDTF">2023-10-18T20:15:06Z</dcterms:modified>
  <cp:revision>154</cp:revision>
  <dc:subject/>
  <dc:title>Παρουσίαση του PowerPoint</dc:title>
</cp:coreProperties>
</file>