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EAAB-BCE5-4322-8BF2-17DB77A5E9C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C115-20E9-4ADC-93FB-5799F160B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4BE0-FFD7-4883-BAF7-4B5408EFC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33B7-636C-4527-BB27-417B2CD57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5C34-3429-44A4-965D-61E445DE2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30BB-52F9-48EB-984E-131821850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F89A-6DFE-43B5-8725-EFBEE5CFD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F3D9-C30F-4FF2-B455-3E0799DB8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126E-24AE-4357-B66A-4203F7483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45D4-4DEE-41DF-86EA-E3A5A0CD5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F322-E483-45DF-95A8-DB614B13D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F60E-37E1-4620-9493-DFAFC8176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7084-7558-479B-B262-DB533D0F4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147E-73DB-4576-8F65-9467F0E4F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28BE-A4D7-4068-B0B6-CE85260BC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E391-9A98-420D-932C-13A773121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B7F0-0650-46AD-8561-F1FE1BF63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D53C-4870-4E48-A7B3-C82752183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5AAC-2624-4A23-8015-AED8330C1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BA27-2866-4348-A55D-C9C9BBA7F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982A-AF7D-4175-9DBA-371D23717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5AB1-0CE0-409D-9568-589FA8E0F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1A25-0B18-4907-8116-435739F5C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CF74-A2F1-4C3D-9123-E2BF5B7D0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A379-AF88-4EAC-8692-9B5FF7B77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A5B0-CEEF-4871-BFE2-D10CB14C4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D143-29B9-4D93-9747-C7188D619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A9D5-15F4-4C8A-9533-A808A4E5A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AFC2-FFEB-44C6-8A05-5ECE7902A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63F3-2297-4865-B04F-759C01C2A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21F8-34A5-4E83-B1D6-A600009F5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92B2-FCD6-4AC4-AC3E-88E1EA09F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59D5-CDDA-4683-976A-2D1341FED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2B5A-077A-413F-91F1-D25BD77AA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CB7B-6F26-41CE-A4B8-82571A425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B300-4422-44C0-9335-E44A8D39A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7740-EA6D-4F5D-B983-1244E9962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6E7B-DEDB-45AA-9176-60FA06393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6F0A-7C80-4A94-AD10-C3191E3F5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D6C4-1CDF-478F-9E37-C87FC1C27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ADE7-3741-4BAE-9996-115976F9A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B85C-C745-4625-9389-3D0023628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28EC-E269-4646-B3A0-4FA86B978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FF4E-2585-41BA-B687-B1ABC5CF4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3A10-551C-4FB2-804F-E9F2E7E16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8977-7C1B-4F1F-8A6A-BB2234DAA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481E-08DC-4661-88E8-A7FDF528E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F6C8-9765-4257-9280-4E115637C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C280-3F83-4620-9EF3-02822C0C3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25E6-B679-4C81-888E-4E70305A1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0C54-1DE8-4E9A-B537-1704078FC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BEFA-F825-4655-B3FB-20179B93E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27C8-7846-4AA7-9DF0-3D9B6DA9E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CE03-7141-401B-B36B-A92818B1A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D199-5A6A-42F4-B126-4F2724EF1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95D6-0C8C-4C36-B0FF-30AB95EC7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7C1A-0F2D-4CF1-A98F-0905CBD94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27A9-0C3F-4473-B992-14A749AE4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55A2-DC54-4B22-B650-7DCF5E482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940F-F66D-4B89-95C4-457420E58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D872-989C-4732-8E52-DB67FF876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2310-EBEA-4522-B637-20100598A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EE8E-2274-4350-B63B-E5E9CBF8C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5E33-8F9B-4740-9E50-DE7E13B0C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EC8D-512A-4A3A-93E3-CE098E031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372A-C2C6-42A3-A6C8-E20BE5D94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56B7-2262-4BA0-A0B3-11920AA43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CA1A-B1B7-4D03-810F-DBB91E706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0D68-F84C-4073-9C51-86EC39CA4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EB31-9280-43A7-AF02-36AC885E6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054C4-360B-4C0D-8062-F8C213641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6D568-BC4B-4A4F-8A5C-8B213CD4A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A85FBA-3D40-49BB-8CF7-51166C36DD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518E30-1441-4890-BD62-7D0BF5B3CD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77C80-E393-4950-A985-D61244AEA0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B7455-40E5-464B-A1F5-D9E590324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B92CA-DECD-44A8-8851-267D9DC933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4C00AE-0680-44B2-BAB8-65237C9A9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296116-04D8-4A63-8BE7-6EDDAE440B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93B6E5-E48B-48E3-A2FC-FBCFCF604D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B56CCC-9B9C-45D1-B3BE-CF1F1CE6CA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1C9FA6-22EA-4C4B-9278-F53F4A8491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1604D-F0BB-401E-9E9D-5AFDF383F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B08BE4-A9B7-4F19-91BA-42E942F559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5F9F3B-57E4-4D89-B9A9-8404AD38F0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61A2A9-D88C-418A-A33C-67496A544D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ECAB26-8EB7-4138-AA3F-8179D08048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7AC95B-5CDA-489A-A414-DB695BE623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CA0336-AFFC-4AA3-8CCB-8F7CA6EEDE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9A76FD-A09C-4240-B9F1-CBF5BB7B30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6FE9CD-F793-439B-8B5A-79D7481C4C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EE81A5-4F0A-4318-BBAF-2D5018FB44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A6077E-E80C-4BAC-9122-4B28D69C77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A5579-613F-4F30-A7D9-6BE80784C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51E4EA-D77D-4548-ACF7-700C2575F1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0ECB7B-63F1-4EC7-9266-CA1CFB9D9F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C570CD-4735-40E5-B5A8-8B72AC3FCF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E7E6B8-F628-46C0-8CBD-16C395736C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BD6661-570A-4E5B-BF70-DDCBB0DD89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42E68E-B9D6-4CA9-B8F8-D3AEF515A2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1C4826-A9F6-420C-8DB2-C508BB65EC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F4D194-4671-4D1C-815F-FA6CF7AFF9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375BC5-2FD2-4535-B255-A9B2E2EF4B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4ABB01-930C-43F0-A681-E9A37DEF1B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02EF0-BF7B-4929-AD39-991AB6B6A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C058AB-527C-4FD0-AD20-ED81BDD782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8089E9-1C12-408E-A7C3-5D3B59A9B9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4B80DA-2465-48CA-AA17-488F9ACC55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0099D3-0DD9-432B-B33F-F0D7F35553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BAA4C5-424F-42C7-A0CF-5FF38F3F22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7931A7-DD48-443E-8023-02D5D665EF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129476-9B39-491A-96C9-F69EF6C14F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AA70C3-4A84-4159-AFB8-6D0397B418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EEF728-3FA4-4924-8260-31480A66CC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C3A6A7-F3EE-40B5-9591-BA312739F7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F8028-BAF5-463F-81A2-E2DE7D4F0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407C3C-556B-4E38-902B-FE24C57CAF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62DA15-C0BE-4970-8CE2-4C63DF21C0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366390-1444-44C8-BE4B-71EB1CB565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BBE366-816C-4CAD-A773-36B6E42AEB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7697F0-E469-4752-A0E1-E64D65DD93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7F5273C-A9D0-47B6-B2AA-B5D51E5F8268}"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08EA6BE-7D25-4474-9E7F-A458FBEB19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EE673A9-6E34-4B14-95EC-3875A3ADE9D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489C3DC-A2F0-47DB-A6B8-1786EF7111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8908EBE-F2C6-4F8B-ABDF-CB758B4E87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C1976-919D-439B-AEE5-739CEA0BA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55CCADEE-082C-4F78-B352-145F871CE5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1F100B8-5701-460D-AF81-A47BAC0B24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9BC2DDE-EFB7-4C25-97CC-4FD5A6363F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4093EC8-662E-4A4D-8F4B-7113226DA6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F96551A-1D3B-46BB-971C-C1C8249708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1B2B11A1-BF3F-4B56-A99C-3A70D8DCC9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67C9C0E1-8351-45B6-A9C6-90FE99881BC5}"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40A32-0114-4C8D-B965-80F8BCFAD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8EB9D-7B7A-4EDB-9EB9-52A0C4FD9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7DC66-EFE3-481B-881F-C6877ADD6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61708-3E1B-4381-BC42-B843FAB83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EC7DD-5309-4A54-8875-6AD4793D8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063F5-8DA1-48C7-98D6-1884205B2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D24AC-775F-4699-99D8-4F41699DF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C754C-46C8-4517-9022-414FCF5D0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A645B-1240-4384-81B8-5A414AB89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F16D5-33F1-4626-945A-2F4A3A18D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EA3328-224F-4515-A483-29A0EA4A35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535F1-D499-4F52-B23D-0BA65F4A8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34CF26-806D-40BE-877E-9443C40DE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8A22F-B530-4060-8A05-E8CEED303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375C9-3F41-4201-993F-9803EF96B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D5687-C4CE-494C-AB04-39242B500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DD92E-CB6D-44E8-82DA-F6667A9963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03F09-A5B6-4D76-B22E-D25E478F2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28737-1B9A-4EE0-BB53-8485C597E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A430D-B808-4C55-A0AF-B1388D868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FE5BA-8E5B-4176-A248-D19253F66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C7FAE1-745F-4D93-A34A-FF32D040D4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6D4EE-B74D-47DE-9113-6D8FCF5001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C6E026-1C8D-4952-AA55-58CF3ACE9D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4D2994-B635-4D58-B183-B55B0D52F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F0BF4E-646F-446F-9496-9221B2406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F1451-EC9B-4676-A53D-9881922C3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673BF-1453-44AC-91C2-B7F44B728D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2003D5-24C4-4EF6-B9A2-AA5CB086E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0B78B-2183-4CC4-891C-8E2D072D3E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44411-488D-4266-82F8-DA8E34575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F06A4-6F21-4F53-86FF-64A1BEB51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95298-B95F-4204-A83C-697CAB4B0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91EBF-708F-49AF-943C-CFEED7545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B0123-AEF7-477C-B0F1-B4B7C0CEC6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B905CF-6C3E-43C9-8A2C-AF8DE41F50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37E1FA-E712-437C-9885-A141C95FF5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88170-F740-46CB-8EB6-4548CF6B6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AA4A6F-3CBF-41CA-9D6F-F885A8C7EA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CB41BD-3269-42F2-96AA-C6D9E08868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239759-8927-45A3-953E-99209C8C2A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DBC6C-0057-4771-8DBE-27007464E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9BD302-1621-45BE-8293-43B8272C12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6D8C1-8434-4BB0-A688-75D9D2178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3AC28-20D5-487A-B744-486D0ADE4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7CB65-DFF6-4A2D-9974-C13F47582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8D148-F745-45C2-A5D1-DC290A18C2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C97D35-BEAB-4738-B010-D748330430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14220-CCF2-4E34-A9C7-C686A9B05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60C5B3-BDC9-402C-9DCB-BDF277C893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72757D-4102-4F2F-A08C-CAB9282EC7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D4F730-0639-4158-A824-032AD23B3C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E3511-9C7F-41EE-B94E-D372C6A3E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8D2A2A-2280-427C-9BEA-30873786AC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556D5-15CF-4155-88CE-86AD07F2FF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5C6F3-A8BB-4B85-8451-53EFB8CAAE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4E579-9701-4BB5-83EC-99C66784F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EE22B-94A2-4531-81E9-225F9AC40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1B4DC-1759-4295-BD49-A86CF062C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A6F0-CA12-4E0B-A41C-17059C3D4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03574-AE24-4595-92A9-127728EC33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A1B9F8-F0E1-4842-99D8-7D264C3FEC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0594D6-6684-4829-9814-EEF987FD55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D257DA-4E78-4BB4-85A0-93A98870B3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A3E132-FDDF-4A6B-9C24-7EBCCDC843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281E5F-2118-4298-A6DA-7AD26E382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31692F-D9D8-4C25-86DB-F206B3FA6B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92217D-AC1B-48BF-91C2-A7F218147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15C58B-9DC8-47FA-8900-E11CDA112B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F1C4E8-E7E9-4CF4-9E67-7A1EE0937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112A-BC3A-490F-A8BC-024B170A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237E8-22FA-425C-AB22-661998238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24C8B-68BA-4D95-AED8-69290549C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74164A-C9FB-4923-AF0F-A9E101784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2B148F-51C6-4F7D-8706-F7046B6DEE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23E93D-CB6C-4AEF-92A8-21621C12EB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234B3D-7DE7-469B-A233-397DC2A776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B530CD-3908-4528-B654-E2BD260A9D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1F2A01-9232-40FF-BEA9-91C8CA5307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66B89D-14F6-4944-8AA6-533DD869C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C5CAC5-2242-4924-A403-F6D3096B23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9D0DF-E561-4F77-B6BD-C987F3849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8CF435-3A5F-407C-8ED4-D661665B32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8411CE-8B18-44A2-937B-D2283F7B6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97CC8-A377-4C4E-80C4-85EB976EB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5E8F1-19A5-4F3C-BAC2-65090DD2AE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54B9F-09E7-4908-AA2C-646A714678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3436E5-1DF1-4918-80EE-70118FE2FC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8F9DDB-2561-46CC-8F70-2E1CDE0B87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5439CE-621A-4E98-96E6-1368E2007E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632EBA-1374-4468-905D-DB4519D18F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455155-EE7B-4731-B8DB-9B55E205B7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C68E-E37B-4E0A-86D3-FF80DE4E13A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8D14-7002-4E58-B2E8-8949E3EFE72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933B-963C-4BC3-81EA-59A6164FE25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F667-AD41-4E64-B744-B21F34325B3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EDFB-01C5-4FB3-BBD6-0C05D2F5C9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1C54-76A2-45CD-B03E-E1772A16679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B246-16CC-4F00-B31D-535E593EB72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EB78-2A4A-457A-87CF-717EB051E3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A9A3-CCC2-4F80-8B1B-45F9D84EE4C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F4B7-0756-47CA-BBE6-49F21F60FFB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FA2F-CC4B-4367-87F6-37C2248D3B9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3DC3-82B2-497F-B33B-DF9C722F1C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5280-F374-485D-9FEB-2C17188A3C1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125000"/>
            <a:ext cx="7812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26560" y="1125360"/>
            <a:ext cx="799308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920" y="981000"/>
            <a:ext cx="8642160" cy="468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80720" y="1392120"/>
            <a:ext cx="8783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250920" y="1052640"/>
            <a:ext cx="8640720" cy="465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611280" y="1989000"/>
            <a:ext cx="827712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2800"/>
            </a:br>
            <a:br>
              <a:rPr sz="20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69" name="Picture 9" descr=""/>
          <p:cNvPicPr/>
          <p:nvPr/>
        </p:nvPicPr>
        <p:blipFill>
          <a:blip r:embed="rId1"/>
          <a:stretch/>
        </p:blipFill>
        <p:spPr>
          <a:xfrm>
            <a:off x="0" y="0"/>
            <a:ext cx="9144000" cy="1368360"/>
          </a:xfrm>
          <a:prstGeom prst="rect">
            <a:avLst/>
          </a:prstGeom>
          <a:ln w="0">
            <a:noFill/>
          </a:ln>
        </p:spPr>
      </p:pic>
      <p:pic>
        <p:nvPicPr>
          <p:cNvPr id="1170" name="Picture 10" descr=""/>
          <p:cNvPicPr/>
          <p:nvPr/>
        </p:nvPicPr>
        <p:blipFill>
          <a:blip r:embed="rId2"/>
          <a:stretch/>
        </p:blipFill>
        <p:spPr>
          <a:xfrm>
            <a:off x="1258920" y="2060640"/>
            <a:ext cx="1297080" cy="1528560"/>
          </a:xfrm>
          <a:prstGeom prst="rect">
            <a:avLst/>
          </a:prstGeom>
          <a:ln w="0">
            <a:noFill/>
          </a:ln>
        </p:spPr>
      </p:pic>
      <p:pic>
        <p:nvPicPr>
          <p:cNvPr id="1171" name="12 - Εικόνα" descr=""/>
          <p:cNvPicPr/>
          <p:nvPr/>
        </p:nvPicPr>
        <p:blipFill>
          <a:blip r:embed="rId3"/>
          <a:stretch/>
        </p:blipFill>
        <p:spPr>
          <a:xfrm>
            <a:off x="6948360" y="1989000"/>
            <a:ext cx="1444680" cy="1573200"/>
          </a:xfrm>
          <a:prstGeom prst="rect">
            <a:avLst/>
          </a:prstGeom>
          <a:ln w="0">
            <a:noFill/>
          </a:ln>
        </p:spPr>
      </p:pic>
      <p:sp>
        <p:nvSpPr>
          <p:cNvPr id="117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7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7:51:08Z</dcterms:modified>
  <cp:revision>171</cp:revision>
  <dc:subject/>
  <dc:title>Παρουσίαση του PowerPoint</dc:title>
</cp:coreProperties>
</file>