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2059-0507-4829-AA5E-542E7C5983F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469F-9079-432D-A86E-5F68BD9C8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985680" y="741240"/>
            <a:ext cx="4886640" cy="3665520"/>
          </a:xfrm>
          <a:prstGeom prst="rect">
            <a:avLst/>
          </a:prstGeom>
          <a:ln w="0">
            <a:noFill/>
          </a:ln>
        </p:spPr>
      </p:sp>
      <p:sp>
        <p:nvSpPr>
          <p:cNvPr id="1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CCAE-CBE2-413D-9AA0-D004C6A64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6F63-10EC-4A9D-AF2C-0414A2F84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43DF-B0A4-4772-821B-7DA709247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D59F-23D3-4B1B-B7C3-716C0BA31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403A-900B-4073-9017-7AD50781F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6475-C3F8-43FA-8D05-C987A18BB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F735-E500-4CF7-AF0C-B338C3C9F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B54C-0A61-49EC-B70B-00D27738E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2A0C-4275-466F-A022-0A9977D3D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EB4F-86D4-4F05-BFF2-EAA6D1075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8461-FA8E-4FAB-A214-AB23D3DE2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21B7-2C2D-4DA3-A216-821FEDBAF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E998-C7C7-4493-B435-A25412ADD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D75C-BC3F-43F4-976B-66F0E8122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4D61-3FF0-4C64-B1A2-C3D342666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CBCA-78A2-4DC7-A86A-967D2E56C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9070-6889-4A83-B095-AD01DC76D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38A8-38E0-47CD-BC5B-2E9A13D82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6D39-A7D1-42FB-98C9-6A8F66B94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28D4-D1FE-4A22-B32B-B2C23025D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EFD6-2126-402E-8F26-CD92996AB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A133-0A04-4196-93BD-6A0ADA392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C104-B6C7-4F52-BB82-7E873D4BB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EAB6-C976-4656-9FF6-7DE92FA9B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67E3-1F0E-4BCC-B87E-5DB2562C8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7058-4F25-44A3-A41D-B46E3D38B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66C2-4CDF-4786-A6F4-222339A69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1C54-2439-4E6B-A426-E0C81CF38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4930-31B8-496C-8F11-9A1A38A37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C907-E78D-4A1E-9C68-B24785DA2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906A-9E26-46F5-B7B2-45C40F8CD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985680" y="741240"/>
            <a:ext cx="4886640" cy="3665520"/>
          </a:xfrm>
          <a:prstGeom prst="rect">
            <a:avLst/>
          </a:prstGeom>
          <a:ln w="0">
            <a:noFill/>
          </a:ln>
        </p:spPr>
      </p:sp>
      <p:sp>
        <p:nvSpPr>
          <p:cNvPr id="1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E4A3-90BA-41D7-A88B-FB514245C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9979-6631-4163-AC3A-CE6AC9DFD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AD1C-AC82-4092-A8C0-BF2D12691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92FC-F798-47EC-A537-6DCE9E725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F000-E044-4488-86CA-D16F18EA4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FD97-7789-417C-8655-1BA98061A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6188-26DF-4124-B464-1D3A076DF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B8AD-E06C-40B8-9E0E-D56C52907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15A2-0FB5-41FA-BE04-E90A53ED1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168C-4EA7-4209-AA41-3BC01CED7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04A4-E5CF-4C0C-ACEE-1A2ECE69B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8" name="PlaceHolder 1"/>
          <p:cNvSpPr>
            <a:spLocks noGrp="1"/>
          </p:cNvSpPr>
          <p:nvPr>
            <p:ph type="sldImg"/>
          </p:nvPr>
        </p:nvSpPr>
        <p:spPr>
          <a:xfrm>
            <a:off x="985680" y="741240"/>
            <a:ext cx="4886640" cy="3665520"/>
          </a:xfrm>
          <a:prstGeom prst="rect">
            <a:avLst/>
          </a:prstGeom>
          <a:ln w="0">
            <a:noFill/>
          </a:ln>
        </p:spPr>
      </p:sp>
      <p:sp>
        <p:nvSpPr>
          <p:cNvPr id="1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6994-1C3F-40A9-9BA1-4D274D0E1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A742-B139-479E-803B-FD23086B5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95EF-F867-424D-BB35-2C0AD589E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1956-4551-4D9A-87FA-F2ABB1D6F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AA78-67B2-44BB-9573-AB6491C12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B7A9-3477-4C9C-9FDA-A9915A673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9966-DEC8-4D0B-8E1C-471C2876D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9B7A-3FCF-4583-842E-2FE305D6E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4FCC-9885-4180-88AA-5550B361F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B2BF-9931-4D9A-B726-05907F224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6002-8EFA-4382-A153-90A4EF3F0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PlaceHolder 1"/>
          <p:cNvSpPr>
            <a:spLocks noGrp="1"/>
          </p:cNvSpPr>
          <p:nvPr>
            <p:ph type="sldImg"/>
          </p:nvPr>
        </p:nvSpPr>
        <p:spPr>
          <a:xfrm>
            <a:off x="985680" y="741240"/>
            <a:ext cx="4886640" cy="3665520"/>
          </a:xfrm>
          <a:prstGeom prst="rect">
            <a:avLst/>
          </a:prstGeom>
          <a:ln w="0">
            <a:noFill/>
          </a:ln>
        </p:spPr>
      </p:sp>
      <p:sp>
        <p:nvSpPr>
          <p:cNvPr id="16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B3AD-B675-46D4-82F7-1692D5425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6518-432C-41AB-AFF5-DAADA0C15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ED3A-1D04-4DD7-BD08-04CE4EF04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2DE1-6A4F-47F3-9779-5B3430DA9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108F-F27E-405A-AE61-248F7B9E7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9DBA-FAD4-4FC4-BE19-2B1581923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BB14-CF93-433E-8465-9AD277EA9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EA25-320C-4DF0-A289-4780F96BC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EDC2-237F-4035-A60B-7E6448339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31C9-3B55-4216-A8A5-855B3BAB0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0606-05F3-4C3F-98E4-6E2737CF8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4" name="PlaceHolder 1"/>
          <p:cNvSpPr>
            <a:spLocks noGrp="1"/>
          </p:cNvSpPr>
          <p:nvPr>
            <p:ph type="sldImg"/>
          </p:nvPr>
        </p:nvSpPr>
        <p:spPr>
          <a:xfrm>
            <a:off x="985680" y="741240"/>
            <a:ext cx="4886640" cy="3665520"/>
          </a:xfrm>
          <a:prstGeom prst="rect">
            <a:avLst/>
          </a:prstGeom>
          <a:ln w="0">
            <a:noFill/>
          </a:ln>
        </p:spPr>
      </p:sp>
      <p:sp>
        <p:nvSpPr>
          <p:cNvPr id="1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7AAF-BF47-4296-BBF5-46994970F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748D-B491-42DF-A501-2ABBD74F5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921A-E911-4BAF-9D9E-ADE549D93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D606-8ADE-43FE-AFA0-87888E57F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D174-F7A8-43B1-B78D-770CF0CC3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8CF0-444E-459A-8CC5-56F6CC908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D04B-4AD3-4D9A-AB30-CB54BC02F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1035-782E-4B7D-AE2F-126EC404E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B290-80D3-45BC-B1A3-9A6E6918B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DACC-B7EA-4656-BE2A-54B2C8469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9DE9-01F1-4F04-869C-A387C6206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7" name="PlaceHolder 1"/>
          <p:cNvSpPr>
            <a:spLocks noGrp="1"/>
          </p:cNvSpPr>
          <p:nvPr>
            <p:ph type="sldImg"/>
          </p:nvPr>
        </p:nvSpPr>
        <p:spPr>
          <a:xfrm>
            <a:off x="985680" y="741240"/>
            <a:ext cx="4886640" cy="3665520"/>
          </a:xfrm>
          <a:prstGeom prst="rect">
            <a:avLst/>
          </a:prstGeom>
          <a:ln w="0">
            <a:noFill/>
          </a:ln>
        </p:spPr>
      </p:sp>
      <p:sp>
        <p:nvSpPr>
          <p:cNvPr id="1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F68E-17F9-4133-BDBC-591D5CE07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5474-1BCD-46B8-963E-454F53903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7726-AC58-49C8-8089-1932E75E3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619F-1281-4BB5-BD73-585A9AF32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4EDE-1438-4715-91A2-1D8B7AA3C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C999-98B0-49AF-8083-66B6E0A31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0EA8-BFB9-4567-A112-B2645AC18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B9A8-9A6F-400A-82A6-4A165CBF6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DED0-00C2-47D1-A1E2-7D38CF0C8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B3D9-B99B-4615-8C19-3767EAD89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942D-1CAC-415B-BFB5-F7713FAF9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0" name="PlaceHolder 1"/>
          <p:cNvSpPr>
            <a:spLocks noGrp="1"/>
          </p:cNvSpPr>
          <p:nvPr>
            <p:ph type="sldImg"/>
          </p:nvPr>
        </p:nvSpPr>
        <p:spPr>
          <a:xfrm>
            <a:off x="985680" y="741240"/>
            <a:ext cx="4886640" cy="3665520"/>
          </a:xfrm>
          <a:prstGeom prst="rect">
            <a:avLst/>
          </a:prstGeom>
          <a:ln w="0">
            <a:noFill/>
          </a:ln>
        </p:spPr>
      </p:sp>
      <p:sp>
        <p:nvSpPr>
          <p:cNvPr id="1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9F79-F74E-464C-88AA-9C549A2E9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32FC-B072-4960-8B75-B297AE6E8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2E69-A103-4CAB-81D8-E00028805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278D-0C7B-4A99-BBD6-E4552C0FB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E776-83D6-48AC-90BA-26542F7A1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0B4E-4EB9-4213-B437-3F4252BFB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8BD6-9C00-41CA-AE90-40A5639E9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8FEA-5699-4C13-8D4E-29233F985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3385-091C-47CF-8BCF-BECD0E5B1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9342-5270-43B0-86B4-9532D3EB2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24C1-C014-4DFE-A991-56A6A56B6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3" name="PlaceHolder 1"/>
          <p:cNvSpPr>
            <a:spLocks noGrp="1"/>
          </p:cNvSpPr>
          <p:nvPr>
            <p:ph type="sldImg"/>
          </p:nvPr>
        </p:nvSpPr>
        <p:spPr>
          <a:xfrm>
            <a:off x="985680" y="741240"/>
            <a:ext cx="4886640" cy="3665520"/>
          </a:xfrm>
          <a:prstGeom prst="rect">
            <a:avLst/>
          </a:prstGeom>
          <a:ln w="0">
            <a:noFill/>
          </a:ln>
        </p:spPr>
      </p:sp>
      <p:sp>
        <p:nvSpPr>
          <p:cNvPr id="16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1925-E516-48F4-909C-15148D84F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2D0F-0C4C-4FC8-B435-452C49AE1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02F1-B522-4460-98A8-F480E5570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DF9C-E22F-4C6D-B9D6-D9CA88080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B647-7454-420F-A3EE-A95842CBE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48D6-5D26-4144-8022-A22C3604D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68C5-E753-461D-B472-4506CCE15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47C9-2F5B-4BB0-BC69-D9C50055C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4CA3-FEDA-42EA-8E00-F51C63776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BD9D-BB34-47D9-A4D5-4DE279AE9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641E-1AEC-4618-8539-1500DD7B7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985680" y="741240"/>
            <a:ext cx="4886640" cy="3665520"/>
          </a:xfrm>
          <a:prstGeom prst="rect">
            <a:avLst/>
          </a:prstGeom>
          <a:ln w="0">
            <a:noFill/>
          </a:ln>
        </p:spPr>
      </p:sp>
      <p:sp>
        <p:nvSpPr>
          <p:cNvPr id="1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7A5E-A025-45C1-8D04-7276B776F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D075-6CE5-44FE-AD1C-CC253024B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8C39-B9C0-4AD5-A462-8414CA499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B398-061E-45BC-9660-47C0CB742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73F5-D361-4C0F-BE41-37C69AF9B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F0A3-0960-4988-A5E9-54014CA53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DE12-8A06-4389-AB2D-62ACC69DF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2D05-D89C-4EAE-9FF4-CF72CEBCC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2D6B-55FD-4108-92E5-114BC8AFE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2697-5CBE-49DC-9D33-1B7B25A87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D32C3-95B9-4123-A24B-5F971FAA5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1C147-58DE-48C3-865A-219841F1B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BF25B4-2464-4164-9ECE-45C45ABBBA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30B173-4EC1-4C33-BE92-75DECF7371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F6B743-F923-4051-96BF-EDD16C7CCE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2B12E2-7B71-4509-AE93-3B290ADB52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267AA2-9C7A-44B7-9F35-ECC4F428E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21128-FEF6-4FFF-8F88-99639A0152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18ADC3-20D7-40D2-96F2-7DDE69FC46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171FE4-FE9E-4B2E-81F1-95BBD4AC6A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2FB956-4F83-4DFC-9883-E6BD6F6151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55DB43-95B2-4F87-AFF7-50F28104912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DAEBA-1EA8-4262-BD7C-4C20366F6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8464D3-7914-450A-9E08-5D70F231A6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5F46FD-B37F-4557-AC8B-501DB15D65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55B4DC-0AA1-469A-82F1-B5064C97E4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8C4AD8-80A1-4DA9-B085-2E921E49D3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FC8D47-155A-49C6-B265-D56C92CF88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0230D4-4091-48BE-A460-2F4F11B69B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B4DDF6-4026-4220-A6BA-7DD03C2DA0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6CB8E7-A8E6-45B5-9528-EA1F62ED2E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0201D4-A323-440E-A31D-92CE083C48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40B2BB3-76CA-43D4-A463-69A3801046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528C4-47C7-41C4-9E9A-DF4BD3319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240339-A54A-47D9-9F9E-77B81514FE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668A39-7E83-4A13-9A2C-E39879B19E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0ACDC5-EAA2-49FD-95A6-BE5693DEAA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7891F4-0ABE-47E2-9406-96DA29F8AE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71D79F-FC8F-458C-A736-1EF5693D18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18EBE2-0D54-418F-BDF8-953B36AD99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4DD5E7-4C66-418A-8DDE-A6926DB062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960B99-EE0F-41BE-930F-7C1F76D8CE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2ABBA9-A633-4BA5-BF06-FC514E0C88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5B46B4-646D-4B00-98CB-79483BE9EC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332E3-BCC7-49EB-ABFB-03A1762B1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1086DD-F75A-4413-BC91-C5DF6335DC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1A2476-D44D-4CAC-8F00-D74F4BC4AC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51EE41-A74C-4B39-A436-057CE22924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A6C556-F296-491B-994C-9F2E232539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F318F7-1EFF-407A-BAA2-7540163CAE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5C51E8-3D9F-475E-AFCA-41647171EA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4DA936-C0CA-4F7C-A892-801A8E7E0B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BF1A36-8A86-433D-84F8-927F43319B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FBFC5D-AD09-4D0E-BA68-683950EA88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995715-6B7F-4261-A9D9-E16B66B505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C4289-8BFE-496D-8F60-2ECC21BA8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959AB6-759A-4ACA-8B28-522035CA2A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698C2C-CC4A-426C-A3ED-464C0209FB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CB77B0-4B9C-4C28-8C82-06E7694197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278C91-A682-4715-876C-340D937C03E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1386FB-E9A6-437F-8455-988E99D568A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36157C0D-0813-44AC-A5C8-D550F5099ECC}"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92E474A-CCD6-4FC2-87FA-21D959AAD2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3D2980E-3EB1-44B2-B4B6-C9403E645E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04EFFC6-1DA2-4F32-9650-E9FBB2DD23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C6860FE8-3214-4D80-8959-A9F37F03978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B2C6E-26CC-4019-87D1-137030552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2A34F63E-D2B3-4761-9170-D75E3567580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24D1010-64C7-482C-9B50-32BD5B3572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B760364-D869-4921-B597-4C5F234D2C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04275CB-2949-4B33-9D0A-DE57A88447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C2697D7-6A21-43D7-A784-369F5D7E6F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4F07B416-71A0-422F-8BF6-75CC6A002E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779A7C02-04AB-4E5B-A8BC-1F8E56D6E356}"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52351-6C03-449E-AE0A-2FC379453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9A470-3F32-466F-AF9C-72B0BB0BA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580E8-92A5-472F-9CCF-C134D22E4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64609-5389-47DA-9636-0E8008C40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B128B-2BB0-461F-A81A-6DE0FB630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779D7-D1C0-4181-99BA-9F781A5C3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D660E-49C2-41EA-AC99-732E0BEDE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C272E-D08A-476E-9A32-2A26F6315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97A94-AB28-4088-AFA3-21AADE27C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337A5-8DC1-490B-B77C-091EEF0F0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BCB29-DD95-43E0-953D-DC7E0EF22D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C9CAB-F29B-448F-B858-133CD3E547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66D11-3B47-4432-BB7F-565FF24591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5CFE0B-938F-4A4B-9733-C1659D5A9A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2B0121-6EB4-46CB-9CE7-53D802A6C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332C6-5EEE-4BF5-AFDE-60076FC58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234D9D-B80D-4683-B40E-626575599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BBB31-20FF-40FD-852E-C612FACCC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57DD1-020B-4686-882C-5AA2C7D43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C9C12-0A7A-4AA8-9AD0-F031B65DB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0A6D9-F652-4435-925F-6EAE015EB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B343D3-A0CF-4FF7-A413-C99055DC18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30C277-F9F4-4147-9695-0D070FF86B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006C95-B560-4970-9E15-72A6E79F84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816240-6BD0-4687-BD62-4B25FD94F2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1380F-337B-40D4-9841-7F36D37357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5FB77-8E4F-4D8A-BD7E-4F2270089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C9CCF-7F8C-42DB-B487-FD071CEE9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A48E91-44A6-41BF-B28C-507EF08796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A3C5BC-59FA-44A9-8B71-45E747991C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CE212-1F4E-45C2-9D1A-0044A616E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3C783-62B7-48BF-8A1A-97F951849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44E7A-96F6-4B2E-B276-951D44B90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02CB9-89EE-48AA-904B-5F09AC2F1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5BB9AF-B857-4116-8857-CB864A7657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642A2A-D123-42A3-AB80-0977E2A3C2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00A1AA-D417-4FF8-AD46-5869C2D2D9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DA8A3-F59D-48D4-8C28-68799DC9A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D417F9-989E-47F8-9A0B-49FBD698AE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B9641-88E9-4AE5-A8E8-D89E943F2E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30D522-99AE-4BFC-91EB-494C95C133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CB75C-1224-4A31-B1C4-CE033F7B03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8E1BC6-CBD6-45B8-809F-A8AF73BB4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70339-3D80-49D0-BF2A-54BD5E012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77577-82C4-4AA2-85E4-73FB10D43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D0C355-CCF9-4B96-9101-5CE1625E2D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E2F009-33BA-413F-80D9-60BC153DD5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78D7E8-0130-4FD5-BFBD-03344A2149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369E-574C-4842-AA96-3EFC25580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73DADC-610E-4B0F-9B86-F13D256148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096770-0786-4F45-9459-6E8ED4DB8C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DE4E57-EA6C-4FA7-BD26-42DE8CF783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3F7438-0C14-428C-A1A6-2EE027AB0E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00881-6F93-4324-BE73-CE11D1B4B0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914A3A-E361-49C1-A142-7D1B046040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52B7EE-5EC2-45D8-AA5D-25915A86B4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0283D-78A3-4081-86B5-B7955190D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6A778-1432-4B21-A9B4-310707245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A771AC-64CB-4777-9DAF-303932537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1AF9E-507C-4C05-AB9B-3154A909B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7E26E9-7B93-4339-82CB-8F77E0FB0A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B67C0B-995A-405F-8825-53DF7095B9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C41F92-97D1-42D8-AC9E-38BD09BC40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253A9D-B3E1-4DC0-9F17-9A6841578A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BD3F2D-E0D2-4B83-9128-B04EFAAF8E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95D441-0D97-43FF-B756-D169EF0B46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A9EECC-ED91-47CD-B545-833814C70B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A2A4FB-1556-48FD-8B74-164E1D3EA2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28E653-F20D-4A8D-86F8-769EE698A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FC2AAA-5EDF-4785-BE6B-BA83954A6B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2F855-2C57-4F3B-9A96-23756890C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7725C-7578-4AE9-9384-CA71FA2A35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9571D-981B-49F9-8A7A-14CF68ABD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EFA022-6A87-43E8-938F-2835D7EE82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ACED64-2E86-4EB6-BF95-A752E40ACC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C21048-8212-4438-BACA-7E38C634A4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041011-4450-45B8-B639-1B076D99C5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D1A4F0-D22A-470B-AAE0-3328AF0C91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FE1A83-54A6-4130-9592-ED0CF2430F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B81185-8BE8-4D8E-A60B-C8E88685A9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F6911C-B46C-4F72-BC41-746922E9B2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EB6BB-1154-423E-A3A9-F46A64662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A874ED-E904-40B8-9FFA-C8BE37733C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270B32-48C8-497F-9520-C1D22295C8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9C63F4-C007-43C6-B380-5DE19499D7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5AC48C-B455-454B-B0A1-83797908C8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BE65CF-F43E-4E03-82B5-A004591208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3D2C37-B7E1-45FC-A14E-01CEAADBFA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7E4AEA-7BD7-4FE0-92CD-77DE84AEF4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DFE072-37A0-4C53-BDA9-962994E968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E583F9-1FD0-412D-8AF6-5A2E2725FE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C2E6CB-1DE0-4A3E-894D-8E1D041C099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613F-A99B-4134-99BF-BEDE7FA533B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C479-80CF-4B5B-B97E-2A37BCEE082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557D-7203-4E77-9263-7F8AB9BA667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C43F-CEA0-46B1-A49E-10986021D68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484D-E9EB-48F4-95FC-E49C3CACE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A4DC-9FA2-411B-B63B-175E46F744A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C380-C638-4B5C-AA88-A02CA185010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9173-876B-4153-8649-9D8D0FD2518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C85C-355B-42BB-B60E-C646FCA0EE8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3E3B-C9B3-44F8-B459-97AD5CFC17F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2EC4-E34E-4CC6-8CE3-59A9EEB16A3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B8DF-5A39-4224-B94F-6684AC86B67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3F9C-E77F-42E8-96AB-7FF965F89B1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413000"/>
            <a:ext cx="7845480" cy="4680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39" name="Ομάδα 1"/>
          <p:cNvGrpSpPr/>
          <p:nvPr/>
        </p:nvGrpSpPr>
        <p:grpSpPr>
          <a:xfrm>
            <a:off x="0" y="115920"/>
            <a:ext cx="9144000" cy="6551640"/>
            <a:chOff x="0" y="115920"/>
            <a:chExt cx="9144000" cy="6551640"/>
          </a:xfrm>
        </p:grpSpPr>
        <p:grpSp>
          <p:nvGrpSpPr>
            <p:cNvPr id="1440" name="Ομάδα 1"/>
            <p:cNvGrpSpPr/>
            <p:nvPr/>
          </p:nvGrpSpPr>
          <p:grpSpPr>
            <a:xfrm>
              <a:off x="0" y="115920"/>
              <a:ext cx="9144000" cy="6551640"/>
              <a:chOff x="0" y="115920"/>
              <a:chExt cx="9144000" cy="6551640"/>
            </a:xfrm>
          </p:grpSpPr>
          <p:sp>
            <p:nvSpPr>
              <p:cNvPr id="1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6" name="9 - Εικόνα"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48" name="Ομάδα 1"/>
          <p:cNvGrpSpPr/>
          <p:nvPr/>
        </p:nvGrpSpPr>
        <p:grpSpPr>
          <a:xfrm>
            <a:off x="0" y="115920"/>
            <a:ext cx="9144000" cy="6551640"/>
            <a:chOff x="0" y="115920"/>
            <a:chExt cx="9144000" cy="6551640"/>
          </a:xfrm>
        </p:grpSpPr>
        <p:grpSp>
          <p:nvGrpSpPr>
            <p:cNvPr id="1449" name="Ομάδα 1"/>
            <p:cNvGrpSpPr/>
            <p:nvPr/>
          </p:nvGrpSpPr>
          <p:grpSpPr>
            <a:xfrm>
              <a:off x="0" y="115920"/>
              <a:ext cx="9144000" cy="6551640"/>
              <a:chOff x="0" y="115920"/>
              <a:chExt cx="9144000" cy="6551640"/>
            </a:xfrm>
          </p:grpSpPr>
          <p:sp>
            <p:nvSpPr>
              <p:cNvPr id="1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5" name="9 - Εικόνα"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7" name="Ομάδα 1"/>
          <p:cNvGrpSpPr/>
          <p:nvPr/>
        </p:nvGrpSpPr>
        <p:grpSpPr>
          <a:xfrm>
            <a:off x="0" y="115920"/>
            <a:ext cx="9144000" cy="6551640"/>
            <a:chOff x="0" y="115920"/>
            <a:chExt cx="9144000" cy="6551640"/>
          </a:xfrm>
        </p:grpSpPr>
        <p:grpSp>
          <p:nvGrpSpPr>
            <p:cNvPr id="1458" name="Ομάδα 1"/>
            <p:cNvGrpSpPr/>
            <p:nvPr/>
          </p:nvGrpSpPr>
          <p:grpSpPr>
            <a:xfrm>
              <a:off x="0" y="115920"/>
              <a:ext cx="9144000" cy="6551640"/>
              <a:chOff x="0" y="115920"/>
              <a:chExt cx="9144000" cy="6551640"/>
            </a:xfrm>
          </p:grpSpPr>
          <p:sp>
            <p:nvSpPr>
              <p:cNvPr id="1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9 - Εικόνα"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6" name="Ομάδα 1"/>
          <p:cNvGrpSpPr/>
          <p:nvPr/>
        </p:nvGrpSpPr>
        <p:grpSpPr>
          <a:xfrm>
            <a:off x="0" y="115920"/>
            <a:ext cx="9144000" cy="6551640"/>
            <a:chOff x="0" y="115920"/>
            <a:chExt cx="9144000" cy="6551640"/>
          </a:xfrm>
        </p:grpSpPr>
        <p:grpSp>
          <p:nvGrpSpPr>
            <p:cNvPr id="1467" name="Ομάδα 1"/>
            <p:cNvGrpSpPr/>
            <p:nvPr/>
          </p:nvGrpSpPr>
          <p:grpSpPr>
            <a:xfrm>
              <a:off x="0" y="115920"/>
              <a:ext cx="9144000" cy="6551640"/>
              <a:chOff x="0" y="115920"/>
              <a:chExt cx="9144000" cy="6551640"/>
            </a:xfrm>
          </p:grpSpPr>
          <p:sp>
            <p:nvSpPr>
              <p:cNvPr id="1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3" name="9 - Εικόνα"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5" name="Ομάδα 1"/>
          <p:cNvGrpSpPr/>
          <p:nvPr/>
        </p:nvGrpSpPr>
        <p:grpSpPr>
          <a:xfrm>
            <a:off x="0" y="115920"/>
            <a:ext cx="9144000" cy="6551640"/>
            <a:chOff x="0" y="115920"/>
            <a:chExt cx="9144000" cy="6551640"/>
          </a:xfrm>
        </p:grpSpPr>
        <p:grpSp>
          <p:nvGrpSpPr>
            <p:cNvPr id="1476" name="Ομάδα 1"/>
            <p:cNvGrpSpPr/>
            <p:nvPr/>
          </p:nvGrpSpPr>
          <p:grpSpPr>
            <a:xfrm>
              <a:off x="0" y="115920"/>
              <a:ext cx="9144000" cy="6551640"/>
              <a:chOff x="0" y="115920"/>
              <a:chExt cx="9144000" cy="6551640"/>
            </a:xfrm>
          </p:grpSpPr>
          <p:sp>
            <p:nvSpPr>
              <p:cNvPr id="1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9 - Εικόνα"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4" name="Ομάδα 1"/>
          <p:cNvGrpSpPr/>
          <p:nvPr/>
        </p:nvGrpSpPr>
        <p:grpSpPr>
          <a:xfrm>
            <a:off x="0" y="115920"/>
            <a:ext cx="9144000" cy="6551640"/>
            <a:chOff x="0" y="115920"/>
            <a:chExt cx="9144000" cy="6551640"/>
          </a:xfrm>
        </p:grpSpPr>
        <p:grpSp>
          <p:nvGrpSpPr>
            <p:cNvPr id="1485" name="Ομάδα 1"/>
            <p:cNvGrpSpPr/>
            <p:nvPr/>
          </p:nvGrpSpPr>
          <p:grpSpPr>
            <a:xfrm>
              <a:off x="0" y="115920"/>
              <a:ext cx="9144000" cy="6551640"/>
              <a:chOff x="0" y="115920"/>
              <a:chExt cx="9144000" cy="6551640"/>
            </a:xfrm>
          </p:grpSpPr>
          <p:sp>
            <p:nvSpPr>
              <p:cNvPr id="1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1" name="9 - Εικόνα"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3" name="Ομάδα 1"/>
          <p:cNvGrpSpPr/>
          <p:nvPr/>
        </p:nvGrpSpPr>
        <p:grpSpPr>
          <a:xfrm>
            <a:off x="0" y="115920"/>
            <a:ext cx="9144000" cy="6551640"/>
            <a:chOff x="0" y="115920"/>
            <a:chExt cx="9144000" cy="6551640"/>
          </a:xfrm>
        </p:grpSpPr>
        <p:grpSp>
          <p:nvGrpSpPr>
            <p:cNvPr id="1494" name="Ομάδα 1"/>
            <p:cNvGrpSpPr/>
            <p:nvPr/>
          </p:nvGrpSpPr>
          <p:grpSpPr>
            <a:xfrm>
              <a:off x="0" y="115920"/>
              <a:ext cx="9144000" cy="6551640"/>
              <a:chOff x="0" y="115920"/>
              <a:chExt cx="9144000" cy="6551640"/>
            </a:xfrm>
          </p:grpSpPr>
          <p:sp>
            <p:nvSpPr>
              <p:cNvPr id="1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9 - Εικόνα"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2" name="Ομάδα 1"/>
          <p:cNvGrpSpPr/>
          <p:nvPr/>
        </p:nvGrpSpPr>
        <p:grpSpPr>
          <a:xfrm>
            <a:off x="0" y="115920"/>
            <a:ext cx="9144000" cy="6551640"/>
            <a:chOff x="0" y="115920"/>
            <a:chExt cx="9144000" cy="6551640"/>
          </a:xfrm>
        </p:grpSpPr>
        <p:grpSp>
          <p:nvGrpSpPr>
            <p:cNvPr id="1503" name="Ομάδα 1"/>
            <p:cNvGrpSpPr/>
            <p:nvPr/>
          </p:nvGrpSpPr>
          <p:grpSpPr>
            <a:xfrm>
              <a:off x="0" y="115920"/>
              <a:ext cx="9144000" cy="6551640"/>
              <a:chOff x="0" y="115920"/>
              <a:chExt cx="9144000" cy="6551640"/>
            </a:xfrm>
          </p:grpSpPr>
          <p:sp>
            <p:nvSpPr>
              <p:cNvPr id="1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9" name="9 - Εικόνα"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68000" y="1052280"/>
            <a:ext cx="8496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1" name="Ομάδα 1"/>
          <p:cNvGrpSpPr/>
          <p:nvPr/>
        </p:nvGrpSpPr>
        <p:grpSpPr>
          <a:xfrm>
            <a:off x="0" y="115920"/>
            <a:ext cx="9144000" cy="6551640"/>
            <a:chOff x="0" y="115920"/>
            <a:chExt cx="9144000" cy="6551640"/>
          </a:xfrm>
        </p:grpSpPr>
        <p:grpSp>
          <p:nvGrpSpPr>
            <p:cNvPr id="1512" name="Ομάδα 1"/>
            <p:cNvGrpSpPr/>
            <p:nvPr/>
          </p:nvGrpSpPr>
          <p:grpSpPr>
            <a:xfrm>
              <a:off x="0" y="115920"/>
              <a:ext cx="9144000" cy="6551640"/>
              <a:chOff x="0" y="115920"/>
              <a:chExt cx="9144000" cy="6551640"/>
            </a:xfrm>
          </p:grpSpPr>
          <p:sp>
            <p:nvSpPr>
              <p:cNvPr id="1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392120"/>
            <a:ext cx="874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0" name="Ομάδα 1"/>
          <p:cNvGrpSpPr/>
          <p:nvPr/>
        </p:nvGrpSpPr>
        <p:grpSpPr>
          <a:xfrm>
            <a:off x="0" y="115920"/>
            <a:ext cx="9144000" cy="6551640"/>
            <a:chOff x="0" y="115920"/>
            <a:chExt cx="9144000" cy="6551640"/>
          </a:xfrm>
        </p:grpSpPr>
        <p:grpSp>
          <p:nvGrpSpPr>
            <p:cNvPr id="1521" name="Ομάδα 1"/>
            <p:cNvGrpSpPr/>
            <p:nvPr/>
          </p:nvGrpSpPr>
          <p:grpSpPr>
            <a:xfrm>
              <a:off x="0" y="115920"/>
              <a:ext cx="9144000" cy="6551640"/>
              <a:chOff x="0" y="115920"/>
              <a:chExt cx="9144000" cy="6551640"/>
            </a:xfrm>
          </p:grpSpPr>
          <p:sp>
            <p:nvSpPr>
              <p:cNvPr id="1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9 - Εικόνα"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29" name="Ομάδα 1"/>
          <p:cNvGrpSpPr/>
          <p:nvPr/>
        </p:nvGrpSpPr>
        <p:grpSpPr>
          <a:xfrm>
            <a:off x="0" y="115920"/>
            <a:ext cx="9144000" cy="6551640"/>
            <a:chOff x="0" y="115920"/>
            <a:chExt cx="9144000" cy="6551640"/>
          </a:xfrm>
        </p:grpSpPr>
        <p:grpSp>
          <p:nvGrpSpPr>
            <p:cNvPr id="1530" name="Ομάδα 1"/>
            <p:cNvGrpSpPr/>
            <p:nvPr/>
          </p:nvGrpSpPr>
          <p:grpSpPr>
            <a:xfrm>
              <a:off x="0" y="115920"/>
              <a:ext cx="9144000" cy="6551640"/>
              <a:chOff x="0" y="115920"/>
              <a:chExt cx="9144000" cy="6551640"/>
            </a:xfrm>
          </p:grpSpPr>
          <p:sp>
            <p:nvSpPr>
              <p:cNvPr id="1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6" name="9 - Εικόνα"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38" name="Ομάδα 1"/>
          <p:cNvGrpSpPr/>
          <p:nvPr/>
        </p:nvGrpSpPr>
        <p:grpSpPr>
          <a:xfrm>
            <a:off x="0" y="115920"/>
            <a:ext cx="9144000" cy="6551640"/>
            <a:chOff x="0" y="115920"/>
            <a:chExt cx="9144000" cy="6551640"/>
          </a:xfrm>
        </p:grpSpPr>
        <p:grpSp>
          <p:nvGrpSpPr>
            <p:cNvPr id="1539" name="Ομάδα 1"/>
            <p:cNvGrpSpPr/>
            <p:nvPr/>
          </p:nvGrpSpPr>
          <p:grpSpPr>
            <a:xfrm>
              <a:off x="0" y="115920"/>
              <a:ext cx="9144000" cy="6551640"/>
              <a:chOff x="0" y="115920"/>
              <a:chExt cx="9144000" cy="6551640"/>
            </a:xfrm>
          </p:grpSpPr>
          <p:sp>
            <p:nvSpPr>
              <p:cNvPr id="1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9 - Εικόνα"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7" name="Ομάδα 1"/>
          <p:cNvGrpSpPr/>
          <p:nvPr/>
        </p:nvGrpSpPr>
        <p:grpSpPr>
          <a:xfrm>
            <a:off x="0" y="115920"/>
            <a:ext cx="9144000" cy="6551640"/>
            <a:chOff x="0" y="115920"/>
            <a:chExt cx="9144000" cy="6551640"/>
          </a:xfrm>
        </p:grpSpPr>
        <p:grpSp>
          <p:nvGrpSpPr>
            <p:cNvPr id="1548" name="Ομάδα 1"/>
            <p:cNvGrpSpPr/>
            <p:nvPr/>
          </p:nvGrpSpPr>
          <p:grpSpPr>
            <a:xfrm>
              <a:off x="0" y="115920"/>
              <a:ext cx="9144000" cy="6551640"/>
              <a:chOff x="0" y="115920"/>
              <a:chExt cx="9144000" cy="6551640"/>
            </a:xfrm>
          </p:grpSpPr>
          <p:sp>
            <p:nvSpPr>
              <p:cNvPr id="1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4" name="9 - Εικόνα"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6" name="Ομάδα 1"/>
          <p:cNvGrpSpPr/>
          <p:nvPr/>
        </p:nvGrpSpPr>
        <p:grpSpPr>
          <a:xfrm>
            <a:off x="0" y="115920"/>
            <a:ext cx="9144000" cy="6551640"/>
            <a:chOff x="0" y="115920"/>
            <a:chExt cx="9144000" cy="6551640"/>
          </a:xfrm>
        </p:grpSpPr>
        <p:grpSp>
          <p:nvGrpSpPr>
            <p:cNvPr id="1557" name="Ομάδα 1"/>
            <p:cNvGrpSpPr/>
            <p:nvPr/>
          </p:nvGrpSpPr>
          <p:grpSpPr>
            <a:xfrm>
              <a:off x="0" y="115920"/>
              <a:ext cx="9144000" cy="6551640"/>
              <a:chOff x="0" y="115920"/>
              <a:chExt cx="9144000" cy="6551640"/>
            </a:xfrm>
          </p:grpSpPr>
          <p:sp>
            <p:nvSpPr>
              <p:cNvPr id="1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9 - Εικόνα"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5" name="Ομάδα 1"/>
          <p:cNvGrpSpPr/>
          <p:nvPr/>
        </p:nvGrpSpPr>
        <p:grpSpPr>
          <a:xfrm>
            <a:off x="0" y="115920"/>
            <a:ext cx="9144000" cy="6551640"/>
            <a:chOff x="0" y="115920"/>
            <a:chExt cx="9144000" cy="6551640"/>
          </a:xfrm>
        </p:grpSpPr>
        <p:grpSp>
          <p:nvGrpSpPr>
            <p:cNvPr id="1566" name="Ομάδα 1"/>
            <p:cNvGrpSpPr/>
            <p:nvPr/>
          </p:nvGrpSpPr>
          <p:grpSpPr>
            <a:xfrm>
              <a:off x="0" y="115920"/>
              <a:ext cx="9144000" cy="6551640"/>
              <a:chOff x="0" y="115920"/>
              <a:chExt cx="9144000" cy="6551640"/>
            </a:xfrm>
          </p:grpSpPr>
          <p:sp>
            <p:nvSpPr>
              <p:cNvPr id="1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2" name="9 - Εικόνα"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3" name="Ομάδα 1"/>
          <p:cNvGrpSpPr/>
          <p:nvPr/>
        </p:nvGrpSpPr>
        <p:grpSpPr>
          <a:xfrm>
            <a:off x="0" y="115920"/>
            <a:ext cx="9144000" cy="6551640"/>
            <a:chOff x="0" y="115920"/>
            <a:chExt cx="9144000" cy="6551640"/>
          </a:xfrm>
        </p:grpSpPr>
        <p:grpSp>
          <p:nvGrpSpPr>
            <p:cNvPr id="1584" name="Ομάδα 1"/>
            <p:cNvGrpSpPr/>
            <p:nvPr/>
          </p:nvGrpSpPr>
          <p:grpSpPr>
            <a:xfrm>
              <a:off x="0" y="115920"/>
              <a:ext cx="9144000" cy="6551640"/>
              <a:chOff x="0" y="115920"/>
              <a:chExt cx="9144000" cy="6551640"/>
            </a:xfrm>
          </p:grpSpPr>
          <p:sp>
            <p:nvSpPr>
              <p:cNvPr id="1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0" name="9 - Εικόνα"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610920" y="1392120"/>
            <a:ext cx="8281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2" name="Ομάδα 1"/>
          <p:cNvGrpSpPr/>
          <p:nvPr/>
        </p:nvGrpSpPr>
        <p:grpSpPr>
          <a:xfrm>
            <a:off x="0" y="115920"/>
            <a:ext cx="9144000" cy="6551640"/>
            <a:chOff x="0" y="115920"/>
            <a:chExt cx="9144000" cy="6551640"/>
          </a:xfrm>
        </p:grpSpPr>
        <p:grpSp>
          <p:nvGrpSpPr>
            <p:cNvPr id="1593" name="Ομάδα 1"/>
            <p:cNvGrpSpPr/>
            <p:nvPr/>
          </p:nvGrpSpPr>
          <p:grpSpPr>
            <a:xfrm>
              <a:off x="0" y="115920"/>
              <a:ext cx="9144000" cy="6551640"/>
              <a:chOff x="0" y="115920"/>
              <a:chExt cx="9144000" cy="6551640"/>
            </a:xfrm>
          </p:grpSpPr>
          <p:sp>
            <p:nvSpPr>
              <p:cNvPr id="1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9" name="9 - Εικόνα"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1" name="Ομάδα 1"/>
          <p:cNvGrpSpPr/>
          <p:nvPr/>
        </p:nvGrpSpPr>
        <p:grpSpPr>
          <a:xfrm>
            <a:off x="0" y="115920"/>
            <a:ext cx="9144000" cy="6551640"/>
            <a:chOff x="0" y="115920"/>
            <a:chExt cx="9144000" cy="6551640"/>
          </a:xfrm>
        </p:grpSpPr>
        <p:grpSp>
          <p:nvGrpSpPr>
            <p:cNvPr id="1602" name="Ομάδα 1"/>
            <p:cNvGrpSpPr/>
            <p:nvPr/>
          </p:nvGrpSpPr>
          <p:grpSpPr>
            <a:xfrm>
              <a:off x="0" y="115920"/>
              <a:ext cx="9144000" cy="6551640"/>
              <a:chOff x="0" y="115920"/>
              <a:chExt cx="9144000" cy="6551640"/>
            </a:xfrm>
          </p:grpSpPr>
          <p:sp>
            <p:nvSpPr>
              <p:cNvPr id="1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8"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br>
              <a:rPr sz="3200"/>
            </a:br>
            <a:br>
              <a:rPr sz="3200"/>
            </a:br>
            <a:r>
              <a:rPr b="1" lang="el-GR" sz="3200" spc="-1" strike="noStrike">
                <a:solidFill>
                  <a:srgbClr val="000000"/>
                </a:solidFill>
                <a:latin typeface="Arial"/>
                <a:ea typeface="Arial"/>
              </a:rPr>
              <a:t>Προετοιμασία όλων των παραγόντων</a:t>
            </a:r>
            <a:br>
              <a:rPr sz="3200"/>
            </a:br>
            <a:br>
              <a:rPr sz="3200"/>
            </a:br>
            <a:r>
              <a:rPr b="1" lang="el-GR" sz="3200" spc="-1" strike="noStrike">
                <a:solidFill>
                  <a:srgbClr val="000000"/>
                </a:solidFill>
                <a:latin typeface="Arial"/>
                <a:ea typeface="Arial"/>
              </a:rPr>
              <a:t>Μοντέλα Σχολικής Ένταξης</a:t>
            </a:r>
            <a:br>
              <a:rPr sz="2000"/>
            </a:br>
            <a:br>
              <a:rPr sz="2000"/>
            </a:br>
            <a:br>
              <a:rPr sz="2000"/>
            </a:br>
            <a:r>
              <a:rPr b="1" lang="el-GR" sz="2000" spc="-1" strike="noStrike">
                <a:solidFill>
                  <a:srgbClr val="000099"/>
                </a:solidFill>
                <a:latin typeface="Arial"/>
                <a:ea typeface="Arial"/>
              </a:rPr>
              <a:t> 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610" name="Ομάδα 1"/>
          <p:cNvGrpSpPr/>
          <p:nvPr/>
        </p:nvGrpSpPr>
        <p:grpSpPr>
          <a:xfrm>
            <a:off x="0" y="115920"/>
            <a:ext cx="9144000" cy="6551640"/>
            <a:chOff x="0" y="115920"/>
            <a:chExt cx="9144000" cy="6551640"/>
          </a:xfrm>
        </p:grpSpPr>
        <p:grpSp>
          <p:nvGrpSpPr>
            <p:cNvPr id="1611" name="Ομάδα 1"/>
            <p:cNvGrpSpPr/>
            <p:nvPr/>
          </p:nvGrpSpPr>
          <p:grpSpPr>
            <a:xfrm>
              <a:off x="0" y="115920"/>
              <a:ext cx="9144000" cy="6551640"/>
              <a:chOff x="0" y="115920"/>
              <a:chExt cx="9144000" cy="6551640"/>
            </a:xfrm>
          </p:grpSpPr>
          <p:sp>
            <p:nvSpPr>
              <p:cNvPr id="1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7" name="9 - Εικόνα" descr=""/>
          <p:cNvPicPr/>
          <p:nvPr/>
        </p:nvPicPr>
        <p:blipFill>
          <a:blip r:embed="rId3"/>
          <a:stretch/>
        </p:blipFill>
        <p:spPr>
          <a:xfrm>
            <a:off x="250920" y="333360"/>
            <a:ext cx="1417680" cy="8794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19" name="Picture 9" descr=""/>
          <p:cNvPicPr/>
          <p:nvPr/>
        </p:nvPicPr>
        <p:blipFill>
          <a:blip r:embed="rId1"/>
          <a:stretch/>
        </p:blipFill>
        <p:spPr>
          <a:xfrm>
            <a:off x="0" y="0"/>
            <a:ext cx="9144000" cy="1368360"/>
          </a:xfrm>
          <a:prstGeom prst="rect">
            <a:avLst/>
          </a:prstGeom>
          <a:ln w="0">
            <a:noFill/>
          </a:ln>
        </p:spPr>
      </p:pic>
      <p:pic>
        <p:nvPicPr>
          <p:cNvPr id="1620" name="Picture 10" descr=""/>
          <p:cNvPicPr/>
          <p:nvPr/>
        </p:nvPicPr>
        <p:blipFill>
          <a:blip r:embed="rId2"/>
          <a:stretch/>
        </p:blipFill>
        <p:spPr>
          <a:xfrm>
            <a:off x="1258920" y="2060640"/>
            <a:ext cx="1297080" cy="1528560"/>
          </a:xfrm>
          <a:prstGeom prst="rect">
            <a:avLst/>
          </a:prstGeom>
          <a:ln w="0">
            <a:noFill/>
          </a:ln>
        </p:spPr>
      </p:pic>
      <p:pic>
        <p:nvPicPr>
          <p:cNvPr id="1621" name="12 - Εικόνα" descr=""/>
          <p:cNvPicPr/>
          <p:nvPr/>
        </p:nvPicPr>
        <p:blipFill>
          <a:blip r:embed="rId3"/>
          <a:stretch/>
        </p:blipFill>
        <p:spPr>
          <a:xfrm>
            <a:off x="6948360" y="1989000"/>
            <a:ext cx="1444680" cy="1573200"/>
          </a:xfrm>
          <a:prstGeom prst="rect">
            <a:avLst/>
          </a:prstGeom>
          <a:ln w="0">
            <a:noFill/>
          </a:ln>
        </p:spPr>
      </p:pic>
      <p:sp>
        <p:nvSpPr>
          <p:cNvPr id="162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900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341360"/>
            <a:ext cx="7845480" cy="4751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one-track approach)</a:t>
            </a:r>
            <a:r>
              <a:rPr b="0" lang="el-GR" sz="2800" spc="-1" strike="noStrike">
                <a:solidFill>
                  <a:srgbClr val="000000"/>
                </a:solidFill>
                <a:latin typeface="Times New Roman"/>
              </a:rPr>
              <a:t> 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δεύτερη κατηγορία, 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φοιτούν τόσο σε γενικές τάξεις όσο και 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έλος, στην κατηγορία μοντέλων πολλαπλών διαδρομών (multi-track approach)</a:t>
            </a:r>
            <a:r>
              <a:rPr b="0" lang="el-GR" sz="2800" spc="-1" strike="noStrike">
                <a:solidFill>
                  <a:srgbClr val="000000"/>
                </a:solidFill>
                <a:latin typeface="Times New Roman"/>
              </a:rPr>
              <a:t> 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280" y="981000"/>
            <a:ext cx="8101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50920" y="1125000"/>
            <a:ext cx="86421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052280"/>
            <a:ext cx="8713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5056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br>
              <a:rPr sz="2800"/>
            </a:br>
            <a:r>
              <a:rPr b="0" lang="el-GR" sz="2800" spc="-1" strike="noStrike">
                <a:solidFill>
                  <a:srgbClr val="000000"/>
                </a:solidFill>
                <a:latin typeface="Times New Roman"/>
              </a:rPr>
              <a:t>Τα διαφορετικά πλαίσια στήριξης (π.χ Ειδικές Τάξει(παλιότερα )ή Τμήματα Ένταξης 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11280" y="1412640"/>
            <a:ext cx="820872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53928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2364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268280"/>
            <a:ext cx="864216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συγκεκριμένα </a:t>
            </a:r>
            <a:br>
              <a:rPr sz="2800"/>
            </a:br>
            <a:r>
              <a:rPr b="0" lang="el-GR" sz="2800" spc="-1" strike="noStrike">
                <a:solidFill>
                  <a:srgbClr val="000000"/>
                </a:solidFill>
                <a:latin typeface="Times New Roman"/>
              </a:rPr>
              <a:t>από τον Norwich .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611280" y="1916280"/>
            <a:ext cx="8277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2" name="Ομάδα 1"/>
          <p:cNvGrpSpPr/>
          <p:nvPr/>
        </p:nvGrpSpPr>
        <p:grpSpPr>
          <a:xfrm>
            <a:off x="0" y="115920"/>
            <a:ext cx="9144000" cy="6551640"/>
            <a:chOff x="0" y="115920"/>
            <a:chExt cx="9144000" cy="6551640"/>
          </a:xfrm>
        </p:grpSpPr>
        <p:grpSp>
          <p:nvGrpSpPr>
            <p:cNvPr id="1413" name="Ομάδα 1"/>
            <p:cNvGrpSpPr/>
            <p:nvPr/>
          </p:nvGrpSpPr>
          <p:grpSpPr>
            <a:xfrm>
              <a:off x="0" y="115920"/>
              <a:ext cx="9144000" cy="6551640"/>
              <a:chOff x="0" y="115920"/>
              <a:chExt cx="9144000" cy="6551640"/>
            </a:xfrm>
          </p:grpSpPr>
          <p:sp>
            <p:nvSpPr>
              <p:cNvPr id="1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9 - Εικόνα"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08:24Z</dcterms:modified>
  <cp:revision>171</cp:revision>
  <dc:subject/>
  <dc:title>Παρουσίαση του PowerPoint</dc:title>
</cp:coreProperties>
</file>