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CA84-42A0-48A8-A2F5-3D068D8477A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CADF-3B16-49C4-975A-06ADAA02E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985680" y="741240"/>
            <a:ext cx="4886640" cy="3665520"/>
          </a:xfrm>
          <a:prstGeom prst="rect">
            <a:avLst/>
          </a:prstGeom>
          <a:ln w="0">
            <a:noFill/>
          </a:ln>
        </p:spPr>
      </p:sp>
      <p:sp>
        <p:nvSpPr>
          <p:cNvPr id="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6956-5CF9-4667-A562-F6454E497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985680" y="741240"/>
            <a:ext cx="4886640" cy="3665520"/>
          </a:xfrm>
          <a:prstGeom prst="rect">
            <a:avLst/>
          </a:prstGeom>
          <a:ln w="0">
            <a:noFill/>
          </a:ln>
        </p:spPr>
      </p:sp>
      <p:sp>
        <p:nvSpPr>
          <p:cNvPr id="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09B8-5480-4DD4-AEB2-91E841393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985680" y="741240"/>
            <a:ext cx="4886640" cy="3665520"/>
          </a:xfrm>
          <a:prstGeom prst="rect">
            <a:avLst/>
          </a:prstGeom>
          <a:ln w="0">
            <a:noFill/>
          </a:ln>
        </p:spPr>
      </p:sp>
      <p:sp>
        <p:nvSpPr>
          <p:cNvPr id="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26A8-A582-4EEB-A660-E0E0CB627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985680" y="741240"/>
            <a:ext cx="4886640" cy="3665520"/>
          </a:xfrm>
          <a:prstGeom prst="rect">
            <a:avLst/>
          </a:prstGeom>
          <a:ln w="0">
            <a:noFill/>
          </a:ln>
        </p:spPr>
      </p:sp>
      <p:sp>
        <p:nvSpPr>
          <p:cNvPr id="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500B-F54E-4173-8069-44C846B10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985680" y="741240"/>
            <a:ext cx="4886640" cy="3665520"/>
          </a:xfrm>
          <a:prstGeom prst="rect">
            <a:avLst/>
          </a:prstGeom>
          <a:ln w="0">
            <a:noFill/>
          </a:ln>
        </p:spPr>
      </p:sp>
      <p:sp>
        <p:nvSpPr>
          <p:cNvPr id="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6943-7842-4F04-973B-8BD78AE73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985680" y="741240"/>
            <a:ext cx="4886640" cy="3665520"/>
          </a:xfrm>
          <a:prstGeom prst="rect">
            <a:avLst/>
          </a:prstGeom>
          <a:ln w="0">
            <a:noFill/>
          </a:ln>
        </p:spPr>
      </p:sp>
      <p:sp>
        <p:nvSpPr>
          <p:cNvPr id="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F380-6ACB-4CC7-B183-024A3C88E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985680" y="741240"/>
            <a:ext cx="4886640" cy="3665520"/>
          </a:xfrm>
          <a:prstGeom prst="rect">
            <a:avLst/>
          </a:prstGeom>
          <a:ln w="0">
            <a:noFill/>
          </a:ln>
        </p:spPr>
      </p:sp>
      <p:sp>
        <p:nvSpPr>
          <p:cNvPr id="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6E65-60DF-4B02-B82F-6AC10814C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985680" y="741240"/>
            <a:ext cx="4886640" cy="3665520"/>
          </a:xfrm>
          <a:prstGeom prst="rect">
            <a:avLst/>
          </a:prstGeom>
          <a:ln w="0">
            <a:noFill/>
          </a:ln>
        </p:spPr>
      </p:sp>
      <p:sp>
        <p:nvSpPr>
          <p:cNvPr id="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6498-D0E2-4BC6-B4E7-90855856F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985680" y="741240"/>
            <a:ext cx="4886640" cy="3665520"/>
          </a:xfrm>
          <a:prstGeom prst="rect">
            <a:avLst/>
          </a:prstGeom>
          <a:ln w="0">
            <a:noFill/>
          </a:ln>
        </p:spPr>
      </p:sp>
      <p:sp>
        <p:nvSpPr>
          <p:cNvPr id="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75A9-7C6C-478B-A2C2-DDE5FA41D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985680" y="741240"/>
            <a:ext cx="4886640" cy="3665520"/>
          </a:xfrm>
          <a:prstGeom prst="rect">
            <a:avLst/>
          </a:prstGeom>
          <a:ln w="0">
            <a:noFill/>
          </a:ln>
        </p:spPr>
      </p:sp>
      <p:sp>
        <p:nvSpPr>
          <p:cNvPr id="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6726-7B0C-42F0-A977-438EDF95C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985680" y="741240"/>
            <a:ext cx="4886640" cy="3665520"/>
          </a:xfrm>
          <a:prstGeom prst="rect">
            <a:avLst/>
          </a:prstGeom>
          <a:ln w="0">
            <a:noFill/>
          </a:ln>
        </p:spPr>
      </p:sp>
      <p:sp>
        <p:nvSpPr>
          <p:cNvPr id="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B401-4F5E-4F30-8793-DEA4D6512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985680" y="741240"/>
            <a:ext cx="4886640" cy="3665520"/>
          </a:xfrm>
          <a:prstGeom prst="rect">
            <a:avLst/>
          </a:prstGeom>
          <a:ln w="0">
            <a:noFill/>
          </a:ln>
        </p:spPr>
      </p:sp>
      <p:sp>
        <p:nvSpPr>
          <p:cNvPr id="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1427-621A-4F0B-8053-BA362697C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985680" y="741240"/>
            <a:ext cx="4886640" cy="3665520"/>
          </a:xfrm>
          <a:prstGeom prst="rect">
            <a:avLst/>
          </a:prstGeom>
          <a:ln w="0">
            <a:noFill/>
          </a:ln>
        </p:spPr>
      </p:sp>
      <p:sp>
        <p:nvSpPr>
          <p:cNvPr id="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E4FC-7123-4702-8263-A254E2848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985680" y="741240"/>
            <a:ext cx="4886640" cy="3665520"/>
          </a:xfrm>
          <a:prstGeom prst="rect">
            <a:avLst/>
          </a:prstGeom>
          <a:ln w="0">
            <a:noFill/>
          </a:ln>
        </p:spPr>
      </p:sp>
      <p:sp>
        <p:nvSpPr>
          <p:cNvPr id="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1AE3-5A8F-4084-BC90-D48316B3C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985680" y="741240"/>
            <a:ext cx="4886640" cy="3665520"/>
          </a:xfrm>
          <a:prstGeom prst="rect">
            <a:avLst/>
          </a:prstGeom>
          <a:ln w="0">
            <a:noFill/>
          </a:ln>
        </p:spPr>
      </p:sp>
      <p:sp>
        <p:nvSpPr>
          <p:cNvPr id="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E129-62F8-413A-9252-C43B80044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985680" y="741240"/>
            <a:ext cx="4886640" cy="3665520"/>
          </a:xfrm>
          <a:prstGeom prst="rect">
            <a:avLst/>
          </a:prstGeom>
          <a:ln w="0">
            <a:noFill/>
          </a:ln>
        </p:spPr>
      </p:sp>
      <p:sp>
        <p:nvSpPr>
          <p:cNvPr id="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2039-5F6B-41D0-85D7-B35206F3E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985680" y="741240"/>
            <a:ext cx="4886640" cy="3665520"/>
          </a:xfrm>
          <a:prstGeom prst="rect">
            <a:avLst/>
          </a:prstGeom>
          <a:ln w="0">
            <a:noFill/>
          </a:ln>
        </p:spPr>
      </p:sp>
      <p:sp>
        <p:nvSpPr>
          <p:cNvPr id="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DC35-256F-47B9-ADBB-286055FF6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985680" y="741240"/>
            <a:ext cx="4886640" cy="3665520"/>
          </a:xfrm>
          <a:prstGeom prst="rect">
            <a:avLst/>
          </a:prstGeom>
          <a:ln w="0">
            <a:noFill/>
          </a:ln>
        </p:spPr>
      </p:sp>
      <p:sp>
        <p:nvSpPr>
          <p:cNvPr id="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2475-5FA1-4914-A892-C33884E49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985680" y="741240"/>
            <a:ext cx="4886640" cy="3665520"/>
          </a:xfrm>
          <a:prstGeom prst="rect">
            <a:avLst/>
          </a:prstGeom>
          <a:ln w="0">
            <a:noFill/>
          </a:ln>
        </p:spPr>
      </p:sp>
      <p:sp>
        <p:nvSpPr>
          <p:cNvPr id="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B795-4F46-4B0B-AD5F-C47425EA2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985680" y="741240"/>
            <a:ext cx="4886640" cy="3665520"/>
          </a:xfrm>
          <a:prstGeom prst="rect">
            <a:avLst/>
          </a:prstGeom>
          <a:ln w="0">
            <a:noFill/>
          </a:ln>
        </p:spPr>
      </p:sp>
      <p:sp>
        <p:nvSpPr>
          <p:cNvPr id="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17D6-05E7-4971-9769-5D1D71109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985680" y="741240"/>
            <a:ext cx="4886640" cy="3665520"/>
          </a:xfrm>
          <a:prstGeom prst="rect">
            <a:avLst/>
          </a:prstGeom>
          <a:ln w="0">
            <a:noFill/>
          </a:ln>
        </p:spPr>
      </p:sp>
      <p:sp>
        <p:nvSpPr>
          <p:cNvPr id="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5418-E817-4D47-A5AE-0B73388FA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985680" y="741240"/>
            <a:ext cx="4886640" cy="3665520"/>
          </a:xfrm>
          <a:prstGeom prst="rect">
            <a:avLst/>
          </a:prstGeom>
          <a:ln w="0">
            <a:noFill/>
          </a:ln>
        </p:spPr>
      </p:sp>
      <p:sp>
        <p:nvSpPr>
          <p:cNvPr id="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CC0C-23CF-46E7-9C36-F4FF6868F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985680" y="741240"/>
            <a:ext cx="4886640" cy="3665520"/>
          </a:xfrm>
          <a:prstGeom prst="rect">
            <a:avLst/>
          </a:prstGeom>
          <a:ln w="0">
            <a:noFill/>
          </a:ln>
        </p:spPr>
      </p:sp>
      <p:sp>
        <p:nvSpPr>
          <p:cNvPr id="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6D6D-7F3B-4582-AC02-3DFEC2A20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985680" y="741240"/>
            <a:ext cx="4886640" cy="3665520"/>
          </a:xfrm>
          <a:prstGeom prst="rect">
            <a:avLst/>
          </a:prstGeom>
          <a:ln w="0">
            <a:noFill/>
          </a:ln>
        </p:spPr>
      </p:sp>
      <p:sp>
        <p:nvSpPr>
          <p:cNvPr id="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D9B7-69A1-4741-9ACA-2170907E9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985680" y="741240"/>
            <a:ext cx="4886640" cy="3665520"/>
          </a:xfrm>
          <a:prstGeom prst="rect">
            <a:avLst/>
          </a:prstGeom>
          <a:ln w="0">
            <a:noFill/>
          </a:ln>
        </p:spPr>
      </p:sp>
      <p:sp>
        <p:nvSpPr>
          <p:cNvPr id="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397B-30AD-4093-80C7-EA29D477D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985680" y="741240"/>
            <a:ext cx="4886640" cy="3665520"/>
          </a:xfrm>
          <a:prstGeom prst="rect">
            <a:avLst/>
          </a:prstGeom>
          <a:ln w="0">
            <a:noFill/>
          </a:ln>
        </p:spPr>
      </p:sp>
      <p:sp>
        <p:nvSpPr>
          <p:cNvPr id="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6D1B-5DCE-471D-B297-5587575D1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985680" y="741240"/>
            <a:ext cx="4886640" cy="3665520"/>
          </a:xfrm>
          <a:prstGeom prst="rect">
            <a:avLst/>
          </a:prstGeom>
          <a:ln w="0">
            <a:noFill/>
          </a:ln>
        </p:spPr>
      </p:sp>
      <p:sp>
        <p:nvSpPr>
          <p:cNvPr id="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26EA-FC4A-4F25-8BD3-8DC377401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985680" y="741240"/>
            <a:ext cx="4886640" cy="3665520"/>
          </a:xfrm>
          <a:prstGeom prst="rect">
            <a:avLst/>
          </a:prstGeom>
          <a:ln w="0">
            <a:noFill/>
          </a:ln>
        </p:spPr>
      </p:sp>
      <p:sp>
        <p:nvSpPr>
          <p:cNvPr id="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1149-E68F-42D6-9E2B-4F21AAB7D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985680" y="741240"/>
            <a:ext cx="4886640" cy="3665520"/>
          </a:xfrm>
          <a:prstGeom prst="rect">
            <a:avLst/>
          </a:prstGeom>
          <a:ln w="0">
            <a:noFill/>
          </a:ln>
        </p:spPr>
      </p:sp>
      <p:sp>
        <p:nvSpPr>
          <p:cNvPr id="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311F-0A0D-438D-8009-2ACFB28D1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985680" y="741240"/>
            <a:ext cx="4886640" cy="3665520"/>
          </a:xfrm>
          <a:prstGeom prst="rect">
            <a:avLst/>
          </a:prstGeom>
          <a:ln w="0">
            <a:noFill/>
          </a:ln>
        </p:spPr>
      </p:sp>
      <p:sp>
        <p:nvSpPr>
          <p:cNvPr id="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2E5C-C5B6-4888-953C-FC97C242B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985680" y="741240"/>
            <a:ext cx="4886640" cy="3665520"/>
          </a:xfrm>
          <a:prstGeom prst="rect">
            <a:avLst/>
          </a:prstGeom>
          <a:ln w="0">
            <a:noFill/>
          </a:ln>
        </p:spPr>
      </p:sp>
      <p:sp>
        <p:nvSpPr>
          <p:cNvPr id="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D8C9-F6B6-405D-8AB0-D8F62101C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985680" y="741240"/>
            <a:ext cx="4886640" cy="3665520"/>
          </a:xfrm>
          <a:prstGeom prst="rect">
            <a:avLst/>
          </a:prstGeom>
          <a:ln w="0">
            <a:noFill/>
          </a:ln>
        </p:spPr>
      </p:sp>
      <p:sp>
        <p:nvSpPr>
          <p:cNvPr id="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8B04-178A-4D60-91A8-467C6E179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985680" y="741240"/>
            <a:ext cx="4886640" cy="3665520"/>
          </a:xfrm>
          <a:prstGeom prst="rect">
            <a:avLst/>
          </a:prstGeom>
          <a:ln w="0">
            <a:noFill/>
          </a:ln>
        </p:spPr>
      </p:sp>
      <p:sp>
        <p:nvSpPr>
          <p:cNvPr id="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6618-CADC-472E-ACD2-B0C177701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985680" y="741240"/>
            <a:ext cx="4886640" cy="3665520"/>
          </a:xfrm>
          <a:prstGeom prst="rect">
            <a:avLst/>
          </a:prstGeom>
          <a:ln w="0">
            <a:noFill/>
          </a:ln>
        </p:spPr>
      </p:sp>
      <p:sp>
        <p:nvSpPr>
          <p:cNvPr id="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425E-4EBA-43AC-9B62-69D5DAB24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985680" y="741240"/>
            <a:ext cx="4886640" cy="3665520"/>
          </a:xfrm>
          <a:prstGeom prst="rect">
            <a:avLst/>
          </a:prstGeom>
          <a:ln w="0">
            <a:noFill/>
          </a:ln>
        </p:spPr>
      </p:sp>
      <p:sp>
        <p:nvSpPr>
          <p:cNvPr id="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78D13-4B42-4143-8644-7C356BAD4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63B98-BDE2-4BE6-9D79-458939FA2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65E351-6589-4A3B-8D30-FF3EF0761B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D14A6C-6D43-4A64-9A5D-D7B247374B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4F394A-4EDE-4CB1-BD0F-9EE0EC0814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3CD06-DA8D-4362-9ED1-360EB2AED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D735BD-4F47-499C-8C19-8290F7ACC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5EAD70-567E-44D2-A9CD-8991A0514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6B6700-79BB-4AE5-BC2F-3AB7EC8EBF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94D9F3-451F-4950-9B25-A00C819D47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BED0F0-9F1A-4B7F-AF10-DE022DCC80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5C44B4-31B8-4E8E-A845-2904EE2BB3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17D67-2B56-43ED-9F74-7023E834D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3E5D0E-9704-4AB4-9D13-4DC7435F0D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7A3CA5-F355-4607-9938-110A5A10A7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56DF6E-32A8-4B78-8A71-C46516411B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BE71F0-515B-4D96-9C77-0A8D923CAE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770251-FA32-47E2-81D6-6C971FA4AB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6F8123-CD7A-47BD-8801-405B417124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6CBA8B-A596-47DC-BC22-4915026F43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8A375D-2CBF-41A8-8BAA-1BA8002975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568FB1-EF0C-4774-A980-668A2E2C4F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0CF510-0EE9-4184-B272-0786C16ADE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5269B-0C7A-42C7-BE80-21040D1CD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5F055FE-8851-45B2-9BDD-02D27A650E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27454F-8844-4E33-8177-A33D377443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CAE594-9DCC-47B7-A666-0520735492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23B557-DCB9-45D2-8CD8-0A7B7536DE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0BB94B-A8C7-453C-A7AD-EBBC12FC3C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26DFF9-4F14-49A1-ABD1-0BB9AF2EE1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00D962-629F-4A14-BFB1-71A254A532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FD3036-B43D-441F-AB9C-6C86435C6E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30C348-5559-46CF-BBF3-F85081CD15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F8F05A-B296-467C-B554-269AB75D2D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07266-ADD8-4EF2-A017-BE1B85B03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3D4FC1-B995-4A82-9A0C-EB58E0CA74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D05EFE-4D58-4E52-A3BB-02068B7F12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295062-B7D3-4B2C-AA07-FC2E9A0EDE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AFDA68-6C35-429C-87E8-1F91961A4B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21A952-16F9-48F6-8CBA-BEEB2E3F97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166A81-121A-456D-8BF3-2922CF0506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B629D3-0557-49FA-B24B-D7AAFDCD66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7D11B5-6AE9-48B8-94FD-D7DC851D0C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D663D8-9CA7-4383-ABF1-03FFD7CF3E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9E1568-4E9A-4D27-B610-C1DB655B81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731E2-E118-473D-8DE4-DC6FF09B7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BA1043-69D4-4622-9938-49CA3CEE92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302F8C-BAE7-4286-AC23-A0186347F1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B09289-55AB-4F9A-A444-A5B11FF441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5217D5-2CCB-434F-8446-909C31C30B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A4C1E0-A8B2-4690-8389-4BEBD7620E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7D03330-9FA3-4D97-8369-FCF0AE2C033C}"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91EC514-8D81-4286-9276-1ECDC68978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2501A5D-8E73-47B6-960D-A165805D6E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C153B90-5222-43B0-B3A5-6F34223CAE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535FC3B5-AFC2-4E20-9110-18265115171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08E8C-8EFA-41F4-BEB3-ED50754A3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05E4EC13-9C8E-4640-840F-D69835596C4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5E43C7C-26FC-4AE5-A733-F310901A1B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B43D1BE-EF2E-4868-B96D-B50D4158D7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CFCC77A-93B4-455D-A2A0-A441E50059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C2739E0-1ABF-4DAC-B31B-2B1ED7B837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0B351B22-319F-4942-B343-94713F5273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040F5045-018E-4D3D-A9EE-369179E59B7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1120E-7AE1-4862-AADF-79CEB601F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8A572-7856-4F84-94C2-72B3319DB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78BCB-A1A8-44EE-83BB-D67B3CEC5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43BC2-CB18-424A-A9EC-3E95ED0D4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49EA5-204B-4EA8-AFE7-9D8CD1831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B144B-CDAA-437B-943B-24DBACFEA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81F4C-C569-4E48-8F4C-D4C4AEA77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2E5E5-DEB7-4A07-9517-299258012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E043C-4D22-4EF2-912F-988A60988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7BF9E-24E0-408A-A79D-C3771D662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244B44-86E1-4266-A965-DA66BABAFC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C3B10-03DC-4AD3-B681-41AAAE55E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AC354-B5DC-459A-B3C6-3EA5CAA0C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29F3BC-4538-49BF-91C7-4F70765E1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6B26FB-55D6-4263-9EAE-EAFE30E05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92F3C-F9AF-456B-BCAB-8B563FAEB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0058AC-A37A-4DBD-9424-2A143C4BEE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97A39-A20A-4ABA-9A8C-E01A8B908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CC98A-D8C6-45BF-876C-8CB8170F7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10719-513B-4C8B-AF6A-2D87822C7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D490D-8263-4B56-8A22-5C83977D34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24B0C0-0593-4B12-92E7-36677D42A5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B63BB9-5216-4956-9AD7-5B868A175E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953048-2575-4C27-A7E6-B9CEDAD646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F5E38-B3C6-4BC1-BA61-911532B94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66E521-3BC3-4229-84C0-85EC4037AE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DEA04-D97E-4D38-A68D-AC1277365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091F8B-DDE6-4850-BE20-827C3CB39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62249-4D12-4294-9FD9-735121BD36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9E6A3-C81D-4412-8BB1-9F60A49D7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07871-7EBF-40A9-8279-6C813601E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0FDE2-F6E9-4600-B077-7526FF992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155F2-7032-421A-909B-B18FA3C83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C3F99A-224A-44F1-89E3-C96B8324B9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09CD5C-F53B-4C93-9A9B-5087B82A8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65D0C5-4D20-4D19-814C-90E8B73D1A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7A965F-52F9-4736-A0CC-DF438EA1D0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ED0CA-D9B7-4BA4-9528-6405566E5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7371A8-55D6-4C76-A581-88C93528F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DDB6B-1FF2-4D23-A0C6-849F97275E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2BCA9C-D952-4A6E-8745-41BCC70CC1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9DF545-A593-448A-8F58-31748BAA70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FE9871-E09F-4EA6-B55D-999C2F5946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61592-5AE5-40ED-88B3-D2D2559D6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4865B-76BA-4FA4-85F7-AA1D35CB7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A5AF96-42B9-45ED-9971-EA9FC75C5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35F98C-5817-4688-9DE4-C6A873EA6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E289FD-4892-40BA-8211-5BDA2CD39E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258C8-2B00-4464-B156-64EAA926B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E67A05-1FD7-4751-BCE3-0BA1DD9379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F513A3-AB65-4912-920C-B1B4D5D583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93A99B-60DE-473F-9AB9-4F7EE9F180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EBCB7-2CB2-4029-B67F-1C3C1E92D0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CF986-54BE-4F11-A48A-B98E31BDD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7FD1F-AA7E-45AA-BC12-D5D4201D54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DDBEA-F9EF-4C1C-991D-9F2A3F45D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2896B-C546-49EA-BF38-41B6FE5D4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CAEF1-E943-441D-B144-8EE07C8C6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78A1E5-0FEA-4249-AE85-7949B3D4D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F53E-FEFD-4250-89BF-EA13E34D8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4ADB92-4D20-4029-BE6D-20CB1E0FCA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E7B615-2F10-46B4-9668-D7E4F9F39D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CA40B7-EF43-4ACA-986B-8F9FDF303D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768AFF-C358-40A5-A900-9266C83CF5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B6FCF9-DF8B-46D1-A423-94ECA09B1D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032020-A295-4172-B8D9-A90733A9DD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708091-5FC9-460A-ACB3-D7E886A299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0C6D71-93D9-4FB8-8962-A7231A9E66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4E6653-4D8E-4C9D-8D8D-B69002204C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EC694-E256-4BCD-BF40-9D2724E8C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36A9-4401-4D64-B169-F85EF1BE3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BC467-DE8C-4E4A-AD8B-FC32FA9A0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4A34F-E9CF-48EF-A7D5-19DC55F11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4889B-2367-4E56-8EC5-F891A4557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68F07D-A335-4BFD-8FE1-56BE936058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BB7427-746D-4EEE-9612-5C49F94A48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16B44A-EFFE-470D-A26A-C3D900CA53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54651D-D304-4EFB-9985-9239B84D7E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16300D-76F0-4F15-A36B-6A87003CF3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1B4D1D-5947-4DEC-BB51-26316C65C6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4C5B2-B656-4079-9C76-C3A0E840C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B217E-B737-44F9-9627-9FAD649C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DB65DD-774C-40E7-BBA4-18EE4C4180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20C89-0072-4942-8B41-80BAF7434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BAD9CF-0CC4-4862-9928-3BFE371B2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098819-7767-4B0F-B60D-38E79E7E8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7CD278-F2BB-4024-88A0-F06551F6B8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6910A2-0376-42D5-A134-1B186FD789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BF7509-90AE-4615-860C-1AC7ECD66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87CCC6-BDA8-41D6-89E7-1974B37006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E0A209-625B-47A0-8AB0-F815CABE42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15E1BE-3A56-4655-B01C-4433C85B621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B7D0-B370-4FBE-946B-DFE36A6B83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0819-6DD7-477A-A249-60B6B7BC105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548B-A03E-4F8E-B633-91A0FD40FA0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C1DB-D22B-4A3A-B5E7-EDFBC804357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65F7-23B2-4FEB-833E-03CDA012F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F7CA-DD0D-4519-ACE1-A7038AB6E65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8BD8-6D98-4EB9-8ECB-3F11DD10EA2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2D64-CE25-403E-B55C-8DD7B48BD0C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9BFF-7824-4071-8791-021B1C16D7B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2929-FF5A-489A-9083-D5721E24730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FCBD-0200-4FE0-A05B-852A29EA54A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F55B-25E6-437A-BA3D-38B79AD5546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B0E9-F7DC-4302-B156-CE5E94D0919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1463760"/>
            <a:ext cx="7596360" cy="28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
        <p:nvSpPr>
          <p:cNvPr id="556" name="10 - Ορθογώνιο"/>
          <p:cNvSpPr/>
          <p:nvPr/>
        </p:nvSpPr>
        <p:spPr>
          <a:xfrm>
            <a:off x="2286000" y="5000760"/>
            <a:ext cx="59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Arial"/>
                <a:ea typeface="Arial"/>
              </a:rPr>
              <a:t>ΕΙΣΗΓΗΤΗΣ: Παναγιώτης Ν. Μαντάς</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39280" y="1392120"/>
            <a:ext cx="860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23640" y="1052280"/>
            <a:ext cx="8135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000000"/>
              </a:solidFill>
              <a:latin typeface="Times New Roman"/>
            </a:endParaRPr>
          </a:p>
        </p:txBody>
      </p:sp>
      <p:grpSp>
        <p:nvGrpSpPr>
          <p:cNvPr id="558" name="Ομάδα 1"/>
          <p:cNvGrpSpPr/>
          <p:nvPr/>
        </p:nvGrpSpPr>
        <p:grpSpPr>
          <a:xfrm>
            <a:off x="0" y="115920"/>
            <a:ext cx="9144000" cy="6551640"/>
            <a:chOff x="0" y="115920"/>
            <a:chExt cx="9144000" cy="6551640"/>
          </a:xfrm>
        </p:grpSpPr>
        <p:grpSp>
          <p:nvGrpSpPr>
            <p:cNvPr id="559" name="Ομάδα 1"/>
            <p:cNvGrpSpPr/>
            <p:nvPr/>
          </p:nvGrpSpPr>
          <p:grpSpPr>
            <a:xfrm>
              <a:off x="0" y="115920"/>
              <a:ext cx="9144000" cy="6551640"/>
              <a:chOff x="0" y="115920"/>
              <a:chExt cx="9144000" cy="6551640"/>
            </a:xfrm>
          </p:grpSpPr>
          <p:sp>
            <p:nvSpPr>
              <p:cNvPr id="5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5"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 ΤΩΝ ΜΑΘΗΤΩΝ ΜΕ ΕΕΑ/ΑΝΑΠΗΡΙΕΣ </a:t>
            </a:r>
            <a:br>
              <a:rPr sz="3200"/>
            </a:br>
            <a:br>
              <a:rPr sz="3200"/>
            </a:br>
            <a:br>
              <a:rPr sz="3200"/>
            </a:br>
            <a:r>
              <a:rPr b="1" lang="el-GR" sz="2000" spc="-1" strike="noStrike">
                <a:solidFill>
                  <a:srgbClr val="000099"/>
                </a:solidFill>
                <a:latin typeface="Arial"/>
                <a:ea typeface="Arial"/>
              </a:rPr>
              <a:t>ΕΙΣΗΓΗΤΗΣ: Παναγιώτης Ν. Μαντάς</a:t>
            </a:r>
            <a:br>
              <a:rPr sz="3200"/>
            </a:br>
            <a:endParaRPr b="0" lang="en-US" sz="20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64" name="Picture 9" descr=""/>
          <p:cNvPicPr/>
          <p:nvPr/>
        </p:nvPicPr>
        <p:blipFill>
          <a:blip r:embed="rId1"/>
          <a:stretch/>
        </p:blipFill>
        <p:spPr>
          <a:xfrm>
            <a:off x="0" y="0"/>
            <a:ext cx="9144000" cy="1368360"/>
          </a:xfrm>
          <a:prstGeom prst="rect">
            <a:avLst/>
          </a:prstGeom>
          <a:ln w="0">
            <a:noFill/>
          </a:ln>
        </p:spPr>
      </p:pic>
      <p:pic>
        <p:nvPicPr>
          <p:cNvPr id="865" name="Picture 10" descr=""/>
          <p:cNvPicPr/>
          <p:nvPr/>
        </p:nvPicPr>
        <p:blipFill>
          <a:blip r:embed="rId2"/>
          <a:stretch/>
        </p:blipFill>
        <p:spPr>
          <a:xfrm>
            <a:off x="1258920" y="2060640"/>
            <a:ext cx="1297080" cy="1528560"/>
          </a:xfrm>
          <a:prstGeom prst="rect">
            <a:avLst/>
          </a:prstGeom>
          <a:ln w="0">
            <a:noFill/>
          </a:ln>
        </p:spPr>
      </p:pic>
      <p:pic>
        <p:nvPicPr>
          <p:cNvPr id="866" name="12 - Εικόνα" descr=""/>
          <p:cNvPicPr/>
          <p:nvPr/>
        </p:nvPicPr>
        <p:blipFill>
          <a:blip r:embed="rId3"/>
          <a:stretch/>
        </p:blipFill>
        <p:spPr>
          <a:xfrm>
            <a:off x="6948360" y="1989000"/>
            <a:ext cx="1444680" cy="1573200"/>
          </a:xfrm>
          <a:prstGeom prst="rect">
            <a:avLst/>
          </a:prstGeom>
          <a:ln w="0">
            <a:noFill/>
          </a:ln>
        </p:spPr>
      </p:pic>
      <p:sp>
        <p:nvSpPr>
          <p:cNvPr id="867"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68"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000000"/>
              </a:solidFill>
              <a:latin typeface="Times New Roman"/>
            </a:endParaRPr>
          </a:p>
        </p:txBody>
      </p:sp>
      <p:grpSp>
        <p:nvGrpSpPr>
          <p:cNvPr id="567" name="Ομάδα 1"/>
          <p:cNvGrpSpPr/>
          <p:nvPr/>
        </p:nvGrpSpPr>
        <p:grpSpPr>
          <a:xfrm>
            <a:off x="0" y="115920"/>
            <a:ext cx="9144000" cy="6551640"/>
            <a:chOff x="0" y="115920"/>
            <a:chExt cx="9144000" cy="6551640"/>
          </a:xfrm>
        </p:grpSpPr>
        <p:grpSp>
          <p:nvGrpSpPr>
            <p:cNvPr id="568" name="Ομάδα 1"/>
            <p:cNvGrpSpPr/>
            <p:nvPr/>
          </p:nvGrpSpPr>
          <p:grpSpPr>
            <a:xfrm>
              <a:off x="0" y="115920"/>
              <a:ext cx="9144000" cy="6551640"/>
              <a:chOff x="0" y="115920"/>
              <a:chExt cx="9144000" cy="6551640"/>
            </a:xfrm>
          </p:grpSpPr>
          <p:sp>
            <p:nvSpPr>
              <p:cNvPr id="5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4"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81000"/>
            <a:ext cx="83534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000000"/>
              </a:solidFill>
              <a:latin typeface="Times New Roman"/>
            </a:endParaRPr>
          </a:p>
        </p:txBody>
      </p:sp>
      <p:grpSp>
        <p:nvGrpSpPr>
          <p:cNvPr id="576" name="Ομάδα 1"/>
          <p:cNvGrpSpPr/>
          <p:nvPr/>
        </p:nvGrpSpPr>
        <p:grpSpPr>
          <a:xfrm>
            <a:off x="0" y="115920"/>
            <a:ext cx="9144000" cy="6551640"/>
            <a:chOff x="0" y="115920"/>
            <a:chExt cx="9144000" cy="6551640"/>
          </a:xfrm>
        </p:grpSpPr>
        <p:grpSp>
          <p:nvGrpSpPr>
            <p:cNvPr id="577" name="Ομάδα 1"/>
            <p:cNvGrpSpPr/>
            <p:nvPr/>
          </p:nvGrpSpPr>
          <p:grpSpPr>
            <a:xfrm>
              <a:off x="0" y="115920"/>
              <a:ext cx="9144000" cy="6551640"/>
              <a:chOff x="0" y="115920"/>
              <a:chExt cx="9144000" cy="6551640"/>
            </a:xfrm>
          </p:grpSpPr>
          <p:sp>
            <p:nvSpPr>
              <p:cNvPr id="5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4:58Z</dcterms:modified>
  <cp:revision>153</cp:revision>
  <dc:subject/>
  <dc:title>Παρουσίαση του PowerPoint</dc:title>
</cp:coreProperties>
</file>