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8CE-40B6-4169-A085-218851DE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806-E3A6-48C4-BDC0-3979497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A06-57A7-4611-85F2-41E0059D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5BD-1D6C-438D-AA30-0FB032CA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B23F-A102-4A02-8150-277F215A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DB6E-5A1D-4CBD-ACDE-DF528FFD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0C4D-7D7B-44AB-AE4C-7A9B881A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33C7-960D-44B1-A520-6EDD043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6A8-A2B2-429F-904F-48524AA6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E01B-CCF5-4186-B7C2-43C60347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591-B34D-4DBC-8ECD-2C39495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770-FB47-48F0-B475-832EE76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3051-CB82-4195-8067-8C92D175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B11E-6134-42F0-B96D-A1DC80D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DAB9-CC42-4FAC-8CAA-FD0112EA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17E-18B7-423F-877C-D631563F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F87C-D9FD-463E-998E-C6FAC2E0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799-D287-443D-ACB4-FDE2704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95C-15A1-4456-A7F4-CF16D64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4DE-C599-4D6D-9191-139DBA12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785-ABB4-471E-A869-7B6F1C7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2A2-B130-41D3-A1B8-37947B3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6CB-C8A2-4BEE-B7B2-F8E49BE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858-5F5D-41F8-924D-880C8ED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12327-4E4A-46F2-840E-C472820BAD26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4649B-3B1E-4C68-B7D2-6E7DA37025A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Kostantinos Lolitsas</cp:lastModifiedBy>
  <dcterms:modified xsi:type="dcterms:W3CDTF">2020-02-16T11:41:37Z</dcterms:modified>
  <cp:revision>37</cp:revision>
  <dc:subject/>
  <dc:title>Παρουσίαση του PowerPoint</dc:title>
</cp:coreProperties>
</file>