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D549-D558-41D8-9700-B2407CBB216B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0C27-2442-4EE0-9B49-9A050784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F93-A717-497E-A4BA-79AC04224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D72-DD7F-485E-84DF-6CF576AC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D11-A250-4F41-9202-2DB734BD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8276-B087-4966-B3A0-FFB6ECA4E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4036-4034-437C-BC74-D988966D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256-2D70-4E49-B941-4E2BD6E2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F2D6-DDB9-4613-AAAF-E18DD788E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664-DE77-47CC-B035-ACBF38D6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26EB-62F0-465B-B529-7A708F62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95D-1BDF-43DD-9146-C063EA94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9BC-70CC-421D-9908-E94E0569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4196B-31E0-4B0A-8A40-C94DF487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54B79-35A2-4806-85D8-5C1E0E0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7A1A6-9C87-4734-A4FB-B6F8086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F750-E4AB-4162-8B8D-6AE947F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36131-5CF3-49CA-8180-D63E959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8D0AD-9793-42B6-B948-4F7F7140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7930F-021F-473F-86B9-769F5033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D4E42-C246-4C9A-9A88-F92A224C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F99CB-B3E3-49BC-A8EA-943BBC98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BD0E3-C9AB-4B14-85A4-1C0D8D51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7DB-8076-4F54-9040-E6893CB5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049B6-C571-4308-B082-85441953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1F300-70E7-4ECD-A01C-989CC15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E20A4-B25B-4E58-9FD0-3D6AF09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D2AEE-BBC0-48AE-9612-17977A42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01051-645F-4057-B0EC-96D30BAD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B041E-96F5-4DB7-A0D1-1153D4A7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52958-D3CF-41A5-A198-825F603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14DD8-23A4-42D7-B549-66678ED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621FB-F22F-4E49-84CD-BFCC1FE8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DF215-F38D-4066-8486-05768FCF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A7B-172F-4409-903C-DACACE60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B4147-78DE-4253-81E8-FD965E29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57D00-505A-48D2-BC4A-00AE6AFE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980A3-42AE-4448-AA65-479506B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BC5AA-60B4-4B46-97AE-748F687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D6B5F-901D-4305-8375-442CB33B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441A-0621-4551-B589-0F52781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5FCE-6D9F-42E4-904F-000AC350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9620A-F561-4C13-AEAE-63EA6836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4FF01-5C24-4C00-99A2-EBBCDD5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79632-82F2-47CB-9687-B3235723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D5DE-2833-4FE2-B06F-31ADA93F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550EE-F0B9-46A1-BDA2-5E46313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5A2B7-DB5C-4447-9BAF-A6E75732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959B-FEFD-4E62-AC73-8D22D752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FBD83-CA55-4D21-B350-7D640957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995A8-2709-4F56-8421-A14AAE3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EE177-3715-45C9-84CE-2D26187E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FD01B-C25F-4995-9E1C-C479ABD0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06C63-AAE6-4B57-BED9-E0AF54D1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456B1-3406-405F-9808-85675A4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7C908-823D-45E7-AFFE-10576223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B247-DDBD-4119-BA66-E19EF54E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42BB4-D953-4107-AD66-F885901D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67A27-3D62-4DD4-B018-1605F71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3E818-DA33-4AEB-8269-42C6A8CF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EC708-B392-4C77-A173-D3EE7DA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37056-E960-4AF2-816E-3978CA76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EB47A8-5981-4DE9-BE72-2B5BC478B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625936-4A28-4A60-B7EB-E222DEF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05558-A74B-4883-81F3-1213553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43608-2B2D-4BEA-BEF8-E1363C8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7F9FF9-E507-456C-9828-DD8B0C59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5916-5AA5-496E-9989-9290FB0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E15EB9-253F-4FE5-83E8-237351B4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58F003-3220-4DCF-8057-180358C5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EA9B18-04F0-4D81-91A9-FB5FEA81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DEDD04-910C-4637-8729-E307A0C5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8A8F5-0347-4B3F-9AF4-1BB6ADE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042FBF-CFD0-411F-A80E-9308D85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AB8179-10E0-43A6-963E-B10BB9B96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487B-B556-4201-8A51-B5DF00D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2E9A-F229-49A8-A5D5-DD346C25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637-B525-4884-A982-F8734D3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67E-18E2-45C0-983D-08873263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028-4B76-4A95-B2ED-4AC7FE33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ADD5-49C1-4A96-8DD8-6294C8C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D86A-F4C1-4CFD-8795-C46D51F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875A-F73B-4B9D-98AA-74502F29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3DF9-5F90-4F99-B51B-FEF6B6CE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E5FE-B1DA-4B5A-8DFE-3A5390D3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2404-83A9-4110-BE53-DD5F2294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5942-A660-498D-B166-48C99F6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29BD-B681-41A0-8A8F-40399476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C2CD-9F00-444A-94CC-11CCB76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2276-7141-435F-BDC9-582B139C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403-4B47-41A5-87BA-C96C9F2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DB3C-F935-4210-8DD7-F27D521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715C-5957-4518-BF46-5A202F0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2773-EF16-4B0F-A611-FFBA393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9855-CCF8-448C-B69B-D49B45F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2717-C170-424A-A241-D170988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53E6-791D-4C3F-AC6F-13001EDC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7300-CFA4-4116-AEAF-12407554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328B-A150-4D44-8ED8-CC0EC4B6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0435-B4A9-416B-999D-F795BDE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AC73-2DF6-4AC2-877F-58F1B751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8D5-A2C5-4895-A4BD-6E36577A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47CB2-2205-4BAA-AA01-9EE36806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969F-E8B1-4758-989C-4118C3DD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6A25-F033-4B08-9A42-828D3076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60C9-5960-4149-86A0-3DDECD3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2E83-F8E0-4AD9-967C-C3D55B1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E759-9232-4FEF-9101-3D98FD4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162A3-383E-447D-94A9-26BC9FC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9BD3-8CE3-48DD-A36E-6B501190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2CB8-A2E8-4F5C-B4FF-DA0D0C18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40CD-E18D-4A5C-B4A4-B17C37AF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D94-6596-45DA-9BA1-162FE5C0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D7EE-9AB1-48E2-AC99-E0E95BE4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50D0-6FFD-459E-BEDD-E0CEBA5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0514-F01B-4726-9211-608D60EF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4319-06ED-4FA1-B926-95B763D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4795-B5AA-4CB9-9C74-F2E7C996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BB95-A96B-49AD-9A53-E65CAB7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2DF2-D496-4563-9E77-95C510A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B3D2-DBE2-41B8-85CD-E6B33F5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325B-DEF8-420F-BC66-F190DD30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7BF7-65C3-42DF-8AAB-A8E42247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DA9-6D99-46CB-867E-F1459D86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6643-7978-49A2-9F6E-7C709738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ECFF-70C9-478E-BA62-0CD23285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9048-6360-4BFD-8A18-F42B509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85AF-E51E-4923-B02F-4688FCD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348CC-C3F1-42FD-B925-37FB184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394C-9E3A-43A7-BCD0-5E541FFF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6E67B-1F28-423D-AF39-9E6DD2C8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AE7D-5A60-4A60-B13E-998B91F1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50EE-6A64-45A1-B05B-170D2F9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60AE-5284-4A96-9DDB-79CC012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6FE-BB4B-46EF-96A2-CF0F1E2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6C82-2F4A-4600-B1C4-34A9A88D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BC9C-7AB5-4684-959E-FB536687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318D8-EF7D-46EE-8E2A-B336EA79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7F126-4F05-4B97-AD0C-DA297AF1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4D26-9A10-4901-8CD8-9314993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93AB-6F5C-4AD2-9F95-AD55F3EA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C8D7-2003-4A4F-908E-3ECFA56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9FE6-AF66-4D97-9CD3-946A7A1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7012-BBD8-4FF7-89FC-57E5F95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66DC-EB3B-430A-A80F-9B30488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CDE-B6B0-41A0-A233-F7EA8C3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70FF-F694-45C0-870D-1322C4BB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7272-A563-4401-8142-7E580DF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0126-3AFB-46FD-93C5-D6BAA56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303E-4979-43F6-B0F6-DAC7EF59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CE3B-50D3-4AF1-BA3C-C44EA723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4225F-8893-40CA-A19D-DF87CDC2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224E-9BB5-44C0-ACBA-37F71B71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EF68-6761-4232-BD21-A6D8ABEE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9918-437F-47FB-941F-BEA790F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30D12-0D24-4858-B2D5-875E44A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396-EF8C-4DD5-8DCD-F981F873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D39C-E9B2-4D51-A281-A8452825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AE08E-DD2F-443F-AFE5-56D4F7E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0CFA-F048-42F3-AD43-C0BDB94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2BDFF-064E-42B8-A89B-5198E81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88195-D372-46B2-B664-5E3A0E76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B2CE-542F-40EA-8B99-C4BA18DC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B2DD-2328-49A3-8318-7B6A18BE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B0806-B1F0-4DEA-8CFB-7F0DDEE5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C8804-61AC-46CC-B821-D51D9D1C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954C4-F2C1-4C98-A956-78EFD9A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2E0-92B3-4BDE-8F79-612881A8B8F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06BA-6D28-48FD-AB75-F42F9D67CCD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9D22-F2E4-485C-BBA1-529A18F5F74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B4F7-D0E8-4A0E-9203-5135260721C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95B-6C52-4BA1-BE3D-F2755741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A703-979F-493F-AE7C-A7CB49D9FF7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21C-9198-4272-BF8F-02F300A7AC5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3C76-C568-4EB3-967B-C9B4DD39B1D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9E0-4A42-45BB-AD6A-31B80B2AD46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E8BF-54B2-4FE7-8F2B-A0FF56A2568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DCD-FF61-4C00-92A0-720581EAAD5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2B11-D4E5-4640-B5BD-69B0E2D46CF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931-AA67-44B2-9FA8-71C5FF44574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1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28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MANTAS</cp:lastModifiedBy>
  <dcterms:modified xsi:type="dcterms:W3CDTF">2020-10-13T09:30:42Z</dcterms:modified>
  <cp:revision>158</cp:revision>
  <dc:subject/>
  <dc:title>Παρουσίαση του PowerPoint</dc:title>
</cp:coreProperties>
</file>