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40"/>
          </p:nvPr>
        </p:nvSpPr>
        <p:spPr>
          <a:xfrm>
            <a:off x="-3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41"/>
          </p:nvPr>
        </p:nvSpPr>
        <p:spPr>
          <a:xfrm>
            <a:off x="388440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2857-6849-4E56-BB12-449139C895EA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4BA2-3527-4BAF-BCE6-062FA53E2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0170-54FE-47F8-A996-6BFEAECAE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D556-D4FC-4E0D-A536-C2EAE860D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4878-EF3C-4E71-B32B-9C9E768AB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616C-0DEF-47D7-A502-9B7DA4BDC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0F21-063F-4EA8-8E90-EAA7C51CB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C3E8-9361-4211-8251-E00B2214F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00AF-AA7A-47AB-A07E-E2D3E36EC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74BB-BAE7-45B8-865E-651E3ECDA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C957-6105-427C-9ADE-A37CA424B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A0EF-D1B4-41D2-B4C1-4ABD51F39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18D4-C845-4326-B6C4-7E2FCBEE0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ECDB-A7E9-40D9-A0B1-0BE0A9FEC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2995-7F13-45CB-825A-9735B7ADA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D3F0-A61A-4FF9-9885-FBCF42649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3FAE-FCCA-4828-8410-0436767F0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03F2-4F0D-4EA3-87C1-DB4BAFF9A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89B3-9187-45A3-834F-701883177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EF76-91EF-43D1-A9B4-3CC570224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0B7D-6882-4FEE-898C-1FD3FE1AD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8E3E-5585-4BD8-A015-AB74B9D27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CF9F-948A-4B6C-99EA-EFB7F1F30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447E-3644-42D3-BCBD-59AF606A8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20C5-F033-43DC-931A-0D377239E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7982-03F4-4A7B-9C13-588146140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CCEE-5AD7-4A2E-853C-DD1CE2767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4B11-0C5A-4567-8673-B089680AC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3F3A-B086-419C-A93C-A7CC91EF0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9A1A-C6C4-44D2-A46D-BBA6D9771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890D-33BD-449B-8C53-234F4321F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A556-83B1-452D-9E53-5B20AF61D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69A1-678C-4B20-8901-98234D70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7FF1-544B-444C-9892-BE49C93F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B93E4-7B2C-425D-B4CB-5C903062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6A624-41CE-4188-871E-E097B2E4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7E65E-F646-4C2F-9883-3CB37C46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05294-55E1-416C-8279-C4EC3DA7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27B24-BB1E-489D-AE7F-A054E466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35CA1-4704-4113-8D04-58E2D1A6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849A8-F418-480A-9E75-BDB0F522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1D5A8-5967-48A8-94ED-1A7F8131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4735C-69E3-43E7-AC43-E166D24E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B0DB9-0274-4DB6-9878-E853FA86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6662-AE9E-4CE1-A6BC-C6F46125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65294-0BED-4169-ABF2-5081C75C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106BE-D933-430D-92FC-F0D8D6C5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5F18F-D4FD-44A5-9840-6DF33AC0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1A77F-F660-4994-AA3C-D2607498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BA491-6196-45A6-8369-20C3E3C7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048FF-D603-4ADD-A336-B94B56EB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1CD48-7EFF-4488-B53E-16B7DDA2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B1009-1ACC-47CA-B83E-D4748C83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013B6-A945-404B-A00A-80FF1FF9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AC517-E605-4AEE-BBA0-56B90E5E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AB17-CC68-4E2F-9B1C-1A82340D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72929-67CA-4645-99A5-DB6CAEF7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AFC52-0021-45FC-A07F-6ADC9DC6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3930F-4E99-4B1B-BC98-5DBC9246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8B2DC-9A87-4F2F-A6D6-CA6E8C8D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14CED-A25B-457F-A5D1-935054ED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5961F-EEC0-4B72-B1A6-D7E9498D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19E2F-79E8-4C3D-8586-C5F3E44A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97FEE-C654-4CF3-BCA5-79261BA5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F1253-5641-493E-8B73-BABCEB40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BB666-6EE8-4984-A3CE-3B202001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6AEA-3205-46DA-9972-C1167251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AE3BA-20F0-4E4B-B85E-9EBCC3EB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17D50-E7ED-467C-9810-52115368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FC3AA-1784-415A-B7F0-CA4D7788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EE58C-FF56-40FC-B7D4-F3DD0834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C6C9E-AAA3-45DC-AA3D-92D88074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F1208-55CF-43A3-8741-0C92BF54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F3C65-CF11-4F57-851D-48DD24DC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C57C9-CDD0-4238-984F-F97F44D6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C0417-5F6D-4472-A6CE-65CEB958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71C05-7DA3-4896-B077-F299576E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8B93-AE09-48B0-B86C-C40EAC48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0E7AA-4148-402F-B25E-4A70814B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0994A-120B-495B-8175-00953D78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C8C38-FC95-4E60-9BC4-80C2DDBD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DA99D-2797-453B-9D01-1F259914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AB777-C8CE-44BD-A49F-9026E745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D9106F-A23A-4F07-89DF-BF31A17D2F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3882DF-3AEE-4ED1-8C3C-5F692C24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CA7787-9559-4E86-BD49-075E15E2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AE964A-F22A-4B69-A56F-B13E28D6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C6CFC0-E4A7-40D6-93FF-301A262F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75D4-09A2-4B8A-BEBA-88D20742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F38695-89F8-4479-AEDF-197607C3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B2D9DC-662A-498B-8033-B03BBEFD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6C72AF-5F05-4CB8-8A4F-BF3B49B7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250699-7E06-4EBE-B903-AE4C0EBC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FCD8E5-569E-4348-B5EC-9EA692D1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60E028-A132-427B-8A22-ABAEA5C4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13A1E1-C131-46ED-9A0F-F61C896236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7BF8-31EE-4A99-8C44-853BF88D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618A-2A4C-4D89-ADFA-17664417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BEC7-3589-4F7E-BDB5-B03ECEDC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F338-526B-4C4A-BC45-DC18002B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2963-99A7-48AC-91B3-D5EEDF03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63A5-4E83-420D-91FA-C2B1B38A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4131-E526-4E44-A6FE-2872C349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FD65-117F-41AD-A0F2-73FD50ED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8842-4658-4568-AB10-684638F5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447D-A01B-40C6-9FCB-532C1A02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4345B-317C-49CE-A2FF-18403CDE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5D83C-CB03-4ACB-9A10-362B99A0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9D485-0307-4AA7-A1D3-88834471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C5096-4260-4DAF-8D2C-58FCC327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B8994-8943-4CE3-BD96-5AD21FB6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C023-C16E-4EB1-AA0E-4464C1E7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D6A11-E0C4-4214-B6F1-2A0CA2C0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5FCB9-CEF0-4429-8C1F-225EA99F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8B67B-0DF1-4BDC-9573-442BBC4D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07273-8364-4314-82EF-BD41B320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B03DA-8055-4124-8578-B3C4B755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60111-EDB4-431A-8B5F-5459875A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2768F-BE24-4541-8BB7-4F0A43DD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8B850-46A3-4873-85F5-A7C6A1C4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F0496-DE8B-408C-A270-4858E712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709C5-DCBF-4B0B-B488-A757E1F3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0AD5-40DA-4B57-A6CC-D6B715B1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FF638-AD27-412A-9FB3-4C5E4929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E9243-5364-4001-829F-A1CFC4A3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C11E3-C5AC-4286-BA1E-418FDBB8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35B49-8AE1-41E9-BE04-FC22516D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A7B34-3DB6-4274-9E56-B55A181A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E2DE3-6141-4AD5-B11D-B7D472B8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A3AEA-6FE9-4D1E-8955-AF856B6F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10E0B-E391-4550-BE3B-72DC6522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23859-3A30-4A7D-8251-1F0C582C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41BAC-A0EE-4A45-A993-B08DEEE6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D516-05FC-48B8-8DFB-F2A085C3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E9751-56F5-4E48-9B67-8B06148D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9CF8E-2F35-4EED-93B6-D3A88A3D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E5A98-7E8B-4052-B791-8378EB30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EB5D6-3A76-406D-907E-C90040A0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F5860-9673-4E67-969E-B2F8EF1C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F08AD-7442-4568-BA07-53F22600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93CC4-EC44-4490-9431-F748CA63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ADD3D-C9FC-4CBF-A2EE-F21CF074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4E941-5BB6-4711-A444-14B46FAA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27A10-772D-4308-BB0D-41417B35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35A-A735-4B98-83F9-3A98BF47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A539E-2172-499A-8D96-33113AE2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5CF06-E68E-43E9-9106-F6309BD7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03952-C93F-4260-8277-435E4C9E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DB1AA-1550-4C81-BB57-844C566E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27A3A-729F-42C4-8E42-9C8AA2AA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2D462-E300-47B4-B2B3-D88E641A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A4210-97A4-4F7E-8238-1BEBA523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E7008-BDB0-4354-A8F7-039DA831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7C989-C62B-43C6-93FB-E39FB564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6FF7A-D977-47FE-A7CA-657C8B6F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1710-3BD1-4481-976B-FAB292D4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19449-C607-4342-8E87-F9E80955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29F3C-A5CD-4025-9A2A-A2392D35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4A1DA-5694-4FB7-95C4-3C025826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87FB6-C2E2-45C7-B83F-D1A08104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B4630-9FC9-4FC4-A955-6B6984EB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159D4-CB07-4398-B558-6BF6FCCF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22F56-586C-4C65-9058-5AE43620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A4AB2-5B57-4F95-B8E3-ED1DD668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F6E24-79DD-4E1A-BB3A-30AA9152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C6FFA-6CFB-49A3-A74B-FFC4C87F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837-4555-4DC5-A661-C05C4B57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8F3EF-4B33-4F62-A2C6-35294E25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B3185-E27D-4F13-BF02-A79B76B3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64BB5-EEB8-4FE3-8D05-7FB0D13D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A09BD-0341-478E-BAA5-5537E25C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3040F-FD3A-4513-BFDC-1B1284AD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44137-D982-4C5A-B8A5-CBE25248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2901C-343E-4D61-B87C-504846F8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3356B-3E7E-4823-B32D-8F7A7EFA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2D72D-54B9-4121-9394-5090D97B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F147F-341A-47A7-AE6D-B6B92FA2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3FC9-13DB-4852-9957-666720F1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D4942-C662-4E61-908B-6AB4C688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23640-F7D4-48FE-A633-D4441A55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1C070-1B83-4DC7-B81C-B7E77FF9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354C8-284E-4105-B403-06F2CA35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D4E9C-D12B-4067-9415-8517A3EB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7601A-624B-4751-8BBE-934584E8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8E1CB-56AF-4653-AE24-62313F23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48EA8-7299-431D-94BB-D196237F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87F22-16A9-4976-B4CA-E435C57D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F4303-A278-432B-BE4E-EB07D5E4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0C47-E343-4317-BCE2-636B34F374B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F405-F5D9-44EC-A6E0-B1F53140134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7780-0D17-4402-98D2-B1E4672533F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D98B-D385-434C-9363-E2DC054BE7F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CAA5-C025-4036-8397-46ADE1269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A88D-8C5B-4046-A829-1E9E6DB86F6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8274-B1AD-40AB-87FB-F20AB0475B9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9BC9-B2B1-47AA-BEEC-81B2FC75477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F5EF-9937-4519-9E0C-2B23269B0F5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71F0-B3E5-43C5-B17F-43791D12957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CCA4-0FB8-4B0B-8FE4-CEC64F87760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F6E0-D590-4FE4-B9DA-61810893B7A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8986-4907-4FBD-8AB2-1C03D66C28E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13 - Ορθογώνιο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0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1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14 - Ορθογώνιο"/>
          <p:cNvSpPr/>
          <p:nvPr/>
        </p:nvSpPr>
        <p:spPr>
          <a:xfrm>
            <a:off x="1332000" y="4437000"/>
            <a:ext cx="6875280" cy="13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15 - Ορθογώνιο"/>
          <p:cNvSpPr/>
          <p:nvPr/>
        </p:nvSpPr>
        <p:spPr>
          <a:xfrm>
            <a:off x="826920" y="580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9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1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5" name="12 - Εικόνα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24000" y="1392120"/>
            <a:ext cx="8640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ια ακόμη ενδιαφέρουσα, λειτουργία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τισμένου χώρου είναι πως ανάλογα με τα χαρακτηριστικά του, δηλαδή το μέγεθος και το σχήμ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ευκολύνουν  ή όχ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 διαμόρφωση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σωτερικού χώρου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ην οργάνωση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ων διαφόρων περιοχών της τάξης(γωνιές μάθησης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2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2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50560" y="1197000"/>
            <a:ext cx="8569080" cy="45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ημαντικό στοιχείο είναι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χώρος που αναλογεί στον κάθε μαθητή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γχρονες προδιαγραφές απαιτού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πιφάνεια αίθουσας τουλάχιστον 1,50 τ.μ/ανά μαθητή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Πηγή: Ο.Σ.Κ. Α.Ε.)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3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50560" y="1197000"/>
            <a:ext cx="8569080" cy="45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Αυτό είναι σημαντικό, καθώς ο συνωστισμός μαθητών σε μια αίθουσ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φαίνεται να έχει αρνητικές επιδράσεις στη συμπεριφορά των ατόμων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διαμφισβήτητο επίσης  είναι ότι οι ευρύχωρες αίθουσε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δίνουν τη δυνατότητα στον εκπαιδευτικό να χρησιμοποιεί εναλλακτ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ορφές διάταξης των θρανίω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π.χ. ομαδοσυνεργατική διδασκαλία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άλλη διάταξη κλπ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4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50560" y="1392120"/>
            <a:ext cx="85690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 διαμορφωμένος χώ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κάθε σχολική αίθουσα έχει μια συγκεκριμένη διαρρύθμιση.  Τ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σωτερικό της μπορεί να χωρίζεται σε περιοχές με διαφορετική λειτουργία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εμία από αυτές τις περιοχ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το σχήμα και το μέγεθός τ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ξυπηρετεί συγκεκριμένες πτυχές του διδακτικο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ργου ( γωνιές μάθησης, ανάπτυξη ορισμένων δραστηριοτήτων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4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4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0560" y="1392120"/>
            <a:ext cx="85690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έπιπλα (θρανία, καρέκλες, βιβλιοθήκες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ίνακες, εποπτικό υλικό ,κλπ)και ο εξοπλισμός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ποθετούνται στο χώρο ανάλογα με τη λειτουργία του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5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5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διαμορφωμένος χώρος έχει μεγάλη σημασία καθώς η βασική λειτουργία τ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γκειται ότι προσφέρει τις άμεσες συνθήκες του χώρου για το εκπαιδευτικό έργο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υτό  επιτυγχάνεται με τη διαρρύθμιση και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ισθητική του, οι οποίες δημιουργούν τις υλικές προϋποθέσεις για την οργάνωση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ς σε τέσσερα επίπεδ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6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6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. στη διαμόρφωσή της σε επιμέρους περιοχές λειτουργίας (για ομαδική/ ατομική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ασία, μελέτη, συζήτηση),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. στην αντιληπτική και αισθητική οργάνωση του εσωτερικού χώρου, οι οποί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νισχύουν σημαντικά τον προσανατολισμό της λειτουργίας της υλικής δομής,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7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7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. στην ανάπτυξη συγκεκριμένων μορφών εκπαιδευτικής επικοινωνία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ασίας στο εσωτερικό της, που σχετίζονται με τις πρακτικές χώρου, τι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έσεις και τις στάσεις του σώματος του παιδιού στην τάξη,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8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8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Rectangle 1"/>
          <p:cNvSpPr/>
          <p:nvPr/>
        </p:nvSpPr>
        <p:spPr>
          <a:xfrm>
            <a:off x="971640" y="220500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. στη δημιουργία συνθηκών μικροπεριβάλλοντος (με τοπικές ρυθμίσεις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ωτισμού, και του χρωματικού ερεθίσματος) που ευνοούν την εκπαιδευτικ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ία μιας περιοχή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9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9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353440" cy="47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ι τεχνικοί περιβαλλοντικοί παράγοντες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τα αισθητικά και τα τεχνικά δεδομένα της σχολικής τάξης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ε αυτ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αταλέγοντα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χρώματα, ο φωτισμός, η θερμοκρασί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ώς καθορίζου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ι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εχνικές συνθήκες περιβάλλοντος στην αίθουσα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0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0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και διαμόρφωση περιβάλλοντος εκπαίδευσης και μάθησ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 δομή της σχολικής τάξης</a:t>
            </a: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br>
              <a:rPr sz="2000"/>
            </a:br>
            <a:br>
              <a:rPr sz="32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4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Rectangle 1"/>
          <p:cNvSpPr/>
          <p:nvPr/>
        </p:nvSpPr>
        <p:spPr>
          <a:xfrm>
            <a:off x="10429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353440" cy="47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ίγουρα, μπορούν 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ροποποιηθούν ευκολότερα σε αντίθεση με τα στοιχεία του κτισμένου χώρου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μφίβολα, συμβάλλουν στη δημιουργία των κατάλληλων προϋποθέσεων για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ή διαδικασί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1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1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ια φωτεινή, ζεστή με χαρούμε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χρώματα αίθουσα προδιαθέτει τους μαθητές και τους διδάσκοντες διαφορετικά από  μια μουντή και ψυχρή αίθουσα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2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2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Rectangle 1"/>
          <p:cNvSpPr/>
          <p:nvPr/>
        </p:nvSpPr>
        <p:spPr>
          <a:xfrm>
            <a:off x="1042920" y="191628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θερμοκρασία, η θέρμανση , ο αερισμός είνα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πιο σημαντικο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εριβαλλοντικοί παράγοντες που επηρεάζουν την επίδοση των μαθητών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2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3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αυξημένος θόρυβος προκαλεί δυσλειτουργίες στην απόδοση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τόμου ενώ ευθύνεται για την επιθετική συμπεριφορά και τη νευρικότητα 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θόρυβοι,, η  έλλειψη μόνωσης είναι στοιχεία που δεν επιδρούν θετικά στη διαδικασί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, από πλευράς εκπαιδευτικών αλλά και μάθησης από πλευράς μαθητώ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3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3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φωτισμός των αιθουσών είναι ένας σημαντικό ζήτημα 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Δεν είναι ασύνηθες το γεγονός μαθητές διαμαρτύροντ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ως δεν μπορούν να παρακολουθήσουν το μάθημα λόγω ανεπαρ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ύς ή υπερβολικού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ωτισμού ιδίως στα ελληνικά δεδομένα, που παράθυρα και κουρτίνες δεν είναι στ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λύτερη δυνατή κατάστασ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4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4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23640" y="1392120"/>
            <a:ext cx="813564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ημαντική είναι η επιλογή των χρωμάτων της αίθουσας καθώς επηρεάζ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ν ψυχική διάθεση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δανικός θεωρείται ο συνδυασμός των φωτεινών, ψυχρών και θερμών χρωμάτων,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κολουθεί τις αρχές της δυναμικής των χρωμάτων (Συγκολλίτου, 1997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5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5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6800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Η επίπλωση και ο εξοπλισμό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όκειται για αντικείμενα με συγκεκριμένη χρήση που υποστηρίζουν τον τρόπο της εκπαιδευτικής λειτουργίας της τάξης, όπως τα θρανία, η έδρα, ο πίνακας, 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ίσματα, οι κουρτίνες, η βιβλιοθήκη και άλλα 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6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6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6800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θρανία και το κάθισμα του μαθητή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έπει να είναι εργονομικά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να συμβάλλουν στη δημιουργία ενός φιλικού παιδαγωγικού  περιβάλλοντος για τις σχολικές δραστηριότητ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7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7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 τα έπιπλα και ο εξοπλισμός παρουσιάζου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ονομικές ατέλειες έχουν αντίκτυπο στο αποτέλεσμα της εργασίας του μαθητή, ενώ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πορούν να προκαλέσουν επιθετική συμπεριφορά ακόμα  και προβλήματα υγείας (π.χ. σκολίωση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8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8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0920" y="1392120"/>
            <a:ext cx="8208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Το εκπαιδευτικό υλικ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δώ συγκαταλέγεται το υλικό που χρησιμοποιείται κατά τη διάρκεια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και μάθησης το οποίο είτε ανήκει στο σχολείο (βιβλία, εποπτικό υλικό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ξοπλιστικός μηχανισμός) είτε στους μαθητές (υλικό γραφής και ανάγνωσης)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9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9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διδακτηριακές εγκαταστάσεις του σχολείου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τον εξοπλισμό τους(πίνακες ,θρανία, καρέκλες, βιβλιοθήκες, εποπτικό υλικό, κλπ)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ν φωτισμό, τ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ρμοκρασία, τον αερισμό ,το θόρυβο και το είδος της οργάνωσης όλων αυτών των στοιχεί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σφέρουν ποικιλία φυσικών και συναισθηματικών ερεθισμάτων στα παιδιά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λλαπλά οφέλη στη διαδικασία της μάθηση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5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0920" y="1392120"/>
            <a:ext cx="86421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 εκπαιδευτικό υλικό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πηγή ερεθισμάτων μάθησ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ώς παρουσιάζει στον μαθητή πληροφορί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τικά με το περιεχόμενο των μαθημάτων 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80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80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50920" y="1392120"/>
            <a:ext cx="86421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ποιότητα της δραστηριότητας εξαρτάται από το εκπαιδευτικό υλικό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Όταν το υλικό είναι πλούσιο σε χρώματα , γραφικές παραστάσεις, κλπ  και ανανεώνεται τότε η  δραστηριότητα εμπλουτίζεται και πετυχαίνει το στόχο τη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τίθετα όταν το εκπαιδευτικό υλικό βρίσκεται είναι ελλιπές, φτωχό σε ερεθίσματα και σε κακή κατάσταση , η δραστηριότητα υποβαθμίζεται ή στην χειρότερη περίπτωση δεν προκαλεί και δενενδιαφέρει τους μαθητές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81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81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υλική (υπο)δομή της σχολικής τάξης</a:t>
            </a: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81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82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14 - Ορθογώνιο"/>
          <p:cNvSpPr/>
          <p:nvPr/>
        </p:nvSpPr>
        <p:spPr>
          <a:xfrm>
            <a:off x="395280" y="3573360"/>
            <a:ext cx="813744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0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829" name="12 - Εικόνα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830" name="5 - Ορθογώνιο"/>
          <p:cNvSpPr/>
          <p:nvPr/>
        </p:nvSpPr>
        <p:spPr>
          <a:xfrm>
            <a:off x="611280" y="59500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6 - Ορθογώνιο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94920" y="1392120"/>
            <a:ext cx="8064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εκριμένα  για τη σχολική τάξη ερευνητές 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Γερμανός (2006)) διακρίνει πέντε κατηγορίες παραγόντων της υλικής δομής 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ικής αίθουσας: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. τον κτισμένο χώρο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. τον διαμορφωμένο χώρο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. τους τεχνητούς περιβαλλοντικούς παράγοντες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. την επίπλωση και τον εξοπλισμό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5. το εκπαιδευτικό υλικ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6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6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50920" y="139212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διάφορες κατηγορίες της υλικής δομής επιτελούν ξεχωριστές λειτουργίες 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οίες βρίσκονται σε διαδικασία συνεχής αλληλεξάρτησης και αλληλοσυμπλήρωσης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κοινός παρανομαστής όλων αυτών , είναι πως επιδρούν στη συμπεριφορά τ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ποκειμένων και στη λειτουργία της τάξης. Συνδέουν, δηλαδή, το χώρο με του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γοντες της κοινωνικής δομής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7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7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991280" cy="494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 κτισμένος χώ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κτισμένος χώρος της τάξης περιγράφεται από τα στοιχεία της κατασκευή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τοίχοι, παράθυρα, πόρτα σχήμα, μέγεθος, κλπ) και ιδίως από την κάτοψ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ις όψεις της αίθουσας διδασκαλίας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ην πράξη τα δεδομένα αυτά είναι δύσκολ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να υποστούν οποιαδήποτε τροποποίηση ή μπορεί και να μην επιδέχονται καμί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τατροπή ανάλογα με τους κανονισμούς του  οργανισμού κατασκευής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ικού κτιρίου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Ομάδα 1"/>
          <p:cNvGrpSpPr/>
          <p:nvPr/>
        </p:nvGrpSpPr>
        <p:grpSpPr>
          <a:xfrm>
            <a:off x="0" y="0"/>
            <a:ext cx="9144000" cy="6551640"/>
            <a:chOff x="0" y="0"/>
            <a:chExt cx="9144000" cy="6551640"/>
          </a:xfrm>
        </p:grpSpPr>
        <p:grpSp>
          <p:nvGrpSpPr>
            <p:cNvPr id="585" name="Ομάδα 1"/>
            <p:cNvGrpSpPr/>
            <p:nvPr/>
          </p:nvGrpSpPr>
          <p:grpSpPr>
            <a:xfrm>
              <a:off x="0" y="0"/>
              <a:ext cx="9144000" cy="6551640"/>
              <a:chOff x="0" y="0"/>
              <a:chExt cx="9144000" cy="6551640"/>
            </a:xfrm>
          </p:grpSpPr>
          <p:sp>
            <p:nvSpPr>
              <p:cNvPr id="586" name="Line 4"/>
              <p:cNvSpPr/>
              <p:nvPr/>
            </p:nvSpPr>
            <p:spPr>
              <a:xfrm>
                <a:off x="179280" y="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5"/>
              <p:cNvSpPr/>
              <p:nvPr/>
            </p:nvSpPr>
            <p:spPr>
              <a:xfrm>
                <a:off x="1692000" y="7128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3"/>
              <p:cNvSpPr/>
              <p:nvPr/>
            </p:nvSpPr>
            <p:spPr>
              <a:xfrm>
                <a:off x="0" y="583272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Line 3"/>
            <p:cNvSpPr/>
            <p:nvPr/>
          </p:nvSpPr>
          <p:spPr>
            <a:xfrm>
              <a:off x="179280" y="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ο σύνολό τους αυτά τα στοιχεί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ορίζουν τις γενικές αρχές οργάνωσ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ς σχολικής ζωή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συνεπώς τα βασικά κριτήρι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ργάνωσης τ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αθησιακού περιβάλλοντο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9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9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μφωνα με ερευνητές(  Γερμανός (2006), ο κτισμένος χώρος οργανώνει τη σύνδεση 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ς με τους υπόλοιπους χώρους του σχολείου διασυνδέοντας ή όχ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ική και οπτική επικοινωνία με αυτούς τους χώρ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Ως παράδειγμα ορίζεται η ύπαρξη τ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αθύρων στην σχολική αίθουσ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0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0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79280" y="1392120"/>
            <a:ext cx="8640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λυτικότερα, μεγάλα και φαρδιά παράθυρα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τική προς τον εξωτερικό υπαίθριο χώρο μπορούν να διευκολύνουν την οπτική κα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ική επικοινωνία της αίθουσας με τον αύλειο χώρο δίνοντας στο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ό και στους μαθητές τη δυνατότητα αξιοποίησης των εξωτερικώ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εθισμάτων που θεωρούνται σημαντικό παιδαγωγικό εργαλείο στη διδακτική πράξη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 χωρίς ή με λίγα και μικρά παράθυρα προσδίδουν στην τάξη έναν εσωστρεφή χαρακτήρ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1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1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>user</cp:lastModifiedBy>
  <dcterms:modified xsi:type="dcterms:W3CDTF">2020-09-27T08:16:04Z</dcterms:modified>
  <cp:revision>156</cp:revision>
  <dc:subject/>
  <dc:title>Παρουσίαση του PowerPoint</dc:title>
</cp:coreProperties>
</file>