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690F-E056-41D5-8334-5E6513B5B1B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FE90-2254-4472-86AC-A48FDFE45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985680" y="741240"/>
            <a:ext cx="4886640" cy="3665520"/>
          </a:xfrm>
          <a:prstGeom prst="rect">
            <a:avLst/>
          </a:prstGeom>
          <a:ln w="0">
            <a:noFill/>
          </a:ln>
        </p:spPr>
      </p:sp>
      <p:sp>
        <p:nvSpPr>
          <p:cNvPr id="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07DF-422D-4840-888D-5E4A8500A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794F-FFC0-4688-9F88-42EA687FE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985680" y="741240"/>
            <a:ext cx="4886640" cy="3665520"/>
          </a:xfrm>
          <a:prstGeom prst="rect">
            <a:avLst/>
          </a:prstGeom>
          <a:ln w="0">
            <a:noFill/>
          </a:ln>
        </p:spPr>
      </p:sp>
      <p:sp>
        <p:nvSpPr>
          <p:cNvPr id="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70DC-BC58-45D9-8BCF-19984DA3A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985680" y="741240"/>
            <a:ext cx="4886640" cy="3665520"/>
          </a:xfrm>
          <a:prstGeom prst="rect">
            <a:avLst/>
          </a:prstGeom>
          <a:ln w="0">
            <a:noFill/>
          </a:ln>
        </p:spPr>
      </p:sp>
      <p:sp>
        <p:nvSpPr>
          <p:cNvPr id="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9D16-BBE4-4CD4-A5D2-0E13B8843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985680" y="741240"/>
            <a:ext cx="4886640" cy="3665520"/>
          </a:xfrm>
          <a:prstGeom prst="rect">
            <a:avLst/>
          </a:prstGeom>
          <a:ln w="0">
            <a:noFill/>
          </a:ln>
        </p:spPr>
      </p:sp>
      <p:sp>
        <p:nvSpPr>
          <p:cNvPr id="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6072-7436-45B4-8B91-CC9163CA1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4EFF-C92C-4372-9DB9-CAF8500D2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985680" y="741240"/>
            <a:ext cx="4886640" cy="3665520"/>
          </a:xfrm>
          <a:prstGeom prst="rect">
            <a:avLst/>
          </a:prstGeom>
          <a:ln w="0">
            <a:noFill/>
          </a:ln>
        </p:spPr>
      </p:sp>
      <p:sp>
        <p:nvSpPr>
          <p:cNvPr id="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FCF7-1509-4CBA-A15C-1CAF3E416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985680" y="741240"/>
            <a:ext cx="4886640" cy="3665520"/>
          </a:xfrm>
          <a:prstGeom prst="rect">
            <a:avLst/>
          </a:prstGeom>
          <a:ln w="0">
            <a:noFill/>
          </a:ln>
        </p:spPr>
      </p:sp>
      <p:sp>
        <p:nvSpPr>
          <p:cNvPr id="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D59E-5FB8-46FC-8BF7-B97740FB5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985680" y="741240"/>
            <a:ext cx="4886640" cy="3665520"/>
          </a:xfrm>
          <a:prstGeom prst="rect">
            <a:avLst/>
          </a:prstGeom>
          <a:ln w="0">
            <a:noFill/>
          </a:ln>
        </p:spPr>
      </p:sp>
      <p:sp>
        <p:nvSpPr>
          <p:cNvPr id="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DD88-CD85-4445-901B-DCC36B360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53D6-A48F-47ED-B03C-1F1DA6978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985680" y="741240"/>
            <a:ext cx="4886640" cy="3665520"/>
          </a:xfrm>
          <a:prstGeom prst="rect">
            <a:avLst/>
          </a:prstGeom>
          <a:ln w="0">
            <a:noFill/>
          </a:ln>
        </p:spPr>
      </p:sp>
      <p:sp>
        <p:nvSpPr>
          <p:cNvPr id="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EF0A-A590-4318-96D8-1A59EDA9F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985680" y="741240"/>
            <a:ext cx="4886640" cy="3665520"/>
          </a:xfrm>
          <a:prstGeom prst="rect">
            <a:avLst/>
          </a:prstGeom>
          <a:ln w="0">
            <a:noFill/>
          </a:ln>
        </p:spPr>
      </p:sp>
      <p:sp>
        <p:nvSpPr>
          <p:cNvPr id="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8B07-E40D-41BB-825A-3F4EFDCA7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985680" y="741240"/>
            <a:ext cx="4886640" cy="3665520"/>
          </a:xfrm>
          <a:prstGeom prst="rect">
            <a:avLst/>
          </a:prstGeom>
          <a:ln w="0">
            <a:noFill/>
          </a:ln>
        </p:spPr>
      </p:sp>
      <p:sp>
        <p:nvSpPr>
          <p:cNvPr id="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5D22-8FB3-4554-8192-C930AB67B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985680" y="741240"/>
            <a:ext cx="4886640" cy="3665520"/>
          </a:xfrm>
          <a:prstGeom prst="rect">
            <a:avLst/>
          </a:prstGeom>
          <a:ln w="0">
            <a:noFill/>
          </a:ln>
        </p:spPr>
      </p:sp>
      <p:sp>
        <p:nvSpPr>
          <p:cNvPr id="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331E-EAF4-4E16-A08F-F5BB9B51C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A1BC-FC72-48D4-98DC-8C6B32036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985680" y="741240"/>
            <a:ext cx="4886640" cy="3665520"/>
          </a:xfrm>
          <a:prstGeom prst="rect">
            <a:avLst/>
          </a:prstGeom>
          <a:ln w="0">
            <a:noFill/>
          </a:ln>
        </p:spPr>
      </p:sp>
      <p:sp>
        <p:nvSpPr>
          <p:cNvPr id="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6C34-8BD2-4A28-BE6F-EF1A1E81B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985680" y="741240"/>
            <a:ext cx="4886640" cy="3665520"/>
          </a:xfrm>
          <a:prstGeom prst="rect">
            <a:avLst/>
          </a:prstGeom>
          <a:ln w="0">
            <a:noFill/>
          </a:ln>
        </p:spPr>
      </p:sp>
      <p:sp>
        <p:nvSpPr>
          <p:cNvPr id="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EFEA-6E67-4848-8AA1-7ABFEF3B4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985680" y="741240"/>
            <a:ext cx="4886640" cy="3665520"/>
          </a:xfrm>
          <a:prstGeom prst="rect">
            <a:avLst/>
          </a:prstGeom>
          <a:ln w="0">
            <a:noFill/>
          </a:ln>
        </p:spPr>
      </p:sp>
      <p:sp>
        <p:nvSpPr>
          <p:cNvPr id="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F19F-6A65-4B38-AA9D-E681117DF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999E-B77C-476F-8850-7CCD84C5B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985680" y="741240"/>
            <a:ext cx="4886640" cy="3665520"/>
          </a:xfrm>
          <a:prstGeom prst="rect">
            <a:avLst/>
          </a:prstGeom>
          <a:ln w="0">
            <a:noFill/>
          </a:ln>
        </p:spPr>
      </p:sp>
      <p:sp>
        <p:nvSpPr>
          <p:cNvPr id="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DF1C-2E99-47A7-91B8-8F325B2D4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985680" y="741240"/>
            <a:ext cx="4886640" cy="3665520"/>
          </a:xfrm>
          <a:prstGeom prst="rect">
            <a:avLst/>
          </a:prstGeom>
          <a:ln w="0">
            <a:noFill/>
          </a:ln>
        </p:spPr>
      </p:sp>
      <p:sp>
        <p:nvSpPr>
          <p:cNvPr id="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8C0E-010B-4B3E-8C0A-E791BED88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985680" y="741240"/>
            <a:ext cx="4886640" cy="3665520"/>
          </a:xfrm>
          <a:prstGeom prst="rect">
            <a:avLst/>
          </a:prstGeom>
          <a:ln w="0">
            <a:noFill/>
          </a:ln>
        </p:spPr>
      </p:sp>
      <p:sp>
        <p:nvSpPr>
          <p:cNvPr id="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89DB-D2DE-4B9C-BB5A-C091DE1BE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985680" y="741240"/>
            <a:ext cx="4886640" cy="3665520"/>
          </a:xfrm>
          <a:prstGeom prst="rect">
            <a:avLst/>
          </a:prstGeom>
          <a:ln w="0">
            <a:noFill/>
          </a:ln>
        </p:spPr>
      </p:sp>
      <p:sp>
        <p:nvSpPr>
          <p:cNvPr id="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5910-66B3-48B4-9A39-FBB888A03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A189-2EBC-4D91-9AD4-790CA8BA1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985680" y="741240"/>
            <a:ext cx="4886640" cy="3665520"/>
          </a:xfrm>
          <a:prstGeom prst="rect">
            <a:avLst/>
          </a:prstGeom>
          <a:ln w="0">
            <a:noFill/>
          </a:ln>
        </p:spPr>
      </p:sp>
      <p:sp>
        <p:nvSpPr>
          <p:cNvPr id="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7C5F-14F1-461B-A1DF-BCB196494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985680" y="741240"/>
            <a:ext cx="4886640" cy="3665520"/>
          </a:xfrm>
          <a:prstGeom prst="rect">
            <a:avLst/>
          </a:prstGeom>
          <a:ln w="0">
            <a:noFill/>
          </a:ln>
        </p:spPr>
      </p:sp>
      <p:sp>
        <p:nvSpPr>
          <p:cNvPr id="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1152-DA81-4251-B6EB-575A6FF37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985680" y="741240"/>
            <a:ext cx="4886640" cy="3665520"/>
          </a:xfrm>
          <a:prstGeom prst="rect">
            <a:avLst/>
          </a:prstGeom>
          <a:ln w="0">
            <a:noFill/>
          </a:ln>
        </p:spPr>
      </p:sp>
      <p:sp>
        <p:nvSpPr>
          <p:cNvPr id="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2AAA-6DA4-4872-A8BF-4428AC7B2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9B19-F78A-4EB8-B97D-F7280325C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985680" y="741240"/>
            <a:ext cx="4886640" cy="3665520"/>
          </a:xfrm>
          <a:prstGeom prst="rect">
            <a:avLst/>
          </a:prstGeom>
          <a:ln w="0">
            <a:noFill/>
          </a:ln>
        </p:spPr>
      </p:sp>
      <p:sp>
        <p:nvSpPr>
          <p:cNvPr id="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34D4-EBE2-41E3-ADB4-AC416C25B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985680" y="741240"/>
            <a:ext cx="4886640" cy="3665520"/>
          </a:xfrm>
          <a:prstGeom prst="rect">
            <a:avLst/>
          </a:prstGeom>
          <a:ln w="0">
            <a:noFill/>
          </a:ln>
        </p:spPr>
      </p:sp>
      <p:sp>
        <p:nvSpPr>
          <p:cNvPr id="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EB9E-C22C-46A2-93F4-B6853C98F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985680" y="741240"/>
            <a:ext cx="4886640" cy="3665520"/>
          </a:xfrm>
          <a:prstGeom prst="rect">
            <a:avLst/>
          </a:prstGeom>
          <a:ln w="0">
            <a:noFill/>
          </a:ln>
        </p:spPr>
      </p:sp>
      <p:sp>
        <p:nvSpPr>
          <p:cNvPr id="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B0E4-0438-4201-B119-31360368F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985680" y="741240"/>
            <a:ext cx="4886640" cy="3665520"/>
          </a:xfrm>
          <a:prstGeom prst="rect">
            <a:avLst/>
          </a:prstGeom>
          <a:ln w="0">
            <a:noFill/>
          </a:ln>
        </p:spPr>
      </p:sp>
      <p:sp>
        <p:nvSpPr>
          <p:cNvPr id="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2402-B9D3-4042-80DA-36C562B3A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985680" y="741240"/>
            <a:ext cx="4886640" cy="3665520"/>
          </a:xfrm>
          <a:prstGeom prst="rect">
            <a:avLst/>
          </a:prstGeom>
          <a:ln w="0">
            <a:noFill/>
          </a:ln>
        </p:spPr>
      </p:sp>
      <p:sp>
        <p:nvSpPr>
          <p:cNvPr id="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A374-D2E7-4F0A-9516-16F8BF53E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985680" y="741240"/>
            <a:ext cx="4886640" cy="3665520"/>
          </a:xfrm>
          <a:prstGeom prst="rect">
            <a:avLst/>
          </a:prstGeom>
          <a:ln w="0">
            <a:noFill/>
          </a:ln>
        </p:spPr>
      </p:sp>
      <p:sp>
        <p:nvSpPr>
          <p:cNvPr id="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045E-F8DC-4525-9898-9858AED37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985680" y="741240"/>
            <a:ext cx="4886640" cy="3665520"/>
          </a:xfrm>
          <a:prstGeom prst="rect">
            <a:avLst/>
          </a:prstGeom>
          <a:ln w="0">
            <a:noFill/>
          </a:ln>
        </p:spPr>
      </p:sp>
      <p:sp>
        <p:nvSpPr>
          <p:cNvPr id="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0820A-96C8-488F-9426-AEF526D20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7883C-92C3-4D8E-B662-05EA17C6F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A1F6A6-3239-481D-8E18-CBFFD7D30D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FE530-C9F5-4B87-BC0D-9E859F5417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E49D6-86A8-4EFE-A9EB-4BE38BCB5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536749-A733-43E5-8A1D-85CADA0648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429599-D21E-4B7A-9D7F-7AEAA4226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C9326-9A32-4538-8529-EF155ADDDD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C6904-9E03-4180-B724-152437FC46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406FBB-238B-4D97-8306-E4293A6A20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477A7C-2BD3-49BF-AC80-2ED851F4A5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70680D-ACFA-454D-858E-4400FE022B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FBAA9-D3A9-465C-8298-820DFE73E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F05E8E-9B8A-48E2-A44E-A962220AFC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5E45A0-DC66-47EB-B518-FC4D6D55D5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B3F2B5-738E-4172-A1CE-F6399A09B1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459ED7-EE11-4A0D-8B88-B7DF1F8ADC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DA5C0B-2203-4BCA-A716-5044CC8715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DD1EF8-C134-4AFF-8F3E-4EF0BC2542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788F5D-4ED9-4F75-B0F8-1C73999E6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AE4419-9FF0-4893-9B43-8AB855286B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DFC1E7-0DD9-48D3-ACAF-802F11E4A8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50C7CC-C069-419B-BE0A-9CAFEFA080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458C5-9B37-40D6-BA13-907E38F1E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6A85A5-0320-49F0-8F24-C25C176747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E94EA1-DC0B-4C98-8FF0-6BF428D959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570C63-F783-4905-91E3-20F08A7784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E92FEF-E2C7-4903-B01A-BCC61B50BC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CB55D4-E06D-4E2E-93A1-5206AE9414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4CC2B1-55E7-44C3-B20F-0269132EC7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3E8DED-0A47-4E71-8102-7527C35AC0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FCDB32-7CF4-4DEC-9A2B-7BCFEBACC0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5462B6-8040-47F7-AE9E-AA8F6CAEC8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C0024B-3E9C-4A02-8FB9-A9E9FC2219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1F180-0BBD-44AD-859D-2270A8F9E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73291B-9671-4510-820C-609EEB0E38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37C4FF-EB0A-403A-80E3-45E17E0C52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D96853-4972-4230-AA21-52BBF4E6F3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3849C1-1CFD-4390-94D5-9D3DC848AA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25DE8A-CDBF-4695-8714-BE10941DF1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161C56-DC81-43DB-A3C1-47A12E3D2B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DB7168-612C-44A1-8D2B-61DFCC1FA6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3D38FA-B5D8-4C38-8D06-E7DEF72CE4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5D2EF9-DB78-4718-BFCE-FE0FC826C3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B678FA-1B39-4C6B-B6D3-E6E4D8F678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5B72A-7961-4B1B-B96F-8F9FC7FB1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69BC8C-0448-4CCA-8542-4F9C345DBB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3FCCA6-CB3F-4AEF-A444-022D928069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64770B-3191-411E-8C1B-A90426A135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5A3312-C777-48E8-B471-12713A6C59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6CF900-059B-4042-91E8-806090EA86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26E39ED-6ED8-4D8A-9777-CD24CD9635D5}"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1AA736E-C0B3-416F-8689-2A1303A16B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6F0BE57-EDF8-40E8-AE4B-B42102F8DF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C807B0B-D3E9-49FD-8F47-BCEB912AA8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D476763-708A-4C97-8068-16824469B0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0700C-BC97-4E06-948D-3BD2E8DC5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1E3DE48-0622-4DAD-980B-4FE8DE3029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2C16DD6-41C6-4EAA-B0EA-3A437DA4B1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D46D977-59B1-4881-A3BF-081FF8CCB0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1A7AD66-17D8-4076-8F9B-52157566A1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8B27F09-63E2-4EA7-B67F-C362185F87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FE86C4D9-F3DE-46A9-A983-308449311C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B877280-9599-4867-8E91-24F0006FB58C}"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299B1-74C3-4C34-A6F4-C42DB97B4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7B74E-9CA2-44F2-8237-3735EF0E3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B97D0-6983-4521-99DA-B76F3D4A6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84AF5-E922-4F34-8B6C-0492A7859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7A70A-A41E-426B-B942-50F959519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99C90-A606-4F09-A3FE-8335C7405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CF277-F318-4906-A803-B90F6BBA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E76C5-9002-459E-BE3E-214D7218A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6E3B3-96BC-40FA-9012-8C4C4D34D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A6137-6568-41E2-AA8F-1CD9830F9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9B664D-B004-48FD-A56C-D411EFD84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A9AA9-3989-4CAC-90E5-6F58BE933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0EF925-1678-4DFC-A1C3-91FE964BF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46E89-49CB-4EBE-AC2E-A314D46EA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31811-CCAF-4271-B9FB-E05DDF3AF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4F00B-9450-463A-8ECD-79BC831A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AD027-ACBF-49E8-AD00-A420094B2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40731-A5C6-43C8-8425-714751A3D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252B1-99CC-4D01-A262-27B985995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3A71D-C743-4D29-9C09-08B81D75F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3E696-5F8F-48DA-A002-2212056B62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7D9B8D-EEE3-47B4-B313-398F94007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A67424-5098-4B45-8842-A2DDBDBB4F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244C97-AD2A-4985-B20B-882A413D5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263B8-435C-4D18-8831-0B6E08D4B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94735-42FA-4E40-91B1-BBB7D8051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028E-1FF8-45E5-AEAA-9408B188E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A215F-E89A-4F97-81ED-0A1F04B25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F784C-D806-49A1-A50B-920911999C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87906-ED65-4FCD-A56A-59325E6F0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72C91-9DCC-48CC-981A-A2189ECE6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30A85-A762-4015-BAF3-C6C802615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2F962-FDB2-48EC-A24D-42FD0D3D2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D2763-3135-4EE1-BFEA-CF68CFC83C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02052D-B437-48FD-8D6B-797784D4C5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67741D-B497-49ED-80DA-448EDE4B8B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3101FA-FEE3-4728-935F-E2F629E14B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67E78-8A37-4F99-B45F-4E87A8055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90CA8-DB2D-41C8-B3EF-EF14DF0C3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81386-B52A-487C-B936-6DA8A45C2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A1EF6-96A9-439C-B9A8-32317D46F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F6934-42A8-46C4-AF6F-74B638A0A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E84B05-B95E-477C-AE71-1A62B83946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82876-FB94-4E40-8B9A-243D67BFB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CFD20-7EE4-4CBA-A28E-5143FA075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13AF5-87F4-48AD-9831-128BC457B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65FCB-1B44-4EA0-9E9A-204E8A862A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FC3C20-4819-4CA2-8F5C-760441DDFE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DFCC-5C12-4500-847F-3E533F7E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60E456-20A8-45FD-8067-EB817E74CD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5212AC-7819-4B57-B5BB-CF40894482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3A091F-3D48-4ADF-B45F-C3EB58A8C5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C2E22-30C1-4601-9BAD-BFE3CA8D8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F5535E-C8B8-4F76-943B-5CC0188FE6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6CCC9-D703-4E4B-9FFD-3E646BFC6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B97AE7-64D5-4E2E-B92A-0AC50E7D34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CBB97-F6DC-4493-B8E7-664D1FDD1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AA0E4-F712-4310-AF3C-BB4795D31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371B5-C936-499E-A831-CA470B403C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3E71F-7274-428D-A680-A5E63B429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D6F8B-DCB7-4F48-BB14-5C58FF90B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4E2AD0-E897-4526-984F-099261DD0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F677BE-CA3A-44CE-A232-D54E06B77E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C11BA6-2353-4C3F-92B6-DA13080CFF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51B63B-2862-4E5E-845F-3EB933A85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079A5F-BC7C-493C-9BEA-5BD7AEA9C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D8708-45E0-48D6-92AD-C3D117F22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42A359-5B09-4D43-A2AD-F7814888B1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29A399-CF06-453A-9801-357F1ECF9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E5CA1-7F66-404F-A0E2-947D1ABF9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A81E-402D-4938-9BE5-7883E41D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93D13-7B33-43E2-B9D4-84AE6708C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DF097-333D-4A10-A26D-3CBE6138A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9654D-1D9D-4AD8-8ED7-D295A7C7C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D782BE-1D2B-4121-B65B-E35949A7D6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873971-3754-4983-BA6F-8AC6EFAD52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B630D8-92E0-43FA-92C5-0B405E002F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1B4C14-7F43-4448-9793-D7633ADFA4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8FFA82-8C39-49D6-9CA4-AF444228CD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254253-1FAD-48FF-9DF2-3F8D05DA3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9EC5A-47E4-4583-992C-FDCA7E0713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DF644-1795-49CE-97B1-1BE33768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F72CB1-A747-4E81-9D8A-747FABDB0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C0467-49CA-44D3-BDE1-7D8934CBC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11674-53AB-4EE9-900E-0086D40C38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8FEEEA-3FE8-433C-8E3E-E09BE0BC88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8B9975-0580-44A3-A549-6CDA85BC87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BBBFBE-8081-4C7F-B8A8-9CBD4F8895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4DBF0E-7864-4834-8694-F69C4165BB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32B9FF-08C3-47EF-A723-0F737E879E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7DD7BF-58D9-4B80-B997-134A27AB3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BA5F81-13FF-454C-B45A-AB49280755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1171-F568-4DE5-B062-4C4FAE8E6A8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52FE-0ED2-4E98-B562-45E68CB7E14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77F4-2880-4AC1-A5B2-1F6E67375AF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3B3B-E1B4-41F1-99BB-6F5102FBBB5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1B52-6B90-43BC-AA23-7D80204FA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9818-E3D5-490B-A7F4-E18707DC967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9124-C07B-4663-8774-387540D0FD5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E012-513F-475D-B0F2-D91B8062635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3811-B0FD-4333-AF80-5A9E3D022A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2F84-532B-4C8A-81A1-75E1AB915A9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515D-C49B-49E1-B00E-A7CACCA687F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3A0B-FECE-4668-82B9-018E9CADF9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8939-8A5B-4237-A6EF-B4F33823D75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1463760"/>
            <a:ext cx="7596360" cy="28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
        <p:nvSpPr>
          <p:cNvPr id="556" name="10 - Ορθογώνιο"/>
          <p:cNvSpPr/>
          <p:nvPr/>
        </p:nvSpPr>
        <p:spPr>
          <a:xfrm>
            <a:off x="2286000" y="5000760"/>
            <a:ext cx="59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Arial"/>
                <a:ea typeface="Arial"/>
              </a:rPr>
              <a:t>ΕΙΣΗΓΗΤΗΣ: Παναγιώτης Ν. Μαντάς</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9280" y="1392120"/>
            <a:ext cx="860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23640" y="1052280"/>
            <a:ext cx="8135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58" name="Ομάδα 1"/>
          <p:cNvGrpSpPr/>
          <p:nvPr/>
        </p:nvGrpSpPr>
        <p:grpSpPr>
          <a:xfrm>
            <a:off x="0" y="115920"/>
            <a:ext cx="9144000" cy="6551640"/>
            <a:chOff x="0" y="115920"/>
            <a:chExt cx="9144000" cy="6551640"/>
          </a:xfrm>
        </p:grpSpPr>
        <p:grpSp>
          <p:nvGrpSpPr>
            <p:cNvPr id="559" name="Ομάδα 1"/>
            <p:cNvGrpSpPr/>
            <p:nvPr/>
          </p:nvGrpSpPr>
          <p:grpSpPr>
            <a:xfrm>
              <a:off x="0" y="115920"/>
              <a:ext cx="9144000" cy="6551640"/>
              <a:chOff x="0" y="115920"/>
              <a:chExt cx="9144000" cy="6551640"/>
            </a:xfrm>
          </p:grpSpPr>
          <p:sp>
            <p:nvSpPr>
              <p:cNvPr id="5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 ΤΩΝ ΜΑΘΗΤΩΝ ΜΕ ΕΕΑ/ΑΝΑΠΗΡΙΕΣ </a:t>
            </a:r>
            <a:br>
              <a:rPr sz="3200"/>
            </a:br>
            <a:br>
              <a:rPr sz="3200"/>
            </a:br>
            <a:br>
              <a:rPr sz="3200"/>
            </a:br>
            <a:r>
              <a:rPr b="1" lang="el-GR" sz="2000" spc="-1" strike="noStrike">
                <a:solidFill>
                  <a:srgbClr val="000099"/>
                </a:solidFill>
                <a:latin typeface="Arial"/>
                <a:ea typeface="Arial"/>
              </a:rPr>
              <a:t>ΕΙΣΗΓΗΤΗΣ: Παναγιώτης Ν. Μαντάς</a:t>
            </a:r>
            <a:br>
              <a:rPr sz="3200"/>
            </a:br>
            <a:endParaRPr b="0" lang="en-US" sz="20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64" name="Picture 9" descr=""/>
          <p:cNvPicPr/>
          <p:nvPr/>
        </p:nvPicPr>
        <p:blipFill>
          <a:blip r:embed="rId1"/>
          <a:stretch/>
        </p:blipFill>
        <p:spPr>
          <a:xfrm>
            <a:off x="0" y="0"/>
            <a:ext cx="9144000" cy="1368360"/>
          </a:xfrm>
          <a:prstGeom prst="rect">
            <a:avLst/>
          </a:prstGeom>
          <a:ln w="0">
            <a:noFill/>
          </a:ln>
        </p:spPr>
      </p:pic>
      <p:pic>
        <p:nvPicPr>
          <p:cNvPr id="865" name="Picture 10" descr=""/>
          <p:cNvPicPr/>
          <p:nvPr/>
        </p:nvPicPr>
        <p:blipFill>
          <a:blip r:embed="rId2"/>
          <a:stretch/>
        </p:blipFill>
        <p:spPr>
          <a:xfrm>
            <a:off x="1258920" y="2060640"/>
            <a:ext cx="1297080" cy="1528560"/>
          </a:xfrm>
          <a:prstGeom prst="rect">
            <a:avLst/>
          </a:prstGeom>
          <a:ln w="0">
            <a:noFill/>
          </a:ln>
        </p:spPr>
      </p:pic>
      <p:pic>
        <p:nvPicPr>
          <p:cNvPr id="866" name="12 - Εικόνα" descr=""/>
          <p:cNvPicPr/>
          <p:nvPr/>
        </p:nvPicPr>
        <p:blipFill>
          <a:blip r:embed="rId3"/>
          <a:stretch/>
        </p:blipFill>
        <p:spPr>
          <a:xfrm>
            <a:off x="6948360" y="1989000"/>
            <a:ext cx="1444680" cy="1573200"/>
          </a:xfrm>
          <a:prstGeom prst="rect">
            <a:avLst/>
          </a:prstGeom>
          <a:ln w="0">
            <a:noFill/>
          </a:ln>
        </p:spPr>
      </p:pic>
      <p:sp>
        <p:nvSpPr>
          <p:cNvPr id="867"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68"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7" name="Ομάδα 1"/>
          <p:cNvGrpSpPr/>
          <p:nvPr/>
        </p:nvGrpSpPr>
        <p:grpSpPr>
          <a:xfrm>
            <a:off x="0" y="115920"/>
            <a:ext cx="9144000" cy="6551640"/>
            <a:chOff x="0" y="115920"/>
            <a:chExt cx="9144000" cy="6551640"/>
          </a:xfrm>
        </p:grpSpPr>
        <p:grpSp>
          <p:nvGrpSpPr>
            <p:cNvPr id="568" name="Ομάδα 1"/>
            <p:cNvGrpSpPr/>
            <p:nvPr/>
          </p:nvGrpSpPr>
          <p:grpSpPr>
            <a:xfrm>
              <a:off x="0" y="115920"/>
              <a:ext cx="9144000" cy="6551640"/>
              <a:chOff x="0" y="115920"/>
              <a:chExt cx="9144000" cy="6551640"/>
            </a:xfrm>
          </p:grpSpPr>
          <p:sp>
            <p:nvSpPr>
              <p:cNvPr id="5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81000"/>
            <a:ext cx="83534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6" name="Ομάδα 1"/>
          <p:cNvGrpSpPr/>
          <p:nvPr/>
        </p:nvGrpSpPr>
        <p:grpSpPr>
          <a:xfrm>
            <a:off x="0" y="115920"/>
            <a:ext cx="9144000" cy="6551640"/>
            <a:chOff x="0" y="115920"/>
            <a:chExt cx="9144000" cy="6551640"/>
          </a:xfrm>
        </p:grpSpPr>
        <p:grpSp>
          <p:nvGrpSpPr>
            <p:cNvPr id="577" name="Ομάδα 1"/>
            <p:cNvGrpSpPr/>
            <p:nvPr/>
          </p:nvGrpSpPr>
          <p:grpSpPr>
            <a:xfrm>
              <a:off x="0" y="115920"/>
              <a:ext cx="9144000" cy="6551640"/>
              <a:chOff x="0" y="115920"/>
              <a:chExt cx="9144000" cy="6551640"/>
            </a:xfrm>
          </p:grpSpPr>
          <p:sp>
            <p:nvSpPr>
              <p:cNvPr id="5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4:58Z</dcterms:modified>
  <cp:revision>153</cp:revision>
  <dc:subject/>
  <dc:title>Παρουσίαση του PowerPoint</dc:title>
</cp:coreProperties>
</file>