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7FB2-4038-42EF-A66F-0B9FA5E35BF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1CED-C226-48AE-817D-ACBEB4521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985680" y="741240"/>
            <a:ext cx="4886640" cy="3665520"/>
          </a:xfrm>
          <a:prstGeom prst="rect">
            <a:avLst/>
          </a:prstGeom>
          <a:ln w="0">
            <a:noFill/>
          </a:ln>
        </p:spPr>
      </p:sp>
      <p:sp>
        <p:nvSpPr>
          <p:cNvPr id="10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32E5-AD63-4978-A799-0C6CD144C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PlaceHolder 1"/>
          <p:cNvSpPr>
            <a:spLocks noGrp="1"/>
          </p:cNvSpPr>
          <p:nvPr>
            <p:ph type="sldImg"/>
          </p:nvPr>
        </p:nvSpPr>
        <p:spPr>
          <a:xfrm>
            <a:off x="985680" y="741240"/>
            <a:ext cx="4886640" cy="3665520"/>
          </a:xfrm>
          <a:prstGeom prst="rect">
            <a:avLst/>
          </a:prstGeom>
          <a:ln w="0">
            <a:noFill/>
          </a:ln>
        </p:spPr>
      </p:sp>
      <p:sp>
        <p:nvSpPr>
          <p:cNvPr id="10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DC58-20D8-45DF-860E-573DBBDBB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985680" y="741240"/>
            <a:ext cx="4886640" cy="3665520"/>
          </a:xfrm>
          <a:prstGeom prst="rect">
            <a:avLst/>
          </a:prstGeom>
          <a:ln w="0">
            <a:noFill/>
          </a:ln>
        </p:spPr>
      </p:sp>
      <p:sp>
        <p:nvSpPr>
          <p:cNvPr id="1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3244-DDA0-45BA-B284-AF50C88C8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8" name="PlaceHolder 1"/>
          <p:cNvSpPr>
            <a:spLocks noGrp="1"/>
          </p:cNvSpPr>
          <p:nvPr>
            <p:ph type="sldImg"/>
          </p:nvPr>
        </p:nvSpPr>
        <p:spPr>
          <a:xfrm>
            <a:off x="985680" y="741240"/>
            <a:ext cx="4886640" cy="3665520"/>
          </a:xfrm>
          <a:prstGeom prst="rect">
            <a:avLst/>
          </a:prstGeom>
          <a:ln w="0">
            <a:noFill/>
          </a:ln>
        </p:spPr>
      </p:sp>
      <p:sp>
        <p:nvSpPr>
          <p:cNvPr id="10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CDF6-3FB3-47F7-8C8D-43E108D35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sldImg"/>
          </p:nvPr>
        </p:nvSpPr>
        <p:spPr>
          <a:xfrm>
            <a:off x="985680" y="741240"/>
            <a:ext cx="4886640" cy="3665520"/>
          </a:xfrm>
          <a:prstGeom prst="rect">
            <a:avLst/>
          </a:prstGeom>
          <a:ln w="0">
            <a:noFill/>
          </a:ln>
        </p:spPr>
      </p:sp>
      <p:sp>
        <p:nvSpPr>
          <p:cNvPr id="10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386B-8295-441C-BB5B-D8DDA6618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985680" y="741240"/>
            <a:ext cx="4886640" cy="3665520"/>
          </a:xfrm>
          <a:prstGeom prst="rect">
            <a:avLst/>
          </a:prstGeom>
          <a:ln w="0">
            <a:noFill/>
          </a:ln>
        </p:spPr>
      </p:sp>
      <p:sp>
        <p:nvSpPr>
          <p:cNvPr id="10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976A-49EA-4336-A010-AE3FD249E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985680" y="741240"/>
            <a:ext cx="4886640" cy="3665520"/>
          </a:xfrm>
          <a:prstGeom prst="rect">
            <a:avLst/>
          </a:prstGeom>
          <a:ln w="0">
            <a:noFill/>
          </a:ln>
        </p:spPr>
      </p:sp>
      <p:sp>
        <p:nvSpPr>
          <p:cNvPr id="1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5004-B2BD-42DF-8A8D-8034B29D3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985680" y="741240"/>
            <a:ext cx="4886640" cy="3665520"/>
          </a:xfrm>
          <a:prstGeom prst="rect">
            <a:avLst/>
          </a:prstGeom>
          <a:ln w="0">
            <a:noFill/>
          </a:ln>
        </p:spPr>
      </p:sp>
      <p:sp>
        <p:nvSpPr>
          <p:cNvPr id="10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CAF5-E8B8-4632-8583-34970C8A1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985680" y="741240"/>
            <a:ext cx="4886640" cy="3665520"/>
          </a:xfrm>
          <a:prstGeom prst="rect">
            <a:avLst/>
          </a:prstGeom>
          <a:ln w="0">
            <a:noFill/>
          </a:ln>
        </p:spPr>
      </p:sp>
      <p:sp>
        <p:nvSpPr>
          <p:cNvPr id="10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BCAC-6712-47BF-AFD3-2BE281AC9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985680" y="741240"/>
            <a:ext cx="4886640" cy="3665520"/>
          </a:xfrm>
          <a:prstGeom prst="rect">
            <a:avLst/>
          </a:prstGeom>
          <a:ln w="0">
            <a:noFill/>
          </a:ln>
        </p:spPr>
      </p:sp>
      <p:sp>
        <p:nvSpPr>
          <p:cNvPr id="10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E0F0-D5EB-410C-93C8-720557B3F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D670-07F1-47C1-8C57-BC88CD3A8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985680" y="741240"/>
            <a:ext cx="4886640" cy="3665520"/>
          </a:xfrm>
          <a:prstGeom prst="rect">
            <a:avLst/>
          </a:prstGeom>
          <a:ln w="0">
            <a:noFill/>
          </a:ln>
        </p:spPr>
      </p:sp>
      <p:sp>
        <p:nvSpPr>
          <p:cNvPr id="10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FB74-126E-458B-9F95-E4B4C0562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985680" y="741240"/>
            <a:ext cx="4886640" cy="3665520"/>
          </a:xfrm>
          <a:prstGeom prst="rect">
            <a:avLst/>
          </a:prstGeom>
          <a:ln w="0">
            <a:noFill/>
          </a:ln>
        </p:spPr>
      </p:sp>
      <p:sp>
        <p:nvSpPr>
          <p:cNvPr id="10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0F1B-09AA-495F-ACDB-ACDAA4558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985680" y="741240"/>
            <a:ext cx="4886640" cy="3665520"/>
          </a:xfrm>
          <a:prstGeom prst="rect">
            <a:avLst/>
          </a:prstGeom>
          <a:ln w="0">
            <a:noFill/>
          </a:ln>
        </p:spPr>
      </p:sp>
      <p:sp>
        <p:nvSpPr>
          <p:cNvPr id="10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13F1-D2A7-4D51-9028-70325DF8D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985680" y="741240"/>
            <a:ext cx="4886640" cy="3665520"/>
          </a:xfrm>
          <a:prstGeom prst="rect">
            <a:avLst/>
          </a:prstGeom>
          <a:ln w="0">
            <a:noFill/>
          </a:ln>
        </p:spPr>
      </p:sp>
      <p:sp>
        <p:nvSpPr>
          <p:cNvPr id="10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3261-469A-4D3F-95AE-0D6051C1B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985680" y="741240"/>
            <a:ext cx="4886640" cy="3665520"/>
          </a:xfrm>
          <a:prstGeom prst="rect">
            <a:avLst/>
          </a:prstGeom>
          <a:ln w="0">
            <a:noFill/>
          </a:ln>
        </p:spPr>
      </p:sp>
      <p:sp>
        <p:nvSpPr>
          <p:cNvPr id="10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C266-22BE-4ABB-8CDA-6EB9D345A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985680" y="741240"/>
            <a:ext cx="4886640" cy="3665520"/>
          </a:xfrm>
          <a:prstGeom prst="rect">
            <a:avLst/>
          </a:prstGeom>
          <a:ln w="0">
            <a:noFill/>
          </a:ln>
        </p:spPr>
      </p:sp>
      <p:sp>
        <p:nvSpPr>
          <p:cNvPr id="10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D464-07FC-49A8-A28B-4586A85AF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985680" y="741240"/>
            <a:ext cx="4886640" cy="3665520"/>
          </a:xfrm>
          <a:prstGeom prst="rect">
            <a:avLst/>
          </a:prstGeom>
          <a:ln w="0">
            <a:noFill/>
          </a:ln>
        </p:spPr>
      </p:sp>
      <p:sp>
        <p:nvSpPr>
          <p:cNvPr id="10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BD7A-BBE0-4701-AC5A-AACF34D52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985680" y="741240"/>
            <a:ext cx="4886640" cy="3665520"/>
          </a:xfrm>
          <a:prstGeom prst="rect">
            <a:avLst/>
          </a:prstGeom>
          <a:ln w="0">
            <a:noFill/>
          </a:ln>
        </p:spPr>
      </p:sp>
      <p:sp>
        <p:nvSpPr>
          <p:cNvPr id="10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A3E8-F77B-48D4-9046-B8D47C0EA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985680" y="741240"/>
            <a:ext cx="4886640" cy="3665520"/>
          </a:xfrm>
          <a:prstGeom prst="rect">
            <a:avLst/>
          </a:prstGeom>
          <a:ln w="0">
            <a:noFill/>
          </a:ln>
        </p:spPr>
      </p:sp>
      <p:sp>
        <p:nvSpPr>
          <p:cNvPr id="10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75E0-9941-4EBF-8A8A-A4579BA8D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PlaceHolder 1"/>
          <p:cNvSpPr>
            <a:spLocks noGrp="1"/>
          </p:cNvSpPr>
          <p:nvPr>
            <p:ph type="sldImg"/>
          </p:nvPr>
        </p:nvSpPr>
        <p:spPr>
          <a:xfrm>
            <a:off x="985680" y="741240"/>
            <a:ext cx="4886640" cy="3665520"/>
          </a:xfrm>
          <a:prstGeom prst="rect">
            <a:avLst/>
          </a:prstGeom>
          <a:ln w="0">
            <a:noFill/>
          </a:ln>
        </p:spPr>
      </p:sp>
      <p:sp>
        <p:nvSpPr>
          <p:cNvPr id="10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44A5-9810-4E15-B8CB-2D04F2435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CF29-D721-4430-8B92-9B5ACFF02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985680" y="741240"/>
            <a:ext cx="4886640" cy="3665520"/>
          </a:xfrm>
          <a:prstGeom prst="rect">
            <a:avLst/>
          </a:prstGeom>
          <a:ln w="0">
            <a:noFill/>
          </a:ln>
        </p:spPr>
      </p:sp>
      <p:sp>
        <p:nvSpPr>
          <p:cNvPr id="10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D6C7-B2D3-4937-A054-DD2882CC2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985680" y="741240"/>
            <a:ext cx="4886640" cy="3665520"/>
          </a:xfrm>
          <a:prstGeom prst="rect">
            <a:avLst/>
          </a:prstGeom>
          <a:ln w="0">
            <a:noFill/>
          </a:ln>
        </p:spPr>
      </p:sp>
      <p:sp>
        <p:nvSpPr>
          <p:cNvPr id="1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CB90-896A-48DA-AEC7-FDBBBC2B5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985680" y="741240"/>
            <a:ext cx="4886640" cy="3665520"/>
          </a:xfrm>
          <a:prstGeom prst="rect">
            <a:avLst/>
          </a:prstGeom>
          <a:ln w="0">
            <a:noFill/>
          </a:ln>
        </p:spPr>
      </p:sp>
      <p:sp>
        <p:nvSpPr>
          <p:cNvPr id="10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1CC3-D520-493F-B29A-C57590A15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985680" y="741240"/>
            <a:ext cx="4886640" cy="3665520"/>
          </a:xfrm>
          <a:prstGeom prst="rect">
            <a:avLst/>
          </a:prstGeom>
          <a:ln w="0">
            <a:noFill/>
          </a:ln>
        </p:spPr>
      </p:sp>
      <p:sp>
        <p:nvSpPr>
          <p:cNvPr id="10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9DFF-19A6-4D5F-A22F-06DA1306D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985680" y="741240"/>
            <a:ext cx="4886640" cy="3665520"/>
          </a:xfrm>
          <a:prstGeom prst="rect">
            <a:avLst/>
          </a:prstGeom>
          <a:ln w="0">
            <a:noFill/>
          </a:ln>
        </p:spPr>
      </p:sp>
      <p:sp>
        <p:nvSpPr>
          <p:cNvPr id="10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8DAE-89FD-40D6-8B94-B7961E2A7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985680" y="741240"/>
            <a:ext cx="4886640" cy="3665520"/>
          </a:xfrm>
          <a:prstGeom prst="rect">
            <a:avLst/>
          </a:prstGeom>
          <a:ln w="0">
            <a:noFill/>
          </a:ln>
        </p:spPr>
      </p:sp>
      <p:sp>
        <p:nvSpPr>
          <p:cNvPr id="1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6D97-96AC-45D2-9E3C-AED82D844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985680" y="741240"/>
            <a:ext cx="4886640" cy="3665520"/>
          </a:xfrm>
          <a:prstGeom prst="rect">
            <a:avLst/>
          </a:prstGeom>
          <a:ln w="0">
            <a:noFill/>
          </a:ln>
        </p:spPr>
      </p:sp>
      <p:sp>
        <p:nvSpPr>
          <p:cNvPr id="10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77D8-019A-40B5-9EA7-599540145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985680" y="741240"/>
            <a:ext cx="4886640" cy="3665520"/>
          </a:xfrm>
          <a:prstGeom prst="rect">
            <a:avLst/>
          </a:prstGeom>
          <a:ln w="0">
            <a:noFill/>
          </a:ln>
        </p:spPr>
      </p:sp>
      <p:sp>
        <p:nvSpPr>
          <p:cNvPr id="11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2FB0-D406-49B6-BF85-975963100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985680" y="741240"/>
            <a:ext cx="4886640" cy="3665520"/>
          </a:xfrm>
          <a:prstGeom prst="rect">
            <a:avLst/>
          </a:prstGeom>
          <a:ln w="0">
            <a:noFill/>
          </a:ln>
        </p:spPr>
      </p:sp>
      <p:sp>
        <p:nvSpPr>
          <p:cNvPr id="11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8E97-7D12-4727-83CF-7C27B355A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985680" y="741240"/>
            <a:ext cx="4886640" cy="3665520"/>
          </a:xfrm>
          <a:prstGeom prst="rect">
            <a:avLst/>
          </a:prstGeom>
          <a:ln w="0">
            <a:noFill/>
          </a:ln>
        </p:spPr>
      </p:sp>
      <p:sp>
        <p:nvSpPr>
          <p:cNvPr id="1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3A25-D640-48A4-AA13-46B5B2DA9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3194-932D-400C-A5CA-FAF93CA67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985680" y="741240"/>
            <a:ext cx="4886640" cy="3665520"/>
          </a:xfrm>
          <a:prstGeom prst="rect">
            <a:avLst/>
          </a:prstGeom>
          <a:ln w="0">
            <a:noFill/>
          </a:ln>
        </p:spPr>
      </p:sp>
      <p:sp>
        <p:nvSpPr>
          <p:cNvPr id="11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F227-495A-4A39-9B0B-4D3A2454A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985680" y="741240"/>
            <a:ext cx="4886640" cy="3665520"/>
          </a:xfrm>
          <a:prstGeom prst="rect">
            <a:avLst/>
          </a:prstGeom>
          <a:ln w="0">
            <a:noFill/>
          </a:ln>
        </p:spPr>
      </p:sp>
      <p:sp>
        <p:nvSpPr>
          <p:cNvPr id="11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9C59-1867-40CF-AED1-C1738E40F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985680" y="741240"/>
            <a:ext cx="4886640" cy="3665520"/>
          </a:xfrm>
          <a:prstGeom prst="rect">
            <a:avLst/>
          </a:prstGeom>
          <a:ln w="0">
            <a:noFill/>
          </a:ln>
        </p:spPr>
      </p:sp>
      <p:sp>
        <p:nvSpPr>
          <p:cNvPr id="11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78E6-AB6C-4D3C-A470-4DFC4E166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985680" y="741240"/>
            <a:ext cx="4886640" cy="3665520"/>
          </a:xfrm>
          <a:prstGeom prst="rect">
            <a:avLst/>
          </a:prstGeom>
          <a:ln w="0">
            <a:noFill/>
          </a:ln>
        </p:spPr>
      </p:sp>
      <p:sp>
        <p:nvSpPr>
          <p:cNvPr id="1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2A1C-0803-4AE6-8D10-9DCCC78C4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985680" y="741240"/>
            <a:ext cx="4886640" cy="3665520"/>
          </a:xfrm>
          <a:prstGeom prst="rect">
            <a:avLst/>
          </a:prstGeom>
          <a:ln w="0">
            <a:noFill/>
          </a:ln>
        </p:spPr>
      </p:sp>
      <p:sp>
        <p:nvSpPr>
          <p:cNvPr id="11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68E0-6851-4D34-ACAC-81A1B240E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985680" y="741240"/>
            <a:ext cx="4886640" cy="3665520"/>
          </a:xfrm>
          <a:prstGeom prst="rect">
            <a:avLst/>
          </a:prstGeom>
          <a:ln w="0">
            <a:noFill/>
          </a:ln>
        </p:spPr>
      </p:sp>
      <p:sp>
        <p:nvSpPr>
          <p:cNvPr id="11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264E-FA97-41B1-B5BD-167B5E5BA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985680" y="741240"/>
            <a:ext cx="4886640" cy="3665520"/>
          </a:xfrm>
          <a:prstGeom prst="rect">
            <a:avLst/>
          </a:prstGeom>
          <a:ln w="0">
            <a:noFill/>
          </a:ln>
        </p:spPr>
      </p:sp>
      <p:sp>
        <p:nvSpPr>
          <p:cNvPr id="11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7705-EEBE-422A-ADB9-0FD5B9AA7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PlaceHolder 1"/>
          <p:cNvSpPr>
            <a:spLocks noGrp="1"/>
          </p:cNvSpPr>
          <p:nvPr>
            <p:ph type="sldImg"/>
          </p:nvPr>
        </p:nvSpPr>
        <p:spPr>
          <a:xfrm>
            <a:off x="985680" y="741240"/>
            <a:ext cx="4886640" cy="3665520"/>
          </a:xfrm>
          <a:prstGeom prst="rect">
            <a:avLst/>
          </a:prstGeom>
          <a:ln w="0">
            <a:noFill/>
          </a:ln>
        </p:spPr>
      </p:sp>
      <p:sp>
        <p:nvSpPr>
          <p:cNvPr id="1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7034-8B00-4A04-B040-F344F2C5D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985680" y="741240"/>
            <a:ext cx="4886640" cy="3665520"/>
          </a:xfrm>
          <a:prstGeom prst="rect">
            <a:avLst/>
          </a:prstGeom>
          <a:ln w="0">
            <a:noFill/>
          </a:ln>
        </p:spPr>
      </p:sp>
      <p:sp>
        <p:nvSpPr>
          <p:cNvPr id="11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A84D-5A30-41F1-AEB4-3D9DABACF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985680" y="741240"/>
            <a:ext cx="4886640" cy="3665520"/>
          </a:xfrm>
          <a:prstGeom prst="rect">
            <a:avLst/>
          </a:prstGeom>
          <a:ln w="0">
            <a:noFill/>
          </a:ln>
        </p:spPr>
      </p:sp>
      <p:sp>
        <p:nvSpPr>
          <p:cNvPr id="11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5330-0DB9-4444-A0B1-ED731AD5C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8FAE-9258-48BE-AF3C-6D956B057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B411-133A-4C12-9026-643BB0C70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324B-5E21-44AB-A5CB-52802D7E0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985680" y="741240"/>
            <a:ext cx="4886640" cy="3665520"/>
          </a:xfrm>
          <a:prstGeom prst="rect">
            <a:avLst/>
          </a:prstGeom>
          <a:ln w="0">
            <a:noFill/>
          </a:ln>
        </p:spPr>
      </p:sp>
      <p:sp>
        <p:nvSpPr>
          <p:cNvPr id="10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37E4-16DF-44E2-85E4-3554B8FEE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985680" y="741240"/>
            <a:ext cx="4886640" cy="3665520"/>
          </a:xfrm>
          <a:prstGeom prst="rect">
            <a:avLst/>
          </a:prstGeom>
          <a:ln w="0">
            <a:noFill/>
          </a:ln>
        </p:spPr>
      </p:sp>
      <p:sp>
        <p:nvSpPr>
          <p:cNvPr id="1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1AA4-04DD-404B-A42B-D239A72BB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985680" y="741240"/>
            <a:ext cx="4886640" cy="3665520"/>
          </a:xfrm>
          <a:prstGeom prst="rect">
            <a:avLst/>
          </a:prstGeom>
          <a:ln w="0">
            <a:noFill/>
          </a:ln>
        </p:spPr>
      </p:sp>
      <p:sp>
        <p:nvSpPr>
          <p:cNvPr id="10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75925-097B-4AD9-B692-A176CBED9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89A28-6D14-4BAC-8796-04954956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2F09FF-6FCE-4E6C-A604-1350D91E28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3B1CA0-902E-4CC6-99D8-A699C734B7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1396B9-FBEB-4288-A5E9-C707D306C7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D860F-C058-448E-95E1-1619186734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88939-37FA-4625-9CAA-6825EF87A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E17D6-427A-4A0D-905C-121138BE93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4CD159-41CD-4E29-823A-4F6748236A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2C4D8A-A973-4B6C-BACB-C1763774C6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E62704-F6A8-4CEC-B812-E7BA1BB800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1BAA84-06B3-4754-976F-46401591DB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10759-71EE-4379-A8BB-27CB85C7F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47843E-5569-4114-8EC1-EB1EE3AA1C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4516C2-0807-42D3-9E5F-8DF9A69FE3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D65889-DD00-4A80-9210-C4764F9433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9CD622-EA17-47BF-98BF-B21D02A510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899B37-9DB1-4BE3-B3F9-0F9A3D1CED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F774EB-A616-438D-9DB4-2060EEA7D6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1A11F0-9421-44E4-BE31-9E5ED2175B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5E36D3-929D-42BF-B08C-27F0B56229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F7846C-E558-4E39-8375-C7E7F80346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7B84BB-F95F-4821-B883-E6CE424C13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2B222-2662-49FD-81E0-1033DF0F3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8FE820-0C57-41A0-9540-A462E37A79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FDC54B-DCD4-4913-8C71-4E5C61A134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CD8381-2D42-4C0A-AA67-1CC672521C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A005F8-68FB-498E-83FE-67664F25FC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91B27B-4CBD-4CFF-9BCB-9C834D66AD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55EBAF-2DB2-4D22-AF16-4CFAD5C668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2A3937-7417-4839-8472-9650899193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7513E2-1CF3-42AF-BD46-C194714925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A0D6FD-E3B0-480A-8E75-59C69CE8C3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C778CC-33AA-4528-9E39-F7D49CDC87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86437-88C1-47F4-865D-79938ABAF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E09539-BF6F-419D-9A41-EFA660EFD9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8A98ED-501B-4488-B5C0-1CFA742A4A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734969-B891-40C2-8721-047FE1FC70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EA694E-1975-4E7E-86F3-D99DE93063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6CD919-A29A-4933-A943-6B714A8A27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851616-FDD6-479A-A469-38F1063CC6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ADFD37-19CB-41CC-BACE-16402242FD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17C7D7-5234-4108-834E-611345206B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DECE42-05C7-4E5A-95FA-BF110D89B4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6EEA28-F539-4FF9-B25F-EEB73B5A6D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6CB27-4B83-4D0E-A242-D5196210B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3CED4C-8D30-4A3F-B4F1-EAFF47D31F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9F3986-0DF3-407F-993E-D985DD8719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BC312F-B0E1-40DC-97E8-6967A10288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CD3CE42-A0A1-4CCD-B7DA-62EFA6E70C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24002C-2C94-45B5-B7E8-A3401BBA50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F725161-2492-4131-9236-E076BBCEF913}"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401C29B-20DB-4366-8EE4-3DE056BDA6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CA0047A-9646-47AD-BA24-ADD0A23F73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B875936-9F87-4B90-B6E4-AF14445C02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EAFBB16F-C5E7-40D5-A94A-9C13179E58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176C6-10AE-427C-9465-ACA8951AA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9F58439-904C-4581-946C-DD18C7AA1F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82744BE-69A8-4651-AEE8-AE2C72B22A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4C4F17E-A577-42F6-B2D0-5678A32CF3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C201716-610A-4A50-BF4F-3F6CF6291D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4A563D7-A63B-4012-A5D3-8692596004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69ABF5FF-44B8-4DC5-860F-1161F94644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9D0650E-E1F5-4224-A642-3C4064A8F647}"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41985-67A2-4C10-8401-9C4922279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0DD0A-0F85-48CE-BD15-51BDDB14A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8B33D-C329-4471-A83C-1AE75ADBB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50C93-F66A-4085-A8EA-4759A7838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62DE-B20D-4A98-B9A8-0AE73D21F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42962-EBCE-45AD-B5F3-1D5885C88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C5014-DCEE-4FBB-973D-70FD7F2EC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5934B-F170-4EC1-8AC7-BFE80D8BD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03C59-E2A0-438F-A494-E9BC64960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E5A5A-FA27-4CB2-8036-ACE468F81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88683-A829-425C-AB06-D72B5B5086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6AB73-C968-4E80-BC60-CAC09A159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40DC2-2E64-4A5E-A477-F45BD94183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2A6FE-D8C1-415E-9315-398C456E5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CE2EEB-AE5A-429B-86C2-C1399622B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C57BE-22E0-4CF9-8713-A4FEFDE76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7FAB7-D157-4ACF-915C-B10F3AD8F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06E25-D2FB-4206-A30E-403DB7535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329BD-7736-46A5-B177-B990C3221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2773EC-9FBD-41C4-825A-C086AF832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D7F7E-B85F-4AD7-9378-F25240960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2EB2D7-514B-43ED-BEA2-8F316373C1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B37A8-D90A-4130-B893-62E3217771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A96295-32FF-4DFE-A72E-56655DB201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71955-5557-4570-82C7-7990170EE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DB69A-8D81-4BC0-8207-9283FDAF4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26D8C-9C3E-4ED6-896C-CB84A9758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EC834-AE8B-428D-84AE-1639E7BAE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2884D-F86B-4A89-9224-CB64B9A60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6AF6A-EF05-44FF-A3A2-65399A70B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5CADF-0667-4C99-B877-E07897644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ED410-9232-4C85-837C-0D37530AA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794F2-4648-4B49-B388-D2F66775D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D8D2AD-C993-4020-95D3-354DB5B5B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9E55B-3506-4978-BE36-7D3F67688A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353D11-ADDB-493E-9DC2-EDB38B5D8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FFEA3B-F42D-47D0-B16A-E4D6F4769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81995-B889-4778-8746-BFB968A7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AF08BD-3EA1-496B-8C22-EC5240DD2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E77C7-6151-43BE-9022-1F4B23BA4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280E41-FF7B-49E2-9E28-0A03C77ED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01874-8708-4BBD-950D-0ED8F6583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9830F-5437-4FBB-ACAA-95D34981E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128CB-67AE-466D-9154-3FD4CB480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20852-15FD-49DB-B298-B2CA31825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001DF-F7AC-4BCB-80A8-0CB1BC86A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A403E-9E83-41B3-B21A-06BE30D80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6A1B64-03BB-49D2-8863-E33C416836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669C2-A762-4FBF-9189-012C5A3D3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720E3A-D355-4F3D-B286-B19C0EE7F9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EEFC70-8D1B-42EB-A445-D372C4B607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A09D6B-007A-4A5D-864D-92E135235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9691D-A583-4401-BBB8-E6614EB01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D22F3C-5659-4B52-BE43-52321971D6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A17ED-DF19-44D8-819C-E0C125A3B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FD7BF6-E7ED-4017-A473-6D14BEB9E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AB463-008E-41EC-9C55-CA34E2FDD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47B05F-2A0F-440F-8673-2153B94EF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1F5F5-6399-4F28-986B-F09F91540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08D3B-A23B-4BD9-A057-FF9F93B2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92121-E0B9-4E13-96FD-EC4458204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7AF3C4-489C-460B-AEB6-168284C3A8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DF1D67-BAB6-4698-83C2-42F2D8A42F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2A8EA7-2DEE-4FCA-87A0-B08FEA0CE4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BC380C-A267-456A-AAD1-B9AB22C08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8DD3A-6E34-4B99-9BC6-4C56F834E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04BA6D-38F9-4E48-A014-42391ED9F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09F74E-05B2-4A17-A2A3-36E3933A43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6B2E8-7AC1-4123-AA28-AD969E81BA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1238F-9FEF-439F-9ED7-02C703A29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57AC0-0010-4DA0-82B5-766D2412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A9DBC-E7B2-481D-8597-73BBAFEBD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A7C4B-8090-4DA2-A072-0178FAA0FD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1DB951-E6C8-44A4-A99A-2610D7554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40AB06-7984-491E-BA05-85ED6A927C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AF06A1-4B02-4542-B09A-336F3AADFB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DC456-8369-4539-ADC1-0D5161D661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C452A-A4C0-40B9-B9C8-C755FFE50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DACD9E-7A17-4A39-9523-F1DE6AB33A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6F1B1-AE0C-4D32-9AB8-E680F241D4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3ED48F-16AC-4354-BF5A-A6F011FE2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2DB4D-7DD6-424F-A42B-C4346F5C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49B4C-0839-4D91-B116-0BEEBBBBF6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7DFD5-31E4-4297-9F1C-D8DD77DA0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D5886-9186-462E-831E-8B232A380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926F4-301E-44BE-82EA-2DA57127F4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815C5-B913-4849-AF1D-E01B34CC4D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D870EE-18BC-4CE2-8867-A422F21CB8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1E2E27-B0B9-4FDF-8157-2FF1CBCB2D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73D5BE-780E-4347-86FE-057E0C3C48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DB6726-A861-4E58-8BDF-C4388F3715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430693-9EFF-4AA6-AADC-A07A5CDF9F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4B73-76F7-4CF0-B8BB-A748A67876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704C-035B-4F37-9FFC-7D3B304DA4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F34F-11C6-48B3-8CDC-160756057BA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6840-61C8-43EC-8519-4F93BBF6B71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CDA5-3178-4CC9-90FB-8C687A8ED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43F7-4D64-4806-A815-DDCE330EFE9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F6BC-308C-4F93-909A-995B37ACE2B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8053-7E24-4568-8FCA-84E7D0EAF1D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11E9-8039-4448-BB97-4592565588F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866F-BF2E-4A10-9BCB-EE2802C8028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23D6-9737-45AD-9A06-B99845F9A4D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7691-761C-4C83-93ED-2C89B660CA9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4BB3-2BD6-495E-9875-125DA6707AA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3640" y="981000"/>
            <a:ext cx="81356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268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989" name="Picture 9" descr=""/>
          <p:cNvPicPr/>
          <p:nvPr/>
        </p:nvPicPr>
        <p:blipFill>
          <a:blip r:embed="rId1"/>
          <a:stretch/>
        </p:blipFill>
        <p:spPr>
          <a:xfrm>
            <a:off x="0" y="0"/>
            <a:ext cx="9144000" cy="1368360"/>
          </a:xfrm>
          <a:prstGeom prst="rect">
            <a:avLst/>
          </a:prstGeom>
          <a:ln w="0">
            <a:noFill/>
          </a:ln>
        </p:spPr>
      </p:pic>
      <p:pic>
        <p:nvPicPr>
          <p:cNvPr id="990" name="Picture 10" descr=""/>
          <p:cNvPicPr/>
          <p:nvPr/>
        </p:nvPicPr>
        <p:blipFill>
          <a:blip r:embed="rId2"/>
          <a:stretch/>
        </p:blipFill>
        <p:spPr>
          <a:xfrm>
            <a:off x="1258920" y="2060640"/>
            <a:ext cx="1297080" cy="1528560"/>
          </a:xfrm>
          <a:prstGeom prst="rect">
            <a:avLst/>
          </a:prstGeom>
          <a:ln w="0">
            <a:noFill/>
          </a:ln>
        </p:spPr>
      </p:pic>
      <p:pic>
        <p:nvPicPr>
          <p:cNvPr id="991" name="12 - Εικόνα" descr=""/>
          <p:cNvPicPr/>
          <p:nvPr/>
        </p:nvPicPr>
        <p:blipFill>
          <a:blip r:embed="rId3"/>
          <a:stretch/>
        </p:blipFill>
        <p:spPr>
          <a:xfrm>
            <a:off x="6948360" y="1989000"/>
            <a:ext cx="1444680" cy="1573200"/>
          </a:xfrm>
          <a:prstGeom prst="rect">
            <a:avLst/>
          </a:prstGeom>
          <a:ln w="0">
            <a:noFill/>
          </a:ln>
        </p:spPr>
      </p:pic>
      <p:sp>
        <p:nvSpPr>
          <p:cNvPr id="99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1125000"/>
            <a:ext cx="8424720" cy="458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2:52Z</dcterms:modified>
  <cp:revision>156</cp:revision>
  <dc:subject/>
  <dc:title>Παρουσίαση του PowerPoint</dc:title>
</cp:coreProperties>
</file>