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07F7-BC39-4C2F-9CD2-3A4F192B2BF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944D-D62A-4EB0-9E7B-E21741E95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644A-A25D-44BE-A99D-0292BF467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E7B1D-0199-4245-96E7-6310EEF2C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3BEC-BCEC-4F9D-A014-17B659B5D1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5AF6-E849-4DEF-8ED7-24C0923BA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FEE0-32D0-401D-8316-39065D273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D1E5-8402-41FC-AC39-385BC57CB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11B9-BE74-452F-9A53-ED058A865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9F2C-802A-4AC7-816B-CDAE8DCC5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763C-9507-41DF-9C00-4CD06F36C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D586-CA5B-45A3-8740-57375D2DC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985680" y="741240"/>
            <a:ext cx="4886640" cy="3665520"/>
          </a:xfrm>
          <a:prstGeom prst="rect">
            <a:avLst/>
          </a:prstGeom>
          <a:ln w="0">
            <a:noFill/>
          </a:ln>
        </p:spPr>
      </p:sp>
      <p:sp>
        <p:nvSpPr>
          <p:cNvPr id="11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ECC8D-FAA4-47D6-9F10-85003CD9E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86A4F-06EA-4743-9CDD-5414769F0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C5E19-1A02-4B02-A5C7-B980D830A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3938D-0CCA-4086-9813-0128BBB3B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EE46-A862-42EB-BDB1-3FEBC541E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8077-4BD6-48A1-8313-C92B6318F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7C7C-D80A-4D4A-A4C3-EEADC9F27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51DE-9184-4B63-B623-230FCF62E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2A0F7-61C4-4342-925B-AB217DC4C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FBD2-F91A-4D97-B336-8699E6549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265A-3BB9-40E5-A588-C6A625EB3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PlaceHolder 1"/>
          <p:cNvSpPr>
            <a:spLocks noGrp="1"/>
          </p:cNvSpPr>
          <p:nvPr>
            <p:ph type="sldImg"/>
          </p:nvPr>
        </p:nvSpPr>
        <p:spPr>
          <a:xfrm>
            <a:off x="985680" y="741240"/>
            <a:ext cx="4886640" cy="3665520"/>
          </a:xfrm>
          <a:prstGeom prst="rect">
            <a:avLst/>
          </a:prstGeom>
          <a:ln w="0">
            <a:noFill/>
          </a:ln>
        </p:spPr>
      </p:sp>
      <p:sp>
        <p:nvSpPr>
          <p:cNvPr id="11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205BC-2A70-4E41-96BA-2572EDF41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C58F2-2634-49EF-81FF-C627554D0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2C00-BA7D-4233-A870-7F4F544B4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9E59C-C5C6-49C0-A22F-31CFDB3FE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06AD-5187-48F7-8382-0CE87E029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384FC-E9F4-4119-89CF-F9C8727B6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1869-7DCE-481C-9F4E-76FABF376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03EC-79AD-459D-928D-0520E465B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5BDF9-9F61-4C78-9E6C-7F9A6553F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E4EF-BEB8-439A-81E5-05D353215D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E6F2-D847-4ED3-A649-CDF5625A6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985680" y="741240"/>
            <a:ext cx="4886640" cy="3665520"/>
          </a:xfrm>
          <a:prstGeom prst="rect">
            <a:avLst/>
          </a:prstGeom>
          <a:ln w="0">
            <a:noFill/>
          </a:ln>
        </p:spPr>
      </p:sp>
      <p:sp>
        <p:nvSpPr>
          <p:cNvPr id="12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7C675-667C-455B-BA24-3A4F91C1F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C724-1407-4E2A-8A07-B225E9F0B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E266-BCD7-4FB8-9966-64E8B8B8D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9AFCD-FEA3-4F9B-B912-258C3407E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A052-3AD9-4C5F-9B48-6E340E4A6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2F8B1-9DCE-4E5F-AFB7-24AD8CA54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CCF5-0986-4E02-8124-52A6B0C6C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8AF0-654B-4641-8B87-84FFD4178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1408-B0ED-4511-8220-2A922C35D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4E64-3758-4E98-890E-012B78734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75FE-5481-443A-9ECA-9B5549F55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D02C-A53D-428C-B432-60705B482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A3F3-2CA0-4D01-8141-25A3CF32F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E033-679D-4A8D-9A35-787B1275F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469A-12E3-40AD-8588-70972F051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0714A-80FF-47EF-AA0B-EF47FDE9D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6E8A2-CE4E-47F0-9695-84876FBEFD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67934-C4D0-499E-86DD-9F54B5923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1A66-5A3E-4BBF-A9FC-6D8975064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F4E9-A75B-43CA-884F-CDC9B1BB4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3BA1-E45A-4AE5-AFBE-AB152D97DB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A578-9C02-4E2C-88A7-9FD93E935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985680" y="741240"/>
            <a:ext cx="4886640" cy="3665520"/>
          </a:xfrm>
          <a:prstGeom prst="rect">
            <a:avLst/>
          </a:prstGeom>
          <a:ln w="0">
            <a:noFill/>
          </a:ln>
        </p:spPr>
      </p:sp>
      <p:sp>
        <p:nvSpPr>
          <p:cNvPr id="12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9CF9-21D8-454C-90D3-06F1D9225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3C59-98D8-45B4-BA28-E6EE46649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2C46-82AA-43B6-8545-3E3EB06FE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ABA0-5183-433C-9E3A-331BFAB0D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D656-E107-4A66-88FC-3ACC031EA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E34C-9420-4FC3-8FDA-ADB007DD0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35303-7611-48BA-B359-02845404B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985680" y="741240"/>
            <a:ext cx="4886640" cy="3665520"/>
          </a:xfrm>
          <a:prstGeom prst="rect">
            <a:avLst/>
          </a:prstGeom>
          <a:ln w="0">
            <a:noFill/>
          </a:ln>
        </p:spPr>
      </p:sp>
      <p:sp>
        <p:nvSpPr>
          <p:cNvPr id="13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10FA-7391-4D1A-ABBC-B8E52AB41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985680" y="741240"/>
            <a:ext cx="4886640" cy="3665520"/>
          </a:xfrm>
          <a:prstGeom prst="rect">
            <a:avLst/>
          </a:prstGeom>
          <a:ln w="0">
            <a:noFill/>
          </a:ln>
        </p:spPr>
      </p:sp>
      <p:sp>
        <p:nvSpPr>
          <p:cNvPr id="13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83BA-6739-4553-B0AE-5D7AA3083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985680" y="741240"/>
            <a:ext cx="4886640" cy="3665520"/>
          </a:xfrm>
          <a:prstGeom prst="rect">
            <a:avLst/>
          </a:prstGeom>
          <a:ln w="0">
            <a:noFill/>
          </a:ln>
        </p:spPr>
      </p:sp>
      <p:sp>
        <p:nvSpPr>
          <p:cNvPr id="1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7690-A224-4443-93E9-1726F5446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985680" y="741240"/>
            <a:ext cx="4886640" cy="3665520"/>
          </a:xfrm>
          <a:prstGeom prst="rect">
            <a:avLst/>
          </a:prstGeom>
          <a:ln w="0">
            <a:noFill/>
          </a:ln>
        </p:spPr>
      </p:sp>
      <p:sp>
        <p:nvSpPr>
          <p:cNvPr id="13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18BA2-651F-4C21-8807-5FB3A9FD2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8" name="PlaceHolder 1"/>
          <p:cNvSpPr>
            <a:spLocks noGrp="1"/>
          </p:cNvSpPr>
          <p:nvPr>
            <p:ph type="sldImg"/>
          </p:nvPr>
        </p:nvSpPr>
        <p:spPr>
          <a:xfrm>
            <a:off x="985680" y="741240"/>
            <a:ext cx="4886640" cy="3665520"/>
          </a:xfrm>
          <a:prstGeom prst="rect">
            <a:avLst/>
          </a:prstGeom>
          <a:ln w="0">
            <a:noFill/>
          </a:ln>
        </p:spPr>
      </p:sp>
      <p:sp>
        <p:nvSpPr>
          <p:cNvPr id="12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99A00-5CF6-4612-9560-16125EF9C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985680" y="741240"/>
            <a:ext cx="4886640" cy="3665520"/>
          </a:xfrm>
          <a:prstGeom prst="rect">
            <a:avLst/>
          </a:prstGeom>
          <a:ln w="0">
            <a:noFill/>
          </a:ln>
        </p:spPr>
      </p:sp>
      <p:sp>
        <p:nvSpPr>
          <p:cNvPr id="13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3D3F3-85B1-4097-93CC-96A2DEF47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985680" y="741240"/>
            <a:ext cx="4886640" cy="3665520"/>
          </a:xfrm>
          <a:prstGeom prst="rect">
            <a:avLst/>
          </a:prstGeom>
          <a:ln w="0">
            <a:noFill/>
          </a:ln>
        </p:spPr>
      </p:sp>
      <p:sp>
        <p:nvSpPr>
          <p:cNvPr id="14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B71E-09C8-42FD-8407-09036A821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985680" y="741240"/>
            <a:ext cx="4886640" cy="3665520"/>
          </a:xfrm>
          <a:prstGeom prst="rect">
            <a:avLst/>
          </a:prstGeom>
          <a:ln w="0">
            <a:noFill/>
          </a:ln>
        </p:spPr>
      </p:sp>
      <p:sp>
        <p:nvSpPr>
          <p:cNvPr id="1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007E-6421-4BE5-B066-6D4099F7D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56C44-585D-4907-AA7D-A9E696C91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82EE5-6174-462D-92A8-B31EB53D4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A9B08-D597-4471-A225-63D3169D8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84B24A-CA77-49BC-A977-15C4A79ADA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C77FEC-E218-4E7B-B633-B1FF107451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C1CD41-8339-4418-8C56-419E7A3A45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0AF7E5-9A24-4A47-8197-09B828ACF8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4A44E3-DD8E-425C-BA74-AAE9ACDA52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249139-9F20-4D6B-9D72-216815C9AA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90EBE1-224C-46FC-BB8C-0A5B70F7CC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2344A8-045B-4713-8068-9DA6A8C005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B1DB2B-F7A4-4F5D-BAC0-659C336F0F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6E11C9-4974-4C0A-85EF-31DEC2C0F99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F6157-F6D8-4283-A26D-F72013574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03F3BE-82FE-440F-8EFA-EF16F4D146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6420B3-FB71-4C43-BAC1-2890E8CB10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507193-A005-41D7-914F-E394AF577F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2200E4-48F2-4E72-A7E3-A0B15BED54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DC93B4-1EE9-4BD3-B99E-EA07B9DD4E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34A548-C0A7-4FCA-B27E-8FE4E1E520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B28205-3FD6-4404-90F3-9727892B1C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C1D421-3E3D-4E06-9C42-584EA5502A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91A8D7-720C-435F-93DB-28B6A29F5E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A239391-428D-46C7-A56E-663A7ABF138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14526-A44D-489F-854F-105B95966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A94165C-4AF1-42F0-9C8C-7838897EED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B45A050-5C06-4B68-B074-72EFBAB8C60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41B5EC-5477-4B7C-838B-F84A1676ED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1197EF-B6CD-46A1-8720-BDC2443BEF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807995-7FD3-44E8-8B47-15B399A7B7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1D54E5-5ADA-43E0-B093-46EEF613D0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F78202-EAF5-4418-9B79-520C64BB49A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D89C60-06D8-4FEF-AE66-8E412E9491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7B9976-6BCC-48A8-8C73-B3B4A8C951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072CE9-71D7-4917-B97D-D2867BD547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C635D-FC70-475E-9E62-0C9089F10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691E13-7BD1-404D-8B3A-788BD07B31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D21BDCB-0355-4988-BB7D-025A6F56D2A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71640A1-239E-4CE8-809B-4D7C20067BC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F48EDF2-2EFD-4020-9223-2330B3285DA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CB11A15-E9B7-4CD1-B464-128FC076A2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C6E2720-EF79-40EB-BE09-BCE846366F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B55069-D0DA-42EF-83CA-7CCFFDC8BC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E30B53D-3670-41FF-B656-C5786BB3E2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EB2E6AB-C257-4840-A089-21425C1708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E106E9-EB13-48F2-8C56-D42697A6ED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CC1E3-3F1C-444F-9423-025AB2118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206B5E-57A8-4BBA-87C5-109778C74C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85F60D-5A11-4D8B-BA4C-B94C3F21F7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FCB64D-7A6A-4F98-8D2E-4FFC462F24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B0B3912-023F-4D2C-B412-5B12AB1D9A9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3EB202C-51FE-490A-9952-E481E4427FF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58537B5D-CDE0-4A90-9994-C9A11DB628B0}"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3ACE6068-D6C7-4383-BE23-07BA492D2CF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9E4F30B0-015A-4E03-AB02-42CAD82EEDD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B367446D-41A1-49C5-B0BB-0439936B2B4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65F4BF1E-47A1-4A94-877C-FE751273EBF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0DDA0-1DBA-4811-82A3-322D45AF7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E1F89CF2-840E-4DBA-9888-0616A030D55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33D0CB4-FD22-410F-A0F0-E5FD28D246E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BF70B7D-40B1-4231-BE92-B255E648DED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8C6AC29-5D58-4D95-832E-8791048CEFF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816C6252-922E-47C7-9CE1-2BCFA2C0951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4FE7B8F0-86C4-4443-9676-EEEFB57507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E4F71891-D579-47EE-BF27-8043735D82A5}"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6C1F4-24C3-48C9-B771-FD8FB7A51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2471A-0944-4291-8122-A525D4FAD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E4931-3C55-4349-A1B0-961CC1BA5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60E90-8D55-4E55-951D-309D174EA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80B8A-4A2F-432B-BE01-DB1045684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EA96B-3219-463F-BFD0-06EC2CD3E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F18FA-B922-4587-BC6D-015B0F2C9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C7881-9945-4F00-A148-365CDE88B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BA561C-3233-4F54-85BD-445DCC45B5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5524B2-18B8-4188-A50C-18B53D3CE8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C90BB1-D62B-4F29-BB9E-419019AB07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565C20-8430-48A0-820A-AC9B2B1BBA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E5CB76-3E95-4F0B-BB0C-FFB9447D52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0BE67F-03B5-447B-9443-9D476CA18A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F481F3-6532-4C19-BC42-3343AE4AC3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481E9-48CF-41C7-B032-BCC34F4E8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809822-F448-4C4C-B11B-BE2342A575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9EF6DD-F7E4-4085-8FF4-981713DBBC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8412D4-D47B-4D29-AE01-F2DE6E6C78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E724C2-B339-45B8-B945-1C199D2AE4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3E2302-8CD7-4C2B-93DA-C4103BBF7C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C2D636-0E07-47BB-8583-46A4DF3048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87648D-37A0-4D48-B938-7EABDCD837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F2C981-0ECC-4D6A-9C4B-5E43BAAAF6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748C4D-B5A6-4224-9088-8B16564486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781ADA-996F-4716-94FB-A7E0EBB43E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A27B5-15CA-4BD6-81F2-4EE8931D2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1EE02C-E8CE-4250-A3AB-B86290BCEE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958DF5-E56F-484F-87C7-662E733CA2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173BFD-1F15-4DE9-8BBB-BF4FB071DF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332D43-2F91-4F71-8339-3539D08A11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C093E3-113A-4FA2-83E2-C1185E9839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6E789E-890F-4CC4-B07C-39F7F3661B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792847-54C5-4D94-B3A8-3A9F216EAB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876424-D01B-4026-8E22-48A4D14077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A36D9E-012C-4CFC-AAD5-7C1BB36133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0866A9-6886-4E5A-8F00-6B4C5C7B6F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6AFA1-1ECC-491E-9F5E-942AC3AA4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D95B3E-9813-4B93-8BB8-8771FAA754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0F262E-1BE0-459D-9A2F-E1555C34AA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AF1BC5-5C84-4C37-9A35-25A924F246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A562F0-8589-4741-961F-EEAFDD51FD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851F4E-29B0-427D-8F5F-CF7C5934BF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D91441-3C10-4CE8-B4E7-41DE78ECE5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363C85-4483-4B73-A30E-6339959E6F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751B3B-64B7-4FB4-9D75-64D44116C6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3F01CA-6A3E-44EF-BA5C-4ADAFE4847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C9BE15-A71C-43F0-A414-EB78E74A29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EC152-CBAB-49C0-90EC-E1DBAD17F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C1241E-AAA3-4A5F-BE6F-9F15931982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785557-CB2D-43D4-AD94-E68A2EA90F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039CAE-0C8D-4FEC-B976-B5E24EB1FE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449F0D-C063-4354-867C-C83D80FAA5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4D8549-863F-4DB9-AF7A-0A1D28969A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ABDC82-FE5D-4177-9361-F90629E2C8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EB1628-981A-4D86-B95A-E90D755DF0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458C49-9185-42D7-A12F-87D4882BB0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088876-FC54-4CC3-9B13-3046E7067C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69683D-619E-4546-B717-51910D6D9A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33E44-56F4-4DE8-ADA1-B8452FACC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FA6D1B-B448-4863-AAE9-491BB7479F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1A96A4-3072-4638-BD1A-BF17F37CCC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FB2C57-55C5-471C-8B07-E87EED8218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B852F4-D296-43FF-8407-8C3E8A997F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A697D1-3B86-4712-BC4E-14B5AF2895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B58A11-B375-4982-B4DE-D7C955E656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4E1A11-C3B3-48F4-B227-876B787E65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B251C7-0FBC-421D-9B6C-38E5E43292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5584C5-9B9E-4699-ABAB-471107BC7C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CED599-9047-4B1E-AC3C-F9667434B8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1C984-CFE7-4F2A-8C06-EFD33F3AA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66FC59-DCB3-401A-B914-DB8591E9C5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8BE756-0C3F-4CC9-9F47-C86D6AA0AD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0C43D9-BB5F-472C-9277-C367F84A2F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DD6BFA-8BC3-4EAA-8D36-D130C70FAC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1410DF-ABEB-474B-BA3D-8B00C736E8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7F7A60-A751-41C9-A454-7926AAF5FA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2436FB-97F3-408B-9EBF-65F9532812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81DD44-3177-4EBC-9416-A03C6F28DA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7C3CD2-0AA3-49F8-8FA1-2688DC6EEE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9DA832-7662-45FF-8BB4-85E8673ABC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02D93-A231-4A37-8C75-20233510D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6CFA78-6295-48C4-A372-F98A1D4F65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4DC25F-C9B2-4977-85CF-E8707EAC95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6D2617-E049-4338-A5B1-6FD80FB97C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BC3A4F-C58E-4F0D-B363-AC5547A0D8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AFAB3C-74A2-4391-B1D7-AD785D33D8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FC5D7A-9477-4246-8484-3BF0A68A38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3B6644-CE0A-4434-9D3F-6DD340874F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DA6175-A64D-4352-A3FD-5880D876C9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423081-153A-4B08-8BB5-1E807DD758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95B204-FD49-43F2-814F-3E7F63DD753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758F-F71D-4049-96F1-20890EBA256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48A09-3BB7-42CB-8A89-A6E942FD226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61306-026D-447B-A937-5A05274A118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851EB-F28B-4F9A-9996-D478C119318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9DA2-198D-405A-A174-6BB9C2D962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82420-B1AB-430D-89B0-E4D17BCA592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8899-DF7C-4B6F-AC91-EC8B83A4B4F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23F9-36B0-486A-9431-C7B12408DF0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4743-8A01-4DC9-94D0-685823E6D1F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173D3-68CC-437C-BB82-52A67084738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39A62-74FF-47C9-ADF9-378BEBE020A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3940-1F19-4084-8124-339BF84A9F7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D272-618A-4AC1-9E28-4049018A80D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0764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τους μαθητές αμεα </a:t>
            </a:r>
            <a:br>
              <a:rPr sz="2800"/>
            </a:br>
            <a:r>
              <a:rPr b="0" lang="el-GR" sz="2800" spc="-1" strike="noStrike">
                <a:solidFill>
                  <a:srgbClr val="000000"/>
                </a:solidFill>
                <a:latin typeface="Times New Roman"/>
              </a:rPr>
              <a:t> η ενεργός συμμετοχή τους </a:t>
            </a:r>
            <a:br>
              <a:rPr sz="2800"/>
            </a:br>
            <a:r>
              <a:rPr b="0" lang="el-GR" sz="2800" spc="-1" strike="noStrike">
                <a:solidFill>
                  <a:srgbClr val="000000"/>
                </a:solidFill>
                <a:latin typeface="Times New Roman"/>
              </a:rPr>
              <a:t>σε εξωσχολικές δραστηριότητες,</a:t>
            </a:r>
            <a:br>
              <a:rPr sz="2800"/>
            </a:br>
            <a:r>
              <a:rPr b="0" lang="el-GR" sz="2800" spc="-1" strike="noStrike">
                <a:solidFill>
                  <a:srgbClr val="000000"/>
                </a:solidFill>
                <a:latin typeface="Times New Roman"/>
              </a:rPr>
              <a:t>σε ψυχαγωγικές και κοινωνικές δραστηριότητες </a:t>
            </a:r>
            <a:br>
              <a:rPr sz="2800"/>
            </a:br>
            <a:r>
              <a:rPr b="0" lang="el-GR" sz="2800" spc="-1" strike="noStrike">
                <a:solidFill>
                  <a:srgbClr val="000000"/>
                </a:solidFill>
                <a:latin typeface="Times New Roman"/>
              </a:rPr>
              <a:t>εκτός σχολικού πλαισίου </a:t>
            </a:r>
            <a:br>
              <a:rPr sz="2800"/>
            </a:br>
            <a:r>
              <a:rPr b="0" lang="el-GR" sz="2800" spc="-1" strike="noStrike">
                <a:solidFill>
                  <a:srgbClr val="000000"/>
                </a:solidFill>
                <a:latin typeface="Times New Roman"/>
              </a:rPr>
              <a:t>είναι στενά συνδεδεμένη </a:t>
            </a:r>
            <a:br>
              <a:rPr sz="2800"/>
            </a:br>
            <a:r>
              <a:rPr b="0" lang="el-GR" sz="2800" spc="-1" strike="noStrike">
                <a:solidFill>
                  <a:srgbClr val="000000"/>
                </a:solidFill>
                <a:latin typeface="Times New Roman"/>
              </a:rPr>
              <a:t>με την αποδοχή τους από τους συνομήλικους, </a:t>
            </a:r>
            <a:br>
              <a:rPr sz="2800"/>
            </a:br>
            <a:r>
              <a:rPr b="0" lang="el-GR" sz="2800" spc="-1" strike="noStrike">
                <a:solidFill>
                  <a:srgbClr val="000000"/>
                </a:solidFill>
                <a:latin typeface="Times New Roman"/>
              </a:rPr>
              <a:t>με την ομαλή κοινωνική τους ανάπτυξη και </a:t>
            </a:r>
            <a:br>
              <a:rPr sz="2800"/>
            </a:br>
            <a:r>
              <a:rPr b="0" lang="el-GR" sz="2800" spc="-1" strike="noStrike">
                <a:solidFill>
                  <a:srgbClr val="000000"/>
                </a:solidFill>
                <a:latin typeface="Times New Roman"/>
              </a:rPr>
              <a:t>την αναβάθμιση της ποιότητας της ζωής τους </a:t>
            </a:r>
            <a:br>
              <a:rPr sz="2800"/>
            </a:br>
            <a:r>
              <a:rPr b="0" lang="el-GR" sz="2800" spc="-1" strike="noStrike">
                <a:solidFill>
                  <a:srgbClr val="000000"/>
                </a:solidFill>
                <a:latin typeface="Times New Roman"/>
              </a:rPr>
              <a:t>(King, Law, Hurley, Petrenchik &amp; Schwellnus,2010:77).</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50560" y="981000"/>
            <a:ext cx="85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αίνεται ότι  οι εξωσχολικές δραστηριότητες </a:t>
            </a:r>
            <a:br>
              <a:rPr sz="2800"/>
            </a:br>
            <a:r>
              <a:rPr b="0" lang="el-GR" sz="2800" spc="-1" strike="noStrike">
                <a:solidFill>
                  <a:srgbClr val="000000"/>
                </a:solidFill>
                <a:latin typeface="Times New Roman"/>
              </a:rPr>
              <a:t>και οι ψυχαγωγικές προτιμήσεις </a:t>
            </a:r>
            <a:br>
              <a:rPr sz="2800"/>
            </a:br>
            <a:r>
              <a:rPr b="0" lang="el-GR" sz="2800" spc="-1" strike="noStrike">
                <a:solidFill>
                  <a:srgbClr val="000000"/>
                </a:solidFill>
                <a:latin typeface="Times New Roman"/>
              </a:rPr>
              <a:t>των μαθητών αμεα δεν διαφέρουν </a:t>
            </a:r>
            <a:br>
              <a:rPr sz="2800"/>
            </a:br>
            <a:r>
              <a:rPr b="0" lang="el-GR" sz="2800" spc="-1" strike="noStrike">
                <a:solidFill>
                  <a:srgbClr val="000000"/>
                </a:solidFill>
                <a:latin typeface="Times New Roman"/>
              </a:rPr>
              <a:t>από τις</a:t>
            </a:r>
            <a:r>
              <a:rPr b="0" lang="en-US" sz="2800" spc="-1" strike="noStrike">
                <a:solidFill>
                  <a:srgbClr val="000000"/>
                </a:solidFill>
                <a:latin typeface="Times New Roman"/>
              </a:rPr>
              <a:t> </a:t>
            </a:r>
            <a:r>
              <a:rPr b="0" lang="el-GR" sz="2800" spc="-1" strike="noStrike">
                <a:solidFill>
                  <a:srgbClr val="000000"/>
                </a:solidFill>
                <a:latin typeface="Times New Roman"/>
              </a:rPr>
              <a:t>προτιμήσεις των παιδιών με τυπική ανάπτυξη, </a:t>
            </a:r>
            <a:br>
              <a:rPr sz="2800"/>
            </a:br>
            <a:r>
              <a:rPr b="0" lang="el-GR" sz="2800" spc="-1" strike="noStrike">
                <a:solidFill>
                  <a:srgbClr val="000000"/>
                </a:solidFill>
                <a:latin typeface="Times New Roman"/>
              </a:rPr>
              <a:t>τα παιδιά αμεα συμμετέχουν</a:t>
            </a:r>
            <a:br>
              <a:rPr sz="2800"/>
            </a:br>
            <a:r>
              <a:rPr b="0" lang="el-GR" sz="2800" spc="-1" strike="noStrike">
                <a:solidFill>
                  <a:srgbClr val="000000"/>
                </a:solidFill>
                <a:latin typeface="Times New Roman"/>
              </a:rPr>
              <a:t>λιγότερο σε φυσικές και διαδραστικές δραστηριότητες (όπως το αυθόρμητο ή το οργανωμένο παιχνίδι κανόνων) σε σύγκριση με τους συνομήλικους τους και</a:t>
            </a:r>
            <a:r>
              <a:rPr b="0" lang="en-US" sz="2800" spc="-1" strike="noStrike">
                <a:solidFill>
                  <a:srgbClr val="000000"/>
                </a:solidFill>
                <a:latin typeface="Times New Roman"/>
              </a:rPr>
              <a:t> </a:t>
            </a:r>
            <a:r>
              <a:rPr b="0" lang="el-GR" sz="2800" spc="-1" strike="noStrike">
                <a:solidFill>
                  <a:srgbClr val="000000"/>
                </a:solidFill>
                <a:latin typeface="Times New Roman"/>
              </a:rPr>
              <a:t>αναγκαστικά δραστηριοποιούνται κοινωνικά περισσότερο </a:t>
            </a:r>
            <a:br>
              <a:rPr sz="2800"/>
            </a:br>
            <a:r>
              <a:rPr b="0" lang="el-GR" sz="2800" spc="-1" strike="noStrike">
                <a:solidFill>
                  <a:srgbClr val="000000"/>
                </a:solidFill>
                <a:latin typeface="Times New Roman"/>
              </a:rPr>
              <a:t>με συγγενείς παρά με φίλους</a:t>
            </a:r>
            <a:r>
              <a:rPr b="0" lang="en-US" sz="2800" spc="-1" strike="noStrike">
                <a:solidFill>
                  <a:srgbClr val="000000"/>
                </a:solidFill>
                <a:latin typeface="Times New Roman"/>
              </a:rPr>
              <a:t> </a:t>
            </a:r>
            <a:r>
              <a:rPr b="0" lang="el-GR" sz="2800" spc="-1" strike="noStrike">
                <a:solidFill>
                  <a:srgbClr val="000000"/>
                </a:solidFill>
                <a:latin typeface="Times New Roman"/>
              </a:rPr>
              <a:t>χωρίς αυτό να σημαίνει πως αυτό είναι που επιθυμούν.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81080" y="1392120"/>
            <a:ext cx="82785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Το ρεπερτόριο των εξωσχολικών</a:t>
            </a:r>
            <a:br>
              <a:rPr sz="2800"/>
            </a:br>
            <a:r>
              <a:rPr b="0" lang="el-GR" sz="2800" spc="-1" strike="noStrike">
                <a:solidFill>
                  <a:srgbClr val="000000"/>
                </a:solidFill>
                <a:latin typeface="Times New Roman"/>
              </a:rPr>
              <a:t>δραστηριοτήτων των παιδιών αμεα είναι ιδιαίτερα περιορισμένο και αυτό γίνεται ιδιαίτερα φανερό </a:t>
            </a:r>
            <a:br>
              <a:rPr sz="2800"/>
            </a:br>
            <a:r>
              <a:rPr b="0" lang="el-GR" sz="2800" spc="-1" strike="noStrike">
                <a:solidFill>
                  <a:srgbClr val="000000"/>
                </a:solidFill>
                <a:latin typeface="Times New Roman"/>
              </a:rPr>
              <a:t>στις ηλικίες 12-14, όπου τα παιδιά με τυπική ανάπτυξη επικεντρώνονται σε φυσικές</a:t>
            </a:r>
            <a:br>
              <a:rPr sz="2800"/>
            </a:br>
            <a:r>
              <a:rPr b="0" lang="el-GR" sz="2800" spc="-1" strike="noStrike">
                <a:solidFill>
                  <a:srgbClr val="000000"/>
                </a:solidFill>
                <a:latin typeface="Times New Roman"/>
              </a:rPr>
              <a:t>δραστηριότητες και επιδιώκουν πιο έντονα τη συμμετοχή τους σε εξωσχολικές</a:t>
            </a:r>
            <a:br>
              <a:rPr sz="2800"/>
            </a:br>
            <a:r>
              <a:rPr b="0" lang="el-GR" sz="2800" spc="-1" strike="noStrike">
                <a:solidFill>
                  <a:srgbClr val="000000"/>
                </a:solidFill>
                <a:latin typeface="Times New Roman"/>
              </a:rPr>
              <a:t>κοινωνικές δραστηριότητες.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θέτως, τα παιδιά αμεα συμμετέχουν λιγότερο σε</a:t>
            </a:r>
            <a:r>
              <a:rPr b="0" lang="en-US" sz="2800" spc="-1" strike="noStrike">
                <a:solidFill>
                  <a:srgbClr val="000000"/>
                </a:solidFill>
                <a:latin typeface="Times New Roman"/>
              </a:rPr>
              <a:t> </a:t>
            </a:r>
            <a:r>
              <a:rPr b="0" lang="el-GR" sz="2800" spc="-1" strike="noStrike">
                <a:solidFill>
                  <a:srgbClr val="000000"/>
                </a:solidFill>
                <a:latin typeface="Times New Roman"/>
              </a:rPr>
              <a:t>κοινωνικές δραστηριότητες και περισσότερο σε παθητικές, όπως το να βλέπουν τηλεόραση </a:t>
            </a:r>
            <a:br>
              <a:rPr sz="2800"/>
            </a:br>
            <a:r>
              <a:rPr b="0" lang="el-GR" sz="2800" spc="-1" strike="noStrike">
                <a:solidFill>
                  <a:srgbClr val="000000"/>
                </a:solidFill>
                <a:latin typeface="Times New Roman"/>
              </a:rPr>
              <a:t>ή να παίζουν ηλεκτρονικά παιχνίδια, </a:t>
            </a:r>
            <a:br>
              <a:rPr sz="2800"/>
            </a:br>
            <a:r>
              <a:rPr b="0" lang="el-GR" sz="2800" spc="-1" strike="noStrike">
                <a:solidFill>
                  <a:srgbClr val="000000"/>
                </a:solidFill>
                <a:latin typeface="Times New Roman"/>
              </a:rPr>
              <a:t>γεγονός που ενισχύει τη κοινωνική τους</a:t>
            </a:r>
            <a:br>
              <a:rPr sz="2800"/>
            </a:br>
            <a:r>
              <a:rPr b="0" lang="el-GR" sz="2800" spc="-1" strike="noStrike">
                <a:solidFill>
                  <a:srgbClr val="000000"/>
                </a:solidFill>
                <a:latin typeface="Times New Roman"/>
              </a:rPr>
              <a:t>απομόνωση.</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 λοιπόν, να προάγεται η κοινωνική ένταξη των μαθητών αμεα  στις ομάδες των συνομηλίκων με τη</a:t>
            </a:r>
            <a:r>
              <a:rPr b="0" lang="en-US" sz="2800" spc="-1" strike="noStrike">
                <a:solidFill>
                  <a:srgbClr val="000000"/>
                </a:solidFill>
                <a:latin typeface="Times New Roman"/>
              </a:rPr>
              <a:t> </a:t>
            </a:r>
            <a:r>
              <a:rPr b="0" lang="el-GR" sz="2800" spc="-1" strike="noStrike">
                <a:solidFill>
                  <a:srgbClr val="000000"/>
                </a:solidFill>
                <a:latin typeface="Times New Roman"/>
              </a:rPr>
              <a:t>συμμετοχή τους σε εξωσχολικές δραστηριότητες, αντιθέτως, φαίνεται η κοινωνική συναναστροφή να </a:t>
            </a:r>
            <a:r>
              <a:rPr b="0" lang="en-US" sz="2800" spc="-1" strike="noStrike">
                <a:solidFill>
                  <a:srgbClr val="000000"/>
                </a:solidFill>
                <a:latin typeface="Times New Roman"/>
              </a:rPr>
              <a:t> </a:t>
            </a:r>
            <a:r>
              <a:rPr b="0" lang="el-GR" sz="2800" spc="-1" strike="noStrike">
                <a:solidFill>
                  <a:srgbClr val="000000"/>
                </a:solidFill>
                <a:latin typeface="Times New Roman"/>
              </a:rPr>
              <a:t> συνδέεται με ενηλίκους οι οποίοι τα επιτηρούν ,τα εποπτεύουν και τα συντροφεύουν σε κάθε</a:t>
            </a:r>
            <a:br>
              <a:rPr sz="2800"/>
            </a:br>
            <a:r>
              <a:rPr b="0" lang="el-GR" sz="2800" spc="-1" strike="noStrike">
                <a:solidFill>
                  <a:srgbClr val="000000"/>
                </a:solidFill>
                <a:latin typeface="Times New Roman"/>
              </a:rPr>
              <a:t>δραστηριότητά τους.</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24000" y="1268280"/>
            <a:ext cx="849600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 αμεα μαθητές παρά </a:t>
            </a:r>
            <a:br>
              <a:rPr sz="2800"/>
            </a:br>
            <a:r>
              <a:rPr b="0" lang="el-GR" sz="2800" spc="-1" strike="noStrike">
                <a:solidFill>
                  <a:srgbClr val="000000"/>
                </a:solidFill>
                <a:latin typeface="Times New Roman"/>
              </a:rPr>
              <a:t>τις</a:t>
            </a:r>
            <a:r>
              <a:rPr b="0" lang="en-US" sz="2800" spc="-1" strike="noStrike">
                <a:solidFill>
                  <a:srgbClr val="000000"/>
                </a:solidFill>
                <a:latin typeface="Times New Roman"/>
              </a:rPr>
              <a:t> </a:t>
            </a:r>
            <a:r>
              <a:rPr b="0" lang="el-GR" sz="2800" spc="-1" strike="noStrike">
                <a:solidFill>
                  <a:srgbClr val="000000"/>
                </a:solidFill>
                <a:latin typeface="Times New Roman"/>
              </a:rPr>
              <a:t>γνωστικές ή κινητικές τους δυσκολίες </a:t>
            </a:r>
            <a:br>
              <a:rPr sz="2800"/>
            </a:br>
            <a:r>
              <a:rPr b="0" lang="el-GR" sz="2800" spc="-1" strike="noStrike">
                <a:solidFill>
                  <a:srgbClr val="000000"/>
                </a:solidFill>
                <a:latin typeface="Times New Roman"/>
              </a:rPr>
              <a:t>θα μπορούσαν σε μεγάλο βαθμό </a:t>
            </a:r>
            <a:br>
              <a:rPr sz="2800"/>
            </a:br>
            <a:r>
              <a:rPr b="0" lang="el-GR" sz="2800" spc="-1" strike="noStrike">
                <a:solidFill>
                  <a:srgbClr val="000000"/>
                </a:solidFill>
                <a:latin typeface="Times New Roman"/>
              </a:rPr>
              <a:t>να συμμετέχουν</a:t>
            </a:r>
            <a:r>
              <a:rPr b="0" lang="en-US" sz="2800" spc="-1" strike="noStrike">
                <a:solidFill>
                  <a:srgbClr val="000000"/>
                </a:solidFill>
                <a:latin typeface="Times New Roman"/>
              </a:rPr>
              <a:t> </a:t>
            </a:r>
            <a:r>
              <a:rPr b="0" lang="el-GR" sz="2800" spc="-1" strike="noStrike">
                <a:solidFill>
                  <a:srgbClr val="000000"/>
                </a:solidFill>
                <a:latin typeface="Times New Roman"/>
              </a:rPr>
              <a:t>σε πολλές εξωσχολικές κοινωνικές δραστηριότητες με τους συνομήλικους τους και έτσι να ενισχύσουν την αυτό-εικόνα και την αυτοπεποίθησή τους</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95280" y="1001520"/>
            <a:ext cx="8424720" cy="48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φόβος των</a:t>
            </a:r>
            <a:r>
              <a:rPr b="0" lang="en-US" sz="2800" spc="-1" strike="noStrike">
                <a:solidFill>
                  <a:srgbClr val="000000"/>
                </a:solidFill>
                <a:latin typeface="Times New Roman"/>
              </a:rPr>
              <a:t> </a:t>
            </a:r>
            <a:r>
              <a:rPr b="0" lang="el-GR" sz="2800" spc="-1" strike="noStrike">
                <a:solidFill>
                  <a:srgbClr val="000000"/>
                </a:solidFill>
                <a:latin typeface="Times New Roman"/>
              </a:rPr>
              <a:t>οικογενειών και η άγνοια που επικρατεί αναφορικά με τις δυνατότητές των μαθητών αμεα, </a:t>
            </a:r>
            <a:br>
              <a:rPr sz="2800"/>
            </a:br>
            <a:r>
              <a:rPr b="0" lang="el-GR" sz="2800" spc="-1" strike="noStrike">
                <a:solidFill>
                  <a:srgbClr val="000000"/>
                </a:solidFill>
                <a:latin typeface="Times New Roman"/>
              </a:rPr>
              <a:t>τους εμποδίζει να αναπτύξουν ισότιμες κοινωνικές σχέσεις, γεγονός που περιορίζει την ευχαρίστηση</a:t>
            </a:r>
            <a:r>
              <a:rPr b="0" lang="en-US" sz="2800" spc="-1" strike="noStrike">
                <a:solidFill>
                  <a:srgbClr val="000000"/>
                </a:solidFill>
                <a:latin typeface="Times New Roman"/>
              </a:rPr>
              <a:t> </a:t>
            </a:r>
            <a:r>
              <a:rPr b="0" lang="el-GR" sz="2800" spc="-1" strike="noStrike">
                <a:solidFill>
                  <a:srgbClr val="000000"/>
                </a:solidFill>
                <a:latin typeface="Times New Roman"/>
              </a:rPr>
              <a:t>που αποκομίζουν από τις κοινωνικές δραστηριότητες στις οποίες συμμετέχουν και</a:t>
            </a:r>
            <a:br>
              <a:rPr sz="2800"/>
            </a:br>
            <a:r>
              <a:rPr b="0" lang="el-GR" sz="2800" spc="-1" strike="noStrike">
                <a:solidFill>
                  <a:srgbClr val="000000"/>
                </a:solidFill>
                <a:latin typeface="Times New Roman"/>
              </a:rPr>
              <a:t>συντελεί στη μείωση της αυτοεκτίμησής τους, της αίσθησης ότι ανήκουν 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 και ενισχύει την κοινωνική τους απομόνωση από τους</a:t>
            </a:r>
            <a:r>
              <a:rPr b="0" lang="en-US" sz="2800" spc="-1" strike="noStrike">
                <a:solidFill>
                  <a:srgbClr val="000000"/>
                </a:solidFill>
                <a:latin typeface="Times New Roman"/>
              </a:rPr>
              <a:t> </a:t>
            </a:r>
            <a:r>
              <a:rPr b="0" lang="el-GR" sz="2800" spc="-1" strike="noStrike">
                <a:solidFill>
                  <a:srgbClr val="000000"/>
                </a:solidFill>
                <a:latin typeface="Times New Roman"/>
              </a:rPr>
              <a:t>συνομήλικους </a:t>
            </a:r>
            <a:br>
              <a:rPr sz="2800"/>
            </a:br>
            <a:r>
              <a:rPr b="0" lang="el-GR" sz="2800" spc="-1" strike="noStrike">
                <a:solidFill>
                  <a:srgbClr val="000000"/>
                </a:solidFill>
                <a:latin typeface="Times New Roman"/>
              </a:rPr>
              <a:t>(King et al., 2010:101-124).</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95280" y="1001520"/>
            <a:ext cx="8424720" cy="48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αναφερθούμε αναλυτικά </a:t>
            </a:r>
            <a:r>
              <a:rPr b="1" lang="el-GR" sz="2800" spc="-1" strike="noStrike">
                <a:solidFill>
                  <a:srgbClr val="000000"/>
                </a:solidFill>
                <a:latin typeface="Times New Roman"/>
              </a:rPr>
              <a:t>σε ποικίλες</a:t>
            </a:r>
            <a:br>
              <a:rPr sz="2800"/>
            </a:br>
            <a:r>
              <a:rPr b="1" lang="el-GR" sz="2800" spc="-1" strike="noStrike">
                <a:solidFill>
                  <a:srgbClr val="000000"/>
                </a:solidFill>
                <a:latin typeface="Times New Roman"/>
              </a:rPr>
              <a:t> εξωσχολικές δραστηριότητες</a:t>
            </a:r>
            <a:r>
              <a:rPr b="0" lang="el-GR" sz="2800" spc="-1" strike="noStrike">
                <a:solidFill>
                  <a:srgbClr val="000000"/>
                </a:solidFill>
                <a:latin typeface="Times New Roman"/>
              </a:rPr>
              <a:t> και στη συμβολή τους στην ενίσχυση αυτοεκτίμησής  και της αυτό-εικόνας των μαθητών αμεα και  της αίσθησης ότι ανήκουν </a:t>
            </a:r>
            <a:br>
              <a:rPr sz="2800"/>
            </a:br>
            <a:r>
              <a:rPr b="0" lang="el-GR" sz="2800" spc="-1" strike="noStrike">
                <a:solidFill>
                  <a:srgbClr val="000000"/>
                </a:solidFill>
                <a:latin typeface="Times New Roman"/>
              </a:rPr>
              <a:t>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250920" y="981000"/>
            <a:ext cx="8208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α αθλήματα του Στίβου</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Για τα παιδιά με αυτισμό τα αθλήματα του στίβου μπορεί να είναι μία εξαιρετική δυνατότητα για αναγνώριση από την ομάδα των συνομηλίκων.</a:t>
            </a:r>
            <a:br>
              <a:rPr sz="2800"/>
            </a:br>
            <a:r>
              <a:rPr b="0" lang="el-GR" sz="2800" spc="-1" strike="noStrike">
                <a:solidFill>
                  <a:srgbClr val="000000"/>
                </a:solidFill>
                <a:latin typeface="Times New Roman"/>
              </a:rPr>
              <a:t>Είναι  αθλήματα που απαιτούν λιγότερη λεκτική επικοινωνία για τα παιδιά με αυτισμό και δίνει τη δυνατότητα στα παιδιά να διακριθούν, </a:t>
            </a:r>
            <a:br>
              <a:rPr sz="2800"/>
            </a:br>
            <a:r>
              <a:rPr b="0" lang="el-GR" sz="2800" spc="-1" strike="noStrike">
                <a:solidFill>
                  <a:srgbClr val="000000"/>
                </a:solidFill>
                <a:latin typeface="Times New Roman"/>
              </a:rPr>
              <a:t>να αποκτήσουν φίλους ,να ενταχθούν στην ομάδα των συνομηλίκων,  να κοινωνικοποιηθούν και να συνεργαστούν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250920" y="981000"/>
            <a:ext cx="8208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τρέξιμο  </a:t>
            </a:r>
            <a:r>
              <a:rPr b="0" lang="el-GR" sz="2800" spc="-1" strike="noStrike">
                <a:solidFill>
                  <a:srgbClr val="000000"/>
                </a:solidFill>
                <a:latin typeface="Times New Roman"/>
              </a:rPr>
              <a:t>περιλαμβάνει ρυθμικές κινήσεις </a:t>
            </a:r>
            <a:br>
              <a:rPr sz="2800"/>
            </a:br>
            <a:r>
              <a:rPr b="0" lang="el-GR" sz="2800" spc="-1" strike="noStrike">
                <a:solidFill>
                  <a:srgbClr val="000000"/>
                </a:solidFill>
                <a:latin typeface="Times New Roman"/>
              </a:rPr>
              <a:t>που είναι παρόμοιες με στερεοτυπικές συμπεριφορές και μπορεί να αποσπάσουν </a:t>
            </a:r>
            <a:br>
              <a:rPr sz="2800"/>
            </a:br>
            <a:r>
              <a:rPr b="0" lang="el-GR" sz="2800" spc="-1" strike="noStrike">
                <a:solidFill>
                  <a:srgbClr val="000000"/>
                </a:solidFill>
                <a:latin typeface="Times New Roman"/>
              </a:rPr>
              <a:t>την προσοχή των ατόμων με αυτισμό </a:t>
            </a:r>
            <a:br>
              <a:rPr sz="2800"/>
            </a:br>
            <a:r>
              <a:rPr b="0" lang="el-GR" sz="2800" spc="-1" strike="noStrike">
                <a:solidFill>
                  <a:srgbClr val="000000"/>
                </a:solidFill>
                <a:latin typeface="Times New Roman"/>
              </a:rPr>
              <a:t>από το να χτυπάνε τα χέρια τους </a:t>
            </a:r>
            <a:br>
              <a:rPr sz="2800"/>
            </a:br>
            <a:r>
              <a:rPr b="0" lang="el-GR" sz="2800" spc="-1" strike="noStrike">
                <a:solidFill>
                  <a:srgbClr val="000000"/>
                </a:solidFill>
                <a:latin typeface="Times New Roman"/>
              </a:rPr>
              <a:t>ή να περπατάνε στις μύτες των ποδιών, και να υιοθετήσουν νέες συμπεριφορές.</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539640" y="1268280"/>
            <a:ext cx="8277480" cy="4824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rPr>
              <a:t>Εξωσχολικές κοινωνικές δραστηριότητες</a:t>
            </a:r>
            <a:br>
              <a:rPr sz="3200"/>
            </a:br>
            <a:br>
              <a:rPr sz="3200"/>
            </a:br>
            <a:br>
              <a:rPr sz="3200"/>
            </a:br>
            <a:r>
              <a:rPr b="1" lang="el-GR" sz="2000" spc="-1" strike="noStrike">
                <a:solidFill>
                  <a:srgbClr val="000099"/>
                </a:solidFill>
                <a:latin typeface="Times New Roman"/>
                <a:ea typeface="Arial"/>
              </a:rPr>
              <a:t>ΕΙΣΗΓΗΤΗΣ: Γούπος Θεόδωρος,  δρ. Παιδαγωγικών</a:t>
            </a: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ολύμβηση </a:t>
            </a:r>
            <a:br>
              <a:rPr sz="2800"/>
            </a:br>
            <a:r>
              <a:rPr b="0" lang="el-GR" sz="2800" spc="-1" strike="noStrike">
                <a:solidFill>
                  <a:srgbClr val="000000"/>
                </a:solidFill>
                <a:latin typeface="Times New Roman"/>
              </a:rPr>
              <a:t>Εξαιρετικές δυνατότητες για τα παιδιά με αυτισμό  είναι και η κολύμβηση, που περιλαμβάνει ρυθμικές κινήσεις που είναι παρόμοιες με στερεοτυπικές συμπεριφορές και μπορεί να αποσπάσουν την προσοχή των ατόμων με αυτισμό από το να χτυπάνε τα χέρια τους ή να περπατάνε στις μύτες των ποδιών. Με αυτό τον τρόπο η άσκηση μπορεί να μειώσει τις επαναλαμβανόμενες κινήσεις που παρουσιάζουν τα παιδιά με αυτισμό. </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78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Ιππασία </a:t>
            </a:r>
            <a:br>
              <a:rPr sz="2800"/>
            </a:br>
            <a:r>
              <a:rPr b="0" lang="el-GR" sz="2800" spc="-1" strike="noStrike">
                <a:solidFill>
                  <a:srgbClr val="000000"/>
                </a:solidFill>
                <a:latin typeface="Times New Roman"/>
              </a:rPr>
              <a:t>Πολλά παιδιά με αυτισμό εντάσσονται σε προγράμματα ιππασίας ως θεραπευτική δραστηριότητα. Φαίνεται και είναι  ασυνήθιστο για τα παιδιά με αυτισμό, να επικοινωνούν καλύτερα με τα ζώα, </a:t>
            </a:r>
            <a:br>
              <a:rPr sz="2800"/>
            </a:br>
            <a:r>
              <a:rPr b="0" lang="el-GR" sz="2800" spc="-1" strike="noStrike">
                <a:solidFill>
                  <a:srgbClr val="000000"/>
                </a:solidFill>
                <a:latin typeface="Times New Roman"/>
              </a:rPr>
              <a:t>συγκριτικά με την επικοινωνία τους με τους ανθρώπους. Η ιππασία είναι κάτι περισσότερο από μια απλή φυσική εμπειρία. Η κίνηση του αλόγου βοηθάει στη βελτίωση της κυκλοφορίας, τον έλεγχο των μυών και στον καλύτερο  συντονισμό των κινήσεων.</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δεσμός, η σχέση  που δημιουργείται μεταξύ αναβάτη και αλόγου είναι πολύ ισχυρός και πολύ σημαντικός για άτομα με αυτισμό. Βελτιώνεται η ισορροπία, δημιουργούνται δεσμοί φιλίας ανάμεσα στο άλογο και στον αναβάτη, ενισχύεται  το αίσθημα αυτοπεποίθησης και αυτάρκειας, αυτοελέγχου, υπομονής και επιμονής.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α παιδιά με αυτισμό μαθαίνουν να επικοινωνούν προφορικά και σωματικά με το άλογο τους και μπορούν να δουν άμεσο αποτέλεσμα της επικοινωνίας τους, όταν το άλογο αντιδρά. Μαθαίνουν να επικεντρώνονται σε κάτι έξω από τον εαυτό τους, </a:t>
            </a:r>
            <a:br>
              <a:rPr sz="2800"/>
            </a:br>
            <a:r>
              <a:rPr b="0" lang="el-GR" sz="2800" spc="-1" strike="noStrike">
                <a:solidFill>
                  <a:srgbClr val="000000"/>
                </a:solidFill>
                <a:latin typeface="Times New Roman"/>
              </a:rPr>
              <a:t>κάτι που αποτελεί καθοριστικό βήμα για ανεξαρτησία  για τα  άτομα με αυτισμό.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23640" y="121284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Πολεμικές Τέχνες </a:t>
            </a:r>
            <a:br>
              <a:rPr sz="2800"/>
            </a:br>
            <a:r>
              <a:rPr b="0" lang="el-GR" sz="2800" spc="-1" strike="noStrike">
                <a:solidFill>
                  <a:srgbClr val="000000"/>
                </a:solidFill>
                <a:latin typeface="Times New Roman"/>
              </a:rPr>
              <a:t> Οι πολεμικές τέχνες μπορούν υπό προϋποθέσεις </a:t>
            </a:r>
            <a:br>
              <a:rPr sz="2800"/>
            </a:br>
            <a:r>
              <a:rPr b="0" lang="el-GR" sz="2800" spc="-1" strike="noStrike">
                <a:solidFill>
                  <a:srgbClr val="000000"/>
                </a:solidFill>
                <a:latin typeface="Times New Roman"/>
              </a:rPr>
              <a:t>να ενισχύσουν τα παιδιά με αυτισμό να αποκτήσουν  αυτοπεποίθηση . </a:t>
            </a:r>
            <a:br>
              <a:rPr sz="2800"/>
            </a:br>
            <a:r>
              <a:rPr b="0" lang="el-GR" sz="2800" spc="-1" strike="noStrike">
                <a:solidFill>
                  <a:srgbClr val="000000"/>
                </a:solidFill>
                <a:latin typeface="Times New Roman"/>
              </a:rPr>
              <a:t>Οι γονείς ωστόσο οφείλουν να είναι πολύ προσεκτικοί όσον αφορά την επιλογή τέτοιων πολεμικών τεχνών για την αποφυγή γενίκευσης «βίαιων   συμπεριφορών» και σε άλλα περιβάλλοντα. </a:t>
            </a:r>
            <a:br>
              <a:rPr sz="2800"/>
            </a:br>
            <a:r>
              <a:rPr b="0" lang="el-GR" sz="2800" spc="-1" strike="noStrike">
                <a:solidFill>
                  <a:srgbClr val="000000"/>
                </a:solidFill>
                <a:latin typeface="Times New Roman"/>
              </a:rPr>
              <a:t>Από πολλούς ερευνητές προτείνεται η αποφυγή μαχητικών αθλημάτων.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Ποδηλασία </a:t>
            </a:r>
            <a:br>
              <a:rPr sz="2800"/>
            </a:br>
            <a:r>
              <a:rPr b="0" lang="el-GR" sz="2800" spc="-1" strike="noStrike">
                <a:solidFill>
                  <a:srgbClr val="000000"/>
                </a:solidFill>
                <a:latin typeface="Times New Roman"/>
              </a:rPr>
              <a:t>Το ποδήλατο μπορεί να είναι δύσκολο για τα παιδιά με αυτισμό καθώς η ισορροπία χρειάζεται αρκετή προσπάθεια και επιμονή για να  αποκτηθεί.  Συνεπώς Η ποδηλασία είναι δύσκολη, καθώς για παράδειγμα η κυκλική κίνηση των ποδιών για την κίνηση των πεταλιών μπορεί να δυσκολέψει αρκετά ακόμη και το πιο χαρισματικό παιδί. Μπορούν να χρησιμοποιηθούν βοηθητικές ρόδες για να μειώσουμε το βαθμό δυσκολίας.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φού  τα παιδιά αμεα εξοικειωθούν με τις βασικές δεξιότητες κυρίως ισορροπίας του ποδηλάτου, το ποδήλατο μπορεί να αποβεί εξαιρετική δραστηριότητα για έλεγχο των κινήσεων ,για παρατήρηση, για  απόλαυσης της υπαίθρου, </a:t>
            </a:r>
            <a:br>
              <a:rPr sz="2800"/>
            </a:br>
            <a:r>
              <a:rPr b="0" lang="el-GR" sz="2800" spc="-1" strike="noStrike">
                <a:solidFill>
                  <a:srgbClr val="000000"/>
                </a:solidFill>
                <a:latin typeface="Times New Roman"/>
              </a:rPr>
              <a:t>είτε αθλείται μόνο του, είτε σε μία ομάδα για διασκέδαση ή ανταγωνισμό. </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υτόχρονα η οδήγηση ενός ποδηλάτου είναι μια εξαιρετική δραστηριότητα αισθητηριακής ολοκλήρωσης που μπορεί να βοηθήσει ένα παιδί να διαχειρίζεται την κίνηση συνδυάζοντας οπτικά και ακουστικά ερεθίσματα. </a:t>
            </a:r>
            <a:br>
              <a:rPr sz="2800"/>
            </a:br>
            <a:r>
              <a:rPr b="0" lang="el-GR" sz="2800" spc="-1" strike="noStrike">
                <a:solidFill>
                  <a:srgbClr val="000000"/>
                </a:solidFill>
                <a:latin typeface="Times New Roman"/>
              </a:rPr>
              <a:t>Η ποδηλασία μπορεί να γίνει μέρος της καθημερινής τους ζωής όπως ακριβώς ο αυτισμός.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Μουσική </a:t>
            </a:r>
            <a:br>
              <a:rPr sz="2800"/>
            </a:br>
            <a:r>
              <a:rPr b="0" lang="el-GR" sz="2800" spc="-1" strike="noStrike">
                <a:solidFill>
                  <a:srgbClr val="000000"/>
                </a:solidFill>
                <a:latin typeface="Times New Roman"/>
              </a:rPr>
              <a:t>Τα αυτιστικά παιδιά φαίνεται να έχουν πρώιμο ενδιαφέρον στον ήχο, στις μελωδίες και στο ρυθμό και μάλιστα πολλές φορές ιδιαίτερες κλίσεις και μουσικές ικανότητες. Η μουσική αποτελεί το ερέθισμα που προτιμούν τα αυτιστικά παιδιά και που ικανοποιεί την αίσθηση της ακοής τους.</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έρα όμως από την ιδιότητα της μουσικής ως ακουστικού ερεθίσματος, η μουσική συνδέεται στενά με την κιναισθησία (αίσθηση μυϊκών συστολών και κινήσεων) και με το σύστημα αφής, όταν μέσω ολόκληρου του σώματος γίνονται αντιληπτοί τόνοι σχετικού βάθους και ύψους</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ρευνητές [Οι Fredricks και Eccles (2006)</a:t>
            </a:r>
            <a:r>
              <a:rPr b="0" lang="en-US" sz="2800" spc="-1" strike="noStrike">
                <a:solidFill>
                  <a:srgbClr val="000000"/>
                </a:solidFill>
                <a:latin typeface="Times New Roman"/>
              </a:rPr>
              <a:t>,</a:t>
            </a:r>
            <a:r>
              <a:rPr b="0" lang="el-GR" sz="2800" spc="-1" strike="noStrike">
                <a:solidFill>
                  <a:srgbClr val="000000"/>
                </a:solidFill>
                <a:latin typeface="Times New Roman"/>
              </a:rPr>
              <a:t> ο Brown (2008)] σε έρευνές τους βρήκαν ότι η συμμετοχή μαθητών αμεα σε εξωσχολικές δραστηριότητες σχετίζεται με θετικά ακαδημαϊκά αποτελέσματα </a:t>
            </a:r>
            <a:br>
              <a:rPr sz="2800"/>
            </a:br>
            <a:r>
              <a:rPr b="0" lang="el-GR" sz="2800" spc="-1" strike="noStrike">
                <a:solidFill>
                  <a:srgbClr val="000000"/>
                </a:solidFill>
                <a:latin typeface="Times New Roman"/>
              </a:rPr>
              <a:t>όπως μεγαλύτερη κοινωνικοποίηση, ενυνάμωση διαπροσωπικών σχέσεων, </a:t>
            </a:r>
            <a:br>
              <a:rPr sz="2800"/>
            </a:br>
            <a:r>
              <a:rPr b="0" lang="el-GR" sz="2800" spc="-1" strike="noStrike">
                <a:solidFill>
                  <a:srgbClr val="000000"/>
                </a:solidFill>
                <a:latin typeface="Times New Roman"/>
              </a:rPr>
              <a:t>καλύτερες βαθμολογίες στα διαγωνίσματα </a:t>
            </a:r>
            <a:br>
              <a:rPr sz="2800"/>
            </a:br>
            <a:r>
              <a:rPr b="0" lang="el-GR" sz="2800" spc="-1" strike="noStrike">
                <a:solidFill>
                  <a:srgbClr val="000000"/>
                </a:solidFill>
                <a:latin typeface="Times New Roman"/>
              </a:rPr>
              <a:t>και η βελτίωση του γενικού όρου των βαθμών.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Γίνεται επίσης αντιληπτή η προέλευση της μουσικής ενός οργάνου </a:t>
            </a:r>
            <a:br>
              <a:rPr sz="2800"/>
            </a:br>
            <a:r>
              <a:rPr b="0" lang="el-GR" sz="2800" spc="-1" strike="noStrike">
                <a:solidFill>
                  <a:srgbClr val="000000"/>
                </a:solidFill>
                <a:latin typeface="Times New Roman"/>
              </a:rPr>
              <a:t>(διαφοροποίηση ήχων ανάλογα με το όργανο, διαφοροποίηση ανάλογα με τη μελωδία, το ρυθμό κ.ά., ικανότητα προσανατολισμού στο χώρο, χρονική διάρκεια κ.ά.). </a:t>
            </a:r>
            <a:br>
              <a:rPr sz="2800"/>
            </a:br>
            <a:r>
              <a:rPr b="0" lang="el-GR" sz="2800" spc="-1" strike="noStrike">
                <a:solidFill>
                  <a:srgbClr val="000000"/>
                </a:solidFill>
                <a:latin typeface="Times New Roman"/>
              </a:rPr>
              <a:t>Ακόμη το τραγούδι φαίνεται να έχει στενή σχέση με τη γλώσσα και κατά συνέπεια να αποτελεί ένα αποτελεσματικό μέσο για την ανάπτυξή της.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Ζωγραφική </a:t>
            </a:r>
            <a:br>
              <a:rPr sz="2800"/>
            </a:br>
            <a:r>
              <a:rPr b="0" lang="el-GR" sz="2800" spc="-1" strike="noStrike">
                <a:solidFill>
                  <a:srgbClr val="000000"/>
                </a:solidFill>
                <a:latin typeface="Times New Roman"/>
              </a:rPr>
              <a:t>Μέσα από τη ζωγραφική τα παιδιά με αυτισμό έχουν τη δυνατότητα να εκφραστούν πόσο μάλλον αν αυτά δεν εμφανίζουν λεκτική επικοινωνία. </a:t>
            </a:r>
            <a:br>
              <a:rPr sz="2800"/>
            </a:br>
            <a:r>
              <a:rPr b="0" lang="el-GR" sz="2800" spc="-1" strike="noStrike">
                <a:solidFill>
                  <a:srgbClr val="000000"/>
                </a:solidFill>
                <a:latin typeface="Times New Roman"/>
              </a:rPr>
              <a:t>Κάθε είδους ζωγραφική είναι μία έκφραση του εαυτού τους. Είναι λοιπόν ένας τρόπος να γνωρίσουμε καλύτερα τα παιδιά μέσα από την «ανάγνωση» των έργων ζωγραφικής τους.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ι εξωτερικές δραστηριότητες (Δραστηριότητες στην ύπαιθρο)</a:t>
            </a:r>
            <a:br>
              <a:rPr sz="2800"/>
            </a:br>
            <a:r>
              <a:rPr b="0" lang="el-GR" sz="2800" spc="-1" strike="noStrike">
                <a:solidFill>
                  <a:srgbClr val="000000"/>
                </a:solidFill>
                <a:latin typeface="Times New Roman"/>
              </a:rPr>
              <a:t>Οι εξωτερικές δραστηριότητες διαδραματίζουν σημαντικό ρόλο στην αισθητηριακή ολοκλήρωση ενός παιδιού με αυτισμό. Η σωματική δραστηριότητα είναι συχνά πολύ ωφέλιμη για αυτιστικά παιδιά. Το σωστό είδος εξωτερικών δραστηριοτήτων μπορεί να μειώσει το άγχος και την επιθετικότητα καθώς και την αύξηση κινητικών δεξιοτήτων και την υποβοήθηση της κοινωνικής αλληλεπίδρασης.( ikidcenters, 2016)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εξωτερικές κοινωνικές δραστηριότητες  που ενισχύουν την αυτοπεποίθηση των  παιδιών αμεα είναι το ποδήλατο, οι βόλτες και οι περίπατοι</a:t>
            </a:r>
            <a:br>
              <a:rPr sz="2800"/>
            </a:br>
            <a:r>
              <a:rPr b="0" lang="el-GR" sz="2800" spc="-1" strike="noStrike">
                <a:solidFill>
                  <a:srgbClr val="000000"/>
                </a:solidFill>
                <a:latin typeface="Times New Roman"/>
              </a:rPr>
              <a:t>, η επίσκεψη σε μουσεία ή αρχαιολογικούς χώρους, οι εκθέσεις βιβλίου, οι εκθέσεις  ανθοκομικής, η ενασχόληση με τη βοτανική οι διάφορες συλλογές</a:t>
            </a:r>
            <a:br>
              <a:rPr sz="2800"/>
            </a:br>
            <a:r>
              <a:rPr b="0" lang="el-GR" sz="2800" spc="-1" strike="noStrike">
                <a:solidFill>
                  <a:srgbClr val="000000"/>
                </a:solidFill>
                <a:latin typeface="Times New Roman"/>
              </a:rPr>
              <a:t>η εκμάθηση ενός μουσικού οργάνου σε ομάδα, </a:t>
            </a:r>
            <a:br>
              <a:rPr sz="2800"/>
            </a:br>
            <a:r>
              <a:rPr b="0" lang="el-GR" sz="2800" spc="-1" strike="noStrike">
                <a:solidFill>
                  <a:srgbClr val="000000"/>
                </a:solidFill>
                <a:latin typeface="Times New Roman"/>
              </a:rPr>
              <a:t>οι μουσικές εκδηλώσεις, συναυλίες κλπ.</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νάγνωση βιβλίων, όταν  αυτό είναι δυνατό, φέρνει το άτομο σε επαφή με κοινά βιώματα και εμπειρίες  άλλων ανθρώπων </a:t>
            </a:r>
            <a:br>
              <a:rPr sz="2800"/>
            </a:br>
            <a:r>
              <a:rPr b="0" lang="el-GR" sz="2800" spc="-1" strike="noStrike">
                <a:solidFill>
                  <a:srgbClr val="000000"/>
                </a:solidFill>
                <a:latin typeface="Times New Roman"/>
              </a:rPr>
              <a:t>(Θανοπούλου, 2013, Θωΐδης, Δ Πνευματικός, Π Χαϊτίδου , 2014). </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ξωσχολικές κοινωνικές δραστηριότητες που συμβάλλουν γενικά στην σχολική ένταξη παιδιών με ειδικές εκπαιδευτικές ανάγκες </a:t>
            </a:r>
            <a:br>
              <a:rPr sz="2800"/>
            </a:br>
            <a:br>
              <a:rPr sz="2800"/>
            </a:br>
            <a:r>
              <a:rPr b="0" lang="el-GR" sz="2800" spc="-1" strike="noStrike">
                <a:solidFill>
                  <a:srgbClr val="000000"/>
                </a:solidFill>
                <a:latin typeface="Times New Roman"/>
              </a:rPr>
              <a:t>Σύμφωνα με τους Δούμα &amp; Αδαμοπούλου (2017) , Ττοφή (2016) Αναστασίου (2007) είναι: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412640"/>
            <a:ext cx="759600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αιχνίδι </a:t>
            </a:r>
            <a:br>
              <a:rPr sz="2800"/>
            </a:br>
            <a:r>
              <a:rPr b="0" lang="el-GR" sz="2800" spc="-1" strike="noStrike">
                <a:solidFill>
                  <a:srgbClr val="000000"/>
                </a:solidFill>
                <a:latin typeface="Times New Roman"/>
              </a:rPr>
              <a:t>Ένας από τους βασικούς προσανατολισμούς του παιχνιδιού είναι η κοινωνικοποίηση και ομαλή ένταξη του παιδιού στις λειτουργίες της ομάδας, ιδιαίτερα μέσα από την ομαδική του μορφή και την ελεύθερη συμμετοχή του παιδιού σ’ αυτό. Το παιχνίδι έχει ευεργετική επίδραση στο βιολογικό, συναισθηματικό, γνωστικό και κοινωνικό τομέα της ζωής ενός παιδιού.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παιχνίδι στην ομάδα(το ομαδικό παιχνίδι) θεωρείται σημαντικό για την ανάπτυξη κοινωνικών ρόλων. Μπορεί , όμως, να είναι και ατομικό μιμητικό, πνευματικό ή σωματικό, ελεύθερο, θεατρικό.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α από τα πνευματικά παιχνίδια θα καλλιεργηθούν οι νοητικές του ικανότητες, η σκέψη , η εξεύρεση διαφορετικών προσεγγίσεων και  λύσεων και η λήψη αποφάσεων, </a:t>
            </a:r>
            <a:br>
              <a:rPr sz="2800"/>
            </a:br>
            <a:r>
              <a:rPr b="0" lang="el-GR" sz="2800" spc="-1" strike="noStrike">
                <a:solidFill>
                  <a:srgbClr val="000000"/>
                </a:solidFill>
                <a:latin typeface="Times New Roman"/>
              </a:rPr>
              <a:t>ο εμπλουτισμός των γνώσεων και των εμπειριών του και η κοινωνικότητά των παιδιών αμεα . Μια εξαιρετική δραστηριότητα  για τα παιδιά αμεα είναι και το θεατρικό παιχνίδι που αποτελεί ένα συνδυασμό της τέχνης και του θεάτρου</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ια άλλη μορφή  παιχνιδιού είναι το ηλεκτρονικό παιχνίδι, μέσα από το οποίο το παιδί θα ασκηθεί σε δεξιότητες και με τη χρήση κατάλληλων προγραμμάτων μπορεί να αποκτήσει  δεξιότητες γνώσεις, να αναπτύξει τη δημιουργική του φαντασία, την κρίση του και πολλές φορές τη συνεργασία με άλλα παιδιά. </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1125000"/>
            <a:ext cx="8207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περιπτώσεις  των μαθητών αμεα </a:t>
            </a:r>
            <a:br>
              <a:rPr sz="2800"/>
            </a:br>
            <a:r>
              <a:rPr b="0" lang="el-GR" sz="2800" spc="-1" strike="noStrike">
                <a:solidFill>
                  <a:srgbClr val="000000"/>
                </a:solidFill>
                <a:latin typeface="Times New Roman"/>
              </a:rPr>
              <a:t>(με αναπηρίες, σύνδρομα ή ειδικές μαθησιακές δυσκολίες), οι ερευνητές διαπίστωσαν  ότι οι εξωσχολικές δραστηριότητες συμβάλλουν καθοριστικά στην ένταξη τους στο σχολικό περιβάλλον.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έσα από τα κοινωνικά κυρίως παιχνίδια ενισχύεται ο ρόλος και η συμμετοχή των παιδιών αμεα στην ομάδα των συνομηλίκων .</a:t>
            </a:r>
            <a:br>
              <a:rPr sz="2800"/>
            </a:br>
            <a:r>
              <a:rPr b="0" lang="el-GR" sz="2800" spc="-1" strike="noStrike">
                <a:solidFill>
                  <a:srgbClr val="000000"/>
                </a:solidFill>
                <a:latin typeface="Times New Roman"/>
              </a:rPr>
              <a:t>Το παιχνίδι αποτελεί πρωταρχικό μέσο συναναστροφής ,δημιουργίας σχέσεων με τους συνομηλίκους, οι οποίοι αποτελούν πηγή ενθάρρυνσης, ενίσχυσης, σύγκρισης. </a:t>
            </a: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α από αυτές τις κοινωνικές  επαφές  των παιδιών αμεα θα αναπτυχθούν οι κοινωνικές  δεξιότητες, τα παιδιά θα εκτεθούν και θα αναπτύξουν  νέους τρόπους δράσης, θα μάθουν να μοιράζονται, να επιλύουν τις διαφορές του με τους άλλους, να συνομιλούν και να κουβεντιάζουν να ακούνε.</a:t>
            </a:r>
            <a:br>
              <a:rPr sz="2800"/>
            </a:br>
            <a:r>
              <a:rPr b="0" lang="el-GR" sz="2800" spc="-1" strike="noStrike">
                <a:solidFill>
                  <a:srgbClr val="000000"/>
                </a:solidFill>
                <a:latin typeface="Times New Roman"/>
              </a:rPr>
              <a:t>Έτσι, με τον τρόπο αυτό, τα παιδιά εντάσσεται ομαλά μέσα στα κοινωνικά σύνολα, μαθαίνουν να σέβονται τους συμπαίκτες τους και να αποδέχονται τους κανόνες του παιχνιδιού.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α από το παιχνίδι το παιδί  αμεα καλλιεργεί την πειθαρχία, και την υπακοή έναντι του εγωισμού και της νευρικότητας και μαθαίνει με υπομονή, επιμονή και συνεργασία  να διαχειρίζεται τη σχέση του με τους άλλους,</a:t>
            </a:r>
            <a:br>
              <a:rPr sz="2800"/>
            </a:br>
            <a:r>
              <a:rPr b="0" lang="el-GR" sz="2800" spc="-1" strike="noStrike">
                <a:solidFill>
                  <a:srgbClr val="000000"/>
                </a:solidFill>
                <a:latin typeface="Times New Roman"/>
              </a:rPr>
              <a:t>να οδηγείται στην επίτευξη των στόχων που έχουν  </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αλές Τέχνες (μουσική, χορός, ζωγραφική)</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H μουσική δραστηριοποιεί το άτομο σωματικά, συναισθηματικά, πνευματικά άλλα και ταυτόχρονα το ωθεί να συνεργαστεί με άλλους συνομηλίκους και να αναπτύξει σςχέσεις . Ο ήχος και η μελωδία σε συνδυασμό με το ρυθμό βοηθούν τα παιδιά να χαλαρώσουν , να αποκτήσουν ρυθμό και τονικότητα και να ανταπεξέλθουν καλύτερα στις δυσκολίες τους.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395280" y="1125000"/>
            <a:ext cx="8137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νότες ενεργοποιούν όλες τις αισθήσεις και γοητεύουν ιδιαίτερα τα παιδιά. Η συμμετοχή τους σε τέτοιου είδους δραστηριότητες τους προσφέρει συγχρόνως τη δυνατότητα να ανακαλύψουν την αίσθηση του ήχου, την ευχαρίστηση της σωματικής κίνησης, τη χαρά του τραγουδιού και να συμμετέχουν στην ομάδα , σε μια χορωδία ,σε ένα μουσικό  σύνολο. Τονώνεται έτσι  η αυτοπεποίθησή τους. Η συμμετοχή τους στην χορωδία αποτελεί  ευκαιρία για επικοινωνία με τους άλλους συνομηλίκους και για ενίσχυση της  κοινωνικοποίησης των παιδιών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νάγκη για κίνηση μπορεί να  ικανοποιηθεί μέσω του χορού. Με το σώμα του το παιδί θα προσλάβει τα ερεθίσματα , τα μηνύματα, τις εντυπώσεις και τις συγκινήσεις του εξωτερικού χώρου, αλλά ταυτόχρονα θα στείλει και τα δικά του. </a:t>
            </a:r>
            <a:br>
              <a:rPr sz="2800"/>
            </a:br>
            <a:r>
              <a:rPr b="0" lang="el-GR" sz="2800" spc="-1" strike="noStrike">
                <a:solidFill>
                  <a:srgbClr val="000000"/>
                </a:solidFill>
                <a:latin typeface="Times New Roman"/>
              </a:rPr>
              <a:t>Το παιδί αμεα  μαθαίνει να αυτοσυγκεντρώνεται, να ερμηνεύει τα μηνύματα που δέχεται, να τα αξιολογεί και ανάλογα να ανταποκρίνεται. Ο χορός καλλιεργεί την αυτοπειθαρχία και τον αυτοέλεγχο των κινήσεων </a:t>
            </a: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ην ανάγκη του παιδιού αμεα για έκφραση των συναισθημάτων, για εξωτερίκευση  και για επικοινωνία με το περιβάλλον του, με τους   συνομηλίκους, με τους ενήλικες  ικανοποιεί η ζωγραφική. </a:t>
            </a: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θλητισμός </a:t>
            </a:r>
            <a:br>
              <a:rPr sz="2800"/>
            </a:br>
            <a:r>
              <a:rPr b="0" lang="el-GR" sz="2800" spc="-1" strike="noStrike">
                <a:solidFill>
                  <a:srgbClr val="000000"/>
                </a:solidFill>
                <a:latin typeface="Times New Roman"/>
              </a:rPr>
              <a:t>Ο αθλητισμός διαδραματίζει σημαντικό ρόλο στη ζωή του ανθρώπου και η ωφελιμότητά του έγκειται στην παιδαγωγική και κοινωνιολογική προσφορά του και στην ψυχαγωγία που τους προσφέρει. Η συμμετοχή των παιδιών αμεα σε ομαδικά αθλήματα συνδέεται με την εμφάνιση καλύτερων κοινωνικών δεξιοτήτων και ικανοτήτων.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ω του αθλητισμού τα παιδιά αμεα έρχονται σε  επαφή με άλλα άτομα, δραστηριοποιούνται κοινωνικοποιούνται, δημιουργούν φιλίες, επικοινωνούν. Ασκούνται  στις έννοιες της ομαδικότητας, της συνεργασίας, της πειθαρχίας, βελτιώνουν τη θέληση και την αγωνιστικότητά τους και γίνονται  με τον τρόπο αυτό  πιο ενεργητικά άτομα.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ινηματογράφος – θέατρο </a:t>
            </a:r>
            <a:br>
              <a:rPr sz="2800"/>
            </a:br>
            <a:r>
              <a:rPr b="0" lang="el-GR" sz="2800" spc="-1" strike="noStrike">
                <a:solidFill>
                  <a:srgbClr val="000000"/>
                </a:solidFill>
                <a:latin typeface="Times New Roman"/>
              </a:rPr>
              <a:t>Η συμμετοχή  των παιδιών αμεα  σε κάποια θεατρική ομάδα είναι καθοριστικής  σημασίας και αποκτά μάλιστα ιδιαίτερη παιδευτική αξία, όταν αυτή γίνεται  μέσα στο σχολικό χώρο. </a:t>
            </a:r>
            <a:br>
              <a:rPr sz="2800"/>
            </a:br>
            <a:r>
              <a:rPr b="0" lang="el-GR" sz="2800" spc="-1" strike="noStrike">
                <a:solidFill>
                  <a:srgbClr val="000000"/>
                </a:solidFill>
                <a:latin typeface="Times New Roman"/>
              </a:rPr>
              <a:t>Τα παιδιά  αμεα έχουν την ευκαιρία να έρθουν σε επαφή με ένα άλλο είδος γραπτού λόγου, αυτό των θεατρικών κειμένων, και συνάμα εμπλουτίζουν το λεξιλόγιό τους, τις κινήσεις τους  και ασκούν τη θεατρικότητα του λόγου τους. .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αίνεται ότι οι μαθητές  αμεα αποκτούν μεγαλύτερη εμπλοκή σε θέματα του σχολείου και αναπτύσσουν δεξιότητες συνεργασίας μειώνοντας την πιθανότητα προβλημάτων συμπεριφοράς. </a:t>
            </a:r>
            <a:br>
              <a:rPr sz="2800"/>
            </a:br>
            <a:r>
              <a:rPr b="0" lang="el-GR" sz="2800" spc="-1" strike="noStrike">
                <a:solidFill>
                  <a:srgbClr val="000000"/>
                </a:solidFill>
                <a:latin typeface="Times New Roman"/>
              </a:rPr>
              <a:t>Επιπλέον, επιτυγχάνεται η απόκτηση δεξιοτήτων και κοινωνικών νορμών, το παιδί γίνεται  ευκολότερα μέλος μίας κοινωνικής ομάδας και αναπτύσσει δυνατότερους συναισθηματικούς και κοινωνικούς δεσμούς.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θεατρική ομάδα προσφέρει στα παιδιά αμεα  τη δυνατότητα γνωριμίας με το ίδιο τους το σώμα, καθώς κατακτούν τη γλώσσα του σώματος δοκιμάζοντας διάφορες κινήσεις, στάσεις, χειρονομίες. Επιπλέον, μαθαίνουν τι σημαίνει ομαδική εργασία, πειθαρχία στους κανόνες της ομάδας και στις απαιτήσεις του ρόλου. </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λεκτρονικός Υπολογιστής (Η/Υ) </a:t>
            </a:r>
            <a:br>
              <a:rPr sz="2800"/>
            </a:br>
            <a:br>
              <a:rPr sz="2800"/>
            </a:br>
            <a:r>
              <a:rPr b="0" lang="el-GR" sz="2800" spc="-1" strike="noStrike">
                <a:solidFill>
                  <a:srgbClr val="000000"/>
                </a:solidFill>
                <a:latin typeface="Times New Roman"/>
              </a:rPr>
              <a:t>Η  πληροφορική στη διδακτική διαδικασία παίζει το ρόλο ενός παιδαγωγικού μέσου. Προσφέρει ποικιλία πληροφοριών, αλλά ταυτόχρονα αποτελεί και βοηθητικό μέσο για τις σχέσεις δασκάλου-μαθητή, στη βάση της μεταξύ τους συνεργασίας για την επίλυση προβλημάτων και προάγεται η συνεργασία μεταξύ των μαθητών. </a:t>
            </a: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αιχνίδια στον ηλεκτρονικό υπολογιστή αποτελούν για τα παιδιά  αμεα, αγαπητή ενασχόληση ,είτε ατομικά είτε σε συνεργασία με άλλους. </a:t>
            </a:r>
            <a:br>
              <a:rPr sz="2800"/>
            </a:br>
            <a:r>
              <a:rPr b="0" lang="el-GR" sz="2800" spc="-1" strike="noStrike">
                <a:solidFill>
                  <a:srgbClr val="000000"/>
                </a:solidFill>
                <a:latin typeface="Times New Roman"/>
              </a:rPr>
              <a:t>Τα παιδιά μπορούν  να συνεργαστούν μεταξύ τους, να επικοινωνήσουν με τους συνομηλίκους  προάγοντας  έτσι την κοινωνικοποίησή τους και  δημιουργήσουν τις δικές τους εικόνες,  τη δική τους μουσική. </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 </a:t>
            </a:r>
            <a:r>
              <a:rPr b="1" lang="el-GR" sz="2800" spc="-1" strike="noStrike">
                <a:solidFill>
                  <a:srgbClr val="000000"/>
                </a:solidFill>
                <a:latin typeface="Times New Roman"/>
              </a:rPr>
              <a:t>Εκδρομές και εθελοντισμός </a:t>
            </a:r>
            <a:br>
              <a:rPr sz="2800"/>
            </a:br>
            <a:r>
              <a:rPr b="0" lang="el-GR" sz="2800" spc="-1" strike="noStrike">
                <a:solidFill>
                  <a:srgbClr val="000000"/>
                </a:solidFill>
                <a:latin typeface="Times New Roman"/>
              </a:rPr>
              <a:t>Οι εκδρομές σε εξωτερικούς χώρους φέρνουν τα παιδιά  αμεα σε επαφή με τη φύση που συμβάλλει εξαιρετικά στην εκτόνωση και την χαλάρωση. Επίσης οι εκδρομές σε μουσεία ή αρχαιολογικούς χώρους είναι δραστηριότητες ενισχυτικές για την διεύρυνση των εμπειριών σε χώρους εκτός της σχολικής μονάδας και εξοικείωση με χώρους κοινωνικής εστίασης. </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παφή με τα ζώα </a:t>
            </a:r>
            <a:br>
              <a:rPr sz="2800"/>
            </a:br>
            <a:r>
              <a:rPr b="0" lang="el-GR" sz="2800" spc="-1" strike="noStrike">
                <a:solidFill>
                  <a:srgbClr val="000000"/>
                </a:solidFill>
                <a:latin typeface="Times New Roman"/>
              </a:rPr>
              <a:t>Η επικοινωνία των παιδιών με ένα κατοικίδιο ζώο ή με ζώα σε άλλους χώρους (εξοχή, φιλοζωικές οργανώσεις, ζωολογικός κήπος, ιππικός σύλλογος) μπορεί να συμβάλλει στην χαλάρωση και την εξάσκηση διαύλων επικοινωνίας με τον εξωτερικό κόσμο.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νάγνωση εξωσχολικών εντύπων </a:t>
            </a:r>
            <a:br>
              <a:rPr sz="2800"/>
            </a:br>
            <a:br>
              <a:rPr sz="2800"/>
            </a:br>
            <a:r>
              <a:rPr b="0" lang="el-GR" sz="2800" spc="-1" strike="noStrike">
                <a:solidFill>
                  <a:srgbClr val="000000"/>
                </a:solidFill>
                <a:latin typeface="Times New Roman"/>
              </a:rPr>
              <a:t>Η λογοτεχνία (μυθιστόρημα, διήγημα, ποίημα, ιστορίες γνώσεων, παραμύθι) αποτελεί μέσο επικοινωνίας και πνευματικής ικανοποίησης του ατόμου. Το παιδί εκλαμβάνει τα όσα διαβάζει ως κάτι το πραγματικό, το οποίο βιώνει, για το οποίο χαίρεται, λυπάται ή προβληματίζεται.</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ν ανάγνωση βιβλίων, όταν αυτό μπορεί να γίνει ειδικά στην περίπτωση των μαθησιακών δυσκολιών, τα παιδιά βρίσκουν τη θέση τους μέσα στο συνεχόμενα μεταβαλλόμενο κόσμο μέσω της γνωριμίας με τη ζωή των άλλων. Διαμορφώνουν έναν τέτοιο χαρακτήρα, ώστε να αγκαλιάσουν με αγάπη το κοινωνικό σύνολο και να ζήσουν με τους συνομηλίκους  υπερνικώντας τον εγωκεντρισμό τους.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υζήτηση </a:t>
            </a:r>
            <a:br>
              <a:rPr sz="2800"/>
            </a:br>
            <a:r>
              <a:rPr b="0" lang="el-GR" sz="2800" spc="-1" strike="noStrike">
                <a:solidFill>
                  <a:srgbClr val="000000"/>
                </a:solidFill>
                <a:latin typeface="Times New Roman"/>
              </a:rPr>
              <a:t>Οι συζητήσεις με τους γονείς, με φίλους, με ειδικούς επιστήμονες (πχ.με ψυχολόγο) ,είναι μια μοναδική ευκαιρία να πάρουν το λόγο τα παιδιά να αναδιηγηθούν και να κατανοήσουν καλύτερα την διάδραση τους με το κοινωνικό σύνολο.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ρασιτεχνικές δραστηριότητες </a:t>
            </a:r>
            <a:br>
              <a:rPr sz="2800"/>
            </a:br>
            <a:br>
              <a:rPr sz="2800"/>
            </a:br>
            <a:r>
              <a:rPr b="0" lang="el-GR" sz="2800" spc="-1" strike="noStrike">
                <a:solidFill>
                  <a:srgbClr val="000000"/>
                </a:solidFill>
                <a:latin typeface="Times New Roman"/>
              </a:rPr>
              <a:t>Μια δημοφιλής ενασχόληση των παιδιών  αμεα είναι αυτή της συλλογής διάφορων αντικειμένων.  Συμβάλλουν στη σχολική επίδοση των παιδιών τους,  σχετίζονται με τη βελτίωση του προφορικού τους λόγου και  αναπτύσσουν τις κοινωνικές τους δεξιότητες.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αιδιά αμεα γίνονται πιο υπεύθυνα αφού αναλαμβάνουν τη δημιουργία και ολοκλήρωση  συλλογής ,τη φύλαξη και την προστασία των ειδών που συλλέγουν, καθώς και πιο οργανωτικά και μεθοδικά. Μέσω των ανταλλαγών που πραγματοποιούν με άλλα άτομα του ιδίου ενδιαφέροντος αναπτύσσεται η κοινωνικότητα τους και δημιουργούνται φιλίες.</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ξωσχολικές δραστηριότητες δίνουν στο μαθητή αμεα την ευκαιρία για αλληλεπίδραση </a:t>
            </a:r>
            <a:br>
              <a:rPr sz="2800"/>
            </a:br>
            <a:r>
              <a:rPr b="0" lang="el-GR" sz="2800" spc="-1" strike="noStrike">
                <a:solidFill>
                  <a:srgbClr val="000000"/>
                </a:solidFill>
                <a:latin typeface="Times New Roman"/>
              </a:rPr>
              <a:t>με άλλα άτομα, με συνομηλίκους</a:t>
            </a:r>
            <a:br>
              <a:rPr sz="2800"/>
            </a:br>
            <a:r>
              <a:rPr b="0" lang="el-GR" sz="2800" spc="-1" strike="noStrike">
                <a:solidFill>
                  <a:srgbClr val="000000"/>
                </a:solidFill>
                <a:latin typeface="Times New Roman"/>
              </a:rPr>
              <a:t> την δυνατότητα για δημιουργία φιλίας και για οικοδόμηση κοινωνικής αυτοπεποίθησης. </a:t>
            </a:r>
            <a:br>
              <a:rPr sz="2800"/>
            </a:br>
            <a:r>
              <a:rPr b="0" lang="el-GR" sz="2800" spc="-1" strike="noStrike">
                <a:solidFill>
                  <a:srgbClr val="000000"/>
                </a:solidFill>
                <a:latin typeface="Times New Roman"/>
              </a:rPr>
              <a:t>Άτομα που εμπλέκονται σε εξωσχολικές δραστηριότητες κάνουν πολύ πιο εύκολα φίλους, προσαρμόζονται γρήγορα σε νέα περιβάλλοντα, και αποκτούν από νωρίς την δεξιότητα για συνεργασία. </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ν Eccles (2003), oι εθελοντικές δραστηριότητες βασισμένες στο σχολείο, έξω όμως από το αναλυτικό πρόγραμμα, αυξάνουν τη συμμετοχή στο σχολείο και την επιτυχία.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ρευνητές  τονίζουν την ιδιαίτερη προσοχή  που απαιτεί η παρακολούθηση τηλεόρασης. </a:t>
            </a:r>
            <a:br>
              <a:rPr sz="2800"/>
            </a:br>
            <a:r>
              <a:rPr b="0" lang="el-GR" sz="2800" spc="-1" strike="noStrike">
                <a:solidFill>
                  <a:srgbClr val="000000"/>
                </a:solidFill>
                <a:latin typeface="Times New Roman"/>
              </a:rPr>
              <a:t>Η παρακολούθηση τηλεοπτικών εκπομπών αποτελεί οπτική μη λεκτική εμπειρία για το παιδί με αποτέλεσμα να μην αναπτύσσεται ούτε να αναβαθμίζεται η γλωσσική του ικανότητα. Ταυτόχρονα  μπορεί να είναι είναι συναίτια της υποβάθμισης της αναγνωστικής του ικανότητας.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ταν διαβάζει, μπορεί συγχρόνως και να γράφει, να δέχεται και συνάμα να ενεργεί, κάτι που δεν του παρέχεται με την παρακολούθηση τηλεόρασης. Με την παρακολούθηση της τηλεόρασης  μειώνονται οι ευκαιρίες έκφρασής του και οι πιθανότητες να εμπλουτιστεί η ικανότητα λεκτικής σύνθεσης.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ακολούθηση τηλεόρασης κατά τη διάρκεια του εξωσχολικού χρόνου στερεί τα παιδιά από το ενδεχόμενο συνάντησης με τους φίλους τους, αφού οι τηλεοπτικές εκπομπές λειτουργούν εθιστικά και τα καθηλώνουν στο σπίτι. Αυτή η καθήλωση και τα απομονώνει αλλά και τα αποκόπτει από την απόλαυση οποιουδήποτε παιχνιδιού.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το σημαντικότερο  για τα παιδιά αμεα είναι η δυνατότητα για  συζητήσεις  με συνομηλίκους που μπορεί να γίνουν όσον αφορά κοινωνικά θέματα, όπως αυτά των σχέσεων των δύο φύλων, των κοινωνικών ρόλων, της φιλίας, των σεξουαλικών σχέσεων.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γάλο ρόλο και ίσως τον μεγαλύτερο για την  εξωσχολική δραστηριότητα  και το ρόλο της ,αν θα φέρει θετικά ή αρνητικά αποτελέσματα έχει ο εκπαιδευτής, το άτομο που θα μεταλαμπαδεύσει τις γνώσεις του, θα προσφέρει την αγάπη του και την βοήθεια του στον μαθητή έτσι ώστε ο ίδιος ο μαθητής να αγαπήσει τη δραστηριότητα και να θέλει να ασχοληθεί μαζί της.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 σωστή καθοδήγηση και με το ενδιαφέρον του μαθητή σε κάποια εξωσχολική δραστηριότητα, θα οικοδομήσει πολλές γνώσεις και θα αναπτύξει τις δεξιότητες που του προσφέρονται. </a:t>
            </a:r>
            <a:br>
              <a:rPr sz="2800"/>
            </a:br>
            <a:r>
              <a:rPr b="0" lang="el-GR" sz="2800" spc="-1" strike="noStrike">
                <a:solidFill>
                  <a:srgbClr val="000000"/>
                </a:solidFill>
                <a:latin typeface="Times New Roman"/>
              </a:rPr>
              <a:t>Σύμφωνα με την Wilson (2009), ανήκεις σε μια ομάδα όταν είσαι μέλος μιας εξωσχολικής δραστηριότητας. </a:t>
            </a: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πλευρά όμως οι Eccles και Barber (1999) σημείωσαν και κάποιες αρνητικές επιπτώσεις για ορισμένες εξωσχολικές δραστηριότητες. Για παράδειγμα η υπερβολική συμβολή του μαθητή σε τέτοια προγράμματα θα επιφέρει αρνητικές συνέπειες όπως η κούραση και η πίεση, με αποτέλεσμα το παιδί να είναι οξύθυμο και να δείχνει ελάχιστο ενδιαφέρον για συμμετοχή μέσα στο μάθημα.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Ιδιαίτερα ένα υπερβολικά βαρυφορτωμένο πρόγραμμα σε δραστηριότητες φυσικής άσκησης όπου οι μαθητές σπαταλούν μεγάλα ποσοστά ενέργειας, αν δεν υπάρχει χρόνος για ξεκούραση από την έντονη προπόνηση το παιδί δεν θα μπορεί να αποδώσει στο σχολείο με τον ίδιο τρόπο (Ττοφή, 2016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ι εξωσχολικές κοινωνικές δραστηριότητες συμβάλλουν καταλυτικά στην καλύτερη ένταξη των μαθητών στο σχολικό χώρο και στην κοινωνικοποίησή τους. Οι μαθητές με ειδικές εκπαιδευτικές ανάγκες, με τη σωστή καθοδήγηση αναπτύσσουν και εξελίσσουν τις δεξιότητες που τους προσφέρονται μέσα από την εκάστοτε εξωσχολική δραστηριότητα και εντάσσονται επιτυχώς στο σχολείο με βάση τις προσωπικές τους ανάγκες και δυνατότητες.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H εμπλοκή του μαθητή αμεα σε δραστηριότητες </a:t>
            </a:r>
            <a:br>
              <a:rPr sz="2800"/>
            </a:br>
            <a:r>
              <a:rPr b="0" lang="el-GR" sz="2800" spc="-1" strike="noStrike">
                <a:solidFill>
                  <a:srgbClr val="000000"/>
                </a:solidFill>
                <a:latin typeface="Times New Roman"/>
              </a:rPr>
              <a:t>του σχολείου έξω από το αναλυτικό πρόγραμμα </a:t>
            </a:r>
            <a:br>
              <a:rPr sz="2800"/>
            </a:br>
            <a:r>
              <a:rPr b="0" lang="el-GR" sz="2800" spc="-1" strike="noStrike">
                <a:solidFill>
                  <a:srgbClr val="000000"/>
                </a:solidFill>
                <a:latin typeface="Times New Roman"/>
              </a:rPr>
              <a:t>τον βοηθά να νιώθει οικείο </a:t>
            </a:r>
            <a:br>
              <a:rPr sz="2800"/>
            </a:br>
            <a:r>
              <a:rPr b="0" lang="el-GR" sz="2800" spc="-1" strike="noStrike">
                <a:solidFill>
                  <a:srgbClr val="000000"/>
                </a:solidFill>
                <a:latin typeface="Times New Roman"/>
              </a:rPr>
              <a:t>το περιβάλλον του σχολείου </a:t>
            </a:r>
            <a:br>
              <a:rPr sz="2800"/>
            </a:br>
            <a:r>
              <a:rPr b="0" lang="el-GR" sz="2800" spc="-1" strike="noStrike">
                <a:solidFill>
                  <a:srgbClr val="000000"/>
                </a:solidFill>
                <a:latin typeface="Times New Roman"/>
              </a:rPr>
              <a:t>( Ττοφή, 2016).</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773280" y="1233360"/>
            <a:ext cx="7597440" cy="439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κεφαλαιώνοντας,</a:t>
            </a:r>
            <a:br>
              <a:rPr sz="2800"/>
            </a:br>
            <a:r>
              <a:rPr b="0" lang="el-GR" sz="2800" spc="-1" strike="noStrike">
                <a:solidFill>
                  <a:srgbClr val="000000"/>
                </a:solidFill>
                <a:latin typeface="Times New Roman"/>
              </a:rPr>
              <a:t>αναδεικνύεται η αναγκαιότητα διασύνδεσης των σχολικών</a:t>
            </a:r>
            <a:r>
              <a:rPr b="0" lang="en-US" sz="2800" spc="-1" strike="noStrike">
                <a:solidFill>
                  <a:srgbClr val="000000"/>
                </a:solidFill>
                <a:latin typeface="Times New Roman"/>
              </a:rPr>
              <a:t> </a:t>
            </a:r>
            <a:r>
              <a:rPr b="0" lang="el-GR" sz="2800" spc="-1" strike="noStrike">
                <a:solidFill>
                  <a:srgbClr val="000000"/>
                </a:solidFill>
                <a:latin typeface="Times New Roman"/>
              </a:rPr>
              <a:t>προγραμμάτων κοινωνικής ένταξης με τις κοινωνικές δραστηριότητες τις τοπικής</a:t>
            </a:r>
            <a:br>
              <a:rPr sz="2800"/>
            </a:br>
            <a:r>
              <a:rPr b="0" lang="el-GR" sz="2800" spc="-1" strike="noStrike">
                <a:solidFill>
                  <a:srgbClr val="000000"/>
                </a:solidFill>
                <a:latin typeface="Times New Roman"/>
              </a:rPr>
              <a:t>κοινωνίας όπου ζουν οι  μαθητές αμεα  και οι οικογένειές τους.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97164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Η τοπική κοινωνία</a:t>
            </a:r>
            <a:br>
              <a:rPr sz="2800"/>
            </a:br>
            <a:r>
              <a:rPr b="0" lang="el-GR" sz="2800" spc="-1" strike="noStrike">
                <a:solidFill>
                  <a:srgbClr val="000000"/>
                </a:solidFill>
                <a:latin typeface="Times New Roman"/>
              </a:rPr>
              <a:t>αποτελεί πεδίο πρακτικής εφαρμογής, επαλήθευσης, επαναπροσδιορισμού και</a:t>
            </a:r>
            <a:br>
              <a:rPr sz="2800"/>
            </a:br>
            <a:r>
              <a:rPr b="0" lang="el-GR" sz="2800" spc="-1" strike="noStrike">
                <a:solidFill>
                  <a:srgbClr val="000000"/>
                </a:solidFill>
                <a:latin typeface="Times New Roman"/>
              </a:rPr>
              <a:t>γενίκευσης των μεθόδων και των τεχνικών που εφαρμόζονται εντός του σχολικού</a:t>
            </a:r>
            <a:br>
              <a:rPr sz="2800"/>
            </a:br>
            <a:r>
              <a:rPr b="0" lang="el-GR" sz="2800" spc="-1" strike="noStrike">
                <a:solidFill>
                  <a:srgbClr val="000000"/>
                </a:solidFill>
                <a:latin typeface="Times New Roman"/>
              </a:rPr>
              <a:t>πλαισίου και έχουν ως στόχο την ισότιμη κοινωνική συμμετοχή των μαθητών με ειδικές</a:t>
            </a:r>
            <a:br>
              <a:rPr sz="2800"/>
            </a:br>
            <a:r>
              <a:rPr b="0" lang="el-GR" sz="2800" spc="-1" strike="noStrike">
                <a:solidFill>
                  <a:srgbClr val="000000"/>
                </a:solidFill>
                <a:latin typeface="Times New Roman"/>
              </a:rPr>
              <a:t>εκπαιδευτικές ανάγκες (Law, et al., 2006: 342).</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11600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Εξωσχολικές κοινωνικές δραστηριότητες</a:t>
            </a:r>
            <a:br>
              <a:rPr sz="3200"/>
            </a:br>
            <a:br>
              <a:rPr sz="3200"/>
            </a:br>
            <a:br>
              <a:rPr sz="3200"/>
            </a:br>
            <a:r>
              <a:rPr b="1" lang="el-GR" sz="2000" spc="-1" strike="noStrike">
                <a:solidFill>
                  <a:srgbClr val="000099"/>
                </a:solidFill>
                <a:latin typeface="Times New Roman"/>
                <a:ea typeface="Arial"/>
              </a:rPr>
              <a:t>ΕΙΣΗΓΗΤΗΣ: Γούπος Θεόδωρος,  δρ. Παιδαγωγικών</a:t>
            </a:r>
            <a:endParaRPr b="0" lang="en-US" sz="20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87" name="Picture 9" descr=""/>
          <p:cNvPicPr/>
          <p:nvPr/>
        </p:nvPicPr>
        <p:blipFill>
          <a:blip r:embed="rId1"/>
          <a:stretch/>
        </p:blipFill>
        <p:spPr>
          <a:xfrm>
            <a:off x="0" y="0"/>
            <a:ext cx="9144000" cy="1368360"/>
          </a:xfrm>
          <a:prstGeom prst="rect">
            <a:avLst/>
          </a:prstGeom>
          <a:ln w="0">
            <a:noFill/>
          </a:ln>
        </p:spPr>
      </p:pic>
      <p:pic>
        <p:nvPicPr>
          <p:cNvPr id="1188" name="Picture 10" descr=""/>
          <p:cNvPicPr/>
          <p:nvPr/>
        </p:nvPicPr>
        <p:blipFill>
          <a:blip r:embed="rId2"/>
          <a:stretch/>
        </p:blipFill>
        <p:spPr>
          <a:xfrm>
            <a:off x="1258920" y="2060640"/>
            <a:ext cx="1297080" cy="1528560"/>
          </a:xfrm>
          <a:prstGeom prst="rect">
            <a:avLst/>
          </a:prstGeom>
          <a:ln w="0">
            <a:noFill/>
          </a:ln>
        </p:spPr>
      </p:pic>
      <p:pic>
        <p:nvPicPr>
          <p:cNvPr id="1189" name="12 - Εικόνα" descr=""/>
          <p:cNvPicPr/>
          <p:nvPr/>
        </p:nvPicPr>
        <p:blipFill>
          <a:blip r:embed="rId3"/>
          <a:stretch/>
        </p:blipFill>
        <p:spPr>
          <a:xfrm>
            <a:off x="6948360" y="1989000"/>
            <a:ext cx="1444680" cy="1573200"/>
          </a:xfrm>
          <a:prstGeom prst="rect">
            <a:avLst/>
          </a:prstGeom>
          <a:ln w="0">
            <a:noFill/>
          </a:ln>
        </p:spPr>
      </p:pic>
      <p:sp>
        <p:nvSpPr>
          <p:cNvPr id="1190"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191"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23640" y="1125000"/>
            <a:ext cx="8351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χώρες όπου η κοινωνική διάσταση της ένταξης των μαθητών με αναπηρία προωθείται από το σχολικό πλαίσιο ολοκληρωμένα και με σχεδιασμό </a:t>
            </a:r>
            <a:br>
              <a:rPr sz="2800"/>
            </a:br>
            <a:r>
              <a:rPr b="0" lang="el-GR" sz="2800" spc="-1" strike="noStrike">
                <a:solidFill>
                  <a:srgbClr val="000000"/>
                </a:solidFill>
                <a:latin typeface="Times New Roman"/>
              </a:rPr>
              <a:t>επιδιώκεται και η διασύνδεση των ενταξιακών διαδικασιών με εξωσχολικές δραστηριότητες. </a:t>
            </a:r>
            <a:br>
              <a:rPr sz="2800"/>
            </a:br>
            <a:r>
              <a:rPr b="0" lang="el-GR" sz="2800" spc="-1" strike="noStrike">
                <a:solidFill>
                  <a:srgbClr val="000000"/>
                </a:solidFill>
                <a:latin typeface="Times New Roman"/>
              </a:rPr>
              <a:t>Η ενεργητική συμμετοχή των μαθητών αμεα σε εξωσχολικές δραστηριότητες θεωρείται</a:t>
            </a:r>
            <a:br>
              <a:rPr sz="2800"/>
            </a:br>
            <a:r>
              <a:rPr b="0" lang="el-GR" sz="2800" spc="-1" strike="noStrike">
                <a:solidFill>
                  <a:srgbClr val="000000"/>
                </a:solidFill>
                <a:latin typeface="Times New Roman"/>
              </a:rPr>
              <a:t>εξαιρετικά σημαντική για την κοινωνική και συναισθηματική ανάπτυξη όλων των</a:t>
            </a:r>
            <a:br>
              <a:rPr sz="2800"/>
            </a:br>
            <a:r>
              <a:rPr b="0" lang="el-GR" sz="2800" spc="-1" strike="noStrike">
                <a:solidFill>
                  <a:srgbClr val="000000"/>
                </a:solidFill>
                <a:latin typeface="Times New Roman"/>
              </a:rPr>
              <a:t>μαθητών.</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95280" y="907560"/>
            <a:ext cx="813744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ίσθηση  των μαθητών αμεα ότι αποτελούν μέλη μιας ομάδας ή της κοινότητας στην οποία ζουν</a:t>
            </a:r>
            <a:br>
              <a:rPr sz="2800"/>
            </a:br>
            <a:r>
              <a:rPr b="0" lang="el-GR" sz="2800" spc="-1" strike="noStrike">
                <a:solidFill>
                  <a:srgbClr val="000000"/>
                </a:solidFill>
                <a:latin typeface="Times New Roman"/>
              </a:rPr>
              <a:t>ενισχύει την κοινωνική τους αποδοχή ενισχύει και ενδυναμώνει τη σύναψη ισότιμων σχέσεων </a:t>
            </a:r>
            <a:br>
              <a:rPr sz="2800"/>
            </a:br>
            <a:r>
              <a:rPr b="0" lang="el-GR" sz="2800" spc="-1" strike="noStrike">
                <a:solidFill>
                  <a:srgbClr val="000000"/>
                </a:solidFill>
                <a:latin typeface="Times New Roman"/>
              </a:rPr>
              <a:t>με τους συνομήλικους, </a:t>
            </a:r>
            <a:br>
              <a:rPr sz="2800"/>
            </a:br>
            <a:r>
              <a:rPr b="0" lang="el-GR" sz="2800" spc="-1" strike="noStrike">
                <a:solidFill>
                  <a:srgbClr val="000000"/>
                </a:solidFill>
                <a:latin typeface="Times New Roman"/>
              </a:rPr>
              <a:t>εδραιώνει τον ρόλο τους μέσα στην οικογένειά τους, </a:t>
            </a:r>
            <a:br>
              <a:rPr sz="2800"/>
            </a:br>
            <a:r>
              <a:rPr b="0" lang="el-GR" sz="2800" spc="-1" strike="noStrike">
                <a:solidFill>
                  <a:srgbClr val="000000"/>
                </a:solidFill>
                <a:latin typeface="Times New Roman"/>
              </a:rPr>
              <a:t>στις σχολικές μονάδες όπου φοιτούν, </a:t>
            </a:r>
            <a:br>
              <a:rPr sz="2800"/>
            </a:br>
            <a:r>
              <a:rPr b="0" lang="el-GR" sz="2800" spc="-1" strike="noStrike">
                <a:solidFill>
                  <a:srgbClr val="000000"/>
                </a:solidFill>
                <a:latin typeface="Times New Roman"/>
              </a:rPr>
              <a:t>στην τοπική κοινότητα και τέλος, </a:t>
            </a:r>
            <a:br>
              <a:rPr sz="2800"/>
            </a:br>
            <a:r>
              <a:rPr b="0" lang="el-GR" sz="2800" spc="-1" strike="noStrike">
                <a:solidFill>
                  <a:srgbClr val="000000"/>
                </a:solidFill>
                <a:latin typeface="Times New Roman"/>
              </a:rPr>
              <a:t>συμβάλλει στη διαμόρφωση  της προσωπικότητάς τους (King, Petrenchik, Law &amp; Hurley, 2009:127).</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4T04:14:54Z</dcterms:modified>
  <cp:revision>165</cp:revision>
  <dc:subject/>
  <dc:title>Παρουσίαση του PowerPoint</dc:title>
</cp:coreProperties>
</file>