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65BF-44FC-4ECE-AA88-604047E4591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8C65-9707-4730-85D8-B07A9A88B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C01C-10CD-4017-B20C-C8C2623BF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E3EF-64B8-4975-A480-17CB31BDA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AF29-C5F6-4A63-B2DA-A1E08ECC2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5186-7E25-45CE-AEBC-DEE375C17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B524-03F7-45D7-9FC6-BF912D6A2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E893-8B4F-40C8-97DF-6C6B60817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0B86-C231-4214-AF26-92685C50D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0294-4950-4F80-AC28-91F8AF0A0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985680" y="741240"/>
            <a:ext cx="4886640" cy="3665520"/>
          </a:xfrm>
          <a:prstGeom prst="rect">
            <a:avLst/>
          </a:prstGeom>
          <a:ln w="0">
            <a:noFill/>
          </a:ln>
        </p:spPr>
      </p:sp>
      <p:sp>
        <p:nvSpPr>
          <p:cNvPr id="9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4E3A-FD69-49F1-B726-D1A37FC70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985680" y="741240"/>
            <a:ext cx="4886640" cy="3665520"/>
          </a:xfrm>
          <a:prstGeom prst="rect">
            <a:avLst/>
          </a:prstGeom>
          <a:ln w="0">
            <a:noFill/>
          </a:ln>
        </p:spPr>
      </p:sp>
      <p:sp>
        <p:nvSpPr>
          <p:cNvPr id="9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A4EB-EF53-499F-A5D7-CBE6C9118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0014-A1AA-4F5D-81D4-243EA69F9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sldImg"/>
          </p:nvPr>
        </p:nvSpPr>
        <p:spPr>
          <a:xfrm>
            <a:off x="985680" y="741240"/>
            <a:ext cx="4886640" cy="3665520"/>
          </a:xfrm>
          <a:prstGeom prst="rect">
            <a:avLst/>
          </a:prstGeom>
          <a:ln w="0">
            <a:noFill/>
          </a:ln>
        </p:spPr>
      </p:sp>
      <p:sp>
        <p:nvSpPr>
          <p:cNvPr id="9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62AA-5216-4684-941F-422F9DEF8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68FB-8B7F-47F3-85F6-201DF0A5C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sldImg"/>
          </p:nvPr>
        </p:nvSpPr>
        <p:spPr>
          <a:xfrm>
            <a:off x="985680" y="741240"/>
            <a:ext cx="4886640" cy="3665520"/>
          </a:xfrm>
          <a:prstGeom prst="rect">
            <a:avLst/>
          </a:prstGeom>
          <a:ln w="0">
            <a:noFill/>
          </a:ln>
        </p:spPr>
      </p:sp>
      <p:sp>
        <p:nvSpPr>
          <p:cNvPr id="9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673A-8D65-48B5-B845-970C008B3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985680" y="741240"/>
            <a:ext cx="4886640" cy="3665520"/>
          </a:xfrm>
          <a:prstGeom prst="rect">
            <a:avLst/>
          </a:prstGeom>
          <a:ln w="0">
            <a:noFill/>
          </a:ln>
        </p:spPr>
      </p:sp>
      <p:sp>
        <p:nvSpPr>
          <p:cNvPr id="9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82C7-0E66-4492-A7AA-59F044FB7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985680" y="741240"/>
            <a:ext cx="4886640" cy="3665520"/>
          </a:xfrm>
          <a:prstGeom prst="rect">
            <a:avLst/>
          </a:prstGeom>
          <a:ln w="0">
            <a:noFill/>
          </a:ln>
        </p:spPr>
      </p:sp>
      <p:sp>
        <p:nvSpPr>
          <p:cNvPr id="9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8132-81D1-4469-A03F-2495EC970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0C24-5238-4853-853F-9CA893807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985680" y="741240"/>
            <a:ext cx="4886640" cy="3665520"/>
          </a:xfrm>
          <a:prstGeom prst="rect">
            <a:avLst/>
          </a:prstGeom>
          <a:ln w="0">
            <a:noFill/>
          </a:ln>
        </p:spPr>
      </p:sp>
      <p:sp>
        <p:nvSpPr>
          <p:cNvPr id="9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980A-0185-42D0-A0D8-F8E2D3E48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85680" y="741240"/>
            <a:ext cx="4886640" cy="3665520"/>
          </a:xfrm>
          <a:prstGeom prst="rect">
            <a:avLst/>
          </a:prstGeom>
          <a:ln w="0">
            <a:noFill/>
          </a:ln>
        </p:spPr>
      </p:sp>
      <p:sp>
        <p:nvSpPr>
          <p:cNvPr id="9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9412-138F-4739-BED9-4CF268F91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985680" y="741240"/>
            <a:ext cx="4886640" cy="3665520"/>
          </a:xfrm>
          <a:prstGeom prst="rect">
            <a:avLst/>
          </a:prstGeom>
          <a:ln w="0">
            <a:noFill/>
          </a:ln>
        </p:spPr>
      </p:sp>
      <p:sp>
        <p:nvSpPr>
          <p:cNvPr id="9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F8CA-DEB0-4A67-89E6-175D0CCBB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85680" y="741240"/>
            <a:ext cx="4886640" cy="3665520"/>
          </a:xfrm>
          <a:prstGeom prst="rect">
            <a:avLst/>
          </a:prstGeom>
          <a:ln w="0">
            <a:noFill/>
          </a:ln>
        </p:spPr>
      </p:sp>
      <p:sp>
        <p:nvSpPr>
          <p:cNvPr id="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E319-5B04-45D6-8D1C-FE7CAAC5C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40B1-AB66-4970-9938-172FB957A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985680" y="741240"/>
            <a:ext cx="4886640" cy="3665520"/>
          </a:xfrm>
          <a:prstGeom prst="rect">
            <a:avLst/>
          </a:prstGeom>
          <a:ln w="0">
            <a:noFill/>
          </a:ln>
        </p:spPr>
      </p:sp>
      <p:sp>
        <p:nvSpPr>
          <p:cNvPr id="9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12F9-6725-4551-9DF9-B76D3DDE4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85680" y="741240"/>
            <a:ext cx="4886640" cy="3665520"/>
          </a:xfrm>
          <a:prstGeom prst="rect">
            <a:avLst/>
          </a:prstGeom>
          <a:ln w="0">
            <a:noFill/>
          </a:ln>
        </p:spPr>
      </p:sp>
      <p:sp>
        <p:nvSpPr>
          <p:cNvPr id="9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00CC-3682-442F-8A85-BC08CAC8F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985680" y="741240"/>
            <a:ext cx="4886640" cy="3665520"/>
          </a:xfrm>
          <a:prstGeom prst="rect">
            <a:avLst/>
          </a:prstGeom>
          <a:ln w="0">
            <a:noFill/>
          </a:ln>
        </p:spPr>
      </p:sp>
      <p:sp>
        <p:nvSpPr>
          <p:cNvPr id="9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6D2F-0795-4EDC-AA9B-2AB87DB8E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85680" y="741240"/>
            <a:ext cx="4886640" cy="3665520"/>
          </a:xfrm>
          <a:prstGeom prst="rect">
            <a:avLst/>
          </a:prstGeom>
          <a:ln w="0">
            <a:noFill/>
          </a:ln>
        </p:spPr>
      </p:sp>
      <p:sp>
        <p:nvSpPr>
          <p:cNvPr id="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16C5-4233-4B32-A911-8A3AEEA6C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985680" y="741240"/>
            <a:ext cx="4886640" cy="3665520"/>
          </a:xfrm>
          <a:prstGeom prst="rect">
            <a:avLst/>
          </a:prstGeom>
          <a:ln w="0">
            <a:noFill/>
          </a:ln>
        </p:spPr>
      </p:sp>
      <p:sp>
        <p:nvSpPr>
          <p:cNvPr id="9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262C-D23B-482E-808C-F12F64482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15DB-B50A-4E98-AB14-AE9ECCCD1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985680" y="741240"/>
            <a:ext cx="4886640" cy="3665520"/>
          </a:xfrm>
          <a:prstGeom prst="rect">
            <a:avLst/>
          </a:prstGeom>
          <a:ln w="0">
            <a:noFill/>
          </a:ln>
        </p:spPr>
      </p:sp>
      <p:sp>
        <p:nvSpPr>
          <p:cNvPr id="9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0DAC-CFD8-44F1-9BB8-AD7D1A715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85680" y="741240"/>
            <a:ext cx="4886640" cy="3665520"/>
          </a:xfrm>
          <a:prstGeom prst="rect">
            <a:avLst/>
          </a:prstGeom>
          <a:ln w="0">
            <a:noFill/>
          </a:ln>
        </p:spPr>
      </p:sp>
      <p:sp>
        <p:nvSpPr>
          <p:cNvPr id="1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34EF-338F-4FE7-8E66-8EB1E83B3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985680" y="741240"/>
            <a:ext cx="4886640" cy="3665520"/>
          </a:xfrm>
          <a:prstGeom prst="rect">
            <a:avLst/>
          </a:prstGeom>
          <a:ln w="0">
            <a:noFill/>
          </a:ln>
        </p:spPr>
      </p:sp>
      <p:sp>
        <p:nvSpPr>
          <p:cNvPr id="10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045F-47C8-46C8-8F89-CF4690E6A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85680" y="741240"/>
            <a:ext cx="4886640" cy="3665520"/>
          </a:xfrm>
          <a:prstGeom prst="rect">
            <a:avLst/>
          </a:prstGeom>
          <a:ln w="0">
            <a:noFill/>
          </a:ln>
        </p:spPr>
      </p:sp>
      <p:sp>
        <p:nvSpPr>
          <p:cNvPr id="10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70DB-E7E4-40B8-83E1-8E620A20B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AB97-D493-4E5F-B61E-4E6167650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3A05-F931-4E11-9F7E-998C3D80F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7267-B2E3-409C-AAB2-4AA316261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5F8E-5BC0-4615-B19D-639F14AFD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4A25-F99F-41E9-853C-6B1A0A84E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70581-0411-4956-9C2D-8C1BC339B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E26C8-8E7A-4256-A355-8E4B63274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D077A8-743B-4209-8BBE-41DA509464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67ECB7-C948-4496-885F-4BC5904489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D601A-EF82-484F-88E8-F58C4ADD6B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955F59-C46D-4351-BBCA-6982D628F9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0D0EF5-D54D-47EE-BB09-04410661F1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B1936A-A8A6-47EA-8B21-D76F178A2C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B8C697-4D11-4554-BB1E-3A4239710D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7A1793-9FA7-4306-8E45-CFA23EAAE4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FBD698-B740-4E8B-8A4A-AB87B01F83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D7259B-E2A8-4ABD-A11E-5D39ECFBF3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3D419-E33F-40E6-BA56-C81305124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3D6D77-5DE3-4CAB-972F-54814C2EBF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1A3F5B-B3D3-454A-A228-BA04651A10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CA0E6E-202D-4E2D-BBA3-6E57069D5D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641051-0AB0-4C10-B675-6BD69EA3DC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5873D9-5BBA-45BE-BC54-A9363ED9AF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C601BD-B5A9-4728-9B0A-388AD004CD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17684C-845B-4616-92D1-F89054BD46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5E71D2-41D0-4D54-9B94-2A37EAF053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961B51-FA79-4B8F-B520-4C9626EA2F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9C98E2-75E0-47A9-9E91-1D24EE4FD5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09A70-93EC-4D76-93E1-F234D6B48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8D3468-B044-4933-9BD6-DCA401FDCE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3CD947-55E3-4CB5-B3C8-532A5AAC9C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867016-1439-4B42-9BA9-1D5B4D6785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871D10-2976-4171-8118-CFF371058B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9E177E-8012-4A2C-B1A5-864A01C8D2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D57A04-1982-4CC2-84A5-FD3C8DAA90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8F37D1-2895-47BB-AFE9-DB3F29B160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63C8D2-664D-437B-881C-FE613596DB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40FE34-DA38-4E12-89CC-7DFF89D01C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3D06E5-2F25-4441-9AD0-0346BDDFBB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4875E-43FC-43FD-96BF-568E25080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9F6ACE-5285-4493-95B3-EBA6FC3286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F33D7D0-18DF-422E-A798-E36F2B5F89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2AC9E3-3BAA-4E7F-BD8D-4067DE9D73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96591E-7EE5-41FC-822B-2A1C52DD1EC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D41BE1-6F61-4E64-8400-7FEDB832D3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A93179-6ACC-47B5-908F-5C46019CF0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9B00B2-1A1E-4EA2-9D37-C880BD8159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6D1914-85EC-4913-BA7F-22F96CD2E8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6919F9-655F-42BD-9071-5B190A696F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50BC32-FB47-4159-B6C1-EF5AC593AB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155F3-EE3F-4EDE-8373-613C405D2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F4269B-6715-4241-A403-21390D3F10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3E9F1F-555E-474B-9606-5AFCFF11FF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9E5585-8976-4670-AF04-F35A149747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84ED4A-1370-40ED-8F7A-5F6BDE3D9B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881CB3-B0E3-484B-B542-C83FC7DDFF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9726ED84-D209-4078-BDD7-1CFF3B811AC1}"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AEAE59C-14F8-4647-846A-7C717676EE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874146F-A937-4807-BCB8-3FDFE792B8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D138850-61C6-42E4-AE5F-20AD9D53CC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A0E8ACC1-2D3D-4213-9FF1-26B809810C4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7A171-C7D3-4EEC-9B20-0BA2E6C48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79213630-0F0F-4A03-ABEE-7E8DB74634D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90D90587-3656-4ACF-B2DF-A0464ACD7E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7197FD6-7440-41C7-BD5E-D91CF35EBA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71082DE-C5B6-467E-9178-F7E5ECDCD8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4321086-3852-40E1-AB42-3D9A1734D5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6C7C6385-B943-4B20-AE69-2B78F4EDF0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E71613CB-C57B-41C8-91D4-EE680B1C08D2}"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D0263-2C36-4C44-BEC5-B7DE721EE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D605A-25C9-4249-B543-4B4348F87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68573-0EB4-4422-922E-91E6B0A3E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35DA3-E723-49C9-BA2B-7ABD3AC54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DD5DC-EB5C-4DD4-A77B-AEAFAA7B1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A73F4-214B-4622-BBFE-4194883DF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4D0ED-8449-4E0C-AED5-A979C0382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A72C8-167E-42CE-8F74-B222FFEF5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507BA-0109-4150-A911-5C809A537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BA292-04FE-4DA5-93EE-95A7B9A42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739083-F52E-4288-9F5B-2B13E14D61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C0C10D-A1BA-4E5E-9548-06C24A30E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F63784-33E9-4961-9817-B944019145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3EAC4-7DC3-4A71-9819-94A7B5834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A89DD4-2D5F-4CC2-A5A7-A4C7D22EC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5DFC1-A07E-4BF8-B17E-DA744DF8F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69BEF4-2034-4D1D-ACA0-B5ED46C40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BD058-AF3A-4F07-83AC-26838632F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89D3BB-C9D3-4A95-88C7-B3F4E1DFD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D01E6-2A36-4615-AEAF-BD6A2355C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0EF4DE-CC04-49EA-9E95-818DE4B77C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57C440-1F50-4652-9813-A76D335E97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68FF4B-E2B8-4CDE-AE23-A0A796229F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8CE530-00D2-4EE9-91E1-D35039D343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308F4D-635F-45CF-A44D-BFF5A7AB6C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AED0F1-6D7E-4635-862A-A4EC565E3E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E615C-C400-4F2A-A3F6-05BE2554C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64FEEF-9979-4F1D-AAEE-1FDE3704A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F38274-9285-4028-ABF0-A46589D907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AD72E2-B718-49F4-A1C0-49647A94D9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94325-B73D-4FB4-BE90-F06FA797F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BFA9B-E293-4036-AA43-37D59AD2F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521DF-9418-4C42-B47B-08C70E9D1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29CAF8-A276-4023-AAD0-68D79571BD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CA9D82-FD19-44BA-A1FA-3E9BEAFF4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E0F195-79F6-43AF-AA2E-C1B57F0A6A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AC7211-EEAD-442E-A074-1EA2AA20EB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A9B6C-346C-49C8-B956-C01B33290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616B1C-3E8B-44E0-8482-6B93C41128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756C59-2B84-4926-8B1A-7B4296E1B3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FD386E-85B9-41E4-9940-E70F282D35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379ACF-BBDF-4CDB-9166-B7E8D830D4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6B9A09-1BB6-444F-96C9-C5D9ADB344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4682A-01A4-4890-83D4-9FD685AD29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27F6B3-8E7C-4C17-91EB-250A46490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FFEE49-4157-497A-ADDB-091A417EE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FF718-0D8F-458C-A0E7-F7BACC89B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DB78C1-6FB3-4435-8E48-FE363B7348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7271F-091B-4C84-A9CD-75AFB44E0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E939A2-9E73-4889-BFAC-DE23339C6F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1A5AE7-3361-45BF-A9AF-83D5FD41C2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353DF7-D0EC-4115-A689-203ABA278B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1F3E6B-4CA9-4059-9EA3-58AE5EB3A2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E870E3-BB7A-4FD6-9D4E-6A17E6C2CA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359F81-63EB-457E-B325-53B14EBED9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544E9A-9E58-40C3-95B2-1B0AD48720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BE1E29-32ED-4CD4-A806-D6D551BEE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D5BD0D-D070-475B-AE6D-7669B2DEB8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B44D4F-B16E-4A49-8FB3-2DED4254E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DCA9B-DED4-4EEA-A22C-F35510A4A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8BC212-4B81-495B-9366-29EBFCFE1A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11A3EA-2EB5-493A-BD09-7FF33D31AE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36EAE9-771C-4C3F-8D47-2AEB9E4B47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843A11-6CCF-4978-8184-26577AEC03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5B5D77-F7C8-4A3B-B560-F69B9E6893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AB494E-4068-4A60-9A19-45382C6BDB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D56674-6ECF-42FC-8EBB-C82838D442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6EBC55-239A-4E6A-8F1E-0ED0BBC693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5B8055-7268-4096-9043-FF104BC370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B1552-2DFC-49C0-89CA-918387C81D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AFD7-4B59-4957-9C42-77E0E559D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68913-8A4C-44ED-9F6F-8C56E6281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F062E2-BA9A-4E17-93C7-BCE753493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207129-1DB1-4509-A7C7-CDD708AA1D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D29463-B27D-46EB-B782-5C19AC2184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6A0983-A12F-48BD-8F43-1715B2C1A9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062990-BE45-49A7-B3DE-1C5D5E71B9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4E5861-1CFC-4FC7-8100-FAEFABBF09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474359-8B08-4CCF-AC9B-741F6F0FE2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2A0079-82B0-48AF-907A-D2FDB74FAC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DE3FBF-463B-49F6-9ECB-F350DC74D1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2ED19-0EEB-4D9A-B8CF-1F15E3771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74219A-85C6-428C-BAD0-F0960ABA7B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C23E94-044F-4720-BBF0-D98703DD3F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0E2492-D720-43F7-81F0-971918A75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EF59D6-A920-4611-838D-B4AD3C06D3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2231B6-2724-4084-BC83-006B0838C6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4395A4-76F1-40AD-ABBA-2A258FBA84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EAC33D-F760-494D-9A8B-72D01390F3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6FE8C4-0B57-4C78-8F8D-836789E7C3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DF325D-2953-4E13-A49C-6F194C2DDF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863F6D-91E2-490C-B585-9A658DEA35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82E5-B9B4-41ED-82BB-50384EB5796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92EC-53A0-41BA-A002-3195D57254D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F06A-E743-4DF2-B8BF-129F8831521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22C4-DBE5-48DC-B4D1-CFF2BF7C3DA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DF83-F54A-4C5C-BCE2-376A71558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6B8F-2205-46E4-8A08-97C9C6FD954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916C-7D79-4BC2-AFB1-AF50337932C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7ECA-03B7-4295-A4D4-73A3113D869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9FF2-E5E9-40A3-AD44-51D882246D6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949E-975A-4F63-8EDF-5E70E09DDF4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E242-7C4B-488F-85E0-FEC9583358D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CCF0-597A-4193-B82D-B3E93B16A4F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8DDE-1AC1-4109-BD59-134CD346EC6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a:t>
            </a:r>
            <a:r>
              <a:rPr b="1" lang="el-GR" sz="2800" spc="-1" strike="noStrike">
                <a:solidFill>
                  <a:srgbClr val="000000"/>
                </a:solidFill>
                <a:latin typeface="Times New Roman"/>
              </a:rPr>
              <a:t>τον τρόπο που οργανώνουν οι εκπαιδευτικοί την ένταξη </a:t>
            </a:r>
            <a:br>
              <a:rPr sz="2800"/>
            </a:br>
            <a:br>
              <a:rPr sz="2800"/>
            </a:br>
            <a:r>
              <a:rPr b="0" lang="el-GR" sz="2800" spc="-1" strike="noStrike">
                <a:solidFill>
                  <a:srgbClr val="000000"/>
                </a:solidFill>
                <a:latin typeface="Times New Roman"/>
              </a:rPr>
              <a:t>το 41,54% του γενικού συνόλου υποστήριξε ότι είναι ικανό να οργανώσει τη τάξη του έτσι ώστε να</a:t>
            </a:r>
            <a:br>
              <a:rPr sz="2800"/>
            </a:br>
            <a:r>
              <a:rPr b="0" lang="el-GR" sz="2800" spc="-1" strike="noStrike">
                <a:solidFill>
                  <a:srgbClr val="000000"/>
                </a:solidFill>
                <a:latin typeface="Times New Roman"/>
              </a:rPr>
              <a:t>ανταποκριθεί στην ένταξη μαθητών με εεα/αναπηρίες.</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3964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λυτικότερα, το 35,5%  απάντησε ότι μπορεί να οργανώσει αποτελεσματική ένταξη ενός παιδιού ΜΕΑ στη τάξη. </a:t>
            </a:r>
            <a:br>
              <a:rPr sz="2800"/>
            </a:br>
            <a:br>
              <a:rPr sz="2800"/>
            </a:br>
            <a:r>
              <a:rPr b="0" lang="el-GR" sz="2800" spc="-1" strike="noStrike">
                <a:solidFill>
                  <a:srgbClr val="000000"/>
                </a:solidFill>
                <a:latin typeface="Times New Roman"/>
              </a:rPr>
              <a:t>Το 51,6% των εκπαιδευτικών είπε ότι είναι σε θέση να οργανώσει αποτελεσματική ένταξη ενός</a:t>
            </a:r>
            <a:br>
              <a:rPr sz="2800"/>
            </a:br>
            <a:r>
              <a:rPr b="0" lang="el-GR" sz="2800" spc="-1" strike="noStrike">
                <a:solidFill>
                  <a:srgbClr val="000000"/>
                </a:solidFill>
                <a:latin typeface="Times New Roman"/>
              </a:rPr>
              <a:t>παιδιού με μαθησιακές δυσκολίες στο σχολείο γενικά.</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58,1%  υποστήριξε ότι μπορεί να δημιουργήσει συνθήκες αποτελεσματικής μάθησης. </a:t>
            </a: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61,3% δήλωσε ότι μπορεί να προσαρμοστεί σε κάθε είδος ειδικής αγωγής που</a:t>
            </a:r>
            <a:br>
              <a:rPr sz="2800"/>
            </a:br>
            <a:r>
              <a:rPr b="0" lang="el-GR" sz="2800" spc="-1" strike="noStrike">
                <a:solidFill>
                  <a:srgbClr val="000000"/>
                </a:solidFill>
                <a:latin typeface="Times New Roman"/>
              </a:rPr>
              <a:t>μπορεί να έχει ένα παιδί μέσα στη τάξη. </a:t>
            </a:r>
            <a:br>
              <a:rPr sz="2800"/>
            </a:br>
            <a:br>
              <a:rPr sz="2800"/>
            </a:br>
            <a:r>
              <a:rPr b="0" lang="el-GR" sz="2800" spc="-1" strike="noStrike">
                <a:solidFill>
                  <a:srgbClr val="000000"/>
                </a:solidFill>
                <a:latin typeface="Times New Roman"/>
              </a:rPr>
              <a:t>Με ποσοστό 25,8%  υποστηρίχτηκε ότι</a:t>
            </a:r>
            <a:br>
              <a:rPr sz="2800"/>
            </a:br>
            <a:r>
              <a:rPr b="0" lang="el-GR" sz="2800" spc="-1" strike="noStrike">
                <a:solidFill>
                  <a:srgbClr val="000000"/>
                </a:solidFill>
                <a:latin typeface="Times New Roman"/>
              </a:rPr>
              <a:t>οι εκπαιδευτικοί μπορούν να εντάσσουν αποτελεσματικά ένα παιδί στο μάθημα της</a:t>
            </a:r>
            <a:br>
              <a:rPr sz="2800"/>
            </a:br>
            <a:r>
              <a:rPr b="0" lang="el-GR" sz="2800" spc="-1" strike="noStrike">
                <a:solidFill>
                  <a:srgbClr val="000000"/>
                </a:solidFill>
                <a:latin typeface="Times New Roman"/>
              </a:rPr>
              <a:t>Γλώσσας και αντίστοιχα στο μάθημα των Μαθηματικών.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19,4%  δήλωσε ότι</a:t>
            </a:r>
            <a:br>
              <a:rPr sz="2800"/>
            </a:br>
            <a:r>
              <a:rPr b="0" lang="el-GR" sz="2800" spc="-1" strike="noStrike">
                <a:solidFill>
                  <a:srgbClr val="000000"/>
                </a:solidFill>
                <a:latin typeface="Times New Roman"/>
              </a:rPr>
              <a:t>είναι ικανό να εντάσσει αποτελεσματικά ένα παιδί στα μαθήματα κοινωνικού περιεχομένου, </a:t>
            </a:r>
            <a:br>
              <a:rPr sz="2800"/>
            </a:br>
            <a:r>
              <a:rPr b="0" lang="el-GR" sz="2800" spc="-1" strike="noStrike">
                <a:solidFill>
                  <a:srgbClr val="000000"/>
                </a:solidFill>
                <a:latin typeface="Times New Roman"/>
              </a:rPr>
              <a:t>ενώ </a:t>
            </a:r>
            <a:br>
              <a:rPr sz="2800"/>
            </a:br>
            <a:br>
              <a:rPr sz="2800"/>
            </a:br>
            <a:r>
              <a:rPr b="0" lang="el-GR" sz="2800" spc="-1" strike="noStrike">
                <a:solidFill>
                  <a:srgbClr val="000000"/>
                </a:solidFill>
                <a:latin typeface="Times New Roman"/>
              </a:rPr>
              <a:t>με ποσοστό 54,8%  δήλωσαν ότι μπορούν να εντάξουν πιο αποτελεσματικά ένα παιδί ΜΕΑ σε μαθήματα που καλλιεργούν τις τέχνες.</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αφορά στην </a:t>
            </a:r>
            <a:r>
              <a:rPr b="1" lang="el-GR" sz="2800" spc="-1" strike="noStrike">
                <a:solidFill>
                  <a:srgbClr val="000000"/>
                </a:solidFill>
                <a:latin typeface="Times New Roman"/>
              </a:rPr>
              <a:t>προώθηση της κοινωνικοποίησης </a:t>
            </a:r>
            <a:br>
              <a:rPr sz="2800"/>
            </a:br>
            <a:r>
              <a:rPr b="0" lang="el-GR" sz="2800" spc="-1" strike="noStrike">
                <a:solidFill>
                  <a:srgbClr val="000000"/>
                </a:solidFill>
                <a:latin typeface="Times New Roman"/>
              </a:rPr>
              <a:t>το 63,3% του γενικού συνόλου των εκπαιδευτικών που συμμετείχαν στην έρευνα τάχθηκαν υπέρ της κοινωνικοποίησης. </a:t>
            </a:r>
            <a:br>
              <a:rPr sz="2800"/>
            </a:br>
            <a:br>
              <a:rPr sz="2800"/>
            </a:br>
            <a:r>
              <a:rPr b="0" lang="el-GR" sz="2800" spc="-1" strike="noStrike">
                <a:solidFill>
                  <a:srgbClr val="000000"/>
                </a:solidFill>
                <a:latin typeface="Times New Roman"/>
              </a:rPr>
              <a:t>Με ποσοστό 69,4%  οι εκπαιδευτικοί δήλωσαν ότι καλλιεργούν την ανάπτυξη θετικών στάσεων των μαθητών χωρίς ειδικές ανάγκες προς τους μαθητές με ΜΕΑ, καθώς και μπορούν να χειριστούν τους μαθητές με τρόπο που ένα παιδί αμεα να νιώθει αποδεκτό από τους άλλου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86,1% των εκπαιδευτικών</a:t>
            </a:r>
            <a:br>
              <a:rPr sz="2800"/>
            </a:br>
            <a:r>
              <a:rPr b="0" lang="el-GR" sz="2800" spc="-1" strike="noStrike">
                <a:solidFill>
                  <a:srgbClr val="000000"/>
                </a:solidFill>
                <a:latin typeface="Times New Roman"/>
              </a:rPr>
              <a:t>δήλωσε ότι δημιουργεί συνθήκες κοινωνικοποίησης για ένα παιδί με μαθησιακές</a:t>
            </a:r>
            <a:br>
              <a:rPr sz="2800"/>
            </a:br>
            <a:r>
              <a:rPr b="0" lang="el-GR" sz="2800" spc="-1" strike="noStrike">
                <a:solidFill>
                  <a:srgbClr val="000000"/>
                </a:solidFill>
                <a:latin typeface="Times New Roman"/>
              </a:rPr>
              <a:t>δυσκολίες.</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οσοστό των 33,3%  είπε ότι μπορεί να χειριστεί αποτελεσματικά καταστάσεις αποδοκιμασίας ενός παιδιού αμεα από τους</a:t>
            </a:r>
            <a:br>
              <a:rPr sz="2800"/>
            </a:br>
            <a:r>
              <a:rPr b="0" lang="el-GR" sz="2800" spc="-1" strike="noStrike">
                <a:solidFill>
                  <a:srgbClr val="000000"/>
                </a:solidFill>
                <a:latin typeface="Times New Roman"/>
              </a:rPr>
              <a:t>συμμαθητές του, ενώ </a:t>
            </a:r>
            <a:br>
              <a:rPr sz="2800"/>
            </a:br>
            <a:br>
              <a:rPr sz="2800"/>
            </a:br>
            <a:r>
              <a:rPr b="0" lang="el-GR" sz="2800" spc="-1" strike="noStrike">
                <a:solidFill>
                  <a:srgbClr val="000000"/>
                </a:solidFill>
                <a:latin typeface="Times New Roman"/>
              </a:rPr>
              <a:t>το 58,3%  δήλωσε ότι αποδέχεται ένα παιδί ΜΕΑ ανεξάρτητα από το είδος της αναπηρίας του.</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a:t>
            </a:r>
            <a:r>
              <a:rPr b="1" lang="el-GR" sz="2800" spc="-1" strike="noStrike">
                <a:solidFill>
                  <a:srgbClr val="000000"/>
                </a:solidFill>
                <a:latin typeface="Times New Roman"/>
              </a:rPr>
              <a:t>Είναι ικανοποιημένοι οι εκπαιδευτικοί</a:t>
            </a:r>
            <a:br>
              <a:rPr sz="2800"/>
            </a:br>
            <a:r>
              <a:rPr b="1" lang="el-GR" sz="2800" spc="-1" strike="noStrike">
                <a:solidFill>
                  <a:srgbClr val="000000"/>
                </a:solidFill>
                <a:latin typeface="Times New Roman"/>
              </a:rPr>
              <a:t>από την ικανότητά τους να διαφοροποιούν την διδασκαλία τους για να</a:t>
            </a:r>
            <a:br>
              <a:rPr sz="2800"/>
            </a:br>
            <a:r>
              <a:rPr b="1" lang="el-GR" sz="2800" spc="-1" strike="noStrike">
                <a:solidFill>
                  <a:srgbClr val="000000"/>
                </a:solidFill>
                <a:latin typeface="Times New Roman"/>
              </a:rPr>
              <a:t>ανταποκριθούν στις ανάγκες της τάξης και στο αν έχουν μια καλή συνεργασία μεταξύ</a:t>
            </a:r>
            <a:br>
              <a:rPr sz="2800"/>
            </a:br>
            <a:r>
              <a:rPr b="1" lang="el-GR" sz="2800" spc="-1" strike="noStrike">
                <a:solidFill>
                  <a:srgbClr val="000000"/>
                </a:solidFill>
                <a:latin typeface="Times New Roman"/>
              </a:rPr>
              <a:t>τους οι εκπαιδευτικοί;</a:t>
            </a:r>
            <a:r>
              <a:rPr b="0" lang="el-GR" sz="2800" spc="-1" strike="noStrike">
                <a:solidFill>
                  <a:srgbClr val="000000"/>
                </a:solidFill>
                <a:latin typeface="Times New Roman"/>
              </a:rPr>
              <a:t>», έχουμε τις παρακάτω διαπιστώσει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από το συνολικό ποσοστό των εκπαιδευτικών το 75,74% υποστήριξε ότι μπορεί να διαφοροποιήσει την διδακτική του διδασκαλία, προκειμένου να ανταποκριθεί και να συμβαδίζει ανάλογα με την ένταξη. </a:t>
            </a:r>
            <a:br>
              <a:rPr sz="2800"/>
            </a:br>
            <a:br>
              <a:rPr sz="2800"/>
            </a:br>
            <a:r>
              <a:rPr b="0" lang="el-GR" sz="2800" spc="-1" strike="noStrike">
                <a:solidFill>
                  <a:srgbClr val="000000"/>
                </a:solidFill>
                <a:latin typeface="Times New Roman"/>
              </a:rPr>
              <a:t>Με ποσοστό 69,7%  υποστήριξαν ότι οι εκπαιδευτικοί διαφοροποιούν την ύλη για να</a:t>
            </a:r>
            <a:br>
              <a:rPr sz="2800"/>
            </a:br>
            <a:r>
              <a:rPr b="0" lang="el-GR" sz="2800" spc="-1" strike="noStrike">
                <a:solidFill>
                  <a:srgbClr val="000000"/>
                </a:solidFill>
                <a:latin typeface="Times New Roman"/>
              </a:rPr>
              <a:t>ανταποκριθούν σε όλα τα παιδιά της τάξης.</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84,8%  δήλωσε ότι</a:t>
            </a:r>
            <a:br>
              <a:rPr sz="2800"/>
            </a:br>
            <a:r>
              <a:rPr b="0" lang="el-GR" sz="2800" spc="-1" strike="noStrike">
                <a:solidFill>
                  <a:srgbClr val="000000"/>
                </a:solidFill>
                <a:latin typeface="Times New Roman"/>
              </a:rPr>
              <a:t>είναι σε θέση να διαφοροποιήσει αν χρειαστεί το υλικό για να ανταποκριθεί σε όλα τα</a:t>
            </a:r>
            <a:br>
              <a:rPr sz="2800"/>
            </a:br>
            <a:r>
              <a:rPr b="0" lang="el-GR" sz="2800" spc="-1" strike="noStrike">
                <a:solidFill>
                  <a:srgbClr val="000000"/>
                </a:solidFill>
                <a:latin typeface="Times New Roman"/>
              </a:rPr>
              <a:t>παιδιά της τάξης με ή χωρίς ειδικές μαθησιακές δυσκολίε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116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αν</a:t>
            </a:r>
            <a:br>
              <a:rPr sz="2800"/>
            </a:br>
            <a:r>
              <a:rPr b="0" lang="el-GR" sz="2800" spc="-1" strike="noStrike">
                <a:solidFill>
                  <a:srgbClr val="000000"/>
                </a:solidFill>
                <a:latin typeface="Times New Roman"/>
              </a:rPr>
              <a:t>διαφοροποιούν τη διδασκαλία τους για να ανταποκρίνονται σε όλα τα παιδιά της</a:t>
            </a:r>
            <a:br>
              <a:rPr sz="2800"/>
            </a:br>
            <a:r>
              <a:rPr b="0" lang="el-GR" sz="2800" spc="-1" strike="noStrike">
                <a:solidFill>
                  <a:srgbClr val="000000"/>
                </a:solidFill>
                <a:latin typeface="Times New Roman"/>
              </a:rPr>
              <a:t>τάξης, το 87,9%  των εκπαιδευτικών δήλωσε ότι είναι σε θέση να το κάνει.</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Με ποσοστό 69,6% υποστηρίχτηκε ότι οι εκπαιδευτικοί διαφοροποιούν τις</a:t>
            </a:r>
            <a:br>
              <a:rPr sz="2800"/>
            </a:br>
            <a:r>
              <a:rPr b="0" lang="el-GR" sz="2800" spc="-1" strike="noStrike">
                <a:solidFill>
                  <a:srgbClr val="000000"/>
                </a:solidFill>
                <a:latin typeface="Times New Roman"/>
              </a:rPr>
              <a:t>δραστηριότητες εκμάθησης και εμπέδωσης ενός αντικειμένου για να ανταποκρίνονται</a:t>
            </a:r>
            <a:br>
              <a:rPr sz="2800"/>
            </a:br>
            <a:r>
              <a:rPr b="0" lang="el-GR" sz="2800" spc="-1" strike="noStrike">
                <a:solidFill>
                  <a:srgbClr val="000000"/>
                </a:solidFill>
                <a:latin typeface="Times New Roman"/>
              </a:rPr>
              <a:t>σε όλα τα παιδιά, </a:t>
            </a:r>
            <a:br>
              <a:rPr sz="2800"/>
            </a:br>
            <a:br>
              <a:rPr sz="2800"/>
            </a:br>
            <a:r>
              <a:rPr b="0" lang="el-GR" sz="2800" spc="-1" strike="noStrike">
                <a:solidFill>
                  <a:srgbClr val="000000"/>
                </a:solidFill>
                <a:latin typeface="Times New Roman"/>
              </a:rPr>
              <a:t>ενώ το 72,7%  θεωρεί πως είναι ικανό να διαφοροποιήσει τον τρόπο αξιολόγησης του.</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26560" y="1412640"/>
            <a:ext cx="7596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αναφορά την </a:t>
            </a:r>
            <a:r>
              <a:rPr b="1" i="1" lang="el-GR" sz="2800" spc="-1" strike="noStrike">
                <a:solidFill>
                  <a:srgbClr val="000000"/>
                </a:solidFill>
                <a:latin typeface="Times New Roman"/>
              </a:rPr>
              <a:t>συνεργασία των εκπαιδευτικών </a:t>
            </a:r>
            <a:r>
              <a:rPr b="0" lang="el-GR" sz="2800" spc="-1" strike="noStrike">
                <a:solidFill>
                  <a:srgbClr val="000000"/>
                </a:solidFill>
                <a:latin typeface="Times New Roman"/>
              </a:rPr>
              <a:t>το 63,53% των συμμετεχόντων</a:t>
            </a:r>
            <a:br>
              <a:rPr sz="2800"/>
            </a:br>
            <a:r>
              <a:rPr b="0" lang="el-GR" sz="2800" spc="-1" strike="noStrike">
                <a:solidFill>
                  <a:srgbClr val="000000"/>
                </a:solidFill>
                <a:latin typeface="Times New Roman"/>
              </a:rPr>
              <a:t>απάντησε δίνοντας μια θετική εικόνα. </a:t>
            </a:r>
            <a:br>
              <a:rPr sz="2800"/>
            </a:br>
            <a:r>
              <a:rPr b="0" lang="el-GR" sz="2800" spc="-1" strike="noStrike">
                <a:solidFill>
                  <a:srgbClr val="000000"/>
                </a:solidFill>
                <a:latin typeface="Times New Roman"/>
              </a:rPr>
              <a:t>Σχετικά με την συνεργασία των εκπαιδευτικών</a:t>
            </a:r>
            <a:br>
              <a:rPr sz="2800"/>
            </a:br>
            <a:r>
              <a:rPr b="0" lang="el-GR" sz="2800" spc="-1" strike="noStrike">
                <a:solidFill>
                  <a:srgbClr val="000000"/>
                </a:solidFill>
                <a:latin typeface="Times New Roman"/>
              </a:rPr>
              <a:t>με τους άλλους εκπαιδευτικούς, με ποσοστό 86,5%  δήλωσαν ότι συνεργάζονται με τον ειδικό εκπαιδευτικό για την ένταξη ενός παιδιού αμεα στη τάξη. </a:t>
            </a:r>
            <a:br>
              <a:rPr sz="20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69236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67,6%  λέει ότι μπορεί να εντοπίσει τα άτομα στα οποία μπορούν να απευθυνθούν για να τον στηρίξουν όταν υπάρχει στη τάξη παιδί με</a:t>
            </a:r>
            <a:br>
              <a:rPr sz="2800"/>
            </a:br>
            <a:r>
              <a:rPr b="0" lang="el-GR" sz="2800" spc="-1" strike="noStrike">
                <a:solidFill>
                  <a:srgbClr val="000000"/>
                </a:solidFill>
                <a:latin typeface="Times New Roman"/>
              </a:rPr>
              <a:t>μαθησιακές δυσκολίες.</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40,5%  υποστήριξε ότι χρησιμοποιεί την</a:t>
            </a:r>
            <a:br>
              <a:rPr sz="2800"/>
            </a:br>
            <a:r>
              <a:rPr b="0" lang="el-GR" sz="2800" spc="-1" strike="noStrike">
                <a:solidFill>
                  <a:srgbClr val="000000"/>
                </a:solidFill>
                <a:latin typeface="Times New Roman"/>
              </a:rPr>
              <a:t>υπάρχουσα νομοθεσία και τους κανονισμούς για να βελτιώσει τις συνθήκες ένταξης ενός παιδιού.</a:t>
            </a:r>
            <a:br>
              <a:rPr sz="2800"/>
            </a:br>
            <a:br>
              <a:rPr sz="2800"/>
            </a:br>
            <a:r>
              <a:rPr b="0" lang="el-GR" sz="2800" spc="-1" strike="noStrike">
                <a:solidFill>
                  <a:srgbClr val="000000"/>
                </a:solidFill>
                <a:latin typeface="Times New Roman"/>
              </a:rPr>
              <a:t>Το 51,4%  δήλωσε ότι είναι σε θέση να ενημερώσει τους γονείς ενός παιδιού με μαθησιακές ειδικές δυσκολίες για τα δικαιώματα τους με βάση την</a:t>
            </a:r>
            <a:br>
              <a:rPr sz="2800"/>
            </a:br>
            <a:r>
              <a:rPr b="0" lang="el-GR" sz="2800" spc="-1" strike="noStrike">
                <a:solidFill>
                  <a:srgbClr val="000000"/>
                </a:solidFill>
                <a:latin typeface="Times New Roman"/>
              </a:rPr>
              <a:t>ισχύουσα νομοθεσία.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ποσοστό 67,6%  οι εκπαιδευτικοί υποστήριξαν ότι μπορούν ικανοποιητικά να συνεργαστούν με τους γονείς και αντίστοιχα με τους υπόλοιπους εκπαιδευτικούς για την αποτελεσματικότερη ένταξη.</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a:t>
            </a:r>
            <a:br>
              <a:rPr sz="2800"/>
            </a:br>
            <a:r>
              <a:rPr b="0" lang="el-GR" sz="2800" spc="-1" strike="noStrike">
                <a:solidFill>
                  <a:srgbClr val="000000"/>
                </a:solidFill>
                <a:latin typeface="Times New Roman"/>
              </a:rPr>
              <a:t>«</a:t>
            </a:r>
            <a:r>
              <a:rPr b="1" lang="el-GR" sz="2800" spc="-1" strike="noStrike">
                <a:solidFill>
                  <a:srgbClr val="000000"/>
                </a:solidFill>
                <a:latin typeface="Times New Roman"/>
              </a:rPr>
              <a:t>Ποιες οι απόψεις τους για την εκπαίδευση</a:t>
            </a:r>
            <a:br>
              <a:rPr sz="2800"/>
            </a:br>
            <a:r>
              <a:rPr b="1" lang="el-GR" sz="2800" spc="-1" strike="noStrike">
                <a:solidFill>
                  <a:srgbClr val="000000"/>
                </a:solidFill>
                <a:latin typeface="Times New Roman"/>
              </a:rPr>
              <a:t>των παιδιών με μαθησιακές εκπαιδευτικές ανάγκες στο ειδικό σχολείο, τι πιστεύουν</a:t>
            </a:r>
            <a:br>
              <a:rPr sz="2800"/>
            </a:br>
            <a:r>
              <a:rPr b="1" lang="el-GR" sz="2800" spc="-1" strike="noStrike">
                <a:solidFill>
                  <a:srgbClr val="000000"/>
                </a:solidFill>
                <a:latin typeface="Times New Roman"/>
              </a:rPr>
              <a:t>για τις βασικές προϋποθέσεις ένταξης ενός παιδιού με ειδικές μαθησιακές;», </a:t>
            </a:r>
            <a:r>
              <a:rPr b="0" lang="el-GR" sz="2800" spc="-1" strike="noStrike">
                <a:solidFill>
                  <a:srgbClr val="000000"/>
                </a:solidFill>
                <a:latin typeface="Times New Roman"/>
              </a:rPr>
              <a:t>έχουμε τις παρακάτω διαπιστώσει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628280"/>
            <a:ext cx="7596000" cy="415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εκπαίδευση στο ειδικό σχολείο, το 5,9%  συμφωνεί με την</a:t>
            </a:r>
            <a:br>
              <a:rPr sz="2800"/>
            </a:br>
            <a:r>
              <a:rPr b="0" lang="el-GR" sz="2800" spc="-1" strike="noStrike">
                <a:solidFill>
                  <a:srgbClr val="000000"/>
                </a:solidFill>
                <a:latin typeface="Times New Roman"/>
              </a:rPr>
              <a:t>άποψη ότι ένα παιδί που έχει σοβαρά προβλήματα συμπεριφοράς θα πρέπει να</a:t>
            </a:r>
            <a:br>
              <a:rPr sz="2800"/>
            </a:br>
            <a:r>
              <a:rPr b="0" lang="el-GR" sz="2800" spc="-1" strike="noStrike">
                <a:solidFill>
                  <a:srgbClr val="000000"/>
                </a:solidFill>
                <a:latin typeface="Times New Roman"/>
              </a:rPr>
              <a:t>εκπαιδεύεται σε ειδικό σχολείο. </a:t>
            </a:r>
            <a:br>
              <a:rPr sz="2800"/>
            </a:br>
            <a:br>
              <a:rPr sz="2800"/>
            </a:br>
            <a:r>
              <a:rPr b="0" lang="el-GR" sz="2800" spc="-1" strike="noStrike">
                <a:solidFill>
                  <a:srgbClr val="000000"/>
                </a:solidFill>
                <a:latin typeface="Times New Roman"/>
              </a:rPr>
              <a:t>Επιπλέον το 35,3%  πιστεύει ότι ένα παιδί με νοητική καθυστέρηση θα πρέπει να εκπαιδεύεται σε ειδικό σχολείο.</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τέλος με ποσοστό 52,9%  οι εκπαιδευτικοί πιστεύουν ότι κάποιες</a:t>
            </a:r>
            <a:br>
              <a:rPr sz="2800"/>
            </a:br>
            <a:r>
              <a:rPr b="0" lang="el-GR" sz="2800" spc="-1" strike="noStrike">
                <a:solidFill>
                  <a:srgbClr val="000000"/>
                </a:solidFill>
                <a:latin typeface="Times New Roman"/>
              </a:rPr>
              <a:t>κατηγορίες παιδιών με μαθησιακές δυσκολίες μπορούν να εκπαιδεύονται στο γενικό</a:t>
            </a:r>
            <a:br>
              <a:rPr sz="2800"/>
            </a:br>
            <a:r>
              <a:rPr b="0" lang="el-GR" sz="2800" spc="-1" strike="noStrike">
                <a:solidFill>
                  <a:srgbClr val="000000"/>
                </a:solidFill>
                <a:latin typeface="Times New Roman"/>
              </a:rPr>
              <a:t>σχολείο και κάποιες όχι.</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26560" y="134136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ις προϋποθέσεις για την ένταξη, το 35,5%  δήλωσε ότι η βασική προϋπόθεση για ουσιαστική ένταξη ενός παιδιού ΜΕΑ είναι η στάση του εκπαιδευτικού γενικής τάξης. </a:t>
            </a:r>
            <a:br>
              <a:rPr sz="2800"/>
            </a:br>
            <a:br>
              <a:rPr sz="2800"/>
            </a:br>
            <a:r>
              <a:rPr b="0" lang="el-GR" sz="2800" spc="-1" strike="noStrike">
                <a:solidFill>
                  <a:srgbClr val="000000"/>
                </a:solidFill>
                <a:latin typeface="Times New Roman"/>
              </a:rPr>
              <a:t>Το 26,7%  των εκπαιδευτικών είπε ότι η βασική προϋπόθεση για ουσιαστική ένταξη ενός παιδιού ΜΕΑ είναι η στάση των συμμαθητών του.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11600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παρούσα υπο-ενότητα θα  παραθέσουμε   </a:t>
            </a:r>
            <a:r>
              <a:rPr b="0" i="1" lang="el-GR" sz="2800" spc="-1" strike="noStrike">
                <a:solidFill>
                  <a:srgbClr val="000000"/>
                </a:solidFill>
                <a:latin typeface="Times New Roman"/>
              </a:rPr>
              <a:t>έρευνες </a:t>
            </a:r>
            <a:br>
              <a:rPr sz="2800"/>
            </a:br>
            <a:r>
              <a:rPr b="0" lang="el-GR" sz="2800" spc="-1" strike="noStrike">
                <a:solidFill>
                  <a:srgbClr val="000000"/>
                </a:solidFill>
                <a:latin typeface="Times New Roman"/>
              </a:rPr>
              <a:t>για </a:t>
            </a:r>
            <a:r>
              <a:rPr b="1" lang="el-GR" sz="2800" spc="-1" strike="noStrike">
                <a:solidFill>
                  <a:srgbClr val="000000"/>
                </a:solidFill>
                <a:latin typeface="Times New Roman"/>
              </a:rPr>
              <a:t>τις απόψεις και αντιλήψεις  </a:t>
            </a:r>
            <a:br>
              <a:rPr sz="2800"/>
            </a:br>
            <a:r>
              <a:rPr b="1" lang="el-GR" sz="2800" spc="-1" strike="noStrike">
                <a:solidFill>
                  <a:srgbClr val="000000"/>
                </a:solidFill>
                <a:latin typeface="Times New Roman"/>
              </a:rPr>
              <a:t>των εκπαιδευτικών της Γενικής Τάξης </a:t>
            </a:r>
            <a:br>
              <a:rPr sz="2800"/>
            </a:br>
            <a:r>
              <a:rPr b="1" lang="el-GR" sz="2800" spc="-1" strike="noStrike">
                <a:solidFill>
                  <a:srgbClr val="000000"/>
                </a:solidFill>
                <a:latin typeface="Times New Roman"/>
              </a:rPr>
              <a:t>για την ένταξη μαθητών με</a:t>
            </a:r>
            <a:br>
              <a:rPr sz="2800"/>
            </a:br>
            <a:r>
              <a:rPr b="1" lang="el-GR" sz="2800" spc="-1" strike="noStrike">
                <a:solidFill>
                  <a:srgbClr val="000000"/>
                </a:solidFill>
                <a:latin typeface="Times New Roman"/>
              </a:rPr>
              <a:t>Ειδικές Μαθησια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έσα από τα  παρακάτω ερωτήματα: </a:t>
            </a: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61128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Τέλος, με ποσοστό 40%  πιστεύουν οι εκπαιδευτικοί ότι βασική προϋπόθεση για ουσιαστική ένταξη είναι η στάση της οικογένειας του παιδιού.</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που αφορούν στις απόψεις των εκπαιδευτικών για την ένταξη</a:t>
            </a:r>
            <a:br>
              <a:rPr sz="2800"/>
            </a:br>
            <a:r>
              <a:rPr b="0" lang="el-GR" sz="2800" spc="-1" strike="noStrike">
                <a:solidFill>
                  <a:srgbClr val="000000"/>
                </a:solidFill>
                <a:latin typeface="Times New Roman"/>
              </a:rPr>
              <a:t>καταδεικνύουν ότι η κατηγοριοποίηση κυριαρχεί στη σκέψη τους, με αποτέλεσμα να</a:t>
            </a:r>
            <a:br>
              <a:rPr sz="2800"/>
            </a:br>
            <a:r>
              <a:rPr b="0" lang="el-GR" sz="2800" spc="-1" strike="noStrike">
                <a:solidFill>
                  <a:srgbClr val="000000"/>
                </a:solidFill>
                <a:latin typeface="Times New Roman"/>
              </a:rPr>
              <a:t>θεωρούν ότι παιδιά που ανήκουν σε συγκεκριμένες κατηγορίες ειδικών αναγκών</a:t>
            </a:r>
            <a:br>
              <a:rPr sz="2800"/>
            </a:br>
            <a:r>
              <a:rPr b="0" lang="el-GR" sz="2800" spc="-1" strike="noStrike">
                <a:solidFill>
                  <a:srgbClr val="000000"/>
                </a:solidFill>
                <a:latin typeface="Times New Roman"/>
              </a:rPr>
              <a:t>πρέπει να εκπαιδεύονται στο ειδικό σχολείο και κάποιες άλλες στο γενικό σχολείο.</a:t>
            </a:r>
            <a:br>
              <a:rPr sz="2000"/>
            </a:br>
            <a:br>
              <a:rPr sz="20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280" y="1197000"/>
            <a:ext cx="7885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φαίνεται ξεκάθαρα η τάση των εκπαιδευτικών να θεωρούν την</a:t>
            </a:r>
            <a:br>
              <a:rPr sz="2800"/>
            </a:br>
            <a:r>
              <a:rPr b="0" lang="el-GR" sz="2800" spc="-1" strike="noStrike">
                <a:solidFill>
                  <a:srgbClr val="000000"/>
                </a:solidFill>
                <a:latin typeface="Times New Roman"/>
              </a:rPr>
              <a:t>εξειδικευμένη εκπαίδευση ανώτερη από αυτήν που θα μπορούσαν να προσφέρουν οι ίδιοι. </a:t>
            </a:r>
            <a:br>
              <a:rPr sz="2800"/>
            </a:br>
            <a:br>
              <a:rPr sz="2800"/>
            </a:br>
            <a:r>
              <a:rPr b="0" lang="el-GR" sz="2800" spc="-1" strike="noStrike">
                <a:solidFill>
                  <a:srgbClr val="000000"/>
                </a:solidFill>
                <a:latin typeface="Times New Roman"/>
              </a:rPr>
              <a:t>Ιδιαίτερα σημαντική κρίνεται η παραδοχή των εκπαιδευτικών ότι θεωρούν ως κύριο σκοπό της φοίτησης των παιδιών με ειδικές ανάγκες στο γενικό σχολείο την κοινωνικοποίησή του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πιστεύουν στην προώθηση φιλανθρωπικών</a:t>
            </a:r>
            <a:br>
              <a:rPr sz="2800"/>
            </a:br>
            <a:r>
              <a:rPr b="0" lang="el-GR" sz="2800" spc="-1" strike="noStrike">
                <a:solidFill>
                  <a:srgbClr val="000000"/>
                </a:solidFill>
                <a:latin typeface="Times New Roman"/>
              </a:rPr>
              <a:t>πρωτοβουλιών, για την οικονομική ενίσχυση</a:t>
            </a:r>
            <a:br>
              <a:rPr sz="2800"/>
            </a:br>
            <a:r>
              <a:rPr b="0" lang="el-GR" sz="2800" spc="-1" strike="noStrike">
                <a:solidFill>
                  <a:srgbClr val="000000"/>
                </a:solidFill>
                <a:latin typeface="Times New Roman"/>
              </a:rPr>
              <a:t>των οικογενειών των παιδιών με ειδικές ανάγκες που επιθυμούν να παρέχουν στα</a:t>
            </a:r>
            <a:br>
              <a:rPr sz="2800"/>
            </a:br>
            <a:r>
              <a:rPr b="0" lang="el-GR" sz="2800" spc="-1" strike="noStrike">
                <a:solidFill>
                  <a:srgbClr val="000000"/>
                </a:solidFill>
                <a:latin typeface="Times New Roman"/>
              </a:rPr>
              <a:t>παιδιά τους εξειδικευμένη εκπαίδευση από ιδιώτ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κπαιδευτικοί θεωρούν</a:t>
            </a:r>
            <a:br>
              <a:rPr sz="2800"/>
            </a:br>
            <a:r>
              <a:rPr b="0" lang="el-GR" sz="2800" spc="-1" strike="noStrike">
                <a:solidFill>
                  <a:srgbClr val="000000"/>
                </a:solidFill>
                <a:latin typeface="Times New Roman"/>
              </a:rPr>
              <a:t>ότι βασική προϋπόθεση της ένταξης αποτελούν οι στάσεις των ίδιων των εκπαιδευτικών, των συμμαθητών των παιδιών με ειδικές ανάγκες και των οικογενειών τους.</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α αποτελέσματα της επισκόπησης των ερευνών ως προς την ικανοποίηση των</a:t>
            </a:r>
            <a:br>
              <a:rPr sz="2800"/>
            </a:br>
            <a:r>
              <a:rPr b="0" lang="el-GR" sz="2800" spc="-1" strike="noStrike">
                <a:solidFill>
                  <a:srgbClr val="000000"/>
                </a:solidFill>
                <a:latin typeface="Times New Roman"/>
              </a:rPr>
              <a:t>εκπαιδευτικών από τις δεξιότητές τους να εφαρμόζουν την ένταξη, οι εκπαιδευτικοί</a:t>
            </a:r>
            <a:br>
              <a:rPr sz="2800"/>
            </a:br>
            <a:r>
              <a:rPr b="0" lang="el-GR" sz="2800" spc="-1" strike="noStrike">
                <a:solidFill>
                  <a:srgbClr val="000000"/>
                </a:solidFill>
                <a:latin typeface="Times New Roman"/>
              </a:rPr>
              <a:t>φαίνεται να μην γνωρίζουν σε ικανοποιητικό βαθμό την ισχύουσα νομοθεσία για την ένταξ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ν εμφανίζονται ιδιαίτερα ικανοποιημένοι από τις ικανότητές τους να οργανώνουν αποτελεσματικά την ένταξη σε επίπεδο τάξης και σε επίπεδο σχολείου, ενώ φαίνεται ότι αντιμετωπίζουν δυσκολίες στην οργάνωση της ένταξης σε επίπεδο</a:t>
            </a:r>
            <a:br>
              <a:rPr sz="2800"/>
            </a:br>
            <a:r>
              <a:rPr b="0" lang="el-GR" sz="2800" spc="-1" strike="noStrike">
                <a:solidFill>
                  <a:srgbClr val="000000"/>
                </a:solidFill>
                <a:latin typeface="Times New Roman"/>
              </a:rPr>
              <a:t>μαθημάτων</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οι εκπαιδευτικοί παρουσιάζονται ιδιαίτερα ικανοποιημένοι</a:t>
            </a:r>
            <a:br>
              <a:rPr sz="2800"/>
            </a:br>
            <a:r>
              <a:rPr b="0" lang="el-GR" sz="2800" spc="-1" strike="noStrike">
                <a:solidFill>
                  <a:srgbClr val="000000"/>
                </a:solidFill>
                <a:latin typeface="Times New Roman"/>
              </a:rPr>
              <a:t>από την ικανότητά τους </a:t>
            </a:r>
            <a:br>
              <a:rPr sz="2800"/>
            </a:br>
            <a:r>
              <a:rPr b="0" lang="el-GR" sz="2800" spc="-1" strike="noStrike">
                <a:solidFill>
                  <a:srgbClr val="000000"/>
                </a:solidFill>
                <a:latin typeface="Times New Roman"/>
              </a:rPr>
              <a:t>για διαφοροποίηση διδασκαλίας, </a:t>
            </a:r>
            <a:br>
              <a:rPr sz="2800"/>
            </a:br>
            <a:r>
              <a:rPr b="0" lang="el-GR" sz="2800" spc="-1" strike="noStrike">
                <a:solidFill>
                  <a:srgbClr val="000000"/>
                </a:solidFill>
                <a:latin typeface="Times New Roman"/>
              </a:rPr>
              <a:t>ύλης, </a:t>
            </a:r>
            <a:br>
              <a:rPr sz="2800"/>
            </a:br>
            <a:r>
              <a:rPr b="0" lang="el-GR" sz="2800" spc="-1" strike="noStrike">
                <a:solidFill>
                  <a:srgbClr val="000000"/>
                </a:solidFill>
                <a:latin typeface="Times New Roman"/>
              </a:rPr>
              <a:t>υλικού και δραστηριοτήτων.</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έλος, οι εκπαιδευτικοί εμφανίζονται ιδιαίτερα ικανοποιημένοι από τις ικανότητές</a:t>
            </a:r>
            <a:br>
              <a:rPr sz="2800"/>
            </a:br>
            <a:r>
              <a:rPr b="0" lang="el-GR" sz="2800" spc="-1" strike="noStrike">
                <a:solidFill>
                  <a:srgbClr val="000000"/>
                </a:solidFill>
                <a:latin typeface="Times New Roman"/>
              </a:rPr>
              <a:t>τους να προωθούν την κοινωνικοποίηση των παιδιών με ειδικές ανάγκες στην τάξη</a:t>
            </a:r>
            <a:br>
              <a:rPr sz="2800"/>
            </a:br>
            <a:r>
              <a:rPr b="0" lang="el-GR" sz="2800" spc="-1" strike="noStrike">
                <a:solidFill>
                  <a:srgbClr val="000000"/>
                </a:solidFill>
                <a:latin typeface="Times New Roman"/>
              </a:rPr>
              <a:t>τους. Δηλώνουν ότι αποδέχονται τα παιδιά ανεξάρτητα από την αναπηρία τους, ότι</a:t>
            </a:r>
            <a:br>
              <a:rPr sz="2800"/>
            </a:br>
            <a:r>
              <a:rPr b="0" lang="el-GR" sz="2800" spc="-1" strike="noStrike">
                <a:solidFill>
                  <a:srgbClr val="000000"/>
                </a:solidFill>
                <a:latin typeface="Times New Roman"/>
              </a:rPr>
              <a:t>είναι σε θέση να καλλιεργούν θετικές στάσεις προς αυτά και να δημιουργούν</a:t>
            </a:r>
            <a:br>
              <a:rPr sz="2800"/>
            </a:br>
            <a:r>
              <a:rPr b="0" lang="el-GR" sz="2800" spc="-1" strike="noStrike">
                <a:solidFill>
                  <a:srgbClr val="000000"/>
                </a:solidFill>
                <a:latin typeface="Times New Roman"/>
              </a:rPr>
              <a:t>συνθήκες κοινωνικοποίησης τους.</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3200"/>
            </a:br>
            <a:br>
              <a:rPr sz="2800"/>
            </a:br>
            <a:r>
              <a:rPr b="1" lang="el-GR" sz="2000" spc="-1" strike="noStrike">
                <a:solidFill>
                  <a:srgbClr val="000099"/>
                </a:solidFill>
                <a:latin typeface="Arial"/>
                <a:ea typeface="Arial"/>
              </a:rPr>
              <a:t>ΕΙΣΗΓΗΤΗΣ: Παναγιώτης Ν. Μαντάς</a:t>
            </a:r>
            <a:br>
              <a:rPr sz="2800"/>
            </a:br>
            <a:endParaRPr b="0" lang="en-US" sz="20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1. «</a:t>
            </a:r>
            <a:r>
              <a:rPr b="1" i="1" lang="el-GR" sz="2800" spc="-1" strike="noStrike">
                <a:solidFill>
                  <a:srgbClr val="000000"/>
                </a:solidFill>
                <a:latin typeface="Times New Roman"/>
              </a:rPr>
              <a:t>Είναι οι εκπαιδευτικοί ικανοποιημένοι από την ικανότητα τους </a:t>
            </a:r>
            <a:br>
              <a:rPr sz="2800"/>
            </a:br>
            <a:r>
              <a:rPr b="1" i="1" lang="el-GR" sz="2800" spc="-1" strike="noStrike">
                <a:solidFill>
                  <a:srgbClr val="000000"/>
                </a:solidFill>
                <a:latin typeface="Times New Roman"/>
              </a:rPr>
              <a:t>να γνωρίζουν και να εφαρμόζουν τη νομοθεσία, </a:t>
            </a:r>
            <a:br>
              <a:rPr sz="2800"/>
            </a:br>
            <a:r>
              <a:rPr b="1" i="1" lang="el-GR" sz="2800" spc="-1" strike="noStrike">
                <a:solidFill>
                  <a:srgbClr val="000000"/>
                </a:solidFill>
                <a:latin typeface="Times New Roman"/>
              </a:rPr>
              <a:t>να οργανώνουν την ένταξη και </a:t>
            </a:r>
            <a:br>
              <a:rPr sz="2800"/>
            </a:br>
            <a:r>
              <a:rPr b="1" i="1" lang="el-GR" sz="2800" spc="-1" strike="noStrike">
                <a:solidFill>
                  <a:srgbClr val="000000"/>
                </a:solidFill>
                <a:latin typeface="Times New Roman"/>
              </a:rPr>
              <a:t>να προωθούν την κοινωνικοποίηση των μαθητών με μαθησιακές δυσκολίες;»</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90" name="Picture 9" descr=""/>
          <p:cNvPicPr/>
          <p:nvPr/>
        </p:nvPicPr>
        <p:blipFill>
          <a:blip r:embed="rId1"/>
          <a:stretch/>
        </p:blipFill>
        <p:spPr>
          <a:xfrm>
            <a:off x="0" y="0"/>
            <a:ext cx="9144000" cy="1368360"/>
          </a:xfrm>
          <a:prstGeom prst="rect">
            <a:avLst/>
          </a:prstGeom>
          <a:ln w="0">
            <a:noFill/>
          </a:ln>
        </p:spPr>
      </p:pic>
      <p:pic>
        <p:nvPicPr>
          <p:cNvPr id="891" name="Picture 10" descr=""/>
          <p:cNvPicPr/>
          <p:nvPr/>
        </p:nvPicPr>
        <p:blipFill>
          <a:blip r:embed="rId2"/>
          <a:stretch/>
        </p:blipFill>
        <p:spPr>
          <a:xfrm>
            <a:off x="1258920" y="2060640"/>
            <a:ext cx="1297080" cy="1528560"/>
          </a:xfrm>
          <a:prstGeom prst="rect">
            <a:avLst/>
          </a:prstGeom>
          <a:ln w="0">
            <a:noFill/>
          </a:ln>
        </p:spPr>
      </p:pic>
      <p:pic>
        <p:nvPicPr>
          <p:cNvPr id="892" name="12 - Εικόνα" descr=""/>
          <p:cNvPicPr/>
          <p:nvPr/>
        </p:nvPicPr>
        <p:blipFill>
          <a:blip r:embed="rId3"/>
          <a:stretch/>
        </p:blipFill>
        <p:spPr>
          <a:xfrm>
            <a:off x="6948360" y="1989000"/>
            <a:ext cx="1444680" cy="1573200"/>
          </a:xfrm>
          <a:prstGeom prst="rect">
            <a:avLst/>
          </a:prstGeom>
          <a:ln w="0">
            <a:noFill/>
          </a:ln>
        </p:spPr>
      </p:pic>
      <p:sp>
        <p:nvSpPr>
          <p:cNvPr id="893"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9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br>
              <a:rPr sz="2000"/>
            </a:br>
            <a:r>
              <a:rPr b="1" i="1" lang="el-GR" sz="2800" spc="-1" strike="noStrike">
                <a:solidFill>
                  <a:srgbClr val="000000"/>
                </a:solidFill>
                <a:latin typeface="Times New Roman"/>
              </a:rPr>
              <a:t>2. «Είναι ικανοποιημένοι οι εκπαιδευτικοί από την ικανότητα τους </a:t>
            </a:r>
            <a:br>
              <a:rPr sz="2800"/>
            </a:br>
            <a:r>
              <a:rPr b="1" i="1" lang="el-GR" sz="2800" spc="-1" strike="noStrike">
                <a:solidFill>
                  <a:srgbClr val="000000"/>
                </a:solidFill>
                <a:latin typeface="Times New Roman"/>
              </a:rPr>
              <a:t>να διαφοροποιούν την διδασκαλία τους για να ανταποκριθούν στις ανάγκες της τάξης και στο</a:t>
            </a:r>
            <a:br>
              <a:rPr sz="2800"/>
            </a:br>
            <a:r>
              <a:rPr b="1" i="1" lang="el-GR" sz="2800" spc="-1" strike="noStrike">
                <a:solidFill>
                  <a:srgbClr val="000000"/>
                </a:solidFill>
                <a:latin typeface="Times New Roman"/>
              </a:rPr>
              <a:t>να έχουν μια καλή συνεργασία μεταξύ τους οι εκπαιδευτικοί;»</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l-GR" sz="2800" spc="-1" strike="noStrike">
                <a:solidFill>
                  <a:srgbClr val="000000"/>
                </a:solidFill>
                <a:latin typeface="Times New Roman"/>
              </a:rPr>
              <a:t>3. «Ποιες οι απόψεις τους, για την εκπαίδευση των παιδιών με μαθησιακές εκπαιδευτικές ανάγκες στο ειδικό σχολείο, </a:t>
            </a:r>
            <a:br>
              <a:rPr sz="2800"/>
            </a:br>
            <a:r>
              <a:rPr b="1" i="1" lang="el-GR" sz="2800" spc="-1" strike="noStrike">
                <a:solidFill>
                  <a:srgbClr val="000000"/>
                </a:solidFill>
                <a:latin typeface="Times New Roman"/>
              </a:rPr>
              <a:t>τι πιστεύουν για τις βασικές προϋποθέσεις ένταξης ενός παιδιού με ειδικές μαθησιακές εκπαιδευτικές ανάγκες;»</a:t>
            </a:r>
            <a:r>
              <a:rPr b="0" i="1" lang="el-GR" sz="2800" spc="-1" strike="noStrike">
                <a:solidFill>
                  <a:srgbClr val="000000"/>
                </a:solidFill>
                <a:latin typeface="Times New Roman"/>
              </a:rPr>
              <a:t> </a:t>
            </a:r>
            <a:br>
              <a:rPr sz="2800"/>
            </a:br>
            <a:r>
              <a:rPr b="0" i="1" lang="el-GR" sz="2800" spc="-1" strike="noStrike">
                <a:solidFill>
                  <a:srgbClr val="000000"/>
                </a:solidFill>
                <a:latin typeface="Times New Roman"/>
              </a:rPr>
              <a:t>(Βασιλείου Ε, και άλλοι, 5</a:t>
            </a:r>
            <a:r>
              <a:rPr b="0" i="1" lang="el-GR" sz="2800" spc="-1" strike="noStrike" baseline="30000">
                <a:solidFill>
                  <a:srgbClr val="000000"/>
                </a:solidFill>
                <a:latin typeface="Times New Roman"/>
              </a:rPr>
              <a:t>ο</a:t>
            </a:r>
            <a:r>
              <a:rPr b="0" i="1" lang="el-GR" sz="2800" spc="-1" strike="noStrike">
                <a:solidFill>
                  <a:srgbClr val="000000"/>
                </a:solidFill>
                <a:latin typeface="Times New Roman"/>
              </a:rPr>
              <a:t> Πανελλήνιο Συνέδριο Επιστημών της Εκπαίδευση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ναφορά </a:t>
            </a:r>
            <a:r>
              <a:rPr b="1" lang="el-GR" sz="2800" spc="-1" strike="noStrike">
                <a:solidFill>
                  <a:srgbClr val="000000"/>
                </a:solidFill>
                <a:latin typeface="Times New Roman"/>
              </a:rPr>
              <a:t>στην γνώση και στην εφαρμογή της νομοθεσίας που διαθέτουν οι εκπαιδευτικο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ποσοστό των 45,14% των εκπαιδευτικών δήλωσε ότι γνωρίζει αρκετά ικανοποιητικά τη νομοθεσία και μπορεί να λειτουργήσει με βάση αυτή. </a:t>
            </a:r>
            <a:br>
              <a:rPr sz="2800"/>
            </a:br>
            <a:br>
              <a:rPr sz="2800"/>
            </a:br>
            <a:r>
              <a:rPr b="0" lang="el-GR" sz="2800" spc="-1" strike="noStrike">
                <a:solidFill>
                  <a:srgbClr val="000000"/>
                </a:solidFill>
                <a:latin typeface="Times New Roman"/>
              </a:rPr>
              <a:t>Αναλυτικότερα, το 31,5 %  απάντησε ότι</a:t>
            </a:r>
            <a:br>
              <a:rPr sz="2800"/>
            </a:br>
            <a:r>
              <a:rPr b="0" lang="el-GR" sz="2800" spc="-1" strike="noStrike">
                <a:solidFill>
                  <a:srgbClr val="000000"/>
                </a:solidFill>
                <a:latin typeface="Times New Roman"/>
              </a:rPr>
              <a:t>μπορεί να εντοπίσει ένα παιδί που πιθανόν να έχει ειδικές μαθησιακές ανάγκες. </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23640" y="1197000"/>
            <a:ext cx="8135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πίσης, το 54,3 %  υποστήριξε ότι είναι σε θέση να ακολουθήσει τη διαδικασία παραπομπής προς αξιολόγηση του παιδιού που πιθανόν να έχει. </a:t>
            </a:r>
            <a:br>
              <a:rPr sz="2800"/>
            </a:br>
            <a:br>
              <a:rPr sz="2800"/>
            </a:br>
            <a:r>
              <a:rPr b="0" lang="el-GR" sz="2800" spc="-1" strike="noStrike">
                <a:solidFill>
                  <a:srgbClr val="000000"/>
                </a:solidFill>
                <a:latin typeface="Times New Roman"/>
              </a:rPr>
              <a:t>Το 57,1 %  απάντησε ότι είναι σε θέση να καταρτίσει ατομικό πρόγραμμα εκπαίδευσης για ένα παιδί με ειδικές μαθησιακές δυσκολίες.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23640" y="1197000"/>
            <a:ext cx="8135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πίσης, το 42,9%  είπε ότι μπορεί να εκπαιδεύσει το παιδί με μαθησιακές δυσκολίες που είναι ενταγμένο στο γενικό σχολείο, </a:t>
            </a:r>
            <a:br>
              <a:rPr sz="2800"/>
            </a:br>
            <a:br>
              <a:rPr sz="2800"/>
            </a:br>
            <a:r>
              <a:rPr b="0" lang="el-GR" sz="2800" spc="-1" strike="noStrike">
                <a:solidFill>
                  <a:srgbClr val="000000"/>
                </a:solidFill>
                <a:latin typeface="Times New Roman"/>
              </a:rPr>
              <a:t>ενώ το 40 %  υποστήριξε ότι μπορεί να σχεδιάσει εκπαιδευτικούς στόχους που πρέπει να τεθούν για ένα παιδί με μαθησιακές δυσκολίες.</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5:31Z</dcterms:modified>
  <cp:revision>153</cp:revision>
  <dc:subject/>
  <dc:title>Παρουσίαση του PowerPoint</dc:title>
</cp:coreProperties>
</file>