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163F-E2B6-4181-B579-908F0AC0B254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A98A-7133-476C-B056-8A91E3406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373C-4FF3-4539-B284-C43168FEB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1318-CB07-4EBB-B695-C6F97653C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50FC-3205-4AD6-A9EC-5A05A1323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EEA9-2194-4713-B4A6-A2B6DB5FD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7EFC-60FF-4FB8-BEE7-687906615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B740-F32F-495C-B79C-B9C12D254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2F05-3BE9-4372-92E9-99CD82AE4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0B33-3624-4345-B3D6-3A6A2A6D9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A54B-EE26-4E7E-95A0-9AD9BD0DD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0513-B097-4A11-927B-51B72FA06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7539-5767-4E18-AD17-3BBB960AA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56BC-7E48-4135-BC08-8015DCC2D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219D-FEB4-4989-9B06-2BDEAC32B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29A4-5A2E-42DF-A673-3A604BBFC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96E1-9DB8-4D94-877A-88F15CF4F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E2FA-E5E9-4970-BBF3-38AAF9915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E8FE-450C-464F-BF34-A91E89A5E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A20D-7B1C-4FBF-8D91-7ECF88078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DC50-227E-406E-9270-DAED177F9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474C-28DF-4AF7-9826-58296A0FC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9D26-7683-4276-8313-0427591B6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EF91-F22A-428D-8F17-D40A5329B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163D-6667-4643-830F-3F8D99F3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1F0-5431-4108-ADF4-ABBC4B0E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9BD-1423-42C0-9810-ADD7FB5D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E7117-11CD-4545-9A05-943EA8CD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4E60F-E206-437C-97A9-1B2E4F3D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CEDCE-0B87-4EFA-BA54-03F5CDB7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16C56-E1E9-49B2-9C31-EE156B8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3A2AB-1531-4F7E-A7AA-5F1FECDB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B21E0-E028-4BF2-BE93-42C0D0D8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2041A-D87E-45D6-A54F-C19CD189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A7337-1BF0-4F1B-A1E2-E8B3110D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D37CA-AFDD-4A91-9711-2D7C1C4C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7B075-1E7D-402F-B71B-9F4B3B60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BAE-B405-418F-A9EB-3D8EA3CE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936D7-7A55-48B6-8983-A1FDEFC8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AA62A-FFC5-4D87-8A86-6D69E112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019D1-8F1F-4EEB-8A50-22C70CF5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A8EFA-6973-435A-803B-14C9C3A7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6EAFB-2FE5-4208-AE1D-961529E4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232AC-E0F2-42E1-BA52-229827A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CDA56-1A23-419F-99F4-1E630C8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C222B-D94E-4E94-BF30-D0AD0D4A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5FE50-4908-4D94-B302-1BCD4788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9AB3E-7F8B-42E2-9AD4-96659A16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23A-A55E-4E6C-B697-382A1C69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5F3FF-3DE5-41C3-AE8F-06319421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6367F-9A52-4273-A541-D9F36CE1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F62CF-2A71-4EDC-AF55-4B4903A6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5A855-9F56-4DF9-A845-3B6ADEB6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B9921-AC09-4036-910E-4B6ADCE0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924DB-2AE3-462E-B039-CF7A5FB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FD53B-69B8-4DF1-8054-F5D30959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8C878-C467-48E7-8A5A-C335DBA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DC6AF-1249-4D56-A703-86F962CA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D346C-825A-4AD9-A994-2BC3ACCB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8719-7851-40B9-B102-4CC3286D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04485-286F-4319-84D3-F4F3A066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2EDCB-9D71-4F8E-848C-8FCAAFA7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DCAE2-F30D-45D8-A5EC-60B0B817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91E42-FC1F-4325-857B-DD79FD80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47A77-7007-437B-A641-F9DE0A8F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A1699-1A4A-4024-BE01-4FE1CC89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F64DC-8458-4F5E-B8A3-5C4C5691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FBF4A-C038-410F-847B-5838A3B0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CF8B5-1312-4C60-AE66-9B90A28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7D56E-5AC2-487D-81F9-EF0833DB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2913-73C5-4F13-B10B-CF7DC07A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82B16-2E52-4687-AC66-68749516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9453E-D0B5-4C48-AC12-51C655E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DB9CF-7E96-4615-A572-8035D16B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BBBC3-BA7D-466D-B834-8BD6EF4C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100AB-7C80-4226-B68A-4A6FAA03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9A2537-C626-403E-8C5F-FC79D39CE5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2EDDA9-A269-4C33-97C9-79FD2DCE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9ABCEA-E7A9-4E9B-874B-51BF4F1C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44C57A-E186-4740-BB4D-E36B68B3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FED8C8-6D87-4511-BC75-E24A7546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2CD4-21BF-405C-8BC6-263B37A3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ADEF98-673C-4F54-88BD-8C2E1D2E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3B5BDF-0687-4207-B88C-6A72DACC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69E53D-6AF7-4D57-9919-1D13DE6E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CCD22B-14FE-4BD5-BEC2-CE037309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18769D-226C-40C1-BD2C-F4C7A7E0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936D3B-E72D-4375-A2FD-62CEFE38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E9BE3B-C542-4309-B212-268C0B8F9A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99B0-DA47-4FDC-87E4-BE070982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6FDB-4BD6-4521-ABAF-A85C1C0E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92FB-B164-40F4-8038-8B0CFB8E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3D76-D61C-4013-B151-92069F1E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D41-0AC6-46D6-8E6B-6C863B33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A007-3440-4589-B46C-E003DEB6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33E7-5979-4DEC-A18F-0FC01632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93BB-2F82-4A7A-8180-5A9A8C57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6AE5-08BA-449D-87E8-1D2638D9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ED79-2770-47EF-8C62-148C1095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23C6-9352-46DF-BC29-2F0BBE91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1390-B9DB-45B3-A4E3-D9AB357C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79F5-8335-404B-B930-DE2F3E73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8181-3707-412A-B94C-3B99F4CA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0735-A5AA-4A07-8221-4A960C35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CC4-0B79-4C6E-A41F-74E9BE97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D37F7-47D9-4812-BEA5-BB7B3035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8EB7-16F1-43FB-ACA8-256E3CB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3AE8-A8E6-4685-A044-7C0597CD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A958-1827-4420-BCEB-65331E68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B360-F817-4BB9-A730-A6CC125C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E7E63-3749-4977-87F8-89C937F4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65FE-8F9B-4149-8C1B-8C092BE2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27D7-407F-4B80-801B-897A85D6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54C70-3692-48E2-90C6-7A498863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2E1DC-B2AE-4107-95E6-4900379A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EBC-00D7-4DF2-B789-E0992934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F4495-F5B6-4689-90C1-69CBB889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B0B87-5604-4A62-BF77-EA71F51E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EB3B6-29AE-44B6-89EA-AAB5123A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494C4-4EFB-46D8-8EF6-C6DBC56C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00C6B-3D79-4D60-987B-C1EBF98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AC943-F577-4F5C-B2A2-1977503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D574-D0BD-4DF1-8F82-698A7266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6BFF-3C71-418E-85B4-2CD37EA4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B9B0C-EBC6-4A26-9914-8FE54DD6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3155-975B-47BD-B28B-435D86A2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9FE-C98E-45F9-A49C-6E81203F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E971-127D-4946-82B8-B6728830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20AE6-D531-49E4-B774-6F2EA74A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EF8F-5499-4474-ABD3-81FABB31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4266-9EEB-4393-9916-B36CC146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DE516-A355-4AAA-8928-496DFE6C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CD5CD-7694-401B-A7A3-8CE3B1FB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66F9B-1556-4DE7-96BF-48ABE97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E5646-D0E6-4AE4-86DF-D7AF8415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D892D-D58D-464C-B831-4570546C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E301D-CBD8-4399-9B37-72760884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66D-3FB3-462D-9961-6681A5E8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5460E-CB57-45B1-8CCF-8D75D96E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8457F-06F5-4A12-B4DB-4905B2BB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361C2-A825-467D-8613-F91493CE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0683-012D-4F93-8BC9-F5DEC7D6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E7CB6-5841-41C5-B4D1-DBE2516E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979AD-5A93-46C2-95CF-9D4A8EE5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AC90E-2D60-4711-825D-5970F6A0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28534-77A7-49F6-BCB4-F4920688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F3C78-B9CF-4BD8-9B66-F27C6703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D63B7-0114-4E1F-9935-47C6E2B1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E8C-2CC0-49FD-B5D9-49A04DD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5114D-CA56-4A79-BC51-11747E6A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13C40-F71A-4D18-85CC-B1DD738C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FC124-1E7D-4812-9562-53FC3926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2DAB7-C566-49ED-82E7-4EE75B77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5029A-0A7C-48EB-9269-FB6C7CAC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D1B60-AA97-45A6-8DA8-926792A3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E279A-8E38-407B-A7E2-C97E08CF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3AD85-5D64-411C-9800-3A0F260C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0FB16-1F25-4C9E-A204-1630C99F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AAE19-05C2-4645-89F9-F448CDD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EBD-D93B-4953-B216-354989EC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B1379-8B22-4BAE-8E5F-2890D6CB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6B4FB-7632-47B4-8D9E-74A9B195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2A33D-C348-47D1-BC9D-4E86A6EF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19BBE-B1CE-4DA2-875A-D93CCC34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28CE8-D8B0-4C77-95DF-B1338E77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66A81-FA38-4636-98B3-C687400A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7FDE9-1D8C-4A14-A84D-6381C57B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32247-9A39-4D71-ABAA-B029F447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EFD54-11AE-44E3-94BA-BE4DBEDE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35261-DC0C-41DF-967D-63C7D5AC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E2B-3365-4D1D-B216-EB383BE1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6D030-B0E0-40E3-9517-863AEA81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0BC1C-B157-4854-90A7-31B95867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E5D5B-0250-456C-95AF-C2077B3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19CE9-5B6D-4FC9-9EEE-A195DE9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C4FFC-A220-4851-98AB-919BFB65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9905B-D92E-42EF-92EB-4E3E698A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E7016-B291-49BA-B27E-03338469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58851-DB4A-44F8-ABCF-257D38B5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8578F-975A-4FA6-936C-1A48BC1C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49154-22F2-4462-AB84-61EA9A03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D799-0DA0-4B5F-941B-F15270E850D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9533-317F-46F5-BDAB-C3B323AD961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8B41-EE8A-42AB-AA0F-956A7C14EE7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8F37-9B4D-4BAC-BB02-55A35EB6714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CCB0-A3ED-4B18-98F4-4BA4B4AAA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A772-9CCD-4015-9149-4789280E894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C349-8943-4007-B2A1-C3ECBE82D22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10BD-2611-438D-8DCC-F09DBA875D4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B4A-DF1D-47AA-AB05-6C4E3294560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47FA-9B2B-4E63-8B76-8E77D833B88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A239-F119-4EF8-9FA3-0C42D0E7BB3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351A-608D-4BD3-887E-71603031B38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22BA-4DFD-434D-AA2A-222D7770564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Philip Whitaker (2007) μελέτησε τις στάσεις και τις απόψεις των γονέων απέναντι σ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ιδιά με αυτισμό τα οποία λαμβάνουν εκπαίδευση σε σχολεία γενικής εκπαίδευσης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αποτελέσματα της έρευνάς τους έδειξαν ότι οι περισσότεροι απ’ τους συμμετέχοντες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ικανοποιημένοι απ’ τη μέριμνα για την εκπαίδευση των παιδιών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στόσο τόσο οι ικανοποιημένοι γονείς όσο κι η ομάδα των γονέων που δεν ήτα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ιημένοι αναφέρθηκαν στην κατανόηση που το παιδί τους λαμβάνει απ’ το προσωπ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υ παρέχει τη μέριμνα και η κατανόηση του παιδιού τους ήταν υψίστης προτεραιότητ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τις δύο ομάδες. Οι ανησυχίες για το επίπεδο κατανόησης αποτελούσε σαφώς ενδεχόμεν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ηγή στρες και αγωνίας και για τις δύο ομ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492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εν φαίνεται να αναμένουν απ’ το προσωπικό της γενικής εκπαίδευσης να έχει εξειδικευμέν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νώσεις για συγκεκριμένες προσεγγίσεις στη διδασκαλία παιδιών με αυτισμό και εκτός απ’ 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θέλουν άμεση διδασκαλία για την ανάπτυξη κοινωνικών δεξιοτήτων, δεν φαίνοντ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ζητούν ουσιώδη τροποποίηση στη διδακτέα ύλη ώστε να ληφθούν υπόψη οι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ίζονται με τον αυτισμό των παιδι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, σε έρευνα των Turnbull et al. (2002) διαπιστώθηκε πως οι θετικές στάσεις απ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σοβαρές ειδικές ανάγκες απέναντι στην ένταξη φαίνεται να είναι 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νόνας.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Rectangle 1"/>
          <p:cNvSpPr/>
          <p:nvPr/>
        </p:nvSpPr>
        <p:spPr>
          <a:xfrm>
            <a:off x="0" y="162864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465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αρκετές μελέτες με γονείς παιδιών με σοβαρές ειδικές ανάγκες σ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ένταξης από την προσχολική ηλικία έως και το Γυμνάσιο έδειξαν ότι οι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στήριζαν την τοποθέτηση των παιδιών τους σ’ αυτά και εξέφρασαν ικανοποίηση για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οτελέσματα της εκπαίδευσης, ιδιαίτερα για τα κοινωνικά οφέλη (Gallagher et al., 200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line &amp; Halvorsen, 1989; McDonell, 1987; Palmer, Borthwick-Duffy, &amp; Widaman, 199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φορικά με την ικανοποίηση των γονέων από τα εκπαιδευτικά προγράμματα παρέμβα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α παιδιά με ειδικές εκπαιδευτικές ανάγκες στην διεθνή βιβλιογραφία, παρατηρείται υψηλ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αθμός ικανοποίησης και διατυπώνονται θετικές στάσεις και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McNaughton,1994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illiam et all.,199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, σε έρευνα που πραγματοποιήθηκε στον Καναδά και μετρούσε τον βαθμ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ς των γονέων για τα προγράμματα παρέμβασης, οι γονείς εξέφρασαν μεγάλ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 και δήλωσαν αρκετά ευχαριστημένοι από το εκπαιδευτικό έργο που παρέχεται σ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είο του παιδιού τους ( Falbo et.all,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 ,σε άλλη έρευνα, που μετρούσε την ικανοποίηση των γονέων σχετικά με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ιότητα των εκπαιδευτικών υπηρεσιών, βρέθηκε μεγάλος βαθμός ικανοποίησης ο οποί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δέεται με την αποτελεσματική επικοινωνία του σχολείου με τον γονέα ,καθώς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αρκή πληροφόρηση των ίδιων από τους εκπαιδευτικούς(Bailey et all., 200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άλλη πλευρά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οι άλλοι ερευνητές ανέφεραν ότι μερικοί γονείς παιδιών με σοβαρές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άγκες δεν είναι υπέρ της ένταξ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Palmer, Fuller, Arora, &amp; Nelson,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ευνα που έγινε σε πολιτεία των ΗΠΑ (Mandell &amp; Salzer, 2007) έδειξε ότι οι γονείς παιδ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πιο σοβαρές αναπηρίες τα οποία συμμετείχαν σε τμήματα ένταξης, ανέφεραν αρνη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άσεις η εμπειρίες ως προς την τοποθέτηση των παιδιών τους, καθώς οι υπηρεσ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έχονταν τα παιδιά τους στο περιβάλλον γενικής εκπαίδευσης χαρακτηρίστηκαν αδύναμε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δόν ακατάλληλ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1760"/>
            <a:ext cx="7596000" cy="23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47636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556" name="10 - Ορθογώνιο"/>
          <p:cNvSpPr/>
          <p:nvPr/>
        </p:nvSpPr>
        <p:spPr>
          <a:xfrm>
            <a:off x="1332000" y="467532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ες ανησυχίες που αναφέρθηκαν από γονείς παιδιών με ειδικές εκπαιδευτικές ανάγκ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μπεριλαμβάνουν ανησυχίες για λεκτική και σωματική κακομεταχείριση από τα άλλα παιδιά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ή απομόνωση, και απώλεια ή μείωση των υπηρεσιών και της ποιότητα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ίδευσης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Donnell, 198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Rectangle 1"/>
          <p:cNvSpPr/>
          <p:nvPr/>
        </p:nvSpPr>
        <p:spPr>
          <a:xfrm>
            <a:off x="971640" y="1844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139212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Palmer et al. (2001) ανέφεραν ότι οι γονείς ανησυχούσαν ότι η σοβαρότητα της αναπηρίας του παιδιού τους εμπόδιζε τα οφέλη που θα μπορούσ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χαν από την ένταξη, ότι η ένταξη θα μπορούσε να εξουθενώσει τους εκπαιδευτικούς της γενικής εκπαίδευσης ή τους μαθητές, και ότι το παιδί συμπεριφορικά ήταν υπερβολικά διασπαστικό και θα μπορούσε να πληγώσει τους άλλ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όμοιες ανησυχίες από Αυστραλούς γονείς αναφέρθηκαν και από τον Jenkinson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 τις ανησυχίες που εξέφρασαν κάποιοι γονείς, σε έρευνα του Philip Whitaker (2007)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ωρήθηκε εξίσου σημαντικό για τους γονείς το γεγονός ότι το προσωπικό θα πρέπει να έχ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α αίσθηση για το τι βρίσκεται κάτω απ’ τις προκλήσεις και τις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ουσιάζονται για το παιδί αλλά και κάτω από τις εμπειρίες που αυτό βιώνε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Rectangle 1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49600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ίδια έρευνα, σημειώθηκε πως υψίστης προτεραιότητας για τους γονείς ήταν η ανάπτυ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ών δεξιοτήτων του παιδιού τ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ιαφοροποιούνταν επίσης ως προς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ιλοδοξίες τους σχετικά με την κοινωνική ανάπτυξη των παιδιών τους και τις σχέσεις τους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συνομηλίκους του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78920" y="981000"/>
            <a:ext cx="849636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ενικότερα, αν και υπάρχουν πολλά στοιχεία που αναφέρουν ότι οι στάσεις των γονέ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έναντι στην ένταξη καθορίζονται από διάφορους παράγοντες, δημογραφικά χαρακτηρι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κοινωνικοπολιτιστικά πλαίσια (Sigel et al., 1992)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Stoiber (1992) αναφέρει ότι οι στά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οι αντιλήψεις των γονέων παιδιών με ειδικές εκπαιδευτικές ανάγκες για την έντα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ήθως βασίζονται σε δικές τους προσωπικές εμπειρίες και τείνουν να χαρακτηρίζ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τικές και ικανοποιητικέ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4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63640" y="907560"/>
            <a:ext cx="75960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5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5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767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768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139212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όσο στην Ευρώπη όσο και στις ΗΠΑ κατά την τελευταία δεκαετία, η νομοθεσία έχει δώσ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μφαση στα δικαιώματα των γονέων ώστε αυτοί να εκφράζουν τις προτιμήσεις και τις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και να κάνουν επιλογές όσον αφορ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τύπο του σχολείου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μέριμνα που γίνεται για να διευθετηθούν οι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των παιδιώ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εμπειρίες των γονέων και οι αντιλήψεις τους για 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νταξη  επηρεάζουν σημαντικά τη διαμόρφωση της μελλοντικ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έριμνας για τα παιδιά με ειδικές εκπαιδευτικές ανάγκες και ιδιαίτερα την έκταση και τη φύσ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ιονδήποτε περαιτέρω κινήσεων προς την επίτευξη αποτελεσματικότερης ένταξ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παίζουν σημαντικό ρόλο στη διαδικασία της ένταξης. Σε πολλές χώρες ο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ρρυθμίσεις και οι κανονισμοί που αφορούν την ειδική εκπαίδευση παρέχουν οδηγίες γι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ενεργή εμπλοκή και συμμετοχή των γονέων στην εκπαίδευση των παιδιών τους ενώ κατ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 τελευταίες δύο δεκαετίες έχουν γίνει αρκετές μελέτες που εξετάζουν τις απόψεις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ησυχίες των γονέω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θεωρούνται οι πιο κατάλληλοι αξιολογητές τόσο της εκπαιδευτικής διαδικασίας όσο και των εκπαιδευτικών υπηρεσιών που δέχονται τα παιδιά τους από τους εκπαιδευτικούς γενικής και ειδικής εκπαίδευ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Jinnah&amp;Walters,2008). 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484280"/>
            <a:ext cx="7596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δοκίες και οι απαιτήσεις των γονέων ως προς την εκπαιδευτική δράση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υπηρεσίες που προσφέρονται στο παιδί τους, αποτελούν τον βασικότερ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α για μια επιτυχημένη εκπαιδευτική διαδικασία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τρέχοντας σε παλαιότερες βιβλιογραφικές αναφορές, έρευνες έχουν δείξει (McDonnell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87; Ryndak, Downing, Jacqueline &amp; Morisson, 1995) πως οι γονείς παιδιών με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διατυπώνουν γενικά θετικές απόψεις και αντιλήψεις προς την ένταξη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σχετικά πρόσφατη έρευνα που πραγματοποιήθηκε από τους Leyser and Kirk (2004) βρήκ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ψηλότερα ποσοστά υποστήριξης από τους γονείς παιδιών με ήπιες αναπηρίες σε σύγκριση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βαριάς μορφής αναπηρί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1-02-18T21:56:57Z</dcterms:modified>
  <cp:revision>151</cp:revision>
  <dc:subject/>
  <dc:title>Παρουσίαση του PowerPoint</dc:title>
</cp:coreProperties>
</file>