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358E-85D6-4DED-8FB2-734E564746E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DE741-FD47-4CF1-8C2F-EEBF4558F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08EE-8469-40E1-B6A7-6E57147FF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A398-A52B-4018-8DC5-DDFBEBA68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68D2-C053-44DA-B6CF-A440C9D29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DA84-6110-4584-803B-F16E8E9C0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80A7-8273-4680-9156-DB1791CD7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319F-9B6C-4BA7-90DC-13583DB7B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6BB3-FA02-4768-B02E-B60DB9AD3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65BE-F63E-4F60-AB7D-C78F8E4AA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9D23-1705-4727-B313-581B0E532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02BF-6637-44AF-A39B-F70223286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41E3-8745-49B8-BFA6-111DEC075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6BD6A-940B-4FF1-B308-080D2FD3B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2340-4843-426C-A3AB-B9AB5D781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F7B3-0A01-43E2-A1E5-FA4263EC5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8C51-2128-44E8-AA18-FAD76D7DA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2864-2340-4BE8-A1F0-671BD9FFE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8EB1-F12E-4EF1-BD96-3C0DF0B3D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5DCE-CE7C-4ACF-B357-44DEF458E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BD63-369B-4391-BC48-A9CC4C360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46D3-4AFD-4EFC-A8CC-9F1BD3A21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CC83-AEF8-4CCA-B46D-246636CEF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CFDD-C8B8-4269-9DC9-FAF60DD28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13AA-46DC-443D-BAAB-4519AA2CE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4D9CE-2689-400E-8F3A-A4C6C48E5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65D3-3F4A-4A54-BA62-713178C53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B44E-3CB2-4A59-B01B-17B23DD2A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242C-B801-4B8B-B1D2-F47ABB4DB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0106-5C77-46B2-B84F-8229C8808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1CE4-C7BC-4F1D-9B6E-FF4ED9381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B610-8FFE-4123-9E67-0EA9D5CD3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B126-A1C8-42BB-B52E-0EBF76A6C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A472-10E7-425D-B840-5FC9082E1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F53B-8EA3-4547-83A2-4D96A17E1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7242-0298-40A6-9D76-BE48B4166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7187-989F-42DA-9068-C073BFD50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75AE-54EB-4B53-96DE-FB4C97967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B417-1E6B-4663-B1B0-6F3341C06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E07A-30C7-473A-9D94-FFBAD4DAD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19F3-3C78-4758-9994-F857C5DCB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02F8-9B9B-48FA-96DF-17311635B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985680" y="741240"/>
            <a:ext cx="4886640" cy="3665520"/>
          </a:xfrm>
          <a:prstGeom prst="rect">
            <a:avLst/>
          </a:prstGeom>
          <a:ln w="0">
            <a:noFill/>
          </a:ln>
        </p:spPr>
      </p:sp>
      <p:sp>
        <p:nvSpPr>
          <p:cNvPr id="1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3193-8841-4A99-A1FF-F996CB39C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985680" y="741240"/>
            <a:ext cx="4886640" cy="3665520"/>
          </a:xfrm>
          <a:prstGeom prst="rect">
            <a:avLst/>
          </a:prstGeom>
          <a:ln w="0">
            <a:noFill/>
          </a:ln>
        </p:spPr>
      </p:sp>
      <p:sp>
        <p:nvSpPr>
          <p:cNvPr id="14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31F3-4214-42A6-86BE-E40C56EC0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1FC5-9F15-49ED-872A-029ECBBBC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2E40-AF0E-4C27-B5B4-4BDC2E521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B38D-E476-4200-ADE1-2DE662608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85680" y="741240"/>
            <a:ext cx="4886640" cy="3665520"/>
          </a:xfrm>
          <a:prstGeom prst="rect">
            <a:avLst/>
          </a:prstGeom>
          <a:ln w="0">
            <a:noFill/>
          </a:ln>
        </p:spPr>
      </p:sp>
      <p:sp>
        <p:nvSpPr>
          <p:cNvPr id="1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3199D-F86E-4E77-982F-2A743B59C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985680" y="741240"/>
            <a:ext cx="4886640" cy="3665520"/>
          </a:xfrm>
          <a:prstGeom prst="rect">
            <a:avLst/>
          </a:prstGeom>
          <a:ln w="0">
            <a:noFill/>
          </a:ln>
        </p:spPr>
      </p:sp>
      <p:sp>
        <p:nvSpPr>
          <p:cNvPr id="14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6574-9DAB-45F2-8374-9B0F95AAA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EDA0-3E49-446E-851F-5A472E8B1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985680" y="741240"/>
            <a:ext cx="4886640" cy="3665520"/>
          </a:xfrm>
          <a:prstGeom prst="rect">
            <a:avLst/>
          </a:prstGeom>
          <a:ln w="0">
            <a:noFill/>
          </a:ln>
        </p:spPr>
      </p:sp>
      <p:sp>
        <p:nvSpPr>
          <p:cNvPr id="14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CB0D-BC8D-4EC4-9039-379F4D0AC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PlaceHolder 1"/>
          <p:cNvSpPr>
            <a:spLocks noGrp="1"/>
          </p:cNvSpPr>
          <p:nvPr>
            <p:ph type="sldImg"/>
          </p:nvPr>
        </p:nvSpPr>
        <p:spPr>
          <a:xfrm>
            <a:off x="985680" y="741240"/>
            <a:ext cx="4886640" cy="3665520"/>
          </a:xfrm>
          <a:prstGeom prst="rect">
            <a:avLst/>
          </a:prstGeom>
          <a:ln w="0">
            <a:noFill/>
          </a:ln>
        </p:spPr>
      </p:sp>
      <p:sp>
        <p:nvSpPr>
          <p:cNvPr id="14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63E9-3C66-4D89-8141-905255BA2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985680" y="741240"/>
            <a:ext cx="4886640" cy="3665520"/>
          </a:xfrm>
          <a:prstGeom prst="rect">
            <a:avLst/>
          </a:prstGeom>
          <a:ln w="0">
            <a:noFill/>
          </a:ln>
        </p:spPr>
      </p:sp>
      <p:sp>
        <p:nvSpPr>
          <p:cNvPr id="14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C1E5-CA5B-4776-9A3D-569BB02A1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985680" y="741240"/>
            <a:ext cx="4886640" cy="3665520"/>
          </a:xfrm>
          <a:prstGeom prst="rect">
            <a:avLst/>
          </a:prstGeom>
          <a:ln w="0">
            <a:noFill/>
          </a:ln>
        </p:spPr>
      </p:sp>
      <p:sp>
        <p:nvSpPr>
          <p:cNvPr id="14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42B2-C7BE-4F13-8D27-21AB9A767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985680" y="741240"/>
            <a:ext cx="4886640" cy="3665520"/>
          </a:xfrm>
          <a:prstGeom prst="rect">
            <a:avLst/>
          </a:prstGeom>
          <a:ln w="0">
            <a:noFill/>
          </a:ln>
        </p:spPr>
      </p:sp>
      <p:sp>
        <p:nvSpPr>
          <p:cNvPr id="14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0E06-8FB6-401D-BF20-46FB1FD60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PlaceHolder 1"/>
          <p:cNvSpPr>
            <a:spLocks noGrp="1"/>
          </p:cNvSpPr>
          <p:nvPr>
            <p:ph type="sldImg"/>
          </p:nvPr>
        </p:nvSpPr>
        <p:spPr>
          <a:xfrm>
            <a:off x="985680" y="741240"/>
            <a:ext cx="4886640" cy="3665520"/>
          </a:xfrm>
          <a:prstGeom prst="rect">
            <a:avLst/>
          </a:prstGeom>
          <a:ln w="0">
            <a:noFill/>
          </a:ln>
        </p:spPr>
      </p:sp>
      <p:sp>
        <p:nvSpPr>
          <p:cNvPr id="14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D054-B4F3-431B-8C52-FDB0E4E68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2221-1509-484D-9F4F-A43125073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985680" y="741240"/>
            <a:ext cx="4886640" cy="3665520"/>
          </a:xfrm>
          <a:prstGeom prst="rect">
            <a:avLst/>
          </a:prstGeom>
          <a:ln w="0">
            <a:noFill/>
          </a:ln>
        </p:spPr>
      </p:sp>
      <p:sp>
        <p:nvSpPr>
          <p:cNvPr id="14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3779-2822-46DE-8816-8A7ECF21C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PlaceHolder 1"/>
          <p:cNvSpPr>
            <a:spLocks noGrp="1"/>
          </p:cNvSpPr>
          <p:nvPr>
            <p:ph type="sldImg"/>
          </p:nvPr>
        </p:nvSpPr>
        <p:spPr>
          <a:xfrm>
            <a:off x="985680" y="741240"/>
            <a:ext cx="4886640" cy="3665520"/>
          </a:xfrm>
          <a:prstGeom prst="rect">
            <a:avLst/>
          </a:prstGeom>
          <a:ln w="0">
            <a:noFill/>
          </a:ln>
        </p:spPr>
      </p:sp>
      <p:sp>
        <p:nvSpPr>
          <p:cNvPr id="14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29F6-0F27-4453-89C9-C70893309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985680" y="741240"/>
            <a:ext cx="4886640" cy="3665520"/>
          </a:xfrm>
          <a:prstGeom prst="rect">
            <a:avLst/>
          </a:prstGeom>
          <a:ln w="0">
            <a:noFill/>
          </a:ln>
        </p:spPr>
      </p:sp>
      <p:sp>
        <p:nvSpPr>
          <p:cNvPr id="14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54A0-0AB7-4926-9E1F-A6F473017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7" name="PlaceHolder 1"/>
          <p:cNvSpPr>
            <a:spLocks noGrp="1"/>
          </p:cNvSpPr>
          <p:nvPr>
            <p:ph type="sldImg"/>
          </p:nvPr>
        </p:nvSpPr>
        <p:spPr>
          <a:xfrm>
            <a:off x="985680" y="741240"/>
            <a:ext cx="4886640" cy="3665520"/>
          </a:xfrm>
          <a:prstGeom prst="rect">
            <a:avLst/>
          </a:prstGeom>
          <a:ln w="0">
            <a:noFill/>
          </a:ln>
        </p:spPr>
      </p:sp>
      <p:sp>
        <p:nvSpPr>
          <p:cNvPr id="14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16DD-8F00-47F5-BE8E-3F4303EE8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0" name="PlaceHolder 1"/>
          <p:cNvSpPr>
            <a:spLocks noGrp="1"/>
          </p:cNvSpPr>
          <p:nvPr>
            <p:ph type="sldImg"/>
          </p:nvPr>
        </p:nvSpPr>
        <p:spPr>
          <a:xfrm>
            <a:off x="985680" y="741240"/>
            <a:ext cx="4886640" cy="3665520"/>
          </a:xfrm>
          <a:prstGeom prst="rect">
            <a:avLst/>
          </a:prstGeom>
          <a:ln w="0">
            <a:noFill/>
          </a:ln>
        </p:spPr>
      </p:sp>
      <p:sp>
        <p:nvSpPr>
          <p:cNvPr id="14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D21E-8054-4DBB-ABEE-171BA43E7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PlaceHolder 1"/>
          <p:cNvSpPr>
            <a:spLocks noGrp="1"/>
          </p:cNvSpPr>
          <p:nvPr>
            <p:ph type="sldImg"/>
          </p:nvPr>
        </p:nvSpPr>
        <p:spPr>
          <a:xfrm>
            <a:off x="985680" y="741240"/>
            <a:ext cx="4886640" cy="3665520"/>
          </a:xfrm>
          <a:prstGeom prst="rect">
            <a:avLst/>
          </a:prstGeom>
          <a:ln w="0">
            <a:noFill/>
          </a:ln>
        </p:spPr>
      </p:sp>
      <p:sp>
        <p:nvSpPr>
          <p:cNvPr id="14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33BB-A38E-4853-BF45-4AC7C61C7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85680" y="741240"/>
            <a:ext cx="4886640" cy="3665520"/>
          </a:xfrm>
          <a:prstGeom prst="rect">
            <a:avLst/>
          </a:prstGeom>
          <a:ln w="0">
            <a:noFill/>
          </a:ln>
        </p:spPr>
      </p:sp>
      <p:sp>
        <p:nvSpPr>
          <p:cNvPr id="14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61C6-6A5E-421F-8085-E25BD4685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9" name="PlaceHolder 1"/>
          <p:cNvSpPr>
            <a:spLocks noGrp="1"/>
          </p:cNvSpPr>
          <p:nvPr>
            <p:ph type="sldImg"/>
          </p:nvPr>
        </p:nvSpPr>
        <p:spPr>
          <a:xfrm>
            <a:off x="985680" y="741240"/>
            <a:ext cx="4886640" cy="3665520"/>
          </a:xfrm>
          <a:prstGeom prst="rect">
            <a:avLst/>
          </a:prstGeom>
          <a:ln w="0">
            <a:noFill/>
          </a:ln>
        </p:spPr>
      </p:sp>
      <p:sp>
        <p:nvSpPr>
          <p:cNvPr id="14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A1B3-F69A-4591-8694-EEF046786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2" name="PlaceHolder 1"/>
          <p:cNvSpPr>
            <a:spLocks noGrp="1"/>
          </p:cNvSpPr>
          <p:nvPr>
            <p:ph type="sldImg"/>
          </p:nvPr>
        </p:nvSpPr>
        <p:spPr>
          <a:xfrm>
            <a:off x="985680" y="741240"/>
            <a:ext cx="4886640" cy="3665520"/>
          </a:xfrm>
          <a:prstGeom prst="rect">
            <a:avLst/>
          </a:prstGeom>
          <a:ln w="0">
            <a:noFill/>
          </a:ln>
        </p:spPr>
      </p:sp>
      <p:sp>
        <p:nvSpPr>
          <p:cNvPr id="14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D6FD2-C74A-4AC9-9F3D-F0A47730F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PlaceHolder 1"/>
          <p:cNvSpPr>
            <a:spLocks noGrp="1"/>
          </p:cNvSpPr>
          <p:nvPr>
            <p:ph type="sldImg"/>
          </p:nvPr>
        </p:nvSpPr>
        <p:spPr>
          <a:xfrm>
            <a:off x="985680" y="741240"/>
            <a:ext cx="4886640" cy="3665520"/>
          </a:xfrm>
          <a:prstGeom prst="rect">
            <a:avLst/>
          </a:prstGeom>
          <a:ln w="0">
            <a:noFill/>
          </a:ln>
        </p:spPr>
      </p:sp>
      <p:sp>
        <p:nvSpPr>
          <p:cNvPr id="14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2A5D-F8E1-4977-9ED4-289170A3F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A99D-5EE7-4FD3-911D-D4128EA8A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985680" y="741240"/>
            <a:ext cx="4886640" cy="3665520"/>
          </a:xfrm>
          <a:prstGeom prst="rect">
            <a:avLst/>
          </a:prstGeom>
          <a:ln w="0">
            <a:noFill/>
          </a:ln>
        </p:spPr>
      </p:sp>
      <p:sp>
        <p:nvSpPr>
          <p:cNvPr id="14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6B51-9F5D-4541-A8D3-90002E19F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PlaceHolder 1"/>
          <p:cNvSpPr>
            <a:spLocks noGrp="1"/>
          </p:cNvSpPr>
          <p:nvPr>
            <p:ph type="sldImg"/>
          </p:nvPr>
        </p:nvSpPr>
        <p:spPr>
          <a:xfrm>
            <a:off x="985680" y="741240"/>
            <a:ext cx="4886640" cy="3665520"/>
          </a:xfrm>
          <a:prstGeom prst="rect">
            <a:avLst/>
          </a:prstGeom>
          <a:ln w="0">
            <a:noFill/>
          </a:ln>
        </p:spPr>
      </p:sp>
      <p:sp>
        <p:nvSpPr>
          <p:cNvPr id="14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9054-CF11-4CE2-B9AE-3CE93CD9C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985680" y="741240"/>
            <a:ext cx="4886640" cy="3665520"/>
          </a:xfrm>
          <a:prstGeom prst="rect">
            <a:avLst/>
          </a:prstGeom>
          <a:ln w="0">
            <a:noFill/>
          </a:ln>
        </p:spPr>
      </p:sp>
      <p:sp>
        <p:nvSpPr>
          <p:cNvPr id="14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5BDD-7E69-4F7D-BEAF-74BE8B067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7" name="PlaceHolder 1"/>
          <p:cNvSpPr>
            <a:spLocks noGrp="1"/>
          </p:cNvSpPr>
          <p:nvPr>
            <p:ph type="sldImg"/>
          </p:nvPr>
        </p:nvSpPr>
        <p:spPr>
          <a:xfrm>
            <a:off x="985680" y="741240"/>
            <a:ext cx="4886640" cy="3665520"/>
          </a:xfrm>
          <a:prstGeom prst="rect">
            <a:avLst/>
          </a:prstGeom>
          <a:ln w="0">
            <a:noFill/>
          </a:ln>
        </p:spPr>
      </p:sp>
      <p:sp>
        <p:nvSpPr>
          <p:cNvPr id="14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79F3-9CF7-4091-8548-8D4CBC3F2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0" name="PlaceHolder 1"/>
          <p:cNvSpPr>
            <a:spLocks noGrp="1"/>
          </p:cNvSpPr>
          <p:nvPr>
            <p:ph type="sldImg"/>
          </p:nvPr>
        </p:nvSpPr>
        <p:spPr>
          <a:xfrm>
            <a:off x="985680" y="741240"/>
            <a:ext cx="4886640" cy="3665520"/>
          </a:xfrm>
          <a:prstGeom prst="rect">
            <a:avLst/>
          </a:prstGeom>
          <a:ln w="0">
            <a:noFill/>
          </a:ln>
        </p:spPr>
      </p:sp>
      <p:sp>
        <p:nvSpPr>
          <p:cNvPr id="14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F413-2DA2-45A2-A420-D2F79E095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3" name="PlaceHolder 1"/>
          <p:cNvSpPr>
            <a:spLocks noGrp="1"/>
          </p:cNvSpPr>
          <p:nvPr>
            <p:ph type="sldImg"/>
          </p:nvPr>
        </p:nvSpPr>
        <p:spPr>
          <a:xfrm>
            <a:off x="985680" y="741240"/>
            <a:ext cx="4886640" cy="3665520"/>
          </a:xfrm>
          <a:prstGeom prst="rect">
            <a:avLst/>
          </a:prstGeom>
          <a:ln w="0">
            <a:noFill/>
          </a:ln>
        </p:spPr>
      </p:sp>
      <p:sp>
        <p:nvSpPr>
          <p:cNvPr id="14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6281-4AA6-4094-8380-C56F14C14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PlaceHolder 1"/>
          <p:cNvSpPr>
            <a:spLocks noGrp="1"/>
          </p:cNvSpPr>
          <p:nvPr>
            <p:ph type="sldImg"/>
          </p:nvPr>
        </p:nvSpPr>
        <p:spPr>
          <a:xfrm>
            <a:off x="985680" y="741240"/>
            <a:ext cx="4886640" cy="3665520"/>
          </a:xfrm>
          <a:prstGeom prst="rect">
            <a:avLst/>
          </a:prstGeom>
          <a:ln w="0">
            <a:noFill/>
          </a:ln>
        </p:spPr>
      </p:sp>
      <p:sp>
        <p:nvSpPr>
          <p:cNvPr id="14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3F927-6E90-4065-B161-5B982CF42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985680" y="741240"/>
            <a:ext cx="4886640" cy="3665520"/>
          </a:xfrm>
          <a:prstGeom prst="rect">
            <a:avLst/>
          </a:prstGeom>
          <a:ln w="0">
            <a:noFill/>
          </a:ln>
        </p:spPr>
      </p:sp>
      <p:sp>
        <p:nvSpPr>
          <p:cNvPr id="15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3991-7211-42BC-B905-DE667E007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2" name="PlaceHolder 1"/>
          <p:cNvSpPr>
            <a:spLocks noGrp="1"/>
          </p:cNvSpPr>
          <p:nvPr>
            <p:ph type="sldImg"/>
          </p:nvPr>
        </p:nvSpPr>
        <p:spPr>
          <a:xfrm>
            <a:off x="985680" y="741240"/>
            <a:ext cx="4886640" cy="3665520"/>
          </a:xfrm>
          <a:prstGeom prst="rect">
            <a:avLst/>
          </a:prstGeom>
          <a:ln w="0">
            <a:noFill/>
          </a:ln>
        </p:spPr>
      </p:sp>
      <p:sp>
        <p:nvSpPr>
          <p:cNvPr id="15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E469-5991-49D4-B36D-988B8A16E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5" name="PlaceHolder 1"/>
          <p:cNvSpPr>
            <a:spLocks noGrp="1"/>
          </p:cNvSpPr>
          <p:nvPr>
            <p:ph type="sldImg"/>
          </p:nvPr>
        </p:nvSpPr>
        <p:spPr>
          <a:xfrm>
            <a:off x="985680" y="741240"/>
            <a:ext cx="4886640" cy="3665520"/>
          </a:xfrm>
          <a:prstGeom prst="rect">
            <a:avLst/>
          </a:prstGeom>
          <a:ln w="0">
            <a:noFill/>
          </a:ln>
        </p:spPr>
      </p:sp>
      <p:sp>
        <p:nvSpPr>
          <p:cNvPr id="15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98E9-D4C4-4DF2-859A-9B2E4DFC6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7146-F1D6-4CB8-B36E-C13A20C3C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985680" y="741240"/>
            <a:ext cx="4886640" cy="3665520"/>
          </a:xfrm>
          <a:prstGeom prst="rect">
            <a:avLst/>
          </a:prstGeom>
          <a:ln w="0">
            <a:noFill/>
          </a:ln>
        </p:spPr>
      </p:sp>
      <p:sp>
        <p:nvSpPr>
          <p:cNvPr id="15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E87A-0B39-4D19-8415-71AB9FF9B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1" name="PlaceHolder 1"/>
          <p:cNvSpPr>
            <a:spLocks noGrp="1"/>
          </p:cNvSpPr>
          <p:nvPr>
            <p:ph type="sldImg"/>
          </p:nvPr>
        </p:nvSpPr>
        <p:spPr>
          <a:xfrm>
            <a:off x="985680" y="741240"/>
            <a:ext cx="4886640" cy="3665520"/>
          </a:xfrm>
          <a:prstGeom prst="rect">
            <a:avLst/>
          </a:prstGeom>
          <a:ln w="0">
            <a:noFill/>
          </a:ln>
        </p:spPr>
      </p:sp>
      <p:sp>
        <p:nvSpPr>
          <p:cNvPr id="15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0F31-06DC-473C-BD79-83BCDE00F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EB321-394A-46C9-A574-40E775567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07FA8-9C24-4BC3-A173-4745C1FC3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2CA72E-078D-422F-AC00-8C4C1D4124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29D612-0AA1-44A5-B2E6-6FE53D111B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8D8DBE-A21F-40F6-80F5-9981D17489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69D508-6471-4ADA-871B-FD8569B38C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9E5D58-90AF-49B1-B688-BB7F333855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B05A04-1AF0-4DB6-B3D9-228DA93171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AD81CF-D517-4921-A6ED-D78FA38F98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4064CD-C388-4423-A842-13D9899351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F8BFC1-EEED-4723-A28A-C46AE4520C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2C25DF9-6D34-427F-8F88-F94EA5A0A91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DD4C5-399E-4E90-B2B6-FCE56CF3A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398295-61D4-4F4F-99CF-2A63C23A73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02B7D0-F77D-4BA5-BB60-6986FA8B91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0694DB-17EC-4D27-B34B-F1E0786CDB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53A46D-3B3A-48B1-BE1A-732777C568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B5C8AF-E754-4FB0-A004-49A4058963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ADE74E-889B-44CC-9BA1-8A5EEA5537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A824F6-9722-44C5-B9BD-1C49447F2A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2F3C5E-2058-4E96-A0C7-1B456BF9EF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D43848-D545-4539-9811-661817CACF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8DAA100-FBC6-4505-A044-D57AAD19E0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9A47D-67C8-471C-9B7B-53BFCE95F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6BB257E-060A-41A5-A3E0-7301A42C4A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DEE5184-4EE9-4C89-A5C7-E9F380C86C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896619-D99A-4C4E-BFFD-B0FC701A46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98C589-7D6A-48B1-9D68-7EBD360079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1A16FB-69A1-4FCB-9C39-0ECBD66209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A29FE6-0654-4B26-82DD-5FF42F7ADF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B9195C-1CA9-468B-A4E7-3A51323275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150E82-7405-4353-B07F-CF9AFFE06F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C71D6D-B875-487E-BBBB-9E8C33CF45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2670C5-8D94-4B0A-B593-D7F8C318A0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D4D4D5-BC47-42AF-A97F-47E178BF7C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CE5BD0-7842-44B9-99D3-949AA03EF8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74CAA64-A1D5-4DEF-A3E9-763695AA695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A1B51ED-93B7-4180-BFE7-0C4C7DC8A4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A21E42-9244-4AB6-9490-B0C3E87BA6F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4739CB-11C5-469F-A3C6-F2FAE0EC2E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8C7EA2-5D45-4C5B-9B7F-257132BC49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F8CE93-781D-4831-AA00-9C7493BFC5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52EC26-F6E1-490B-932C-7564B22687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5BEF6B-3E94-49F9-BEC2-DEA903C93B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5B1EF5-6EC2-4076-A91E-F5B9B878CF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01A3B-F814-4C7C-8EEB-A0738ED3A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008973-7EE8-4BB0-995B-9271841AC3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A0204E-9418-45BF-BD65-FDEEB48951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2B04C3-C49D-4028-87DD-9AC98FE2E3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D1ECF6F-3515-4D7B-AEE9-C396E4388A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4FBB5BF-54C5-4AB4-857E-A2752D412C3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0CD96E17-C202-4193-97C0-2279D037B822}"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05168522-C52B-4B6D-AA9D-FAAC9F4E71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1EB3B33-98E7-4EBB-8ECB-987D5D9BAC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2159734A-55D7-4710-9300-7372B5ADDA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B22A2016-D9D2-473B-9E30-88808C680FF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EE83D-41F2-4C4C-BC9B-2FED65509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8385E336-E9FB-4D5C-A3F5-2EEEDC83CB7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B76BB31-FABE-4323-BC7A-859D8F61335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079CC6B-9736-4757-B5D0-EA1C8D989D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858FD8B-8AD2-4ACA-9321-32CEC2DE74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7FD6A2A-9B78-4761-8784-1CCBA0494A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FDCC8791-C03D-4A4D-A767-BF02F4E572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805702A3-0E83-4B88-9155-C9713196DECE}"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424CC-D770-4A2D-A3C1-141762D3D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FB063-48AF-4960-A35A-35C86BDB3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0D0BC-D5F5-4432-8FF7-A6A746772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5CF51-4CDA-4B7E-9F44-4AE19F61F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0E411-EB6B-4250-B199-C5896AD03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3BE42-1BD2-464A-81BC-7865E8AA3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4992E-66CE-4EBC-9372-127820BDF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4D3F3-F6FB-461E-81F5-119EE207C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732C5-AA07-4CD6-89FB-0AEC3C623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25CD4-EF93-4B23-92C2-41BBA63EB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4F98A6-2253-4D19-85F0-0D6D35FAF0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A3654E-C4C4-451C-8AA4-FE29C9EB40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994ADD-CF7F-42B8-B01C-B7543F9C1A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59E09A-0A86-44B6-B675-BBD0DB7AE6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686D99-9A63-4FB9-B8D4-9308B628E1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44BD8-2E9F-4B87-B186-973B854DD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9C324D-2DAD-43AE-A048-A14B5AABBA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8CEDA-7630-472A-BF36-2CEF2F531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2215E3-6A22-463F-93F0-399D1AC3CB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93F5B-8461-4601-B417-410E8B9F74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F0B246-F0EC-428D-84A4-1069BF7E4E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7FA988-20B8-4510-8F2E-7A104054B2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7BB738-16A7-413A-9B8A-DF0CE3A6DA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3F666B-7CDB-4CD1-BECA-18CDF6F336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E41563-878E-4346-830C-B2583ABF2D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510ACA-7FB0-4C64-9314-86CE5DE9DB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EB600-CC60-4B8C-9D84-F060ED422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2A8A5D-9903-420A-B8A5-BE4CC7313D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C930CA-9BE2-4E10-89A1-11CEA311F7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10DDF7-4C2D-4A74-BADE-5C00ECB50F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72D1F-ABE0-4A18-88B8-B5913E1CA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DECB5E-AC56-466F-99DD-E0DD80BFB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5B778B-1FE7-4679-A6D3-29A3971C49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419AF2-8973-4A68-8C2B-6D58BB3BE1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69B6F0-68BD-487C-82A2-2C1B1F45B4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CBB814-F1B3-4F6C-A091-8E7B447E65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600649-7AB4-4476-9C93-CCF21B3A0B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F6615-62BA-485B-A68A-7BC2579D3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C8FE8B-7419-4CC7-842D-9DC1B72660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52695F-F0E6-4115-AD0B-CCBF1EF850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D90299-B35D-49AC-BFF8-3E809A4243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18697F-D9E2-4570-9C1D-016B4A6D65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AE2F3D-0336-4F6A-AE4D-57E1DB4FD5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BD04D-2E96-4605-87B2-93AFD6A54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E67BF9-7B8A-4FC7-94EA-D169D1B972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8A26C2-B417-4AF8-89AB-AE3405FC8A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6F973C-4655-4FFE-8C8F-A391A39C4D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539FAE-DF55-4358-B220-BD756FFE4E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391C9-C4B9-49AE-AB61-77FD7844C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BA433E-5AFA-4E40-8D28-91C192D217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E85D45-36DC-4763-A370-C50ABA435A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A1DAC8-417A-41DE-80E6-6040C5A0C0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71309D-9598-44A3-8182-F32080C69D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438653-359F-4EB6-8129-301E9BDCA1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33134F-9839-440F-B518-15A37322D4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F95DA9-2B94-4250-B4D4-EC142AD053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5E8584-D9CF-49B7-898A-E712C83DCC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6D6513-0A3F-493E-850A-7892E67D54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EB408E-B744-48C9-BB21-F248256A60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D45AE-40D3-431F-A418-2EA456446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7193C1-B5AD-4B8C-9669-073DCA50EB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F9047A-5F47-4AAD-B7EF-47E9476410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0D103C-6C8B-4A41-A243-5328DFFB8E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46F617-5FE4-4E2C-921A-4D1C8EA691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5396F6-66DE-445B-A86A-34CAEC2F8D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19B740-7230-42CB-B27B-81F08E67B1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05B680-3A38-41F5-ADE7-C2CC99B131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08BF31-A169-4706-8312-7FA3EA77A5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2CB314-D8C5-44EB-9487-3786243392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979992-319B-4309-93E9-816A33071B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E73E8-4D56-41CC-A1AC-E466D4A74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65E93C-39DC-4B69-941A-10776750EA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1E7424-A541-461B-8570-E38F3D0ABB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A6A795-28C4-49D8-A448-F2DC819406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275F86-6CB4-4461-9D4B-D12141064A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F460B4-C2BA-46DB-B5A8-B4298D007B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48ECAB-533B-40AA-A193-F7F537A74B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8D5168-C312-473D-85D9-CBA3AD95E7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5EDE8C-C386-44E9-855F-01165ECC2B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E57CBD-5DC0-46BD-957F-F67607F96C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1C853C-4655-4C95-B0D0-C553FE36BB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8AFF4-9552-4A18-9C9F-D6644BD9C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B5C4E4-27B2-415D-BC3D-A76A73A983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6B003F-250B-4D9D-97A4-DBC6F15B28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93355C-3695-4C16-9A29-82B991764A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33A094-FD14-48D4-90DC-B45615182C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53F509-EC5A-4739-ADDA-0F19AD58E1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E61B91-EAD0-41BA-B632-9F64BD3815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60C440-48DF-4C7F-8727-1037809391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B04D91-E3C6-498C-964E-06CAE09DD3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0AFD06-27F2-4E1A-BA33-79477C4338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19B9EC-1ECC-4A44-9F5A-280FBB88368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49D7-1B45-4F82-B1BA-3E53A4B5EC9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51D5-FD3E-4C5A-9257-07F152859C4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FD9B-0523-43A1-A88E-DAC28893089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C35C-08C3-4DCB-8924-0EE29906BFE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6517-C4E5-480C-B81A-9EA54F3F79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2D6A4-1417-4202-B2CE-93EF27FA3D7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B8D5-6D98-41FA-ADE0-09B40882567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1500-225D-4677-AC68-85B8D1EB801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0169-9F7F-4873-B01F-F3EB2AFE1F6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5C0C-CFB7-4F0B-B930-5264D949E9E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06F9-CDF2-44A2-BACC-3E4FF41FAAC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F0C6-A838-4CB5-BEC4-7559CA3FB25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853B-750D-4D6A-9858-9BE5C2FE066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68000" y="1197000"/>
            <a:ext cx="83516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λλαγές  που  απαιτούνται  ώστε  να</a:t>
            </a:r>
            <a:r>
              <a:rPr b="0" lang="en-US" sz="2800" spc="-1" strike="noStrike">
                <a:solidFill>
                  <a:srgbClr val="000000"/>
                </a:solidFill>
                <a:latin typeface="Times New Roman"/>
              </a:rPr>
              <a:t> </a:t>
            </a:r>
            <a:r>
              <a:rPr b="0" lang="el-GR" sz="2800" spc="-1" strike="noStrike">
                <a:solidFill>
                  <a:srgbClr val="000000"/>
                </a:solidFill>
                <a:latin typeface="Times New Roman"/>
              </a:rPr>
              <a:t>εφαρμοστεί   η   συμπεριληπτική   εκπαίδευση   δεν   μπορεί   να   περιορίζονται   μόνο   στην προσαρμογή των αναλυτικών προγραμμάτων, το ειδικευμένο προσωπικό, τους χώρους κλπ που αναφέρθηκαν παραπάνω  </a:t>
            </a:r>
            <a:br>
              <a:rPr sz="2800"/>
            </a:br>
            <a:r>
              <a:rPr b="0" lang="el-GR" sz="2800" spc="-1" strike="noStrike">
                <a:solidFill>
                  <a:srgbClr val="000000"/>
                </a:solidFill>
                <a:latin typeface="Times New Roman"/>
              </a:rPr>
              <a:t>αλλά και στη διαμόρφωση θετικών στάσεων από την πλευρά των εκπαιδευτικών </a:t>
            </a:r>
            <a:br>
              <a:rPr sz="2800"/>
            </a:br>
            <a:r>
              <a:rPr b="0" lang="el-GR" sz="2800" spc="-1" strike="noStrike">
                <a:solidFill>
                  <a:srgbClr val="000000"/>
                </a:solidFill>
                <a:latin typeface="Times New Roman"/>
              </a:rPr>
              <a:t>τόσο για τα παιδιά με αναπηρίες </a:t>
            </a:r>
            <a:br>
              <a:rPr sz="2800"/>
            </a:br>
            <a:r>
              <a:rPr b="0" lang="el-GR" sz="2800" spc="-1" strike="noStrike">
                <a:solidFill>
                  <a:srgbClr val="000000"/>
                </a:solidFill>
                <a:latin typeface="Times New Roman"/>
              </a:rPr>
              <a:t>όσο και για την ίδια την συμπεριληπτική φιλοσοφία. </a:t>
            </a:r>
            <a:br>
              <a:rPr sz="2800"/>
            </a:br>
            <a:br>
              <a:rPr sz="2000"/>
            </a:b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κύπτει η ανάγκη να κατανοήσουμε τις γνώσεις, σχετικά με τις αντιλήψεις των εκπαιδευτικών απέναντι στη συμπεριληπτική εκπαίδευση ώστε να γίνει ευκολότερη   δημιουργία και λειτουργία ενός σχολικού πλαισίου που να επιτρέπει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ammond </a:t>
            </a:r>
            <a:r>
              <a:rPr b="0" lang="el-GR" sz="2800" spc="-1" strike="noStrike">
                <a:solidFill>
                  <a:srgbClr val="000000"/>
                </a:solidFill>
                <a:latin typeface="Times New Roman"/>
              </a:rPr>
              <a:t>&amp; </a:t>
            </a:r>
            <a:r>
              <a:rPr b="0" lang="en-US" sz="2800" spc="-1" strike="noStrike">
                <a:solidFill>
                  <a:srgbClr val="000000"/>
                </a:solidFill>
                <a:latin typeface="Times New Roman"/>
              </a:rPr>
              <a:t>Ingalls</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24000" y="1052280"/>
            <a:ext cx="8496000" cy="4732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βιβλιογραφία καταγράφονται διαφορετικές στάσεις και αντιλήψεις των εκπαιδευτικών αναφορικά με την συμπερίληψη. </a:t>
            </a:r>
            <a:br>
              <a:rPr sz="2800"/>
            </a:br>
            <a:r>
              <a:rPr b="0" lang="el-GR" sz="2800" spc="-1" strike="noStrike">
                <a:solidFill>
                  <a:srgbClr val="000000"/>
                </a:solidFill>
                <a:latin typeface="Times New Roman"/>
              </a:rPr>
              <a:t> Υπάρχουν έρευνες που εντοπίζουν ότι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ις τάξ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akap </a:t>
            </a:r>
            <a:r>
              <a:rPr b="0" lang="el-GR" sz="2800" spc="-1" strike="noStrike">
                <a:solidFill>
                  <a:srgbClr val="000000"/>
                </a:solidFill>
                <a:latin typeface="Times New Roman"/>
              </a:rPr>
              <a:t>&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Κουτρούμπα, Βαμβακάρη και Θεοδωρόπουλου (2008) στη χώρα μας, που αφορούσε εκπαιδευτικούς δευτεροβάθμιας εκπαίδευσης   σε δημόσια Γυμνάσια και Λύκεια της Αττικής, κατέγραψε θετικές αντιλήψεις απέναντι  στην  συμπερίληψη  από  το  52,9%  των  συμμετεχόντων.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Οι  συμμετέχοντες  στην έρευνα δήλωσαν ότι η συμπεριληπτική εκπαίδευση μπορεί να συμβάλει στην κοινωνική αποδοχή των ατόμων με αναπηρίες, ότι αποτελεί έμπρακτη εφαρμογή της αρχής των ίσων δικαιωμάτων όλων των μελών κάθε δημοκρατικής κοινωνίας και ότι μπορεί να συμβάλει στην άρση των προκαταλήψεων απέναντι στην αναπηρία χωρίς να δυσχεραίνει και να υποβαθμίζει την εκπαιδευτική διαδικασία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24000" y="1341000"/>
            <a:ext cx="8496000" cy="444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ο 47% του δείγματος που απάντησε αρνητικά δήλωσε ότι δεν υπάρχουν οι κατάλληλες υποδομές στις σχολικές μονάδες, το αναλυτικό πρόγραμμα δεν επιτρέπει την απαραίτητη ευελιξία, η διαφοροποιημένη   διδασκαλία   και   το   εξατομικευμένο   πρόγραμμα   απαιτούν   μεγάλη προσπάθεια από τους εκπαιδευτικούς </a:t>
            </a:r>
            <a:br>
              <a:rPr sz="2800"/>
            </a:br>
            <a:r>
              <a:rPr b="0" lang="el-GR" sz="2800" spc="-1" strike="noStrike">
                <a:solidFill>
                  <a:srgbClr val="000000"/>
                </a:solidFill>
                <a:latin typeface="Times New Roman"/>
              </a:rPr>
              <a:t>και ότι η συμπεριληπτική εκπαίδευση  θα οδηγήσει σε πτώση  τις επιδόσεις των τυπικώ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a:t>
            </a:r>
            <a:r>
              <a:rPr b="0" lang="el-GR" sz="2800" spc="-1" strike="noStrike">
                <a:solidFill>
                  <a:srgbClr val="000000"/>
                </a:solidFill>
                <a:latin typeface="Times New Roman"/>
              </a:rPr>
              <a:t>,</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a:t>
            </a:r>
            <a:br>
              <a:rPr sz="2800"/>
            </a:br>
            <a:br>
              <a:rPr sz="2800"/>
            </a:br>
            <a:br>
              <a:rPr sz="2000"/>
            </a:b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94920" y="1197000"/>
            <a:ext cx="84978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ι ερευνητές (Αβραμίδης και Καλύβα 2007), πραγματοποίησαν ανάλογη έρευνα στην οποία οι εκπαιδευτικοί φάνηκε να έχουν θετική στάση απέναντι στην συμπερίληψη. Διατύπωσαν την άποψη ότι οι μαθητές με αναπηρίες έχουν δικαίωμα όπως όλα τα παιδιά να παρακολουθούν το σχολείο της γειτονιάς τους και ότι από αυτό θα ωφεληθούν τόσο στον κοινωνικό όσο και στον γνωστικό τομέα. Όσοι εξέφρασαν αρνητική στάση τη σύνδεσαν με ζητήματα και δυσκολίες της πρακτικής εφαρμογής της συμπερίληψης στην σχολική καθημερινότητα (</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φατικές απόψεις αναφορικά με την συμπερίληψη αποδίδει  έρευνα άλλων ερευνητών( Ζώνιου-Σιδέρη και Βλάχου το 2006.)  στους έλληνες εκπαιδευτικούς .</a:t>
            </a:r>
            <a:br>
              <a:rPr sz="2800"/>
            </a:br>
            <a:r>
              <a:rPr b="0" lang="el-GR" sz="2800" spc="-1" strike="noStrike">
                <a:solidFill>
                  <a:srgbClr val="000000"/>
                </a:solidFill>
                <a:latin typeface="Times New Roman"/>
              </a:rPr>
              <a:t>Από τα αποτελέσματα  φαίνεται ότι  οι εκπαιδευτικοί θεωρούν ότι η συμπερίληψη βελτιώνει τη λειτουργία του σχολείου και ταυτόχρονα περιορίζει τον στιγματισμό και την περιθωριοποίηση που υφίστανται οι μαθητές με αναπηρίες και </a:t>
            </a:r>
            <a:br>
              <a:rPr sz="2800"/>
            </a:br>
            <a:r>
              <a:rPr b="0" lang="el-GR" sz="2800" spc="-1" strike="noStrike">
                <a:solidFill>
                  <a:srgbClr val="000000"/>
                </a:solidFill>
                <a:latin typeface="Times New Roman"/>
              </a:rPr>
              <a:t> βοηθά στην κοινωνικοποίηση τους.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αφετέρου, θεωρούν ότι η εφαρμογή της συμπερίληψης δεν είναι εφικτή σε αρκετές περιπτώσεις και ότι ενδέχεται να επηρεάσει αρνητικά τους μαθητές τυπικής ανάπτυξης στο γενικό σχολείο. </a:t>
            </a:r>
            <a:br>
              <a:rPr sz="2800"/>
            </a:br>
            <a:r>
              <a:rPr b="0" lang="el-GR" sz="2800" spc="-1" strike="noStrike">
                <a:solidFill>
                  <a:srgbClr val="000000"/>
                </a:solidFill>
                <a:latin typeface="Times New Roman"/>
              </a:rPr>
              <a:t>Οι εκπαιδευτικοί γενικής αγωγής σε αυτήν την έρευνα φαίνεται να θεωρούν μοναδικούς υπεύθυνους για την εκπαίδευση των μαθητών με αναπηρίες τους εκπαιδευτικούς ειδικής αγωγής (</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3200"/>
            </a:br>
            <a:br>
              <a:rPr sz="2000"/>
            </a:br>
            <a:br>
              <a:rPr sz="2000"/>
            </a:br>
            <a:br>
              <a:rPr sz="20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λιότερη έρευνα των Αβραμίδη, </a:t>
            </a:r>
            <a:r>
              <a:rPr b="0" lang="en-US" sz="2800" spc="-1" strike="noStrike">
                <a:solidFill>
                  <a:srgbClr val="000000"/>
                </a:solidFill>
                <a:latin typeface="Times New Roman"/>
              </a:rPr>
              <a:t>Bayliss </a:t>
            </a:r>
            <a:r>
              <a:rPr b="0" lang="el-GR" sz="2800" spc="-1" strike="noStrike">
                <a:solidFill>
                  <a:srgbClr val="000000"/>
                </a:solidFill>
                <a:latin typeface="Times New Roman"/>
              </a:rPr>
              <a:t>και </a:t>
            </a:r>
            <a:r>
              <a:rPr b="0" lang="en-US" sz="2800" spc="-1" strike="noStrike">
                <a:solidFill>
                  <a:srgbClr val="000000"/>
                </a:solidFill>
                <a:latin typeface="Times New Roman"/>
              </a:rPr>
              <a:t>Burden</a:t>
            </a:r>
            <a:r>
              <a:rPr b="0" lang="el-GR" sz="2800" spc="-1" strike="noStrike">
                <a:solidFill>
                  <a:srgbClr val="000000"/>
                </a:solidFill>
                <a:latin typeface="Times New Roman"/>
              </a:rPr>
              <a:t> (2000) αποδίδει στους εκπαιδευτικούς θετικές αντιλήψεις απέναντι στη συμπερίληψη. </a:t>
            </a:r>
            <a:br>
              <a:rPr sz="2800"/>
            </a:br>
            <a:r>
              <a:rPr b="0" lang="el-GR" sz="2800" spc="-1" strike="noStrike">
                <a:solidFill>
                  <a:srgbClr val="000000"/>
                </a:solidFill>
                <a:latin typeface="Times New Roman"/>
              </a:rPr>
              <a:t>Οι εκπαιδευτικοί που συμμετείχαν  στη  συγκεκριμένη  έρευνα  υποστήριξαν  ότι  η  συμπεριληπτική  εκπαίδευση σέβεται τα δικαιώματα των ατόμων με αναπηρία, ενώ υποστήριξαν ότι βοηθά την ανάπτυξη τόσο των μαθητών με αναπηρία όσο και των τυπικών μαθητών στον ακαδημαϊκό, κοινωνικό και συναισθηματικό τομέ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ες έρευνες έδειξαν ότι οι εκπαιδευτικοί διατυπώνουν θετικές απόψεις για την συμπερίληψη, για παιδιά με συγκεκριμένες αναπηρίες όμως, και εφόσον λαμβάνουν την απαραίτητη εκπαίδευση και κατάρτιση ενώ εκφράζουν θετικότερες απόψεις όταν το σχολείο τους παρέχει την απαραίτητη υποστήριξη, ενθαρρύνει την συνεργασία και δεν απειλεί την αυτονομία τους μέσα και έξω από την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lsom</a:t>
            </a:r>
            <a:r>
              <a:rPr b="0" lang="el-GR" sz="2800" spc="-1" strike="noStrike">
                <a:solidFill>
                  <a:srgbClr val="000000"/>
                </a:solidFill>
                <a:latin typeface="Times New Roman"/>
              </a:rPr>
              <a:t>−</a:t>
            </a:r>
            <a:r>
              <a:rPr b="0" lang="en-US" sz="2800" spc="-1" strike="noStrike">
                <a:solidFill>
                  <a:srgbClr val="000000"/>
                </a:solidFill>
                <a:latin typeface="Times New Roman"/>
              </a:rPr>
              <a:t>Meek</a:t>
            </a:r>
            <a:r>
              <a:rPr b="0" lang="el-GR" sz="2800" spc="-1" strike="noStrike">
                <a:solidFill>
                  <a:srgbClr val="000000"/>
                </a:solidFill>
                <a:latin typeface="Times New Roman"/>
              </a:rPr>
              <a:t>, </a:t>
            </a:r>
            <a:r>
              <a:rPr b="0" lang="en-US" sz="2800" spc="-1" strike="noStrike">
                <a:solidFill>
                  <a:srgbClr val="000000"/>
                </a:solidFill>
                <a:latin typeface="Times New Roman"/>
              </a:rPr>
              <a:t>Nearing</a:t>
            </a:r>
            <a:r>
              <a:rPr b="0" lang="el-GR" sz="2800" spc="-1" strike="noStrike">
                <a:solidFill>
                  <a:srgbClr val="000000"/>
                </a:solidFill>
                <a:latin typeface="Times New Roman"/>
              </a:rPr>
              <a:t>, </a:t>
            </a:r>
            <a:r>
              <a:rPr b="0" lang="en-US" sz="2800" spc="-1" strike="noStrike">
                <a:solidFill>
                  <a:srgbClr val="000000"/>
                </a:solidFill>
                <a:latin typeface="Times New Roman"/>
              </a:rPr>
              <a:t>Groteluschen </a:t>
            </a:r>
            <a:r>
              <a:rPr b="0" lang="el-GR" sz="2800" spc="-1" strike="noStrike">
                <a:solidFill>
                  <a:srgbClr val="000000"/>
                </a:solidFill>
                <a:latin typeface="Times New Roman"/>
              </a:rPr>
              <a:t>&amp; </a:t>
            </a:r>
            <a:r>
              <a:rPr b="0" lang="en-US" sz="2800" spc="-1" strike="noStrike">
                <a:solidFill>
                  <a:srgbClr val="000000"/>
                </a:solidFill>
                <a:latin typeface="Times New Roman"/>
              </a:rPr>
              <a:t>Krampf</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η έρευνα σε εκπαιδευτικούς κατέδειξε ότι εκπαιδευτικοί που συμμετείχαν διαμόρφωσαν, παρά τις επιμέρους διαφοροποιήσεις, θετικές αντιλήψεις για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avolainen</a:t>
            </a:r>
            <a:r>
              <a:rPr b="0" lang="el-GR" sz="2800" spc="-1" strike="noStrike">
                <a:solidFill>
                  <a:srgbClr val="000000"/>
                </a:solidFill>
                <a:latin typeface="Times New Roman"/>
              </a:rPr>
              <a:t>, </a:t>
            </a:r>
            <a:r>
              <a:rPr b="0" lang="en-US" sz="2800" spc="-1" strike="noStrike">
                <a:solidFill>
                  <a:srgbClr val="000000"/>
                </a:solidFill>
                <a:latin typeface="Times New Roman"/>
              </a:rPr>
              <a:t>Engelbrecht</a:t>
            </a:r>
            <a:r>
              <a:rPr b="0" lang="el-GR" sz="2800" spc="-1" strike="noStrike">
                <a:solidFill>
                  <a:srgbClr val="000000"/>
                </a:solidFill>
                <a:latin typeface="Times New Roman"/>
              </a:rPr>
              <a:t>, </a:t>
            </a:r>
            <a:r>
              <a:rPr b="0" lang="en-US" sz="2800" spc="-1" strike="noStrike">
                <a:solidFill>
                  <a:srgbClr val="000000"/>
                </a:solidFill>
                <a:latin typeface="Times New Roman"/>
              </a:rPr>
              <a:t>Nel</a:t>
            </a:r>
            <a:r>
              <a:rPr b="0" lang="el-GR" sz="2800" spc="-1" strike="noStrike">
                <a:solidFill>
                  <a:srgbClr val="000000"/>
                </a:solidFill>
                <a:latin typeface="Times New Roman"/>
              </a:rPr>
              <a:t> &amp; </a:t>
            </a:r>
            <a:r>
              <a:rPr b="0" lang="en-US" sz="2800" spc="-1" strike="noStrike">
                <a:solidFill>
                  <a:srgbClr val="000000"/>
                </a:solidFill>
                <a:latin typeface="Times New Roman"/>
              </a:rPr>
              <a:t>Malinen</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έρευνα των </a:t>
            </a:r>
            <a:r>
              <a:rPr b="0" lang="en-US" sz="2800" spc="-1" strike="noStrike">
                <a:solidFill>
                  <a:srgbClr val="000000"/>
                </a:solidFill>
                <a:latin typeface="Times New Roman"/>
              </a:rPr>
              <a:t>Van Reusen</a:t>
            </a:r>
            <a:r>
              <a:rPr b="0" lang="el-GR" sz="2800" spc="-1" strike="noStrike">
                <a:solidFill>
                  <a:srgbClr val="000000"/>
                </a:solidFill>
                <a:latin typeface="Times New Roman"/>
              </a:rPr>
              <a:t>, </a:t>
            </a:r>
            <a:r>
              <a:rPr b="0" lang="en-US" sz="2800" spc="-1" strike="noStrike">
                <a:solidFill>
                  <a:srgbClr val="000000"/>
                </a:solidFill>
                <a:latin typeface="Times New Roman"/>
              </a:rPr>
              <a:t>Shoho </a:t>
            </a:r>
            <a:r>
              <a:rPr b="0" lang="el-GR" sz="2800" spc="-1" strike="noStrike">
                <a:solidFill>
                  <a:srgbClr val="000000"/>
                </a:solidFill>
                <a:latin typeface="Times New Roman"/>
              </a:rPr>
              <a:t>και </a:t>
            </a:r>
            <a:r>
              <a:rPr b="0" lang="en-US" sz="2800" spc="-1" strike="noStrike">
                <a:solidFill>
                  <a:srgbClr val="000000"/>
                </a:solidFill>
                <a:latin typeface="Times New Roman"/>
              </a:rPr>
              <a:t>Barker </a:t>
            </a:r>
            <a:r>
              <a:rPr b="0" lang="el-GR" sz="2800" spc="-1" strike="noStrike">
                <a:solidFill>
                  <a:srgbClr val="000000"/>
                </a:solidFill>
                <a:latin typeface="Times New Roman"/>
              </a:rPr>
              <a:t>(2001) οι εκπαιδευτικοί δευτεροβάθμιας εκπαίδευσης θεωρούν ότι η συμπεριληπτική εκπαίδευση συνιστά ανασταλτικό παράγοντα της εκπαιδευτικής διαδικασίας. Άλλη έρευνα στην Ιταλία συμπέρανε ότι οι εκπαιδευτικοί δεν διάκεινται θετικά απέναντι στη συμπεριληπτική εκπαίδευση, για λόγους που έχουν να κάνουν με το χρονικό πλαίσιο, την υποστήριξη από ειδικό επιστημονικό προσωπικό και τα μέσα εφαρμογής της συμπερίληψ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rnoldi</a:t>
            </a:r>
            <a:r>
              <a:rPr b="0" lang="el-GR" sz="2800" spc="-1" strike="noStrike">
                <a:solidFill>
                  <a:srgbClr val="000000"/>
                </a:solidFill>
                <a:latin typeface="Times New Roman"/>
              </a:rPr>
              <a:t>, </a:t>
            </a:r>
            <a:r>
              <a:rPr b="0" lang="en-US" sz="2800" spc="-1" strike="noStrike">
                <a:solidFill>
                  <a:srgbClr val="000000"/>
                </a:solidFill>
                <a:latin typeface="Times New Roman"/>
              </a:rPr>
              <a:t>Terreni</a:t>
            </a:r>
            <a:r>
              <a:rPr b="0" lang="el-GR" sz="2800" spc="-1" strike="noStrike">
                <a:solidFill>
                  <a:srgbClr val="000000"/>
                </a:solidFill>
                <a:latin typeface="Times New Roman"/>
              </a:rPr>
              <a:t>, </a:t>
            </a:r>
            <a:r>
              <a:rPr b="0" lang="en-US" sz="2800" spc="-1" strike="noStrike">
                <a:solidFill>
                  <a:srgbClr val="000000"/>
                </a:solidFill>
                <a:latin typeface="Times New Roman"/>
              </a:rPr>
              <a:t>Scruggs </a:t>
            </a:r>
            <a:r>
              <a:rPr b="0" lang="el-GR" sz="2800" spc="-1" strike="noStrike">
                <a:solidFill>
                  <a:srgbClr val="000000"/>
                </a:solidFill>
                <a:latin typeface="Times New Roman"/>
              </a:rPr>
              <a:t>&amp; </a:t>
            </a:r>
            <a:r>
              <a:rPr b="0" lang="en-US" sz="2800" spc="-1" strike="noStrike">
                <a:solidFill>
                  <a:srgbClr val="000000"/>
                </a:solidFill>
                <a:latin typeface="Times New Roman"/>
              </a:rPr>
              <a:t>Mastropieri</a:t>
            </a:r>
            <a:r>
              <a:rPr b="0" lang="el-GR" sz="2800" spc="-1" strike="noStrike">
                <a:solidFill>
                  <a:srgbClr val="000000"/>
                </a:solidFill>
                <a:latin typeface="Times New Roman"/>
              </a:rPr>
              <a:t>, 1998).</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η συμπερίληψη μαθητών με πολλαπλές αναπηρίες η σοβαρότητα αλλά και η φύση της αναπηρίας του μαθητή, φαίνεται να παίζει καθοριστικό ρόλο στη διαμόρφωση θετικών ή αρνητικών στάσεων σχετικά με τη συμπερίληψη μαθητών με αναπηρίες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ες αποκαλύπτουν ότι όταν εκπαιδευτικοί που γενικά είχαν εκφράσει θετική στάση ρωτήθηκαν συγκεκριμένα για τους μαθητές με ήπιες εκπαιδευτικές ανάγκες και τους μαθητές με βαριές αναπηρίες, φάνηκαν πολύ πιο πρόθυμοι να συμπεριλάβουν τους μαθητές με ήπιες εκπαιδευτικές ανάγκες στην τάξη τους σε σχέση με τους μαθητές με βαριές αναπηρίες</a:t>
            </a:r>
            <a:br>
              <a:rPr sz="2800"/>
            </a:br>
            <a:r>
              <a:rPr b="0" lang="el-GR" sz="2800" spc="-1" strike="noStrike">
                <a:solidFill>
                  <a:srgbClr val="000000"/>
                </a:solidFill>
                <a:latin typeface="Times New Roman"/>
              </a:rPr>
              <a:t> (π.χ.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78920" y="907560"/>
            <a:ext cx="842508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οι  εκπαιδευτικοί της  γενικής  αγωγής  δέχονται  πολύ  πιο εύκολα στην τάξη τους μαθητές με μαθησιακές δυσκολίες και συναισθηματικά προβλήματα σε σχέση με μαθητές </a:t>
            </a:r>
            <a:br>
              <a:rPr sz="2800"/>
            </a:br>
            <a:r>
              <a:rPr b="0" lang="el-GR" sz="2800" spc="-1" strike="noStrike">
                <a:solidFill>
                  <a:srgbClr val="000000"/>
                </a:solidFill>
                <a:latin typeface="Times New Roman"/>
              </a:rPr>
              <a:t>με βαριά νοητική υστέρηση ή πολλαπλές αναπηρίες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Cook et al</a:t>
            </a:r>
            <a:r>
              <a:rPr b="0" lang="el-GR" sz="2800" spc="-1" strike="noStrike">
                <a:solidFill>
                  <a:srgbClr val="000000"/>
                </a:solidFill>
                <a:latin typeface="Times New Roman"/>
              </a:rPr>
              <a:t>., 2000).. </a:t>
            </a:r>
            <a:br>
              <a:rPr sz="2800"/>
            </a:br>
            <a:br>
              <a:rPr sz="2000"/>
            </a:b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78920" y="907560"/>
            <a:ext cx="849636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από τους λόγους φαίνεται να είναι το γεγονός ότι οι εκπαιδευτικοί γενικής εκπαίδευσης αλληλεπιδρούν πολύ πιο εύκολα με αυτούς τους μαθητές, ενώ αναφέρουν σημαντικές δυσκολίες να αλληλεπιδράσουν αποτελεσματικά με μαθητές με βαριές-πολλαπλές αναπηρίες </a:t>
            </a:r>
            <a:br>
              <a:rPr sz="2800"/>
            </a:b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br>
              <a:rPr sz="2800"/>
            </a:br>
            <a:br>
              <a:rPr sz="20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Αβραμίδη και Καλύβα (2007) έδειξε ότι κατά την γνώμη των εκπαιδευτικών είναι ευκολότερο να συμπεριληφθούν στο γενικό   σχολείο,   μαθητές   με   μέτριο   βαθμό   μαθησιακών   δυσκολιών,   ετεροχρονισμένη ανάπτυξη του λόγου και σωματικές αναπηρίες ή προβλήματα συμπεριφοράς, ενώ φαίνεται δυσκολότερη η συμπερίληψη μαθητών με νευρολογικές ή αισθητηριακές διαταραχές, εγκεφαλική παράλυση ή αυτισμό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ραπάνω εκτιμήσεις επιβεβαιώνονται και από έρευνα των </a:t>
            </a:r>
            <a:r>
              <a:rPr b="0" lang="en-US" sz="2800" spc="-1" strike="noStrike">
                <a:solidFill>
                  <a:srgbClr val="000000"/>
                </a:solidFill>
                <a:latin typeface="Times New Roman"/>
              </a:rPr>
              <a:t>Bradshaw </a:t>
            </a:r>
            <a:r>
              <a:rPr b="0" lang="el-GR" sz="2800" spc="-1" strike="noStrike">
                <a:solidFill>
                  <a:srgbClr val="000000"/>
                </a:solidFill>
                <a:latin typeface="Times New Roman"/>
              </a:rPr>
              <a:t>και </a:t>
            </a:r>
            <a:r>
              <a:rPr b="0" lang="en-US" sz="2800" spc="-1" strike="noStrike">
                <a:solidFill>
                  <a:srgbClr val="000000"/>
                </a:solidFill>
                <a:latin typeface="Times New Roman"/>
              </a:rPr>
              <a:t>Mundia</a:t>
            </a:r>
            <a:r>
              <a:rPr b="0" lang="el-GR" sz="2800" spc="-1" strike="noStrike">
                <a:solidFill>
                  <a:srgbClr val="000000"/>
                </a:solidFill>
                <a:latin typeface="Times New Roman"/>
              </a:rPr>
              <a:t> (2006), που καταλήγει ότι οι αντιλήψεις των εκπαιδευτικών επηρεάζονται από παράγοντες όπως ο βαθμός και η φύση της αναπηρίας των μαθητών, παράλληλα βέβαια με άλλους όπως η εκπαίδευση των εκπαιδευτικών, η υλικοτεχνική υποδομή και το κατάλληλα εκπαιδευμένο βοηθητικό και επιστημονικό προσωπικό.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ντιλήψεις  των  εκπαιδευτικών  απέναντι  στους  μαθητές  με  αναπηρίες  αλλά  και απέναντι στην φιλοσοφία της συμπερίληψης, διαδραματίζουν καθοριστικό ρόλο στην επιτυχημένη εφαρμογή της συμπεριληπτικής εκπαίδευσης και στη δημιουργία ενός σχολείου για όλους (</a:t>
            </a:r>
            <a:r>
              <a:rPr b="0" lang="en-US" sz="2800" spc="-1" strike="noStrike">
                <a:solidFill>
                  <a:srgbClr val="000000"/>
                </a:solidFill>
                <a:latin typeface="Times New Roman"/>
              </a:rPr>
              <a:t>Lindsay</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a:t>
            </a:r>
            <a:r>
              <a:rPr b="1" i="1" lang="el-GR" sz="2800" spc="-1" strike="noStrike">
                <a:solidFill>
                  <a:srgbClr val="000000"/>
                </a:solidFill>
                <a:latin typeface="Times New Roman"/>
              </a:rPr>
              <a:t>τους εκπαιδευτικούς ειδικής αγωγής </a:t>
            </a:r>
            <a:r>
              <a:rPr b="0" lang="el-GR" sz="2800" spc="-1" strike="noStrike">
                <a:solidFill>
                  <a:srgbClr val="000000"/>
                </a:solidFill>
                <a:latin typeface="Times New Roman"/>
              </a:rPr>
              <a:t>έρευνα σχετικά με την αποδοχή της συμπερίληψης μαθητών με βαριές αναπηρίες έδειξε ότι εκπαιδευτικοί που δίδασκαν σε γενικά σχολεία εξέφραζαν θετικότερες αντιλήψεις σε σχέση με  αυτούς  που  δίδασκαν  μόνο  σε  ειδικά  σχολεία  (</a:t>
            </a:r>
            <a:r>
              <a:rPr b="0" lang="en-US" sz="2800" spc="-1" strike="noStrike">
                <a:solidFill>
                  <a:srgbClr val="000000"/>
                </a:solidFill>
                <a:latin typeface="Times New Roman"/>
              </a:rPr>
              <a:t>Vaughn</a:t>
            </a:r>
            <a:r>
              <a:rPr b="0" lang="el-GR" sz="2800" spc="-1" strike="noStrike">
                <a:solidFill>
                  <a:srgbClr val="000000"/>
                </a:solidFill>
                <a:latin typeface="Times New Roman"/>
              </a:rPr>
              <a:t>,  </a:t>
            </a:r>
            <a:r>
              <a:rPr b="0" lang="en-US" sz="2800" spc="-1" strike="noStrike">
                <a:solidFill>
                  <a:srgbClr val="000000"/>
                </a:solidFill>
                <a:latin typeface="Times New Roman"/>
              </a:rPr>
              <a:t>Schumm</a:t>
            </a:r>
            <a:r>
              <a:rPr b="0" lang="el-GR" sz="2800" spc="-1" strike="noStrike">
                <a:solidFill>
                  <a:srgbClr val="000000"/>
                </a:solidFill>
                <a:latin typeface="Times New Roman"/>
              </a:rPr>
              <a:t>,  </a:t>
            </a:r>
            <a:r>
              <a:rPr b="0" lang="en-US" sz="2800" spc="-1" strike="noStrike">
                <a:solidFill>
                  <a:srgbClr val="000000"/>
                </a:solidFill>
                <a:latin typeface="Times New Roman"/>
              </a:rPr>
              <a:t>Jallad</a:t>
            </a:r>
            <a:r>
              <a:rPr b="0" lang="el-GR" sz="2800" spc="-1" strike="noStrike">
                <a:solidFill>
                  <a:srgbClr val="000000"/>
                </a:solidFill>
                <a:latin typeface="Times New Roman"/>
              </a:rPr>
              <a:t>,  </a:t>
            </a:r>
            <a:r>
              <a:rPr b="0" lang="en-US" sz="2800" spc="-1" strike="noStrike">
                <a:solidFill>
                  <a:srgbClr val="000000"/>
                </a:solidFill>
                <a:latin typeface="Times New Roman"/>
              </a:rPr>
              <a:t>Slusher</a:t>
            </a:r>
            <a:r>
              <a:rPr b="0" lang="el-GR" sz="2800" spc="-1" strike="noStrike">
                <a:solidFill>
                  <a:srgbClr val="000000"/>
                </a:solidFill>
                <a:latin typeface="Times New Roman"/>
              </a:rPr>
              <a:t>  &amp; </a:t>
            </a:r>
            <a:r>
              <a:rPr b="0" lang="en-US" sz="2800" spc="-1" strike="noStrike">
                <a:solidFill>
                  <a:srgbClr val="000000"/>
                </a:solidFill>
                <a:latin typeface="Times New Roman"/>
              </a:rPr>
              <a:t>Saumell</a:t>
            </a:r>
            <a:r>
              <a:rPr b="0" lang="el-GR" sz="2800" spc="-1" strike="noStrike">
                <a:solidFill>
                  <a:srgbClr val="000000"/>
                </a:solidFill>
                <a:latin typeface="Times New Roman"/>
              </a:rPr>
              <a:t>, 1996).</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αναφορικά με τους παράγοντες που μπορεί να επηρεάσουν τις αντιλήψεις του εκπαιδευτικού σχετικά με τα συμπερίληψη, έχει διαπιστωθεί αυτές εξαρτώνται εκτός από τη φύση και τη βαρύτητα της αναπηρίας που αναφέραμε παραπάνω, από την προηγούμενη επαφή και τη διδακτική εμπειρία με μαθητές με αναπηρίες, την επιμόρφωση των εκπαιδευτικών, αλλά και την υλικοτεχνική υποδομή και τη διαθεσιμότητα των πόρω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0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άφορες μελέτες καταδεικνύουν ως παράγοντα που επηρεάζει τις στάσεις και αντιλήψεις των εκπαιδευτικών απέναντι στη συμπερίληψη, την εμπειρία στη διδασκαλία μαθητών με αναπηρίες, την συνολικότερη διδακτική εμπειρία αλλά και τις προσωπικές εμπειρίες των εκπαιδευτικών</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r>
              <a:rPr b="0" lang="en-US" sz="2800" spc="-1" strike="noStrike">
                <a:solidFill>
                  <a:srgbClr val="000000"/>
                </a:solidFill>
                <a:latin typeface="Times New Roman"/>
              </a:rPr>
              <a:t>Watkins</a:t>
            </a:r>
            <a:r>
              <a:rPr b="0" lang="el-GR" sz="2800" spc="-1" strike="noStrike">
                <a:solidFill>
                  <a:srgbClr val="000000"/>
                </a:solidFill>
                <a:latin typeface="Times New Roman"/>
              </a:rPr>
              <a:t>, 2007˙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και </a:t>
            </a:r>
            <a:r>
              <a:rPr b="0" lang="en-US" sz="2800" spc="-1" strike="noStrike">
                <a:solidFill>
                  <a:srgbClr val="000000"/>
                </a:solidFill>
                <a:latin typeface="Times New Roman"/>
              </a:rPr>
              <a:t>Tsakiris </a:t>
            </a:r>
            <a:r>
              <a:rPr b="0" lang="el-GR" sz="2800" spc="-1" strike="noStrike">
                <a:solidFill>
                  <a:srgbClr val="000000"/>
                </a:solidFill>
                <a:latin typeface="Times New Roman"/>
              </a:rPr>
              <a:t>(2007) κατέληξε ότι οι εκπαιδευτικοί που είχαν εμπλακεί στο παρελθόν στη διδασκαλία παιδιών με αναπηρίες ήταν περισσότερο θετικοί στην ιδέα της συμπερίληψης από αυτούς που δεν είχαν καμία εμπειρία πάνω στη διδασκαλία ατόμων με αναπηρίες.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θανόν  αυτό  συμβαίνει  γιατί  οι  εκπαιδευτικοί  με  την  αντίστοιχη  εμπειρία θεωρούν ότι μπορούν να είναι πιο αποτελεσματικοί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Με τον ίδιο παράγοντα πιθανότατα σχετίζεται και αντίστοιχη έρευνα στη χώρα μας, η οποία διαπίστωσε</a:t>
            </a:r>
            <a:r>
              <a:rPr b="0" lang="en-US" sz="2800" spc="-1" strike="noStrike">
                <a:solidFill>
                  <a:srgbClr val="000000"/>
                </a:solidFill>
                <a:latin typeface="Times New Roman"/>
              </a:rPr>
              <a:t> </a:t>
            </a:r>
            <a:r>
              <a:rPr b="0" lang="el-GR" sz="2800" spc="-1" strike="noStrike">
                <a:solidFill>
                  <a:srgbClr val="000000"/>
                </a:solidFill>
                <a:latin typeface="Times New Roman"/>
              </a:rPr>
              <a:t>ότι όσο μεγαλύτερη είναι η διδακτική εμπειρία ενός εκπαιδευτικού τόσο θετικότερες αντιλήψεις εκφράζει απέναντι στην συμπερίληψη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br>
              <a:rPr sz="2800"/>
            </a:br>
            <a:br>
              <a:rPr sz="20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οριστικές μπορεί να είναι βέβαια και οι προσωπικές εμπειρίες των εκπαιδευτικών και η προηγούμενη επαφή τους με άτομα με αναπηρίες στο συγγενικό ή γενικότερο περιβάλλον τους (</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br>
              <a:rPr sz="2000"/>
            </a:br>
            <a:br>
              <a:rPr sz="2000"/>
            </a:br>
            <a:br>
              <a:rPr sz="2000"/>
            </a:b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ς παράγοντας που φαίνεται να συνδέεται με τις αντιλήψεις των εκπαιδευτικών είναι η βαθμίδα εκπαίδευσης στην οποία υπηρετούν. </a:t>
            </a:r>
            <a:br>
              <a:rPr sz="2800"/>
            </a:br>
            <a:r>
              <a:rPr b="0" lang="el-GR" sz="2800" spc="-1" strike="noStrike">
                <a:solidFill>
                  <a:srgbClr val="000000"/>
                </a:solidFill>
                <a:latin typeface="Times New Roman"/>
              </a:rPr>
              <a:t> Η δευτεροβάθμια εκπαίδευση   γενικότερα,   είναι   επικεντρωμένη   στη   διδασκαλία   ενός   συγκεκριμένου αντικειμένου   και   στη   μετάδοση   ακαδημαϊκών   γνώσεων   και   απαιτεί   περισσότερες προσαρμογές και καλύτερη προετοιμασία από τον εκπαιδευτικό για να γίνει εφικτή η συμπερίληψη.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a:t>
            </a:r>
            <a:br>
              <a:rPr sz="2800"/>
            </a:br>
            <a:r>
              <a:rPr b="0" lang="el-GR" sz="2800" spc="-1" strike="noStrike">
                <a:solidFill>
                  <a:srgbClr val="000000"/>
                </a:solidFill>
                <a:latin typeface="Times New Roman"/>
              </a:rPr>
              <a:t>από τους συναδέλφους τους στην πρωτοβάθμια. </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ρευνήτριες το αποδίδουν αυτό στην πεποίθηση των εκπαιδευτικών "</a:t>
            </a:r>
            <a:r>
              <a:rPr b="0" i="1" lang="el-GR" sz="2800" spc="-1" strike="noStrike">
                <a:solidFill>
                  <a:srgbClr val="000000"/>
                </a:solidFill>
                <a:latin typeface="Times New Roman"/>
              </a:rPr>
              <a:t>ότι η συνεκπαίδευση δεν πρόκειται να ωφελήσει τους μαθητές με ειδικές ανάγκες </a:t>
            </a:r>
            <a:br>
              <a:rPr sz="2800"/>
            </a:br>
            <a:r>
              <a:rPr b="0" i="1" lang="el-GR" sz="2800" spc="-1" strike="noStrike">
                <a:solidFill>
                  <a:srgbClr val="000000"/>
                </a:solidFill>
                <a:latin typeface="Times New Roman"/>
              </a:rPr>
              <a:t>ως προς τη γνωστική, την κοινωνική και τη συναισθηματική τους εξέλι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a:t>
            </a:r>
            <a:r>
              <a:rPr b="0" lang="el-GR" sz="2800" spc="-1" strike="noStrike">
                <a:solidFill>
                  <a:srgbClr val="000000"/>
                </a:solidFill>
                <a:latin typeface="Times New Roman"/>
              </a:rPr>
              <a:t>,2006).</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39528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νημέρωση πάνω στις αναπηρίες, η παιδαγωγική κατάρτιση και οι γνώσεις των εκπαιδευτικών  φαίνεται  να επηρεάζουν σε μεγάλο βαθμό τις  απόψεις τους απέναντι στη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n</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Σύμφωνα με τους ίδιους τους εκπαιδευτικούς η επιμόρφωση πάνω στην ειδική αγωγή είναι απαραίτητη για όλους τους εκπαιδευτικούς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2008), </a:t>
            </a:r>
            <a:br>
              <a:rPr sz="2800"/>
            </a:b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ντιλήψεις των εκπαιδευτικών αποτελούν παράγοντα που επηρεάζει </a:t>
            </a:r>
            <a:br>
              <a:rPr sz="2800"/>
            </a:br>
            <a:r>
              <a:rPr b="1" lang="el-GR" sz="2800" spc="-1" strike="noStrike">
                <a:solidFill>
                  <a:srgbClr val="000000"/>
                </a:solidFill>
                <a:latin typeface="Times New Roman"/>
              </a:rPr>
              <a:t>τις στρατηγικές διδασκαλίας που επιλέγονται, </a:t>
            </a:r>
            <a:br>
              <a:rPr sz="2800"/>
            </a:br>
            <a:r>
              <a:rPr b="1" lang="el-GR" sz="2800" spc="-1" strike="noStrike">
                <a:solidFill>
                  <a:srgbClr val="000000"/>
                </a:solidFill>
                <a:latin typeface="Times New Roman"/>
              </a:rPr>
              <a:t>τις τεχνικές, τα μέσα αλλά και </a:t>
            </a:r>
            <a:br>
              <a:rPr sz="2800"/>
            </a:br>
            <a:r>
              <a:rPr b="1" lang="el-GR" sz="2800" spc="-1" strike="noStrike">
                <a:solidFill>
                  <a:srgbClr val="000000"/>
                </a:solidFill>
                <a:latin typeface="Times New Roman"/>
              </a:rPr>
              <a:t>το κατά πόσο αυτές θα είναι αποτελεσματικές για όλους τους μαθητέ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ίνουν δηλαδή σε τελική ανάλυση την επιτυχία ενός προγράμματος συμπερίληψης (</a:t>
            </a:r>
            <a:r>
              <a:rPr b="0" lang="en-US" sz="2800" spc="-1" strike="noStrike">
                <a:solidFill>
                  <a:srgbClr val="000000"/>
                </a:solidFill>
                <a:latin typeface="Times New Roman"/>
              </a:rPr>
              <a:t>De Boer</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1).</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Ενώ τοποθετούν τις ελλιπείς γνώσεις πάνω στα ζητήματα της ειδικής αγωγής στην κορυφή των παραγόντων που κατά την γνώμη τους εμποδίζουν την εφαρμογή της συμπερίληψη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με βάση τα λεγόμενα των ίδιων των εκπαιδευτικών τα μεγαλύτερα εμπόδια για την συμπεριληπτική εκπαίδευση στη χώρα μας, σχετίζονται με την υιοθετούμενη κάθε φορά εκπαιδευτική πολιτική και αφορούν:</a:t>
            </a:r>
            <a:br>
              <a:rPr sz="2800"/>
            </a:br>
            <a:r>
              <a:rPr b="0" lang="el-GR" sz="2800" spc="-1" strike="noStrike">
                <a:solidFill>
                  <a:srgbClr val="000000"/>
                </a:solidFill>
                <a:latin typeface="Times New Roman"/>
              </a:rPr>
              <a:t> </a:t>
            </a:r>
            <a:br>
              <a:rPr sz="2800"/>
            </a:br>
            <a:br>
              <a:rPr sz="2000"/>
            </a:b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11600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50560" y="1125000"/>
            <a:ext cx="86374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1" lang="el-GR" sz="2800" spc="-1" strike="noStrike">
                <a:solidFill>
                  <a:srgbClr val="000000"/>
                </a:solidFill>
                <a:latin typeface="Times New Roman"/>
              </a:rPr>
              <a:t>την ανεπαρκή υποστήριξη του εκπαιδευτικού από το σχολείο.</a:t>
            </a:r>
            <a:br>
              <a:rPr sz="2000"/>
            </a:br>
            <a:r>
              <a:rPr b="1" lang="el-GR" sz="2800" spc="-1" strike="noStrike">
                <a:solidFill>
                  <a:srgbClr val="000000"/>
                </a:solidFill>
                <a:latin typeface="Times New Roman"/>
              </a:rPr>
              <a:t>τον περιορισμένο χρόνο που έχει στη διάθεση του ο εκπαιδευτικός για την εφαρμογή εξατομικευμένου προγράμματος διδασκαλίας, </a:t>
            </a:r>
            <a:br>
              <a:rPr sz="2800"/>
            </a:br>
            <a:r>
              <a:rPr b="1" lang="el-GR" sz="2800" spc="-1" strike="noStrike">
                <a:solidFill>
                  <a:srgbClr val="000000"/>
                </a:solidFill>
                <a:latin typeface="Times New Roman"/>
              </a:rPr>
              <a:t>την στάση των γονέων απέναντι στο σχολείο,</a:t>
            </a:r>
            <a:br>
              <a:rPr sz="2800"/>
            </a:br>
            <a:r>
              <a:rPr b="1" lang="el-GR" sz="2800" spc="-1" strike="noStrike">
                <a:solidFill>
                  <a:srgbClr val="000000"/>
                </a:solidFill>
                <a:latin typeface="Times New Roman"/>
              </a:rPr>
              <a:t> αλλά και τις περιορισμένες ευκαιρίες για συνεργασία ανάμεσα στις διάφορες ειδικότητες και κλάδους που εμπλέκονται</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r>
              <a:rPr b="0" lang="el-GR" sz="2400" spc="-1" strike="noStrike">
                <a:solidFill>
                  <a:srgbClr val="000000"/>
                </a:solidFill>
                <a:latin typeface="Times New Roman"/>
              </a:rPr>
              <a:t>).</a:t>
            </a:r>
            <a:br>
              <a:rPr sz="2000"/>
            </a:br>
            <a:br>
              <a:rPr sz="2000"/>
            </a:br>
            <a:endParaRPr b="0" lang="en-US" sz="24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ες έχουν δείξει τον σημαντικό ρόλο του τρόπου με τον οποίο οι εκπαιδευτικοί αντιμετωπίζουν τους μαθητές με αναπηρία μέσα στην τάξη τους (Eiserman, Shisler, &amp; Healey, 1995· Zoniou-Sideri &amp; Vlachou, 2006). Αυτό εξαρτάται από τις στάσεις και τις αντιλήψεις που σχηματίζουν οι ίδιοι για τα άτομα αυτά (Lindsay, 2007).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άν τα άτομα με αναπηρία είναι διαχωρισμένα και αποκομμένα, ως διαφορετικά με ένα θεμελιώδη τρόπο, τότε ποτέ δεν θα τα αποδεχτούμε ως ολοκληρωτικά μέλη της κοινωνίας μας (Morris, 1991).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θετικές στάσεις των εκπαιδευτικών απέναντι στα άτομα με αναπηρία και η προθυμία τους να αντιμετωπίσουν θετικά και αποτελεσματικά τις ατομικές διαφορές που εμφανίζουν τα παιδιά μέσα στην τάξη, επηρεάζουν σε μεγάλο βαθμό τόσο τις στάσεις των συναδέλφων τους, των γονέων και των παιδιών χωρίς αναπηρία, όσο και την επιτυχία της εκπαιδευτικής ενσωμάτωσης (Koster, Nakken, Pijl, &amp; Van Houten, 2009). </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ερισσότερες έρευνες δείχνουν ότι οι στάσεις και αντιλήψεις των εκπαιδευτικών για τα άτομα με αναπηρία επηρεάζονται από πολλούς παράγοντες, όπως το φύλο, η ηλικία και η εκπαιδευτική εμπειρία τους, η εμπειρία τους από την επαφή με άτομα με αναπηρίες, η προετοιμασία και η εκπαίδευσή τους, καθώς και οι πεποιθήσεις τους.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Padeliadu και Lampropoulou (1997) διερεύνησαν τις απόψεις 377 δασκάλων (190 δάσκαλοι γενικής εκπαίδευσης και 187 ειδική δάσκαλοι) στην Ελλάδα ως προς την ένταξη. Παρά το γεγονός ότι και οι δυο ομάδες εκπαιδευτικών εμφανιστήκαν ουδέτερες απέναντι στην ένταξη, οι δάσκαλοι της γενικής εκπαίδευσης ήταν πιο θετικοί από τους δασκάλους της ειδικής εκπαίδευσης. Η θετική αυτή τάση μπορεί να οφείλεται στο γεγονός ότι η ένταξη δεν εφαρμόζεται στην τάξη τους και ίσως εκφράζουν το τι θα έπρεπε να γίνει.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λα αυτά οι νεότεροι δάσκαλοι με μικρότερη εμπειρία στη διδασκαλία μαθητών με ειδικές εκπαιδευτικές ανάγκες εμφανίστηκαν πιο θετικοί, και ειδικότερα για τις κατηγορίες της ήπιας και μέτριας νοητικής καθυστέρησης, από αυτούς με μεγαλύτερη εμπειρία και περισσότερα χρόνια στο χώρο της εκπαίδευσης. Ωστόσο και ανάμεσα σ αυτούς υπάρχει διαφοροποίηση που εξαρτάται από το πόσο εξειδικευμένοι είναι σε θέματα ειδικής αγωγής (Avramidis, Bayliss &amp; Burden 2000).</a:t>
            </a:r>
            <a:br>
              <a:rPr sz="2800"/>
            </a:b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των Σιδέρη και Βλάχου (2006) , σε ελληνικά σχολεία γενικής εκπαίδευσης έδειξε ότι σύμφωνα με τις στάσεις τους η εφαρμογή της ένταξης αποτελεί ένα βασικό συστατικό για την ομαλή λειτουργία του γενικού σχολείου. </a:t>
            </a:r>
            <a:br>
              <a:rPr sz="2800"/>
            </a:br>
            <a:r>
              <a:rPr b="0" lang="el-GR" sz="2800" spc="-1" strike="noStrike">
                <a:solidFill>
                  <a:srgbClr val="000000"/>
                </a:solidFill>
                <a:latin typeface="Times New Roman"/>
              </a:rPr>
              <a:t>Επιπλέον, υποστήριξαν ότι η εφαρμογή της είναι απαραίτητη προϋπόθεση για τη μείωση του στιγματισμού των παιδιών με ειδικές εκπαιδευτικές ανάγκες.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των ερευνών καταδεικνύουν ότι οι εκπαιδευτικοί που αντιμετωπίζουν θετικά τη συμπερίληψη είναι  πιο  "ανοιχτοί"  στο  να  τροποποιήσουν  τη  διδασκαλία  τους,  να  υιοθετήσουν  νέες μεθόδους, να συνεργαστούν με άλλους ειδικούς προκειμένου να εξυπηρετήσουν τις εκπαιδευτικές ανάγκες των μαθητών με και χωρίς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Forlin </a:t>
            </a:r>
            <a:r>
              <a:rPr b="0" lang="el-GR" sz="2800" spc="-1" strike="noStrike">
                <a:solidFill>
                  <a:srgbClr val="000000"/>
                </a:solidFill>
                <a:latin typeface="Times New Roman"/>
              </a:rPr>
              <a:t>&amp; </a:t>
            </a:r>
            <a:r>
              <a:rPr b="0" lang="en-US" sz="2800" spc="-1" strike="noStrike">
                <a:solidFill>
                  <a:srgbClr val="000000"/>
                </a:solidFill>
                <a:latin typeface="Times New Roman"/>
              </a:rPr>
              <a:t>Loreman</a:t>
            </a:r>
            <a:r>
              <a:rPr b="0" lang="el-GR" sz="2800" spc="-1" strike="noStrike">
                <a:solidFill>
                  <a:srgbClr val="000000"/>
                </a:solidFill>
                <a:latin typeface="Times New Roman"/>
              </a:rPr>
              <a:t>, 2008˙ </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χει αποδειχτεί ότι οι αντιλήψεις των εκπαιδευτικών, όσον αφορά στη φοίτηση των παιδιών με αναπηρία στη γενική τάξη, μπορεί να επηρεαστούν αρνητικά, όταν οι δίχως αναπηρία μαθητές της τάξης τούς απορρίπτουν και τούς στιγματίζουν (McLeskey &amp; Waldron, 2002). Επίσης, η αποδοχή που εξέφρασαν οι δάσκαλοι επηρεάζεται από το βαθμό και το είδος της αναπηρίας του παιδιού.</a:t>
            </a:r>
            <a:br>
              <a:rPr sz="2800"/>
            </a:b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από τους παράγοντες που επηρεάζουν σημαντικά τις αντιλήψεις των εκπαιδευτικών ως προς την ένταξη των μαθητών με ειδικές εκπαιδευτικές ανάγκες είναι ο τύπος και η σοβαρότητα της μειονεξίας των μαθητών. Οι Yuen και Westwood (2001) εξέτασαν το βαθμό διαφοροποίησης των αντιλήψεων των εκπαιδευτικών σχετικά με την ένταξη, ανάλογα με τον τύπο της αναπηρίας των μαθητών. </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της έρευνας έδειξαν ότι οι εκπαιδευτικοί ήταν πιο θετικοί στην ένταξη μαθητών με διαβήτη, με ήπιες διαταραχές λόγου, με κινητικά προβλήματα και με ήπιες ανεπάρκειες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ήταν λιγότερο θετικοί στην ένταξη μαθητών με σοβαρές διαταραχές λόγου, με ακουστική βλάβη, με εγκεφαλική παράλυση, με ήπια νοητική υστέρηση ή με σοβαρά προβλήματα όρασης και ακοής. Επίσης, θετική είναι η στάση τους στη διδασκαλία μαθητών με μαθησιακές δυσκολίες, ενώ δυσκολία αντιμετωπίζουν για τους μαθητές που τους προξενούν νευρικότητα (Wong, Pearson &amp; Kuen Lo, 2004)</a:t>
            </a:r>
            <a:br>
              <a:rPr sz="2800"/>
            </a:b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ένας παράγοντας που επηρεάζει το θεσμό της ένταξης είναι η κατάρτιση των εκπαιδευτικών σε σχέση με την αναπηρία και τα άτομα με ειδικές εκπαιδευτικές ανάγκες.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υγκεκριμένα, αρκετοί ερευνητές έχουν διαπιστώσει ότι οι εκπαιδευτικοί που είχαν επαρκή κατάρτιση σε θέματα ειδικής αγωγής είχαν σημαντικά θετικότερη στάση απέναντι στην ένταξη από ότι εκείνοι με περιορισμένη ή καθόλου κατάρτιση στον τομέα αυτό (Avramidis, Bayliss &amp; Burden, 2000, Campbell, Gilmore &amp; Cuskelly, 200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φαινόμενο της ελλιπούς κατάρτισης των εκπαιδευτικών σχετικά με τη διδασκαλία σε μαθητές με ειδικές εκπαιδευτικές ανάγκες προκύπτει και από έρευνες που έχουν γίνει για την ένταξη, και προέκυψε ότι εκπαιδευτικοί πρωτοβάθμιας και δευτεροβάθμιας εκπαίδευσης δεν αισθάνονταν κατάλληλα προετοιμασμένοι για να διδάξουν σε τέτοιους μαθητές (Marshall, Ralph, Palmer, 2002, Smith, 2000). </a:t>
            </a:r>
            <a:br>
              <a:rPr sz="2800"/>
            </a:b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ς παράγοντας που επηρεάζει τις αντιλήψεις των εκπαιδευτικών ως προς την ένταξη μαθητών με ειδικές εκπαιδευτικές ανάγκες στα γενικά σχολεία, είναι η εμπειρία που έχουν οι ίδιοι οι εκπαιδευτικοί με άτομα με ειδικές εκπαιδευτικές ανάγκε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με εμπειρία στη διδασκαλία παιδιών με ειδικές εκπαιδευτικές ανάγκες, έχει διαπιστωθεί ότι έχουν μεγαλύτερη εμπιστοσύνη στον εαυτό τους όσον αφορά την αντιμετώπιση κάποιων συγκεκριμένων συμπεριφορών που θα κληθούν να διαχειριστούν και είναι πιο θετικοί στην έννοια και στην εφαρμογή της ένταξης (McGregor &amp; Campbell, 2001).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εξοικείωση είχε ως αποτέλεσμα την καταπολέμηση της προκατάληψης και του φόβου των εκπαιδευτικών απέναντι σε μαθητές με ειδικές εκπαιδευτικές ανάγκες (Arbeiter &amp; Hartley, 2002). </a:t>
            </a:r>
            <a:br>
              <a:rPr sz="2800"/>
            </a:b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και οι ίδιοι οι εκπαιδευτικοί συμφωνούν ότι ο εκπαιδευτικός επηρεάζει τη λειτουργία της σχολικής τάξης και καθοδηγεί τον τρόπο που αλληλεπιδρούν οι μαθητές και κατ' επέκταση οι αντιλήψεις του  εκπαιδευτικού μπορούν να προάγουν ή να εμποδίσουν την εφαρμογή ενός συμπεριληπτικού μοντέλου στην τάξη του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είναι δεκτικοί απέναντι σε μαθητές με ειδικές εκπαιδευτικές ανάγκες αν υπάρχει η απαραίτητη υποστήριξη από ειδικό προσωπικό και βοήθεια από τη διοίκηση του σχολείου (Janney, 1995). Η σημασία της στήριξης εκπαιδευτικών γενικής αγωγής από ειδικούς παιδαγωγούς τονίστηκε στην έρευνα των Minke και Bear (1997), η οποία διεξήχθη στις ΗΠΑ.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τάση των εκπαιδευτικών απέναντι στην ένταξη συνδέεται στενά με την αποδοχή των μαθητών με αναπηρίες. Η έρευνα έχει δείξει ότι παρ’ όλο που μερικοί εκπαιδευτικοί πιστεύουν ότι το παιδί με αναπηρία έχει δικαίωμα σε ίσες εκπαιδευτικές ευκαιρίες, εντούτοις οι στάσεις τους προς την ένταξή του συχνά είναι αρνητικές και επηρεάζουν το αποτέλεσμα της ένταξης (Βλάχου, 2014) .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Segall (2008) ερεύνησε τις εμπειρίες, τις γνώσεις και τις στάσεις δασκάλων γενικής και ειδικής εκπαίδευσης και υπευθύνων εκπαίδευσης απέναντι στη συμπερίληψη και τις πρακτικές που χρησιμοποιούνταν στην τάξη σχετικά με το φάσμα διαταραχών του αυτισμού. Χρησιμοποιώντας ως εργαλείο το «Ερωτηματολόγιο Συμπερίληψης Αυτισμού» βρήκε πως οι επαγγελματίες εκπαιδευτικοί είχαν γενικά θετική στάση απέναντι στη συμπερίληψη μαθητών στο φάσμα των διαταραχών του αυτισμού σε πλαίσια γενικής εκπαίδευσης.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το 75% του δείγματος διατύπωσε την άποψη πως η πλήρης συμπερίληψη δεν ήταν εφικτή για όλους τους μαθητές στο φάσμα διαταραχών του αυτισμού. </a:t>
            </a:r>
            <a:br>
              <a:rPr sz="2800"/>
            </a:br>
            <a:r>
              <a:rPr b="0" lang="el-GR" sz="2800" spc="-1" strike="noStrike">
                <a:solidFill>
                  <a:srgbClr val="000000"/>
                </a:solidFill>
                <a:latin typeface="Times New Roman"/>
              </a:rPr>
              <a:t>Οι δάσκαλοι γενικής εκπαίδευσης είχαν τις λιγότερες εμπειρίες σχετικά με το φάσμα διαταραχών του αυτισμού και λιγότερες γνώσεις συμπεριληπτικών πρακτικών. </a:t>
            </a:r>
            <a:br>
              <a:rPr sz="2800"/>
            </a:b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νώσεις και οι πρακτικές των εκπαιδευτικών ειδικής αγωγής δεν διέφεραν σε μεγάλο βαθμό από αυτές των εκπαιδευτικών γενικής αγωγής. Τα αποτελέσματα της έρευνας ανέδειξαν την ανάγκη επιμορφωτικών προγραμμάτων ή ενδοϋπηρεσιακών παρουσιάσεων που θα παρέχουν στους εκπαιδευτικούς τις γνώσεις για το φάσμα διαταραχών του αυτισμού.</a:t>
            </a:r>
            <a:br>
              <a:rPr sz="28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ίγουρα, οι απαιτήσεις της συνεκπαίδευσης είναι αρκετές και έχουν επισηµανθεί έντονα και επανειληµµένα οι αµφιβολίες των εκπαιδευτικών ως προς τη αποτελεσµατικότητα των προγραµµάτων αυτών στις παραδοσιακές συνθήκες διεξαγωγής του µαθήµατος. Το µεγαλύτερο µέρος της κριτικής τους επικεντρώνεται στην ανεπάρκεια του χρόνου διδασκαλίας, στην πιθανή ακαταλληλότητα των προγραµµάτων, αλλά και στην πιθανή επιβάρυνση των υπόλοιπων µαθητών της τάξης.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Ωστόσο, η πλειοψηφία των εκπαιδευτικών αναφέρουν και την έλλειψη των απαραιτήτων γνώσεων και δεξιοτήτων που είναι βασικές για την επίτευξη προγραµµάτων συνεκπαίδευσης.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ο µεγαλύτερος αριθµός των ελλείψεων των περισσοτέρων εκπαιδευτικών δεν αφορά τόσο τη θεµατική της ειδικής Παιδαγωγικής όσο εκείνη της διδακτικής µεθοδολογίας, δηλαδή δεν συνδέεται µε την ετοιµότητά τους σε σχέση µε τις γνώσεις και τα εκπαιδευτικά προγράµµατα αλλά µε την ικανότητά τους να προσεγγίσουν διαφορετικά παιδιά µε διαφορετικές µεθόδους (Σούλης,2002).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οι εκπαιδευτικοί δεν είναι πεπεισμένοι ότι οι μαθητές με αναπηρίες ωφελούνται από την παραμονή τους στην γενική τάξη και  ότι οι συμμαθητές τους, της τυπικής ανάπτυξης </a:t>
            </a:r>
            <a:br>
              <a:rPr sz="2800"/>
            </a:br>
            <a:r>
              <a:rPr b="0" lang="el-GR" sz="2800" spc="-1" strike="noStrike">
                <a:solidFill>
                  <a:srgbClr val="000000"/>
                </a:solidFill>
                <a:latin typeface="Times New Roman"/>
              </a:rPr>
              <a:t>δεν βλάπτονται και δεν αισθάνονται οι ίδιοι ικανοί να αντιμετωπίσουν τις δυσκολίες αυτού του εγχειρήματος, </a:t>
            </a:r>
            <a:br>
              <a:rPr sz="2800"/>
            </a:br>
            <a:r>
              <a:rPr b="0" lang="el-GR" sz="2800" spc="-1" strike="noStrike">
                <a:solidFill>
                  <a:srgbClr val="000000"/>
                </a:solidFill>
                <a:latin typeface="Times New Roman"/>
              </a:rPr>
              <a:t>η συμπερίληψη δεν μπορεί παρά να αποτύχει</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που χρειάζεται να γίνει κατανοητό είναι ότι όλοι οι µαθητές δεν µαθαίνουν µε τον ίδιο ρυθµό και µε τον ίδιο τρόπο και γι’ αυτό χρειάζεται µια διαφορετική προσέγγιση των στόχων στο σχεδιασµό της διδασκαλίας και διαφορετική υποστηρικτική δοµή. Ακόµα, αναφέρουν ως εµπόδια για τη συνεκπαίδευση των παιδιών µε και χωρίς ειδικές εκπαιδευτικές ανάγκες κτιριακές υποδοµές των σχολείων και την έλλειψη των κατάλληλων εποπτικών µέσων (Τάφα, 1998).</a:t>
            </a:r>
            <a:br>
              <a:rPr sz="2800"/>
            </a:b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οψίζοντας, στη βιβλιογραφία καταγράφονται διαφορετικές στάσεις και αντιλήψεις των εκπαιδευτικών αναφορικά με την συμπερίληψη τόσο στην Ελλάδα όσο και στο εξωτερικό.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φενός υπάρχουν έρευνες στις οποίες οι εκπαιδευτικοί εκφράζουν </a:t>
            </a:r>
            <a:r>
              <a:rPr b="0" i="1" lang="el-GR" sz="2800" spc="-1" strike="noStrike">
                <a:solidFill>
                  <a:srgbClr val="000000"/>
                </a:solidFill>
                <a:latin typeface="Times New Roman"/>
              </a:rPr>
              <a:t>θετικές αντιλήψεις, υποστηρίζουν τη συμπερίληψη μαθητών με αναπηρίες στο γενικό σχολείο και εκτιμούν ότι προάγεται η κοινωνική αποδοχή και η άρση των προκαταλήψεων, χωρίς να υποβαθμίζεται η εκπαιδευτική διαδικασ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395280" y="1125000"/>
            <a:ext cx="8569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φετέρου άλλες έρευνες καταλήγουν ότι οι εκπαιδευτικοί κρατούν επιφυλακτική στάση απέναντι στη συμπερίληψη, θεωρούν τις υπάρχουσες υποδομές ελλιπείς, υποστηρίζουν ότι τα αναλυτικά προγράμματα δεν επιτρέπουν την απαραίτητη ευελιξία, ανησυχούν ότι η συμπεριληπτική εκπαίδευση θα οδηγήσει σε πτώση τις επιδόσεις των τυπικών μαθητών και δηλώνουν απροετοίμαστοι να υποστηρίξουν τη φοίτηση των μαθητών με αναπηρίες στη γενική τάξη</a:t>
            </a:r>
            <a:br>
              <a:rPr sz="2800"/>
            </a:b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γοντες που επηρεάζουν τις αντιλήψεις των εκπαιδευτικών απέναντι στη συμπερίληψη </a:t>
            </a:r>
            <a:br>
              <a:rPr sz="2800"/>
            </a:br>
            <a:r>
              <a:rPr b="0" lang="el-GR" sz="2800" spc="-1" strike="noStrike">
                <a:solidFill>
                  <a:srgbClr val="000000"/>
                </a:solidFill>
                <a:latin typeface="Times New Roman"/>
              </a:rPr>
              <a:t>φαίνεται να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προηγούμενη διδακτική εμπειρία με μαθητές με αναπηρίες,</a:t>
            </a:r>
            <a:br>
              <a:rPr sz="2800"/>
            </a:br>
            <a:r>
              <a:rPr b="0" i="1" lang="el-GR" sz="2800" spc="-1" strike="noStrike">
                <a:solidFill>
                  <a:srgbClr val="000000"/>
                </a:solidFill>
                <a:latin typeface="Times New Roman"/>
              </a:rPr>
              <a:t> η επιμόρφωση των εκπαιδευτικών, αλλά </a:t>
            </a:r>
            <a:br>
              <a:rPr sz="2800"/>
            </a:br>
            <a:r>
              <a:rPr b="0" i="1" lang="el-GR" sz="2800" spc="-1" strike="noStrike">
                <a:solidFill>
                  <a:srgbClr val="000000"/>
                </a:solidFill>
                <a:latin typeface="Times New Roman"/>
              </a:rPr>
              <a:t>και η υλικοτεχνική υποδομή και </a:t>
            </a:r>
            <a:br>
              <a:rPr sz="2800"/>
            </a:br>
            <a:r>
              <a:rPr b="0" i="1" lang="el-GR" sz="2800" spc="-1" strike="noStrike">
                <a:solidFill>
                  <a:srgbClr val="000000"/>
                </a:solidFill>
                <a:latin typeface="Times New Roman"/>
              </a:rPr>
              <a:t>η διαθεσιμότητα των πόρων.</a:t>
            </a:r>
            <a:br>
              <a:rPr sz="2800"/>
            </a:br>
            <a:br>
              <a:rPr sz="2400"/>
            </a:b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11600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l-GR" sz="2800" spc="-1" strike="noStrike">
                <a:solidFill>
                  <a:srgbClr val="000000"/>
                </a:solidFill>
                <a:latin typeface="Times New Roman"/>
              </a:rPr>
              <a:t>Ωστόσο, καθοριστικό ρόλο στη διαμόρφωση θετικών ή αρνητικών αντιλήψεων σχετικά με τη συμπερίληψη μαθητών με αναπηρίες στο γενικό σχολείο φαίνεται να παίζει η σοβαρότητα αλλά και η φύση της αναπηρίας του μαθητή</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400"/>
            </a:b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250920" y="1392120"/>
            <a:ext cx="8353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πόψεις των εκπαιδευτικών σχετικά με την ένταξη των παιδιών με ειδικές μαθησιακές ανάγκες, δείχνουν την θετική στάση και αντίληψη που έχουν οι εκπαιδευτικοί προς την ένταξη, παρά το γεγονός ότι σε κάποιους τομείς μπορεί να μην έχουν την κατάλληλη επιμόρφωση και γνώση Καταλήγουμε στο συμπέρασμα ότι οι στάσεις των εκπαιδευτικών για την ένταξη μαθητών με ειδικές εκπαιδευτικές ανάγκες στα γενικά σχολεία, ποικίλουν τείνουν όμως να είναι θετικές εκφράζοντας κάποιο δισταγμό για την έλλειψη βοήθειας, γνώσεων και απουσία χρήσης πρακτικών μεθόδων.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και σε θεωρητικό επίπεδο φαίνεται να δέχονται το θεσμό της ένταξης, στην πράξη θεωρούν ότι η εφαρμογή της είναι δύσκολο να επιτευχθεί. Συμπεραίνουμε από τα ερευνητικά δεδομένα που προαναφέρθηκαν, ότι οι εκπαιδευτικοί στο σύνολό τους δεν αισθάνονται επαρκείς να διδάξουν σε μαθητές με ειδικές εκπαιδευτικές ανάγκες. Θεωρούν ότι η κατάρτιση τους είναι ελλιπής ως προς τις γνώσεις και τις δεξιότητες που χρειάζονται για να ανταποκριθούν στην ανάγκες που προκύπτουν κατά τη εφαρμογή της ένταξης. </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επώς, αναγκαία προϋπόθεση για την ομαλή προσαρμογή των παιδιών με ειδικές εκπαιδευτικές ανάγκες στο σχολικό πλαίσιο αποτελεί η χρήση αποτελεσματικών στρατηγικών και πρακτικών από την πλευρά του εκπαιδευτικού έτσι ώστε να ενισχυθεί η κοινωνική αποδοχή αυτών.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ι εκπαιδευτικοί θεωρούν ότι βασική προϋπόθεση της ένταξης αποτελούν οι στάσεις  των συμμαθητών των παιδιών με ειδικές ανάγκες . Οι αρνητικές και παράδοξες αντιλήψεις για τα άτομα με αναπηρία πολλές φορές αποδίδονται στο φόβο ή στην έλλειψη γνώσης για την αναπηρία αυτή, κρατώντας πολλές φορές .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ά τους να ανταποκριθούν </a:t>
            </a:r>
            <a:br>
              <a:rPr sz="2800"/>
            </a:br>
            <a:r>
              <a:rPr b="0" lang="el-GR" sz="2800" spc="-1" strike="noStrike">
                <a:solidFill>
                  <a:srgbClr val="000000"/>
                </a:solidFill>
                <a:latin typeface="Times New Roman"/>
              </a:rPr>
              <a:t>στις απαιτήσεις των προγραμμάτων αυ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000"/>
            </a:b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όλη αυτή τη στάση διαφαίνεται ότι οι προκαταλήψεις και τα στερεότυπα κυριαρχούν στη σκέψη των μαθητών και καθώς προχωρούν προς την εφηβεία η παρουσία τους γίνεται εντονότερη. Ως εκ τούτου, για μια ακόμη φορά, διαπιστώνεται η αναγκαιότητα προγραμμάτων τα οποία θα συμβάλουν στην κατανόηση της διαφορετικότητας ώστε να γίνει αποδεκτή αρχικά στο σχολικό πλαίσιο και στη συνέχεια στο ευρύτερο κοινωνικό σύνολο. </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2800"/>
            </a:br>
            <a:br>
              <a:rPr sz="2800"/>
            </a:br>
            <a:br>
              <a:rPr sz="2800"/>
            </a:br>
            <a:br>
              <a:rPr sz="2800"/>
            </a:br>
            <a:r>
              <a:rPr b="1" lang="el-GR" sz="2800" spc="-1" strike="noStrike">
                <a:solidFill>
                  <a:srgbClr val="000099"/>
                </a:solidFill>
                <a:latin typeface="Arial"/>
                <a:ea typeface="Arial"/>
              </a:rPr>
              <a:t>ΕΙΣΗΓΗΤΗΣ: Παναγιώτης Ν. Μαντάς</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826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268" name="Picture 9" descr=""/>
          <p:cNvPicPr/>
          <p:nvPr/>
        </p:nvPicPr>
        <p:blipFill>
          <a:blip r:embed="rId1"/>
          <a:stretch/>
        </p:blipFill>
        <p:spPr>
          <a:xfrm>
            <a:off x="0" y="0"/>
            <a:ext cx="9144000" cy="1368360"/>
          </a:xfrm>
          <a:prstGeom prst="rect">
            <a:avLst/>
          </a:prstGeom>
          <a:ln w="0">
            <a:noFill/>
          </a:ln>
        </p:spPr>
      </p:pic>
      <p:pic>
        <p:nvPicPr>
          <p:cNvPr id="1269" name="Picture 10" descr=""/>
          <p:cNvPicPr/>
          <p:nvPr/>
        </p:nvPicPr>
        <p:blipFill>
          <a:blip r:embed="rId2"/>
          <a:stretch/>
        </p:blipFill>
        <p:spPr>
          <a:xfrm>
            <a:off x="1258920" y="2060640"/>
            <a:ext cx="1297080" cy="1528560"/>
          </a:xfrm>
          <a:prstGeom prst="rect">
            <a:avLst/>
          </a:prstGeom>
          <a:ln w="0">
            <a:noFill/>
          </a:ln>
        </p:spPr>
      </p:pic>
      <p:pic>
        <p:nvPicPr>
          <p:cNvPr id="1270" name="12 - Εικόνα" descr=""/>
          <p:cNvPicPr/>
          <p:nvPr/>
        </p:nvPicPr>
        <p:blipFill>
          <a:blip r:embed="rId3"/>
          <a:stretch/>
        </p:blipFill>
        <p:spPr>
          <a:xfrm>
            <a:off x="6948360" y="1989000"/>
            <a:ext cx="1444680" cy="1573200"/>
          </a:xfrm>
          <a:prstGeom prst="rect">
            <a:avLst/>
          </a:prstGeom>
          <a:ln w="0">
            <a:noFill/>
          </a:ln>
        </p:spPr>
      </p:pic>
      <p:sp>
        <p:nvSpPr>
          <p:cNvPr id="1271"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1272"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φαρμογή  της  συμπερίληψης  εξαρτάται  σε  τελική ανάλυση σε  κάποιο  βαθμό,  από  τις  γνώσεις  μας  πάνω  στο  ρόλο  που  διαδραματίζουν </a:t>
            </a:r>
            <a:br>
              <a:rPr sz="2800"/>
            </a:br>
            <a:r>
              <a:rPr b="0" lang="el-GR" sz="2800" spc="-1" strike="noStrike">
                <a:solidFill>
                  <a:srgbClr val="000000"/>
                </a:solidFill>
                <a:latin typeface="Times New Roman"/>
              </a:rPr>
              <a:t>οι αντιλήψεις  των  εκπαιδευτικών. </a:t>
            </a:r>
            <a:br>
              <a:rPr sz="2800"/>
            </a:br>
            <a:br>
              <a:rPr sz="2000"/>
            </a:b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3:57Z</dcterms:modified>
  <cp:revision>163</cp:revision>
  <dc:subject/>
  <dc:title>Παρουσίαση του PowerPoint</dc:title>
</cp:coreProperties>
</file>