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CDE8-5D0A-4A21-BCDE-F20C72D62C0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D6D3-3BC3-4CB3-BDCB-C924AE286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76B5-E7B6-4421-AB5D-912A059B3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6100-5395-4DA3-9B37-1B157648E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606D-13A2-49AF-ACD8-11D810E23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7C7B-9548-4C52-A794-CAC698C47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15AD-3FE6-4942-8F86-A84F987E1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DC19-1743-478C-ACEB-5097C9123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1A0B-8D08-488A-95EA-6FCE30FE6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725F-A729-42CE-B41A-14C537981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F100-9FC3-4437-A0B1-5E57BD3E4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DDBD-B53F-4A90-8A77-A6325891B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1D64-F19C-453D-B4A0-4E60F4E06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6D41-8D58-422E-AE7C-9867AEDB6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8605-5FB8-485D-A60D-B34C3441E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AF57-BB44-496A-83CE-C1DED6128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C430-DBF4-4DDA-8702-D3F6F55F4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552F-0987-4DD1-A4B8-A090ADDA6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6FC9-2FB9-415A-8BB8-69AB4E5A4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2541-ED56-4984-B03D-A58D25F58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8C4E-A5AA-4332-B65B-D8D8648CE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5EEB-9504-4FB9-AACB-751653217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F4BE-FF98-499C-ABB8-507492B24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1BB7-DB25-4534-A1A4-B8130B813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05F9-E6CF-4D51-9711-36A63A69A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D99B-985A-480C-AE1F-A31275310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B847-E92D-4D8E-9A16-7F69E800B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4932-D6D3-4083-9A83-D217EC4FB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6301-80E6-465E-A51A-BF38D64B5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0E46-B74C-4C0D-B582-B8AF86271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AD4D-0880-449A-B243-5FADFAB13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8854-A80B-47F1-903D-B7BACC388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E80D-3FAE-4B98-9825-C27F5D872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2575-7FAC-445A-B8FD-9F41B49BD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2523-DA29-4E8A-8B84-E60BD81A4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89C7-F5F9-47DD-9865-C3B6BC9DE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2BEF-087B-4D17-9E7E-06E0E9E88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6445-394E-44D2-8B80-DC15740AE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D1A9C-4B03-4E7C-8838-04193360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DFC4E-FF02-4D84-B6F2-54C08D68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FCEED-4ACE-4442-A449-997E65C691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7B3B4-53B8-41F7-B4CE-E72EC59EF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852B72-813F-41CA-9823-83F0CC967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B205A-576E-4687-98F8-D392CDF62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E990D-A884-481F-A3AB-A586A548D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036B7-9036-4D52-A9FD-FF1399034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E7186-003B-435B-9DA1-810074F4D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AD3DC4-7A43-4848-8B6C-19A2FD52F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83242B-B2D2-4181-A2F0-7CCF8B81E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C47BFE-B377-4526-9B95-2836F5D8A2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E69A0-65D5-4E5C-B68C-60061C984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81DC0F-9EA5-4B67-B726-CDFA4AB83C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7C4B79-570E-4AB7-9998-3FF6531CCD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D7433F-9AF2-4130-9BA7-6368C63925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5B138D-1A7C-4EA2-8592-1F20660702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349F41-6DF1-44A6-9DFA-BEA3C5E5B1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70FF30-7D29-46E6-A224-B55290D6CA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5B6DC6-F1BD-4746-AC82-0B21812D14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86A9E6-695D-4591-9ECC-4DAE54E65F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58D424-31AF-4CBA-82DD-14F2D04FA0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C4250D-60C3-41BE-BA4E-D6CA255B81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8E52A-56F8-4D92-8E80-4ED9B6445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6F2B16-4318-4D60-962F-BAB549FD0F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DFD543-0CB5-47BA-A89F-1A91B88CF0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85540-030F-4376-8663-D3C28895F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1852C0-6908-4124-B116-B2453BFCC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3999C3-5720-4550-94C9-86838B5BE3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16EDA8-BFD0-46A0-A11F-8405261EC3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DC54C4-7D1E-4DB1-ADED-46AAA03BB8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52246E-74F0-4D72-B876-672F1B616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CE35C0-3242-4EBE-8C54-20DE1704C9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CC5E63-950C-4560-890B-A2F1B098B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DA44E-6392-4719-9A51-5BC7D46A5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3152AF-A0F3-4930-ADAD-F54B7386D8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D5F42F-2DA4-45BE-BA35-8ECEF23727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C88AFD-2389-4FB0-AF43-33385B3023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A6F0D9-74D1-4BC1-8B9A-0057519BF1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97D12E-3585-4FA0-B15B-C0E7A969EE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BE9BEF-F01F-4C7E-96F5-020B769BFB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AEE572-130C-47A0-90F9-0B59DA59AA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A4FD63-483D-4B7D-8CDD-D04A65F7E5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6EB0CE-34D4-47EA-87D8-65BA4861E0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E43651-E2C5-4E94-B9D7-4658FC6E8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A8B33-2239-4CB3-9E29-DAA9B881D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4DF09D-6964-488C-9B6C-B60F9A3B4B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D407E1-F12C-453D-8974-606351DAB4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C1E5F0-55CF-405E-9075-B837F5A5C1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ED6A1B-9250-455E-9195-865510B1FB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2E9A6B-9996-47D3-9F44-F34DC7C310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BE76980-BA7D-4499-A72A-702EB744C58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8010716-7DAA-47C2-99E2-3A183FF268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0E78A6D-F5C5-448F-884A-E3D98A3F9C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0D53E84-B726-44EA-B595-1CC8E06A63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4BA6AA4-A31C-487C-A8A3-6E0662C4BA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A0DF1-473A-4F3F-B3C0-36C27E744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E7B0FC9-9A72-476F-9295-F2DC1364F4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54B6CB1-DE6E-44A3-B166-4BCDAE05B0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E7D7150-440B-42AC-A18A-B3D9DA445F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5D27E28-3905-4AB9-AA06-ECD3470429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0BDC84A-3AE6-443C-BA20-1405031CB8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E2F407B-94FD-4699-A3A2-6124F0DEA6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3DF50F96-2406-4FA7-8635-67EA34AD4B49}"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8793C-8117-42B6-9265-0B2CAB242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C5419-90D7-47B0-B2DE-93C0DE7C9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DAD0C-B2AA-46F2-B98A-9C7CDBCAD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26C69-CACF-4100-8014-3CA8EFBE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43D26-1FBF-4FA5-B849-32CA2F17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8E467-AD5E-49E8-88D5-E64813A3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CF1EE-1759-40EB-BB49-0FD2996E7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ED5D1-483C-4F58-9027-36C57D6B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020D3-E634-47D9-8DAA-F6C0AA889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81062-FC51-46B8-BD9E-1DEF6B7F9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C8228-2430-4BB7-B6BD-9B81470A2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9B584-2408-467D-80F4-16A170BE8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5450A-99E9-4625-B8BD-2FF8D37F6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E595B-5641-4275-990E-CABB1E542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79B8F-FF79-4FCA-9B5C-DCFF71288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F27B-327F-443D-9CC1-B9771D3C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10DB3-7BA3-41A1-BE5F-DDC38E9A6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65E62-5D8F-4D45-878C-DF7C1A6E6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18E50-40FB-4768-A76E-F5B3F9837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533BE-3A37-41FC-A090-3D8C78CB0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2FF11-DB73-452E-B49D-CC8526FBF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C64A19-BE0A-4558-B440-2EA251BF05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CF3AC-8CD6-4239-B4DB-C1D07934E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7FE861-12DE-4C28-B6AF-80A97F0094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CE492-B295-450E-9F6F-496DED336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852D4-749B-4F6E-915A-BF2C4D4DF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12D3-93F0-4052-BAF3-95409BEAC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42E55-2B77-4D51-8C1B-610CC31F3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8D4A5-96EA-4DAE-90B7-FF4EBDA84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029FF-0FDB-4069-9EEB-46F35A7B5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3193C-6233-4938-86C1-08198DE05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C6FCD-F552-44B9-B8B6-C56156478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C2045-CE2B-4AEB-8A98-F3B3C1234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1BAB3-2895-438C-81FD-649AC7AB3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083F9-A58B-4E4F-9377-B20EC0E8C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7EC2B-8124-430C-A0D7-73902AF22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DB349A-AFDD-4C42-B1A6-F98408F2CE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DDF3-F865-41E7-9570-6FA5A4B11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43C0A-AC05-45A3-881B-231CF5178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DF9C1E-62C2-4D7F-AD38-799E11D58E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26232-3463-43D9-A582-B45370BFB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28535-B8B9-484C-8904-119DB3A68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923F0-ABDC-4391-B31B-25CA052FD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E4B68-7122-4968-8D19-2AFB0B4F8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76103-A665-4E8B-9EBB-B7BD49632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E5E5D-A125-4366-BAED-4FE6BB6CA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586C0-C233-48C8-9E97-A4E283BC8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596A92-B9DC-48DF-A388-8C30EFA2DC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126E-9122-4039-B587-8B9F8D6B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EDDE51-E62A-419D-9753-48EA5907A1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D50D4C-EC30-45D6-8D80-79C0E7AD6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3D746-ECCD-452F-B41D-A114FC59C6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DA716-4ADA-4EF5-8305-49A19F8D2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AA769-6284-4DE4-9881-F98DB875E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910033-E8E3-4761-A403-FD24CCD36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5122A-8678-429B-9448-A8FD68995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5E5ED-5CD4-435E-BBCB-65B1A0BFE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E8B11-D7F3-4B82-88F2-06B4A11C9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90B24-66E5-4114-8AB1-B2E95EF12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F9A4-638D-4F43-806C-8ED4337D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9A3343-7035-433A-9CF0-022D08466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D816E-4BE6-40D3-8A1E-61E684F8F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1D8CC3-88E5-4A4D-93C5-0F43F0A19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E99407-ACF8-4129-B36A-E7E527CA9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9B436-2D83-4639-A726-4334BAE19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E6CAE-C5C0-413A-8B8E-447CC94E61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C2C168-CD33-477B-B722-0A8C4AA4E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F2D23-BC9E-4D74-9E41-B27C8D55A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F4304-834A-499E-BA68-87ED9FB13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7E8E0-AE74-4E82-915E-E450FA497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AE75-167A-42A1-BADE-17827CCD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16B98-7BA3-4614-8FBA-46E4FAA9C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B263A-661E-4A9F-BA87-9F4AA6325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72F36-1AFE-45E6-B4CE-F52E50CA8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22A486-D31D-43C8-9804-510452E08D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49B00E-1217-4BE4-8F5B-1873242703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522DE-CBFE-4204-8329-086CBF2122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F1F510-CC2D-41FF-B494-6E9DEA21F9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3E82F-B683-44FA-A680-DEF20DC3A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FDFF1-6B69-4FE3-9F84-09ED60A3B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E6C31-142E-4334-8F0D-F4563D68F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438B-E2E7-451D-AE5F-4659018CC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00492-D55E-49FB-9F8A-4B23E1662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6E134-3F6C-4FC5-A300-5CC32FB31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70C75-3A69-452B-8A18-C32ED0310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2A25D-E502-4628-815A-D473A0A1D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22641-E4A0-4C17-9E55-507840902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E4F72E-1858-4D9A-AC62-1D98AC9D8F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765A1-4325-48D0-8E44-58E459F090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8EB532-CF5F-48AF-905D-0FEB4EA67B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0DAE8-F509-49AB-BC1B-AA70DF988F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9ACBF-C3A8-4220-8FC3-820E2B3908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B993-3B50-4391-90B2-6EBDDC83B0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51A7-391D-47CE-928E-6935C0EBEA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84E7-6C71-49F8-A4DE-8793B322DB0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C127-D8ED-4D2F-989C-B6F1531B7A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A9E5-107B-46AF-8020-C74090B96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44BF-2F34-49AE-BA64-099F5D0A45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B7BE-FEE5-4E30-AF41-82366B079ED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92BB-1230-4A7D-91AC-3A56F193450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7549-EA2A-4136-A61D-5FD516E2EB0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D042-C37D-4375-BB78-14A9916E0C6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F2AA-037F-4A93-83D8-38FF59D9108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82DC-AF0A-40E2-87D4-3214BDAECC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81B3-2781-48CE-8FD6-83C3AAEF15E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611280" y="1407600"/>
            <a:ext cx="820872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193400"/>
            <a:ext cx="82087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611280" y="1469520"/>
            <a:ext cx="8208720" cy="42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1280" y="1839600"/>
            <a:ext cx="8208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611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r>
              <a:rPr b="1" lang="el-GR" sz="2000" spc="-1" strike="noStrike">
                <a:solidFill>
                  <a:srgbClr val="000099"/>
                </a:solidFill>
                <a:latin typeface="Arial"/>
                <a:ea typeface="Arial"/>
              </a:rPr>
              <a:t>Σχολικός Σύμβουλος</a:t>
            </a:r>
            <a:br>
              <a:rPr sz="2000"/>
            </a:br>
            <a:endParaRPr b="0" lang="en-US" sz="20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81" name="Picture 9" descr=""/>
          <p:cNvPicPr/>
          <p:nvPr/>
        </p:nvPicPr>
        <p:blipFill>
          <a:blip r:embed="rId1"/>
          <a:stretch/>
        </p:blipFill>
        <p:spPr>
          <a:xfrm>
            <a:off x="0" y="0"/>
            <a:ext cx="9144000" cy="1368360"/>
          </a:xfrm>
          <a:prstGeom prst="rect">
            <a:avLst/>
          </a:prstGeom>
          <a:ln w="0">
            <a:noFill/>
          </a:ln>
        </p:spPr>
      </p:pic>
      <p:pic>
        <p:nvPicPr>
          <p:cNvPr id="882" name="Picture 10" descr=""/>
          <p:cNvPicPr/>
          <p:nvPr/>
        </p:nvPicPr>
        <p:blipFill>
          <a:blip r:embed="rId2"/>
          <a:stretch/>
        </p:blipFill>
        <p:spPr>
          <a:xfrm>
            <a:off x="1258920" y="2060640"/>
            <a:ext cx="1297080" cy="1528560"/>
          </a:xfrm>
          <a:prstGeom prst="rect">
            <a:avLst/>
          </a:prstGeom>
          <a:ln w="0">
            <a:noFill/>
          </a:ln>
        </p:spPr>
      </p:pic>
      <p:pic>
        <p:nvPicPr>
          <p:cNvPr id="883" name="12 - Εικόνα" descr=""/>
          <p:cNvPicPr/>
          <p:nvPr/>
        </p:nvPicPr>
        <p:blipFill>
          <a:blip r:embed="rId3"/>
          <a:stretch/>
        </p:blipFill>
        <p:spPr>
          <a:xfrm>
            <a:off x="6948360" y="1989000"/>
            <a:ext cx="1444680" cy="1573200"/>
          </a:xfrm>
          <a:prstGeom prst="rect">
            <a:avLst/>
          </a:prstGeom>
          <a:ln w="0">
            <a:noFill/>
          </a:ln>
        </p:spPr>
      </p:pic>
      <p:sp>
        <p:nvSpPr>
          <p:cNvPr id="884"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885"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
        <p:nvSpPr>
          <p:cNvPr id="582"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394920" y="977400"/>
            <a:ext cx="8497800" cy="526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250560" y="1407600"/>
            <a:ext cx="856908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611280" y="2053800"/>
            <a:ext cx="8208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19T17:42:32Z</dcterms:modified>
  <cp:revision>152</cp:revision>
  <dc:subject/>
  <dc:title>Παρουσίαση του PowerPoint</dc:title>
</cp:coreProperties>
</file>