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8B66-3BE5-4A5E-B18F-AB6CC77B0E8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F00-9361-4C8B-BB8F-36085F080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1832-A69D-4021-9450-99A72F24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3DA-C3B6-42AD-A0F3-2DE8DED2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A0D-88A1-4B4F-BFC9-D333B1F0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2EEA-B509-4F31-AD4E-FEB14A06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B1B-A089-4B73-B5E3-A8DD6635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53F-58DA-48E0-8444-EBA668AA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8C7-A80D-4B4E-B20D-244A1F8A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CAE-BDC9-4911-870B-AFDD7AF14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068-E2E8-4AA0-9F62-6FA6D4F9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1A1-E7BD-4ABA-AB36-F5CC1A3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091-5D28-4E27-8315-58C6D30D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6E1FE-A64C-4184-869F-64C312DF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2CFE8-FCD1-4619-A966-CDC9B1F5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403A-07C1-403A-B130-ED707FA3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BA811-DC52-4571-8E6D-E12C90B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A1B3B-7352-41B4-A7B7-4B4A1CD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74A81-CD6D-4AC4-8005-3D8D913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B5DC2-44D5-4BB2-9BA3-71EA724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9B25A-77D7-4DEF-BCF6-B2EC54E2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4403D-16E4-44E0-B7BA-F524AF96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A4E6E-675C-4B64-8D4A-25D4595E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C00-7C09-4D9F-8FE3-6D8E8B6A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1920F-8AE8-493A-8E03-16F7F935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4BD2B-B3D3-45EC-AD87-3F6B72E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3242F-F758-4C10-8E9A-0A8605A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E515D-58B4-45D8-A5BF-CBCB8E2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DB9B6-EC21-46A1-B79E-DB333A4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3EA94-2721-4A41-A56B-6E57622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7CEBA-0273-4F5C-82A9-63080CC6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6EE8D-4E9D-428C-90A3-B1A5E50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003AD-FF22-4D4E-82CF-44DA6DF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D4A07-9F04-44E1-BF1C-77BE39C5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DD4-0CE3-4A42-B98D-51D55455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9C220-D450-4A3C-9EEF-6A687EC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61ABD-5D5C-4007-B057-7F43431F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A94ED-4971-4194-A36D-158E7D9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DB577-64EB-4F84-A611-580CE61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6488A-4AB0-4F7F-A5E1-7C693F1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6BD5E-3A56-4402-9D33-6C66433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03E71-DB6E-4158-9F40-D18A7EB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1D351-4374-40B5-8B56-DB05CFC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84DDF-E252-46D1-B20C-94CB221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12CBC-4425-47DC-BB7E-2E0BD9E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156-9EC6-420F-88B4-F9293B01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44281-F928-482F-8028-3B596DDD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6A81A-837E-4053-9CB6-D98AB183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BF4F-47CB-4375-86E3-CFF66BC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2E5D5-49C4-45B0-8681-A8FFEBC3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EB793-7F12-45C8-B0B5-CF85240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6A2C8-7756-49DD-B2C9-37157CA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6FEEE-9E2E-4167-B889-370E63B1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E0099-ECBB-49E1-B620-9D6F438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BB3E7-372A-4B7E-AE24-1B0FF01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E4D39-7E18-4BD7-B389-16007FF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39F4-15B8-4599-9767-611218E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D409-DF3D-4DFA-82FF-8B25D08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DF3B6-5DDA-415A-82EC-CC00035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725B1-799E-4262-BEB6-581C862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7B626-7909-4240-8FF6-C48872DF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E31B-E45C-45D6-9E15-6279F637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814C5-51F1-4E8C-8923-FA3A7EE4C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F23E7-9F3F-4BDD-9BF5-DE728C17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3CAD14-D9B1-4CCD-BE46-7956D4C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598610-22D8-4EC1-94EB-2741E20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541798-E125-40CC-B502-E1507E85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141A-3826-407E-ACC8-AF7BB4AB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4A157B-0733-4269-816F-111CD27A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065DBA-1031-47B4-B360-01D2672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203F1F-E31F-4434-88CC-A883EFA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01DA6-5FA9-4B75-BC1C-CAF1935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2CEEAD-C21C-4191-9463-D31F6588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8ED2B-8D4E-42DB-A89A-0FFF9F4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6B0C2-3E25-422F-B965-2E02D2708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BF5-ED36-4F38-8AD7-853C2ABE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50DC-51B3-4C64-A5F4-D48BDFF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E33-2226-45DD-845E-1147F48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D9C-222A-4BB3-8480-2E68901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96E-116F-47AB-8E29-548DAAA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D85-E2A5-4F55-A0F0-42D7D46D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BCB5-FB9B-4ADD-952F-5090F54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F77-180E-4A10-A6AC-E019A0B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F5E-83FA-44D6-83AD-D08256D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1DB-E0B0-4006-8B55-EFB1F3C0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B587-4FA0-49F8-A291-1DFB05E8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2814-7738-4281-84EC-AF19F8C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E0FA-7065-4AE8-82AF-C228F537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9825-0DB3-423E-A036-5AD34E2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5670-253F-4567-A742-AE2ABB8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6BD-4ADF-422C-BA50-1E64D82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6C34-9B00-4C18-99A7-75BD45B2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A3CC-7743-4523-9F25-67B5C14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E5FA-6789-4EE2-9E0D-03A722B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7225-7A3B-4E6F-9F52-93EB206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DA07-2A3F-446A-8245-4F6DB50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0443-2E31-477C-833B-A281611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5EEE-8E6D-482C-8DB3-88C8FA34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68FF-762F-42EB-9559-8EA3C8AD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5931-32F2-4D7A-9230-08F9DE6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D286-7711-4004-89DA-8D606254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9D8-055F-4C79-8331-AE188C6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AB51-BE47-4875-B17E-D8F4121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DDAE-88E8-454A-9677-400696F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8792-414F-412A-843F-9136989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1AD8-BAD8-40F6-AB40-0FD89F1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173C-9A5B-4416-8B90-B80DE51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3090-81E5-4EDA-9693-D76A1B5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B852-CFC5-459F-95CF-CF2AD54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8E06-220F-4C93-8B5F-89C8D6D9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E34B-8D88-458D-A450-4A4F34DA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28EA-3DB1-433B-97F7-2B9F3747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183-4EAE-43C0-939C-01B69F0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BE67-EC42-4F1C-8055-79B833C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3CBD-46CB-41D9-8E4C-71180AD4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475B-7B14-40EC-A955-FE362708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CD3B-8272-42AD-9B41-1B1BAEF7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AA9F-B14E-4A0D-BF76-191E01D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DC7F-971B-47F4-858A-2C17608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4A75-BDA1-412F-AFA9-8DDB384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41B6-17CF-4043-BFF9-DD2BF0B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9024-156F-41F9-8E71-D3B1B7DA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AA14-B4F9-4311-929F-C09126F6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56D-B676-46FC-80FA-B469D640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919A-3CBF-45A7-87F1-01CD581A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C017-B94D-48C6-88FE-EB1686FD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6329-512E-4055-8C29-981133A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E83B-8C8F-4311-9A65-4592B51E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ABDD-D15A-4E76-A0C9-4DDBBAB4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CCC3-65EA-4216-B54A-71BD934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A4349-B788-4D6B-9335-CDC46CE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F882-EF3E-4714-A3BF-F5A1971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BB39-DCFC-4281-BA10-07440ED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A0FE-8EE8-4424-811E-ADAC88C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A3A-4570-4615-B885-B4FB017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DF1C-6CF0-4F84-8DEF-E2F83D7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9240-EEB4-4CF6-903F-CC98918C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5B15-404D-41D0-A913-1BB818FE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FCF35-1F75-4F21-A951-396379A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21B9A-B633-42B5-B08E-8FD7C61F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5913-F940-4273-9495-4E211BD4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A807-29A8-45C4-ABE7-BC35D0F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7EAD-8A5F-4DD2-81CA-93666D5C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769A-E057-4249-986C-848D6DF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6184-562B-44F0-B148-87A8FA7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262-DC05-4FF7-A8E8-A88C1CF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884A0-48C4-4F08-A2F1-0ABADB6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1981-C76A-4943-A7F4-50F400E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98915-BC01-457B-AB0C-3B35ABF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17E8F-FBE0-4D68-9793-05F88815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20A5-7AE0-4A8B-BAFB-2FEC1546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8E6DA-299F-4347-ADBD-8C3B7EBA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7545-9911-48BB-875A-161E13E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28DC-8203-4774-A423-7827786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B6A6-BD75-48DB-A1C0-DEC2FAD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328E-5F03-4D64-BFAE-BAC20B9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79C-1A70-4C14-ABB0-C25096A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B314-AF91-499F-B716-A6A9134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EF74A-72F8-4C52-9B50-49A0CC9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BC597-7DF8-448C-8A83-52C7718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E126-4385-49C3-8D39-8B0E179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713F-C043-4C9A-AC27-1BE1987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278B-BF9C-4119-A970-100F6B8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7776-A1C2-44B5-8B83-47119FA0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47E9B-69AB-4224-BB2F-56819E68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A8777-3099-4F1B-BFBE-54484F5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9904E-BF2D-4D5F-996D-0E259382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096-6330-4FE4-8BA0-B49949CA685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448C-1875-4176-909F-B1CFFF5D25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C18-6F95-4EF9-8EEE-DFF7A5AF49D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69B-360F-408D-ACC0-DFB273AC8EA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A7A5-7E6B-4E5D-8295-071A247C9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13D-7C00-4166-9790-5FDD7B4D905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5923-3293-4B6C-B23C-49AEA6A1E0B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526-5A06-48BE-B154-522E5DB5192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D83-5471-4572-BBA4-797F00C492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B37-B499-479A-996B-FA2F684B29A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E94-5BF7-498B-A8D7-795A2B05FFA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98AE-474F-467B-A51B-9EC19DEF565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A18-498B-4504-8F03-46CAE03F2DE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1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28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MANTAS</cp:lastModifiedBy>
  <dcterms:modified xsi:type="dcterms:W3CDTF">2020-10-13T09:30:42Z</dcterms:modified>
  <cp:revision>158</cp:revision>
  <dc:subject/>
  <dc:title>Παρουσίαση του PowerPoint</dc:title>
</cp:coreProperties>
</file>