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3942-7B2C-4A83-8895-F8928837992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7D96-8F8E-4AC1-A160-16C98155D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E3E7-DAD7-413F-BD1D-11BFC8B06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4243-CDC3-4CF6-AF23-6C9D023FC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F43F-D24C-47E0-A60F-8D9C4C438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7652-4347-4D4B-AB22-A494D087B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3BDC-98FE-408F-9810-9DE98B18F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ACB6-8CC1-4041-93FE-8E4F45A5B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73EB-9E56-4E96-8871-370920CBB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B851-FCAE-4105-A8FE-9232CADE8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EE3C-BEB7-42A4-A194-F8654804E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4BCD-76F5-45DA-A877-55369D4A5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5A96-0BB4-49FE-A6D2-54D50524F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D847-19D3-4A85-99E9-171586E98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616B-3118-44F8-BF9A-491BC459A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4B4C-3191-49EC-88D4-6478E4718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C73C-377F-4E03-8693-B79B4CB1C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0916-7D11-4B46-96BA-078A04827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B90E-0FBF-4438-95AB-6D478D3DA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ED84-5A80-4C00-BF14-E99754207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EE16-08DA-4279-BF6F-7269CD096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643A-2410-4F79-AFBD-1D47DA705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90C8-F942-4695-807B-1AD3189AD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CC02-3740-4720-81A1-05DF67E1C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DC4C-29CF-42EA-A306-01444A33A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90D8-6EFC-4BF9-9499-DF9A60B2D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9B01-0C0A-40FE-B113-C59741EAB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94AD-2EB6-4985-8480-C5CF265A5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DED9-367A-476E-A7DD-85272DF88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4C47-3FF6-467D-A684-FD6C145F7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B25D-B0F9-4E0A-80F3-579A1B36A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9C48-B388-4629-8F85-E2F445C9E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7574-7449-4DEC-B465-B1A7C962B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B2DA-8271-405B-AAF1-5FDD0BBD2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28D0-7F9B-41B6-9247-792CACD4A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CBC9-5600-4147-8BA8-A55D12431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5878-2A16-4311-8037-6A7CA59E9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4A01-445B-478A-B489-C15314566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6804-057A-4516-8BE1-7CAAD1123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FE17-7A65-47BA-8A08-825913EC8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EB5A-B247-46E2-B001-B75B96F1E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5EA8-E05D-4295-A4D1-CB5C86531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3038-A5A3-493B-9EC9-F50F68B48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DEA1-AE08-4BF6-B125-6D447B3C1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AEC1-2C69-4BA0-8DC1-95D941B0A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5740-D180-40B0-8F49-DF3FA111E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6098-55C5-4241-A06D-C9858BE61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7459-D1AF-424A-B1DF-E741355D1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9001-E996-45FE-989D-03AA8CC55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75DA-0AE2-4C0B-87BD-D6E441A6D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B341-912A-4B50-BEA5-8611D1C75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EC30-1068-4129-8035-C0DD04E7A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2AE3-AD65-4898-8A93-2CC417038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9FFF-1694-403E-9BAD-C93B2D673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B1A0-0BAE-43B7-B742-B101CC2CB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B19E-7C66-4125-8601-B9EF19541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41F1-42AD-4F57-8E8F-D2328B804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0404-3593-47B0-9B18-9E3E44ADA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D3A2-2098-4500-8E98-0F8D51BCC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3DC1-DC6A-43CD-B347-A2C903FA2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320F-3340-4D9E-8EBE-7D52A9E5F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F417-2DE8-4869-A610-C12B1BC93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5901-AFF1-4928-8F81-ADABCA3E5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738D-7420-46C8-8FCF-D13BB9910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DE98-0A40-4EB8-BE89-C0B0ED400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D14B-AB3A-42F6-BC3F-B26C59BE4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9AA1-50CF-44E8-A83D-23E31B1C4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455B-B5A3-495F-8453-5D8630A8D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985680" y="741240"/>
            <a:ext cx="4886640" cy="3665520"/>
          </a:xfrm>
          <a:prstGeom prst="rect">
            <a:avLst/>
          </a:prstGeom>
          <a:ln w="0">
            <a:noFill/>
          </a:ln>
        </p:spPr>
      </p:sp>
      <p:sp>
        <p:nvSpPr>
          <p:cNvPr id="1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22B3-0577-46AC-853D-17A8381D9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85680" y="741240"/>
            <a:ext cx="4886640" cy="3665520"/>
          </a:xfrm>
          <a:prstGeom prst="rect">
            <a:avLst/>
          </a:prstGeom>
          <a:ln w="0">
            <a:noFill/>
          </a:ln>
        </p:spPr>
      </p:sp>
      <p:sp>
        <p:nvSpPr>
          <p:cNvPr id="14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807C-3BC3-459A-A735-F09205EC7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6A90-3CFF-4F53-8183-FB7882CF9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2323-CD66-4D3C-B00A-C3A7851B3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985680" y="741240"/>
            <a:ext cx="4886640" cy="3665520"/>
          </a:xfrm>
          <a:prstGeom prst="rect">
            <a:avLst/>
          </a:prstGeom>
          <a:ln w="0">
            <a:noFill/>
          </a:ln>
        </p:spPr>
      </p:sp>
      <p:sp>
        <p:nvSpPr>
          <p:cNvPr id="1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5347-5503-493E-BCD7-931F211BE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985680" y="741240"/>
            <a:ext cx="4886640" cy="3665520"/>
          </a:xfrm>
          <a:prstGeom prst="rect">
            <a:avLst/>
          </a:prstGeom>
          <a:ln w="0">
            <a:noFill/>
          </a:ln>
        </p:spPr>
      </p:sp>
      <p:sp>
        <p:nvSpPr>
          <p:cNvPr id="14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20C0-750A-42B3-B018-988473336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FF49-29E9-4DCD-BC50-BFF19AFFE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0EE2-2643-46B0-8800-731211476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D31BC-B367-4E68-A3AE-209E3BAB9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7670C-85BE-4869-8B97-172BA8908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CF1C92-F92B-4D6F-BBE3-9A410ABF90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B1FC69-CB78-4A06-B5B2-3EC53F22A6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D1E666-8EEF-4760-AC63-EB6FEDA50E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9F2E51-1303-437A-8DC6-A4882FA716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8C4C2C-A979-47E1-8162-48AB339459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D2E69E-6151-40F9-A560-30782E8E1F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EDDB19-7D01-4944-846E-B93B37006A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521A32-F20A-47BA-9A96-F8CF4CB4F0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A0BA2F-D846-45F9-A6BC-2AA3EC1D85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9E670C-406B-4CBF-B947-0DB3B606F6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14F25-201F-48E2-B56E-DDC580142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3525A6-33F4-4B6A-879B-7D0E114DEF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911A6F-67B4-44BA-8BEC-7A924F99A6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B64604-E9B8-45F3-9109-3F50162FCF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8A053C-BE6D-4439-B9BB-F45C3CE2AA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659A40-5C96-4B6D-BDA2-85FEAE5B2B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33283A-DF65-4E05-B6D8-C6760A9B7E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14976C-C0D6-407C-9336-96BA273335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524BAC-0985-4C57-83CB-B7ECDF80F3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B3011C-B22B-40EB-8F55-7519FCCF5F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C35FA1-F4FB-4327-9EB2-7365149733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A85A4-6647-4541-936C-604AAEE3A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2B9C8E-47E6-4A10-8D2E-208C88D103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C20277-5081-4AD3-A7D1-7D07EB0303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2B947B-3F34-471D-9CD6-F1664FA05D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DF1F99-25AE-4B76-853E-E1AE97A08C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46152D-B90B-497C-A21F-830F58A1B2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7CE96B-72FA-4593-A716-782F8AAFE3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F67004-AB9F-4996-B0AD-BFF7AFDF66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F311FD-F13E-4B15-8DC2-DEA2A72ED8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131440-A2EC-4D78-AA60-2AF50E052C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260723-6F41-4CAD-8405-B24DFB6AA6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16D07-0C8A-4A22-A670-FACD8ED45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13F023-B172-45A7-8DA2-02DD38D1E9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74E3C5-6B70-4FC1-A306-771A906389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5EBF7A-3A4B-4B13-8AE4-C7E419734A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54B019-02C1-4BBD-AB3E-5555B8F4C9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F0613D-396E-4CDC-9294-8CF46586A1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27A505-0BB2-44BC-84B8-D0F0D8EF7D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42B0B4-7D41-4BBB-8657-D64399B6EC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ECC2B8-7522-4830-820A-B9635EAACE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FCAA16-ACE0-4D38-B14C-772556CD97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AAD9CE-A2F0-40FF-8B18-CBC0875A6E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0DB1C-8CA5-4336-81F3-F941741B6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BB0380-2812-43D7-9D2E-EE7D5AF580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E98ED9-D6E3-4B17-B58F-EDDA08C39A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236AD2-0242-4C17-841A-7C4C62190B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AA3216-C289-4F6E-B471-EF8CB4DEBD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37CF44-B0D4-4281-93D9-586FFA105E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51B1640-9D76-4830-925D-9E0FCD64632B}"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6FD6AEA-1C0F-4933-B046-1849A831C3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8506783F-65D4-4B45-B680-7F0A5AEFA2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BD66B9C0-565A-457F-B5D0-ABFC61295B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15C62201-9FF7-4B96-991B-E27C8AFA594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48D52-78F5-4614-9340-4A5C04FF3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D8501592-1555-47EA-8B4C-A52BDBBE1E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0E2DB95-FACC-410F-A53F-423AFD73E3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28028BD-455E-44D4-95B8-8E7DABD30E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52A5AB4-7A5F-42EC-A378-679B75D2A6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79974A8-8B4D-477E-812A-F1283CCE0B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1E17F43C-A9CA-4D9C-9203-94D61E35B6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3C657294-E13E-41E2-AFF0-0CD88F402A95}"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DD31D-3031-432B-97CE-6E26E6C2C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55D61-B0B4-44B1-917A-B5B076AAE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7ADF2-AB9A-4187-BC3D-7772B7411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0B53E-894B-4EA1-8778-C6D58145B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AE717-8827-4F40-A457-160805B1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0507D-802A-4136-AFD7-16CACF651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4E41B-C4EF-442E-B825-3FF1E71DE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A1085-D222-4FD4-8223-BD1D991DE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C6CE0-7023-45DC-9E73-83A09038C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6BB41-9082-41A0-9E5A-9319197B8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E96029-A927-4BA8-A0AB-5D8B461E86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E52457-7E4B-40A2-A36F-47BC3E423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B26E0-C945-4C24-A2A6-8452C755BB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25CDC9-B449-4D4A-AF71-B682B1734D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CA6D05-EF95-4C61-8403-D5A8B6F89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67976-F4BA-488C-B056-6393DE433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16F0E6-61BB-44BE-A4BE-A1CB08E260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06020-0FC8-4192-A384-46CB615A4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5B5B2-B240-43CB-80CA-3A1172673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AD80C-67DE-4B9C-8C43-C85192FD5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955BE6-F521-4D36-BBA7-A08AC48A14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6525A6-3401-4216-A3B4-2D93A28643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064618-415A-4ADB-BC57-45DEF1D5D7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A1D329-019D-44F7-A2E9-40843A6493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1B323-C540-477A-9F1B-2B8970D5B5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47D7EE-A0BD-41D9-9BD7-B600AF62AA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ACADB-AE98-4D82-9AA9-FC1310AFA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87F8E7-ECCF-4595-94FD-30C8D4024A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5BC32D-5CD6-4933-BA71-A44D300FC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A151C-3D02-4849-8F6A-365CF6643E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1FA94-A61B-4350-A2E5-83582B157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B26B5-4FB3-4C30-AD14-1B28F15CF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D2DC8-03B2-4ED4-9152-B8C32A590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BC8D0-D258-4EA7-A8E8-04DD6C1010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331110-7EEE-4238-A031-C3DF4944AC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E7543D-7528-4A2E-A733-FA549526D7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3E47B7-61C7-4950-8451-977B187B16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608E3-0537-4EDF-A5BB-2D82EF519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529BF-D467-42F9-8AEE-9DF9B4CF5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121801-7AB2-4547-B717-D842B1DA9E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BEB8D7-3A6A-4162-86F7-4DD0D0E908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4DF305-3773-4079-AC16-869AC08CC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F9FBF8-675F-4AF4-A085-E3B3B4548F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A5C2C-C930-43A7-9BA1-4059D3FA8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20518-2474-4CF5-9042-AC645BA8D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DB4C6-E701-4628-956A-46975064B7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F36DD5-4D3D-4789-8E2C-7CDF3AEA0B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10B02E-4A97-459D-96F2-CEE9A92A42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ACC62-322B-4AE8-895E-DEDA93468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5C6B78-BE61-4896-BF90-6EA883B9C7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075DB6-4DFB-4E37-8C5B-A8EB015BB8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999EA0-97EB-4717-BF3E-0B805C32B5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A841B5-A7E6-46CC-A4FE-12F46AD25D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1DF87-BB47-45BE-A787-5B3693199B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9C1623-AC5C-4465-A604-B47E9E8430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1F025B-F6A9-4BD2-B2CB-561A4B9303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E95E8-661A-4310-80FB-2211F42671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63E906-FE8E-4F29-A099-20020A5822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17CA9-8DA8-412C-8FA5-F5B2EB7CE3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7419-B173-44FE-B519-6931B1A97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71B97D-8505-4789-9DFE-E4DC9C1BD5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838974-FBBE-40C0-A518-F9B0890047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BD088D-3F5D-4375-9FE9-1BF9D22040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20E4A1-DFAB-4DA7-A11D-BCFFAF36A0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3A918B-FBDD-4167-97E3-C8C864BFED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F72AB-A05D-4CA6-9AE3-D28DFC2782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03A37B-FC71-4A64-AA09-04B21A98FF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76774-C493-4F07-BAC5-178AA58C71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963165-67CC-41F4-A54F-651A165289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CC1F4-D9BF-4B2D-A52E-9A2FDE5E68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AA775-AD0D-4925-893B-B0CE26A1B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1126D2-EDE3-458E-A3D7-D4AC2566AF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50ECDC-E2F0-4B4A-9550-2C90D7A827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E09D9-8202-4497-A58A-2AEB3AD92C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F1AE30-3474-49ED-B85C-76B8DF1760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423DF7-EBD1-4D5B-A2F4-66B500988D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08D729-2DA6-4BA8-A31C-982D521ABB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833791-9309-4966-8007-8C627A4DC4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4BFFA-17FB-4D69-A113-C7A5863649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BB4970-8C15-4A5F-9394-988209560C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368A9-61BF-4138-AD1F-2E48891599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F29D1-EBFA-4456-A100-A4834C049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33D234-3C69-4B00-B627-795EE2881F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25B01F-D817-4B98-AC13-B77072DFF7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A3FA57-E25E-49B8-B535-9367D58F3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ADCDD-EF44-4705-9234-D8E59FC9D4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794744-2B60-4952-9240-F4855A84FA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1B4547-BACD-489F-AEBE-27A0E8DA8E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BE149E-9F0A-4BC0-9033-F86F011FD3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9D2EDB-4E17-4632-BCD8-A1ECE11CE1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51A054-569F-4C02-B177-B467429AF3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EEC312-8EDA-4DD5-8B0D-896E10CCE5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7080-1B23-4838-813B-F1FC013F9B3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B0D9-EE1E-4E3E-A583-339881348A2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9288-DED0-4FC0-822C-EE114FA2272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C693-4D13-4EB1-B426-23F2D7C1146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7744-4C7B-4B36-AB5E-B9B80B3265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217B-70AE-4FBF-96EF-CC9363751C6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42D6-BB40-44E9-A3AE-DD818283CDF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BF9B-40E6-4E9B-86BD-DD0DAB9C62E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322F-088B-4E9E-B7D2-768A3B35E68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AFE6-4DD6-4C80-B52F-4D60BA7B9C3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3BF2-A9B3-4ED4-91DF-4823CD973F5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71F5-A313-4FAB-ADE2-F614C5D2016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256F-15FA-4880-80D0-820D8EEA55A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773280"/>
            <a:ext cx="8353440" cy="50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94920" y="1937880"/>
            <a:ext cx="8280360" cy="26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400"/>
            </a:b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610920" y="1076400"/>
            <a:ext cx="8064360" cy="434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394920" y="1711440"/>
            <a:ext cx="8064360" cy="265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394920" y="1482840"/>
            <a:ext cx="8209080" cy="31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90440"/>
            <a:ext cx="9144000" cy="6551640"/>
            <a:chOff x="0" y="190440"/>
            <a:chExt cx="9144000" cy="6551640"/>
          </a:xfrm>
        </p:grpSpPr>
        <p:grpSp>
          <p:nvGrpSpPr>
            <p:cNvPr id="692" name="Ομάδα 1"/>
            <p:cNvGrpSpPr/>
            <p:nvPr/>
          </p:nvGrpSpPr>
          <p:grpSpPr>
            <a:xfrm>
              <a:off x="0" y="190440"/>
              <a:ext cx="9144000" cy="6551640"/>
              <a:chOff x="0" y="190440"/>
              <a:chExt cx="9144000" cy="6551640"/>
            </a:xfrm>
          </p:grpSpPr>
          <p:sp>
            <p:nvSpPr>
              <p:cNvPr id="693"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468360" y="944640"/>
            <a:ext cx="79912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547640" y="2276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Ομάδα 1"/>
          <p:cNvGrpSpPr/>
          <p:nvPr/>
        </p:nvGrpSpPr>
        <p:grpSpPr>
          <a:xfrm>
            <a:off x="0" y="115920"/>
            <a:ext cx="9144000" cy="6551640"/>
            <a:chOff x="0" y="115920"/>
            <a:chExt cx="9144000" cy="6551640"/>
          </a:xfrm>
        </p:grpSpPr>
        <p:grpSp>
          <p:nvGrpSpPr>
            <p:cNvPr id="719" name="Ομάδα 1"/>
            <p:cNvGrpSpPr/>
            <p:nvPr/>
          </p:nvGrpSpPr>
          <p:grpSpPr>
            <a:xfrm>
              <a:off x="0" y="115920"/>
              <a:ext cx="9144000" cy="6551640"/>
              <a:chOff x="0" y="115920"/>
              <a:chExt cx="9144000" cy="6551640"/>
            </a:xfrm>
          </p:grpSpPr>
          <p:sp>
            <p:nvSpPr>
              <p:cNvPr id="7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5" name="9 - Εικόνα" descr=""/>
          <p:cNvPicPr/>
          <p:nvPr/>
        </p:nvPicPr>
        <p:blipFill>
          <a:blip r:embed="rId3"/>
          <a:stretch/>
        </p:blipFill>
        <p:spPr>
          <a:xfrm>
            <a:off x="250920" y="333360"/>
            <a:ext cx="1417680" cy="879480"/>
          </a:xfrm>
          <a:prstGeom prst="rect">
            <a:avLst/>
          </a:prstGeom>
          <a:ln w="0">
            <a:noFill/>
          </a:ln>
        </p:spPr>
      </p:pic>
      <p:sp>
        <p:nvSpPr>
          <p:cNvPr id="726" name="PlaceHolder 1"/>
          <p:cNvSpPr>
            <a:spLocks noGrp="1"/>
          </p:cNvSpPr>
          <p:nvPr>
            <p:ph type="title"/>
          </p:nvPr>
        </p:nvSpPr>
        <p:spPr>
          <a:xfrm>
            <a:off x="539280" y="1472760"/>
            <a:ext cx="82090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Ομάδα 1"/>
          <p:cNvGrpSpPr/>
          <p:nvPr/>
        </p:nvGrpSpPr>
        <p:grpSpPr>
          <a:xfrm>
            <a:off x="0" y="115920"/>
            <a:ext cx="9144000" cy="6551640"/>
            <a:chOff x="0" y="115920"/>
            <a:chExt cx="9144000" cy="6551640"/>
          </a:xfrm>
        </p:grpSpPr>
        <p:grpSp>
          <p:nvGrpSpPr>
            <p:cNvPr id="728" name="Ομάδα 1"/>
            <p:cNvGrpSpPr/>
            <p:nvPr/>
          </p:nvGrpSpPr>
          <p:grpSpPr>
            <a:xfrm>
              <a:off x="0" y="115920"/>
              <a:ext cx="9144000" cy="6551640"/>
              <a:chOff x="0" y="115920"/>
              <a:chExt cx="9144000" cy="6551640"/>
            </a:xfrm>
          </p:grpSpPr>
          <p:sp>
            <p:nvSpPr>
              <p:cNvPr id="7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4" name="9 - Εικόνα" descr=""/>
          <p:cNvPicPr/>
          <p:nvPr/>
        </p:nvPicPr>
        <p:blipFill>
          <a:blip r:embed="rId3"/>
          <a:stretch/>
        </p:blipFill>
        <p:spPr>
          <a:xfrm>
            <a:off x="250920" y="333360"/>
            <a:ext cx="1417680" cy="879480"/>
          </a:xfrm>
          <a:prstGeom prst="rect">
            <a:avLst/>
          </a:prstGeom>
          <a:ln w="0">
            <a:noFill/>
          </a:ln>
        </p:spPr>
      </p:pic>
      <p:sp>
        <p:nvSpPr>
          <p:cNvPr id="735" name="PlaceHolder 1"/>
          <p:cNvSpPr>
            <a:spLocks noGrp="1"/>
          </p:cNvSpPr>
          <p:nvPr>
            <p:ph type="title"/>
          </p:nvPr>
        </p:nvSpPr>
        <p:spPr>
          <a:xfrm>
            <a:off x="539640" y="1510920"/>
            <a:ext cx="7920000" cy="26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611280" y="1701720"/>
            <a:ext cx="8277120" cy="446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
        <p:nvSpPr>
          <p:cNvPr id="744" name="PlaceHolder 1"/>
          <p:cNvSpPr>
            <a:spLocks noGrp="1"/>
          </p:cNvSpPr>
          <p:nvPr>
            <p:ph type="title"/>
          </p:nvPr>
        </p:nvSpPr>
        <p:spPr>
          <a:xfrm>
            <a:off x="394920" y="2465280"/>
            <a:ext cx="820908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611280" y="1628640"/>
            <a:ext cx="8277120" cy="446436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
        <p:nvSpPr>
          <p:cNvPr id="753" name="PlaceHolder 1"/>
          <p:cNvSpPr>
            <a:spLocks noGrp="1"/>
          </p:cNvSpPr>
          <p:nvPr>
            <p:ph type="title"/>
          </p:nvPr>
        </p:nvSpPr>
        <p:spPr>
          <a:xfrm>
            <a:off x="394920" y="2033280"/>
            <a:ext cx="820908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
        <p:nvSpPr>
          <p:cNvPr id="762" name="PlaceHolder 1"/>
          <p:cNvSpPr>
            <a:spLocks noGrp="1"/>
          </p:cNvSpPr>
          <p:nvPr>
            <p:ph type="title"/>
          </p:nvPr>
        </p:nvSpPr>
        <p:spPr>
          <a:xfrm>
            <a:off x="971640" y="1603080"/>
            <a:ext cx="74880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
        <p:nvSpPr>
          <p:cNvPr id="771" name="PlaceHolder 1"/>
          <p:cNvSpPr>
            <a:spLocks noGrp="1"/>
          </p:cNvSpPr>
          <p:nvPr>
            <p:ph type="title"/>
          </p:nvPr>
        </p:nvSpPr>
        <p:spPr>
          <a:xfrm>
            <a:off x="394920" y="2249280"/>
            <a:ext cx="806436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PlaceHolder 1"/>
          <p:cNvSpPr>
            <a:spLocks noGrp="1"/>
          </p:cNvSpPr>
          <p:nvPr>
            <p:ph type="title"/>
          </p:nvPr>
        </p:nvSpPr>
        <p:spPr>
          <a:xfrm>
            <a:off x="539280" y="1819080"/>
            <a:ext cx="820908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Ομάδα 1"/>
          <p:cNvGrpSpPr/>
          <p:nvPr/>
        </p:nvGrpSpPr>
        <p:grpSpPr>
          <a:xfrm>
            <a:off x="0" y="115920"/>
            <a:ext cx="9144000" cy="6551640"/>
            <a:chOff x="0" y="115920"/>
            <a:chExt cx="9144000" cy="6551640"/>
          </a:xfrm>
        </p:grpSpPr>
        <p:grpSp>
          <p:nvGrpSpPr>
            <p:cNvPr id="818" name="Ομάδα 1"/>
            <p:cNvGrpSpPr/>
            <p:nvPr/>
          </p:nvGrpSpPr>
          <p:grpSpPr>
            <a:xfrm>
              <a:off x="0" y="115920"/>
              <a:ext cx="9144000" cy="6551640"/>
              <a:chOff x="0" y="115920"/>
              <a:chExt cx="9144000" cy="6551640"/>
            </a:xfrm>
          </p:grpSpPr>
          <p:sp>
            <p:nvSpPr>
              <p:cNvPr id="8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4" name="9 - Εικόνα" descr=""/>
          <p:cNvPicPr/>
          <p:nvPr/>
        </p:nvPicPr>
        <p:blipFill>
          <a:blip r:embed="rId3"/>
          <a:stretch/>
        </p:blipFill>
        <p:spPr>
          <a:xfrm>
            <a:off x="250920" y="333360"/>
            <a:ext cx="1417680" cy="879480"/>
          </a:xfrm>
          <a:prstGeom prst="rect">
            <a:avLst/>
          </a:prstGeom>
          <a:ln w="0">
            <a:noFill/>
          </a:ln>
        </p:spPr>
      </p:pic>
      <p:sp>
        <p:nvSpPr>
          <p:cNvPr id="825" name="PlaceHolder 1"/>
          <p:cNvSpPr>
            <a:spLocks noGrp="1"/>
          </p:cNvSpPr>
          <p:nvPr>
            <p:ph type="title"/>
          </p:nvPr>
        </p:nvSpPr>
        <p:spPr>
          <a:xfrm>
            <a:off x="1042920" y="1819080"/>
            <a:ext cx="7416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Ομάδα 1"/>
          <p:cNvGrpSpPr/>
          <p:nvPr/>
        </p:nvGrpSpPr>
        <p:grpSpPr>
          <a:xfrm>
            <a:off x="0" y="115920"/>
            <a:ext cx="9144000" cy="6551640"/>
            <a:chOff x="0" y="115920"/>
            <a:chExt cx="9144000" cy="6551640"/>
          </a:xfrm>
        </p:grpSpPr>
        <p:grpSp>
          <p:nvGrpSpPr>
            <p:cNvPr id="827" name="Ομάδα 1"/>
            <p:cNvGrpSpPr/>
            <p:nvPr/>
          </p:nvGrpSpPr>
          <p:grpSpPr>
            <a:xfrm>
              <a:off x="0" y="115920"/>
              <a:ext cx="9144000" cy="6551640"/>
              <a:chOff x="0" y="115920"/>
              <a:chExt cx="9144000" cy="6551640"/>
            </a:xfrm>
          </p:grpSpPr>
          <p:sp>
            <p:nvSpPr>
              <p:cNvPr id="8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9 - Εικόνα" descr=""/>
          <p:cNvPicPr/>
          <p:nvPr/>
        </p:nvPicPr>
        <p:blipFill>
          <a:blip r:embed="rId3"/>
          <a:stretch/>
        </p:blipFill>
        <p:spPr>
          <a:xfrm>
            <a:off x="250920" y="333360"/>
            <a:ext cx="1417680" cy="879480"/>
          </a:xfrm>
          <a:prstGeom prst="rect">
            <a:avLst/>
          </a:prstGeom>
          <a:ln w="0">
            <a:noFill/>
          </a:ln>
        </p:spPr>
      </p:pic>
      <p:sp>
        <p:nvSpPr>
          <p:cNvPr id="834" name="PlaceHolder 1"/>
          <p:cNvSpPr>
            <a:spLocks noGrp="1"/>
          </p:cNvSpPr>
          <p:nvPr>
            <p:ph type="title"/>
          </p:nvPr>
        </p:nvSpPr>
        <p:spPr>
          <a:xfrm>
            <a:off x="1042920" y="2033280"/>
            <a:ext cx="741672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Ομάδα 1"/>
          <p:cNvGrpSpPr/>
          <p:nvPr/>
        </p:nvGrpSpPr>
        <p:grpSpPr>
          <a:xfrm>
            <a:off x="0" y="115920"/>
            <a:ext cx="9144000" cy="6551640"/>
            <a:chOff x="0" y="115920"/>
            <a:chExt cx="9144000" cy="6551640"/>
          </a:xfrm>
        </p:grpSpPr>
        <p:grpSp>
          <p:nvGrpSpPr>
            <p:cNvPr id="836" name="Ομάδα 1"/>
            <p:cNvGrpSpPr/>
            <p:nvPr/>
          </p:nvGrpSpPr>
          <p:grpSpPr>
            <a:xfrm>
              <a:off x="0" y="115920"/>
              <a:ext cx="9144000" cy="6551640"/>
              <a:chOff x="0" y="115920"/>
              <a:chExt cx="9144000" cy="6551640"/>
            </a:xfrm>
          </p:grpSpPr>
          <p:sp>
            <p:nvSpPr>
              <p:cNvPr id="8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9 - Εικόνα" descr=""/>
          <p:cNvPicPr/>
          <p:nvPr/>
        </p:nvPicPr>
        <p:blipFill>
          <a:blip r:embed="rId3"/>
          <a:stretch/>
        </p:blipFill>
        <p:spPr>
          <a:xfrm>
            <a:off x="250920" y="333360"/>
            <a:ext cx="1417680" cy="879480"/>
          </a:xfrm>
          <a:prstGeom prst="rect">
            <a:avLst/>
          </a:prstGeom>
          <a:ln w="0">
            <a:noFill/>
          </a:ln>
        </p:spPr>
      </p:pic>
      <p:sp>
        <p:nvSpPr>
          <p:cNvPr id="843" name="PlaceHolder 1"/>
          <p:cNvSpPr>
            <a:spLocks noGrp="1"/>
          </p:cNvSpPr>
          <p:nvPr>
            <p:ph type="title"/>
          </p:nvPr>
        </p:nvSpPr>
        <p:spPr>
          <a:xfrm>
            <a:off x="971640" y="2465280"/>
            <a:ext cx="748800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Ομάδα 1"/>
          <p:cNvGrpSpPr/>
          <p:nvPr/>
        </p:nvGrpSpPr>
        <p:grpSpPr>
          <a:xfrm>
            <a:off x="0" y="115920"/>
            <a:ext cx="9144000" cy="6551640"/>
            <a:chOff x="0" y="115920"/>
            <a:chExt cx="9144000" cy="6551640"/>
          </a:xfrm>
        </p:grpSpPr>
        <p:grpSp>
          <p:nvGrpSpPr>
            <p:cNvPr id="845" name="Ομάδα 1"/>
            <p:cNvGrpSpPr/>
            <p:nvPr/>
          </p:nvGrpSpPr>
          <p:grpSpPr>
            <a:xfrm>
              <a:off x="0" y="115920"/>
              <a:ext cx="9144000" cy="6551640"/>
              <a:chOff x="0" y="115920"/>
              <a:chExt cx="9144000" cy="6551640"/>
            </a:xfrm>
          </p:grpSpPr>
          <p:sp>
            <p:nvSpPr>
              <p:cNvPr id="8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1" name="9 - Εικόνα" descr=""/>
          <p:cNvPicPr/>
          <p:nvPr/>
        </p:nvPicPr>
        <p:blipFill>
          <a:blip r:embed="rId3"/>
          <a:stretch/>
        </p:blipFill>
        <p:spPr>
          <a:xfrm>
            <a:off x="250920" y="333360"/>
            <a:ext cx="1417680" cy="879480"/>
          </a:xfrm>
          <a:prstGeom prst="rect">
            <a:avLst/>
          </a:prstGeom>
          <a:ln w="0">
            <a:noFill/>
          </a:ln>
        </p:spPr>
      </p:pic>
      <p:sp>
        <p:nvSpPr>
          <p:cNvPr id="852" name="PlaceHolder 1"/>
          <p:cNvSpPr>
            <a:spLocks noGrp="1"/>
          </p:cNvSpPr>
          <p:nvPr>
            <p:ph type="title"/>
          </p:nvPr>
        </p:nvSpPr>
        <p:spPr>
          <a:xfrm>
            <a:off x="971640" y="2465280"/>
            <a:ext cx="763272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2" name="Ομάδα 1"/>
          <p:cNvGrpSpPr/>
          <p:nvPr/>
        </p:nvGrpSpPr>
        <p:grpSpPr>
          <a:xfrm>
            <a:off x="0" y="115920"/>
            <a:ext cx="9144000" cy="6551640"/>
            <a:chOff x="0" y="115920"/>
            <a:chExt cx="9144000" cy="6551640"/>
          </a:xfrm>
        </p:grpSpPr>
        <p:grpSp>
          <p:nvGrpSpPr>
            <p:cNvPr id="863" name="Ομάδα 1"/>
            <p:cNvGrpSpPr/>
            <p:nvPr/>
          </p:nvGrpSpPr>
          <p:grpSpPr>
            <a:xfrm>
              <a:off x="0" y="115920"/>
              <a:ext cx="9144000" cy="6551640"/>
              <a:chOff x="0" y="115920"/>
              <a:chExt cx="9144000" cy="6551640"/>
            </a:xfrm>
          </p:grpSpPr>
          <p:sp>
            <p:nvSpPr>
              <p:cNvPr id="8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9 - Εικόνα" descr=""/>
          <p:cNvPicPr/>
          <p:nvPr/>
        </p:nvPicPr>
        <p:blipFill>
          <a:blip r:embed="rId3"/>
          <a:stretch/>
        </p:blipFill>
        <p:spPr>
          <a:xfrm>
            <a:off x="250920" y="333360"/>
            <a:ext cx="1417680" cy="879480"/>
          </a:xfrm>
          <a:prstGeom prst="rect">
            <a:avLst/>
          </a:prstGeom>
          <a:ln w="0">
            <a:noFill/>
          </a:ln>
        </p:spPr>
      </p:pic>
      <p:sp>
        <p:nvSpPr>
          <p:cNvPr id="870" name="PlaceHolder 1"/>
          <p:cNvSpPr>
            <a:spLocks noGrp="1"/>
          </p:cNvSpPr>
          <p:nvPr>
            <p:ph type="title"/>
          </p:nvPr>
        </p:nvSpPr>
        <p:spPr>
          <a:xfrm>
            <a:off x="755640" y="1483920"/>
            <a:ext cx="7812000" cy="411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4920" y="1125000"/>
            <a:ext cx="8280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9492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11600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1125000"/>
            <a:ext cx="84978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94920" y="1125000"/>
            <a:ext cx="84978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2985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250920" y="1052280"/>
            <a:ext cx="8208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907560"/>
            <a:ext cx="842472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9280" y="1392120"/>
            <a:ext cx="842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250560" y="1052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3200"/>
            </a:br>
            <a:br>
              <a:rPr sz="3200"/>
            </a:br>
            <a:br>
              <a:rPr sz="1800"/>
            </a:br>
            <a:br>
              <a:rPr sz="18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23" name="Picture 9" descr=""/>
          <p:cNvPicPr/>
          <p:nvPr/>
        </p:nvPicPr>
        <p:blipFill>
          <a:blip r:embed="rId1"/>
          <a:stretch/>
        </p:blipFill>
        <p:spPr>
          <a:xfrm>
            <a:off x="0" y="0"/>
            <a:ext cx="9144000" cy="1368360"/>
          </a:xfrm>
          <a:prstGeom prst="rect">
            <a:avLst/>
          </a:prstGeom>
          <a:ln w="0">
            <a:noFill/>
          </a:ln>
        </p:spPr>
      </p:pic>
      <p:pic>
        <p:nvPicPr>
          <p:cNvPr id="1224" name="Picture 10" descr=""/>
          <p:cNvPicPr/>
          <p:nvPr/>
        </p:nvPicPr>
        <p:blipFill>
          <a:blip r:embed="rId2"/>
          <a:stretch/>
        </p:blipFill>
        <p:spPr>
          <a:xfrm>
            <a:off x="1258920" y="2060640"/>
            <a:ext cx="1297080" cy="1528560"/>
          </a:xfrm>
          <a:prstGeom prst="rect">
            <a:avLst/>
          </a:prstGeom>
          <a:ln w="0">
            <a:noFill/>
          </a:ln>
        </p:spPr>
      </p:pic>
      <p:pic>
        <p:nvPicPr>
          <p:cNvPr id="1225" name="12 - Εικόνα" descr=""/>
          <p:cNvPicPr/>
          <p:nvPr/>
        </p:nvPicPr>
        <p:blipFill>
          <a:blip r:embed="rId3"/>
          <a:stretch/>
        </p:blipFill>
        <p:spPr>
          <a:xfrm>
            <a:off x="6948360" y="1989000"/>
            <a:ext cx="1444680" cy="1573200"/>
          </a:xfrm>
          <a:prstGeom prst="rect">
            <a:avLst/>
          </a:prstGeom>
          <a:ln w="0">
            <a:noFill/>
          </a:ln>
        </p:spPr>
      </p:pic>
      <p:sp>
        <p:nvSpPr>
          <p:cNvPr id="1226"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7"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539280" y="1392120"/>
            <a:ext cx="842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4920" y="148428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10:15Z</dcterms:modified>
  <cp:revision>169</cp:revision>
  <dc:subject/>
  <dc:title>Παρουσίαση του PowerPoint</dc:title>
</cp:coreProperties>
</file>