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C9ED-A50B-4232-8D55-5263598079C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956B-1059-41F1-B19C-374F0EC02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985680" y="741240"/>
            <a:ext cx="4886640" cy="3665520"/>
          </a:xfrm>
          <a:prstGeom prst="rect">
            <a:avLst/>
          </a:prstGeom>
          <a:ln w="0">
            <a:noFill/>
          </a:ln>
        </p:spPr>
      </p:sp>
      <p:sp>
        <p:nvSpPr>
          <p:cNvPr id="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B404-5C23-4D1B-8A7A-A9AD1209F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85680" y="741240"/>
            <a:ext cx="4886640" cy="3665520"/>
          </a:xfrm>
          <a:prstGeom prst="rect">
            <a:avLst/>
          </a:prstGeom>
          <a:ln w="0">
            <a:noFill/>
          </a:ln>
        </p:spPr>
      </p:sp>
      <p:sp>
        <p:nvSpPr>
          <p:cNvPr id="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6DE2-BE0D-443A-968C-176903C39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985680" y="741240"/>
            <a:ext cx="4886640" cy="3665520"/>
          </a:xfrm>
          <a:prstGeom prst="rect">
            <a:avLst/>
          </a:prstGeom>
          <a:ln w="0">
            <a:noFill/>
          </a:ln>
        </p:spPr>
      </p:sp>
      <p:sp>
        <p:nvSpPr>
          <p:cNvPr id="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695A-6CD8-4C59-A2C4-58D0E3D86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985680" y="741240"/>
            <a:ext cx="4886640" cy="3665520"/>
          </a:xfrm>
          <a:prstGeom prst="rect">
            <a:avLst/>
          </a:prstGeom>
          <a:ln w="0">
            <a:noFill/>
          </a:ln>
        </p:spPr>
      </p:sp>
      <p:sp>
        <p:nvSpPr>
          <p:cNvPr id="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348F-172A-4109-9A65-52C7F5100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985680" y="741240"/>
            <a:ext cx="4886640" cy="3665520"/>
          </a:xfrm>
          <a:prstGeom prst="rect">
            <a:avLst/>
          </a:prstGeom>
          <a:ln w="0">
            <a:noFill/>
          </a:ln>
        </p:spPr>
      </p:sp>
      <p:sp>
        <p:nvSpPr>
          <p:cNvPr id="7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201A-8C0C-449B-ADDC-3F07BA6B2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985680" y="741240"/>
            <a:ext cx="4886640" cy="3665520"/>
          </a:xfrm>
          <a:prstGeom prst="rect">
            <a:avLst/>
          </a:prstGeom>
          <a:ln w="0">
            <a:noFill/>
          </a:ln>
        </p:spPr>
      </p:sp>
      <p:sp>
        <p:nvSpPr>
          <p:cNvPr id="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0135-B4A8-422D-A4B5-3AA9748C7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985680" y="741240"/>
            <a:ext cx="4886640" cy="3665520"/>
          </a:xfrm>
          <a:prstGeom prst="rect">
            <a:avLst/>
          </a:prstGeom>
          <a:ln w="0">
            <a:noFill/>
          </a:ln>
        </p:spPr>
      </p:sp>
      <p:sp>
        <p:nvSpPr>
          <p:cNvPr id="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E105-C067-463B-AB33-C7B6F96FB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85680" y="741240"/>
            <a:ext cx="4886640" cy="3665520"/>
          </a:xfrm>
          <a:prstGeom prst="rect">
            <a:avLst/>
          </a:prstGeom>
          <a:ln w="0">
            <a:noFill/>
          </a:ln>
        </p:spPr>
      </p:sp>
      <p:sp>
        <p:nvSpPr>
          <p:cNvPr id="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4125-B692-4657-BA0C-D6D4F4773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985680" y="741240"/>
            <a:ext cx="4886640" cy="3665520"/>
          </a:xfrm>
          <a:prstGeom prst="rect">
            <a:avLst/>
          </a:prstGeom>
          <a:ln w="0">
            <a:noFill/>
          </a:ln>
        </p:spPr>
      </p:sp>
      <p:sp>
        <p:nvSpPr>
          <p:cNvPr id="7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4EDC-EF94-4558-8017-38918F180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985680" y="741240"/>
            <a:ext cx="4886640" cy="3665520"/>
          </a:xfrm>
          <a:prstGeom prst="rect">
            <a:avLst/>
          </a:prstGeom>
          <a:ln w="0">
            <a:noFill/>
          </a:ln>
        </p:spPr>
      </p:sp>
      <p:sp>
        <p:nvSpPr>
          <p:cNvPr id="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B848-0DEA-447B-B8E9-BF61CE693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985680" y="741240"/>
            <a:ext cx="4886640" cy="3665520"/>
          </a:xfrm>
          <a:prstGeom prst="rect">
            <a:avLst/>
          </a:prstGeom>
          <a:ln w="0">
            <a:noFill/>
          </a:ln>
        </p:spPr>
      </p:sp>
      <p:sp>
        <p:nvSpPr>
          <p:cNvPr id="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629A-31EC-4633-AE29-CBF94586D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985680" y="741240"/>
            <a:ext cx="4886640" cy="3665520"/>
          </a:xfrm>
          <a:prstGeom prst="rect">
            <a:avLst/>
          </a:prstGeom>
          <a:ln w="0">
            <a:noFill/>
          </a:ln>
        </p:spPr>
      </p:sp>
      <p:sp>
        <p:nvSpPr>
          <p:cNvPr id="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A1A2-E7DC-4803-ABDC-6BD7E032B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985680" y="741240"/>
            <a:ext cx="4886640" cy="3665520"/>
          </a:xfrm>
          <a:prstGeom prst="rect">
            <a:avLst/>
          </a:prstGeom>
          <a:ln w="0">
            <a:noFill/>
          </a:ln>
        </p:spPr>
      </p:sp>
      <p:sp>
        <p:nvSpPr>
          <p:cNvPr id="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F434-F6F1-462C-A8D7-16E6FE66C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DAB6-620B-4B88-BE01-0687838D4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85680" y="741240"/>
            <a:ext cx="4886640" cy="3665520"/>
          </a:xfrm>
          <a:prstGeom prst="rect">
            <a:avLst/>
          </a:prstGeom>
          <a:ln w="0">
            <a:noFill/>
          </a:ln>
        </p:spPr>
      </p:sp>
      <p:sp>
        <p:nvSpPr>
          <p:cNvPr id="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E179-0759-4D59-ADCE-2DD0FBD6F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985680" y="741240"/>
            <a:ext cx="4886640" cy="3665520"/>
          </a:xfrm>
          <a:prstGeom prst="rect">
            <a:avLst/>
          </a:prstGeom>
          <a:ln w="0">
            <a:noFill/>
          </a:ln>
        </p:spPr>
      </p:sp>
      <p:sp>
        <p:nvSpPr>
          <p:cNvPr id="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252C-97A0-4EB1-803C-B8E5404CE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985680" y="741240"/>
            <a:ext cx="4886640" cy="3665520"/>
          </a:xfrm>
          <a:prstGeom prst="rect">
            <a:avLst/>
          </a:prstGeom>
          <a:ln w="0">
            <a:noFill/>
          </a:ln>
        </p:spPr>
      </p:sp>
      <p:sp>
        <p:nvSpPr>
          <p:cNvPr id="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116D-F851-48CA-8E46-FBB30D6EE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985680" y="741240"/>
            <a:ext cx="4886640" cy="3665520"/>
          </a:xfrm>
          <a:prstGeom prst="rect">
            <a:avLst/>
          </a:prstGeom>
          <a:ln w="0">
            <a:noFill/>
          </a:ln>
        </p:spPr>
      </p:sp>
      <p:sp>
        <p:nvSpPr>
          <p:cNvPr id="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24D0-ADEA-414A-99C4-200564B85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985680" y="741240"/>
            <a:ext cx="4886640" cy="3665520"/>
          </a:xfrm>
          <a:prstGeom prst="rect">
            <a:avLst/>
          </a:prstGeom>
          <a:ln w="0">
            <a:noFill/>
          </a:ln>
        </p:spPr>
      </p:sp>
      <p:sp>
        <p:nvSpPr>
          <p:cNvPr id="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AD0D-A356-4A45-90F8-6F9D26009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985680" y="741240"/>
            <a:ext cx="4886640" cy="3665520"/>
          </a:xfrm>
          <a:prstGeom prst="rect">
            <a:avLst/>
          </a:prstGeom>
          <a:ln w="0">
            <a:noFill/>
          </a:ln>
        </p:spPr>
      </p:sp>
      <p:sp>
        <p:nvSpPr>
          <p:cNvPr id="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09CF-98F5-4BEB-8913-E7A2901B5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985680" y="741240"/>
            <a:ext cx="4886640" cy="3665520"/>
          </a:xfrm>
          <a:prstGeom prst="rect">
            <a:avLst/>
          </a:prstGeom>
          <a:ln w="0">
            <a:noFill/>
          </a:ln>
        </p:spPr>
      </p:sp>
      <p:sp>
        <p:nvSpPr>
          <p:cNvPr id="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1B083-1363-4AEB-8E84-4AA862EEC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9A53-3EF0-4F5F-AD45-103C686C4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008E6-D709-495B-A979-E09ACA548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03DFA8-816C-4839-8663-15079F98D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CAE24-3D0E-49BA-9DD4-39551C5FE4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1512AC-8B53-4C7F-8C68-329AA11802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A4C67-775F-4467-BAD4-5FB982A2DA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D766F-E466-4128-A19A-FF0ABCE27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708BFD-61BB-40AA-A975-1BC3251CC9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789630-FE41-4E20-82D0-F683779B47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E8ADE0-5C9E-41B4-8DB1-1D77962FDB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3DFFDB-02A9-408E-91E7-50E31C14FB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32761-44EF-4A79-A350-B093D884E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74DD48-C65D-468E-B089-6A788EC7C6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E3A093-45F9-438A-8E8B-A3D5E13756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53426E-672F-4E24-809A-86F4F8EB88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0E06E6-9DFA-4CAB-978B-EB285868C8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0FEFA8-5550-40CD-98BC-3A5E6840F5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F7E665-0FB5-47AA-9BAD-6446A441BF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16F146-9B5D-4676-99AB-EE2F32F196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CCDD21-8196-4361-9CCC-C2B2675D62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13F563-B5D3-4B16-AE60-8F9E8DF75B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94A505-4EA8-4790-8912-D259488970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F1157-5C04-4914-B695-3A4CA041B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86CA67-2012-44F1-A24A-DD66775964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0F645C-F402-4EC9-9D69-85F2FFBE35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E8F84A-C0B4-4127-BD63-E7F2A074D6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4B115C-F452-4B7F-84D2-42835EF7CA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41B3D8-140C-44CA-BCF4-91BDE4A585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0F34F0-0C2A-408C-B29A-2B37DA86E8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A545D5-BF5B-4AB2-B827-04380D3A40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1BFC34-13EE-47C7-848E-8F3BF7E147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EAEFF1-4F10-4133-8F97-34BB9C15D1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184F41-05FB-4B9E-BB5C-19FE1AD47F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0DB78-6589-4FCA-9A45-412725FDE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999224-753E-48FF-8D5C-5030494F6F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A16A17-DA01-4755-BB32-F35DE360D3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0536A8-A9E5-4437-93BA-0DF6E60712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597225-31F2-438A-A514-FF3E456D8B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DAF046-056C-41F6-98D1-4641BD93AC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5CA4B0-B6D1-442A-BCF5-86C99AD9D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BCE7D8-FF69-4117-A704-DB7B65F1DD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A82ED0-073C-4869-9709-6749C03E5B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477827-1909-45BB-B580-1D9438AD36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A7549B-D5ED-4137-AD86-874BCBA73B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A394B-9593-41CE-8EE4-CAC03F144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C928C1-E9B8-4906-B755-D14E465C7A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0A2381-81CF-4BE7-BD23-5A626A13E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28C5BF-B2EF-49F1-91C2-858483DC54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4C69D4-F9F9-42BA-8906-ACB4B8099E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E70780-B1D7-4A32-9BE2-B349B1D910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B38542C-623A-47D9-A82D-17696BF1567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E8CA2BE-14CE-43EE-9707-74D1922DCE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7D80B2B-E819-4E04-9017-C544A5E661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ABE04F8-4870-4F52-AFB0-1AF1E091EC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06AA2AC-CFD1-4C4C-B335-647EF42072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68B34-283E-4836-8812-29397C827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CE3BEA8D-AF23-44CB-8508-4E32D55EB09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68DAA90-AB72-4CCB-A0F3-E2F79F68C7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05E558E-4F7E-4BC3-AE3E-069E4DE2B3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FDCC693-B521-4A57-B48A-FFF4573257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47BBF4E-BE35-47F4-91C2-C7C54FEBC5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1C254F5-B23B-4D87-9CA0-87DEE9CFEA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204465D-70B3-470C-92D0-D1DA753D19B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26B2F-3BCE-4994-B9C0-8FC7CF252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36BCA-899B-461E-A1B3-BC0EFE1E4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8F4EF-664B-4419-8427-9D70BC7E6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BE994-06AA-4FC4-8351-9E9A9DEF7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87C1-C558-44F5-98ED-968DF9C1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5243-C74C-4E4E-B148-91DB9FC7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55E83-11F0-45D6-92D1-B197BB224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6097F-F289-4BF9-8753-370F492D4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57D36-CC39-4BE8-955E-7EF363D45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97570-4B83-4DFA-A85F-1CB4A588B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8669CA-3892-4910-8DDA-E25AE7CAD6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8405A-AD9C-4B36-B781-C7EF53BCA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FB60E-75D2-4479-BAE4-7DEC8660E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9AC45-C5BE-4D8B-AC96-5016E85C4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24C0E-CFF3-4985-BEAA-89388EB708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77A5D-103E-4E87-9666-53189FD78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342FD-F087-4E6B-9270-815296DD4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5AA17-88D6-41BE-9B77-D431052A3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5C405-4D8C-4178-A74E-FD40FA515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B4F77-8F4B-4BD8-AD22-9D0B98A27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534BE-80DE-48F2-A87B-5062A6778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8E441-8E0E-47DD-95DF-6A68F75E34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E0FD4B-56A8-4EDB-B17C-3FC402A98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0496E-18BF-43BB-8902-115A51A260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D1A72-9F24-4EBE-B519-CD9ADEB52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DECF2-D02F-4667-9A70-241955919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F1E56-855B-4964-BCB5-BB1E3A8A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06F35-95BD-43EE-BCEB-EAA8EA694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5ADA6-B642-4E2C-98F6-FB206F757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20A00-570C-46F4-BF5B-6F0E5843A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E99E3-AF4C-4202-880D-888BC54CB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B82EB-7C07-4B84-8E43-D7C82738A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30DDB-2A7C-4A62-B949-A52F668F8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39497-96A4-44E5-BD74-F614AE736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1F0CE-53C5-4E7D-AA25-41FFE52C25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45A774-FF90-4F95-BA2F-2321F79AB0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058F9-4437-4846-AAB2-DD4635CC1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7C03-A19A-4073-9C18-87E2AEE3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B96C4E-CD47-4A87-828E-D564C00A8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1554D-E56A-42E8-B88E-825365838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F2765-F342-4AE9-B17E-B8227470E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93752-5FAF-496C-93B9-93FBC1A33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41494-B815-4C9E-8F89-ADD54E4BF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46538-5821-44DC-A65C-5DF1BDEFE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FD5DF-9541-4786-B215-F03687D40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5B16E-69F9-4F32-B178-773869F9D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9EFE5-72E5-4481-811F-9B5F17A64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66B6D4-98C5-493D-B9EF-75C4D7B0E8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537D-A679-4CB7-A844-9713B3095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03881A-76E1-4407-BE52-AB734ACE4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86F016-115F-4E61-8CF8-FEE334552E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67BE1-393A-4603-B574-17F91DF6F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81325-E9B9-443F-AC41-B04BF44C9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19530-042B-4BA8-8F4E-BEF32F3B7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B22D6-B3FF-4170-9BBC-7B939F4BF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39C412-FC5B-41AC-8F16-9F57CD2BF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48135-2F4C-4B3C-89BF-E8769270E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7115E-FB90-4609-9234-FED840612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EE425-8771-4C97-A42F-92D4B4C0A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071D-1C51-4D89-9FB1-7D56994D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12DAE-7544-4100-BC08-F85661CE5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96333F-3BA4-424E-8FCD-1F3C9F142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106DC2-23E2-4C76-B088-FC2F487182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DD0B5B-A05B-4AFB-AE25-331A430823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DCBEC-A4D2-4B46-843B-24E565E20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87D18-2BB9-43BA-9628-439068016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CDC3B0-EF87-47F9-B70A-68030A5E3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89E222-86E9-47D6-8686-2FFB4EB756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2427E-419F-45B0-BB7B-9C4FDF15B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FCDEC-45E4-4977-BE91-37B12F118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CB5A-7E14-4F10-89F5-9F3722EB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A0630-166E-4519-AEE2-A7764D659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ADC92-E6E8-4280-805D-972F0F9AA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6C665-0606-4BB3-B83C-9AB07B4FE9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ACE81-5141-420E-9FF6-2ACD492DAD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94A10A-3594-46A7-8120-D8599D7E3F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FD9663-E53A-493A-99F3-3CA856E311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52A2DF-E224-481D-901C-47F32F917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CFACD2-7B8B-485E-BF15-E5C80B521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C8236D-7099-4BCA-9165-E2D49071C1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64AE1-3C3E-4093-97F4-73A0641DE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4BE7-8BD0-459B-A27F-4551D05C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7156F2-99A4-4069-A8B7-3DA3525CB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6B484-8071-4594-AA8F-62BF54689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6018C-8FA5-4866-9232-88BAB21FA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C5009-2C9C-493E-BE2D-D57D9192B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258BB0-7199-4A81-A8BC-2BA3338DFE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06EFF1-C7C1-4A4D-8570-0902AE4BE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97A1A0-9D7E-49FE-91D3-DE164BD25A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097898-0382-4E84-90E8-79579A25B8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F1E7E0-84CF-4C17-A1D5-2ED839E883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D837BB-B467-438C-A359-3AD20FD17A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F95E-2B4C-4443-8C66-BC060A43F97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4B6A-D7B2-4475-A313-C301CF63C47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315F-DCFB-4897-BB15-4BEC7DD2750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9493-8DB1-46B1-A44B-32E4E73DD9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C7D8-15C2-42BB-B5B3-C8C58DC4E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A5F9-540C-4BFF-A0DE-920A8E16E1D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D09A-AE40-45E6-9A7F-A25FAACF298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F7F7-52E1-44CF-BC26-21FF18D39F9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DB6E-C97D-4A0D-8F7A-7469043264E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993F-43B0-4810-9378-BFA692A176B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6FC4-4D9B-4218-A237-0B807937A56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35CA-07BD-496E-89F0-D5DD06D00AF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7177-F45B-4CCB-9FE9-65D242E0EE3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99640" y="1268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737" name="Picture 9" descr=""/>
          <p:cNvPicPr/>
          <p:nvPr/>
        </p:nvPicPr>
        <p:blipFill>
          <a:blip r:embed="rId1"/>
          <a:stretch/>
        </p:blipFill>
        <p:spPr>
          <a:xfrm>
            <a:off x="0" y="0"/>
            <a:ext cx="9144000" cy="1368360"/>
          </a:xfrm>
          <a:prstGeom prst="rect">
            <a:avLst/>
          </a:prstGeom>
          <a:ln w="0">
            <a:noFill/>
          </a:ln>
        </p:spPr>
      </p:pic>
      <p:pic>
        <p:nvPicPr>
          <p:cNvPr id="738" name="Picture 10" descr=""/>
          <p:cNvPicPr/>
          <p:nvPr/>
        </p:nvPicPr>
        <p:blipFill>
          <a:blip r:embed="rId2"/>
          <a:stretch/>
        </p:blipFill>
        <p:spPr>
          <a:xfrm>
            <a:off x="1258920" y="2060640"/>
            <a:ext cx="1297080" cy="1528560"/>
          </a:xfrm>
          <a:prstGeom prst="rect">
            <a:avLst/>
          </a:prstGeom>
          <a:ln w="0">
            <a:noFill/>
          </a:ln>
        </p:spPr>
      </p:pic>
      <p:pic>
        <p:nvPicPr>
          <p:cNvPr id="739" name="12 - Εικόνα" descr=""/>
          <p:cNvPicPr/>
          <p:nvPr/>
        </p:nvPicPr>
        <p:blipFill>
          <a:blip r:embed="rId3"/>
          <a:stretch/>
        </p:blipFill>
        <p:spPr>
          <a:xfrm>
            <a:off x="6948360" y="1989000"/>
            <a:ext cx="1444680" cy="1573200"/>
          </a:xfrm>
          <a:prstGeom prst="rect">
            <a:avLst/>
          </a:prstGeom>
          <a:ln w="0">
            <a:noFill/>
          </a:ln>
        </p:spPr>
      </p:pic>
      <p:sp>
        <p:nvSpPr>
          <p:cNvPr id="74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7" name="Ομάδα 1"/>
          <p:cNvGrpSpPr/>
          <p:nvPr/>
        </p:nvGrpSpPr>
        <p:grpSpPr>
          <a:xfrm>
            <a:off x="0" y="306360"/>
            <a:ext cx="9144000" cy="6551640"/>
            <a:chOff x="0" y="306360"/>
            <a:chExt cx="9144000" cy="6551640"/>
          </a:xfrm>
        </p:grpSpPr>
        <p:grpSp>
          <p:nvGrpSpPr>
            <p:cNvPr id="558" name="Ομάδα 1"/>
            <p:cNvGrpSpPr/>
            <p:nvPr/>
          </p:nvGrpSpPr>
          <p:grpSpPr>
            <a:xfrm>
              <a:off x="0" y="306360"/>
              <a:ext cx="9144000" cy="6551640"/>
              <a:chOff x="0" y="306360"/>
              <a:chExt cx="9144000" cy="6551640"/>
            </a:xfrm>
          </p:grpSpPr>
          <p:sp>
            <p:nvSpPr>
              <p:cNvPr id="559"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6" name="Ομάδα 1"/>
          <p:cNvGrpSpPr/>
          <p:nvPr/>
        </p:nvGrpSpPr>
        <p:grpSpPr>
          <a:xfrm>
            <a:off x="0" y="306360"/>
            <a:ext cx="9144000" cy="6551640"/>
            <a:chOff x="0" y="306360"/>
            <a:chExt cx="9144000" cy="6551640"/>
          </a:xfrm>
        </p:grpSpPr>
        <p:grpSp>
          <p:nvGrpSpPr>
            <p:cNvPr id="567" name="Ομάδα 1"/>
            <p:cNvGrpSpPr/>
            <p:nvPr/>
          </p:nvGrpSpPr>
          <p:grpSpPr>
            <a:xfrm>
              <a:off x="0" y="306360"/>
              <a:ext cx="9144000" cy="6551640"/>
              <a:chOff x="0" y="306360"/>
              <a:chExt cx="9144000" cy="6551640"/>
            </a:xfrm>
          </p:grpSpPr>
          <p:sp>
            <p:nvSpPr>
              <p:cNvPr id="568"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4:08Z</dcterms:modified>
  <cp:revision>150</cp:revision>
  <dc:subject/>
  <dc:title>Παρουσίαση του PowerPoint</dc:title>
</cp:coreProperties>
</file>