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0BB1-76CD-4969-88EA-4A9A2AED7C6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39DB-2402-4C40-9796-7E5F0B8FC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4404-D990-416F-900B-987169D2D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5FE2-59E6-48C8-B445-82B494432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D176-1946-417F-80A9-0DCAA0390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00E9-D9F6-40E2-B36D-FB1E46FA5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7072-A989-4CB7-AA4E-4D58FB2C2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1D23-4E4B-493C-8E24-B41DDD110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1874-1F5F-4B11-ADA1-CEB280F4A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77AC-5B2C-4500-AD53-23863C69B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0F0A-4335-4D4C-9B6D-704CE622D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B2F8-4775-48E5-9292-9C5E2293A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7176-9692-49E9-9DAA-A0189118C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D544-153E-4437-B54B-58789D787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82F1-4316-4099-A355-FB341B1D1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4469-B242-4E5C-B0A3-67258482F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659F-2912-47B8-B60E-F0E7C5DCF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D838-06C3-4296-B30B-4D5A9CF68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703C-0120-4F35-BBF6-10B307382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D7BA-5941-4A17-92EF-99A71F207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557A-6C2F-42A6-84B7-665322F29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0AB4-58F1-40C9-93CB-4C8792060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FFBF-FD8E-411A-9437-1B6C0F099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DEF4-9D6A-43D8-86DA-DA78665F8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2D94-5D3A-482E-9D26-848D843B6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188C-540C-484C-A6B1-26068B62B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9BD6-567F-4A2C-A6CE-40FA83F4D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64A1-7C1F-45F4-A0E6-5A76D94E7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DD64-E0DF-4798-ABA7-A6B7E4ADC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EE95-2507-4133-B637-F5A817287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2A66-9F87-4AF7-94CB-015A32507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1BC6-3F42-4BF2-9316-FDD942A45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A453-08C3-45CE-8A23-DF5A5488B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73F8-1A4F-492D-996B-011A3F720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F59C-E704-4BFD-B517-DF421A94C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8945-4C72-40E2-8F52-F3015FAC4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6C23-8FC8-4813-A8FD-4FD0478C9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565A-6943-4FD4-BDD0-B7E4CE125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EF8DC-36F3-45D6-84FA-A1F5B5869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BBB4-557F-487D-8561-73C6ED7D4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4B577C-511B-4FAE-9C54-EBE64A5AD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E348C-B68C-43CC-AAF8-F0F52CF3F2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C819D-43CF-4E2F-B00C-3FDB88E44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04218-C897-4093-ACC5-D8213D498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582D5-1110-4884-A066-BBB0519DE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3FC78-05A2-4496-898A-5FEEF0061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317E1D-AC2B-4251-A3FB-019000D58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6809C6-5777-4AF7-A94D-CAE16CD684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8C99CD-F164-4677-B903-E3B706814B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C2CD12-9278-4568-A4E0-372CD7EE78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82E91-F0ED-4C6C-BACE-D9AC977EB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FA7BC2-D2CD-45E1-B05E-5ED1212CAA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F69BC4-D0F5-4731-826E-2BAE644C0F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60E0D9-5E79-4257-906A-DCB7E9FB69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F3612-AC26-481D-934A-1D3F99C5AB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E8C75A-DEC8-4FBF-8956-8C2FE1CD25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19DB7-3D42-43F1-AA74-1DFE8F8D6C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9FB33E-EA19-432B-8040-E61B9ED834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AB44E-17FD-4CAE-9348-D8A5C33665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FAD766-FEC2-4EBB-9C69-DD7DC5742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04F8C3-8D34-483F-A881-A09B5B1CDB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99931-CD7E-40C4-94EE-87BA6479F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BAAE8D-B718-4F75-8EF0-DB5732716F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DFFCE9-F3BE-4D87-A01B-F93F494936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4F841C-C875-4ACB-9468-8122A5C926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B9EE4C-1BA4-44AF-A616-1189EE5812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AB2B65-ABAB-4BEB-B922-1ABCB9F905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F3A95F-6C1B-4410-B414-C0CD750217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53124E-BD5F-4FA5-818C-AF4DB8904B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0F2195-6358-4C9E-AD94-AF74225F2F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932436-FC8D-42E7-AB71-7FB0C49889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B9C9E7-BFB5-44DA-89AA-D713220294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B0B39-2BB0-46FD-8892-EB432EA19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F05F26-489E-4F4B-8035-84F2CD4679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20A51A-FC9E-49AF-A5C9-456624BD10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7B6AF9-FEBE-40A7-9317-C439C43FDA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321B63-2693-44AD-B3C0-61E5991902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237E98-717B-4A18-BFC4-DF5E755B56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F056BB-C7F4-4F26-B2C0-C4C0DE2AF0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3EAF80-752A-44A1-8EBC-5ECA691C4D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67342E-8567-4104-AFEB-402F96E50A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E04FF0-33CE-4FB4-A881-C6D0852D0E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B99860-4425-41E4-B4C1-9F25044E09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C9044-4F14-48F4-A885-B5A1D0F4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7FD028-64BA-4E90-A900-6BADB2FA8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23AC48-84AF-443A-81AD-E25904B982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4179A1-829A-42D1-B98E-FCDED9480A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1425F4-1E00-4F84-B540-6FB8B481A4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A75A44-5170-49BE-B836-E01E46D745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6F9C4A9-BF30-418C-BA93-D0143827806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4B3F3EC-CD18-4DE2-8084-E78EA9D956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FD8107A-A8B0-435A-A312-69F33C8C91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5F76039-33F4-4E42-8A9F-2B63D75BF9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1282C54-4F0D-4CF1-860D-802A85215F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DFA1E-7E97-4081-AE4D-FF923D382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BE92595-8CE7-4277-8C3A-F8DAB8055C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E64E505-A349-4C27-91CD-CA57BD0FB5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AAE735A-0CA4-459D-8034-877A2FB7E1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6E20E54-EA18-4DB9-A112-B8BBC4D40D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9C94320-EB9F-47E6-8DF4-1659A35BEA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EFF2901-8D9E-431C-A7D4-E5935DEE68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1BFF8D7-02FC-4132-980C-AFF7B625A0B9}"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B4C12-24F5-43AA-8C78-056130733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6B605-B140-411B-BB18-277518A2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90BF8-0E38-4484-BFCA-3EEBD23E0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BE221-FE33-434E-88BC-F85B289E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88145-90A7-4B8E-908A-CCD56238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B2A52-DEF1-464F-84ED-10E26A74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6C81C-F828-48DB-BAA4-A169C40C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1535F-4604-450A-B941-D3BAEBC08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1042B-5A4E-430A-8EE7-B8D905481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80953-9920-44B6-A8A9-49B54EA5E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9F0B34-5B9A-42CD-884F-82661BA6FC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10EDB-9B76-408F-B0FE-8E98A7895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A7047-25AD-49E1-BCF9-31BFE1822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246E7-58A6-4659-98FF-9CFEB2FF3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86389-DADB-4D83-8233-CAD5FF6A7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10C15-B5A8-4B37-824D-7D620D9E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97CBD-F0D1-4AAD-9FAC-409D4AF02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B2330-CD37-44C0-BACA-A1F212E47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FE0AC-C21F-4008-8493-6C9CA4133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A7992-B8E5-42E6-9CDA-E13EEDA13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39A60-828A-4986-9DEB-CDE9A8924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E2FEA2-2C00-4EFB-9C8A-E43513CB2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47A07A-FFDE-40AD-AA4B-580757854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70A7D5-3AA5-48AC-9BFE-E17DADF903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B80EA-AD4D-4C0C-B787-1200F4957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1D0CD-D929-4084-A32D-31626EC4A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4243-CB51-4586-A1CA-9F29BD6E0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1CBAF-B555-45B3-AE37-2CD69B13C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100F7-F725-4C11-8ED7-A80836C05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5DC47-2F81-424E-A689-D95E472EC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B19BD-77AD-4087-8AA1-D00DD409C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9249B-3347-4183-8D8E-ED830948C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A06A8-50F5-41D2-87A8-4F0EED968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C89E2-D99D-4FF1-BC9C-06C508E0B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97387-AAB9-4DC6-9093-CE0716949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C68303-A0D2-4C9D-BBC7-12F9B443E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5827D-0D07-4BAC-9A13-E2B77F6899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CC2B-EEA2-4866-99CC-61858B35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2C278-7E72-47D5-8E19-66156613A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EF207-AC36-4A98-B66D-A25C1660A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C067C-FB40-40BA-A0CB-600FDE377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F075C-1C38-4C8D-AB11-47EE96226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2AD59-34BC-4980-8AF8-18A501D9F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B3B29-45A2-4FBD-A174-D667D8FE3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FB4A0-0E15-4346-9374-AE3DA6F40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12F7B-EA76-4250-8835-8AA685559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4CA54-C57B-4798-8852-D31B96D60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D11988-12C9-4EC2-8967-A736B80226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C911-7286-4F75-B8E6-7708AA83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1ABD41-F9C9-4D55-AECF-1E620A0C0A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AC7AAD-D1E9-425A-810A-44F13D32CF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07CFA-F4C4-41B9-940A-E0825169B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CBD18-B499-4F84-9650-6540743CF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5E644-9971-4086-A8E1-D321AA9DA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A3DE2-FA62-4F69-92D8-D6A903F94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35E94-5374-4EAA-9CC7-0254C0909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E39B6-F554-4ECE-B4CD-513C2A167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CB18C-9EE4-4687-B7A9-F79060430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1C7C1-F2CC-45AB-9096-600C6E59E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8722F-0E6A-4FCD-8050-214A9820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77FF7-0E4A-4E97-8DA5-00780060D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B84A0B-31B4-41B8-A5B8-894F2FE58E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EBB1E-A917-4D87-BEB6-F58C640D3D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617EC-348C-4B68-BEAD-8BD1A81B7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B3E16-2A3A-477A-8F20-0362B691A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64A0AA-F717-4A7F-9DF0-7765DDF4C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2D786-C048-4EE1-8437-B29E15CF7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98333-2B89-4622-9EF4-2C50EB7CFC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83A50-3D9F-4C46-A5C2-414FC51C9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BD13D-8BFF-444F-B54F-6DF7131D4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D5D4-C865-4526-926A-0F98B791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EDE27-F5B9-47EB-80D8-1EB32F8F3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4EB01-EC43-46C3-B73A-74225483E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F32660-C2DC-488D-952C-87CE0FC7D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2CD35B-617D-427C-B363-F4F9F73110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43A0C-2A99-4A43-A606-0DDE318A1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DA527-792B-41D1-9058-4EFDC9882F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713469-F3D8-4039-AE5F-F32F3E4C0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D2CFFF-0E64-4133-A2DB-226B97FD4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87C55-D214-4737-8439-39952F93E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5E1E8-A7F3-4DF7-AF59-E3E81DABEF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75C2-E8E3-4DBC-9AED-7A3070D2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68B0D-BA64-482C-B568-5CA3F2388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A394D-13F2-4AC1-B1D4-FB22444F6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F3DE5-3214-4583-B455-3537AA040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DE8ED-E36D-4B22-8657-588098320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1BC73-C907-4427-9344-C15FAE4D93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D3E6E7-5D5A-49B8-BD50-5DDE3D6CD2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12E1C4-918D-4743-A092-FF3F8D103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7ACE93-2A58-418F-82F1-EA0B54740B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5CCFE-9F51-4A05-89F5-0CEF2908D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32A38-2BA6-4A25-AC05-11199BE151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89D2-B470-48FB-AE08-7C82A54F8BA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59B2-FA16-438C-84FA-707DE2A827D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2419-4819-4218-8310-6FDFE36A731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B5BC-6E5C-4D29-85D7-335ED4FA37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76D5-B651-491D-869A-9D94DEC60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4C22-7535-4DCA-9A97-A4653CAD24C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90E1-2BCE-478F-83F5-C7226183FB6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A932-2F01-4C41-BA87-382569158D0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1732-3083-4CA8-807B-57448097840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5D5E-11BF-4B95-8156-B081C80AB3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0306-928B-46DD-B6B3-457C5BD6A3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64B6-6DC8-4A6E-B08D-20640894FC9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8B77-33F5-45F0-9F22-AE4ED97780F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611280" y="1407600"/>
            <a:ext cx="820872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193400"/>
            <a:ext cx="82087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611280" y="1469520"/>
            <a:ext cx="8208720" cy="42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1280" y="1839600"/>
            <a:ext cx="8208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611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r>
              <a:rPr b="1" lang="el-GR" sz="2000" spc="-1" strike="noStrike">
                <a:solidFill>
                  <a:srgbClr val="000099"/>
                </a:solidFill>
                <a:latin typeface="Arial"/>
                <a:ea typeface="Arial"/>
              </a:rPr>
              <a:t>Σχολικός Σύμβουλος</a:t>
            </a:r>
            <a:br>
              <a:rPr sz="2000"/>
            </a:br>
            <a:endParaRPr b="0" lang="en-US" sz="20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81" name="Picture 9" descr=""/>
          <p:cNvPicPr/>
          <p:nvPr/>
        </p:nvPicPr>
        <p:blipFill>
          <a:blip r:embed="rId1"/>
          <a:stretch/>
        </p:blipFill>
        <p:spPr>
          <a:xfrm>
            <a:off x="0" y="0"/>
            <a:ext cx="9144000" cy="1368360"/>
          </a:xfrm>
          <a:prstGeom prst="rect">
            <a:avLst/>
          </a:prstGeom>
          <a:ln w="0">
            <a:noFill/>
          </a:ln>
        </p:spPr>
      </p:pic>
      <p:pic>
        <p:nvPicPr>
          <p:cNvPr id="882" name="Picture 10" descr=""/>
          <p:cNvPicPr/>
          <p:nvPr/>
        </p:nvPicPr>
        <p:blipFill>
          <a:blip r:embed="rId2"/>
          <a:stretch/>
        </p:blipFill>
        <p:spPr>
          <a:xfrm>
            <a:off x="1258920" y="2060640"/>
            <a:ext cx="1297080" cy="1528560"/>
          </a:xfrm>
          <a:prstGeom prst="rect">
            <a:avLst/>
          </a:prstGeom>
          <a:ln w="0">
            <a:noFill/>
          </a:ln>
        </p:spPr>
      </p:pic>
      <p:pic>
        <p:nvPicPr>
          <p:cNvPr id="883" name="12 - Εικόνα" descr=""/>
          <p:cNvPicPr/>
          <p:nvPr/>
        </p:nvPicPr>
        <p:blipFill>
          <a:blip r:embed="rId3"/>
          <a:stretch/>
        </p:blipFill>
        <p:spPr>
          <a:xfrm>
            <a:off x="6948360" y="1989000"/>
            <a:ext cx="1444680" cy="1573200"/>
          </a:xfrm>
          <a:prstGeom prst="rect">
            <a:avLst/>
          </a:prstGeom>
          <a:ln w="0">
            <a:noFill/>
          </a:ln>
        </p:spPr>
      </p:pic>
      <p:sp>
        <p:nvSpPr>
          <p:cNvPr id="884"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885"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
        <p:nvSpPr>
          <p:cNvPr id="582"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394920" y="977400"/>
            <a:ext cx="8497800" cy="526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250560" y="1407600"/>
            <a:ext cx="856908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611280" y="2053800"/>
            <a:ext cx="8208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19T17:42:32Z</dcterms:modified>
  <cp:revision>152</cp:revision>
  <dc:subject/>
  <dc:title>Παρουσίαση του PowerPoint</dc:title>
</cp:coreProperties>
</file>