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39"/>
          </p:nvPr>
        </p:nvSpPr>
        <p:spPr>
          <a:xfrm>
            <a:off x="388440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40"/>
          </p:nvPr>
        </p:nvSpPr>
        <p:spPr>
          <a:xfrm>
            <a:off x="-3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 type="sldNum" idx="41"/>
          </p:nvPr>
        </p:nvSpPr>
        <p:spPr>
          <a:xfrm>
            <a:off x="388440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2BA8-2B23-43A5-8DEA-E43D65BFDE6F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8EB7-D5C2-421C-B1A4-827FA86E2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C0EE-3BA1-4182-976E-9924F6588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8E0C-5E07-49CE-A715-E0B75E3EB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0F04-79D9-47CC-BA99-A2AE02818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7A30-435C-484A-9C75-C865B762B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C74A-9E04-4EEC-8E10-124926A66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4788-E156-49DD-85B1-5CDE94654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609F-E0BC-449E-9ABC-32EAF3BE7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570D-C341-44B6-AD5F-3A1FE8C19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B52E-E24D-4A1B-A95B-4EC6CB935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7B52-0814-4BC0-8AD5-982EB92E8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3C52-A7D3-4532-9CC4-30F627F22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E701-4581-4D04-9ECC-977952F2C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85BF-F090-458C-98F5-7566DD5BF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FDB1-73B4-46B9-9672-2A5381F19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7677-946C-4E88-B722-B0B4F31F4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0772-A305-420D-98C3-EF15D80B2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FC2A-C2AC-4BD5-9C1D-29DD22B4C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1221-EA26-4DD8-9033-705EAB87A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7963-47FF-4B61-9A1A-9B9A77D4E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B1A4-2084-47A7-9DD5-2CD1F30B7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A8EB-6AED-4A76-AA7E-74E608993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A0F7-622C-4409-8E25-C6420FCFC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F5C4-C518-4810-8868-743899BBA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CC2C-E88D-48EB-A5F1-3B50B1A1C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2425-4272-4A52-89A7-D8B0089E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403A4-92EA-4DCB-99D9-CB62680D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AAA38-4E23-43FB-A86F-2391F296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0410A-329A-4746-9B20-1E92E1C2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A96DE9-11E4-467A-9F08-ABE3701D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4761E-5EDF-4F87-8C79-469E69B8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16500-F2B2-4603-99E7-47A47EDB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D87C7-A265-45D2-9C8B-913EBF3B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EC611-3769-49E3-B6D4-AD806D0D5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571B2-7980-43AB-9EC7-83F33AF5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0D1DB-95A1-41F1-8501-7B90F9F6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0746-6B48-4A22-BEF9-69985A26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96D54-B053-4D22-87E1-549129EE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59999-F299-4260-A141-6D75AF7B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8BA53-BE77-47EE-9854-01DBA604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58894-682E-45EF-A426-AA359645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B28C5-22A6-4049-BAA2-ACED5F1C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C55EE-76E0-43CE-8441-D1BEDDD3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1D049-60D4-476D-831B-81F42A4A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A292E-1FD4-4F8B-8CEC-954B815D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A04AB0-99A2-495D-93EC-300003FB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43C0F-422C-42D8-AC71-A1E970ED7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5941-9FA0-43E8-938B-99155A0B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416A4-D1D8-4BE8-A5DD-ED9C1A624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9CADB-EA11-4B43-883B-4D5EC808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DE155-34EC-41E7-AE85-29DAFF4A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D6CAE-A8B7-43FF-93B6-F079A8C3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88739-3B05-46B2-8C69-EB5BAA49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F2BB1-4C91-4E29-B1DD-D3AA80BD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DB20E-1CE8-479D-BF77-01619296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7D472-7CBB-406D-98CB-4D058880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AFAA4-77FB-445F-BF0D-9D9F139E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82022-4972-48A7-A6CD-EE4BB11A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1D26-D528-47CF-98DA-84C462EA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D4CE0-B553-4DEE-B05E-65207DF0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18F85-131B-4968-B551-C60E5AB44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30844-B03F-457F-BBA8-DBBC5F2D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64398-41FE-418E-A8FA-5550D7A2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774A37-595E-4E1B-BC7A-26238EF9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0D422-4758-428D-8808-F04FD2AD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27F72-9479-4380-BE57-4E9006E4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3D91CB-0ABF-4847-96F7-8A879BE3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6B6D1-8B48-49FB-999F-F668FFE8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B8E62E-A70E-4E0E-BA33-A23A18D0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4124-826C-44D7-A1E7-07325494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94F14-4CE9-417B-A83A-D4A8AE28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84ED8-06FD-42C8-9598-6E3C67F0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1623A-8F73-43F7-A919-EE81E61C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64809-57DE-4444-A2FF-B45F95BD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E7C34-5294-4EB5-8642-6806A72D6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23B6EA-51D4-49A2-A46B-1D31879006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305CFC-3F10-4E2E-9D8E-7D007366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850DA2-3D7F-4B2D-91BB-3AC41C9C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786BC8-04CD-4243-8C46-DC8BAA56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DC49D1-848A-4795-BA4D-D47E4A755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5F14-963A-4460-86F1-D3395899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F2C269-AD0C-4578-AD8E-F61EAB97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63CF21-1A9C-4E13-B0FD-CF978806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49BB58-A715-415E-8CEE-87065302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0D2F07-4EF0-41FB-8284-A796B955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6DF7D4-2277-40BD-8163-35A33A54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6BD6E7-BAF2-4DB8-A100-AFC053F0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CF9052-BA42-4802-B824-C6CB0550DF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2FAC-52CE-4FB5-8095-0F1984C8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10CE-A11F-41AD-8FD5-51531C8F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9E45-57A7-4A7B-8E67-B1BA78EB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A709-5DB4-4529-A663-3EB3B4B2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E7BF-1BC1-4837-9550-92F2808F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AFDF-B636-414D-9530-66CE8F46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7B79-A9B6-4825-A036-FC2AE649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A3ED-C43E-49AE-82A7-BCB92D43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FC51-B60A-42CB-9607-92C0291DF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BDEF-8BC1-4817-8201-D399FA9FA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9FA16-C489-43FD-A97B-FF307E1BB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0EDDC-C909-4158-8FF8-952F8670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224F8-D544-4C24-98BC-F5124C81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D1475-50BC-48D0-B751-26D254CF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E9471-7B9A-4BD6-9471-915C50B8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C5AF-65BC-4277-82E3-725B2757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5B5CB-AA98-4042-9CC6-454A6233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6BC54-49C7-4CF1-8B46-7638776C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D5B69-BC6F-46C5-87D0-81436550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7A7FF-8981-4919-8512-E9C224FD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9413E-5DAF-4C8B-8FA7-C4B25257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67F3F-5610-438A-A832-992290F63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EC0A2-5BDD-4A13-94E7-2D4A5DCE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56E3C-1C8E-42DD-AE68-326E286B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25D6D-166B-433A-AFAF-1C6E94E7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9F8F4-10A8-44BE-9120-5BC53F4C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3688-A0BE-4BAB-AFA7-4BB65D1C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35397-2720-433C-B313-8BE80E50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A9602-8CED-4025-A9D4-579D1BF8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16E88-49E2-4640-BF23-0D876079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4A3D6-EF95-4735-ABC8-07EB9F38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7E066-34C3-4E66-ACB0-91F74635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424D7-5485-4262-82FA-CECE022B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FC589-0E34-496D-89D3-36520A05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6BE27-265B-45EA-8E20-66B6FA901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3F9A0-55EE-4116-A58A-44AC7946E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0BDD5-3FF5-4C31-8B28-B27B55EF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742B-81CD-4513-B7BC-300064EF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7A48E-22C6-4C6B-BAF2-5EA384B7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53612-1FA5-4BCC-9E4A-36529793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7C1B5-57CD-4CE0-9555-33D17E86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C1499-684A-4C01-BB93-32E376F9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E570D-BE6F-4B6C-A9B9-F052E5B0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8D298-E305-4CAC-B19F-2651D49D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A1DD8-A8DB-4A3D-9210-0B3E4E82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F7B43-3D32-4113-9956-D8D51A2E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F814E-C47D-4A79-AD11-83F8E70C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F8B7D-99A7-4533-A2D3-E3AFC763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553A-9F31-4EFA-A4E3-DE574F7C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2F0D7-179F-45B6-9266-897A8BE85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0D8D6-AFB9-4D77-8F11-34FC043A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C7DC8-0F91-494F-8BF5-90657B85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C2671-4D33-4F68-91AA-D7A50EB4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087D3-7824-4695-A834-63E7DD21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8654B-3B77-4981-8229-A91DDCC6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82096-FBA4-4A93-97A6-C2D5052B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95D9A-9BBF-4B7E-830A-4B1D25E7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0B543-987A-47B7-962A-0637067A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48C54-7F7A-406D-A94B-4861D05B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6828-9A90-43D6-A658-00E89684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A133B-DC88-4808-BA82-0BC82031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80826-BD99-4D45-A441-60F41411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E0D82-2785-4C2C-AFA7-90BBA33E2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E4301-4B42-4C95-BCDB-6B20A30C5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438F3-07B3-4C6D-BA46-9481D673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FB0DD-C946-4ED7-8525-D0A48445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63923-80FE-4FB2-891F-DA20AA12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D5080-1E91-409E-BACE-6F4A9C3D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223C0-EE4D-4359-B298-4B6A6A5E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2E24A-0A5E-4DF2-A219-1895BBB5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83DD-A35D-4542-9B57-0E8271EB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936D8-A262-4E41-9E29-2A45A6DF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6F490-B0DC-4150-8792-34ECDF96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57779-4BFC-4FD2-8113-22260264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E76C0-1DB6-4C3A-97C6-719620F32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5DAB2-139F-49F5-9AAA-A73D34E36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B2B51-FBF5-4F52-A152-CFEE5FD0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E6946-5EFE-474C-845D-DE248632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67531-D63A-4D3C-BA1D-80D7F304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2505E-D02B-41A2-B024-ABC8E2F0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DD1A3-AA04-4C32-813B-D931B509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410A-B001-461F-9F69-52105E82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A8691-D1DF-481A-A2A4-9B8C2DE2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38AB7-E5B3-4A0F-BC33-1DA793A5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7AF99-5F75-478B-9D90-C9923C1E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ECC37-1DFD-4748-BBE4-A5CBEE1B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C2D68-6553-4EF6-BC74-640323A1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52EEA-B9B5-47C9-ADD8-7FAC6D2A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10DF2-5C31-414B-B8A6-F1C2A50D7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B04DE-22A0-4341-BD45-0B7D257AB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E22FE-3A22-467F-A2F3-480145B0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EB9AF-2B6F-481F-8CF5-C68828CF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273E-290E-4198-9ACB-9F9531297D7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49BF-2CA0-4256-A2E5-A626978C12B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37F9-8C4A-470D-93C8-67E39AEE819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0945-49AC-4238-A1CD-9E2D87163BD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3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A60E-D415-47CB-8D1E-B2CACA6F7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C63A-B89E-4A5B-9E7B-F7FB7EE4392D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BA60-0160-4A13-B316-3C399DF4987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41A2-7EB4-4472-BFE9-4CBCE6D4CD7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15ED-24B6-419B-9AD3-9028C3A7FFA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BD35-53C5-4403-AD11-B8E7CE4ED03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1E7B-43CE-4413-B83E-BE8D35BDDD5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BED3-4073-4516-8B02-3D25CEF16DD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CDB7-339F-48A9-8191-76150DA9578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13 - Ορθογώνιο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Ακαδημαϊκού Έτους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0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-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1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14 - Ορθογώνιο"/>
          <p:cNvSpPr/>
          <p:nvPr/>
        </p:nvSpPr>
        <p:spPr>
          <a:xfrm>
            <a:off x="1332000" y="4437000"/>
            <a:ext cx="6875280" cy="13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15 - Ορθογώνιο"/>
          <p:cNvSpPr/>
          <p:nvPr/>
        </p:nvSpPr>
        <p:spPr>
          <a:xfrm>
            <a:off x="826920" y="5805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Σπυριδούλα Κατσαντών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9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0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1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5" name="12 - Εικόνα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3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Philip Whitaker (2007) μελέτησε τις στάσεις και τις απόψεις των γονέων απέναντι στ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ιδιά με αυτισμό τα οποία λαμβάνουν εκπαίδευση σε σχολεία γενικής εκπαίδευσης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αποτελέσματα της έρευνάς τους έδειξαν ότι οι περισσότεροι απ’ τους συμμετέχοντες γονεί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ναι ικανοποιημένοι απ’ τη μέριμνα για την εκπαίδευση των παιδιών του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22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23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Ωστόσο τόσο οι ικανοποιημένοι γονείς όσο κι η ομάδα των γονέων που δεν ήτα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κανοποιημένοι αναφέρθηκαν στην κατανόηση που το παιδί τους λαμβάνει απ’ το προσωπικ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ου παρέχει τη μέριμνα και η κατανόηση του παιδιού τους ήταν υψίστης προτεραιότητας κ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ια τις δύο ομάδες. Οι ανησυχίες για το επίπεδο κατανόησης αποτελούσε σαφώς ενδεχόμεν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ηγή στρες και αγωνίας και για τις δύο ομάδε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31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32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5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94920" y="139212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δεν φαίνεται να αναμένουν απ’ το προσωπικό της γενικής εκπαίδευσης να έχει εξειδικευμένε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νώσεις για συγκεκριμένες προσεγγίσεις στη διδασκαλία παιδιών με αυτισμό και εκτός απ’ τ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να θέλουν άμεση διδασκαλία για την ανάπτυξη κοινωνικών δεξιοτήτων, δεν φαίνονταν ν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ζητούν ουσιώδη τροποποίηση στη διδακτέα ύλη ώστε να ληφθούν υπόψη οι δυσκολίες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ετίζονται με τον αυτισμό των παιδιώ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4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41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4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λληλα, σε έρευνα των Turnbull et al. (2002) διαπιστώθηκε πως οι θετικές στάσεις απ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ονείς παιδιών με πιο σοβαρές ειδικές ανάγκες απέναντι στην ένταξη φαίνεται να είναι 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νόνας. 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4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5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Rectangle 1"/>
          <p:cNvSpPr/>
          <p:nvPr/>
        </p:nvSpPr>
        <p:spPr>
          <a:xfrm>
            <a:off x="0" y="162864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353440" cy="465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ια παράδειγμα, αρκετές μελέτες με γονείς παιδιών με σοβαρές ειδικές ανάγκες σ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ογράμματα ένταξης από την προσχολική ηλικία έως και το Γυμνάσιο έδειξαν ότι οι γονεί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υποστήριζαν την τοποθέτηση των παιδιών τους σ’ αυτά και εξέφρασαν ικανοποίηση για τ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ποτελέσματα της εκπαίδευσης, ιδιαίτερα για τα κοινωνικά οφέλη (Gallagher et al., 2000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line &amp; Halvorsen, 1989; McDonell, 1987; Palmer, Borthwick-Duffy, &amp; Widaman, 1998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58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59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φορικά με την ικανοποίηση των γονέων από τα εκπαιδευτικά προγράμματα παρέμβασ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α παιδιά με ειδικές εκπαιδευτικές ανάγκες στην διεθνή βιβλιογραφία, παρατηρείται υψηλό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βαθμός ικανοποίησης και διατυπώνονται θετικές στάσεις και απόψε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McNaughton,1994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William et all.,1995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67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68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1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3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γκεκριμένα, σε έρευνα που πραγματοποιήθηκε στον Καναδά και μετρούσε τον βαθμ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κανοποίησης των γονέων για τα προγράμματα παρέμβασης, οι γονείς εξέφρασαν μεγάλ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κανοποίηση και δήλωσαν αρκετά ευχαριστημένοι από το εκπαιδευτικό έργο που παρέχεται στ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ολείο του παιδιού τους ( Falbo et.all,200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76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77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0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640720" cy="48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λληλα ,σε άλλη έρευνα, που μετρούσε την ικανοποίηση των γονέων σχετικά με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οιότητα των εκπαιδευτικών υπηρεσιών, βρέθηκε μεγάλος βαθμός ικανοποίησης ο οποί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νδέεται με την αποτελεσματική επικοινωνία του σχολείου με τον γονέα ,καθώς και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παρκή πληροφόρηση των ίδιων από τους εκπαιδευτικούς(Bailey et all., 2003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85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86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640720" cy="48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πό την άλλη πλευρά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άποιοι άλλοι ερευνητές ανέφεραν ότι μερικοί γονείς παιδιών με σοβαρές ειδ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άγκες δεν είναι υπέρ της ένταξ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Palmer, Fuller, Arora, &amp; Nelson, 200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94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95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8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ρευνα που έγινε σε πολιτεία των ΗΠΑ (Mandell &amp; Salzer, 2007) έδειξε ότι οι γονείς παιδιώ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 πιο σοβαρές αναπηρίες τα οποία συμμετείχαν σε τμήματα ένταξης, ανέφεραν αρνητ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άσεις η εμπειρίες ως προς την τοποθέτηση των παιδιών τους, καθώς οι υπηρεσίες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έχονταν τα παιδιά τους στο περιβάλλον γενικής εκπαίδευσης χαρακτηρίστηκαν αδύναμες κ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εδόν ακατάλληλε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03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04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7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63640" y="1391760"/>
            <a:ext cx="7596000" cy="239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Απόψεις Γονέων παιδιών με ειδικές εκπαιδευτικές ανάγκες για την ένταξη των μαθητών  με εεα/αναπηρίες 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4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5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Rectangle 1"/>
          <p:cNvSpPr/>
          <p:nvPr/>
        </p:nvSpPr>
        <p:spPr>
          <a:xfrm>
            <a:off x="147636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  <p:sp>
        <p:nvSpPr>
          <p:cNvPr id="556" name="10 - Ορθογώνιο"/>
          <p:cNvSpPr/>
          <p:nvPr/>
        </p:nvSpPr>
        <p:spPr>
          <a:xfrm>
            <a:off x="1332000" y="467532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Παναγιώτης Ν. Μαντά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Άλλες ανησυχίες που αναφέρθηκαν από γονείς παιδιών με ειδικές εκπαιδευτικές ανάγκες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μπεριλαμβάνουν ανησυχίες για λεκτική και σωματική κακομεταχείριση από τα άλλα παιδιά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οινωνική απομόνωση, και απώλεια ή μείωση των υπηρεσιών και της ποιότητας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ίδευσης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Donnell, 1987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12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13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6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Rectangle 1"/>
          <p:cNvSpPr/>
          <p:nvPr/>
        </p:nvSpPr>
        <p:spPr>
          <a:xfrm>
            <a:off x="971640" y="184464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9640" y="1392120"/>
            <a:ext cx="835344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Palmer et al. (2001) ανέφεραν ότι οι γονείς ανησυχούσαν ότι η σοβαρότητα της αναπηρίας του παιδιού τους εμπόδιζε τα οφέλη που θα μπορούσαν ν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χαν από την ένταξη, ότι η ένταξη θα μπορούσε να εξουθενώσει τους εκπαιδευτικούς της γενικής εκπαίδευσης ή τους μαθητές, και ότι το παιδί συμπεριφορικά ήταν υπερβολικά διασπαστικό και θα μπορούσε να πληγώσει τους άλλου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όμοιες ανησυχίες από Αυστραλούς γονείς αναφέρθηκαν και από τον Jenkinson (1998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21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22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5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71640" y="126828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 τις ανησυχίες που εξέφρασαν κάποιοι γονείς, σε έρευνα του Philip Whitaker (2007)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εωρήθηκε εξίσου σημαντικό για τους γονείς το γεγονός ότι το προσωπικό θα πρέπει να έχε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άποια αίσθηση για το τι βρίσκεται κάτω απ’ τις προκλήσεις και τις δυσκολίες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ουσιάζονται για το παιδί αλλά και κάτω από τις εμπειρίες που αυτό βιώνε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3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31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Rectangle 1"/>
          <p:cNvSpPr/>
          <p:nvPr/>
        </p:nvSpPr>
        <p:spPr>
          <a:xfrm>
            <a:off x="10429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496000" cy="48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ην ίδια έρευνα, σημειώθηκε πως υψίστης προτεραιότητας για τους γονείς ήταν η ανάπτυξ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οινωνικών δεξιοτήτων του παιδιού του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διαφοροποιούνταν επίσης ως προς τ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ιλοδοξίες τους σχετικά με την κοινωνική ανάπτυξη των παιδιών τους και τις σχέσεις τους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υς συνομηλίκους του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3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4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4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78920" y="981000"/>
            <a:ext cx="8496360" cy="48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ενικότερα, αν και υπάρχουν πολλά στοιχεία που αναφέρουν ότι οι στάσεις των γονέ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πέναντι στην ένταξη καθορίζονται από διάφορους παράγοντες, δημογραφικά χαρακτηριστικά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κοινωνικοπολιτιστικά πλαίσια (Sigel et al., 1992)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Stoiber (1992) αναφέρει ότι οι στάσε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οι αντιλήψεις των γονέων παιδιών με ειδικές εκπαιδευτικές ανάγκες για την ένταξ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νήθως βασίζονται σε δικές τους προσωπικές εμπειρίες και τείνουν να χαρακτηρίζοντ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ετικές και ικανοποιητικέ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48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49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3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63640" y="907560"/>
            <a:ext cx="759600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Απόψεις Γονέων παιδιών με ειδικές εκπαιδευτικές ανάγκες για την ένταξη των μαθητών  με εεα/αναπηρίες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Παναγιώτης Ν. Μαντά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57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58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1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2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3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14 - Ορθογώνιο"/>
          <p:cNvSpPr/>
          <p:nvPr/>
        </p:nvSpPr>
        <p:spPr>
          <a:xfrm>
            <a:off x="395280" y="3573360"/>
            <a:ext cx="8137440" cy="24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0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767" name="12 - Εικόνα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768" name="5 - Ορθογώνιο"/>
          <p:cNvSpPr/>
          <p:nvPr/>
        </p:nvSpPr>
        <p:spPr>
          <a:xfrm>
            <a:off x="611280" y="59500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Παναγιώτης Ν. Μαντά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6 - Ορθογώνιο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1392120"/>
            <a:ext cx="799128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όσο στην Ευρώπη όσο και στις ΗΠΑ κατά την τελευταία δεκαετία, η νομοθεσία έχει δώσε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μφαση στα δικαιώματα των γονέων ώστε αυτοί να εκφράζουν τις προτιμήσεις και τις απόψε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υς και να κάνουν επιλογές όσον αφορ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ν τύπο του σχολείου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 μέριμνα που γίνεται για να διευθετηθούν οι ειδ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ές ανάγκες των παιδιών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5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6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εμπειρίες των γονέων και οι αντιλήψεις τους για τη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νταξη  επηρεάζουν σημαντικά τη διαμόρφωση της μελλοντική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έριμνας για τα παιδιά με ειδικές εκπαιδευτικές ανάγκες και ιδιαίτερα την έκταση και τη φύσ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ποιονδήποτε περαιτέρω κινήσεων προς την επίτευξη αποτελεσματικότερης ένταξη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68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69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παίζουν σημαντικό ρόλο στη διαδικασία της ένταξης. Σε πολλές χώρες ο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ταρρυθμίσεις και οι κανονισμοί που αφορούν την ειδική εκπαίδευση παρέχουν οδηγίες γι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ν ενεργή εμπλοκή και συμμετοχή των γονέων στην εκπαίδευση των παιδιών τους ενώ κατά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ις τελευταίες δύο δεκαετίες έχουν γίνει αρκετές μελέτες που εξετάζουν τις απόψεις και τ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ησυχίες των γονέω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77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78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θεωρούνται οι πιο κατάλληλοι αξιολογητές τόσο της εκπαιδευτικής διαδικασίας όσο και των εκπαιδευτικών υπηρεσιών που δέχονται τα παιδιά τους από τους εκπαιδευτικούς γενικής και ειδικής εκπαίδευσ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Jinnah&amp;Walters,2008). (Lindsay&amp;Dockrell,200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86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87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42560" y="1484280"/>
            <a:ext cx="7596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οσδοκίες και οι απαιτήσεις των γονέων ως προς την εκπαιδευτική δράση και τ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ές υπηρεσίες που προσφέρονται στο παιδί τους, αποτελούν τον βασικότερ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γοντα για μια επιτυχημένη εκπαιδευτική διαδικασία(Lindsay&amp;Dockrell,200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95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96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50920" y="1197000"/>
            <a:ext cx="8642160" cy="458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τρέχοντας σε παλαιότερες βιβλιογραφικές αναφορές, έρευνες έχουν δείξει (McDonnell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1987; Ryndak, Downing, Jacqueline &amp; Morisson, 1995) πως οι γονείς παιδιών με ειδ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ές ανάγκες διατυπώνουν γενικά θετικές απόψεις και αντιλήψεις προς την ένταξη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04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05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50920" y="1197000"/>
            <a:ext cx="8642160" cy="458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ε σχετικά πρόσφατη έρευνα που πραγματοποιήθηκε από τους Leyser and Kirk (2004) βρήκ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υψηλότερα ποσοστά υποστήριξης από τους γονείς παιδιών με ήπιες αναπηρίες σε σύγκριση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ονείς παιδιών με πιο βαριάς μορφής αναπηρίε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13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14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34:10Z</dcterms:created>
  <dc:creator>Maria Petmesidou</dc:creator>
  <dc:description/>
  <dc:language>en-US</dc:language>
  <cp:lastModifiedBy>user</cp:lastModifiedBy>
  <dcterms:modified xsi:type="dcterms:W3CDTF">2021-02-18T21:56:57Z</dcterms:modified>
  <cp:revision>151</cp:revision>
  <dc:subject/>
  <dc:title>Παρουσίαση του PowerPoint</dc:title>
</cp:coreProperties>
</file>