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2261-EF74-4F77-9892-30375A33C2F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3BB5-364E-4730-90AA-33ACE1BD2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885E-2C4D-4D6F-879D-9DFD0589D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8EA8-DD22-480B-930A-8BCEB58FC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CAA1-190A-4D01-A56F-B0B5D765A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5045-90C4-4095-B1AD-0CEB0AA94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1896-27F4-45FF-8BAE-641932516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0A0A-4F75-4FC4-BB77-48097413D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6906-A1BF-4E84-94B9-AA8483362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D112-0B45-4138-9EEA-1B45A821D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5D65-560E-4EE1-BF4D-E2707A9F3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E706-B3A8-49F6-9894-FC9A58614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30D2-9E06-4FBF-9C1D-224D6CCF8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1843-D2EF-4982-8215-BDC12A830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A13F-B291-445C-B2A5-E1472E2B8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D015-CB06-442F-A3BE-03FDED554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2335-A9EF-42EB-863C-7B5F9C731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0C08-0238-45EC-9B7A-8939C7B28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F0E1-5CED-4291-85BD-46272459C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DCB3-195D-4661-92BF-5D7E3FBCB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55F2-A270-4018-965C-AEFEE89BE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425B-5894-4DBC-829C-A0FE05ABC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7585-7578-4687-9A0B-D59BEFDC1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A998-678A-4AC0-AADA-B5BBCD002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0C3A-9012-4204-AF28-6ACD82808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5D5D-1B29-44C1-925E-51F84CF52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8405-82DB-4865-8070-F601A4AA3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9093-C3DA-4A89-9AFE-9621A3C0F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3121-34D3-4ADF-B340-D887C4680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EE37-1920-47A0-BB9F-BA942742A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66BC-B0DF-49BA-89A5-1AB4A7443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8CDA-EAD1-422C-97D7-32653EC60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40E4-70A8-423D-9B8F-EE2132DDE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DACA-542B-435B-B70B-28BD2474B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F186-EFB8-47DD-B532-BCD0BCE5F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F26-9209-4C25-8552-02A5B41FF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E7F9-C869-4614-AC4E-EFED5FAC8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E3B9-92B8-4C57-B212-2DB9204AE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B322-560A-4D50-ADE0-5C4EDE091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A083-3F81-4DA6-AC87-6CD8E9308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F24B-3A2C-4A51-AC8A-B443BE7BF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29DB-1196-4ED8-ABD7-F8F0ECD4B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4472-85F8-4710-A70C-F8375741E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951A-D50A-4A38-A8D1-ABD887C1E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CDC7-C288-46DE-B620-29F72CA70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C8EF-6AEC-4C6D-8054-19075959F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6869-7603-424A-96E3-C2F604C26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233C-E216-4992-9F74-DF9D9D7D5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A87A-7920-4C3B-ACA9-5AD2B566B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9C12-1920-4FE2-A138-0237B8087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94A6-F874-4E72-9C78-7D1EAF707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D210-187A-4049-BD98-4D9619533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6D6D-FEC4-42AF-96A9-B64947DB3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1A2D-51A3-4B77-AAFA-A170E0E50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41C6-0CE7-4794-8BEF-EF13DE439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D4FB-A68B-44A0-A188-33EF6AD6E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45CC-D881-46C3-89AD-67CE4A20A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EB03-9D6F-455F-B303-25FB731DD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7996-98E3-453E-823E-02E98B697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2E96-E8D3-4A6E-B139-760CA88C9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82FB-38C2-4CFB-8A87-41B51EB1D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FDB4-4D5E-4577-AB27-E3779604F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5EE1-0B09-4DC4-A237-8F7671917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7CB7-A2A7-436B-9A65-BE1B8518E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1999-186A-4384-BF7B-CF9E68124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BC35-C619-48C8-A4A2-C74B909E4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705B-1A86-4286-BDA5-7D90FAAC7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B652-97AE-4AB4-B844-834EDCEA9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751B-FE29-4F5F-B494-FDD0266A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7012-5065-4EF6-8019-138947E1F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71842-AF31-45C4-A6D4-A0A6B9B20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BE87B-D1CD-4099-9690-BB1DC4BD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E486C1-AEB3-46C3-A20C-86467A9A3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B10C2-8129-4A61-8DFC-8856758EF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9E33FE-6F71-4733-AFC7-32A8A76E0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D1A0C-91B1-44E8-AA81-952DC8FA1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8EC03-C959-4CD8-B3F2-F4738E3B9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BDF53-0A2C-4FDB-91AD-8246D1503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8216F-6E43-4ABF-B910-55CF833E5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FBF16-BEDB-43E3-9824-B7F1F82D62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7EFF30-1334-439C-B926-79ECCC69EA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546984-1DCA-48D8-AA0C-8D86072EB9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18F9A-1102-42DE-A5FE-10EC30724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6B7C4E-F1EC-4984-A980-DCB5DEE26C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9224FA-5B1F-4A45-A1B1-510EBBEF72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CF2A4E-A598-4639-BB63-5D297692D3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012DE9-3CB2-444D-AC3F-CB71935377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8E0F9E-4309-4784-AAF9-40E9F795BF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CE16A8-C9ED-449F-A7AD-EC8FE40DB7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8CE1A4-EE41-4D84-9AA5-0BA995129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8F06DC-BA7E-4E97-B02D-1FD25D9B38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09E6D1-8390-48FC-A078-CFBEC88EDB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27BFD3-9B13-4C8F-A8D5-DE68AB2943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25783-8CA2-41D7-A8B1-CDAE9508F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65F2CC-96C1-45E4-9C21-225553D565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177998-E194-48BA-818B-AE5D1CC664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762998-7602-49AE-BAFD-A2BE9095CA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6D2B55-CF72-4A78-B713-1F68E8466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478C35-4DF7-447D-8592-296C22F339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367439-257C-4288-932A-2E2DB4E2DE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86A2C3-BC2C-4ABC-9140-4481840606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BA5F04-225F-41C6-B6E7-6E312532CE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42B043-6F60-4D51-A539-EF9C4C46AF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265733-6BEE-4A18-958F-2968816412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EBEDA-C62E-4352-9E4A-8C99CF305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CAC8E0-8228-4517-86E5-F4C2C15C6E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F49FE5-008B-482F-947B-F705492E38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D6A449-3B7B-4150-97C1-EBF72FA6FF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C76B15-2EB0-4472-BA9A-D44FDD3509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05A88A-F6D2-4DCD-BB08-5AA02CEDB1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C7222D-5172-412D-8386-04326ABF94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D70343-F94C-4B3F-8263-7CA454439A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9B3024-1244-4DA6-8AC9-BC9003F5BD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9D98AB-AC37-4234-A7E3-34431EAA29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6F3253-89AA-4F87-8020-8631E48514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6FEE7-4438-4224-B38D-3316929B8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9ED008-6C8B-4C0D-B1A5-3C6C6B932C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FF2522-40A8-4C11-A667-A9A1B07FAE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FEB969-AD1F-43F4-A016-C801C870B5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43ED8A-E0D2-4E07-9D2A-F6F7E7D985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B97938-74B1-4EA6-B4E9-78722DD106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55C578A-0861-4829-AA90-16BA0EF70F65}"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7904D9D-67BA-4D8E-8C12-859857F66F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49288E6F-BC2F-4B12-BF18-3E583E95B7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96DEE15-9859-436D-9C0B-2C2FE22335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36358E39-3736-4E28-A5A0-796D577EDC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3CEFE-DCC5-480D-BA8F-F57AA4C2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D5F453D-715A-43FA-B2C0-32A0FCB5FC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81528EF-74F4-4633-825F-4D1437F0DF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275A665-C689-47D8-A1BB-AE5FDB96C4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BC61952-EF9B-4034-A556-181E9A6B96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CECF4A6-7145-4C3E-9D07-78077B4A5E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C9B8078-1FEA-4B52-A3A4-4DA752A155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5C9628A-C21B-4FEB-AE1C-97A6695B00B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8B885-6FD3-4092-BAFE-F530B0300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7DCF3-3D73-4D6E-8633-1788B89BE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C5A05-61B7-46A6-BDB2-15114AD98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2DA6-59D5-4538-BFD7-8EDC6172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49957-AF81-4C0C-B7C3-17423F8E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EC6A7-D8FC-4395-B840-ED1AE4992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D944B-83C4-4A07-A84B-E406459D0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E6612-0EF1-416C-958F-DA40A2A8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BB74B-6E5D-40DB-B654-8C61012F6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657F2-0C18-4324-B61E-452BAFA5D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3EF54-953E-4EEA-8FF9-2A8C5EA67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D2BEF-19AF-41C8-A576-5726BD2BC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899B8-FCB3-4118-990D-6335B9BC3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8D985-FBFC-4DE9-BBE9-7FD5B5D74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CD6C1-D62E-4A6F-ADCF-898B47172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E679A-6F7B-4C2F-85EC-3FE479B3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2B519-5775-4A71-A1B2-293DC24A8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D15B6-A3D8-418F-A039-607486159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DD12C-7FDC-48AE-9C5D-D1F7329A0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42584-9D8E-4FC8-92F6-0D86F31D3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41E0A-F86D-464F-809C-0AB1ECAF8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9ACC1-6681-47FB-A3A6-44E14A3F7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7D2D1-EF41-49CF-9A1A-B7240D3EC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3F5650-15AD-428A-B918-63869F81D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BCBC8-B25D-4098-AA7C-ABE9055F0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61CF8-743E-4524-8DF8-8DF9E8453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A1DC-89E0-4241-87DA-86CFE244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CB3FB-54F9-4791-B1FD-E2E0F794E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F3821-C6C2-4790-99AC-BE3AC7771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6232D-7021-4451-B9CF-184B32BC1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1F0D9-CFC8-461A-97DC-032920977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90B6D-0B3F-4004-BCA3-B6642261F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40203-42DE-4293-BE6F-BB3038876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C4738-1A58-419C-80BC-2443AD7FD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CD05D7-7E33-4D4D-8949-88C072EEF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E028E1-E0FF-4E0B-A164-A349C5E26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20636D-765E-4370-B6C1-03BA220E31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2E17E-8631-408B-A63E-CE6EF39B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A29BE-88A1-48B0-9838-4EF7D66F1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76FE0-ED21-4929-BA6D-A8DDA6A47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9F465-4AD8-4FF1-BE66-038C7CB1E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682C5-611E-4C87-8572-47DA60ACE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72907-C5B2-4CE5-BF6B-3060F182C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8931E-4590-4646-AF30-2FB16EBEE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996B1-D074-45B9-9F56-D99F54C2C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C7581-9F10-46F3-8E09-9C3CF9D01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15775-F81B-485F-98EB-E11D32F07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BA205F-E034-4856-A817-C732DEC1D4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CBD23-661C-42C7-A7B6-B215EFA7F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81C6A-83A8-4FB0-A513-78919AF52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CCECA-1BCA-430A-B0B0-BC22256ED1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0AB76C-146C-414C-A982-EFDDD7EE8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585FE-FE28-4D91-B5F0-3A0CCCB8C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4155F2-4871-486F-905C-0106977B53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51538-B583-4595-8447-1D1AA7AA9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F84B0-2622-43CF-BCE8-91355ACF8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08D78-AE16-42C5-8ADB-B186A58E4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4902BD-D235-4C85-98EA-35CFD9493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D3B58-CCB9-4F5F-B7CE-6BCC647E6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A7EB-4417-4740-8DD9-4D097F5A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EF238-B01C-447F-A6B8-10F911E69F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AC3583-7224-458B-AD72-E350087EE7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AA121F-9242-41CC-A65A-1F1078B22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E152D-BBDC-45C1-813B-3E6026DD3C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E727C-C6E9-4A8E-9985-7D5F456023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A27FE-3FFB-4297-AFC2-391482558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D151E3-8EB9-4F4C-96D9-6203D543E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BC22C-4773-4C1F-9543-AA233A154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9C0DDC-A264-4B35-A42B-CB48CF3CC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DFE57-702B-4853-AD60-FB82D6AE0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F837-8BCA-4A54-B547-291D9B577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21F09-4625-4483-B6EE-A9D65EA85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2B45F-CF4D-4681-9A9D-87630FBEF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8106D-540E-4045-9ABD-C352F2DF3A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A6BD5C-9E73-4402-AF25-60B7DF1E30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257C0A-D00D-4DA3-A699-6917F56FAE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582B9C-44FC-4C45-AF3C-38C35E3622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DA716-BF62-4E33-BCEE-F8832BFDFD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BE723-EF9E-4064-8627-6143A93882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EC4792-5A93-4F77-AF4E-E7B399CFB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E4E443-1B76-4D08-B7F4-58D6538F0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8D4D-18B3-4EDF-AD3E-404E17CA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74545-80CA-4AB7-83D0-2BBA8B8D29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D959B-515F-4932-8459-339122151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4EF02-D494-461B-B0FF-F2972261E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241E5-F337-4748-9005-2FF0300CD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52971-5B76-4966-8233-36BE5C41F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FEFD9C-68D8-456C-9FD0-CBEF271FEA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619A18-8521-4A72-8F55-B799E7BAB5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3527E9-F263-48E7-B3E4-DFC3C78599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CCABF-E48F-49E8-89C1-73DE999F49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83224-E232-4E4D-9932-41A45E4C8A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4CE9-9EEF-4A34-ACD1-E5B3897F515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CB15-9CD9-4B9C-AF25-2FE63155545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3A78-D0E7-48F2-81AC-E6664637D04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C31B-639A-4031-B940-187FECEEFD0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8D65-E964-4970-A107-FDB77DD40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6BDF-598A-4DDC-9658-1CB6782FC4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EFFC-E437-4E53-B258-7F5347BFD0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DFD9-9FF7-4671-9FA2-E2B41F8DEB1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296B-52B4-44B3-929C-4D335DF6C0E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8382-9E0B-4E60-AE37-88EFDFF7CD2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145D-ACBF-49CB-B7FC-BC7BF3BFBB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8F16-A365-48EF-ABCE-136CAB5E0CF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734A-8476-4147-A271-C42890047F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125000"/>
            <a:ext cx="7812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26560" y="1125360"/>
            <a:ext cx="799308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981000"/>
            <a:ext cx="864216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80720" y="1392120"/>
            <a:ext cx="8783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50920" y="1052640"/>
            <a:ext cx="8640720" cy="46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611280" y="1989000"/>
            <a:ext cx="827712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2800"/>
            </a:br>
            <a:br>
              <a:rPr sz="20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69" name="Picture 9" descr=""/>
          <p:cNvPicPr/>
          <p:nvPr/>
        </p:nvPicPr>
        <p:blipFill>
          <a:blip r:embed="rId1"/>
          <a:stretch/>
        </p:blipFill>
        <p:spPr>
          <a:xfrm>
            <a:off x="0" y="0"/>
            <a:ext cx="9144000" cy="1368360"/>
          </a:xfrm>
          <a:prstGeom prst="rect">
            <a:avLst/>
          </a:prstGeom>
          <a:ln w="0">
            <a:noFill/>
          </a:ln>
        </p:spPr>
      </p:pic>
      <p:pic>
        <p:nvPicPr>
          <p:cNvPr id="1170" name="Picture 10" descr=""/>
          <p:cNvPicPr/>
          <p:nvPr/>
        </p:nvPicPr>
        <p:blipFill>
          <a:blip r:embed="rId2"/>
          <a:stretch/>
        </p:blipFill>
        <p:spPr>
          <a:xfrm>
            <a:off x="1258920" y="2060640"/>
            <a:ext cx="1297080" cy="1528560"/>
          </a:xfrm>
          <a:prstGeom prst="rect">
            <a:avLst/>
          </a:prstGeom>
          <a:ln w="0">
            <a:noFill/>
          </a:ln>
        </p:spPr>
      </p:pic>
      <p:pic>
        <p:nvPicPr>
          <p:cNvPr id="1171" name="12 - Εικόνα" descr=""/>
          <p:cNvPicPr/>
          <p:nvPr/>
        </p:nvPicPr>
        <p:blipFill>
          <a:blip r:embed="rId3"/>
          <a:stretch/>
        </p:blipFill>
        <p:spPr>
          <a:xfrm>
            <a:off x="6948360" y="1989000"/>
            <a:ext cx="1444680" cy="1573200"/>
          </a:xfrm>
          <a:prstGeom prst="rect">
            <a:avLst/>
          </a:prstGeom>
          <a:ln w="0">
            <a:noFill/>
          </a:ln>
        </p:spPr>
      </p:pic>
      <p:sp>
        <p:nvSpPr>
          <p:cNvPr id="117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7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7:51:08Z</dcterms:modified>
  <cp:revision>171</cp:revision>
  <dc:subject/>
  <dc:title>Παρουσίαση του PowerPoint</dc:title>
</cp:coreProperties>
</file>