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CBA7-F69E-4519-AED8-D5C256E691C8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1D3E-9D9A-41FC-85F0-9E876BBA5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EAE0-C7DF-4142-970D-75FBC09BD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D435-E3B6-4ABE-9FF0-97A597D23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C8DC-51E8-443E-809D-EB4646863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D462-13C3-433C-9EC0-0357220D9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2060-BBE4-4535-BB72-F00B7E6CB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D367-5B1A-4170-BFAD-B22E83806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1B8C-1AD1-4E45-9DC3-7CAB1CC1D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674D-C7B4-4216-8689-E7C2E37AA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B70F-9DC5-4A6E-A401-923E6CE34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339C-3D21-4D70-B9E8-9F2B8DD08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880-9A98-4644-944C-C8874221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7AF-0394-42DF-AB09-CC61043A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40112-16BB-4768-BD3C-C244D2E3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0CA52-5E3B-48BB-A1CE-53829B6D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E8D26-B170-413E-A5A3-D580E5F9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9FB00-C863-4855-866A-50B4C98A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6F475-8AA0-4688-8A47-1016E7F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14023-A1C4-4FE2-9483-676E9EEE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CFAB7-4F3C-426E-842A-24E51551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0C83C-4681-4732-83B7-90408625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1CB87-C867-4309-965A-77A1062A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FCBFE-FF2B-40C5-8F41-FF06540F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1C8-6052-4771-80A1-90FC630F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988E3-95D8-4902-8BCE-AFB54F4E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BEC72-B204-4F6A-A0C1-BEECB2C4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A7066-3EDA-49B6-A9B4-4A922917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D47DC-3487-47CF-9448-E7A399F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A931D-F025-4B33-9CCD-6EEFEBB0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B617E-FB61-4E8D-B21C-BAA5069F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7C521-B178-4624-981B-E8A4BCA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57570-2B5C-477E-9975-CC8850C9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4A55F-9BCE-44CE-A6B2-B1AB627D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461A3-F693-44DB-BD67-DA40CBD0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590-6513-4B85-B994-E88729E6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92372-D4AA-42D5-866E-1B099E61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7542E-9AFE-4C78-A2EC-EEAEFAA4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D67F8-4822-455C-995D-9FA6C27B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AC596-2168-46B7-B24B-66E3C7D9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9A950-B362-461E-8BFC-1C6C7CF5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0276C-ABE5-4087-8937-0C5CCDF2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3CD35-4A9A-46B6-AE5E-7BC87DA6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8949D-45D0-4E92-AB96-262DF253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63D4D-7CAC-4B1C-ABDB-27C604E3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D355A-81DF-4A25-83FD-2B34CE27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5D32-F149-4168-AAAE-DEF69211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50466-5BB2-4229-8E64-EE44CE9C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1AFF9-DB45-4C1A-B98A-7BC01D6D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4D43D-3FF8-4AD9-B3D2-ED36A1CB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A5680-4A05-416A-A3B4-C0B21B1A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7F737-0C8B-4504-B834-DEB11B7A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35209-6299-431D-9174-7557ABE4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EFA66-0CC0-488F-B14A-A9ED0862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36E4C-F410-4CF5-B386-E6C731A1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5919D-75CD-4443-82BD-E482208B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EAC66-C93A-4321-BAA0-2180E693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F19C-5963-4247-B9CF-DF5B3D2E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66A72-AB73-4D8B-979B-AD07CFE7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BB121-E013-4B64-8C37-CCDCD4E7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856EF-7113-464C-B373-D7E420E1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F881D-4736-4AB5-B83D-ACE748AE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2961B-F305-47D3-9AC3-CA4C8478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A9DC4C-A0FD-40F0-BA33-9EAF0A69B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8E008F-D2BC-4FE1-8741-D8DD59C1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084390-620A-44DB-A1DD-517E11A9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EB6FC5-F0D1-418F-A755-4F6239A6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1DBA73-74D2-4E2A-A457-56CE6BBF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D327-4356-4A7E-A26C-28C86ABD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EC6179-1D73-4D51-8B0A-782C9D41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EA05CD-8153-487F-85A9-545C43B5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27B6EC-3466-4A87-A607-813622F8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16F4D2-E5A1-436C-9B1E-F8A81FB9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7F6503-9AE5-4B60-9AEE-D9B3BC4B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7540BE-CD0F-4699-ACE9-73D7E802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538A53-8C94-45AC-9E22-E2ACF2D71E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81FF-F414-4739-A17F-C64C72B1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A6F7-F3CC-490E-A14A-09F5AEF7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52F1-0514-4E28-91C9-1373F4D5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C4AF-289C-4E01-BE40-F1CA65BB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1DB-BC41-40CE-BFD7-BCBBC61C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C79A-1ECD-465D-85BF-91221194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BF68-DBEF-4C73-AD5F-2FB169C7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81B2-F340-475C-BB85-9A6E17D1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4689-DC1D-4D6D-B890-DED6FBCB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EFAC-282F-406A-BDDD-5575D95D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16C3-F44D-49BD-B305-7C4BB531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6D72F-9717-4A3A-9691-B4712291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BA99-A20B-4D9F-B206-08C18498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3EC88-D39E-4B9E-A331-DAEB9364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A9A5-E1C1-417D-8F80-8E8ACA7D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37C-77DF-4617-9B94-5590E222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05F8-FEA3-4ED9-948A-F2C5BC02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87D3-CF8B-4D37-BE05-BA92C24D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A77B-E622-414F-B020-B07014DD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33F7-F207-49A0-AB67-D787B272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D112-466F-4679-81B1-6DE3895D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7A86-3A75-45F0-BC78-B94AD47E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9DEC2-792C-4F1C-A94F-6F25DCEC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3001-24AC-4A4E-AA7F-AA435E67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378D8-DDAF-4313-B186-04B13A64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A5532-D0D5-4AEA-ADDA-0FF75D5E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951-0448-47C2-849A-538B3FDA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D5394-86DD-444F-BC88-D906321B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6F608-0BAA-4D97-BEEE-9256C8D6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644D-1D24-4F7B-92F1-DC20F382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F1897-3C3C-41B7-9262-03639C68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55365-04F0-42B2-BFCF-F17634BB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805C5-5E6A-476F-844B-21419DCB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0BAB2-4A96-4C4C-9C4B-09A94763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A69D-241E-4BBD-9A6C-761D9D2F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A4D62-9DB4-4735-B561-EE2B1739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B64BF-B054-4D5D-8F7E-6FF70D5C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441-3CE3-4FFE-85F5-79135239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87744-2524-4E77-9FBF-8B8E761F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4AE8E-C525-4C4B-A9E1-879B57E2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2AA7E-E248-47AA-9FF2-4D099307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D5FB5-AF02-4089-88BF-35342F8F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FEF59-A7CA-4371-8EA3-735DA352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AA786-F859-4C5D-86A6-C52346DE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2C0AA-8A1C-4A86-9CBE-FD331808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03476-1A11-4846-9D52-E5B3E66D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8274C-489A-4A98-9336-AC8930CF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F2CD-B77E-4F86-8B9D-49E60B12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8CD-800C-499C-8F62-FF0013E0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432C0-CAC5-4B3C-B168-D99834AD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B10FD-88B4-4125-8EFC-BD145AE1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7A904-017E-4AE0-9D19-36F3BF35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55C77-2B3D-444D-99E3-BED2A696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92F17-BC33-4B2D-AE14-404F8D41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0723-2042-432A-B54C-CC10DB24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AE171-5BF8-480E-A7AD-C43A23F8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E0328-4EFB-49E1-80EB-2BA5E0E3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CE2C1-1C73-4383-9D21-2AE31E00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55E76-0866-45B1-9A03-8B03843A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B33-92CD-4004-BDA2-6BCDA2CD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4F334-15CA-4E4D-96D0-48F0A857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6C69C-4319-48A8-AE7F-461E0E17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6628B-C779-4D4A-8FA5-6ED2E4CB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2D02B-08FF-45B0-9EC3-40B03FF1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3A670-198B-44EA-8BF5-7D9AA84B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2E939-733C-412E-97E6-B6A84095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5072C-5A64-4F9F-B7A1-FE281F90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9C53A-C275-43EF-A247-4DC07355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35007-9A05-4073-BA35-9AAA3737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B51FB-0CBF-40CB-9840-8171F54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7F7-7DFD-4568-80AD-46A514B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F7CF4-066A-456C-B900-5B2148A8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B01B4-AA69-48DF-8961-B8E940B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177E7-C923-435C-8A70-7FA48301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8A94E-8CC0-45A1-AC9C-2693706D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572CA-5BF5-4B91-8CA8-89C469B9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8AEE7-BCA2-4B38-AADD-82FC6858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8D1C9-45DA-4BA1-B09C-09A06BE7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60588-AA45-4AF9-9C0E-E7801FC7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7D90F-08AB-42ED-90BE-FF4873C2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C43C2-0ABE-4055-B5BE-AE026D7E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065-8287-4C9E-8A1C-C39B725E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8A0A8-1358-49D5-81F5-63105C72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08913-02D3-4493-9CB4-9D3BC9DD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4D0F5-97DC-4760-8CDC-5C782F58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8EF22-FC1A-4E92-A2BF-638A86E6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671A2-8A69-4DE6-8C49-170D5C26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7D66D-55E2-46DE-A65A-E82F7FFB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C95A8-3E9A-427B-A86D-00401A43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13397-5D28-4CBE-8609-B6D408D7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B5706-178A-4C9F-AF70-02CAE523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D705A-21BD-4B7F-8EA7-89010FC9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F036-DC02-4180-8D4E-8A8EBAFB1BE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E1B4-482B-4781-B091-B104778350C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EEC1-C5AA-470D-9DC8-D6760DB74C2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1900-AD21-47D4-A50A-7D66B1FE2A3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1667-5594-47A4-BE94-2EA79F8B5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35AA-325D-4335-A59B-53FDCA7CD55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9AA4-8DBD-41DB-8F54-8F0EF93D1C6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DB81-3538-49DB-B5E3-38870EDDC31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4CCD-B711-493E-9D20-8F02FE1B475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1AF6-569C-477F-BB24-531C8BAA0DC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CDC0-AA22-48C2-A9C8-9BE1D863B1C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91D3-811A-45C0-9FB0-6A30451327B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3ADE-4239-4F31-A0DF-494302DD30F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2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Η  δομή της σχολικής τάξη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αι διαμόρφωση περιβάλλοντο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1"/>
          <p:cNvSpPr/>
          <p:nvPr/>
        </p:nvSpPr>
        <p:spPr>
          <a:xfrm>
            <a:off x="1298520" y="2060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9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0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</a:t>
            </a: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6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1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2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ποιότητα του Σχολικού Χώρου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3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5.1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Η Σχολική τάξη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στο δημοτικό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0-09-27T09:12:55Z</dcterms:modified>
  <cp:revision>152</cp:revision>
  <dc:subject/>
  <dc:title>Παρουσίαση του PowerPoint</dc:title>
</cp:coreProperties>
</file>