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8DFD-8637-4FC1-A8BE-7ABFF48458A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9383-78DE-4D9F-B5FC-FD67EB1B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AB8-C151-4E91-9D78-4070765DD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D745-9838-4D97-973D-2FA3670C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3471-C3DC-4114-AED8-084443E2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CFC6-EA33-4684-870C-92AABAF2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DBF7-D937-43A5-BC7D-E2553BC2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808-0393-4169-85B0-E6D47504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A58B-A843-464E-A148-CA5978610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8B7-54C2-4192-ADD3-82BB95AA1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D3F-35A4-47BF-9698-4F26C7D6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316-4B9C-499C-BFA2-3BF41253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DA3-68A7-4EE2-86CF-72C7428A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58BA-3403-4139-BB36-53AA2676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A370-27F1-495F-91AC-C233F3B6A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688-0F0F-4359-99FD-989C1262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F619-2125-42A8-AEF0-FF8A2DF80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AEF-C3CB-4148-B675-2398C6E2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96A-38E2-4B04-97F0-1A54AC5C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8C00-2740-4AA1-A4F1-D0334E30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A02-CD98-4FAF-8D65-DAC87D57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6FB-7367-42CC-A800-A52B2D2F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1E7-B3F2-45E7-A2A3-75F49C4BC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039-FC83-4CE1-A3E5-85C4D349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C647-EAE9-4913-9F06-42B7B489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B63-06FD-40BA-B033-B5884BD4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A94-9524-4067-AE52-3201F5FE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BF1C-FB4C-41E9-9E06-B55E357A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DDB-F8F0-4268-BB21-4370B3D1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7E7-AD37-4B35-8E30-FA52ADBDE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F9B-0471-418C-B4B1-8DB37326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B4B-07CD-4D1D-8752-86A33CFC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5B5-E541-4DB6-8F9B-7B7A291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E73-A2CA-4CB7-AA2A-C4EB866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9B6A-A2B1-412A-BAC3-E171D84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8065B-3E6E-42AE-B14E-50D7C66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7167B-429E-47DE-AB1F-5EF1ECBB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05783-7080-4F30-BA3C-7B405EF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36597-D6A9-4009-BC6E-932A5B7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8A373-57D3-4759-9C8B-9C882FA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338BB-161E-40D6-A107-8EB0921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8F8C5-8BD0-4F4D-93BC-7AFEB890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B8D1A-7081-4F3C-8A07-4121DCE3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C2B8-A2D3-45E3-81B3-0323D4C1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AFB-C80A-4976-8B92-FAE2817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525E6-D7F8-4D5E-A8DC-2DA103E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8F572-800C-4435-8A5A-6E1575D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3AD42-535B-4DA2-9F54-AF2AC73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55350-3648-4E51-B531-59CF8C1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B0F73-7465-426F-A08D-4B3E192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483C8-9428-4D2D-9570-579D714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895C0-72AC-479F-821E-27E971B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162F9-E019-4C8F-BBEC-455AC3A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C098D-F6AF-4BAF-B521-90E3C0F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4AA3E-1D5D-441D-8454-5910A50F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E9C-E2A1-4DF2-9808-1C9309F0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E671C-E7C2-41AE-9F82-50434D30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7C876-A05A-4630-92A1-73B058CF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5AC9-7A32-4161-8919-3ECE1AC2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B0360-9694-4EF6-83D1-4B00A2EA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3A7C-CA70-4A18-B6EF-7112A47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A164B-3B77-4723-A274-F9C3246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14A8-6486-4FA4-97A5-605878C1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D9C74-2F95-44C3-81AD-A292B3F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4FF81-B0D5-4D8D-B34A-11A65A9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3B2D3-128A-4466-AF88-F24CB31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C22-FDA0-456D-BAD6-E631AABB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28BC-F58D-4D4C-B946-333DD2E3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2D967-00CE-46D4-8815-65E6383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2E50-5F5B-4B47-B650-769C67FA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5DF6B-C2F2-4A36-B046-8AE4F831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9D529-58F5-4D55-8ADA-AA534C4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443D1-889C-4A61-8CF2-3F2F4C3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4B888-98AB-4485-A189-9577030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0BE49-3FBF-4FD8-990F-FC4C7C8F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D6D8-0599-4516-B2AB-A361562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227FB-1D1F-49EE-A6F3-12EFD01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2C86-F1F1-4D4C-8CED-69AF7998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6E2A0-E25F-4B53-995E-9463D8F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9B026-1AAC-4F97-B14D-56FF80D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01EB5-FD25-4AB7-9905-13C87F2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E3BB5-E94C-4307-91B5-34080EB8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635C-8154-4BCF-B654-793FBFB1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97AF66-36A1-4177-AF97-4F6CCBCC6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2225F5-CBA6-4EBF-99F0-3C55A51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A2FA5-3EE0-4B26-8A14-ED477FEE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83F3F0-353C-40C2-ADB4-6908A9A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8D88D6-3188-40A7-A8D3-80480F1E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0F4C-1EA1-4FB5-A785-7A5288B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C1BA42-492E-4902-9BB8-B06A3EBD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27B269-444D-4E31-8633-745333CC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F3C61F-A89E-4D67-9033-B4A0CFA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51AE49-B695-4399-89E8-C1FA9D3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89926B-4921-43E8-A3A3-E36704C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FA3751-68CB-41DC-8A18-8E70CF5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44FA09-CD3D-46CC-9861-6855E7A6B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482-8A9F-48D6-A5C8-A59941E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5B4-1335-4AAD-A1C8-73C43989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DE8D-F89C-4502-8C44-C4B5249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5A0C-EF17-4529-9337-86DE411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94C-B322-4331-8409-32DDDD6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A6D-7FED-4C24-AEBE-8EC6225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EDE0-90E6-496E-A80A-79A6FCF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F27C-8FAB-4F0B-817D-497B29DA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8D1F-CC63-42D0-AF63-D7BB399F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5BBD-A053-4A38-A3CC-F9D08680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9F75-D2F5-4928-AA80-A659964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300B-B989-4FB8-8486-A18EDCD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93DC-B6F7-4EED-A59D-E889C70A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42F9-1CF1-44EE-8201-B070BD6E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2937-FBAA-4BE5-8B6D-2AF17E2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AF1-E756-4C91-8C1E-E09C5F3D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61CB-7B12-4F7C-844C-551B9AD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DA9A-82CC-4917-8331-1CA1AEE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0C2B-3F15-4677-BB45-7EDF69B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86C6-5BFD-4BBC-BA5F-A2358AD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985F-45E9-41CC-AC98-8095D0E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9466-AE19-44EB-8EE3-70F645FA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9F7D-8B3A-4D88-B2BE-0CD4E3A4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328E-0B5D-448C-8C2C-8592778D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FBAD-ABBE-4485-B9AA-C7D9A39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7CF2-0792-4698-A7C9-0A57CAE0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392-F142-476F-87CE-7AE64CB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3540-DFC1-4D18-9E55-DFC33A5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A76C-7C4F-4ABE-958C-079BD24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3C44-D063-4131-A02F-C9D49D5E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F034-1E12-4AAB-97E9-4AA3AEB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95B2-55AA-451B-837F-9D05C06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90F3-F7C8-4715-AEAF-29C71D8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7818-A81C-4125-B1BC-EFB9D3A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B239-0146-41B8-B07C-89F84929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0D15-7CD1-4192-B4D8-384731B6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1191-0DDB-420C-8A60-486F969D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C15-BEFA-4E71-AC6A-99443ED0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F6A1-C7E0-4837-BC95-B69328E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29FC-37C7-46E1-B72F-8358E70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5DE5-844A-4230-9056-6664B49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9FD3-11A8-40FA-961F-AD73A59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5418-2E65-4F50-8DF8-58EDDD1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55D5-483D-4079-A264-B499DBD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3307-D493-4CB5-9223-E7956A3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D35E-10DD-46A7-B9E7-2FB84FA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E30F-4285-4689-8293-65517B92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DB7B-DAD0-4501-A154-189057A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EE1-AE29-4E68-AECA-7BD7786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85C95-7DAE-4191-B36A-106C2431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137F-6DAD-48F6-9478-5C568EF5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2BC0-144E-4B3E-9C79-F7A5453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5A1E-6CFD-4C58-9F28-90A979D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D3E6-1E3F-4A4D-9824-E304FC9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5E1F1-F090-40FC-A6E9-C93EECB7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5D5F-66E6-4F28-BB9A-32FDF814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194A-E63C-404F-91A8-042C457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1E69-7EF0-4B5E-9876-45F7D00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84021-24EC-4827-B58C-D4C0640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E50-7114-48CE-AE5D-D26B30A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53E2-0E09-4B15-B54E-8C5A86C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3940-2D15-44A1-8171-A3422485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B438-B641-4E8E-819B-34F9297E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A23A-5AE0-4D4A-9865-E3FD8A5F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F3C4-B334-4707-86B1-072D568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41C25-6903-4CCB-9047-CE31354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A055-B9DC-4B86-B954-A7FC9B77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1B4CB-62B9-4EFE-8F01-78D707D3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31FD-BE91-43E1-B632-D3BFAFB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221C-9BC3-41B7-BE7B-AD5C667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A95-29C5-49EE-9C66-4ADAA2B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68C7-E5AB-4BC0-B9C5-7EE925E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B2CE-4A8C-4EA8-9F0F-125A218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C738-FEAD-4C4B-8722-DD59B14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89EF-A37A-48CA-83BB-69C8EC22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750F-8AE2-4F1E-9FAB-95FEA4F8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04AF1-16FA-40D6-8405-9947884D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6EE2A-CC91-470F-9A0C-F6894E8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F66B9-6867-4E60-84A6-693A9EB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1F50-7C9A-4C59-9EAF-AD981EDD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64D2-B505-49DA-8B2A-CD156B3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40F-B451-41F6-BAE0-81BDBA9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61B9-8B86-4D04-ADC2-709FB8DE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2CF2-949C-43F4-8AC3-CF6DB8C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4E2F-7931-4907-9149-16A7C3A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9618-E3C6-40A2-BD92-147EDDB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86B7-F467-42EC-963A-7E7D9A1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7C13-A82C-4580-BF09-5B5482D8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88D9-D794-4B81-A949-49B067CD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618F4-9C4B-470D-A6D1-AED88AD8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7D7B2-17BE-43B7-9F53-2A3F637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F230-F2DA-4702-BC4B-1F651B2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0B3-5728-4A31-890A-EF6A7A9FD49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1A0-5B9F-40A7-967A-140690551D1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B4A5-E9A1-4EB3-BF42-4243627D60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E5B-799E-4444-9563-9DC411F5056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CF3-6AB4-4382-A166-3A8E81CC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033F-4CBD-4FD3-A4B8-A5919282FA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BBF-CA7B-4E04-AB0D-B441BF1D6A3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C4FD-0BF6-4DCA-A0EE-68E44C5DE3A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5EC-2AFA-4965-9093-BB2B2806CA5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6FD-273B-43EB-8F25-FC644BEAC35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3DA-EE5A-4D5E-98A2-B10E20175AF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C928-DCE8-419C-A4F9-BAB1E672593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856-3A0F-4053-9D80-777C4BE9566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1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2364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6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6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7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8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8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9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9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0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0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1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2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0" name="5 - Ορθογώνιο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91280" cy="49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0"/>
            <a:ext cx="9144000" cy="6551640"/>
            <a:chOff x="0" y="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0"/>
              <a:ext cx="9144000" cy="6551640"/>
              <a:chOff x="0" y="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7128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83272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8:16:04Z</dcterms:modified>
  <cp:revision>156</cp:revision>
  <dc:subject/>
  <dc:title>Παρουσίαση του PowerPoint</dc:title>
</cp:coreProperties>
</file>