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A6AE-EA33-4E2F-A9D9-C60F3A33B982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6374-B23C-4EA5-B9AC-FFE3BCF4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4B3-95DF-463A-8650-FD00B903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93A-F7EE-462C-AB1B-3FBD26419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5604-D913-4AF1-80E8-D579D8CB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0B9-8EA4-40EC-8134-8E39802B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F07-D50E-4A5E-97AA-3B5CE5BE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52C3-338B-4F9A-917F-55C98BEE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7949-A191-454B-A9C4-DCC611E8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4569-DF3B-49CF-919E-CC9EB1DF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AA5F-A149-44CC-BE94-F8C7B1B9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0D52-E2FB-4D2A-A083-E95726C4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C96-5AD1-4736-93D3-9785A98C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072-F88A-4C45-81F9-CFF84CE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D658C-C3CB-4A33-A13C-E1E5610A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E6C1B-4B2A-4019-A475-14B0A05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3BBF1-D3E0-46C9-AA5A-0555362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17D20-F3AA-411F-BAB6-693136EE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89DBF-967D-436B-BCCA-CD9F003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B227E-9D5A-4732-8F87-329A04F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00E84-B477-43AD-B819-7D315BA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ECF32-E08E-45A8-9553-8102B10B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BE196-1145-4C10-9468-33540087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E8C7C-5F1F-4206-AEF4-7741E62A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3DC-C225-4DC7-A2FD-60711E16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BB94A-08AC-4BC0-BC4F-E6704432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160B3-7A06-451D-947F-96D2385B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277A-4A54-4294-BA63-4D5B05E1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9DD86-35A0-4169-9ECB-FE0C5D3A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6C593-B0AA-4DCF-922F-EF12CCB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6CAFD-9B5D-4081-9A70-EDB1DBB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3AA80-14A7-40F9-AF75-A5F15B3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F9F5C-D508-492F-A506-E0B834F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9E4A3-2D1A-4E1D-9E15-C724C701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37202-B729-4D23-9A7F-4DDA7AAA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596-412F-4ACB-BCE1-85950183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589F0-A5D7-42FC-B1FF-4C0E3ED0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95EF7-2F5E-44DA-BD88-06945465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C9B2-423F-4432-B7AE-BDB2068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94BE5-29CB-4741-A08A-E8D7260E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E7F2-4AD7-4D2B-B9E4-978E42D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2A21A-55CD-469E-8720-A92475AC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F0BD-4E55-4FB1-80B0-361C95D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C3BBE-3719-4488-AEF0-54345D57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E3FAB-7BDD-45CF-A3E5-60D443C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37F75-56D3-4D91-AD1A-C566F0C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E57-29ED-4FC5-A6D4-FE0BF50D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815D7-7F8F-4DB9-B8F0-6C82D920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D019-C356-4CF9-9BB0-42D0F4FF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5E9A-307A-4D65-BFBB-47181A2D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EB86C-C91F-44E5-9DE1-E426899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D75BF-133B-46B9-9246-A8B58D4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200EF-FC11-4FB5-8BF2-7D449F9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3B8AF-0817-4790-8C28-84025554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A4A19-DB3F-4A41-9409-284263C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2D419-AA29-4156-AD64-0AB49D5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42129-4AAA-4A4D-92B7-18359B9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BE4E-176B-440D-9DFC-B0AE2C4A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368B9-DC3A-47A3-B183-CA14F27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B815-54AB-4D68-8C87-1353A1E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2127C-7E04-4AD4-8D0D-DC2B9C01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C2C1F-0381-4F91-A11A-6E04BC45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DF8F0-E35C-4512-BF64-E4BE0318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4FBBB7-29DF-45D4-A315-6A0F2A077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04726E-AB43-4CF8-BEB1-9E7CB468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0B0C13-4FA6-4428-BC07-4E81BB8F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084D3B-5199-4D65-8E3B-31DD335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47E7C-EE91-4DD3-AC6B-C47162EE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14A2-7825-4760-BD82-2C38CBB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111705-4A20-4580-A8B8-8E72D3F0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110A63-0C01-434A-822C-57CEC4A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7824FB-FA47-4819-96DB-450BD32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C6FEA0-7FC2-4B35-9406-7E07F2F6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8D803F-63D2-4A8B-8F95-B1A0473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989EB0-7543-4F6E-B98F-97CEC71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700C18-4972-494C-BAC5-4881EE072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6C4C-28DC-4F80-AC7B-3DA51B52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325-92D4-460F-AFD8-ACB743E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F36-8E8A-4158-BAC6-EA8CED5A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E87B-684E-436E-924B-982BF39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1BB-4B20-4D75-AC2E-77E53E8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79B-DC2D-4933-86B6-2593A83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7C8-9440-4148-B376-A26CC4F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002A-0020-498E-BFA3-7447146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6159-040B-438C-B19D-7F0D4E3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D4AE-3E0D-45E3-AB74-45F6BA49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E919-F174-4AC3-A237-1CC68037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A0AA-6B51-4475-971F-EE06560A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EE99-9B1C-4D1E-BD04-1472886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FBC8-2171-4BA1-834A-ECCC053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CA0F-33F6-4976-B20F-9C4C35A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8A8-582F-456B-8889-0AFCF9A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7726-5DCF-4225-954D-80D0179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1DFF-1BEB-4A4C-9696-0A8BC33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31B6-E7BE-430C-ABE4-2DF7364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5FD1-0AED-4CEC-9D25-FB7030B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491E-C760-4600-BE62-EE2B875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8754-F4D0-4947-A0DA-403831E4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43AF-BFD5-4F61-9107-01132A2A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7570-38D2-4FEF-B8EE-75BC29E6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5CEB-8A9F-41FA-A1D6-4B5958D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9689-5B0C-49BC-9F54-6B658C4C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11C-5C61-47A6-BE97-1F36FE11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0CDE-4151-4F01-9EEC-280727F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2324-6425-493B-9ACD-B7F1E37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7F81-050C-4D63-8810-1B37F60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88ED-E408-48C9-91B7-CEFF2F1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B6B9-0946-41F8-ABDE-9B10A3B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06A0-1EC0-462A-92E0-F8FE307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200F2-38CE-4B92-8C2B-AF7EF538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BCA8-B312-4378-911B-56F8448A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32D7-758F-489E-9B6E-73813213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9129-C075-4363-955C-E107F61F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333-76A2-4DE9-9081-7058D2C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B488-EEEC-49E0-93A3-ABA8868F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BDA0-9986-433F-8E41-59740F0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C562-7A93-4A3E-AF7B-619D6F30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0418-F3E1-4622-BB4C-591F9C64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D8DC-A6B4-49D1-BEF0-1CCD3C7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324F-F5DF-465B-9317-C3659FC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3A16-E957-40C4-8468-12601ADA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78E8-2AD4-4658-B896-4BC793F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8B1F-9D89-4076-BD78-A6C42D8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62C1-4FE7-42B1-9CCF-8705EF0D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AA4-DE3B-4B31-8298-67DFB58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2838-1BD2-4FFE-B80D-088505AB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99587-4E2F-40C9-AB86-4FA13263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59BF-85FC-40CE-B1BE-0054C50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1898-B85F-48AC-842C-914A9045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63DF-F8DB-4244-A7B1-8726B81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68F5-C0FC-4BEC-9DF0-92D610C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092F-3056-42C0-9D78-F8D989E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C1C0-1308-483A-B4E1-0FDD98EB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E0EC-C539-463A-BD55-D926F1BB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EE93-D641-4290-BFAE-0D00515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A1B-7C17-4651-AD16-00E5E4D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8803-B424-47E8-95E2-C3B455E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B2CE-A0A5-4BE2-917E-62785824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43D2-1C4B-47A7-9FFD-3D9FFBC5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4E93-0994-49E5-9659-E14231B5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3D29-4BC2-401E-91B1-F6DA655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B3B3-B1FC-4C65-BBB1-20FA5B7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934C4-A10A-45FA-989B-188451C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856E-FD2F-449D-A08E-A664E46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D8B3-FC82-4B77-9B21-1B06F1FA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D11A-F8F4-4EED-8EF2-C4DDBF0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F9C-1795-4940-97F0-0A9500F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FAE1-9DC7-4B14-91F8-581C8E2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CC943-D003-43A7-A678-D5BE6FD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36F6-5DD6-4671-9412-D9A3965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DBBD-BC5B-47A4-A6ED-29F87D71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82CF-AEE2-4AA4-B887-29B7C48B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CC09-8C62-45BF-BE37-48BF0BBB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7CD92-5651-400C-8B9F-31071D90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671AC-DBB5-4864-BD29-9E2DF859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1EE2-8A83-4468-99F0-89988BA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914E-2FC5-4663-A4E0-8830C09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BB7-19D4-408E-869B-31E2AE41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D27D-AE6D-4CD6-B0BF-5BAD3F28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EEAA4-BFE6-4F5A-A486-48474F7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2D989-FFBD-4F10-A30F-8B45CEF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0940-2F89-4B60-B05A-8A555458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0632-4392-438A-9491-CC31957A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DF19-794B-47D7-B54A-C51A65D6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374E5-1390-42ED-A953-2F679325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EC437-C8CA-445D-8586-CBACA2B6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F77B9-AA9E-4562-AC2A-688FDEB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C29FB-3694-47EF-B030-1A8119B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641-2DF5-443E-813F-0C269B4D37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93D-1BAE-4547-8220-EC034A3728D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689B-759B-4A5C-9D50-03590D48B05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689-18B8-4DE7-9498-9CAE397CC15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901F-2448-4A2B-BC54-D20994FB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E2B3-F37C-406A-8F96-D40AEB7104E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70D-D6D5-42BA-8436-230DBE62865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D85-0F45-4147-B6DD-5E80D709474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E53-B498-4BE9-A796-847FE19A5B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E54-1C6D-4B39-9D88-1B044CF29B9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036-C107-451D-8138-3406FA3224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DDA-257D-47FB-82D2-31651865A6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CD51-4793-4F9A-A30D-C5B95FAC351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2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Η  δομή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ι διαμόρφωση περιβάλλοντο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298520" y="2060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</a:t>
            </a: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6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1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ποιότητα του Σχολικού Χώρου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5.1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Η Σχολική τάξη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στο δημοτικό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9:12:55Z</dcterms:modified>
  <cp:revision>152</cp:revision>
  <dc:subject/>
  <dc:title>Παρουσίαση του PowerPoint</dc:title>
</cp:coreProperties>
</file>