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1E1C-012C-4009-AF79-50F975A7451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3D47-AF78-40EC-88A3-C4D069C51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85680" y="741240"/>
            <a:ext cx="4886640" cy="3665520"/>
          </a:xfrm>
          <a:prstGeom prst="rect">
            <a:avLst/>
          </a:prstGeom>
          <a:ln w="0">
            <a:noFill/>
          </a:ln>
        </p:spPr>
      </p:sp>
      <p:sp>
        <p:nvSpPr>
          <p:cNvPr id="1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0FCE-91A3-4EF6-8391-A52C80274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62A6-0493-4934-9E61-CDA2AB13D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85680" y="741240"/>
            <a:ext cx="4886640" cy="3665520"/>
          </a:xfrm>
          <a:prstGeom prst="rect">
            <a:avLst/>
          </a:prstGeom>
          <a:ln w="0">
            <a:noFill/>
          </a:ln>
        </p:spPr>
      </p:sp>
      <p:sp>
        <p:nvSpPr>
          <p:cNvPr id="11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DA01-0BF8-49D1-B4EB-96E3D65BB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985680" y="741240"/>
            <a:ext cx="4886640" cy="3665520"/>
          </a:xfrm>
          <a:prstGeom prst="rect">
            <a:avLst/>
          </a:prstGeom>
          <a:ln w="0">
            <a:noFill/>
          </a:ln>
        </p:spPr>
      </p:sp>
      <p:sp>
        <p:nvSpPr>
          <p:cNvPr id="1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A14E-0641-4339-89F4-B6915B111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CEA6-87EF-4C7C-B055-41176A1A3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DB4E-172F-46BE-8213-997345E79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95E-585A-4BE5-B776-3D915EC55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78C0-B437-4F84-8710-867E09D55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36A7-BBA4-454D-A56E-0875B0ECA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C3C7-0C05-4CC6-B91F-9E758C8B3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FA74-1396-4A96-861F-BD124B8DB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B900-2A9E-4121-A193-E23D1315C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B64C-23E2-4E70-9673-46E86B25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7475-08DA-434A-9C16-582D68592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CDEB-F237-484F-9BC1-FC6BD75C6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9079-8296-40B8-8E0D-E6FABB7B0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D3B0-E6D3-4405-8132-0F07CF190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E237-D2EE-4C7D-B137-7D6B98547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1042-E2E8-4FB5-8147-2A76E9AB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56FB-D469-4D5F-8425-B50029FDB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67EC-C7AD-4F3C-8577-72071A736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A6C8-C069-456B-BC8E-E4A799D97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7C81-2B9E-4CA9-8393-ED811E9D4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8031-6F7D-4A13-A35A-AFB945563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E52B-F5D5-4035-9F81-8E2048837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3379-135A-481B-A002-A8E36973F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B7D1-F2AF-4FA6-9497-0C9B0DECE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DE65-8155-4A29-AD17-238D99D5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758D-914D-4CB4-80E5-24103A433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9B6C-2467-4A8C-9D8A-65C58ADBE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D6D5-8270-4344-83F4-6C002B3FB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FBBA-5A8A-408F-ACB1-8E15CAF24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85680" y="741240"/>
            <a:ext cx="4886640" cy="3665520"/>
          </a:xfrm>
          <a:prstGeom prst="rect">
            <a:avLst/>
          </a:prstGeom>
          <a:ln w="0">
            <a:noFill/>
          </a:ln>
        </p:spPr>
      </p:sp>
      <p:sp>
        <p:nvSpPr>
          <p:cNvPr id="11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DAFF-9FF4-4E0E-9DED-BD7D22358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27F2-3C38-4693-88FE-0B6952A0B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1124-65EE-4852-A6D1-164C8625D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E130-CF15-40EC-A77B-507010675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B8E7-2CC4-4008-B6B6-CC0213F10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C85C-F096-4CC7-9D2D-ACE91094C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CBE0-6419-417C-A8F7-F3423F569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490B-5843-4033-9DB6-30ECE34A0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FD39-53D8-4C9C-861D-DAB627108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353C-4C47-4E1D-84D5-3947E029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F0A7-DCB9-49D3-8B6A-A3B94D01C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985680" y="741240"/>
            <a:ext cx="4886640" cy="3665520"/>
          </a:xfrm>
          <a:prstGeom prst="rect">
            <a:avLst/>
          </a:prstGeom>
          <a:ln w="0">
            <a:noFill/>
          </a:ln>
        </p:spPr>
      </p:sp>
      <p:sp>
        <p:nvSpPr>
          <p:cNvPr id="1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7991-26D1-45F1-9472-F5D7D5444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2504-A8C1-4C88-B249-90EC286EE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DB75-A03C-422D-8D65-1F8E4915C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C19D-9B51-4789-A047-CFA648128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097C-AEE5-404C-8B9C-DEF62DC3F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4B89-F386-4316-AB90-3EDC8E9AA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D25F-6E3E-4071-BCDA-36DA993B8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7755-54A8-4451-8696-A53236A1D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E62C-D625-4F61-B6F7-40D6B682A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70BA-5009-418D-9E7E-688FAB91D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17F9-CAB3-42D0-9E3C-C63462D4E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85680" y="741240"/>
            <a:ext cx="4886640" cy="3665520"/>
          </a:xfrm>
          <a:prstGeom prst="rect">
            <a:avLst/>
          </a:prstGeom>
          <a:ln w="0">
            <a:noFill/>
          </a:ln>
        </p:spPr>
      </p:sp>
      <p:sp>
        <p:nvSpPr>
          <p:cNvPr id="1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CE9E-FD94-43B9-BF0C-ADFF407D3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22E0-7E20-433E-9AF0-7337F86E1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D783-E837-4E2F-B6DF-06607E0CD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5D1C-6B04-4466-B8D2-16C08E187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F9D4-D98C-44B4-8829-3A1579137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B775-19E1-4ECC-9C9B-9B1EB1D35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F188-67F8-45F6-A828-EA2C89309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518C-D753-4516-945D-1B394E77E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08C5-8E45-44E9-B013-FBCE58438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85680" y="741240"/>
            <a:ext cx="4886640" cy="3665520"/>
          </a:xfrm>
          <a:prstGeom prst="rect">
            <a:avLst/>
          </a:prstGeom>
          <a:ln w="0">
            <a:noFill/>
          </a:ln>
        </p:spPr>
      </p:sp>
      <p:sp>
        <p:nvSpPr>
          <p:cNvPr id="11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C3CC-D670-4C7C-87D6-2BD83F20A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985680" y="741240"/>
            <a:ext cx="4886640" cy="3665520"/>
          </a:xfrm>
          <a:prstGeom prst="rect">
            <a:avLst/>
          </a:prstGeom>
          <a:ln w="0">
            <a:noFill/>
          </a:ln>
        </p:spPr>
      </p:sp>
      <p:sp>
        <p:nvSpPr>
          <p:cNvPr id="1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D59B9-CC7B-4B43-A28D-ED62DE17A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97AEB-79A9-4718-B794-58C999C1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C71D9-772A-4AE9-8362-1F250B2793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81A3E-0079-421C-926F-E27B6518FD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32B5C-D433-498E-B447-747A2D145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00876-4FBD-4DF2-9523-4C0DD2431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F6E4B-EE68-4E47-AE28-F4B5BDFE8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3DFA64-8B1F-48AC-B196-D683D7873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804C3-F517-438F-8606-3B36CC247D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A03DCB-DACE-4743-8C07-BDF21FC10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065C37-1604-45B9-AE05-FAB6A05AC8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B8CFC0-B636-4461-B713-7EBBD8E256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E3B88-3B82-4C82-B375-56F051CA4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0B586-1913-4648-83A6-A50D6DEFDC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3600F1-8A07-4C2D-B0D2-9BC0765D56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798262-F49D-408A-8FD2-F1779C3C4F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F9B217-9B85-412A-86AD-517882E470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D5125C-5D9D-4EE6-BBFA-A4B194E050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504A9-91BF-4F0F-843C-BDBCF3157F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FFA7D7-11AA-42C4-8429-8965B75E95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D6F792-941D-4FBD-B6C0-6A5358998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F1A2D0-8B50-4CBF-815F-A2FC8C5272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6710C0-E048-47E2-991C-8C597E8A80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EC699-095C-46FF-A9E6-088017E12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2F6FA1-E3BF-4486-AF4D-EDC0D0033E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683D12-E2E4-4C49-892A-8CE4634532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8CF4AD-121D-42DE-A73B-22DB95FE87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3D1557-CDE8-4964-9F58-0FC149F4E6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776F11-D325-4874-94A2-CD3D949177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4EFC2C-8E05-41FF-A94F-97A2C80061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68E560-61FD-4059-B34E-083710A1A4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EC8B7-583B-43CE-B495-039CDA0B71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ADFDE5-7FF5-4239-8A84-7631EFD1F6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F82BB1-2AEE-4156-8645-28D8C1EC5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69A2B-2EEA-46BB-9F13-AB4EC9D73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FE2411-2A31-4EA3-B2F1-46D8B4992D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03028D-791F-4180-A7F6-8CB510148A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FD043F-6FA3-47B1-927A-683EFDF4D2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BB79D1-0B69-4A69-972D-E47279C246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A453F4-1C2F-4284-8930-6AD12C26A2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CD997A-DEB2-4836-AC50-C4EB2B1CAC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B9AA2-C7C6-40A0-AFC0-D48B25B480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3DFCDE-9AB3-4489-94AC-AB63E9AA0F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A88FAB-1865-4582-B49E-34B1FE6605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477AD6-7429-4E90-BD3A-4C58A238FA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F179C-8A1A-4909-BB4B-39F7760A4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1CA7DB-568D-4D7E-972E-FE2F81D477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7382C4-1599-4737-B58E-D7315B7088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B39EEC-2EAF-421E-82AB-2C4A38D7C6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544000-2DED-4648-BF42-0EF23DFC15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118357-88DF-46BD-8C91-EB3F898016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B490F41-00DB-4E9D-AD74-07BEEC62D51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7499C9A-9539-474F-9997-A2098D2FE8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7479E7B-3AF5-4128-9ADF-E52E28C2E9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D1BE6C9-FFE4-43BE-BDB0-95F5CB6684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D080691D-50CC-4DBD-A543-A497BC6D876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1AAA2-D490-4F7B-8B62-C5F2314B4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6633C221-AB75-4F8C-8C5C-C70A98C1EF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FC017B9-711D-4CD2-A919-EDBFB1E459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1995DA0-4D1C-40D9-AFAE-DB57828798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FAA6751-71EA-47BB-B89F-A824431B86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9578AA6-4DB3-4CE0-8446-C5EC786CB0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36B0C069-A819-4372-97E3-F13CBDA9DA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D941FF8-3B9E-49D4-9BA8-85E1FDF7F53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E08D4-FF02-4109-8D19-77FBFBC6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C2524-F8DF-4523-B174-E3B875957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09DB7-447A-4243-8161-73BBBBF2B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72AC-F9A3-4C05-A81A-BD947AA7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C270-BAD4-45B4-8566-9BB49DF58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FCFF5-FA5E-4D12-9D6A-CAE350B60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B1435-A9A3-4A02-BD89-31CAEAC8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8B9B5-0530-4F4C-85CA-2F19B451B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15459-1092-43C5-A258-469B47F45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7D224-58EA-4371-8C41-BEBC3AF7D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F3295-FFAD-4799-89E5-73A151F69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E3495-97C8-4E1D-8671-05B65ED98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BF29B-581F-406F-96F7-FC7C189C6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78258-6598-451E-8554-7D645C973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51562-6D72-40CE-B2D6-6E62DA6D1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3D95-8908-4D7D-9450-EBD32DCBB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17B26-80BA-4459-86C0-AFD760310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23706-4C9B-484F-BBD4-3BB2338A1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D0C16-AE24-418F-919D-F411AAA49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C95BC-4129-4D6A-B877-ECCC00F30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D7656-16E6-43E9-AAC9-92BDAEE01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70F530-B050-4253-A9F8-109706BB8A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1C79F5-4339-47A6-822C-B3AB34FBF4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4E26C0-BB14-4C4B-80EB-B014292E9A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B3275-4A8F-4006-B651-1A920D3EB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23B29-9C61-44AD-97E6-268C200F7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7E750-CA31-441B-B17C-3BEEFAF9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C3E95-FEEC-4B30-A927-EFFE4CD8D9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40430-4628-4D1D-99E2-B5EC85988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CD420-06E3-4422-94DD-DC0E0DDE9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88D36-7303-4A24-9978-44F32C736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23A3C-B1AF-450F-96A9-00CC15EC8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E496F-E240-4F3E-9CAB-1E317C342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02350-F2E7-4B29-881C-F4B916003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7038D9-9141-41F6-A773-249C762CA7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5BB7B-0571-4320-BAB9-08407B0ACE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FE9A6-E598-41A5-BD2E-1EA9CE8874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2D868-71D5-4EB2-A086-FAB585E9A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341A2-9B19-4C1D-95A8-6158BCC1ED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D2C12-9D79-4E90-81ED-9268CAC8D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A8732-9D03-4CA3-B1A8-C502D8329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4FB88-B3AC-4481-B94E-6A4C192F5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538C5-1428-4BB3-A1D5-F8A045792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F76C3-53F3-40C5-96F2-8CB2B4B61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3D041-6003-42E1-A8C0-B2DF0EBE9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3F541-38A1-4455-A2DB-08013264A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60320-6074-419A-9E8E-E04E327C2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73D490-CE0B-48C5-91AD-26A62D008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F7E3-96AF-4FDC-9729-E638C270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D1FF6A-806E-4B39-9EC3-254ED20958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A8048F-BD4E-463D-A8ED-C99892EB44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20C2E-9E11-4CC1-93E2-2E787776F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F7D3F8-3A5A-403B-A94B-E940960B4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C825C-9888-4CDE-9255-86E740A75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2ED99-AA46-4370-A7D2-EE88E06EA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A0D74-3141-4416-AC01-21169169A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955A2-3D30-42D8-AD7B-DDE806A7A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3956D-1EBB-4F71-8259-7CE090F8B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AA681-063A-4955-B879-9A7566A34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2127-C2E2-4334-A4B6-24CFE3D6B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18E3B-9F57-4273-9304-40C6DE804A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CAB8DA-849B-4136-8385-ACAB426FC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5330D-2676-4B19-98BC-59482FA3B3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01D4DE-18CC-4BC9-B981-E832B0CF47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60548-03E6-41BA-9E5A-303BB5BBCF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E6282-F76E-4D5C-AA46-FC90CA1BA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D6071-F205-4F78-8117-A7B13ADCA0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C19A6-3792-4432-B8E0-0EFC34DEC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88D81D-F975-4C72-9C33-60C7BB8EC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E6CF8-A96A-4F9B-AFC3-445BE234D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221A-D679-44B8-ABC3-E1CDCF69A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B409F-9644-4158-9E53-E1E7E4BC5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BFDD3-AB3C-4262-A6EF-8B29BF4AD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B3DCB-12AE-4A8C-85B3-508708A51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603C9-3811-4841-9598-F539C71A3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59E883-0669-4B1D-A232-C52CBA30C5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241FB4-B4FE-4C8F-B9CC-1CE3963566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225DCD-AE49-4BD6-A4B2-F1D5A031AC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B63F4-4B22-4A0B-933E-02334F2E3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87DC8-0862-4B2D-9205-E1A7A01FB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261C2-ED6F-404F-B27C-E8A57C5FC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D4B4-DB6F-4897-9AED-A8D26103E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B558E-95A6-427D-942A-A2952F28F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BA051-7E09-4F59-ABD8-8E09C57C1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44C6C-B9C9-4B96-83BE-370356E77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A072C-CF2D-4AC2-AA8E-4B5B5F6B6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15631-F561-4EA7-AA15-58A176B58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0F35ED-7DC9-4AF4-9899-C6376E55C7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D29E71-636B-45AD-B008-0B18F73EDD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EEA28D-6F47-4F0E-A6D0-C22830127B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8A9A50-F1B5-4675-AE52-D76E6F0C9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21AF56-16EC-4B07-971D-89CEAC9533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8D2F-D196-4D3D-AAB4-3281965C1DC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26DD-1B0B-4D0B-955D-69593055BB4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C608-56B5-4DAC-8E4A-31C99CDFA55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C878-F15D-4693-85A2-70D41D231E4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F759-644F-4A30-8A6C-70C43544D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08B7-E0E7-41F8-A637-7DE4C5C4D43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735B-D551-4049-9224-F5BA5AC912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3B4C-B1B1-442B-9119-4328AE73F7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57DB-36CD-4B0A-A4E1-8DB0FCEDFA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C607-B8CF-4785-B047-DD43ADABDA4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5F54-7022-4F30-96FF-553644F129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F259-E1D8-4564-94F2-1EC00C9DDF5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E1E8-C1D2-4EC3-8323-3865A3951F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1392120"/>
            <a:ext cx="83487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4000" y="1212840"/>
            <a:ext cx="84960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79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280" y="1212840"/>
            <a:ext cx="8348760" cy="45720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00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33" name="Picture 9" descr=""/>
          <p:cNvPicPr/>
          <p:nvPr/>
        </p:nvPicPr>
        <p:blipFill>
          <a:blip r:embed="rId1"/>
          <a:stretch/>
        </p:blipFill>
        <p:spPr>
          <a:xfrm>
            <a:off x="0" y="0"/>
            <a:ext cx="9144000" cy="1368360"/>
          </a:xfrm>
          <a:prstGeom prst="rect">
            <a:avLst/>
          </a:prstGeom>
          <a:ln w="0">
            <a:noFill/>
          </a:ln>
        </p:spPr>
      </p:pic>
      <p:pic>
        <p:nvPicPr>
          <p:cNvPr id="1134" name="Picture 10" descr=""/>
          <p:cNvPicPr/>
          <p:nvPr/>
        </p:nvPicPr>
        <p:blipFill>
          <a:blip r:embed="rId2"/>
          <a:stretch/>
        </p:blipFill>
        <p:spPr>
          <a:xfrm>
            <a:off x="1258920" y="2060640"/>
            <a:ext cx="1297080" cy="1528560"/>
          </a:xfrm>
          <a:prstGeom prst="rect">
            <a:avLst/>
          </a:prstGeom>
          <a:ln w="0">
            <a:noFill/>
          </a:ln>
        </p:spPr>
      </p:pic>
      <p:pic>
        <p:nvPicPr>
          <p:cNvPr id="1135" name="12 - Εικόνα" descr=""/>
          <p:cNvPicPr/>
          <p:nvPr/>
        </p:nvPicPr>
        <p:blipFill>
          <a:blip r:embed="rId3"/>
          <a:stretch/>
        </p:blipFill>
        <p:spPr>
          <a:xfrm>
            <a:off x="6948360" y="1989000"/>
            <a:ext cx="1444680" cy="1573200"/>
          </a:xfrm>
          <a:prstGeom prst="rect">
            <a:avLst/>
          </a:prstGeom>
          <a:ln w="0">
            <a:noFill/>
          </a:ln>
        </p:spPr>
      </p:pic>
      <p:sp>
        <p:nvSpPr>
          <p:cNvPr id="1136"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3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112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1T09:52:53Z</dcterms:modified>
  <cp:revision>161</cp:revision>
  <dc:subject/>
  <dc:title>Παρουσίαση του PowerPoint</dc:title>
</cp:coreProperties>
</file>