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0.png" ContentType="image/png"/>
  <Override PartName="/ppt/media/image4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0CF13-FCAB-4436-8571-C797C3BEF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08E30-ECD0-4D2E-B127-18BEB421E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3C7BBC-A6EB-4E30-898B-43A826ABC9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68428C-83BE-4CDE-AF59-847CDE2E0F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BBF3E0-762F-41C1-A39A-4628E33C4C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631E3F-A6D1-4F3D-84FC-CAAC52D435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1802A-84BA-43FB-BD27-8003451391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0835D1-CE10-46FD-A476-4CB07596D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A9EFFC-8BFF-4FF2-82CF-E69EFD7A07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74AADB-EF8D-43AA-8E77-C6A3DC8850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330B06-F9E5-45B0-88FF-F66E233295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A24F59-54EA-4FAB-A7A9-C0A69AC169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1C37D-0115-4F14-A4BA-8E17946A6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7632AC-A43C-42BB-ABF4-64591A08EC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16EF73-EF2E-4DF2-84E4-94CC64A2A1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0F6A10-938E-4B7E-9BE9-93B695590F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88DF52-12EC-4A66-9430-F02E8BAD52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666715-720B-4F0B-B113-EE86870E00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0EBF9C-4F44-46C1-A431-C21F98E63B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584DFB-01B8-4C03-83B4-6741B241A1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E4A9B9-C262-4F7B-95BE-F45BF50C21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43BF37-2A6E-4DC5-BE6A-30955FDF11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480B72-1494-486F-B0EC-48BAD5D5B3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8F523-214A-41AB-A823-9B4ECDDBA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5D4B4D-39AE-4423-8A63-C29D8F4C0B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FA16BB-1F6C-4A85-9806-DEEA18D82E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E14A45-0494-42CD-97BF-B0D383E04B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D9AF07-D41C-423D-A241-9BF57933E2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753519-71C8-4CB3-8055-F5F994DA52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0BDA5C-BD0D-46E9-A5F8-E724E475C3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60401A-C892-4A78-8C1A-DF71AB7722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A19388-3EA5-4460-BB2E-87F0F2F467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3C6F7A-4F83-44D5-8405-44F5E9602C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3F8866-E681-4285-9B79-E5C35B9168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0A4AD-3066-4544-BBEE-87C1858A2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A6AD23-0B72-4951-9B5E-87DCFFCDCB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ED2851-7E02-4E76-A070-4E0178724C6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C6DB19-3470-4DB9-98D4-DDBFCB9353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E81F25-4389-4751-9F31-BC7329434A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A92A44-C285-4F44-962B-20B0FC8892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3A8FC2-A8A0-4AAA-84BE-886E4932B2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75BB40-5488-48D3-8121-FAFA5E1722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985C6B-DB2D-4250-838B-BC59C3E785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20D03E-C76F-4E94-A954-DB3BDA9274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508BEC-76DE-4408-8BD7-B5C223A0F4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5FC0A-7BD5-49DD-B8DE-72C59A46D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B98E55-88C7-4193-9B36-EDC9BF5F22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AD4BCF-E2E0-49D5-BB67-CFD574E7B1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5E97F3-DE2D-4902-895E-8FA0D64C0D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B75365-2297-4240-B97F-ADE9BAEFDF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CE026D-FC68-41BF-A660-74CC5B4CC7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0BED94D-C407-44C4-AB4D-AAEEAB2936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396158-7B01-4757-968C-062F1F4B79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C2AA08-8423-4293-A85B-0A48BD63EC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5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2B7B03-7556-426E-B50A-9A75FDCE67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E7E30E-2963-43DF-95C3-3F1A57D2C06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7A674-BC3F-481B-A328-8FE074AD1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765BB6-9772-4DA6-BC66-94565A1EB2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E19DD1-452C-4E28-8E81-2CAE17FA58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F36445-6D44-4B9C-85AE-F4157ABAC4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B0D80D-E5CD-4966-B22B-EF48CF1764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A7DEC9-6887-4B45-87BE-9BB6B25DA6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5275F1-5375-42C3-B1EA-3E30C4469A8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2993079-F302-4665-9B70-36447D2F668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06DA0E9-75BC-4A85-A99A-513E906C049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7D1B5E-4ECB-4424-920B-C4344BE0E9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C8B87D-F656-4931-B944-8EBB378549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181A2-3F7D-498C-A212-5BDF35BF3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635AEA-4343-4FCF-8CE6-0B5845354D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BB5872-DA8B-41E6-A4FA-E5F694687B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380975E-9319-4122-9CEE-656B1C4DB4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0FA2C7-2A23-4E52-B0A9-39AAD3558D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2E7829-D3B1-4CAB-8984-C906BFE6CE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C53A7D-C504-4527-B0B9-53E724F8D4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3145B8-9DAF-4D49-A303-5A882E113C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600BBA9-D26C-494F-8007-26AF2A25E57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83FF41E-AAB2-4CF5-AB1D-9FB8A2EFDC3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D52FC7E-752E-47B4-ACCB-441E03D6E37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1CA7A-51C1-4321-B3DB-C06E657ED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4D100AE-8142-4842-95F5-8FA87D26AB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8EFBAD-1146-4E20-A7C1-778CFD43DEE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C80695E-41F4-44C7-AB78-FB587581F5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4F0B507-9174-46D6-A8D7-E42078CF3D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C7F183D-57B0-4A5B-A46A-AE3788450DE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9BEA595-E0CD-4686-964C-0B1BE9C3A4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A4C336-65E9-4560-8009-4F4B28D199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805D29-968E-4CD6-A112-E1276C9783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64281C0-1DF6-402F-8EF5-0212E27590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BE7A092-A8DA-4BE4-AEC1-BD2266F8847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5560D-9250-4545-8123-A8EE69797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B086B2A-FB3D-4C27-BD2E-73C94819E24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B4D3BED-1B88-461D-93A0-075AD67DF8C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81F5475-3C27-4126-AEB4-E129531B8E9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13C8128-99DE-44D7-937F-5C48A1C9110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F7878CB-8D17-41E5-A51F-303E68E9BF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035CF09-D3A8-4E39-AA70-6D51A00FBAB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9C94873-B830-4FD9-8B88-BCE2F14DCB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7CC487-CFAC-49F3-8CE4-2E06A66FE4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D5DB34-7F73-43C2-9967-BAACC9F763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A080BF-25EE-4B43-8C5B-3267327061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F1B2E-B341-494A-885A-9B7651FD7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CF390A-CFFB-40D5-ACB4-6218E84327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EF74DDA-F2F6-49EE-8DBE-24C749491FD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ECE495F-BFEE-44D8-921A-2A4AA7EC5F2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A6EEB04-559B-4DF3-B560-91B438A98AC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A21DA1B-5845-48AC-9B5F-1EB9BBA1023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16BE2DE-1B86-46C6-BC49-8ACD49BAD2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2478066-7CDA-429F-92AE-B269ACCC875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8BC50A-1F9D-4232-8881-186657DFA89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DA1276B-0BB0-4264-BCEA-DEF5E3DB871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2A4CEB9-063F-4DC0-A11C-BAB875A69F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80DAF-D8C6-4C73-AB63-FF3598344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E4B5A-A378-4241-9FC3-50AF3BABC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A28B00-6B2B-4D4E-A024-0358C0F59E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8292D2-D5CC-434F-A39A-5F48709298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88DA9E9-8722-4D71-88FD-7B307E9EE9B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458ADD7-07CB-457B-8B07-2506EA96CB1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07B9133-05BF-4D9D-8624-31A1BB1D3F7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DD837-6586-4A02-B7D9-20CC3EF16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1C980-C9F6-4DAB-A905-7FC9A7123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0D207-865F-44CF-B80D-17581CFDA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1F448-9425-4E0C-BA0B-45E144894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4C70DA-63F9-421F-AF3F-2DE9F24F86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842BC-0C2C-4A15-AB22-9552EED47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56D92-3794-4C28-8B35-372FEE6B43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3898E-9631-45BC-9E58-88E0E3E2C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6D48A2-8E55-45FB-BD09-5494A4962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614F7-7B29-4DEB-869A-2F4A735FB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741D7F-2A80-48CF-BE2A-FDECBEE03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BDD58-3D33-4F86-9134-C6B379472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BC7EA-890E-4DA3-B324-AC56DE3D8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EA840-B1D4-4FEA-B522-C011676F3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8CBB45-E52F-4CC9-9FA4-A53E95DA5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D44BBD-DD85-4502-AECE-9627FE6BD1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BDE177-B150-4D52-9635-84AB5CEF08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7CCA5C-51D2-476C-B2CE-58C6A3BBD2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FA61A3-33A1-4C6D-AEC0-229CD8C164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2F6F1D-2DF4-40DB-94C8-2C0A0795A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BE8D9-7311-4ABB-B665-F9BCCB889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46319E-0F4A-4449-8DF0-0FDBE8B4AD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DB9C56-EADC-49C4-8D54-1193FDA5B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501AC-7A44-4BB4-A433-DE6F8FDD2F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8A0BB2-2628-4619-8A40-798D7A763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01638-B443-4CD0-AA92-B6D9580CAE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26CA0-DAC0-4328-9307-CDD18BCF8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CFADD-D3A9-473E-9C6A-A2EE8E3E4E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63E99D-8810-4AA8-B29C-E8EF1C65D0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7DF5BD-F2D6-4D95-B260-5BAF1BDA2D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F955C3-932E-4EB2-9D1A-0A1B11FE49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F3783-BC53-4D8F-85DE-870485A74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EE0930-1B19-4B82-9704-A010DF6077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9E8D4-B753-46AF-AE29-7FFD0B43EA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87F84-B735-4FE8-B6BB-60E9F13BE9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910081-89A8-4E8F-A971-1EC4ABDB1F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D09488-F85D-4CFA-963A-708C78EFE5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D64B8-66D6-4E2E-8E60-980C7BD03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70B6E4-8482-4BE0-A0DE-8EFBDD14C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3AD82-E118-4A7A-AA6C-6665B08153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A321F-66E6-4CD4-9A09-8B64D2A36C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9CB445-2625-41A2-9271-EE067868E7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95B52-4A9F-4011-A552-615C1EEC3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91F391-3955-4573-9F6E-3BE99D40AE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9783B8-D4F7-4376-995E-9F0A8C6050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979DC5-B00D-4897-A678-8A128F686D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A63CE3-0AD3-4C70-B3DD-28B8DF9F08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D3ABA4-D923-4519-9E10-98A640116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0EDEE8-5D94-4C64-B03A-83B6D26549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78A021-FEDF-40AB-822A-6E06E76478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4BC2EB-01B4-4C10-8245-1EF899DCA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807C6B-CA11-4B77-9EEF-16A96986F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8928B-EAF8-407F-B031-B8CF831DA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37D30-C48D-4908-9F52-9A58C9253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F3B740-3C1E-47C5-A0A0-7D23A4CC2C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BB7D66-5F14-4CB7-BB3B-D590D2FBB0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257DF2-9E75-4AA4-8FE0-B7BB8EF092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565B8B-34E0-40EA-B0A8-2A07743375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420E63-36B3-4142-83E6-FB2AADDAAB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83A3B9-1C79-4872-8911-EEF486A151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A8866B-B1C9-4FBD-B7AF-F2F7274494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C6D32B-CCB7-42BE-BEB3-80FA0CE42B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33DBDE-878C-4E05-8B43-732C53465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192D8C-0F4F-4B08-92F8-F620C8297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5894-4C1A-4B5F-8D63-2F7FF9A4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6AF29-239C-48CF-9F23-75834CC08B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FAFF5C-66FF-426E-B5E7-9B7EAD1B7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C09F8C-35D8-48B5-9D8B-3424CA2F21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99BBFD-40A3-479B-91ED-5040D244D0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2389A8-B986-4D60-9B40-C7516AB0FA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8651C6-29A0-43B1-9030-7FAAF53D02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E9290A-FCF8-4EEE-B453-990C9FA977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A71F0C-36A4-46E6-A0D9-A1E910CB0E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CDCB03-4CD1-428E-B04D-60F43611F6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20022B-1542-4F97-85F0-CD13F51C47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F9824-99EE-40C9-8FB9-DD89CCB28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C1EEDF-33D1-4BEA-B719-F899A4AF2A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0D0BBF-F2F7-4E19-A6D8-F5A6840DA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11D7F2-CD86-4282-B55A-3275873A52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49703-D9FF-43ED-BFBC-74B9F7D53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EBD7B9-14E2-4EF7-8FB3-59F1A3A630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62672A-74DA-4CE8-A83C-C102018EB1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45F08E-EE8D-42F7-B324-740588C037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C5A1F8-3523-45BC-AF1A-5F29D2429F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825080-ACD8-4F9C-9105-D5CBCF9846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8664F5-77CD-4077-A7B1-B4C3ABDF51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22" descr=""/>
          <p:cNvPicPr/>
          <p:nvPr/>
        </p:nvPicPr>
        <p:blipFill>
          <a:blip r:embed="rId2"/>
          <a:stretch/>
        </p:blipFill>
        <p:spPr>
          <a:xfrm>
            <a:off x="0" y="231840"/>
            <a:ext cx="2852640" cy="6638760"/>
          </a:xfrm>
          <a:prstGeom prst="rect">
            <a:avLst/>
          </a:prstGeom>
          <a:ln w="0">
            <a:noFill/>
          </a:ln>
        </p:spPr>
      </p:pic>
      <p:pic>
        <p:nvPicPr>
          <p:cNvPr id="1" name="Group 9" descr=""/>
          <p:cNvPicPr/>
          <p:nvPr/>
        </p:nvPicPr>
        <p:blipFill>
          <a:blip r:embed="rId3"/>
          <a:stretch/>
        </p:blipFill>
        <p:spPr>
          <a:xfrm>
            <a:off x="23760" y="0"/>
            <a:ext cx="2359080" cy="6851520"/>
          </a:xfrm>
          <a:prstGeom prst="rect">
            <a:avLst/>
          </a:prstGeom>
          <a:ln w="0">
            <a:noFill/>
          </a:ln>
        </p:spPr>
      </p:pic>
      <p:sp>
        <p:nvSpPr>
          <p:cNvPr id="2"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290AA-7113-4EE6-89BA-A242AE62A0F1}"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22" descr=""/>
          <p:cNvPicPr/>
          <p:nvPr/>
        </p:nvPicPr>
        <p:blipFill>
          <a:blip r:embed="rId2"/>
          <a:stretch/>
        </p:blipFill>
        <p:spPr>
          <a:xfrm>
            <a:off x="0" y="231840"/>
            <a:ext cx="2852640" cy="6638760"/>
          </a:xfrm>
          <a:prstGeom prst="rect">
            <a:avLst/>
          </a:prstGeom>
          <a:ln w="0">
            <a:noFill/>
          </a:ln>
        </p:spPr>
      </p:pic>
      <p:pic>
        <p:nvPicPr>
          <p:cNvPr id="405" name="Group 9" descr=""/>
          <p:cNvPicPr/>
          <p:nvPr/>
        </p:nvPicPr>
        <p:blipFill>
          <a:blip r:embed="rId3"/>
          <a:stretch/>
        </p:blipFill>
        <p:spPr>
          <a:xfrm>
            <a:off x="23760" y="0"/>
            <a:ext cx="2359080" cy="6851520"/>
          </a:xfrm>
          <a:prstGeom prst="rect">
            <a:avLst/>
          </a:prstGeom>
          <a:ln w="0">
            <a:noFill/>
          </a:ln>
        </p:spPr>
      </p:pic>
      <p:sp>
        <p:nvSpPr>
          <p:cNvPr id="40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1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C67E0-CC2D-4A64-B2C7-DD8595C18F1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22" descr=""/>
          <p:cNvPicPr/>
          <p:nvPr/>
        </p:nvPicPr>
        <p:blipFill>
          <a:blip r:embed="rId2"/>
          <a:stretch/>
        </p:blipFill>
        <p:spPr>
          <a:xfrm>
            <a:off x="0" y="231840"/>
            <a:ext cx="2852640" cy="6638760"/>
          </a:xfrm>
          <a:prstGeom prst="rect">
            <a:avLst/>
          </a:prstGeom>
          <a:ln w="0">
            <a:noFill/>
          </a:ln>
        </p:spPr>
      </p:pic>
      <p:pic>
        <p:nvPicPr>
          <p:cNvPr id="450" name="Group 9" descr=""/>
          <p:cNvPicPr/>
          <p:nvPr/>
        </p:nvPicPr>
        <p:blipFill>
          <a:blip r:embed="rId3"/>
          <a:stretch/>
        </p:blipFill>
        <p:spPr>
          <a:xfrm>
            <a:off x="23760" y="0"/>
            <a:ext cx="2359080" cy="6851520"/>
          </a:xfrm>
          <a:prstGeom prst="rect">
            <a:avLst/>
          </a:prstGeom>
          <a:ln w="0">
            <a:noFill/>
          </a:ln>
        </p:spPr>
      </p:pic>
      <p:sp>
        <p:nvSpPr>
          <p:cNvPr id="45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2"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55"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57"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8C62A-590E-40B8-BD3A-3A1A031E177B}"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22" descr=""/>
          <p:cNvPicPr/>
          <p:nvPr/>
        </p:nvPicPr>
        <p:blipFill>
          <a:blip r:embed="rId2"/>
          <a:stretch/>
        </p:blipFill>
        <p:spPr>
          <a:xfrm>
            <a:off x="0" y="231840"/>
            <a:ext cx="2852640" cy="6638760"/>
          </a:xfrm>
          <a:prstGeom prst="rect">
            <a:avLst/>
          </a:prstGeom>
          <a:ln w="0">
            <a:noFill/>
          </a:ln>
        </p:spPr>
      </p:pic>
      <p:pic>
        <p:nvPicPr>
          <p:cNvPr id="495" name="Group 9" descr=""/>
          <p:cNvPicPr/>
          <p:nvPr/>
        </p:nvPicPr>
        <p:blipFill>
          <a:blip r:embed="rId3"/>
          <a:stretch/>
        </p:blipFill>
        <p:spPr>
          <a:xfrm>
            <a:off x="23760" y="0"/>
            <a:ext cx="2359080" cy="6851520"/>
          </a:xfrm>
          <a:prstGeom prst="rect">
            <a:avLst/>
          </a:prstGeom>
          <a:ln w="0">
            <a:noFill/>
          </a:ln>
        </p:spPr>
      </p:pic>
      <p:sp>
        <p:nvSpPr>
          <p:cNvPr id="49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8"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499"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2"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04"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E9275-A4DC-4721-80BB-2B95987949BE}"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22" descr=""/>
          <p:cNvPicPr/>
          <p:nvPr/>
        </p:nvPicPr>
        <p:blipFill>
          <a:blip r:embed="rId2"/>
          <a:stretch/>
        </p:blipFill>
        <p:spPr>
          <a:xfrm>
            <a:off x="0" y="231840"/>
            <a:ext cx="2852640" cy="6638760"/>
          </a:xfrm>
          <a:prstGeom prst="rect">
            <a:avLst/>
          </a:prstGeom>
          <a:ln w="0">
            <a:noFill/>
          </a:ln>
        </p:spPr>
      </p:pic>
      <p:pic>
        <p:nvPicPr>
          <p:cNvPr id="542" name="Group 9" descr=""/>
          <p:cNvPicPr/>
          <p:nvPr/>
        </p:nvPicPr>
        <p:blipFill>
          <a:blip r:embed="rId3"/>
          <a:stretch/>
        </p:blipFill>
        <p:spPr>
          <a:xfrm>
            <a:off x="23760" y="0"/>
            <a:ext cx="2359080" cy="6851520"/>
          </a:xfrm>
          <a:prstGeom prst="rect">
            <a:avLst/>
          </a:prstGeom>
          <a:ln w="0">
            <a:noFill/>
          </a:ln>
        </p:spPr>
      </p:pic>
      <p:sp>
        <p:nvSpPr>
          <p:cNvPr id="543"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4"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47"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9"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7EFEC-37BD-470D-AA46-52984A01DFB6}"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22" descr=""/>
          <p:cNvPicPr/>
          <p:nvPr/>
        </p:nvPicPr>
        <p:blipFill>
          <a:blip r:embed="rId2"/>
          <a:stretch/>
        </p:blipFill>
        <p:spPr>
          <a:xfrm>
            <a:off x="0" y="231840"/>
            <a:ext cx="2852640" cy="6638760"/>
          </a:xfrm>
          <a:prstGeom prst="rect">
            <a:avLst/>
          </a:prstGeom>
          <a:ln w="0">
            <a:noFill/>
          </a:ln>
        </p:spPr>
      </p:pic>
      <p:pic>
        <p:nvPicPr>
          <p:cNvPr id="587" name="Group 9" descr=""/>
          <p:cNvPicPr/>
          <p:nvPr/>
        </p:nvPicPr>
        <p:blipFill>
          <a:blip r:embed="rId3"/>
          <a:stretch/>
        </p:blipFill>
        <p:spPr>
          <a:xfrm>
            <a:off x="23760" y="0"/>
            <a:ext cx="2359080" cy="6851520"/>
          </a:xfrm>
          <a:prstGeom prst="rect">
            <a:avLst/>
          </a:prstGeom>
          <a:ln w="0">
            <a:noFill/>
          </a:ln>
        </p:spPr>
      </p:pic>
      <p:sp>
        <p:nvSpPr>
          <p:cNvPr id="588"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89"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90"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1"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94"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6"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B94B9-DAF6-4308-AD4D-6C48153361DD}"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22" descr=""/>
          <p:cNvPicPr/>
          <p:nvPr/>
        </p:nvPicPr>
        <p:blipFill>
          <a:blip r:embed="rId2"/>
          <a:stretch/>
        </p:blipFill>
        <p:spPr>
          <a:xfrm>
            <a:off x="0" y="231840"/>
            <a:ext cx="2852640" cy="6638760"/>
          </a:xfrm>
          <a:prstGeom prst="rect">
            <a:avLst/>
          </a:prstGeom>
          <a:ln w="0">
            <a:noFill/>
          </a:ln>
        </p:spPr>
      </p:pic>
      <p:pic>
        <p:nvPicPr>
          <p:cNvPr id="634" name="Group 9" descr=""/>
          <p:cNvPicPr/>
          <p:nvPr/>
        </p:nvPicPr>
        <p:blipFill>
          <a:blip r:embed="rId3"/>
          <a:stretch/>
        </p:blipFill>
        <p:spPr>
          <a:xfrm>
            <a:off x="23760" y="0"/>
            <a:ext cx="2359080" cy="6851520"/>
          </a:xfrm>
          <a:prstGeom prst="rect">
            <a:avLst/>
          </a:prstGeom>
          <a:ln w="0">
            <a:noFill/>
          </a:ln>
        </p:spPr>
      </p:pic>
      <p:sp>
        <p:nvSpPr>
          <p:cNvPr id="63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3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F0269-72CF-4311-84BD-C70B51C8EFF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22" descr=""/>
          <p:cNvPicPr/>
          <p:nvPr/>
        </p:nvPicPr>
        <p:blipFill>
          <a:blip r:embed="rId2"/>
          <a:stretch/>
        </p:blipFill>
        <p:spPr>
          <a:xfrm>
            <a:off x="0" y="231840"/>
            <a:ext cx="2852640" cy="6638760"/>
          </a:xfrm>
          <a:prstGeom prst="rect">
            <a:avLst/>
          </a:prstGeom>
          <a:ln w="0">
            <a:noFill/>
          </a:ln>
        </p:spPr>
      </p:pic>
      <p:pic>
        <p:nvPicPr>
          <p:cNvPr id="679" name="Group 9" descr=""/>
          <p:cNvPicPr/>
          <p:nvPr/>
        </p:nvPicPr>
        <p:blipFill>
          <a:blip r:embed="rId3"/>
          <a:stretch/>
        </p:blipFill>
        <p:spPr>
          <a:xfrm>
            <a:off x="23760" y="0"/>
            <a:ext cx="2359080" cy="6851520"/>
          </a:xfrm>
          <a:prstGeom prst="rect">
            <a:avLst/>
          </a:prstGeom>
          <a:ln w="0">
            <a:noFill/>
          </a:ln>
        </p:spPr>
      </p:pic>
      <p:sp>
        <p:nvSpPr>
          <p:cNvPr id="680"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84"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6"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5A9C9-F915-4C13-97BC-1C0C0B858A5B}"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22" descr=""/>
          <p:cNvPicPr/>
          <p:nvPr/>
        </p:nvPicPr>
        <p:blipFill>
          <a:blip r:embed="rId2"/>
          <a:stretch/>
        </p:blipFill>
        <p:spPr>
          <a:xfrm>
            <a:off x="0" y="231840"/>
            <a:ext cx="2852640" cy="6638760"/>
          </a:xfrm>
          <a:prstGeom prst="rect">
            <a:avLst/>
          </a:prstGeom>
          <a:ln w="0">
            <a:noFill/>
          </a:ln>
        </p:spPr>
      </p:pic>
      <p:pic>
        <p:nvPicPr>
          <p:cNvPr id="724" name="Group 9" descr=""/>
          <p:cNvPicPr/>
          <p:nvPr/>
        </p:nvPicPr>
        <p:blipFill>
          <a:blip r:embed="rId3"/>
          <a:stretch/>
        </p:blipFill>
        <p:spPr>
          <a:xfrm>
            <a:off x="23760" y="0"/>
            <a:ext cx="2359080" cy="6851520"/>
          </a:xfrm>
          <a:prstGeom prst="rect">
            <a:avLst/>
          </a:prstGeom>
          <a:ln w="0">
            <a:noFill/>
          </a:ln>
        </p:spPr>
      </p:pic>
      <p:sp>
        <p:nvSpPr>
          <p:cNvPr id="72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6"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729"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1"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208CC-BB55-4496-9A9B-A70E799D7988}"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22" descr=""/>
          <p:cNvPicPr/>
          <p:nvPr/>
        </p:nvPicPr>
        <p:blipFill>
          <a:blip r:embed="rId2"/>
          <a:stretch/>
        </p:blipFill>
        <p:spPr>
          <a:xfrm>
            <a:off x="0" y="231840"/>
            <a:ext cx="2852640" cy="6638760"/>
          </a:xfrm>
          <a:prstGeom prst="rect">
            <a:avLst/>
          </a:prstGeom>
          <a:ln w="0">
            <a:noFill/>
          </a:ln>
        </p:spPr>
      </p:pic>
      <p:pic>
        <p:nvPicPr>
          <p:cNvPr id="45" name="Group 9" descr=""/>
          <p:cNvPicPr/>
          <p:nvPr/>
        </p:nvPicPr>
        <p:blipFill>
          <a:blip r:embed="rId3"/>
          <a:stretch/>
        </p:blipFill>
        <p:spPr>
          <a:xfrm>
            <a:off x="23760" y="0"/>
            <a:ext cx="2359080" cy="6851520"/>
          </a:xfrm>
          <a:prstGeom prst="rect">
            <a:avLst/>
          </a:prstGeom>
          <a:ln w="0">
            <a:noFill/>
          </a:ln>
        </p:spPr>
      </p:pic>
      <p:sp>
        <p:nvSpPr>
          <p:cNvPr id="4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F8073-5DF4-4FAF-9344-5463F61250AB}"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22" descr=""/>
          <p:cNvPicPr/>
          <p:nvPr/>
        </p:nvPicPr>
        <p:blipFill>
          <a:blip r:embed="rId2"/>
          <a:stretch/>
        </p:blipFill>
        <p:spPr>
          <a:xfrm>
            <a:off x="0" y="231840"/>
            <a:ext cx="2852640" cy="6638760"/>
          </a:xfrm>
          <a:prstGeom prst="rect">
            <a:avLst/>
          </a:prstGeom>
          <a:ln w="0">
            <a:noFill/>
          </a:ln>
        </p:spPr>
      </p:pic>
      <p:pic>
        <p:nvPicPr>
          <p:cNvPr id="90" name="Group 9" descr=""/>
          <p:cNvPicPr/>
          <p:nvPr/>
        </p:nvPicPr>
        <p:blipFill>
          <a:blip r:embed="rId3"/>
          <a:stretch/>
        </p:blipFill>
        <p:spPr>
          <a:xfrm>
            <a:off x="23760" y="0"/>
            <a:ext cx="2359080" cy="6851520"/>
          </a:xfrm>
          <a:prstGeom prst="rect">
            <a:avLst/>
          </a:prstGeom>
          <a:ln w="0">
            <a:noFill/>
          </a:ln>
        </p:spPr>
      </p:pic>
      <p:sp>
        <p:nvSpPr>
          <p:cNvPr id="9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95"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7"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118AE-101D-41A3-A522-F435CE5C9CB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22" descr=""/>
          <p:cNvPicPr/>
          <p:nvPr/>
        </p:nvPicPr>
        <p:blipFill>
          <a:blip r:embed="rId2"/>
          <a:stretch/>
        </p:blipFill>
        <p:spPr>
          <a:xfrm>
            <a:off x="0" y="231840"/>
            <a:ext cx="2852640" cy="6638760"/>
          </a:xfrm>
          <a:prstGeom prst="rect">
            <a:avLst/>
          </a:prstGeom>
          <a:ln w="0">
            <a:noFill/>
          </a:ln>
        </p:spPr>
      </p:pic>
      <p:pic>
        <p:nvPicPr>
          <p:cNvPr id="135" name="Group 9" descr=""/>
          <p:cNvPicPr/>
          <p:nvPr/>
        </p:nvPicPr>
        <p:blipFill>
          <a:blip r:embed="rId3"/>
          <a:stretch/>
        </p:blipFill>
        <p:spPr>
          <a:xfrm>
            <a:off x="23760" y="0"/>
            <a:ext cx="2359080" cy="6851520"/>
          </a:xfrm>
          <a:prstGeom prst="rect">
            <a:avLst/>
          </a:prstGeom>
          <a:ln w="0">
            <a:noFill/>
          </a:ln>
        </p:spPr>
      </p:pic>
      <p:sp>
        <p:nvSpPr>
          <p:cNvPr id="13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40"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2"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4D507-8272-48B8-B18D-C7DFF350EF8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22" descr=""/>
          <p:cNvPicPr/>
          <p:nvPr/>
        </p:nvPicPr>
        <p:blipFill>
          <a:blip r:embed="rId2"/>
          <a:stretch/>
        </p:blipFill>
        <p:spPr>
          <a:xfrm>
            <a:off x="0" y="231840"/>
            <a:ext cx="2852640" cy="6638760"/>
          </a:xfrm>
          <a:prstGeom prst="rect">
            <a:avLst/>
          </a:prstGeom>
          <a:ln w="0">
            <a:noFill/>
          </a:ln>
        </p:spPr>
      </p:pic>
      <p:pic>
        <p:nvPicPr>
          <p:cNvPr id="180" name="Group 9" descr=""/>
          <p:cNvPicPr/>
          <p:nvPr/>
        </p:nvPicPr>
        <p:blipFill>
          <a:blip r:embed="rId3"/>
          <a:stretch/>
        </p:blipFill>
        <p:spPr>
          <a:xfrm>
            <a:off x="23760" y="0"/>
            <a:ext cx="2359080" cy="6851520"/>
          </a:xfrm>
          <a:prstGeom prst="rect">
            <a:avLst/>
          </a:prstGeom>
          <a:ln w="0">
            <a:noFill/>
          </a:ln>
        </p:spPr>
      </p:pic>
      <p:sp>
        <p:nvSpPr>
          <p:cNvPr id="18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8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8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0497A-B5D7-40A8-A63A-7C97EE5272B7}"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22" descr=""/>
          <p:cNvPicPr/>
          <p:nvPr/>
        </p:nvPicPr>
        <p:blipFill>
          <a:blip r:embed="rId2"/>
          <a:stretch/>
        </p:blipFill>
        <p:spPr>
          <a:xfrm>
            <a:off x="0" y="231840"/>
            <a:ext cx="2852640" cy="6638760"/>
          </a:xfrm>
          <a:prstGeom prst="rect">
            <a:avLst/>
          </a:prstGeom>
          <a:ln w="0">
            <a:noFill/>
          </a:ln>
        </p:spPr>
      </p:pic>
      <p:pic>
        <p:nvPicPr>
          <p:cNvPr id="225" name="Group 9" descr=""/>
          <p:cNvPicPr/>
          <p:nvPr/>
        </p:nvPicPr>
        <p:blipFill>
          <a:blip r:embed="rId3"/>
          <a:stretch/>
        </p:blipFill>
        <p:spPr>
          <a:xfrm>
            <a:off x="23760" y="0"/>
            <a:ext cx="2359080" cy="6851520"/>
          </a:xfrm>
          <a:prstGeom prst="rect">
            <a:avLst/>
          </a:prstGeom>
          <a:ln w="0">
            <a:noFill/>
          </a:ln>
        </p:spPr>
      </p:pic>
      <p:sp>
        <p:nvSpPr>
          <p:cNvPr id="22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30"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2"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F5521-D9F8-40FD-865C-EB2D2E24F17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22" descr=""/>
          <p:cNvPicPr/>
          <p:nvPr/>
        </p:nvPicPr>
        <p:blipFill>
          <a:blip r:embed="rId2"/>
          <a:stretch/>
        </p:blipFill>
        <p:spPr>
          <a:xfrm>
            <a:off x="0" y="231840"/>
            <a:ext cx="2852640" cy="6638760"/>
          </a:xfrm>
          <a:prstGeom prst="rect">
            <a:avLst/>
          </a:prstGeom>
          <a:ln w="0">
            <a:noFill/>
          </a:ln>
        </p:spPr>
      </p:pic>
      <p:pic>
        <p:nvPicPr>
          <p:cNvPr id="270" name="Group 9" descr=""/>
          <p:cNvPicPr/>
          <p:nvPr/>
        </p:nvPicPr>
        <p:blipFill>
          <a:blip r:embed="rId3"/>
          <a:stretch/>
        </p:blipFill>
        <p:spPr>
          <a:xfrm>
            <a:off x="23760" y="0"/>
            <a:ext cx="2359080" cy="6851520"/>
          </a:xfrm>
          <a:prstGeom prst="rect">
            <a:avLst/>
          </a:prstGeom>
          <a:ln w="0">
            <a:noFill/>
          </a:ln>
        </p:spPr>
      </p:pic>
      <p:sp>
        <p:nvSpPr>
          <p:cNvPr id="27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75"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7"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99DB1-84A0-4430-8C07-5DD9C989D571}"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22" descr=""/>
          <p:cNvPicPr/>
          <p:nvPr/>
        </p:nvPicPr>
        <p:blipFill>
          <a:blip r:embed="rId2"/>
          <a:stretch/>
        </p:blipFill>
        <p:spPr>
          <a:xfrm>
            <a:off x="0" y="231840"/>
            <a:ext cx="2852640" cy="6638760"/>
          </a:xfrm>
          <a:prstGeom prst="rect">
            <a:avLst/>
          </a:prstGeom>
          <a:ln w="0">
            <a:noFill/>
          </a:ln>
        </p:spPr>
      </p:pic>
      <p:pic>
        <p:nvPicPr>
          <p:cNvPr id="315" name="Group 9" descr=""/>
          <p:cNvPicPr/>
          <p:nvPr/>
        </p:nvPicPr>
        <p:blipFill>
          <a:blip r:embed="rId3"/>
          <a:stretch/>
        </p:blipFill>
        <p:spPr>
          <a:xfrm>
            <a:off x="23760" y="0"/>
            <a:ext cx="2359080" cy="6851520"/>
          </a:xfrm>
          <a:prstGeom prst="rect">
            <a:avLst/>
          </a:prstGeom>
          <a:ln w="0">
            <a:noFill/>
          </a:ln>
        </p:spPr>
      </p:pic>
      <p:sp>
        <p:nvSpPr>
          <p:cNvPr id="31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20"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2"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7DC75-7F75-4FB7-BF31-90874148701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22" descr=""/>
          <p:cNvPicPr/>
          <p:nvPr/>
        </p:nvPicPr>
        <p:blipFill>
          <a:blip r:embed="rId2"/>
          <a:stretch/>
        </p:blipFill>
        <p:spPr>
          <a:xfrm>
            <a:off x="0" y="231840"/>
            <a:ext cx="2852640" cy="6638760"/>
          </a:xfrm>
          <a:prstGeom prst="rect">
            <a:avLst/>
          </a:prstGeom>
          <a:ln w="0">
            <a:noFill/>
          </a:ln>
        </p:spPr>
      </p:pic>
      <p:pic>
        <p:nvPicPr>
          <p:cNvPr id="360" name="Group 9" descr=""/>
          <p:cNvPicPr/>
          <p:nvPr/>
        </p:nvPicPr>
        <p:blipFill>
          <a:blip r:embed="rId3"/>
          <a:stretch/>
        </p:blipFill>
        <p:spPr>
          <a:xfrm>
            <a:off x="23760" y="0"/>
            <a:ext cx="2359080" cy="6851520"/>
          </a:xfrm>
          <a:prstGeom prst="rect">
            <a:avLst/>
          </a:prstGeom>
          <a:ln w="0">
            <a:noFill/>
          </a:ln>
        </p:spPr>
      </p:pic>
      <p:sp>
        <p:nvSpPr>
          <p:cNvPr id="36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65"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7"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65DA3-67EE-451E-9F55-3D361E8CD63B}"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hyperlink" Target="http://hub.coe.int/" TargetMode="External"/><Relationship Id="rId2" Type="http://schemas.openxmlformats.org/officeDocument/2006/relationships/hyperlink" Target="http://nasuwt.org.uk/" TargetMode="External"/><Relationship Id="rId3"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hyperlink" Target="http://ii.gmalik.com/pdfs/Better_Education_for_All_Global_Report_October_2009.pdf" TargetMode="External"/><Relationship Id="rId2" Type="http://schemas.openxmlformats.org/officeDocument/2006/relationships/slideLayout" Target="../slideLayouts/slideLayout145.xml"/>
</Relationships>
</file>

<file path=ppt/slides/_rels/slide57.xml.rels><?xml version="1.0" encoding="UTF-8"?>
<Relationships xmlns="http://schemas.openxmlformats.org/package/2006/relationships"><Relationship Id="rId1" Type="http://schemas.openxmlformats.org/officeDocument/2006/relationships/hyperlink" Target="http://www.unesco.org/education/pdf/SALAMA_E.PDF" TargetMode="External"/><Relationship Id="rId2" Type="http://schemas.openxmlformats.org/officeDocument/2006/relationships/hyperlink" Target="http://www.corwin.com/upm-data/8961_Ch_1_from_Algozzine6_Rev_Final_Pdf_3.pdf" TargetMode="External"/><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725480" y="2089080"/>
            <a:ext cx="9779040" cy="26877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4000" spc="-1" strike="noStrike">
                <a:solidFill>
                  <a:srgbClr val="ffffff"/>
                </a:solidFill>
                <a:latin typeface="Century Gothic"/>
              </a:rPr>
              <a:t>Διεθνείς τάσεις-διακηρύξεις και ψηφίσματα για την  Ένταξη στο εκπαιδευτικό σύστημα μαθητών με εεα/αναπηρίες</a:t>
            </a:r>
            <a:endParaRPr b="0" lang="en-US" sz="4000" spc="-1" strike="noStrike">
              <a:solidFill>
                <a:srgbClr val="ffffff"/>
              </a:solidFill>
              <a:latin typeface="Century Gothic"/>
            </a:endParaRPr>
          </a:p>
        </p:txBody>
      </p:sp>
      <p:sp>
        <p:nvSpPr>
          <p:cNvPr id="769" name="PlaceHolder 2"/>
          <p:cNvSpPr>
            <a:spLocks noGrp="1"/>
          </p:cNvSpPr>
          <p:nvPr>
            <p:ph type="subTitle"/>
          </p:nvPr>
        </p:nvSpPr>
        <p:spPr>
          <a:xfrm>
            <a:off x="2588760" y="4776480"/>
            <a:ext cx="8915400" cy="112716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Century Gothic"/>
              </a:rPr>
              <a:t> </a:t>
            </a:r>
            <a:endParaRPr b="0" lang="en-US" sz="3200" spc="-1" strike="noStrike">
              <a:solidFill>
                <a:srgbClr val="ffffff"/>
              </a:solidFill>
              <a:latin typeface="Century Gothic"/>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Δρ. ΚΩΝΣΤΑΝΤΙΝΟΣ ΛΟΛΙΤΣΑΣ</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1257120" y="280800"/>
            <a:ext cx="10661400" cy="6337080"/>
          </a:xfrm>
          <a:prstGeom prst="rect">
            <a:avLst/>
          </a:prstGeom>
          <a:noFill/>
          <a:ln w="0">
            <a:noFill/>
          </a:ln>
        </p:spPr>
        <p:txBody>
          <a:bodyPr anchor="t">
            <a:normAutofit fontScale="98000"/>
          </a:bodyPr>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ρευνες για την εφαρμογή προγραμμάτων ένταξης και  ενσωμάτωσης  στις  χώρες της Ευρώπης, στην Αμερική και στην Αυστραλία κατέδειξαν ότι ο μαθητής παρέμενε στιγματισμένος μέσα στη γενική τάξη και προσπαθούσε να ακολουθήσει ένα Αναλυτικό Πρόγραμμα, το  οποίο  είχε  σχεδιαστεί  ερήμην του (Σούλης, 2002: 325).</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ις αρχές της δεκαετίας του ‘90 οι ειδικές ανάγκες επαναπροσδιορίζονται και ορίζονται ως </a:t>
            </a:r>
            <a:r>
              <a:rPr b="1" lang="el-GR" sz="1800" spc="-1" strike="noStrike">
                <a:solidFill>
                  <a:srgbClr val="ffffff"/>
                </a:solidFill>
                <a:latin typeface="Century Gothic"/>
              </a:rPr>
              <a:t>ειδικές εκπαιδευτικές ανάγκες (ΕΕΑ). </a:t>
            </a:r>
            <a:r>
              <a:rPr b="0" lang="el-GR" sz="1800" spc="-1" strike="noStrike">
                <a:solidFill>
                  <a:srgbClr val="ffffff"/>
                </a:solidFill>
                <a:latin typeface="Century Gothic"/>
              </a:rPr>
              <a:t>Σύμφωνα με αυτόν τον όρο, </a:t>
            </a:r>
            <a:r>
              <a:rPr b="1" lang="el-GR" sz="1800" spc="-1" strike="noStrike">
                <a:solidFill>
                  <a:srgbClr val="ffffff"/>
                </a:solidFill>
                <a:latin typeface="Century Gothic"/>
              </a:rPr>
              <a:t>ένα παιδί θεωρείται ότι έχει  ειδικές εκπαιδευτικές ανάγκες, όταν λόγω των μαθησιακών του αναγκών απαιτούνται εκπαιδευτικές παροχές, σχεδιασμένες ώστε να ανταποκρίνονται στις ατομικές του ανάγκες</a:t>
            </a:r>
            <a:r>
              <a:rPr b="0" lang="el-GR" sz="1800" spc="-1" strike="noStrike">
                <a:solidFill>
                  <a:srgbClr val="ffffff"/>
                </a:solidFill>
                <a:latin typeface="Century Gothic"/>
              </a:rPr>
              <a:t>. Μ’ αυτόν τον τρόπο υποδηλώνεται ότι η διαφορετικότητα των παιδιών δεν οφείλεται στην ανεπάρκειά τους αλλά κυρίως στην αδυναμία του σχολείου να καλύψει τις ανάγκες αυτών των παιδιών (Ζώνιου- Σιδέρη, 2000: 44, Τζουριάδου, 1995: 45). Την περίοδο αυτή η Ειδική Αγωγή φαίνεται ότι εισάγεται σε μια νέα εποχή έντονων διεκδικήσεων και κύριος στόχος των διαφόρων οργανώσεων Αναπήρων είναι η αποδοχή του δικαιώματος να είναι διαφορετικοί.</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πικρατούσα λοιπόν αντίληψη είναι ότι  κάθε παιδί, ανεξάρτητα από  τις ιδιαιτερότητές του, πρέπει να εκπαιδεύεται σε γενική τάξη με ειδική υποστήριξη και εξατομικευμένο εκπαιδευτικό πρόγραμμα διδασκαλίας. </a:t>
            </a:r>
            <a:r>
              <a:rPr b="1" lang="el-GR" sz="1800" spc="-1" strike="noStrike">
                <a:solidFill>
                  <a:srgbClr val="ffffff"/>
                </a:solidFill>
                <a:latin typeface="Century Gothic"/>
              </a:rPr>
              <a:t>Απόρροια της παραπάνω αντίληψης ήταν μία καινούρια τάση που στη διεθνή βιβλιογραφία αναφέρεται ως inclusion.    Ο  όρος  στα  ελληνικά  έχει  αποδοθεί  και  ως  </a:t>
            </a:r>
            <a:r>
              <a:rPr b="1" lang="el-GR" sz="1800" spc="-1" strike="noStrike" u="sng">
                <a:solidFill>
                  <a:srgbClr val="ffffff"/>
                </a:solidFill>
                <a:uFillTx/>
                <a:latin typeface="Century Gothic"/>
              </a:rPr>
              <a:t>συνεκπαίδευση</a:t>
            </a:r>
            <a:r>
              <a:rPr b="1" lang="el-GR" sz="1800" spc="-1" strike="noStrike">
                <a:solidFill>
                  <a:srgbClr val="ffffff"/>
                </a:solidFill>
                <a:latin typeface="Century Gothic"/>
              </a:rPr>
              <a:t> </a:t>
            </a:r>
            <a:r>
              <a:rPr b="0" lang="el-GR" sz="1800" spc="-1" strike="noStrike">
                <a:solidFill>
                  <a:srgbClr val="ffffff"/>
                </a:solidFill>
                <a:latin typeface="Century Gothic"/>
              </a:rPr>
              <a:t>και προήλθε κυρίως από τον διεθνή προβληματισμό: </a:t>
            </a:r>
            <a:r>
              <a:rPr b="1" lang="el-GR" sz="1800" spc="-1" strike="noStrike">
                <a:solidFill>
                  <a:srgbClr val="ffffff"/>
                </a:solidFill>
                <a:latin typeface="Century Gothic"/>
              </a:rPr>
              <a:t>πώς το γενικό σχολείο θα ικανοποιήσει αποτελεσματικά τις ανάγκες των παιδιών με ιδιαιτερότητες </a:t>
            </a:r>
            <a:r>
              <a:rPr b="0" lang="el-GR" sz="1800" spc="-1" strike="noStrike">
                <a:solidFill>
                  <a:srgbClr val="ffffff"/>
                </a:solidFill>
                <a:latin typeface="Century Gothic"/>
              </a:rPr>
              <a:t>(Sebba &amp; Ainscow, 1996: 2) </a:t>
            </a:r>
            <a:r>
              <a:rPr b="1" lang="el-GR" sz="1800" spc="-1" strike="noStrike">
                <a:solidFill>
                  <a:srgbClr val="ffffff"/>
                </a:solidFill>
                <a:latin typeface="Century Gothic"/>
              </a:rPr>
              <a:t>και ποιες πρακτικές πρέπει να αναπτυχθούν για να ανταποκρίνεται πλήρως στις ιδιαιτερότητες του μαθητικού πληθυσμού.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1257120" y="280800"/>
            <a:ext cx="10661400" cy="633708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ους επιστημονικούς, λοιπόν, κύκλους  υποστηρίζεται  ότι  η  καθιέρωση  της  συνεκπαίδευσης   καταργεί το δυαδικό σύστημα και  ωθεί το  γενικό σχολείο στον επαναπροσδιορισμό των εκπαιδευτικών του στόχων, στην αλλαγή των Αναλυτικών Προγραμμάτων και στην καλλιέργεια κοινωνικής αλληλεπίδρασης μεταξύ  των μαθητών (Stainback &amp; Stainback, 1990, όπως αναφέρεται από τις Λαμπροπούλου &amp; Παντελιάδου, 2000: 166).</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Unesco   ορίζει   ότι:</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 </a:t>
            </a:r>
            <a:r>
              <a:rPr b="0" lang="el-GR" sz="1800" spc="-1" strike="noStrike">
                <a:solidFill>
                  <a:srgbClr val="ffffff"/>
                </a:solidFill>
                <a:latin typeface="Century Gothic"/>
              </a:rPr>
              <a:t>«</a:t>
            </a:r>
            <a:r>
              <a:rPr b="1" i="1" lang="el-GR" sz="1800" spc="-1" strike="noStrike">
                <a:solidFill>
                  <a:srgbClr val="ffffff"/>
                </a:solidFill>
                <a:latin typeface="Century Gothic"/>
              </a:rPr>
              <a:t>η συνεκπαίδευση προωθεί ένα εκπαιδευτικό σύστημα, στο οποίο όλοι οι μαθητές με ειδικές εκπαιδευτικές ανάγκες εγγράφονται σε κανονικές τάξεις στα σχολεία της περιοχής τους. Συγκεκριμένα, παρέχονται υπηρεσίες υποστήριξης και  εκπαίδευση  βασισμένες  στις  δυνάμεις και τις ανάγκες όλων των μαθητών. Τα σχολεία που εφαρμόζουν πρακτικές συνεκπαίδευσης υιοθετούν την αρχή ότι  όλα τα  παιδιά μιας κοινότητας πρέπει  να μαθαίνουν μαζί, ανεξάρτητα από τις ιδιαιτερότητες και τις δυσκολίες τους. Επιπλέον, τα σχολεία πρέπει να λαβαίνουν υπόψη τη διαφορετικότητα των παιδιών, να υιοθετούν διαφορετικά στιλ και ρυθμό διδασκαλίας και να  παρέχουν ποιοτική εκπαίδευση με την κατάλληλη χρήση πόρων, τον κατάλληλο σχολικό προγραμματισμό και την εκπόνηση σχεδίων συνεργασίας  με  τους  φορείς της κοινότητα</a:t>
            </a:r>
            <a:r>
              <a:rPr b="1" lang="el-GR" sz="1800" spc="-1" strike="noStrike">
                <a:solidFill>
                  <a:srgbClr val="ffffff"/>
                </a:solidFill>
                <a:latin typeface="Century Gothic"/>
              </a:rPr>
              <a:t>ς</a:t>
            </a:r>
            <a:r>
              <a:rPr b="0" lang="el-GR" sz="1800" spc="-1" strike="noStrike">
                <a:solidFill>
                  <a:srgbClr val="ffffff"/>
                </a:solidFill>
                <a:latin typeface="Century Gothic"/>
              </a:rPr>
              <a:t>» (http://portal.unesco.org/education).</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1257120" y="280800"/>
            <a:ext cx="10661400" cy="58496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ffffff"/>
                </a:solidFill>
                <a:latin typeface="Century Gothic"/>
              </a:rPr>
              <a:t>Η ΔΙΕΘΝΗΣ ΠΡΑΚΤΙΚΗ:</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u="sng">
                <a:solidFill>
                  <a:srgbClr val="ffffff"/>
                </a:solidFill>
                <a:uFillTx/>
                <a:latin typeface="Century Gothic"/>
              </a:rPr>
              <a:t>ΒΡΕΤΑΝΙΑ:</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74 συγκροτήθηκε η Committee of Enquiry, γνωστή ως επιτροπή Warnock, με σκοπό την αναθεώρηση των εκπαιδευτικών παροχών για παιδιά με ιδιαιτερότητες. Η επιτροπή, ύστερα από τέσσερα χρόνια μελέτης, συνέταξε τη γνωστή έκθεση Warnock, η οποία έφερε σημαντικές αλλαγές στην εκπαίδευση των παιδιών με ειδικές εκπαιδευτικές ανάγκες στη Βρετανία. Η έκθεση  Warnock (Department for Education and Science, 1978) ήταν αυτή που πρώτη επισήμανε τη σημασία της ένταξης των παιδιών με ιδιαιτερότητες στο γενικό σχολείο και επιχειρηματολόγησε υπέρ του περιορισμού των ειδικών σχολικών μονάδων.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ψηφίστηκε η «Νέα Εκπαιδευτική Πράξη» (New  Educational  Act). Με την Πράξη αυτή προωθήθηκαν δύο σημαντικές αλλαγές: α)  οι  Τοπικές Εκπαιδευτικές Αρχές (Local Education Authorities) ανέλαβαν υπεύθυνο ρόλο για τις εκπαιδευτικές παροχές των παιδιών με ειδικές εκπαιδευτικές ανάγκες και β) οι γονείς απέκτησαν το δικαίωμα να  συμμετέχουν ενεργά στη διαδικασία για την εκτίμηση της κατάστασης των παιδιών τους και στην απόφαση για τη σχολική τους φοίτηση (Lindsay, 2003:  4,  Woll,  2000:  1861-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1755360" y="394920"/>
            <a:ext cx="9975960" cy="63277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8 το Υπουργείο Παιδείας (Department of Education and Sciences) αναλαμβάνει την ευθύνη για την εκπαιδευτική πολιτική, την ποιότητα της εκπαίδευσης στα παιδιά με ΕΕΑ και την αξιοποίηση των οικονομικών πόρων. Μέχρι τότε, αυτά τα παιδιά βρίσκονταν στη δικαιοδοσία του Υπουργείου Υγείας (Ministry of Health) (Centre for Educational Research and Innovation, 1999: 18).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τελευταία τροποποίηση του 1993 υπογράμμισε την ανάγκη τοποθέτησης των παιδιών με ειδικές εκπαιδευτικές ανάγκες στο γενικό σχολείο, καθώς και την ανάγκη  εκπαίδευσής τους με κατάλληλα προγράμματα και τη συνδρομή ειδικού προσωπικού, (Evans &amp; Lunt, 2002: 2, Lindsay, 2003: 4-5, Τζουριάδου, 1995: 45-46, Woll, 2000:  1861).</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βρετανική κυβέρνηση επιτάχυνε την εφαρμογή της πολιτικής της συνεκπαίδευσης, το 1997, με τη θέσπιση του Green Paper (Department for Education and Employment, 1997) και του Special Educational Needs Action Program (Department for Education and Employment, 1998). Στις ρυθμίσεις αυτές γίνεται λόγος για την αναγκαιότητα ουσιαστικής συμμετοχής των παιδιών με ΕΕΑ -στις περιπτώσεις που παρουσιάζουν ήπιες  δυσκολίες- μέσα στο γενικό σχολείο.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στόσο, η ψήφιση του «Κώδικα Πρακτικής» (Code of Practice) προσδιόριζε ότι ένα παιδί δεν μπορεί να φοιτήσει στη γενική τάξη, όταν η συμπεριφορά του περιορίζει σημαντικά το χρόνο που αφιερώνει ο εκπαιδευτικός γενικής εκπαίδευσης στη διδασκαλία.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2588760" y="363600"/>
            <a:ext cx="8915400" cy="55483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New Section 316 (Education Act-1996) τονίζεται ότι ένας μαθητής με ειδικές εκπαιδευτικές ανάγκες πρέπει να εκπαιδεύεται σε  γενικό σχολείο, εκτός αν  δεν το επιθυμούν οι γονείς του και αν περιορίζει την αποτελεσματικότητα της εκπαίδευσης των μαθητών χωρίς ιδιαιτερότητες (Evans &amp; Lunt, 2002: 2 Lindsay, 2003: 4-5)</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Η.Π.Α.:</a:t>
            </a:r>
            <a:endParaRPr b="0" lang="en-US" sz="2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πρώτες συστηματικές προσπάθειες στο χώρο της Ειδικής Αγωγής άρχισαν να  γίνονται το 1964 με  την ψήφιση του Public Law 89-10. Σύμφωνα με το νόμο αυτό, θεσπίστηκαν μέτρα για την αύξηση των οικονομικών πόρων για την εκπαίδευση και για την ένταξη των παιδιών  με  ιδιαιτερότητες  σε ειδικά προγράμματα. Αργότερα, με την Rehabilitation Act του 1973 διευθετήθηκαν οικονομικά ζητήματα της εκπαίδευσης και έγιναν προσπάθειες περιορισμού των διακρίσεων εις βάρος των παιδιών με  ιδιαιτερότητε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1995480" y="311040"/>
            <a:ext cx="9871200" cy="65469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δύο παραπάνω νόμοι στην  ουσία άνοιξαν το  δρόμο για  την  ψήφιση του PL 94-142 (Education for All Handicapped Children Act- 1975). Το 1990 μετονομάστηκε σε Individuals with Disabilities Education Act (IDEA) (Lombardi &amp; Woodrum, 1999: 172 Smith et al., 1998: 15-16, Τζουριάδου, 1995: 30).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χές του </a:t>
            </a:r>
            <a:r>
              <a:rPr b="0" lang="en-US" sz="1800" spc="-1" strike="noStrike">
                <a:solidFill>
                  <a:srgbClr val="ffffff"/>
                </a:solidFill>
                <a:latin typeface="Century Gothic"/>
              </a:rPr>
              <a:t>PL 94-142</a:t>
            </a:r>
            <a:r>
              <a:rPr b="0" lang="el-GR" sz="1800" spc="-1" strike="noStrike">
                <a:solidFill>
                  <a:srgbClr val="ffffff"/>
                </a:solidFill>
                <a:latin typeface="Century Gothic"/>
              </a:rPr>
              <a:t> </a:t>
            </a:r>
            <a:r>
              <a:rPr b="0" lang="da-DK" sz="1800" spc="-1" strike="noStrike">
                <a:solidFill>
                  <a:srgbClr val="ffffff"/>
                </a:solidFill>
                <a:latin typeface="Century Gothic"/>
              </a:rPr>
              <a:t>(Πηγή: Smith et al., 1998: 16)</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graphicFrame>
        <p:nvGraphicFramePr>
          <p:cNvPr id="786" name=""/>
          <p:cNvGraphicFramePr/>
          <p:nvPr/>
        </p:nvGraphicFramePr>
        <p:xfrm>
          <a:off x="3147840" y="1932120"/>
          <a:ext cx="7315200" cy="4822560"/>
        </p:xfrm>
        <a:graphic>
          <a:graphicData uri="http://schemas.openxmlformats.org/drawingml/2006/table">
            <a:tbl>
              <a:tblPr/>
              <a:tblGrid>
                <a:gridCol w="3621240"/>
                <a:gridCol w="3693960"/>
              </a:tblGrid>
              <a:tr h="355320">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αροχέ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εριγραφή</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Λιγότερο περιοριστικό περιβάλλον</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a:t>
                      </a:r>
                      <a:r>
                        <a:rPr b="0" i="1" lang="en-US" sz="1400" spc="-1" strike="noStrike">
                          <a:solidFill>
                            <a:srgbClr val="ffffff"/>
                          </a:solidFill>
                          <a:latin typeface="Times New Roman"/>
                          <a:ea typeface="Times New Roman"/>
                        </a:rPr>
                        <a:t>Least restrictive environment</a:t>
                      </a:r>
                      <a:r>
                        <a:rPr b="0" i="1" lang="el-GR" sz="1400" spc="-1" strike="noStrike">
                          <a:solidFill>
                            <a:srgbClr val="ffffff"/>
                          </a:solidFill>
                          <a:latin typeface="Times New Roman"/>
                          <a:ea typeface="Times New Roman"/>
                        </a:rPr>
                        <a:t>)</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66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εκπαιδεύονται μαζί με τους συνομηλίκους τους στο μεγαλύτερο δυνατό βαθμό</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412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Εξατομικευμένο πρόγραμμα διδασκαλίας</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Individualized Education Program - IEP)</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Σε όλα τα παιδιά με ιδιαιτερότητες πρέπει να παρέχεται ένα εξατομικευμένο προγραμμα διδασκαλίας με τη συμμετοχή των ίδιων, των γονέων τους και του εκπαιδευτικού προσωπικού</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Σχετικά με τα δικαιώματα</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9840" indent="4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με ιδιαιτερότητες και οι γονείς τους πρέπει να εμπλέκονται ενεργά στις αποφάσεις σχετικά με την εκπαίδευσή των μαθητών με ειδικές εκπαιδευτικές ανάγκ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Υποστηρικτικές υπηρεσί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52360" indent="32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σχολεία πρέπει να παρέχουν υπηρεσίες, όπως φυσιοθεραπεία, μεταφορά, σύμβουλο κ.ά.</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Δωρεάν κατάλληλη  γενική εκπαίδευση</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4080" indent="-18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γενικά σχολεία πρέπει να προσφέρουν δωρεάν εκπαίδευση σε όλα τα παιδιά με  ιδιαιτερότητ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2588760" y="571680"/>
            <a:ext cx="8915400" cy="53402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ε γενικές γραμμές η  εκπαιδευτική πολιτική των δύο χωρών προώθησε  τις αρχές της συνεκπαίδευσης παιδιών με και χωρίς ιδιαιτερότητες σε γενικά σχολεία. Παράλληλα, όμως, οι Εκπαιδευτικές Αρχές είχαν οδηγίες να διατηρήσουν μια συνεχόμενη παροχή ειδικής εκπαίδευσης (Hornby, 1999:  15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 και η έκθεση Warnock και το Green Paper υποστηρίζουν τις αρχές της    συνεκπαίδευσης, </a:t>
            </a:r>
            <a:r>
              <a:rPr b="1" lang="el-GR" sz="1800" spc="-1" strike="noStrike">
                <a:solidFill>
                  <a:srgbClr val="ffffff"/>
                </a:solidFill>
                <a:latin typeface="Century Gothic"/>
              </a:rPr>
              <a:t>στα σχετικά κείμενα επισημαίνεται η αναγκαιότητα της φοίτησης σε ειδικά σχολεία</a:t>
            </a:r>
            <a:r>
              <a:rPr b="0" lang="el-GR" sz="1800" spc="-1" strike="noStrike">
                <a:solidFill>
                  <a:srgbClr val="ffffff"/>
                </a:solidFill>
                <a:latin typeface="Century Gothic"/>
              </a:rPr>
              <a:t>, στις περιπτώσεις παιδιών που αντιμετωπίζουν σοβαρά προβλήματα και η τοποθέτησή τους στη γενική τάξη δυσχεραίνει τη μαθησιακή πορεία των υπολοίπων μαθητών (Croll &amp; Moses, 2000: 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α παραπάνω προκύπτει ότι οι νομοθετικές ρυθμίσεις αποσκοπούσαν σε συνεκπαίδευση των παιδιών υπό όρους και αντιτάσσονταν στο μέτρο της πλήρους συνεκπαίδευσης (full inclusion) (Evans &amp; Lunt, 2002:  2).</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203560" y="331920"/>
            <a:ext cx="9300960" cy="61624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ημαντική ώθηση στην εφαρμογή της πρακτικής της συνεκπαίδευσης έδωσε η </a:t>
            </a:r>
            <a:r>
              <a:rPr b="1" lang="el-GR" sz="1800" spc="-1" strike="noStrike">
                <a:solidFill>
                  <a:srgbClr val="ffffff"/>
                </a:solidFill>
                <a:latin typeface="Century Gothic"/>
              </a:rPr>
              <a:t>Διακήρυξη της Σαλαμάνκα (Salamanca Statement)</a:t>
            </a:r>
            <a:r>
              <a:rPr b="0" lang="el-GR" sz="1800" spc="-1" strike="noStrike">
                <a:solidFill>
                  <a:srgbClr val="ffffff"/>
                </a:solidFill>
                <a:latin typeface="Century Gothic"/>
              </a:rPr>
              <a:t>. Τον Ιούνιο του 1994, 92 Κυβερνήσεις και 25 Διεθνείς Οργανισμοί, με πρωτοβουλία της Unesco, συνυπέγραψαν τη Διακήρυξη της Σαλαμάνκα.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βασικό όραμα της Διακήρυξης ήταν  η  «Εκπαίδευση  για όλους» (Education for All) και προωθούσε την ιδέα της συνεκπαίδευσης παιδιών με και χωρίς εκπαιδευτικές ανάγκες στις γενικές τάξεις (Στέφα, 2002: 70).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Διακήρυξη πρόβαλε το δικαίωμα των παιδιών με ειδικές εκπαιδευτικές ανάγκες για ισότιμη συμμετοχή στη γενική εκπαίδευση, καθώς και την ανάγκη αποδοχής της διαφορετικότητάς τους και ανάπτυξης πρακτικών για την καταπολέμηση του διαχωρισμού τους από τα «κανονικά» παιδιά μέσα στο χώρο του σχολείου. Επισημαίνεται η μοναδικότητα των χαρακτηριστικών, των ικανοτήτων, των ενδιαφερόντων και των μαθησιακών αναγκών όλων των παιδιώ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φέρεται ότι τα εκπαιδευτικά συστήματα πρέπει να σχεδιάζουν προγράμματα που θα λαμβάνουν υπόψη τους τη διαφορετικότητα των εκπαιδευτικών αναγκών όλων των μαθητών. Αυτά τα  σχολεία θα  πρέπει  να υιοθετούν μια παιδοκεντρική παιδαγωγική προσαρμοσμένη στις ανάγκες όλων των παιδιών. (Lindsay, 2003: 3, Unesco, 1994,  όπως αναφέρεται από το Μitcell, 2004: 382-383, www.inclusion.com/artsalamanca.html).</a:t>
            </a:r>
            <a:endParaRPr b="0" lang="en-US" sz="1800" spc="-1" strike="noStrike">
              <a:solidFill>
                <a:srgbClr val="ffffff"/>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802880" y="250920"/>
            <a:ext cx="8912520" cy="954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ΚΑΤΕΥΘΥΝΤΗΡΙΕΣ ΑΡΧΕΣ ΤΗΣ Ε.Ε. ΓΙΑ ΤΗΝ ΕΚΠΑΙΔΕΥΤΙΚΗ ΣΥΜΠΕΡΙΛΗΨΗ</a:t>
            </a:r>
            <a:endParaRPr b="0" lang="en-US" sz="2800" spc="-1" strike="noStrike">
              <a:solidFill>
                <a:srgbClr val="ffffff"/>
              </a:solidFill>
              <a:latin typeface="Century Gothic"/>
            </a:endParaRPr>
          </a:p>
        </p:txBody>
      </p:sp>
      <p:pic>
        <p:nvPicPr>
          <p:cNvPr id="790" name="Θέση περιεχομένου 5" descr=""/>
          <p:cNvPicPr/>
          <p:nvPr/>
        </p:nvPicPr>
        <p:blipFill>
          <a:blip r:embed="rId1"/>
          <a:stretch/>
        </p:blipFill>
        <p:spPr>
          <a:xfrm>
            <a:off x="1298520" y="1382760"/>
            <a:ext cx="1029816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Θέση περιεχομένου 3" descr=""/>
          <p:cNvPicPr/>
          <p:nvPr/>
        </p:nvPicPr>
        <p:blipFill>
          <a:blip r:embed="rId1"/>
          <a:stretch/>
        </p:blipFill>
        <p:spPr>
          <a:xfrm>
            <a:off x="1817640" y="1027080"/>
            <a:ext cx="9686880" cy="495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2068200" y="539640"/>
            <a:ext cx="943596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Από την ιδρυμοτοποίηση (</a:t>
            </a:r>
            <a:r>
              <a:rPr b="1" lang="en-US" sz="3200" spc="-1" strike="noStrike">
                <a:solidFill>
                  <a:srgbClr val="ffffff"/>
                </a:solidFill>
                <a:latin typeface="Century Gothic"/>
              </a:rPr>
              <a:t>institutionalization) </a:t>
            </a:r>
            <a:r>
              <a:rPr b="1" lang="el-GR" sz="3200" spc="-1" strike="noStrike">
                <a:solidFill>
                  <a:srgbClr val="ffffff"/>
                </a:solidFill>
                <a:latin typeface="Century Gothic"/>
              </a:rPr>
              <a:t>στην ομαλοποίηση</a:t>
            </a:r>
            <a:r>
              <a:rPr b="1" lang="en-US" sz="3200" spc="-1" strike="noStrike">
                <a:solidFill>
                  <a:srgbClr val="ffffff"/>
                </a:solidFill>
                <a:latin typeface="Century Gothic"/>
              </a:rPr>
              <a:t> (normalization)</a:t>
            </a:r>
            <a:r>
              <a:rPr b="1" lang="el-GR" sz="3200" spc="-1" strike="noStrike">
                <a:solidFill>
                  <a:srgbClr val="ffffff"/>
                </a:solidFill>
                <a:latin typeface="Century Gothic"/>
              </a:rPr>
              <a:t>…</a:t>
            </a:r>
            <a:br>
              <a:rPr sz="3200"/>
            </a:br>
            <a:br>
              <a:rPr sz="4400"/>
            </a:br>
            <a:endParaRPr b="0" lang="en-US" sz="3200" spc="-1" strike="noStrike">
              <a:solidFill>
                <a:srgbClr val="ffffff"/>
              </a:solidFill>
              <a:latin typeface="Century Gothic"/>
            </a:endParaRPr>
          </a:p>
        </p:txBody>
      </p:sp>
      <p:sp>
        <p:nvSpPr>
          <p:cNvPr id="771" name=""/>
          <p:cNvSpPr txBox="1"/>
          <p:nvPr/>
        </p:nvSpPr>
        <p:spPr>
          <a:xfrm>
            <a:off x="1631520" y="1714320"/>
            <a:ext cx="10287000" cy="46544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τις αρχές του 20ού αιώνα η κυρίαρχη τάση για την φροντίδα των παιδιών με ε.ε.α./αναπηρία, ήταν να τοποθετούνται σε άσυλα, ιδρύματα και νοσοκομεία, ως «ανεπιθύμητα παιδιά». </a:t>
            </a:r>
            <a:r>
              <a:rPr b="0" lang="el-GR" sz="1800" spc="-1" strike="noStrike" u="sng">
                <a:solidFill>
                  <a:srgbClr val="ffffff"/>
                </a:solidFill>
                <a:uFillTx/>
                <a:latin typeface="Century Gothic"/>
              </a:rPr>
              <a:t>Περισσότερο επιτηρούνταν από ειδικούς παρά διδάσκονταν</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χρονική αυτή περίοδος ονομάστηκε </a:t>
            </a:r>
            <a:r>
              <a:rPr b="1" lang="el-GR" sz="1800" spc="-1" strike="noStrike">
                <a:solidFill>
                  <a:srgbClr val="ffffff"/>
                </a:solidFill>
                <a:latin typeface="Century Gothic"/>
              </a:rPr>
              <a:t>περίοδος της «ιδρυματοποίησης» (</a:t>
            </a:r>
            <a:r>
              <a:rPr b="1" lang="en-US" sz="1800" spc="-1" strike="noStrike">
                <a:solidFill>
                  <a:srgbClr val="ffffff"/>
                </a:solidFill>
                <a:latin typeface="Century Gothic"/>
              </a:rPr>
              <a:t>period of institutionalisation)</a:t>
            </a:r>
            <a:r>
              <a:rPr b="0" lang="en-US" sz="1800" spc="-1" strike="noStrike">
                <a:solidFill>
                  <a:srgbClr val="ffffff"/>
                </a:solidFill>
                <a:latin typeface="Century Gothic"/>
              </a:rPr>
              <a:t> (Centre for Educational Research and Innovation, 1999: 18  Karagiannis,  et  al.,  1996: 19).</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και τα μέσα του 20ου αιώνα, αυτά τα παιδιά χαρακτηρίζονταν ως άτομα με εγκληματικές τάσεις που θα μπορούσαν να αποτελέσουν κίνδυνο για την κοινωνία. Με βάση αυτήν την αντίληψη, παγιώθηκε ένα δυαδικό σύστημα εκπαίδευσης, με αποτέλεσμα το γενικό σχολείο να απευθύνεται στην πλειονότητα των μαθητών, ενώ το ειδικό σε όσα παιδιά παρουσίαζαν διαφορετικές από τη χρονολογική τους ηλικία μαθησιακές ανάγκες και ικανότητες (Smith et al., 1998:  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Θέση περιεχομένου 2" descr=""/>
          <p:cNvPicPr/>
          <p:nvPr/>
        </p:nvPicPr>
        <p:blipFill>
          <a:blip r:embed="rId1"/>
          <a:stretch/>
        </p:blipFill>
        <p:spPr>
          <a:xfrm>
            <a:off x="1538280" y="1432080"/>
            <a:ext cx="1014084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Θέση περιεχομένου 3" descr=""/>
          <p:cNvPicPr/>
          <p:nvPr/>
        </p:nvPicPr>
        <p:blipFill>
          <a:blip r:embed="rId1"/>
          <a:stretch/>
        </p:blipFill>
        <p:spPr>
          <a:xfrm>
            <a:off x="1911240" y="1911240"/>
            <a:ext cx="9582120" cy="3110040"/>
          </a:xfrm>
          <a:prstGeom prst="rect">
            <a:avLst/>
          </a:prstGeom>
          <a:ln w="0">
            <a:noFill/>
          </a:ln>
        </p:spPr>
      </p:pic>
      <p:pic>
        <p:nvPicPr>
          <p:cNvPr id="794" name="Εικόνα 4" descr=""/>
          <p:cNvPicPr/>
          <p:nvPr/>
        </p:nvPicPr>
        <p:blipFill>
          <a:blip r:embed="rId2"/>
          <a:stretch/>
        </p:blipFill>
        <p:spPr>
          <a:xfrm>
            <a:off x="1911240" y="4917960"/>
            <a:ext cx="9582120" cy="116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Θέση περιεχομένου 2" descr=""/>
          <p:cNvPicPr/>
          <p:nvPr/>
        </p:nvPicPr>
        <p:blipFill>
          <a:blip r:embed="rId1"/>
          <a:stretch/>
        </p:blipFill>
        <p:spPr>
          <a:xfrm>
            <a:off x="2589120" y="1103400"/>
            <a:ext cx="8915400" cy="483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Θέση περιεχομένου 3" descr=""/>
          <p:cNvPicPr/>
          <p:nvPr/>
        </p:nvPicPr>
        <p:blipFill>
          <a:blip r:embed="rId1"/>
          <a:stretch/>
        </p:blipFill>
        <p:spPr>
          <a:xfrm>
            <a:off x="1814400" y="1014480"/>
            <a:ext cx="4275360" cy="361800"/>
          </a:xfrm>
          <a:prstGeom prst="rect">
            <a:avLst/>
          </a:prstGeom>
          <a:ln w="0">
            <a:noFill/>
          </a:ln>
        </p:spPr>
      </p:pic>
      <p:pic>
        <p:nvPicPr>
          <p:cNvPr id="797" name="Εικόνα 4" descr=""/>
          <p:cNvPicPr/>
          <p:nvPr/>
        </p:nvPicPr>
        <p:blipFill>
          <a:blip r:embed="rId2"/>
          <a:stretch/>
        </p:blipFill>
        <p:spPr>
          <a:xfrm>
            <a:off x="1814400" y="1376280"/>
            <a:ext cx="1007748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Θέση περιεχομένου 3" descr=""/>
          <p:cNvPicPr/>
          <p:nvPr/>
        </p:nvPicPr>
        <p:blipFill>
          <a:blip r:embed="rId1"/>
          <a:stretch/>
        </p:blipFill>
        <p:spPr>
          <a:xfrm>
            <a:off x="1662120" y="480960"/>
            <a:ext cx="10337760" cy="5005440"/>
          </a:xfrm>
          <a:prstGeom prst="rect">
            <a:avLst/>
          </a:prstGeom>
          <a:ln w="0">
            <a:noFill/>
          </a:ln>
        </p:spPr>
      </p:pic>
      <p:pic>
        <p:nvPicPr>
          <p:cNvPr id="799" name="Εικόνα 4" descr=""/>
          <p:cNvPicPr/>
          <p:nvPr/>
        </p:nvPicPr>
        <p:blipFill>
          <a:blip r:embed="rId2"/>
          <a:stretch/>
        </p:blipFill>
        <p:spPr>
          <a:xfrm>
            <a:off x="1662120" y="5486400"/>
            <a:ext cx="10337760" cy="8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Θέση περιεχομένου 3" descr=""/>
          <p:cNvPicPr/>
          <p:nvPr/>
        </p:nvPicPr>
        <p:blipFill>
          <a:blip r:embed="rId1"/>
          <a:stretch/>
        </p:blipFill>
        <p:spPr>
          <a:xfrm>
            <a:off x="2003400" y="587520"/>
            <a:ext cx="9274320" cy="60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281320" y="582480"/>
            <a:ext cx="8912160" cy="736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ΔΑΝΙΑ:</a:t>
            </a:r>
            <a:endParaRPr b="0" lang="en-US" sz="3600" spc="-1" strike="noStrike">
              <a:solidFill>
                <a:srgbClr val="ffffff"/>
              </a:solidFill>
              <a:latin typeface="Century Gothic"/>
            </a:endParaRPr>
          </a:p>
        </p:txBody>
      </p:sp>
      <p:pic>
        <p:nvPicPr>
          <p:cNvPr id="802" name="Θέση περιεχομένου 3" descr=""/>
          <p:cNvPicPr/>
          <p:nvPr/>
        </p:nvPicPr>
        <p:blipFill>
          <a:blip r:embed="rId1"/>
          <a:stretch/>
        </p:blipFill>
        <p:spPr>
          <a:xfrm>
            <a:off x="1839960" y="1893960"/>
            <a:ext cx="9664560" cy="377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592360" y="623520"/>
            <a:ext cx="8912160" cy="800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ΑΥΣΤΡΙΑ:</a:t>
            </a:r>
            <a:endParaRPr b="0" lang="en-US" sz="3600" spc="-1" strike="noStrike">
              <a:solidFill>
                <a:srgbClr val="ffffff"/>
              </a:solidFill>
              <a:latin typeface="Century Gothic"/>
            </a:endParaRPr>
          </a:p>
        </p:txBody>
      </p:sp>
      <p:pic>
        <p:nvPicPr>
          <p:cNvPr id="804" name="Θέση περιεχομένου 3" descr=""/>
          <p:cNvPicPr/>
          <p:nvPr/>
        </p:nvPicPr>
        <p:blipFill>
          <a:blip r:embed="rId1"/>
          <a:stretch/>
        </p:blipFill>
        <p:spPr>
          <a:xfrm>
            <a:off x="1643040" y="1730520"/>
            <a:ext cx="9745560" cy="418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ΚΥΠΡΟΣ:</a:t>
            </a:r>
            <a:endParaRPr b="0" lang="en-US" sz="3600" spc="-1" strike="noStrike">
              <a:solidFill>
                <a:srgbClr val="ffffff"/>
              </a:solidFill>
              <a:latin typeface="Century Gothic"/>
            </a:endParaRPr>
          </a:p>
        </p:txBody>
      </p:sp>
      <p:pic>
        <p:nvPicPr>
          <p:cNvPr id="806" name="Θέση περιεχομένου 3" descr=""/>
          <p:cNvPicPr/>
          <p:nvPr/>
        </p:nvPicPr>
        <p:blipFill>
          <a:blip r:embed="rId1"/>
          <a:stretch/>
        </p:blipFill>
        <p:spPr>
          <a:xfrm>
            <a:off x="2589120" y="2473200"/>
            <a:ext cx="8915400" cy="264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592360" y="623520"/>
            <a:ext cx="8912160" cy="965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ΑΛΛΙΑ:</a:t>
            </a:r>
            <a:endParaRPr b="0" lang="en-US" sz="3600" spc="-1" strike="noStrike">
              <a:solidFill>
                <a:srgbClr val="ffffff"/>
              </a:solidFill>
              <a:latin typeface="Century Gothic"/>
            </a:endParaRPr>
          </a:p>
        </p:txBody>
      </p:sp>
      <p:pic>
        <p:nvPicPr>
          <p:cNvPr id="808" name="Θέση περιεχομένου 3" descr=""/>
          <p:cNvPicPr/>
          <p:nvPr/>
        </p:nvPicPr>
        <p:blipFill>
          <a:blip r:embed="rId1"/>
          <a:stretch/>
        </p:blipFill>
        <p:spPr>
          <a:xfrm>
            <a:off x="2516040" y="1969920"/>
            <a:ext cx="8915400" cy="14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2057400" y="632880"/>
            <a:ext cx="9447120" cy="57675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στάσεις σχετικά με την τοποθέτηση των παιδιών στα ειδικά σχολεία αλλάζουν ριζικά στα τέλη της δεκαετίας του 1950. Η έντονη αμφισβήτηση της μέχρι τότε υπάρχουσας   κατάστασης   οδήγησε   στην   υιοθέτηση   της  πρακτικής     της </a:t>
            </a:r>
            <a:r>
              <a:rPr b="1" lang="el-GR" sz="1800" spc="-1" strike="noStrike">
                <a:solidFill>
                  <a:srgbClr val="ffffff"/>
                </a:solidFill>
                <a:latin typeface="Century Gothic"/>
              </a:rPr>
              <a:t>«ομαλοποίησης» (normalization), </a:t>
            </a:r>
            <a:r>
              <a:rPr b="0" lang="el-GR" sz="1800" spc="-1" strike="noStrike">
                <a:solidFill>
                  <a:srgbClr val="ffffff"/>
                </a:solidFill>
                <a:latin typeface="Century Gothic"/>
              </a:rPr>
              <a:t>η οποία αρχικά αναπτύχθηκε σε σκανδιναβικές χώρε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αρχή της  «ομαλοποίησης» προερχόταν κυρίως  από  την επιστήμη της ψυχολογίας και βασίστηκε στην άποψη ότι τα παιδιά με ιδιαιτερότητες πρέπει να  τοποθετούνται -στο βαθμό που αυτό είναι δυνατόν- σε κανονικό σχολικό περιβάλλον μαζί με τους συνομηλίκους τους και να ενσωματώνονται στο ευρύτερο κοινωνικό γίγνεσθαι (Τζουριάδου, 1995: 28). Ωστόσο, το αρνητικό σημείο της ήταν ότι </a:t>
            </a:r>
            <a:r>
              <a:rPr b="1" lang="el-GR" sz="1800" spc="-1" strike="noStrike" u="sng">
                <a:solidFill>
                  <a:srgbClr val="ffffff"/>
                </a:solidFill>
                <a:uFillTx/>
                <a:latin typeface="Century Gothic"/>
              </a:rPr>
              <a:t>δεν </a:t>
            </a:r>
            <a:r>
              <a:rPr b="0" lang="el-GR" sz="1800" spc="-1" strike="noStrike">
                <a:solidFill>
                  <a:srgbClr val="ffffff"/>
                </a:solidFill>
                <a:latin typeface="Century Gothic"/>
              </a:rPr>
              <a:t>αναγνώρισε την ατομικότητα και τη διαφορετικότητα των ανθρώπων (Ζώνιου- Σιδέρη, 1996: 132·  Salend, 1990: 10).</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ρχίζουν σταδιακά να τίθενται υπό αμφισβήτηση οι υπηρεσίες που παρέχονταν  μέχρι  τότε  στα  άτομα με ειδικές ανάγκες, ενώ παράλληλα διατυπώνεται το </a:t>
            </a:r>
            <a:r>
              <a:rPr b="1" lang="el-GR" sz="1800" spc="-1" strike="noStrike" u="sng">
                <a:solidFill>
                  <a:srgbClr val="ffffff"/>
                </a:solidFill>
                <a:uFillTx/>
                <a:latin typeface="Century Gothic"/>
              </a:rPr>
              <a:t>αίτημα για δίκαιη, ευέλικτη και ισότιμη εκπαίδευση για όλα  τα  παιδιά</a:t>
            </a:r>
            <a:r>
              <a:rPr b="0" lang="el-GR" sz="1800" spc="-1" strike="noStrike">
                <a:solidFill>
                  <a:srgbClr val="ffffff"/>
                </a:solidFill>
                <a:latin typeface="Century Gothic"/>
              </a:rPr>
              <a:t>. Στην ευαισθητοποίηση της κοινής γνώμης επέδρασε σημαντικά και η πεποίθηση ότι τα παιδιά με ειδικές ανάγκες μέσα στα ειδικά σχολεία παρουσιάζουν στασιμότητα στην ανάπτυξή τους (Λαμπροπούλου &amp; Παντελιάδου, 2000: 157 Smith  et  al.,  1998: 13-14).</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ΕΡΜΑΝΙΑ:</a:t>
            </a:r>
            <a:endParaRPr b="0" lang="en-US" sz="3600" spc="-1" strike="noStrike">
              <a:solidFill>
                <a:srgbClr val="ffffff"/>
              </a:solidFill>
              <a:latin typeface="Century Gothic"/>
            </a:endParaRPr>
          </a:p>
        </p:txBody>
      </p:sp>
      <p:pic>
        <p:nvPicPr>
          <p:cNvPr id="810" name="Θέση περιεχομένου 3" descr=""/>
          <p:cNvPicPr/>
          <p:nvPr/>
        </p:nvPicPr>
        <p:blipFill>
          <a:blip r:embed="rId1"/>
          <a:stretch/>
        </p:blipFill>
        <p:spPr>
          <a:xfrm>
            <a:off x="2589120" y="2144880"/>
            <a:ext cx="8915400" cy="375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ΙΤΑΛΙΑ – ΙΡΛΑΝΔΙΑ:</a:t>
            </a:r>
            <a:endParaRPr b="0" lang="en-US" sz="3600" spc="-1" strike="noStrike">
              <a:solidFill>
                <a:srgbClr val="ffffff"/>
              </a:solidFill>
              <a:latin typeface="Century Gothic"/>
            </a:endParaRPr>
          </a:p>
        </p:txBody>
      </p:sp>
      <p:pic>
        <p:nvPicPr>
          <p:cNvPr id="812" name="Θέση περιεχομένου 3" descr=""/>
          <p:cNvPicPr/>
          <p:nvPr/>
        </p:nvPicPr>
        <p:blipFill>
          <a:blip r:embed="rId1"/>
          <a:stretch/>
        </p:blipFill>
        <p:spPr>
          <a:xfrm>
            <a:off x="2589120" y="2292480"/>
            <a:ext cx="8915400" cy="346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498760" y="280800"/>
            <a:ext cx="8912160" cy="820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ΟΡΤΟΓΑΛΙΑ - ΙΣΠΑΝΙΑ:</a:t>
            </a:r>
            <a:endParaRPr b="0" lang="en-US" sz="3600" spc="-1" strike="noStrike">
              <a:solidFill>
                <a:srgbClr val="ffffff"/>
              </a:solidFill>
              <a:latin typeface="Century Gothic"/>
            </a:endParaRPr>
          </a:p>
        </p:txBody>
      </p:sp>
      <p:pic>
        <p:nvPicPr>
          <p:cNvPr id="814" name="Θέση περιεχομένου 3" descr=""/>
          <p:cNvPicPr/>
          <p:nvPr/>
        </p:nvPicPr>
        <p:blipFill>
          <a:blip r:embed="rId1"/>
          <a:stretch/>
        </p:blipFill>
        <p:spPr>
          <a:xfrm>
            <a:off x="2589120" y="1101600"/>
            <a:ext cx="8915400" cy="3254400"/>
          </a:xfrm>
          <a:prstGeom prst="rect">
            <a:avLst/>
          </a:prstGeom>
          <a:ln w="0">
            <a:noFill/>
          </a:ln>
        </p:spPr>
      </p:pic>
      <p:pic>
        <p:nvPicPr>
          <p:cNvPr id="815" name="Εικόνα 4" descr=""/>
          <p:cNvPicPr/>
          <p:nvPr/>
        </p:nvPicPr>
        <p:blipFill>
          <a:blip r:embed="rId2"/>
          <a:stretch/>
        </p:blipFill>
        <p:spPr>
          <a:xfrm>
            <a:off x="2589120" y="4356000"/>
            <a:ext cx="8915400" cy="21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592360" y="623880"/>
            <a:ext cx="8912160" cy="851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ΦΙΝΛΑΝΔΙΑ – ΣΟΥΗΔΙΑ:</a:t>
            </a:r>
            <a:endParaRPr b="0" lang="en-US" sz="3600" spc="-1" strike="noStrike">
              <a:solidFill>
                <a:srgbClr val="ffffff"/>
              </a:solidFill>
              <a:latin typeface="Century Gothic"/>
            </a:endParaRPr>
          </a:p>
        </p:txBody>
      </p:sp>
      <p:pic>
        <p:nvPicPr>
          <p:cNvPr id="817" name="Θέση περιεχομένου 3" descr=""/>
          <p:cNvPicPr/>
          <p:nvPr/>
        </p:nvPicPr>
        <p:blipFill>
          <a:blip r:embed="rId1"/>
          <a:stretch/>
        </p:blipFill>
        <p:spPr>
          <a:xfrm>
            <a:off x="2589120" y="1585800"/>
            <a:ext cx="8915400" cy="876240"/>
          </a:xfrm>
          <a:prstGeom prst="rect">
            <a:avLst/>
          </a:prstGeom>
          <a:ln w="0">
            <a:noFill/>
          </a:ln>
        </p:spPr>
      </p:pic>
      <p:pic>
        <p:nvPicPr>
          <p:cNvPr id="818" name="Εικόνα 4" descr=""/>
          <p:cNvPicPr/>
          <p:nvPr/>
        </p:nvPicPr>
        <p:blipFill>
          <a:blip r:embed="rId2"/>
          <a:stretch/>
        </p:blipFill>
        <p:spPr>
          <a:xfrm>
            <a:off x="2589120" y="2462040"/>
            <a:ext cx="8915400" cy="1314720"/>
          </a:xfrm>
          <a:prstGeom prst="rect">
            <a:avLst/>
          </a:prstGeom>
          <a:ln w="0">
            <a:noFill/>
          </a:ln>
        </p:spPr>
      </p:pic>
      <p:pic>
        <p:nvPicPr>
          <p:cNvPr id="819" name="Εικόνα 5" descr=""/>
          <p:cNvPicPr/>
          <p:nvPr/>
        </p:nvPicPr>
        <p:blipFill>
          <a:blip r:embed="rId3"/>
          <a:stretch/>
        </p:blipFill>
        <p:spPr>
          <a:xfrm>
            <a:off x="2589120" y="3776760"/>
            <a:ext cx="8915400" cy="284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Θέση περιεχομένου 3" descr=""/>
          <p:cNvPicPr/>
          <p:nvPr/>
        </p:nvPicPr>
        <p:blipFill>
          <a:blip r:embed="rId1"/>
          <a:stretch/>
        </p:blipFill>
        <p:spPr>
          <a:xfrm>
            <a:off x="1839960" y="1023840"/>
            <a:ext cx="9545760" cy="3286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Θέση περιεχομένου 2" descr=""/>
          <p:cNvPicPr/>
          <p:nvPr/>
        </p:nvPicPr>
        <p:blipFill>
          <a:blip r:embed="rId1"/>
          <a:stretch/>
        </p:blipFill>
        <p:spPr>
          <a:xfrm>
            <a:off x="1817640" y="838080"/>
            <a:ext cx="9329760" cy="551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Θέση περιεχομένου 3" descr=""/>
          <p:cNvPicPr/>
          <p:nvPr/>
        </p:nvPicPr>
        <p:blipFill>
          <a:blip r:embed="rId1"/>
          <a:stretch/>
        </p:blipFill>
        <p:spPr>
          <a:xfrm>
            <a:off x="1916280" y="163440"/>
            <a:ext cx="9126360" cy="4953240"/>
          </a:xfrm>
          <a:prstGeom prst="rect">
            <a:avLst/>
          </a:prstGeom>
          <a:ln w="0">
            <a:noFill/>
          </a:ln>
        </p:spPr>
      </p:pic>
      <p:pic>
        <p:nvPicPr>
          <p:cNvPr id="823" name="Εικόνα 4" descr=""/>
          <p:cNvPicPr/>
          <p:nvPr/>
        </p:nvPicPr>
        <p:blipFill>
          <a:blip r:embed="rId2"/>
          <a:stretch/>
        </p:blipFill>
        <p:spPr>
          <a:xfrm>
            <a:off x="1916280" y="5116680"/>
            <a:ext cx="912636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Θέση περιεχομένου 3" descr=""/>
          <p:cNvPicPr/>
          <p:nvPr/>
        </p:nvPicPr>
        <p:blipFill>
          <a:blip r:embed="rId1"/>
          <a:stretch/>
        </p:blipFill>
        <p:spPr>
          <a:xfrm>
            <a:off x="1893960" y="1066680"/>
            <a:ext cx="9032760" cy="4202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Θέση περιεχομένου 3" descr=""/>
          <p:cNvPicPr/>
          <p:nvPr/>
        </p:nvPicPr>
        <p:blipFill>
          <a:blip r:embed="rId1"/>
          <a:stretch/>
        </p:blipFill>
        <p:spPr>
          <a:xfrm>
            <a:off x="2266920" y="4838760"/>
            <a:ext cx="8620200" cy="1905120"/>
          </a:xfrm>
          <a:prstGeom prst="rect">
            <a:avLst/>
          </a:prstGeom>
          <a:ln w="0">
            <a:noFill/>
          </a:ln>
        </p:spPr>
      </p:pic>
      <p:pic>
        <p:nvPicPr>
          <p:cNvPr id="826" name="Εικόνα 4" descr=""/>
          <p:cNvPicPr/>
          <p:nvPr/>
        </p:nvPicPr>
        <p:blipFill>
          <a:blip r:embed="rId2"/>
          <a:stretch/>
        </p:blipFill>
        <p:spPr>
          <a:xfrm>
            <a:off x="2266920" y="190440"/>
            <a:ext cx="8620200" cy="4648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Θέση περιεχομένου 3" descr=""/>
          <p:cNvPicPr/>
          <p:nvPr/>
        </p:nvPicPr>
        <p:blipFill>
          <a:blip r:embed="rId1"/>
          <a:stretch/>
        </p:blipFill>
        <p:spPr>
          <a:xfrm>
            <a:off x="2378160" y="1397160"/>
            <a:ext cx="8553240" cy="35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592360" y="603360"/>
            <a:ext cx="8912160" cy="1301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Το πέρασμα στην ενσωμάτωση (</a:t>
            </a:r>
            <a:r>
              <a:rPr b="1" lang="en-US" sz="3200" spc="-1" strike="noStrike">
                <a:solidFill>
                  <a:srgbClr val="ffffff"/>
                </a:solidFill>
                <a:latin typeface="Century Gothic"/>
              </a:rPr>
              <a:t>mainstreaming)</a:t>
            </a:r>
            <a:r>
              <a:rPr b="1" lang="el-GR" sz="3200" spc="-1" strike="noStrike">
                <a:solidFill>
                  <a:srgbClr val="ffffff"/>
                </a:solidFill>
                <a:latin typeface="Century Gothic"/>
              </a:rPr>
              <a:t> και την ένταξη</a:t>
            </a:r>
            <a:r>
              <a:rPr b="1" lang="en-US" sz="3200" spc="-1" strike="noStrike">
                <a:solidFill>
                  <a:srgbClr val="ffffff"/>
                </a:solidFill>
                <a:latin typeface="Century Gothic"/>
              </a:rPr>
              <a:t> (integration)</a:t>
            </a:r>
            <a:endParaRPr b="0" lang="en-US" sz="3200" spc="-1" strike="noStrike">
              <a:solidFill>
                <a:srgbClr val="ffffff"/>
              </a:solidFill>
              <a:latin typeface="Century Gothic"/>
            </a:endParaRPr>
          </a:p>
        </p:txBody>
      </p:sp>
      <p:sp>
        <p:nvSpPr>
          <p:cNvPr id="774" name=""/>
          <p:cNvSpPr txBox="1"/>
          <p:nvPr/>
        </p:nvSpPr>
        <p:spPr>
          <a:xfrm>
            <a:off x="2588760" y="2133360"/>
            <a:ext cx="8915400" cy="3778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ιδική Αγωγή άρχισε να θεωρείται ως αναπόσπαστο μέρος του γενικού εκπαιδευτικού συστήματο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ς  απόρροια των έντονων επικρίσεων που  ασκήθηκαν για  την αναποτελεσματικότητα των ειδικών σχολείων αλλά και της ανάπτυξης της κίνησης των ανθρωπίνων δικαιωμάτων, έκαναν την εμφάνισή τους δύο όροι, που προωθούσαν την ιδέα ότι το σχολικό περιβάλλον των παιδιών με ειδικές ανάγκες θα πρέπει να είναι το ίδιο ή παρόμοιο με αυτό των παιδιών χωρίς ειδικές ανάγκες (Sebba  &amp;  Ainscow, 1996: 1). </a:t>
            </a:r>
            <a:r>
              <a:rPr b="1" lang="el-GR" sz="1800" spc="-1" strike="noStrike">
                <a:solidFill>
                  <a:srgbClr val="ffffff"/>
                </a:solidFill>
                <a:latin typeface="Century Gothic"/>
              </a:rPr>
              <a:t>Οι όροι αποδόθηκαν στα ελληνικά ως  ενσωμάτωση (mainstreaming) και ένταξη (integrat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a:t>
            </a:r>
            <a:endParaRPr b="0" lang="en-US" sz="3600" spc="-1" strike="noStrike">
              <a:solidFill>
                <a:srgbClr val="ffffff"/>
              </a:solidFill>
              <a:latin typeface="Century Gothic"/>
            </a:endParaRPr>
          </a:p>
        </p:txBody>
      </p:sp>
      <p:pic>
        <p:nvPicPr>
          <p:cNvPr id="829" name="Θέση περιεχομένου 3" descr=""/>
          <p:cNvPicPr/>
          <p:nvPr/>
        </p:nvPicPr>
        <p:blipFill>
          <a:blip r:embed="rId1"/>
          <a:stretch/>
        </p:blipFill>
        <p:spPr>
          <a:xfrm>
            <a:off x="1992240" y="1905120"/>
            <a:ext cx="8972640" cy="4179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2592360" y="623880"/>
            <a:ext cx="891216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ΡΟΤΥΠΑ ΧΡΗΜΑΤΟΔΟΤΗΣΗΣ:</a:t>
            </a:r>
            <a:endParaRPr b="0" lang="en-US" sz="3600" spc="-1" strike="noStrike">
              <a:solidFill>
                <a:srgbClr val="ffffff"/>
              </a:solidFill>
              <a:latin typeface="Century Gothic"/>
            </a:endParaRPr>
          </a:p>
        </p:txBody>
      </p:sp>
      <p:pic>
        <p:nvPicPr>
          <p:cNvPr id="831" name="Θέση περιεχομένου 3" descr=""/>
          <p:cNvPicPr/>
          <p:nvPr/>
        </p:nvPicPr>
        <p:blipFill>
          <a:blip r:embed="rId1"/>
          <a:stretch/>
        </p:blipFill>
        <p:spPr>
          <a:xfrm>
            <a:off x="2262240" y="1930320"/>
            <a:ext cx="8915400" cy="34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 ΣΤΗΝ ΕΥΡΩΠΗ</a:t>
            </a:r>
            <a:endParaRPr b="0" lang="en-US" sz="3600" spc="-1" strike="noStrike">
              <a:solidFill>
                <a:srgbClr val="ffffff"/>
              </a:solidFill>
              <a:latin typeface="Century Gothic"/>
            </a:endParaRPr>
          </a:p>
        </p:txBody>
      </p:sp>
      <p:pic>
        <p:nvPicPr>
          <p:cNvPr id="833" name="Θέση περιεχομένου 3" descr=""/>
          <p:cNvPicPr/>
          <p:nvPr/>
        </p:nvPicPr>
        <p:blipFill>
          <a:blip r:embed="rId1"/>
          <a:stretch/>
        </p:blipFill>
        <p:spPr>
          <a:xfrm>
            <a:off x="2187720" y="2035080"/>
            <a:ext cx="8850240" cy="39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Θέση περιεχομένου 3" descr=""/>
          <p:cNvPicPr/>
          <p:nvPr/>
        </p:nvPicPr>
        <p:blipFill>
          <a:blip r:embed="rId1"/>
          <a:stretch/>
        </p:blipFill>
        <p:spPr>
          <a:xfrm>
            <a:off x="2416320" y="849240"/>
            <a:ext cx="8556480" cy="541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Θέση περιεχομένου 3" descr=""/>
          <p:cNvPicPr/>
          <p:nvPr/>
        </p:nvPicPr>
        <p:blipFill>
          <a:blip r:embed="rId1"/>
          <a:stretch/>
        </p:blipFill>
        <p:spPr>
          <a:xfrm>
            <a:off x="2131920" y="590400"/>
            <a:ext cx="8915400" cy="1008360"/>
          </a:xfrm>
          <a:prstGeom prst="rect">
            <a:avLst/>
          </a:prstGeom>
          <a:ln w="0">
            <a:noFill/>
          </a:ln>
        </p:spPr>
      </p:pic>
      <p:pic>
        <p:nvPicPr>
          <p:cNvPr id="836" name="Εικόνα 4" descr=""/>
          <p:cNvPicPr/>
          <p:nvPr/>
        </p:nvPicPr>
        <p:blipFill>
          <a:blip r:embed="rId2"/>
          <a:stretch/>
        </p:blipFill>
        <p:spPr>
          <a:xfrm>
            <a:off x="2131920" y="1293840"/>
            <a:ext cx="8915400" cy="1590480"/>
          </a:xfrm>
          <a:prstGeom prst="rect">
            <a:avLst/>
          </a:prstGeom>
          <a:ln w="0">
            <a:noFill/>
          </a:ln>
        </p:spPr>
      </p:pic>
      <p:pic>
        <p:nvPicPr>
          <p:cNvPr id="837" name="Εικόνα 5" descr=""/>
          <p:cNvPicPr/>
          <p:nvPr/>
        </p:nvPicPr>
        <p:blipFill>
          <a:blip r:embed="rId3"/>
          <a:stretch/>
        </p:blipFill>
        <p:spPr>
          <a:xfrm>
            <a:off x="2131920" y="2884320"/>
            <a:ext cx="8915400" cy="2686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8" name="Θέση περιεχομένου 3" descr=""/>
          <p:cNvPicPr/>
          <p:nvPr/>
        </p:nvPicPr>
        <p:blipFill>
          <a:blip r:embed="rId1"/>
          <a:stretch/>
        </p:blipFill>
        <p:spPr>
          <a:xfrm>
            <a:off x="1654200" y="1389240"/>
            <a:ext cx="9798120" cy="3825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38480" y="144000"/>
            <a:ext cx="8912160" cy="770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Όροι και σημασίες στην Ειδική Αγωγή </a:t>
            </a:r>
            <a:endParaRPr b="0" lang="en-US" sz="3200" spc="-1" strike="noStrike">
              <a:solidFill>
                <a:srgbClr val="ffffff"/>
              </a:solidFill>
              <a:latin typeface="Century Gothic"/>
            </a:endParaRPr>
          </a:p>
        </p:txBody>
      </p:sp>
      <p:pic>
        <p:nvPicPr>
          <p:cNvPr id="840" name="Θέση περιεχομένου 1" descr=""/>
          <p:cNvPicPr/>
          <p:nvPr/>
        </p:nvPicPr>
        <p:blipFill>
          <a:blip r:embed="rId1"/>
          <a:stretch/>
        </p:blipFill>
        <p:spPr>
          <a:xfrm>
            <a:off x="1938240" y="795240"/>
            <a:ext cx="9512280" cy="838440"/>
          </a:xfrm>
          <a:prstGeom prst="rect">
            <a:avLst/>
          </a:prstGeom>
          <a:ln w="0">
            <a:noFill/>
          </a:ln>
        </p:spPr>
      </p:pic>
      <p:pic>
        <p:nvPicPr>
          <p:cNvPr id="841" name="Εικόνα 2" descr=""/>
          <p:cNvPicPr/>
          <p:nvPr/>
        </p:nvPicPr>
        <p:blipFill>
          <a:blip r:embed="rId2"/>
          <a:stretch/>
        </p:blipFill>
        <p:spPr>
          <a:xfrm>
            <a:off x="1938240" y="1449360"/>
            <a:ext cx="9512280" cy="5315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079720" y="457200"/>
            <a:ext cx="9424800" cy="59659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ΔΗΜΟΤΙΚΟ</a:t>
            </a:r>
            <a:r>
              <a:rPr b="0" lang="el-GR" sz="1800" spc="-1" strike="noStrike">
                <a:solidFill>
                  <a:srgbClr val="ffffff"/>
                </a:solidFill>
                <a:latin typeface="Century Gothic"/>
              </a:rPr>
              <a:t> - Μελέτη περίπτωσης 1: Όνομα: Ν. Ν., Ηλικία: 7 ετών, Τάξη: Β΄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Ν.Ν. είναι το 2ο παιδί μιας οικογένειας με 3 παιδιά. Φοιτά κανονικά στο γενικό σχολείο, γράφει με το δεξί χέρι και δεν έχει οργανικά προβλήματα όρασης και ακοής. Μέσα στην αίθουσα βρίσκεται συνεχώς σε υπερένταση και ιδιαίτερα στο μάθημα της Γλώσσ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Μελέτη Περιβάλλοντος, την Αισθητική Αγωγή και τη Γυμναστική ηρεμεί και ενδιαφέρεται.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Γλώσσα γίνεται υπερκινητικός, σηκώνεται από το θρανίο, αποσπά διαρκώς την προσοχή των διπλανών του. Στις λεπτές εργασίες της χειροτεχνίας και της γραφής δεν τα καταφέρνει τόσο καλά. Στο μάθημα της Γλώσσας διαβάζει με ακρίβεια, αλλά αργά τις εύκολες λέξεις. Δυσκολεύεται στις πολυσύλλαβες και σ’ αυτές που έχουν συμφωνικά συμπλέγματα 3 γραμμάτων. Έχει ένα μικρό πρόβλημα άρθρωσης και καταβάλλει προσπάθεια για την έκφραση των σκέψεών του. Μιλάει κάνοντας προτάσεις, όχι πάντα σωστές. Περιγράφει μια εικόνα και μια ιστορία με εικόνες, όμως δεν κατανοεί το νόημα της ιστορί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εν απαντά σε ερωτήσεις από μια παράγραφο που διάβασε. Δεν μπορεί να διαβάσει σιωπηρά. Δεν του αρέσει να ασχολείται μόνος του με την Ανάγνωση. Δεν αντιμετωπίζει πρόβλημα ορθογραφία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2577600" y="880920"/>
            <a:ext cx="8915400" cy="5432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ν ελεύθερη παραγωγή λόγου, γράφει δίχως νόημα, δε χωρίζει προτάσεις, παραλείπει γράμματα, μπερδεύει τα σύμφωνα, κάνει αναγραμματισμούς. Ακολουθεί μια απλή οδηγία, όχι όμως περισσότερες. Ονομάζει 10 αντικείμενα της τάξης του. Στις διαδικασίες της τάξης συνεργάζεται μόνο στα μαθήματα που τον ενδιαφέρουν. Στις εύκολες διηγήσεις παρακολουθεί με αρκετό ενδιαφέρο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α Μαθηματικά μπορεί να σχηματίζει σύνολα, δεν μπορεί όμως να διατυπώσει το χαρακτηριστικό του κάθε συνόλου. Γνωρίζει την έννοια και γράφει αριθμούς μέχρι το 20. Προσθέτει και αφαιρεί μέχρι το 20 με βοηθήματα. Δεν κάνει πολλαπλασιασμό και διαίρεση. Λέει την ώρα, ανά ώρα και ανά μισή ώρα. Δεν γνωρίζει τα νομίσματα, ούτε την ισοδυναμία τους. Γνωρίζει τα βασικά χρώματ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φίλους και συνεργάζεται σε ομαδικά παιχνίδια.</a:t>
            </a: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2588760" y="316080"/>
            <a:ext cx="8915400" cy="62481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ΥΜΝΑΣΙΟ</a:t>
            </a:r>
            <a:r>
              <a:rPr b="0" lang="el-GR" sz="1800" spc="-1" strike="noStrike">
                <a:solidFill>
                  <a:srgbClr val="ffffff"/>
                </a:solidFill>
                <a:latin typeface="Century Gothic"/>
              </a:rPr>
              <a:t> - Μελέτη περίπτωσης 1: Όνομα: Σπύρος, Ηλικία: 13 ετών</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άξη: Α΄ Γυμνασίου, Διάγνωση: Ειδικές μαθησιακές δυσκολίες – Δυσλεξία</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Ο Σπύρος είναι ένα παιδί ήσυχο και αρκετά συνεργάσιμο. Κάνει μεγάλη προσπάθεια να ακολουθήσει το ρυθμό της τάξης, όμως δεν τα καταφέρνει όσο θα ήθελε, κυρίως στο μάθημα της Γλώσσας. Εμφανίζει έλλειψη συγχρονισμού στις κινήσεις του. Η συγκέντρωσή του στην τάξη δεν του επιτρέπει να ολοκληρώσει τις εργασίες του στα μαθήματα και καθυστερεί να τις παραδώσει. Δυσκολεύεται να θυμηθεί το σχολικό πρόγραμμα. Η συμπεριφορά του σε γενικές γραμμές δεν παρουσιάζει προβλήματα, όμως όταν κουράζεται από την προσπάθεια που καταβάλλει μπορεί να εμφανίσει άρνηση να συνεργαστεί. Κάποιες φορές κάνει πολλές ερωτήσεις στην τάξη.  Στα γλωσσικά μαθήματα παρουσιάζει την εξής εικόνα:</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88760" y="353520"/>
            <a:ext cx="8915400" cy="5558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Η ενσωμάτωση προωθήθηκε από τη θεσμοθέτηση του Κυβερνητικού Νόμου PL 94-142 στις ΗΠΑ, με βάση τον οποίο κατοχυρώθηκε η πρόσβαση των παιδιών με ειδικές ανάγκες στη δημόσια εκπαίδευση και υιοθετήθηκε ο σχεδιασμός  ενός  </a:t>
            </a:r>
            <a:r>
              <a:rPr b="1" lang="el-GR" sz="2000" spc="-1" strike="noStrike">
                <a:solidFill>
                  <a:srgbClr val="ffffff"/>
                </a:solidFill>
                <a:latin typeface="Century Gothic"/>
              </a:rPr>
              <a:t>εξατομικευμένου  εκπαιδευτικού  προγράμματος  (individual</a:t>
            </a:r>
            <a:r>
              <a:rPr b="1" lang="en-US" sz="2000" spc="-1" strike="noStrike">
                <a:solidFill>
                  <a:srgbClr val="ffffff"/>
                </a:solidFill>
                <a:latin typeface="Century Gothic"/>
              </a:rPr>
              <a:t> </a:t>
            </a:r>
            <a:r>
              <a:rPr b="1" lang="el-GR" sz="2000" spc="-1" strike="noStrike">
                <a:solidFill>
                  <a:srgbClr val="ffffff"/>
                </a:solidFill>
                <a:latin typeface="Century Gothic"/>
              </a:rPr>
              <a:t>educational plan), </a:t>
            </a:r>
            <a:r>
              <a:rPr b="0" lang="el-GR" sz="2000" spc="-1" strike="noStrike">
                <a:solidFill>
                  <a:srgbClr val="ffffff"/>
                </a:solidFill>
                <a:latin typeface="Century Gothic"/>
              </a:rPr>
              <a:t>το οποίο αποσκοπούσε στην κάλυψη των μαθησιακών αναγκών των παιδιών. </a:t>
            </a: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Το 1986, ψηφίστηκε από το Κογκρέσο ο νόμος PL 99- 457, ο οποίος προέβλεπε το σχεδιασμό ενός </a:t>
            </a:r>
            <a:r>
              <a:rPr b="1" lang="el-GR" sz="2000" spc="-1" strike="noStrike">
                <a:solidFill>
                  <a:srgbClr val="ffffff"/>
                </a:solidFill>
                <a:latin typeface="Century Gothic"/>
              </a:rPr>
              <a:t>εξατομικευμένου προγράμματος οικογενειακής υποστήριξης (individualized family service  plan).  </a:t>
            </a:r>
            <a:r>
              <a:rPr b="0" lang="el-GR" sz="2000" spc="-1" strike="noStrike">
                <a:solidFill>
                  <a:srgbClr val="ffffff"/>
                </a:solidFill>
                <a:latin typeface="Century Gothic"/>
              </a:rPr>
              <a:t>Το πρόγραμμα αυτό περιελάμβανε τη συμμετοχή μιας διεπιστημονικής ομάδας με τη συνεργασία των γονέων, ενώ παράλληλα προβλεπόταν η βοήθεια των παιδιών από λογοθεραπευτές, από φυσιοθεραπευτές και από συμβούλους οικογενειών (Salend, 1990: 15-17).</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1981080" y="423360"/>
            <a:ext cx="9523440" cy="6216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Ανάγνω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υσιάζει ελλιπή φωνολογική ενημερότητα, γεγονός που συνδέεται άμεσα με την ανάγνωσή του. Λαθεμένη προφορά φωνηέντων και συμφώνων, όπως θ, δ αντί για φ και σ, β αντί για δ – σύγχυση ομοίων γραμμάτων οπτικά και κιναισθητικά – π.χ. οδείλονται αντί οφείλονται. Λαθεμένη προφορά συμφωνικών συμπλεγμάτων στρ, δίψηφων μπ, ντ, γκ και συνδυασμών αυ, ευ – έλλειψη αντιστοίχησης συμβόλου-φωνήματος. </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ιαβάζει αργά, λέξη λέξη χωρίς εναλλαγή στον τόνο της φωνής του και χωρίς νόημα. Φαίνεται να μην έχει αναπτυχθεί αυτοματισμός (3πλάσιο χρόνο ανά λέξ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ασταθείς οφθαλμικές κινήσεις με πολλά άλματα και δεν προσηλώνετα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ατονίζει λέξεις (υμνοί αντί ύμνο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να διαβάσει καινούριες και πολυσύλλαβες λέξεις ή τις διαβάζει λάθο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γκάζεται συχνά να διαβάσει κάτι πολλές φορές μέχρι να το καταλάβε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πορεί να παρουσιάσει δευτερογενή προβλήματα και στην κατανόηση κειμένω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και στον προφορικό λόγο, κυρίως σε ερωτήσεις σύνθετες πάνω στο κείμενο.</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συχνά χρήση συμφραζομένων ή μαντεύει.</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1893600" y="326520"/>
            <a:ext cx="10015560" cy="6629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ραφή - Ορθογραφί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Γράφει αργά καταβάλλοντας μεγάλη προσπάθεια.Τα γράμματά του δεν είναι ευανάγνωστα και δεν ευθυγραμμίζει τις λέξει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την τάση να γράφει φωνητικά (όπως ακούει τους φθόγγους χωρίς να σκέπτεται με ποιο γράμμα θα τους αποδώσει. Π.χ. κσύλο αντί ξύλο. Αυτό συμβαίνει κυρίως με τα φωνήματα των ρημάτων. Π.χ. τρέχο, γράφ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ποιες φορές χρησιμοποιεί κεφαλαία γράμματα μέσα σε μικρά (π.χ. απόΦαση).Παραλείπει γράμματα και το τελικό ς και συχνά κάνει αναγραμματισμούς και αντικαθιστά γράμματα (κίλμακα αντί κλίμακα, προθέσοι αντί πρόσθε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γραφή του κάποιες φορές είναι καθρεπτική και δεν τηρεί τα σημεία στίξης και τα διαστήματα. Όταν είναι κουρασμένος τα καταργεί εντελώς. (ζωησμου αντί ζωής μου και όπα αντί από)</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λάθη στην αντιγραφή από το βιβλίο και δυσκολεύεται πολύ να κρατήσεις σημειώσεις από τον πίνακα. Μπερδεύεται και συχνά δεν μπορεί να τις διαβάσει ούτε ο ίδιος.Καταβάλλει μεγάλη προσπάθεια να συγκεντρωθεί στο μηχανισμό της γραφής με αποτέλεσμα συχνά να χάνει τη σωστή σειρά και το γραπτό του να μην έχει συνοχή.</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p:nvPr>
        </p:nvSpPr>
        <p:spPr>
          <a:xfrm>
            <a:off x="2084040" y="4430880"/>
            <a:ext cx="8915400" cy="728640"/>
          </a:xfrm>
          <a:prstGeom prst="rect">
            <a:avLst/>
          </a:prstGeom>
          <a:noFill/>
          <a:ln w="0">
            <a:noFill/>
          </a:ln>
        </p:spPr>
        <p:txBody>
          <a:bodyPr anchor="t">
            <a:normAutofit/>
          </a:bodyPr>
          <a:p>
            <a:pPr marL="343080"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4000" spc="-1" strike="noStrike">
                <a:solidFill>
                  <a:srgbClr val="ffffff"/>
                </a:solidFill>
                <a:latin typeface="Century Gothic"/>
              </a:rPr>
              <a:t>Ευχαριστώ για την προσοχή σας!</a:t>
            </a:r>
            <a:endParaRPr b="0" lang="en-US" sz="4000" spc="-1" strike="noStrike">
              <a:solidFill>
                <a:srgbClr val="ffffff"/>
              </a:solidFill>
              <a:latin typeface="Century Gothic"/>
            </a:endParaRPr>
          </a:p>
        </p:txBody>
      </p:sp>
      <p:pic>
        <p:nvPicPr>
          <p:cNvPr id="848" name="Εικόνα 3" descr=""/>
          <p:cNvPicPr/>
          <p:nvPr/>
        </p:nvPicPr>
        <p:blipFill>
          <a:blip r:embed="rId1"/>
          <a:stretch/>
        </p:blipFill>
        <p:spPr>
          <a:xfrm>
            <a:off x="3460680" y="1109520"/>
            <a:ext cx="6162840" cy="1459080"/>
          </a:xfrm>
          <a:prstGeom prst="rect">
            <a:avLst/>
          </a:prstGeom>
          <a:ln w="0">
            <a:noFill/>
          </a:ln>
        </p:spPr>
      </p:pic>
      <p:pic>
        <p:nvPicPr>
          <p:cNvPr id="849" name="Εικόνα 4" descr=""/>
          <p:cNvPicPr/>
          <p:nvPr/>
        </p:nvPicPr>
        <p:blipFill>
          <a:blip r:embed="rId2"/>
          <a:stretch/>
        </p:blipFill>
        <p:spPr>
          <a:xfrm>
            <a:off x="3460680" y="2568600"/>
            <a:ext cx="6162840" cy="160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1709640" y="369720"/>
            <a:ext cx="9709200" cy="6118560"/>
          </a:xfrm>
          <a:prstGeom prst="rect">
            <a:avLst/>
          </a:prstGeom>
          <a:noFill/>
          <a:ln w="0">
            <a:noFill/>
          </a:ln>
        </p:spPr>
        <p:txBody>
          <a:bodyPr anchor="t">
            <a:normAutofit/>
          </a:bodyPr>
          <a:p>
            <a:pPr marL="343080" indent="0" algn="ctr">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2200" spc="-1" strike="noStrike" u="sng">
                <a:solidFill>
                  <a:srgbClr val="ffffff"/>
                </a:solidFill>
                <a:uFillTx/>
                <a:latin typeface="Century Gothic"/>
              </a:rPr>
              <a:t>ΒΙΒΛΙΟΓΡΑΦΙΑ</a:t>
            </a:r>
            <a:endParaRPr b="0" lang="en-US" sz="2200" spc="-1" strike="noStrike">
              <a:solidFill>
                <a:srgbClr val="ffffff"/>
              </a:solidFill>
              <a:latin typeface="Century Gothic"/>
            </a:endParaRPr>
          </a:p>
          <a:p>
            <a:pPr marL="343080" indent="0">
              <a:lnSpc>
                <a:spcPct val="70000"/>
              </a:lnSpc>
              <a:spcBef>
                <a:spcPts val="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entury Gothic"/>
                <a:ea typeface="Times New Roman"/>
              </a:rPr>
              <a:t> </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Ζώνιου-Σιδέρη, Α. (1996). </a:t>
            </a:r>
            <a:r>
              <a:rPr b="0" i="1" lang="el-GR" sz="1500" spc="-1" strike="noStrike">
                <a:solidFill>
                  <a:srgbClr val="ffffff"/>
                </a:solidFill>
                <a:latin typeface="Century Gothic"/>
                <a:ea typeface="Symbol"/>
              </a:rPr>
              <a:t>Οι ανάπηροι και η εκπαίδευση τους: Μια ψυχοπαιδαγωγική προσέγγιση της ένταξης</a:t>
            </a:r>
            <a:r>
              <a:rPr b="0" lang="el-GR" sz="1500" spc="-1" strike="noStrike">
                <a:solidFill>
                  <a:srgbClr val="ffffff"/>
                </a:solidFill>
                <a:latin typeface="Century Gothic"/>
                <a:ea typeface="Symbol"/>
              </a:rPr>
              <a:t>. </a:t>
            </a:r>
            <a:r>
              <a:rPr b="0" lang="en-US" sz="1500" spc="-1" strike="noStrike">
                <a:solidFill>
                  <a:srgbClr val="ffffff"/>
                </a:solidFill>
                <a:latin typeface="Century Gothic"/>
                <a:ea typeface="Symbol"/>
              </a:rPr>
              <a:t>Αθήνα: Ελληνικά  Γράμματα.</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Λαμπροπούλου, Β. &amp; Σ. Παντελιάδου. (2000). Η Ειδική αγωγή  στην Ελλάδα: Κριτική Θεώρηση, στο Α. Κυπριωτάκης (Επιμ.), Πρακτικά Συνεδρίου Ειδικής Αγωγής, Τάσεις και προοπτικές αγωγής και   εκπαίδευσης των ατόμων με ειδικές ανάγκες στην Ενωμένη Ευρώπη σήμερα, Ρέθυμνο: Πανεπιστήμιο Κρήτης.</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Μπουζάκης Σ. (2000). Συγκριτική Παιδαγωγική ΙΙ</a:t>
            </a:r>
            <a:r>
              <a:rPr b="0" i="1" lang="en-US" sz="1500" spc="-1" strike="noStrike">
                <a:solidFill>
                  <a:srgbClr val="ffffff"/>
                </a:solidFill>
                <a:latin typeface="Century Gothic"/>
              </a:rPr>
              <a:t> </a:t>
            </a:r>
            <a:r>
              <a:rPr b="0" i="1" lang="el-GR" sz="1500" spc="-1" strike="noStrike">
                <a:solidFill>
                  <a:srgbClr val="ffffff"/>
                </a:solidFill>
                <a:latin typeface="Century Gothic"/>
              </a:rPr>
              <a:t>:Θεωρητικές Προσεγγίσεις και ξένα εκπαιδευτικά συστήματα, Αθήνα, </a:t>
            </a:r>
            <a:r>
              <a:rPr b="0" i="1" lang="en-US" sz="1500" spc="-1" strike="noStrike">
                <a:solidFill>
                  <a:srgbClr val="ffffff"/>
                </a:solidFill>
                <a:latin typeface="Century Gothic"/>
              </a:rPr>
              <a:t>Gutenberg.</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αντελιάδου, Σ. &amp; Β. Κωτούλας (1997). Σχολική ένταξη  ατόμων  με  ειδικές εκπαιδευτικές ανάγκες: μια πρόταση, </a:t>
            </a:r>
            <a:r>
              <a:rPr b="0" i="1" lang="el-GR" sz="1500" spc="-1" strike="noStrike">
                <a:solidFill>
                  <a:srgbClr val="ffffff"/>
                </a:solidFill>
                <a:latin typeface="Century Gothic"/>
                <a:ea typeface="Symbol"/>
              </a:rPr>
              <a:t>Σύγχρονη Εκπαίδευση</a:t>
            </a:r>
            <a:r>
              <a:rPr b="0" lang="el-GR" sz="1500" spc="-1" strike="noStrike">
                <a:solidFill>
                  <a:srgbClr val="ffffff"/>
                </a:solidFill>
                <a:latin typeface="Century Gothic"/>
                <a:ea typeface="Symbol"/>
              </a:rPr>
              <a:t>.</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ροβατά Α., (2005), Η Ελληνική Εκπαιδευτική Πολιτική και η Ενωμένη Ευρώπη: Τόμος Α΄ , Αθήνα, εκδ. Παπαζήση.</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Saleh, L. (1998). Ο θετικός ρόλος των δασκάλων στη συνεκπαίδευση, στο  Ε. Τάφα (Επιμ./μετ.), Συνεκπαίδευση παιδιών με και χωρίς προβλήματα μάθησης και συμπεριφοράς, Αθήνα: Ελληνικά Γράμματα.</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Σούλης, Σ. (2002). Παιδαγωγική της ένταξης. Από το «Σχολείο του Διαχωρισμού» σε ένα «Σχολείο για όλους», Τόμος  Α΄. Αθήνα:   Τυπωθήτω.</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Ευρωπαϊκό Κοινοβούλιο (2013</a:t>
            </a:r>
            <a:r>
              <a:rPr b="0" i="1" lang="el-GR" sz="1500" spc="-1" strike="noStrike">
                <a:solidFill>
                  <a:srgbClr val="ffffff"/>
                </a:solidFill>
                <a:latin typeface="Century Gothic"/>
                <a:ea typeface="Symbol"/>
              </a:rPr>
              <a:t>). Έκθεση χώρας για την Ελλάδα σχετικά με τη μελέτη για τις πολιτικές των κρατών μελών για τα παιδιά με αναπηρίες. </a:t>
            </a:r>
            <a:r>
              <a:rPr b="0" lang="el-GR" sz="1500" spc="-1" strike="noStrike">
                <a:solidFill>
                  <a:srgbClr val="ffffff"/>
                </a:solidFill>
                <a:latin typeface="Century Gothic"/>
                <a:ea typeface="Symbol"/>
              </a:rPr>
              <a:t>Βρυξέλλες: Γενική Διεύθυνση Εσωτερικών πολιτικών, Θεματικό Τμήμα Γ: Δικαιώματα των Πολιτών και Συνταγματικές Υποθέσεις.</a:t>
            </a:r>
            <a:endParaRPr b="0" lang="en-US" sz="1500" spc="-1" strike="noStrike">
              <a:solidFill>
                <a:srgbClr val="ffffff"/>
              </a:solidFill>
              <a:latin typeface="Century Gothic"/>
            </a:endParaRPr>
          </a:p>
          <a:p>
            <a:pPr marL="343080" indent="0" algn="just">
              <a:lnSpc>
                <a:spcPct val="125000"/>
              </a:lnSpc>
              <a:spcBef>
                <a:spcPts val="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p:nvPr>
        </p:nvSpPr>
        <p:spPr>
          <a:xfrm>
            <a:off x="1698480" y="163080"/>
            <a:ext cx="9709200" cy="7053480"/>
          </a:xfrm>
          <a:prstGeom prst="rect">
            <a:avLst/>
          </a:prstGeom>
          <a:noFill/>
          <a:ln w="0">
            <a:noFill/>
          </a:ln>
        </p:spPr>
        <p:txBody>
          <a:bodyPr anchor="t">
            <a:normAutofit/>
          </a:bodyPr>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Στέφα, Α. (2001-02). Πρακτικές ένταξης και συνεκπαίδευσης στο γενικό σχολείο – Κριτική Προσέγγιση. Θέματα Ειδικής Αγωγής, 15,  71-74.</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5). Παιδιά με ειδικές εκπαιδευτικές ανάγκες. Μια ψυχο-παιδαγωγική προσέγγιση. Θεσσαλονίκη: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8). Μαθησιακές δυσκολίες. Αθήνα: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Avramidis, E. &amp; B. Norwich (2002). Teachers’ attitudes towards integration/inclusion: a review of the literature. European Journal of  Special Needs Education, 17 (2),  129-147.</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entre for Educational Research and Innovation (1999). Inclusive Education at Work. Students with Disabilities in Mainstream Schools. Organization for Economic Co-operation and Development  (OECD).</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ouncil of Europe (2013), Rehabilitation and Intergration of people with disabilities: Policy and legislation – 7</a:t>
            </a:r>
            <a:r>
              <a:rPr b="0" lang="en-US" sz="1600" spc="-1" strike="noStrike" baseline="30000">
                <a:solidFill>
                  <a:srgbClr val="ffffff"/>
                </a:solidFill>
                <a:latin typeface="Century Gothic"/>
                <a:ea typeface="Symbol"/>
              </a:rPr>
              <a:t>th</a:t>
            </a:r>
            <a:r>
              <a:rPr b="0" lang="en-US" sz="1600" spc="-1" strike="noStrike">
                <a:solidFill>
                  <a:srgbClr val="ffffff"/>
                </a:solidFill>
                <a:latin typeface="Century Gothic"/>
                <a:ea typeface="Symbol"/>
              </a:rPr>
              <a:t> Edition, Council of Europe Publishing, </a:t>
            </a:r>
            <a:r>
              <a:rPr b="0" lang="en-US" sz="1600" spc="-1" strike="noStrike" u="sng">
                <a:solidFill>
                  <a:srgbClr val="f55cf9"/>
                </a:solidFill>
                <a:uFillTx/>
                <a:latin typeface="Century Gothic"/>
                <a:ea typeface="Symbol"/>
                <a:hlinkClick r:id="rId1"/>
              </a:rPr>
              <a:t>http://hub.coe.int/</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roll, P. &amp; D. Moses (2000). Ideologies and utopias: education professionals’ views of inclusion, European Journal of Special Needs Education 15 (1), 1-12.</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llis, S, Tod J. &amp; Graham-Matheson L. (2008), Special Educational needs and Inclusion, Reflections and Renewal, UK:NASUWT, </a:t>
            </a:r>
            <a:r>
              <a:rPr b="0" lang="en-US" sz="1600" spc="-1" strike="noStrike" u="sng">
                <a:solidFill>
                  <a:srgbClr val="f55cf9"/>
                </a:solidFill>
                <a:uFillTx/>
                <a:latin typeface="Century Gothic"/>
                <a:ea typeface="Symbol"/>
                <a:hlinkClick r:id="rId2"/>
              </a:rPr>
              <a:t>http://nasuwt.org.uk</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vans,   J.   &amp;   I.   Lunt  (2002).   Inclusive   education:   are  there limits?, European Journal of Special Needs Education, 17 (1),  1-14.</a:t>
            </a: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1698480" y="163440"/>
            <a:ext cx="9709200" cy="6694560"/>
          </a:xfrm>
          <a:prstGeom prst="rect">
            <a:avLst/>
          </a:prstGeom>
          <a:noFill/>
          <a:ln w="0">
            <a:noFill/>
          </a:ln>
        </p:spPr>
        <p:txBody>
          <a:bodyPr anchor="t">
            <a:normAutofit/>
          </a:bodyPr>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alinen I. &amp; Jarvinen R. (2008), Towards inclusive education the case of Finland, Prospects.</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ornby, G. (1999). Inclusion or delusion: Can one size fit all?, Support for Learning, 14 (4), 152-157.</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indsay, G. (2003). Inclusive education: a critical perspective British Journal of Special Education, 30 (1),  3-12.</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ombardi, T. &amp; D. Woodrum (1999). Inclusion: a worthy challenge for parents, teachers, psychologists and administrators, in S. Pfeiffer &amp; L. Reddy, Inclusion Practices with special needs students: Theory, research, and application, New York: The Haworth Press,  pp.171-188.</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alend, S. (1990). Effective mainstreaming. New York: Macmillan Publishing Company.</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ebba, J. &amp; M. Ainscow (1996). International developments in inclusive setting: mapping the issues. Cambridge Journal of Education 26 (1),   1-9.</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mith, T., Polloway, E., Patton J. &amp; C. Dowdy (1998). Teaching Students with Special Needs in Inclusive Settings. Boston: Allyn and  Bacon.</a:t>
            </a: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1447560" y="228240"/>
            <a:ext cx="10341000" cy="6629400"/>
          </a:xfrm>
          <a:prstGeom prst="rect">
            <a:avLst/>
          </a:prstGeom>
          <a:noFill/>
          <a:ln w="0">
            <a:noFill/>
          </a:ln>
        </p:spPr>
        <p:txBody>
          <a:bodyPr anchor="t">
            <a:normAutofit fontScale="93000"/>
          </a:bodyPr>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Unesco. (2004). The Salamanka Statement and framework for action on special needs education, in Mitchell, D. (Εdit.). Special Educational Needs and Inclusive Education. Major Themes in Education, Vol. 2, London: Routledge Falmer.</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Yoshiba, R. &amp;  K. Ketzenberger (2000). Mainstreaming, in Reynolds, C.   &amp;</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E. Fletcher-Janzen (Eds.), Encyclopedia of Special Education. A reference for the education of the handicapped and other exceptional children and adults, vol. 2, New York: John Wiley &amp; Sons,   pp.1132.</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aurin-Bowie C. (2009), Better education for all: When, we ‘re included too – A global  report: People with an intellectual disability and their families speak out on education for all, Disability and Inclusive Education, Inclusion international, </a:t>
            </a:r>
            <a:r>
              <a:rPr b="0" lang="en-US" sz="1800" spc="-1" strike="noStrike" u="sng">
                <a:solidFill>
                  <a:srgbClr val="f55cf9"/>
                </a:solidFill>
                <a:uFillTx/>
                <a:latin typeface="Century Gothic"/>
                <a:ea typeface="Times New Roman"/>
                <a:hlinkClick r:id="rId1"/>
              </a:rPr>
              <a:t>http://ii.gmalik.com/pdfs/Better_Education_for_All_Global_Report_October_2009.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Mitchell D., (2010), Education that fits: Review of international trends in the education of students with special educational needs, Wellington: Ministry of Education</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Ottensen E., (2013), Inclusion: A critique of selected national policy frameworks in Leadership for Inclusive Education: Vision, Values and Voices, Studies in Inclusive Education. </a:t>
            </a:r>
            <a:endParaRPr b="0" lang="en-US" sz="18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6568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endParaRPr b="0" lang="en-US" sz="24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1447560" y="228240"/>
            <a:ext cx="10341000" cy="6629400"/>
          </a:xfrm>
          <a:prstGeom prst="rect">
            <a:avLst/>
          </a:prstGeom>
          <a:noFill/>
          <a:ln w="0">
            <a:noFill/>
          </a:ln>
        </p:spPr>
        <p:txBody>
          <a:bodyPr anchor="t">
            <a:normAutofit/>
          </a:bodyPr>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ter E. &amp; O’ Raw P. (2010), Literature Review of the Principles and Practices relating to Inclusive Education for Children with Special Educational Needs, National Council for Special Education: ICEP Europe</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zer M. (2006), Confronting Difference: an excursion through the history of special education, The SAGE Handbook of special education, Sage Publications.</a:t>
            </a:r>
            <a:endParaRPr b="0" lang="en-US" sz="1800" spc="-1" strike="noStrike">
              <a:solidFill>
                <a:srgbClr val="ffffff"/>
              </a:solidFill>
              <a:latin typeface="Century Gothic"/>
            </a:endParaRPr>
          </a:p>
          <a:p>
            <a:pPr marL="28584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r>
              <a:rPr b="1" lang="el-GR" sz="2400" spc="-1" strike="noStrike" u="sng">
                <a:solidFill>
                  <a:srgbClr val="ffffff"/>
                </a:solidFill>
                <a:uFillTx/>
                <a:latin typeface="Century Gothic"/>
                <a:ea typeface="Times New Roman"/>
              </a:rPr>
              <a:t>Ηλεκτρονικές διευθύνσεις</a:t>
            </a:r>
            <a:endParaRPr b="0" lang="en-US" sz="24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curry.edschool.virginia.edu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european-agency.org</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inclusion.com/artsalamanca.html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ldanatl.org/lda/</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portal.unesco.org/education</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www. sedl. org /change /issues  /issues43.html</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1"/>
              </a:rPr>
              <a:t>http://www.unesco.org/education/pdf/SALAMA_E.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2"/>
              </a:rPr>
              <a:t>http://www.corwin.com/upm-data/8961_Ch_1_from_Algozzine6_Rev_Final_Pdf_3.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2588760" y="519120"/>
            <a:ext cx="8915400" cy="53928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νσωμάτωση στηρίχτηκε στην ιδέα του </a:t>
            </a:r>
            <a:r>
              <a:rPr b="1" lang="el-GR" sz="1800" spc="-1" strike="noStrike">
                <a:solidFill>
                  <a:srgbClr val="ffffff"/>
                </a:solidFill>
                <a:latin typeface="Century Gothic"/>
              </a:rPr>
              <a:t>λιγότερο περιοριστικού περιβάλλοντος (least restrictive environment)</a:t>
            </a:r>
            <a:r>
              <a:rPr b="0" lang="el-GR" sz="1800" spc="-1" strike="noStrike">
                <a:solidFill>
                  <a:srgbClr val="ffffff"/>
                </a:solidFill>
                <a:latin typeface="Century Gothic"/>
              </a:rPr>
              <a:t>,  το  οποίο έδινε έμφαση στις εκπαιδευτικές ανάγκες των παιδιών παρά στις μειονεξίες του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κπαίδευση παιδιών με μειονεξίες σε  λιγότερο περιοριστικό περιβάλλον προϋποθέτει ότι αυτά τα παιδιά μπορούν να εκπαιδεύονται μαζί με τους συνομηλίκους τους στην ίδια τάξη, όσο γίνεται περισσότερο, ανάλογα με τις δυνατότητες τους (Smith et al., 1998: 17).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A</a:t>
            </a:r>
            <a:r>
              <a:rPr b="0" lang="el-GR" sz="1800" spc="-1" strike="noStrike">
                <a:solidFill>
                  <a:srgbClr val="ffffff"/>
                </a:solidFill>
                <a:latin typeface="Century Gothic"/>
              </a:rPr>
              <a:t>υτό δε σημαίνει ότι όλοι οι μαθητές είναι εφικτό να εγγράφονται σε γενικά σχολεία. Οι μαθητές με αναπηρίες τοποθετούνται σε ειδικές τάξεις ή ειδικά σχολεία, όταν οι αναπηρίες τους είναι πολύ σοβαρές και τα γενικά σχολεία δεν είναι σε θέση να ανταποκριθούν στις ανάγκες τους (Salend, 1990: 2-3). Εάν λοιπόν το εκπαιδευτικό προσωπικό αξιολογεί ότι κάποιες περιπτώσεις παιδιών χρειάζονται ειδική καθοδήγηση σε ένα περιβάλλον κατάλληλα διαμορφωμένο για τις ανάγκες και τις ιδιαιτερότητές τους, πραγματοποιείται η τοποθέτησή τους σε ένα περισσότερο περιοριστικό περιβάλλον (more restrictive environment) πάντοτε όμως με τη συγκατάθεση των γονέων (Yoshiba et al., 2000:  1132).</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1547280" y="280800"/>
            <a:ext cx="10371240" cy="657684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Reynolds και Birch αναφέρουν διεξοδικά τρεις τύπους σχολικής ενσωμάτωσης, που προωθούν τη συνύπαρξη όλων των παιδιών σε γενικές τάξεις.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1. </a:t>
            </a:r>
            <a:r>
              <a:rPr b="1" lang="en-US" sz="1800" spc="-1" strike="noStrike">
                <a:solidFill>
                  <a:srgbClr val="ffffff"/>
                </a:solidFill>
                <a:latin typeface="Century Gothic"/>
              </a:rPr>
              <a:t>X</a:t>
            </a:r>
            <a:r>
              <a:rPr b="1" lang="el-GR" sz="1800" spc="-1" strike="noStrike">
                <a:solidFill>
                  <a:srgbClr val="ffffff"/>
                </a:solidFill>
                <a:latin typeface="Century Gothic"/>
              </a:rPr>
              <a:t>ωροταξική ενσωμάτωση:</a:t>
            </a:r>
            <a:r>
              <a:rPr b="0" lang="el-GR" sz="1800" spc="-1" strike="noStrike">
                <a:solidFill>
                  <a:srgbClr val="ffffff"/>
                </a:solidFill>
                <a:latin typeface="Century Gothic"/>
              </a:rPr>
              <a:t> περιλαμβάνει την κοινή παρουσία των παιδιών με και χωρίς ιδιαιτερότητες στο ίδιο σχολικό κτίριο με τη χρήση των ίδιων πόρων και εγκαταστάσεω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2. </a:t>
            </a:r>
            <a:r>
              <a:rPr b="1" lang="el-GR" sz="1800" spc="-1" strike="noStrike">
                <a:solidFill>
                  <a:srgbClr val="ffffff"/>
                </a:solidFill>
                <a:latin typeface="Century Gothic"/>
              </a:rPr>
              <a:t>Κοινωνική ενσωμάτωση: </a:t>
            </a:r>
            <a:r>
              <a:rPr b="0" lang="el-GR" sz="1800" spc="-1" strike="noStrike">
                <a:solidFill>
                  <a:srgbClr val="ffffff"/>
                </a:solidFill>
                <a:latin typeface="Century Gothic"/>
              </a:rPr>
              <a:t>εστιάζει το ενδιαφέρον της στην αύξηση κυρίως των κοινωνικών επαφών και της αλληλεπίδρασης ανάμεσα στα παιδιά.</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3. </a:t>
            </a:r>
            <a:r>
              <a:rPr b="1" lang="el-GR" sz="1800" spc="-1" strike="noStrike">
                <a:solidFill>
                  <a:srgbClr val="ffffff"/>
                </a:solidFill>
                <a:latin typeface="Century Gothic"/>
              </a:rPr>
              <a:t>Διδακτική ενσωμάτωση: </a:t>
            </a:r>
            <a:r>
              <a:rPr b="0" lang="el-GR" sz="1800" spc="-1" strike="noStrike">
                <a:solidFill>
                  <a:srgbClr val="ffffff"/>
                </a:solidFill>
                <a:latin typeface="Century Gothic"/>
              </a:rPr>
              <a:t>περιλαμβάνει τη συμμετοχή των παιδιών με ιδιαιτερότητες στην ίδια διδακτική διαδικασία ίδιου γνωστικού αντικειμένου με τους άλλους μαθητές, χωρίς όμως να ακολουθείται απαραίτητα ο ίδιος τρόπος διδασκαλίας   ή να αναμένονται οι ίδιες επιδόσεις (Reynolds και Birch, 1988, όπως αναφέρεται από το Salend, 1990: 10, Παντελιάδου, 1992:  98-100).</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a:t>
            </a:r>
            <a:r>
              <a:rPr b="1" lang="el-GR" sz="1800" spc="-1" strike="noStrike">
                <a:solidFill>
                  <a:srgbClr val="ffffff"/>
                </a:solidFill>
                <a:latin typeface="Century Gothic"/>
              </a:rPr>
              <a:t>επιφυλάξεις</a:t>
            </a:r>
            <a:r>
              <a:rPr b="0" lang="el-GR" sz="1800" spc="-1" strike="noStrike">
                <a:solidFill>
                  <a:srgbClr val="ffffff"/>
                </a:solidFill>
                <a:latin typeface="Century Gothic"/>
              </a:rPr>
              <a:t> που κατά καιρούς διατυπώθηκαν για την ενσωμάτωση επικεντρώθηκαν στο γεγονός ότι αυτή </a:t>
            </a:r>
            <a:r>
              <a:rPr b="1" lang="el-GR" sz="1800" spc="-1" strike="noStrike">
                <a:solidFill>
                  <a:srgbClr val="ffffff"/>
                </a:solidFill>
                <a:latin typeface="Century Gothic"/>
              </a:rPr>
              <a:t>αφορούσε μόνο τη φυσική τοποθέτηση των παιδιών με ειδικές ανάγκες στο γενικό σχολείο</a:t>
            </a:r>
            <a:r>
              <a:rPr b="0" lang="el-GR" sz="1800" spc="-1" strike="noStrike">
                <a:solidFill>
                  <a:srgbClr val="ffffff"/>
                </a:solidFill>
                <a:latin typeface="Century Gothic"/>
              </a:rPr>
              <a:t>. Όλοι οι μαθητές με ιδιαιτερότητες μπορούσαν να μοιράζονται τον ίδιο χώρο με τους συμμαθητές τους, μόνο όταν αυτοί ήταν ικανοί να συμμετέχουν στις ίδιες δραστηριότητες με τους υπολοίπους, χωρίς να έχουν προηγηθεί  τροποποιήσεις του χώρου. Ο ειδικός παιδαγωγός ήταν αυτός που είχε τη μεγαλύτερη ευθύνη για αυτά τα παιδιά, ενώ ο ρόλος του  εκπαιδευτικού  γενικής εκπαίδευσης ήταν απλώς επικουρικός. Έτσι, όμως, τα παιδιά έπρεπε    να προσαρμοστούν στο πρόγραμμα του σχολείου και όχι το σχολείο στις ανάγκες αυτών (Thomkins, 1995, όπως αναφέρεται στην ιστοσελίδα www.  sedl. org /change /issues /issues43.html).</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1547280" y="280800"/>
            <a:ext cx="10371240" cy="6172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αγώνας για την προστασία των ανθρωπίνων δικαιωμάτων προετοίμασε το έδαφος και για την υιοθέτηση της πρακτικής της </a:t>
            </a:r>
            <a:r>
              <a:rPr b="1" lang="el-GR" sz="1800" spc="-1" strike="noStrike">
                <a:solidFill>
                  <a:srgbClr val="ffffff"/>
                </a:solidFill>
                <a:latin typeface="Century Gothic"/>
              </a:rPr>
              <a:t>ένταξης</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9  ο  Feuseur όρισε την ένταξη ως «</a:t>
            </a:r>
            <a:r>
              <a:rPr b="1" lang="el-GR" sz="1800" spc="-1" strike="noStrike">
                <a:solidFill>
                  <a:srgbClr val="ffffff"/>
                </a:solidFill>
                <a:latin typeface="Century Gothic"/>
              </a:rPr>
              <a:t>περιγραφή της κοινής αγωγής, μάθησης και διδασκαλίας παιδιών με και χωρίς ειδικές εκπαιδευτικές ανάγ</a:t>
            </a:r>
            <a:r>
              <a:rPr b="0" lang="el-GR" sz="1800" spc="-1" strike="noStrike">
                <a:solidFill>
                  <a:srgbClr val="ffffff"/>
                </a:solidFill>
                <a:latin typeface="Century Gothic"/>
              </a:rPr>
              <a:t>κες». Η εκπαίδευση, λοιπόν, αρχίζει να προσανατολίζεται προς μια μαθησιακή συνεργασία μεταξύ μαθητών διαφορετικού επιπέδου και δυνατοτήτων ανάπτυξης (όπως αναφέρεται από το Σούλη, 2002:  44-4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δεκαετία του ‘80 η Ευρωπαϊκή Ένωση θέτει ως προτεραιότητα την προώθηση της σχολικής ένταξης, λαμβάνοντας σοβαρά υπόψη την Έκθεση Warnock, στην οποία προσδιορίστηκαν με σαφήνεια </a:t>
            </a:r>
            <a:r>
              <a:rPr b="1" lang="el-GR" sz="1800" spc="-1" strike="noStrike">
                <a:solidFill>
                  <a:srgbClr val="ffffff"/>
                </a:solidFill>
                <a:latin typeface="Century Gothic"/>
              </a:rPr>
              <a:t>3 μορφές της σχολικής ένταξης</a:t>
            </a:r>
            <a:r>
              <a:rPr b="0" lang="el-GR" sz="1800" spc="-1" strike="noStrike">
                <a:solidFill>
                  <a:srgbClr val="ffffff"/>
                </a:solidFill>
                <a:latin typeface="Century Gothic"/>
              </a:rPr>
              <a:t>: </a:t>
            </a:r>
            <a:r>
              <a:rPr b="1" lang="el-GR" sz="1800" spc="-1" strike="noStrike">
                <a:solidFill>
                  <a:srgbClr val="ffffff"/>
                </a:solidFill>
                <a:latin typeface="Century Gothic"/>
              </a:rPr>
              <a:t>α)  η χωρική (locational)</a:t>
            </a:r>
            <a:r>
              <a:rPr b="0" lang="el-GR" sz="1800" spc="-1" strike="noStrike">
                <a:solidFill>
                  <a:srgbClr val="ffffff"/>
                </a:solidFill>
                <a:latin typeface="Century Gothic"/>
              </a:rPr>
              <a:t>, όπου οι μαθητές εκπαιδεύονται στον ίδιο χώρο αλλά σε ξεχωριστές μονάδες ή σχολικά κτίρια, με αποτέλεσμα η επαφή των παιδιών με και χωρίς ειδικές εκπαιδευτικές ανάγκες να είναι περιορισμένη, </a:t>
            </a:r>
            <a:r>
              <a:rPr b="1" lang="el-GR" sz="1800" spc="-1" strike="noStrike">
                <a:solidFill>
                  <a:srgbClr val="ffffff"/>
                </a:solidFill>
                <a:latin typeface="Century Gothic"/>
              </a:rPr>
              <a:t>β) η  κοινωνική (social), </a:t>
            </a:r>
            <a:r>
              <a:rPr b="0" lang="el-GR" sz="1800" spc="-1" strike="noStrike">
                <a:solidFill>
                  <a:srgbClr val="ffffff"/>
                </a:solidFill>
                <a:latin typeface="Century Gothic"/>
              </a:rPr>
              <a:t>η  οποία προωθεί την αλληλεπίδραση     και  την  κοινωνική επαφή των παιδιών κυρίως κατά τη διάρκεια δραστηριοτήτων και </a:t>
            </a:r>
            <a:r>
              <a:rPr b="1" lang="el-GR" sz="1800" spc="-1" strike="noStrike">
                <a:solidFill>
                  <a:srgbClr val="ffffff"/>
                </a:solidFill>
                <a:latin typeface="Century Gothic"/>
              </a:rPr>
              <a:t>γ) η λειτουργική (functional)</a:t>
            </a:r>
            <a:r>
              <a:rPr b="0" lang="el-GR" sz="1800" spc="-1" strike="noStrike">
                <a:solidFill>
                  <a:srgbClr val="ffffff"/>
                </a:solidFill>
                <a:latin typeface="Century Gothic"/>
              </a:rPr>
              <a:t>, η οποία πραγματοποιείται, όταν οι  μαθητές  με ειδικές ανάγκες συμμετέχουν ενεργά στη σχολική ζωή του γενικού σχολείου και ακολουθούν τους ίδιους εκπαιδευτικούς στόχους. Η τελευταία μορφή θεωρείται η πιο αποτελεσματική αλλά και η πιο δύσκολη στην εφαρμογή της, καθώς προϋποθέτει ουσιαστική συμμετοχή των παιδιών μέσα στην τάξη.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1547280" y="280800"/>
            <a:ext cx="10371240" cy="63370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η Εκπαιδευτική Πράξη (Education Act) όρισε ότι οι Εκπαιδευτικές Τοπικές Αρχές στη Βρετανία έχουν καθήκον  να  διασφαλίζουν  τα εκπαιδευτικά δικαιώματα των παιδιών με ιδιαιτερότητες και να  τα  τοποθετούν, όσο αυτό είναι εφικτό, σε σχολεία  της  γεωγραφικής  περιοχής τους (Allan, 1994: 158).</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ένταξη, ως κίνημα, στόχευε στην ενίσχυση της κοινής ζωής και μάθησης παιδιών με και χωρίς εκπαιδευτικές ανάγκες σε όλες τις εκφάνσεις των σχολικών δραστηριοτήτων. Οι συζητήσεις γύρω από την έννοια της ένταξης κορυφώθηκαν στα μέσα του εικοστού αιώνα στο διεθνή χώρο. Οραματιζόταν την προσαρμογή του σχολείου στις ανάγκες των παιδιών και συνάμα την αλλαγή του σε ένα σχολείο πλούσιο σε εμπειρίες, ευέλικτο, που εκτιμά τη διαφορετικότητα (Παντελιάδου &amp; Κωτούλας, 1997:  144).</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ffffff"/>
                </a:solidFill>
                <a:latin typeface="Century Gothic"/>
              </a:rPr>
              <a:t>Η πρακτική της ένταξης, όμως, δεν επέφερε τα αναμενόμενα αποτελέσματα, καθώς διαπιστώθηκε ότι σε αρκετές περιπτώσεις, αν και τα παιδιά τοποθετούνταν στη γενική τάξη, εξακολουθούσαν να περνούν το μεγαλύτερο μέρος της σχολικής μέρας απομονωμένα από τους συμμαθητές τους.</a:t>
            </a:r>
            <a:r>
              <a:rPr b="0" lang="el-GR" sz="1800" spc="-1" strike="noStrike">
                <a:solidFill>
                  <a:srgbClr val="ffffff"/>
                </a:solidFill>
                <a:latin typeface="Century Gothic"/>
              </a:rPr>
              <a:t> Στην πραγματικότητα αυτά τα παιδιά ήταν αποξενωμένα, κι όταν ακόμη παρακολουθούσαν μαθήματα στο γενικό σχολείο (Farrell, 2000: 153). Όπως  και στην περίπτωση της ενσωμάτωσης, έτσι και στην ένταξη η αγωγή των παιδιών με ειδικές ανάγκες ήταν προσανατολισμένη στους στόχους του  γενικού σχολείου, το οποίο, όμως, παρέμενε κατά πολύ αδιαφοροποίητο (Ainscow, 1997: 5-6 Norwich, 2000: 8). Σύμφωνα με τα παραπάνω, </a:t>
            </a:r>
            <a:r>
              <a:rPr b="1" lang="el-GR" sz="1800" spc="-1" strike="noStrike">
                <a:solidFill>
                  <a:srgbClr val="ffffff"/>
                </a:solidFill>
                <a:latin typeface="Century Gothic"/>
              </a:rPr>
              <a:t>η ένταξη εκλαμβανόταν περισσότερο με την έννοια της αφομοίωσης (assimilation) των παιδιών με ειδικές ανάγκες στους στόχους και στο Αναλυτικό Πρόγραμμα του γενικού σχολείου</a:t>
            </a:r>
            <a:r>
              <a:rPr b="0" lang="el-GR" sz="1800" spc="-1" strike="noStrike">
                <a:solidFill>
                  <a:srgbClr val="ffffff"/>
                </a:solidFill>
                <a:latin typeface="Century Gothic"/>
              </a:rPr>
              <a:t> (Avramidis &amp; Norwich, 2002:  131).</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9T15:49:02Z</dcterms:created>
  <dc:creator>Βιβη</dc:creator>
  <dc:description/>
  <dc:language>en-US</dc:language>
  <cp:lastModifiedBy>Βιβη</cp:lastModifiedBy>
  <dcterms:modified xsi:type="dcterms:W3CDTF">2017-12-06T06:15:28Z</dcterms:modified>
  <cp:revision>58</cp:revision>
  <dc:subject/>
  <dc:title>Παρουσίαση του PowerPoint</dc:title>
</cp:coreProperties>
</file>