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etros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09-21T14:59:34.390000000" idx="1">
    <p:pos x="5567" y="367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52A2-64DD-472E-AEBC-7B2A24C807F3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A10F-8FD8-47BB-867D-1E8DCB3541FC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642-5214-4C91-AECE-B4E1C094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250-1914-4BE2-9054-B43AD231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930-7E53-4E24-844D-47D5D3B4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6E4-4F36-46B6-A332-7ADE5273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198A-B783-4B4D-992C-26BECE42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1926-5989-4D19-881F-62397C5F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D8B5-6B66-4016-B386-50A079E2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804E-21D4-4BF9-97FB-5EB7D4A7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0C79-23C7-42AF-AE67-26BF89DF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A4DD-BC33-40D9-AA23-AC7D8D0E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E3A7-5D69-495D-9B1D-1FD59CA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238-B78B-478B-90A2-41E56259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EDEB-9512-4A0B-8BED-D06DD2B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A41F-32CF-4975-8CE9-AF578B3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0DF5-15B4-4DB8-B6A1-CCBA3F49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0D3C-DAC5-4D1C-AD00-419A1AA2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7659-135D-40E5-B4E6-19BEFE34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C6F4-25A5-4DE9-9A16-CC6819A6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8C71-B0F7-4AC3-90FA-B60EBFD0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E614-6AB2-4656-A67B-3E9FC8C5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2EC1-A0C0-48BC-99E6-2547B8B6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090C-B741-4487-921C-3EFAD028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F89-F78B-413E-B429-51D2BD76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B65F-AA75-40F4-91C1-7E41AFD3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3247D-3448-4431-ABE9-46DDE965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FF1A-1FE0-4AB1-AD9D-E727CEA8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681B-5525-4432-84E2-AD50783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A4B8-393A-4D9F-9745-566EB64D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C6B9-6839-498E-9867-CD9C59EB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F9BA-DA1A-4206-A5FA-FC845045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C0A10-CA64-4B91-9283-59216053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572AE-A1FE-45FE-9206-9B88F67D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82B07-27CE-4870-851C-BA80DAB9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7D2-F2AA-41D4-8A74-729240D6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7B13-AEDF-437D-8BBD-6838F8C3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F187-0EC6-4AEC-8431-68514A6B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DC03F-17AD-494A-AD54-2CF12EEC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4E822-DF65-4709-8E00-B71C1B1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4DFC-9D84-4E47-941A-5C959905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E599-E88E-432E-A688-10CAE41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5929-4CF7-4335-9DE0-DF5D204D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BEC14-4308-435C-83DC-7B83CF39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F353-0427-45DB-8E01-F210B5FA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048A3-B526-4269-9DAD-F349819D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4E2-3766-4615-B598-372DF613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C7D4-201E-44C7-A8C8-CF6B6EEE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FBCEC-F0C7-4FC6-A579-64FB29C8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F39E4-FF27-43ED-9C00-DACD7784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E2934-01A6-42DC-B8EC-4B45F837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E1F6-38D1-4FB2-9829-0743A990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1E6C2-F2A6-46BC-B00A-FD2B0557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4EDF5-7A77-494F-AE76-B497916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4E1CE-568D-45A7-8DE0-2E38D10A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D06C-603A-4210-8962-6CCA008C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4363E-7843-4737-A89B-ED11BB3C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264-F3C0-42BB-963F-650E9DF3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0C9E-F9AD-4BF0-AA4A-727FDAED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5D79F-BA98-41F5-BA8A-301A8F5B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A79FD-A384-455C-8018-32DEEB41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C6940-BCE4-420B-8EDB-72E39AE8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E5275-0A4A-4771-8117-F939741B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EF09F-E9BC-4079-B3D1-66AAC571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0F65-4264-4847-9B91-56A959CB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96398-89C1-4262-A7AE-A7F2EC1A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84F3-9536-4BA1-96CB-061147E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054E9-2A4A-411E-9F37-EDC69187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555-9433-4D51-87B6-962F6A3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F7007-58E3-4E01-9B12-A52AC130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C2FB-AC89-4818-8F41-B15E2740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35737-B51E-450B-8E90-505ED59D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D11-DA06-48FD-9947-C35C638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369-A237-44B2-8C2E-83CB5BC9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14F9-DD25-4005-A3BB-581574E7C886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7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12 - Ευθεία γραμμή σύνδεσης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60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6EA7-FD30-4B2D-B5D5-1C7FF2F19689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1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932F-F640-49DF-BC0B-E526C264A887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6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12 - Ευθεία γραμμή σύνδεσης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63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CA9E-9EAA-4D83-8D68-AA8784E4DBF1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13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12 - Ευθεία γραμμή σύνδεσης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16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7D24-DBEF-43A7-B55E-A8305BF8B560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66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12 - Ευθεία γραμμή σύνδεσης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69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EEDD-87A4-4DB9-8D65-2B82E3C1D452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61080" cy="3706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23640" y="4076280"/>
            <a:ext cx="8458200" cy="25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έτρος Π. Καριώτογλου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αιδαγωγική Σχολή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ανεπιστήμιο Δυτικής Μακεδονίας 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δακτικές – μαθησιακές ακολουθίες: συνέπεια και του αδιεξόδου των εναλλακτικών ιδεών μαθητών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ΠΕ στην εκπαίδευση ΦΕ: συνέπεια της τεχνολογικής εξέλιξης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ργαστηριακή διδασκαλία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cover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quiry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ολιστική θεώρηση και έμφαση στις διαδικασίε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οντέλα και Μοντελοποίηση στην εκπαίδευση των ΦΕ: ολιστική θεώρηση και πρόταση της ψυχολογία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λέτη διαλόγων, επιχειρηματολογίας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gumenta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) και κατασκευής νοήματος στη διδασκαλία ΦΕ: διεύρυνση της κατανόησης + διαδικαστική γνώ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00040" y="571320"/>
            <a:ext cx="795816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ΙΣΤΟΡΙΚΑ ΔΙΑΜΟΡΦΩΜΕΝΑ ΡΕΥΜΑΤΑ ΤΗΣ ΔΙΔΑΚΤΙΚΗΣ ΤΩΝ Φ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ΔΙΔΑΚΤΙΚΗ ΠΡΟΤΑ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ΕΚΠΑΙΔΕΥΤΙΚΗ ΠΟΛΙΤΙΚ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ΕΠΙΣΤΗΜΟΛΟΓΙΚΗ ΘΕΩΡΗΣΗ ΤΩΝ Φ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1026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609040" cy="13651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28240" y="1714320"/>
            <a:ext cx="862956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υριαρχία του επιστημονικού περιεχομένου – Επιστήμη στο επίκεντρο της συζήτησης 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είραμα ως επιβεβαίωση της θεωρία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πίδειξη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ιδακτικό Μοντέλο Μεταφοράς, ως συνέπεια των συμπεριφοριστικών απόψεων για τη μάθη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ρευνα και Πράξη συγκλίνου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571320" y="571680"/>
            <a:ext cx="8001000" cy="5643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ώτη μεγάλη αλλαγή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πάλι βλέπει από τη μεριά της Επιστήμης / Επιστημόνων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utnik shock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ίδρα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ner &amp; Piaget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… «ο μαθητής ως μικρός επιστήμονας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novative Curricula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μαθητής αρχίζει να μπαίνει στο επίκεντρο της συζήτησης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οτελέσματα ερευνητικών προσπαθειών: Θετικά σε συναισθηματικό και ψυχοκινητικό επίπεδο, θετικές στάσεις ως προς τις ΦΕ, αλλά πενιχρά γνωστικά αποτελέσματα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εκπαιδευτική πράξη αποκλίνει από τη έρευνα και τη θεωρία – Παράγοντες που αιτιολογούν την απόκλιση (χρόνος, επιμόρφωση εκπαιδευτικών, …. ).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28760" y="642600"/>
            <a:ext cx="8143920" cy="564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δεύτερη μεγάλη αλλαγή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αυτή τη φορά κοιτάει προς τους μαθητές / τριε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1026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1438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Το κίνημα των εναλλακτικών / διαισθητικών ιδεών: π.χ. «η κίνηση είναι αποτέλεσμα της δύναμης» και οι πολλαπλές και αποκλίνουσες απόπειρες αξιοποίησής τους στη διδασκαλία: εννοιολογική αλλαγή με γνωστική σύγκρουση, ενίσχυση των ιδεών, χρήση αναλογιών, γεφύρωση κλπ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 μαθητής κατασκευάζει τη γνώση του ατομικά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iaget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ή  κοινωνικά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ygotski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ημαντική η επίδραση των Τεχνολογιών της Πληροφορίας και της Επικοινωνίας, ως εργαλείο αλλαγής των ιδεών των μαθητών 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τελέσματα ερευνητικών προσπαθειών: Τα περισσότερα θετικά, αλλά μη γενικεύσιμα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Η Έρευνα τροφοδοτεί  την πράξη, αλλά η πράξη…. δύσκολα αλλάζει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ριτική στον εποικοδομητισμό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682560" y="1127160"/>
            <a:ext cx="77724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7017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ό το κίνημα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(cience) T(echnology) S(ociety)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, του 1960, και το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SE(nvironment)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τις νεότερες απόψεις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Μια πρόταση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. Millar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: Βασικές έννοιες και Μοντέλα π.χ. Ηλιακό σύστημα, Στοιχεία της επιστημονικής μεθόδου, Στοιχεία εξέλιξης των ιδεών – εννοιών της επιστήμης, Επιπτώσεις στην κοινωνία.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υρίαρχο στοιχείο το δημοκρατικό επιχείρημα: σε μια τεχνολογική κοινωνία οι πολίτες πρέπει να είναι σε θέση να συμμετέχουν στη λήψη αποφάσεων για σχετικά θέματα: κλωνοποίηση, απόβλητα, ηλεκτρομαγνητική ακτινοβολία (κεραίες)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κλίνουσες τάσεις μεταξύ περιεχομένου και επιπτώσεων στην κοινωνία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εσωτερικές αντιφάσεις των προτάσεων και μια πιθανή λύση: ανάλογα με τα τεχνολογικά μοντέλα η ανάδειξη αντίστοιχων διδακτικών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35:42Z</dcterms:created>
  <dc:creator>qwerty</dc:creator>
  <dc:description/>
  <dc:language>en-US</dc:language>
  <cp:lastModifiedBy>Πέτρος Καριώτογλου</cp:lastModifiedBy>
  <dcterms:modified xsi:type="dcterms:W3CDTF">2019-05-19T10:46:08Z</dcterms:modified>
  <cp:revision>167</cp:revision>
  <dc:subject/>
  <dc:title>Κρίσιμα Ερωτήματα</dc:title>
</cp:coreProperties>
</file>