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etros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09-21T14:59:34.390000000" idx="1">
    <p:pos x="5567" y="367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92DE-AADA-407D-A8E0-A2D347E7EF56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B717-C86E-4197-A6CD-BF03B93F4BD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0AC-2D74-498B-BA5A-ED5A56F0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C3F-11D5-4992-A6D1-56435AF6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C5A-887E-4C7E-8B1B-7E260561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EE3-985B-4329-AF68-EB9CC12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24C5-50B5-4594-8C48-D9E32B12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1C35-6BC7-4B09-8AFE-7C7BC955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21E4-3F88-4E79-B2B9-6B7B8E61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9A00-945E-4167-AFFE-B063EED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8F61-5C75-45F6-B376-CE6A6076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FB18-7250-497E-9333-0DB0A6E4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E2CC-E33B-489D-BDC5-F3C9D10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A9E-4B62-4850-B670-3F3DA3C5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6EF3-0519-4FD0-9B4C-C5E4F55E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C83E-09EF-484D-96F8-DC2F513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4E86-25C9-45D2-B828-49EEE86E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CC45-727D-495F-ACEC-72DA19B1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9B76-00D1-48AA-8FAE-6661D7F9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EF23-502D-4818-92B9-44C98A28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F2DA-F0CD-42BC-B0D5-51EC052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EBD1-1208-4534-80F9-F73550CD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9C9E-7797-4F11-90B6-2AA37A6F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CA5D-B4D5-421E-8FDD-D4A1B901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A8A-8B12-41E4-A8B4-3C1642D7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6356-C5D4-48B1-A1A5-93F768F5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56ED-6195-4CBF-93F3-624C51BB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4BCB-D3EB-4859-804D-4E694829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B59A-5AFD-48A3-9183-A848949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A791-3AF0-4C09-A951-A76503F1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D725-7740-4B1C-9786-0EBE8158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CB3D-02F9-4015-9AE4-212756D0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BD6F-1FB3-45B1-9569-7BE8DA2A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7C25-1F42-4CFD-B602-A059CAA7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27E4-B9E6-49CE-87DD-34931F8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806-DCFC-491E-98B8-B481F08E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1BA1-59DC-4F5F-B3BA-D5BDB2AC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4E572-5F1C-4F03-B4E8-EB0FBFF6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5A5B-2002-4CDE-8BCF-BBBFF8D2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C797B-BA59-4D39-9C66-D27B2969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05EC-8D1B-4400-BDDF-00423FA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2E78-8C0F-4851-8865-5F37FD17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A957-CF17-45D0-A5D2-DCE57E06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9034-BB8E-423D-AC6F-AE8D1D3B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0A26C-85DF-4663-880D-1400194F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9F67-472A-42B9-AB1E-A70FE810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117-3A91-4907-8E29-A2E150AA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5381F-1C0E-4768-B910-D64D249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3D76-8448-4F96-A6ED-F46C9715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5A69-8B31-4FC1-BF9F-E432E5EB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41C7C-272B-4242-BE0B-0237442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07820-75A1-470E-8BE9-9C2DB940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3F9B4-738F-4696-A0F8-26B4DDB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E65B3-2EF3-4E3A-A23D-05C429E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D50FC-2797-4B84-B625-B779F35F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50E57-7259-480B-838E-DB5FBCA6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58B60-62AE-43DB-8521-E5A7A27E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A4F-A47E-40C1-B3C1-DF940FF5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A89B-1776-42DD-9540-B573B29C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4A1CB-4A97-4FB9-944E-8DDED939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BCE5C-97B3-4D35-A6FF-CF952351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FD288-516D-4F5C-ADE7-C42A95BE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66051-6A33-48A5-BC6E-54CD891D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813F-0A3A-463F-A0FF-795BA686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1D15-C8C6-42FC-91B3-E50B922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882C-6D70-411C-97FE-FE37FE8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9C8A-A762-48BD-AEDA-3C8373F1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55446-7AA1-4B81-80EB-BF71AEB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237-2990-41F3-932A-87E0340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B273-87E8-4343-A00E-85FFB8DD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912C-E4B8-4F24-B47B-7498E486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C90F-6B8D-451A-8C8B-3903BDBA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2F2-4659-4975-A319-7B89B12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954-7C62-4866-8BA8-5FF3338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C260-E9B6-4521-A81B-99A6BCCD56D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7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12 - Ευθεία γραμμή σύνδεσης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60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34B1-DC6E-486A-873A-214445CC8E28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1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CF85-CCAA-4977-ABCD-0F9890C73DF9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60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12 - Ευθεία γραμμή σύνδεσης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63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FEA5-0D30-4597-8546-E0B10D3DD82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13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12 - Ευθεία γραμμή σύνδεσης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16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DC2B-DA98-46BA-B6B3-D4FD60259449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3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6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6 - Ευθεία γραμμή σύνδεσης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8 - Ευθεία γραμμή σύνδεσης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8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11 - Ευθεία γραμμή σύνδεσης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66" name="11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12 - Ευθεία γραμμή σύνδεσης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69" name="12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9DAB-D7BE-4EFD-8888-19D3BE52307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61080" cy="3706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23640" y="4076280"/>
            <a:ext cx="8458200" cy="25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έτρος Π. Καριώτογλου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ιδαγωγική Σχολή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Arial"/>
              </a:rPr>
              <a:t>Πανεπιστήμιο Δυτικής Μακεδονίας  </a:t>
            </a:r>
            <a:endParaRPr b="0" lang="en-US" sz="3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δακτικές – μαθησιακές ακολουθίες: συνέπεια και του αδιεξόδου των εναλλακτικών ιδεών μαθητών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ΠΕ στην εκπαίδευση ΦΕ: συνέπεια της τεχνολογικής εξέλιξ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ργαστηριακή διδασκαλία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cover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quiry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: ολιστική θεώρηση και έμφαση στις διαδικασίε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ντέλα και Μοντελοποίηση στην εκπαίδευση των ΦΕ: ολιστική θεώρηση και πρόταση της ψυχολογίας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λέτη διαλόγων, επιχειρηματολογία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gumenta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) και κατασκευής νοήματος στη διδασκαλία ΦΕ: διεύρυνση της κατανόησης + διαδικαστική γνώ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00040" y="571320"/>
            <a:ext cx="795816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ΙΣΤΟΡΙΚΑ ΔΙΑΜΟΡΦΩΜΕΝΑ ΡΕΥΜΑΤΑ ΤΗΣ ΔΙΔΑΚΤΙΚΗΣ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ΔΙΔΑΚΤΙΚΗ ΠΡΟΤΑ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ΚΠΑΙΔΕΥΤΙΚΗ ΠΟΛΙΤΙΚ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ΩΣ ΕΠΙΣΤΗΜΟΛΟΓΙΚΗ ΘΕΩΡΗΣΗ ΤΩΝ Φ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1026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609040" cy="13651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28240" y="1714320"/>
            <a:ext cx="862956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υριαρχία του επιστημονικού περιεχομένου – Επιστήμη στο επίκεντρο της συζήτησης 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είραμα ως επιβεβαίωση της θεωρία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πίδειξη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ιδακτικό Μοντέλο Μεταφοράς, ως συνέπεια των συμπεριφοριστικών απόψεων για τη μάθηση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ρευνα και Πράξη συγκλίνουν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71320" y="571680"/>
            <a:ext cx="8001000" cy="564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ώτ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πάλι βλέπει από τη μεριά της Επιστήμης / Επιστημόνων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tnik shock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ίδρα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ner &amp; Piaget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… «ο μαθητής ως μικρός επιστήμονας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novative Curricula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μαθητής αρχίζει να μπαίνει στο επίκεντρο της συζήτησης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Θετικά σε συναισθηματικό και ψυχοκινητικό επίπεδο, θετικές στάσεις ως προς τις ΦΕ, αλλά πενιχρά γνωστικά αποτελέσματα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εκπαιδευτική πράξη αποκλίνει από τη έρευνα και τη θεωρία – Παράγοντες που αιτιολογούν την απόκλιση (χρόνος, επιμόρφωση εκπαιδευτικών, …. ). </a:t>
            </a: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28760" y="642600"/>
            <a:ext cx="8143920" cy="564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δεύτερη μεγάλη αλλαγή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αυτή τη φορά κοιτάει προς τους μαθητές / τριες 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1026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1438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ο κίνημα των εναλλακτικών / διαισθητικών ιδεών: π.χ. «η κίνηση είναι αποτέλεσμα της δύναμης» και οι πολλαπλές και αποκλίνουσες απόπειρες αξιοποίησής τους στη διδασκαλία: εννοιολογική αλλαγή με γνωστική σύγκρουση, ενίσχυση των ιδεών, χρήση αναλογιών, γεφύρωση κλπ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 μαθητής κατασκευάζει τη γνώση του ατομικά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iaget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ή  κοινωνικά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ygotski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ημαντική η επίδραση των Τεχνολογιών της Πληροφορίας και της Επικοινωνίας, ως εργαλείο αλλαγής των ιδεών των μαθητών 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τελέσματα ερευνητικών προσπαθειών: Τα περισσότερα θετικά, αλλά μη γενικεύσιμ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Η Έρευνα τροφοδοτεί  την πράξη, αλλά η πράξη…. δύσκολα αλλάζει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ριτική στον εποικοδομητισμό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682560" y="1127160"/>
            <a:ext cx="77724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701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ό το κίνημα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(cience) T(echnology) S(ociety)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, του 1960, και το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SE(nvironment)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τις νεότερες απόψεις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Μια πρόταση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. Millar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: Βασικές έννοιες και Μοντέλα π.χ. Ηλιακό σύστημα, Στοιχεία της επιστημονικής μεθόδου, Στοιχεία εξέλιξης των ιδεών – εννοιών της επιστήμης, Επιπτώσεις στην κοινωνία.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υρίαρχο στοιχείο το δημοκρατικό επιχείρημα: σε μια τεχνολογική κοινωνία οι πολίτες πρέπει να είναι σε θέση να συμμετέχουν στη λήψη αποφάσεων για σχετικά θέματα: κλωνοποίηση, απόβλητα, ηλεκτρομαγνητική ακτινοβολία (κεραίες)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ποκλίνουσες τάσεις μεταξύ περιεχομένου και επιπτώσεων στην κοινωνία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εσωτερικές αντιφάσεις των προτάσεων και μια πιθανή λύση: ανάλογα με τα τεχνολογικά μοντέλα η ανάδειξη αντίστοιχων διδακτικών</a:t>
            </a:r>
            <a:endParaRPr b="0" lang="en-US" sz="23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35:42Z</dcterms:created>
  <dc:creator>qwerty</dc:creator>
  <dc:description/>
  <dc:language>en-US</dc:language>
  <cp:lastModifiedBy>Πέτρος Καριώτογλου</cp:lastModifiedBy>
  <dcterms:modified xsi:type="dcterms:W3CDTF">2019-05-19T10:46:08Z</dcterms:modified>
  <cp:revision>167</cp:revision>
  <dc:subject/>
  <dc:title>Κρίσιμα Ερωτήματα</dc:title>
</cp:coreProperties>
</file>