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C79B-A639-4D5B-B91A-B6CA95488CB3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98CF-4C4D-4CD3-BB79-D7948F4FFFB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533-4D05-4692-ADE2-8189CF1C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894-CB85-46A6-AC77-4D8E0FCB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AD2-97E9-42C8-A7D3-6ED1DFCC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091-205E-4985-9DB3-707DF65B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5C2C-F2F3-48AE-A1C9-F9F987DD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999E-3705-4B20-9431-E5C67BE1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8B9F-6714-47D0-9181-F019691E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721C-6548-4E5E-B437-66499B62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0454-8382-43D7-A2D5-CB19780B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7A2A-C6DD-4FA1-964A-9D8535CD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EB0A-31AA-4403-816E-B2890142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96E-D759-43B2-91EA-9BAEC810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B35A-3E0D-477B-BC67-C0102686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A42F-DA9F-417B-9E35-CC0B8C9A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2DD7-11AA-448C-B2CC-0614DD61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AF32-A021-4F29-A819-C07508DE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E311-C680-43C9-BEAE-3C4EF9A7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BCC1E-1DC7-49CD-92F2-4FF93F11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8BAF-D3B0-4FCD-91C4-18235DB7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BCE85-3772-4D54-8DBC-93A96B8D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7768A-CE53-44C9-B3DE-AD28B9A4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8B25-4106-4602-B2A0-0DE3F39C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AE0-3BE2-4F79-B2FC-1267DD5A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979C-B860-4B0B-8ADA-07931703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A427-127F-475F-B51D-9DD70B0A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7BB6B-6C49-4677-9EE4-A7C21E4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B7F8-0BC0-4218-B807-F0306B4A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EA675-AD9F-4024-B537-29FF8E97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1CCC-7AAC-4701-9127-C1393307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951FD-AD73-4525-A24E-6E82A26A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8222F-EACE-4D59-926A-7C007BBF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14721-9F2C-4F61-AD9C-FB83B54E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D92AB-E9B6-4FDB-AA38-A91C3F78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E1A-1001-46BB-94BC-D7617AD6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33C7-7CE0-4440-A403-36C6A5B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98B7D-FD05-44FF-870A-78BA7CCF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22EF-F5DB-4563-82F7-69169425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1C27A-0776-4182-B187-82AB20C8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C6807-2949-4199-8AF2-9D046A8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D6ECC-D574-464F-8E18-19DE738E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E1DE-9586-4C9C-94E5-746A4CA8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B0CDB-CE25-48E2-B9CF-80A35B1D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A9252-D663-47D0-BE3E-75B733F2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62A5A-8B92-4CB6-A72A-D86614FB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D59-6664-4929-80E4-A28698FE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2BBD-290B-46B6-968B-6F6E4CD6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865C8-5692-4E60-AE9A-E664AF34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EA549-1C8A-4DC8-88C9-CDB8515A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04578-0EC4-4294-8461-81177C32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5ADA5-D80B-4D51-8E38-376C860D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82669-E069-4F0D-BB8E-AD4474A7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2E0F8-360A-4F65-81D5-6BFF1B25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8D344-C84A-41A6-9054-64CB127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10838-43E2-48FB-AD27-0CEDB83F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E4E2A-6CFD-46EB-85C9-70E0C59C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B70-475E-4519-8A0B-60B7AE2B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6AF9A-FB18-43FA-A61C-F8B8D7DF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57AD4-3020-416D-9580-9D830E48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1859-2C42-405D-B71D-5238C829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F6B9B-3A39-4F4F-9883-D4427B2D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3310A-97B4-4B76-A47C-E7A8404B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8F46F-EE9D-43D8-9969-20BE54AA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EE10B-9718-41B8-9150-69388BB7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29EFA-66B5-4476-B228-FB242C64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7651D-4D23-45B4-9DB1-CE99EFCC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B5593-1A68-4879-8379-5B0155C3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CBF-CE2B-4218-BB38-629989BC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68F55-66E2-4F61-8902-BD39203B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39F9D-C085-487F-B3F0-E157C477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CC29C-C482-45D7-8342-AF3C3A59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383-1AB5-49D2-ABE7-C2018E21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C2B-2B1B-4AF9-AEE7-A001A4DC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6418-C96C-47C5-A9DA-3FC0E693078F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7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12 - Ευθεία γραμμή σύνδεσης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60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16F6-19DA-419D-A2AB-85E444670A69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1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4E03-F8F7-4834-BCE6-CBD5602D5700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6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12 - Ευθεία γραμμή σύνδεσης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63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EE99-07DA-4048-AF9C-60E45A774783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13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12 - Ευθεία γραμμή σύνδεσης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16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B06A-95CE-4AE3-A17C-4F2973D35B3C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66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12 - Ευθεία γραμμή σύνδεσης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69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B7F1-A045-45C8-BC44-BCB854EF3B32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3" descr=""/>
          <p:cNvPicPr/>
          <p:nvPr/>
        </p:nvPicPr>
        <p:blipFill>
          <a:blip r:embed="rId1"/>
          <a:stretch/>
        </p:blipFill>
        <p:spPr>
          <a:xfrm>
            <a:off x="506520" y="426960"/>
            <a:ext cx="81248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304920" y="195120"/>
            <a:ext cx="8613720" cy="1116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28600" y="1143000"/>
            <a:ext cx="8610480" cy="548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α) Εξοικείωσης και προβληματισμού: Πρόκληση ενδιαφέροντος, για δραστηριοποίηση και συμμετοχή των μαθητών /τριών στη διδακτική διαδικασία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-  Γιατί βουλιάζει μια μικρή σιδερένια μπίλια και όχι ένα πλοίο πολλών τόνων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</a:rPr>
              <a:t>- Γιατί δεν σβήνουν όλα τα φώτα σπίτι μας όταν καεί μια λάμπα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28320" y="647640"/>
            <a:ext cx="8458200" cy="563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e3b30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β) </a:t>
            </a:r>
            <a:r>
              <a:rPr b="1" lang="el-GR" sz="28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Εισαγωγή της νέας γνώσης: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Εισαγωγή εννοιών, αρχών, φαινομένων με ορισμούς, τύπους παραδείγματα με στόχο την κατανόηση του επιστημονικού περιεχομένου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ξηγούμε το φαινόμενο του βρασμού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Κατάταξη των σωμάτων στις τρεις ΦΚΥ: Στερεά, Υγρά, Αέρια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ισαγωγή πίεσης με Ρ =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F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/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S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, Τύπος, Π.χ. τακούνι στιλέτο / αντικείμενα στην άμμ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04920" y="285480"/>
            <a:ext cx="8534160" cy="6140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) </a:t>
            </a:r>
            <a:r>
              <a:rPr b="1" lang="el-GR" sz="28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Εφαρμογή της γνώσης: 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φαρμογή της νέας γνώσης σε γνωστά φυσικά φαινόμενα και εφαρμογές της καθημερινής ζωής. Π.χ. ερμηνεία φαινομένων και τεχνολογικών εφαρμογών, λύση προβλημάτων ……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ιατί όταν βράσει (κοχλάσει) το νερό το κατεβάζουμε από τη φωτιά;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Γιατί στον παγωμένο δρόμο φοράμε παπούτσια με «ανώμαλη» σόλα (τρακτερωτά)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ρμηνεύστε τη λειτουργία του ηλεκτρικού (ή ηλιακού) θερμοσίφωνα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04560" y="713880"/>
            <a:ext cx="8481960" cy="5510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δ) </a:t>
            </a:r>
            <a:r>
              <a:rPr b="1" lang="el-GR" sz="3200" spc="-1" strike="noStrike" u="sng">
                <a:solidFill>
                  <a:srgbClr val="4e3b30"/>
                </a:solidFill>
                <a:uFillTx/>
                <a:latin typeface="Arial"/>
                <a:ea typeface="Times New Roman"/>
              </a:rPr>
              <a:t>Αξιολόγηση της νέας γνώσης: </a:t>
            </a:r>
            <a:r>
              <a:rPr b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Με ερωτήσεις, προβλήματα, ανάκληση γνώσεων …… ελέγχουμε αν κατανοήθηκε – αφομοιώθηκε η νέα γνώση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Ταξινομείστε τα παρακάτω σώματα σε Στερεά / Υγρά / Αέρια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3200" spc="-1" strike="noStrike">
                <a:solidFill>
                  <a:srgbClr val="4e3b30"/>
                </a:solidFill>
                <a:latin typeface="Arial"/>
                <a:ea typeface="Times New Roman"/>
              </a:rPr>
              <a:t>Ποια λάμπα φωτοβολεί περισσότερο;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285840" y="231840"/>
            <a:ext cx="8572320" cy="1347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04560" y="1518840"/>
            <a:ext cx="8553240" cy="5195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-   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επιβεβαίωση σωστών απαντήσεων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Μάλιστα, …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Πολύ ωραία … προχωρούμε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-   </a:t>
            </a:r>
            <a:r>
              <a:rPr b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αποδοκιμασία του λάθου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Μάλιστα, … κάποιος /α άλλος /η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Όχι … βέβαια …. Άλλος/η;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4e3b3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  </a:t>
            </a:r>
            <a:r>
              <a:rPr b="0" i="1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Κάτι μας λες … κι άλλος ….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3" descr=""/>
          <p:cNvPicPr/>
          <p:nvPr/>
        </p:nvPicPr>
        <p:blipFill>
          <a:blip r:embed="rId1"/>
          <a:stretch/>
        </p:blipFill>
        <p:spPr>
          <a:xfrm>
            <a:off x="360360" y="426960"/>
            <a:ext cx="839952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1352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Ανακαλυπτική μέθοδος ενεργοποιεί τα παιδιά, βοηθά στην ανάπτυξη νοητικών δεξιοτήτων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και απαιτεί μικρή προετοιμασία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γνώση «ανακαλύπτεται» από τα παιδιά με κατάλληλες ερωτήσεις του δάσκαλου /ας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 διδακτέα ύλη προωθείται από τις απαντήσεις μαθητών / τριών σε ερωτήσεις δάσκαλου / ας, οι οποίες υλοποιούν τους στόχους του μαθήματος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ρατηγική: Η δημιουργία και ο έλεγχος των υποθέσεων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179280" y="189000"/>
            <a:ext cx="8785440" cy="657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Θεωρία Μάθησ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Γνωστική –  Επεξεργασία Πληροφορίας στη γνωστική δομή των μαθητώ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νεργητικός συμμέτοχος, έχει Αρχικές Ιδέες, όμως αλλάζουν εύκολα με τη διδασκαλ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Διευκολυντής της Μάθησης – Εμψυχωτής της διαδικασί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Φάσεις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ξοικείωσης και Προβληματισμού, Δημιουργίας και Ελέγχου Υποθέσεων, Εφαρμογής και Αξιολόγησης της νέας γνώ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νώση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Οργανωτικό, Αναλυτικό και Παραγωγικό Επίπεδο – Διερευνητικής κατανόη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ίραμα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πίδειξ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τιστοιχεί στην ανακαλυπτική επίδειξη - α.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ή και Ομαδοσυνεργατικ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τιστοιχεί στην ανακαλυπτική ομαδική εργασία - α.ο.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12760" y="304920"/>
            <a:ext cx="8645400" cy="13525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28600" y="1609560"/>
            <a:ext cx="8610480" cy="510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ή Επίδειξη (αε)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ή Ομαδική Εργασία (αοε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Η διδακτέα ύλη προωθείται από τις απαντήσεις μαθητών / τριών σε ερωτήσεις δάσκαλου / ας, οι οποίες υλοποιούν τους στόχους του μαθήματος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8864640" cy="1171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294920"/>
            <a:ext cx="8715600" cy="534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ακαλύπτετα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Ιδιότητες και ταξινομήσεις σωμάτων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εις μεγεθών και φαινομένω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φαρμογές σχέσεων και αρχών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μπειρικοί νόμο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οιχεία μεθοδολογία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ύσκολα ανακαλύπτεται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Έννοιε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ρμηνευτικά μοντέλα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Μικρόκοσμ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219240" y="426960"/>
            <a:ext cx="8656560" cy="166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285840" y="2214360"/>
            <a:ext cx="8572320" cy="38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ρχές Αντίδραση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οινωνικό Σύστημα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 Υποστήριξη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1274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04920" y="1609560"/>
            <a:ext cx="8534160" cy="510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ργασία σε ομάδες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ύλλο εργασίας – Ερωτήσει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εριεχόμενο:                                                    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κεί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νδιαφέρον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υνοεί Ψυχοκινητικούς  στόχους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Χαμηλό γνωστικό φορτίο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ιοι στόχοι υλοποιούνται στην Α.Ο.Ε.;  - Όλο 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λεονεκτήματα και Περιορισμοί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-122400" y="-158760"/>
            <a:ext cx="9528480" cy="179244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3"/>
          <p:cNvGrpSpPr/>
          <p:nvPr/>
        </p:nvGrpSpPr>
        <p:grpSpPr>
          <a:xfrm>
            <a:off x="0" y="1214280"/>
            <a:ext cx="9143640" cy="5645880"/>
            <a:chOff x="0" y="1214280"/>
            <a:chExt cx="9143640" cy="5645880"/>
          </a:xfrm>
        </p:grpSpPr>
        <p:grpSp>
          <p:nvGrpSpPr>
            <p:cNvPr id="355" name="Group 4"/>
            <p:cNvGrpSpPr/>
            <p:nvPr/>
          </p:nvGrpSpPr>
          <p:grpSpPr>
            <a:xfrm>
              <a:off x="0" y="1217880"/>
              <a:ext cx="9142920" cy="5642280"/>
              <a:chOff x="0" y="1217880"/>
              <a:chExt cx="9142920" cy="5642280"/>
            </a:xfrm>
          </p:grpSpPr>
          <p:grpSp>
            <p:nvGrpSpPr>
              <p:cNvPr id="356" name="Group 5"/>
              <p:cNvGrpSpPr/>
              <p:nvPr/>
            </p:nvGrpSpPr>
            <p:grpSpPr>
              <a:xfrm>
                <a:off x="0" y="1217880"/>
                <a:ext cx="4645440" cy="931320"/>
                <a:chOff x="0" y="1217880"/>
                <a:chExt cx="4645440" cy="931320"/>
              </a:xfrm>
            </p:grpSpPr>
            <p:sp>
              <p:nvSpPr>
                <p:cNvPr id="357" name="Rectangle 6"/>
                <p:cNvSpPr/>
                <p:nvPr/>
              </p:nvSpPr>
              <p:spPr>
                <a:xfrm>
                  <a:off x="0" y="1217880"/>
                  <a:ext cx="46454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ΝΑΚΑΛΥΠΤΙΚΗ ΕΠΙΔΕΙΞΗ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7"/>
                <p:cNvSpPr/>
                <p:nvPr/>
              </p:nvSpPr>
              <p:spPr>
                <a:xfrm>
                  <a:off x="5040" y="1217880"/>
                  <a:ext cx="45154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8"/>
              <p:cNvGrpSpPr/>
              <p:nvPr/>
            </p:nvGrpSpPr>
            <p:grpSpPr>
              <a:xfrm>
                <a:off x="4520880" y="1217880"/>
                <a:ext cx="4622040" cy="931320"/>
                <a:chOff x="4520880" y="1217880"/>
                <a:chExt cx="4622040" cy="931320"/>
              </a:xfrm>
            </p:grpSpPr>
            <p:sp>
              <p:nvSpPr>
                <p:cNvPr id="360" name="Rectangle 9"/>
                <p:cNvSpPr/>
                <p:nvPr/>
              </p:nvSpPr>
              <p:spPr>
                <a:xfrm>
                  <a:off x="4598280" y="1217880"/>
                  <a:ext cx="4544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ΝΑΚΑΛΥΠΤΙΚΗ ΟΜΑΔΙΚΗ ΕΡΓΑΣΙΑ (Α.Ο.Ε.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10"/>
                <p:cNvSpPr/>
                <p:nvPr/>
              </p:nvSpPr>
              <p:spPr>
                <a:xfrm>
                  <a:off x="4520880" y="121788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11"/>
              <p:cNvGrpSpPr/>
              <p:nvPr/>
            </p:nvGrpSpPr>
            <p:grpSpPr>
              <a:xfrm>
                <a:off x="0" y="2149200"/>
                <a:ext cx="4561920" cy="710280"/>
                <a:chOff x="0" y="2149200"/>
                <a:chExt cx="4561920" cy="710280"/>
              </a:xfrm>
            </p:grpSpPr>
            <p:sp>
              <p:nvSpPr>
                <p:cNvPr id="363" name="Rectangle 12"/>
                <p:cNvSpPr/>
                <p:nvPr/>
              </p:nvSpPr>
              <p:spPr>
                <a:xfrm>
                  <a:off x="0" y="2149200"/>
                  <a:ext cx="456192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ασκαλοκεντρική - μετωπική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13"/>
                <p:cNvSpPr/>
                <p:nvPr/>
              </p:nvSpPr>
              <p:spPr>
                <a:xfrm>
                  <a:off x="5040" y="2149200"/>
                  <a:ext cx="451512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14"/>
              <p:cNvGrpSpPr/>
              <p:nvPr/>
            </p:nvGrpSpPr>
            <p:grpSpPr>
              <a:xfrm>
                <a:off x="4526280" y="2142720"/>
                <a:ext cx="4616640" cy="716400"/>
                <a:chOff x="4526280" y="2142720"/>
                <a:chExt cx="4616640" cy="716400"/>
              </a:xfrm>
            </p:grpSpPr>
            <p:sp>
              <p:nvSpPr>
                <p:cNvPr id="366" name="Rectangle 15"/>
                <p:cNvSpPr/>
                <p:nvPr/>
              </p:nvSpPr>
              <p:spPr>
                <a:xfrm>
                  <a:off x="4571280" y="2148840"/>
                  <a:ext cx="4571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μαθητοκεντρική - ομάδ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16"/>
                <p:cNvSpPr/>
                <p:nvPr/>
              </p:nvSpPr>
              <p:spPr>
                <a:xfrm>
                  <a:off x="4526280" y="2142720"/>
                  <a:ext cx="461664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17"/>
              <p:cNvGrpSpPr/>
              <p:nvPr/>
            </p:nvGrpSpPr>
            <p:grpSpPr>
              <a:xfrm>
                <a:off x="0" y="2859480"/>
                <a:ext cx="4645440" cy="711720"/>
                <a:chOff x="0" y="2859480"/>
                <a:chExt cx="4645440" cy="711720"/>
              </a:xfrm>
            </p:grpSpPr>
            <p:sp>
              <p:nvSpPr>
                <p:cNvPr id="369" name="Rectangle 18"/>
                <p:cNvSpPr/>
                <p:nvPr/>
              </p:nvSpPr>
              <p:spPr>
                <a:xfrm>
                  <a:off x="0" y="2859480"/>
                  <a:ext cx="4645440" cy="711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άσκαλος κυρίαρχο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19"/>
                <p:cNvSpPr/>
                <p:nvPr/>
              </p:nvSpPr>
              <p:spPr>
                <a:xfrm>
                  <a:off x="5040" y="2859480"/>
                  <a:ext cx="4515480" cy="71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20"/>
              <p:cNvGrpSpPr/>
              <p:nvPr/>
            </p:nvGrpSpPr>
            <p:grpSpPr>
              <a:xfrm>
                <a:off x="4520880" y="2859480"/>
                <a:ext cx="4622040" cy="710280"/>
                <a:chOff x="4520880" y="2859480"/>
                <a:chExt cx="4622040" cy="710280"/>
              </a:xfrm>
            </p:grpSpPr>
            <p:sp>
              <p:nvSpPr>
                <p:cNvPr id="372" name="Rectangle 21"/>
                <p:cNvSpPr/>
                <p:nvPr/>
              </p:nvSpPr>
              <p:spPr>
                <a:xfrm>
                  <a:off x="4598280" y="2859480"/>
                  <a:ext cx="4544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δάσκαλος διευκολυντή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22"/>
                <p:cNvSpPr/>
                <p:nvPr/>
              </p:nvSpPr>
              <p:spPr>
                <a:xfrm>
                  <a:off x="4520880" y="2859480"/>
                  <a:ext cx="461628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23"/>
              <p:cNvGrpSpPr/>
              <p:nvPr/>
            </p:nvGrpSpPr>
            <p:grpSpPr>
              <a:xfrm>
                <a:off x="0" y="3522960"/>
                <a:ext cx="4570920" cy="757440"/>
                <a:chOff x="0" y="3522960"/>
                <a:chExt cx="4570920" cy="757440"/>
              </a:xfrm>
            </p:grpSpPr>
            <p:sp>
              <p:nvSpPr>
                <p:cNvPr id="375" name="Rectangle 24"/>
                <p:cNvSpPr/>
                <p:nvPr/>
              </p:nvSpPr>
              <p:spPr>
                <a:xfrm>
                  <a:off x="0" y="3522960"/>
                  <a:ext cx="4570920" cy="709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συμμετέχουν πολλοί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25"/>
                <p:cNvSpPr/>
                <p:nvPr/>
              </p:nvSpPr>
              <p:spPr>
                <a:xfrm>
                  <a:off x="5040" y="3573360"/>
                  <a:ext cx="4515120" cy="70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26"/>
              <p:cNvGrpSpPr/>
              <p:nvPr/>
            </p:nvGrpSpPr>
            <p:grpSpPr>
              <a:xfrm>
                <a:off x="4520880" y="3570120"/>
                <a:ext cx="4622040" cy="710640"/>
                <a:chOff x="4520880" y="3570120"/>
                <a:chExt cx="4622040" cy="710640"/>
              </a:xfrm>
            </p:grpSpPr>
            <p:sp>
              <p:nvSpPr>
                <p:cNvPr id="378" name="Rectangle 27"/>
                <p:cNvSpPr/>
                <p:nvPr/>
              </p:nvSpPr>
              <p:spPr>
                <a:xfrm>
                  <a:off x="4571280" y="3570120"/>
                  <a:ext cx="4571640" cy="710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συμμετέχουν όλοι οι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28"/>
                <p:cNvSpPr/>
                <p:nvPr/>
              </p:nvSpPr>
              <p:spPr>
                <a:xfrm>
                  <a:off x="4520880" y="3570120"/>
                  <a:ext cx="4622040" cy="71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9"/>
              <p:cNvGrpSpPr/>
              <p:nvPr/>
            </p:nvGrpSpPr>
            <p:grpSpPr>
              <a:xfrm>
                <a:off x="0" y="4178880"/>
                <a:ext cx="4643640" cy="1033200"/>
                <a:chOff x="0" y="4178880"/>
                <a:chExt cx="4643640" cy="1033200"/>
              </a:xfrm>
            </p:grpSpPr>
            <p:sp>
              <p:nvSpPr>
                <p:cNvPr id="381" name="Rectangle 30"/>
                <p:cNvSpPr/>
                <p:nvPr/>
              </p:nvSpPr>
              <p:spPr>
                <a:xfrm>
                  <a:off x="0" y="4178880"/>
                  <a:ext cx="4643640" cy="1033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χειρισμός διδακτικού υλικού από εκπαιδευτικό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31"/>
                <p:cNvSpPr/>
                <p:nvPr/>
              </p:nvSpPr>
              <p:spPr>
                <a:xfrm>
                  <a:off x="5040" y="4280760"/>
                  <a:ext cx="4515480" cy="93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32"/>
              <p:cNvGrpSpPr/>
              <p:nvPr/>
            </p:nvGrpSpPr>
            <p:grpSpPr>
              <a:xfrm>
                <a:off x="4520880" y="4281120"/>
                <a:ext cx="4622040" cy="931320"/>
                <a:chOff x="4520880" y="4281120"/>
                <a:chExt cx="4622040" cy="931320"/>
              </a:xfrm>
            </p:grpSpPr>
            <p:sp>
              <p:nvSpPr>
                <p:cNvPr id="384" name="Rectangle 33"/>
                <p:cNvSpPr/>
                <p:nvPr/>
              </p:nvSpPr>
              <p:spPr>
                <a:xfrm>
                  <a:off x="4598280" y="4281120"/>
                  <a:ext cx="4544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χειρισμός διδακτικού υλικού από μαθητές/τρι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34"/>
                <p:cNvSpPr/>
                <p:nvPr/>
              </p:nvSpPr>
              <p:spPr>
                <a:xfrm>
                  <a:off x="4520880" y="428112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35"/>
              <p:cNvGrpSpPr/>
              <p:nvPr/>
            </p:nvGrpSpPr>
            <p:grpSpPr>
              <a:xfrm>
                <a:off x="0" y="5212440"/>
                <a:ext cx="4561920" cy="710280"/>
                <a:chOff x="0" y="5212440"/>
                <a:chExt cx="4561920" cy="710280"/>
              </a:xfrm>
            </p:grpSpPr>
            <p:sp>
              <p:nvSpPr>
                <p:cNvPr id="387" name="Rectangle 36"/>
                <p:cNvSpPr/>
                <p:nvPr/>
              </p:nvSpPr>
              <p:spPr>
                <a:xfrm>
                  <a:off x="0" y="5212440"/>
                  <a:ext cx="456192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παραδοσιακή διαχείριση τάξη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37"/>
                <p:cNvSpPr/>
                <p:nvPr/>
              </p:nvSpPr>
              <p:spPr>
                <a:xfrm>
                  <a:off x="5040" y="5212440"/>
                  <a:ext cx="451512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38"/>
              <p:cNvGrpSpPr/>
              <p:nvPr/>
            </p:nvGrpSpPr>
            <p:grpSpPr>
              <a:xfrm>
                <a:off x="4520880" y="5212440"/>
                <a:ext cx="4622040" cy="710280"/>
                <a:chOff x="4520880" y="5212440"/>
                <a:chExt cx="4622040" cy="710280"/>
              </a:xfrm>
            </p:grpSpPr>
            <p:sp>
              <p:nvSpPr>
                <p:cNvPr id="390" name="Rectangle 39"/>
                <p:cNvSpPr/>
                <p:nvPr/>
              </p:nvSpPr>
              <p:spPr>
                <a:xfrm>
                  <a:off x="4571280" y="5212440"/>
                  <a:ext cx="4571640" cy="710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τάξη σε ομάδες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40"/>
                <p:cNvSpPr/>
                <p:nvPr/>
              </p:nvSpPr>
              <p:spPr>
                <a:xfrm>
                  <a:off x="4520880" y="5212440"/>
                  <a:ext cx="4616280" cy="71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41"/>
              <p:cNvGrpSpPr/>
              <p:nvPr/>
            </p:nvGrpSpPr>
            <p:grpSpPr>
              <a:xfrm>
                <a:off x="0" y="5923080"/>
                <a:ext cx="4570920" cy="937080"/>
                <a:chOff x="0" y="5923080"/>
                <a:chExt cx="4570920" cy="937080"/>
              </a:xfrm>
            </p:grpSpPr>
            <p:sp>
              <p:nvSpPr>
                <p:cNvPr id="393" name="Rectangle 42"/>
                <p:cNvSpPr/>
                <p:nvPr/>
              </p:nvSpPr>
              <p:spPr>
                <a:xfrm>
                  <a:off x="0" y="5929200"/>
                  <a:ext cx="4570920" cy="9309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γνωστικοί στόχοι (νοητικές δεξιότητες και ειδικοί γνωστικοί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43"/>
                <p:cNvSpPr/>
                <p:nvPr/>
              </p:nvSpPr>
              <p:spPr>
                <a:xfrm>
                  <a:off x="5040" y="5923080"/>
                  <a:ext cx="4515120" cy="93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Group 44"/>
              <p:cNvGrpSpPr/>
              <p:nvPr/>
            </p:nvGrpSpPr>
            <p:grpSpPr>
              <a:xfrm>
                <a:off x="4520880" y="5923080"/>
                <a:ext cx="4622040" cy="931320"/>
                <a:chOff x="4520880" y="5923080"/>
                <a:chExt cx="4622040" cy="931320"/>
              </a:xfrm>
            </p:grpSpPr>
            <p:sp>
              <p:nvSpPr>
                <p:cNvPr id="396" name="Rectangle 45"/>
                <p:cNvSpPr/>
                <p:nvPr/>
              </p:nvSpPr>
              <p:spPr>
                <a:xfrm>
                  <a:off x="4571280" y="5923080"/>
                  <a:ext cx="4571640" cy="931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ψυχοκινητικοί,  συναισθηματικοί και γνωστικοί στόχοι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Rectangle 46"/>
                <p:cNvSpPr/>
                <p:nvPr/>
              </p:nvSpPr>
              <p:spPr>
                <a:xfrm>
                  <a:off x="4520880" y="5923080"/>
                  <a:ext cx="4616280" cy="93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8" name="Rectangle 47"/>
            <p:cNvSpPr/>
            <p:nvPr/>
          </p:nvSpPr>
          <p:spPr>
            <a:xfrm>
              <a:off x="0" y="1214280"/>
              <a:ext cx="9143640" cy="5644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72320" cy="12366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250560" y="1428840"/>
            <a:ext cx="8569080" cy="516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διερευνητική προσέγγιση φαίνεται να ενσωματώνει πολλά στοιχεία των προηγούμενων ρευμάτων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όχος είναι η πολύπλευρη μύηση του μαθητή στο περιεχόμενο, τις διαδικασίες και τη φύση της επιστήμης, παρά η μάθηση κάποιων γεγονότων, εννοιών, νόμων κλπ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95280" y="476280"/>
            <a:ext cx="8424720" cy="590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έθοδος πρόβλεψης και ελέγχουν μεταβλητών που επηρεάζουν ένα φαινόμενο. «Ποιοι παράγοντες επηρεάζουν την πλεύση – βύθιση?»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γνώση και η εφαρμογή μοντέλων. Π.χ. η εισαγωγή της πυκνότητας στο Δημοτικό μέσω του μοντέλου συνωστισμένου πλήθους (δες επόμενη διαφάνεια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ελέτη πηγών – αναζήτηση πληροφοριών και η συγγραφή σχετικής έκθεση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μέθοδο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igsaw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and experts group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3" descr=""/>
          <p:cNvPicPr/>
          <p:nvPr/>
        </p:nvPicPr>
        <p:blipFill>
          <a:blip r:embed="rId1"/>
          <a:stretch/>
        </p:blipFill>
        <p:spPr>
          <a:xfrm>
            <a:off x="712800" y="1000080"/>
            <a:ext cx="77724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85840" y="12600"/>
            <a:ext cx="8572320" cy="1243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50920" y="977400"/>
            <a:ext cx="8610480" cy="57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Οι μαθητές έρχονται στην τάξη με γνώσεις και εμπειρίες από το καθημερινό περιβάλλο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γνώσεις αυτές δημιουργούν αναπαραστάσεις για τις έννοιες και τα φαινόμενα των Φυσικών Επιστημών 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0000"/>
                </a:solidFill>
                <a:latin typeface="Arial"/>
              </a:rPr>
              <a:t>Οι αναπαραστάσεις αυτές επηρεάζουν ισχυρά τη διδασκαλία και καθοδηγούν τη μάθη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ρα, σχεδιάζουμε διδασκαλίες λαμβάνοντας υπόψη τις αρχικές ιδέες των μαθητών (ι.μ.) μα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142920"/>
            <a:ext cx="8534160" cy="657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Θεωρία Μάθηση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ποικοδομητική (Γνωστική) –  Ο μαθητής «κατασκευάζει» τη γνώση του στη βάση των αρχικών ιδεών / εμπειριών το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Ενεργητικός συμμέτοχος, έχει Αρχικές Ιδέες, που επηρεάζουν τη διδασκαλ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Διευκολυντής της Μάθησης – Εμψυχωτής της διαδικασίας – Γνώστης Αρχικών ι.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Φάσεις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νάδειξης των ι.μ., Δοκιμασίας των ι.μ., Εισαγωγής και Εφαρμογής της νέας γνώσης, Μεταγνώ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Γνώση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Οργανωτικό, Αναλυτικό και Παραγωγικό Επίπεδο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Μεταγνωστικ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είραμα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πίδειξης ή και Ομαδοσυνεργατικό – για τη δοκιμασία των ι.μ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39680" y="73080"/>
            <a:ext cx="8718480" cy="1347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13840" y="1428480"/>
            <a:ext cx="8643960" cy="514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Προυπόθεση: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Ύπαρξη διαισθητικών εναλλακτικών ιδεών και επίδρασή τους στη διδασκαλία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Μαθητής: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νήμερος απόψεών του, καθώς και των συμμαθητών του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Κατασκευάζει τη γνώση,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αγνωρίζει την «ανωτερότητα» της νέας γνώσης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αγνωρίζει την πορεία μάθησης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Εκπαιδευτικός: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Ανιχνεύει / βρίσκει τις ι.μ. και τις μοντελοποιεί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Διευκολύνει τη μάθηση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  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ισάγει τη νέα γνώση, ως ευλογοφανή και παραγωγικότερη αρχικής 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e3b30"/>
                </a:solidFill>
                <a:latin typeface="Wingdings"/>
                <a:ea typeface="Wingdings"/>
              </a:rPr>
              <a:t>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4e3b30"/>
                </a:solidFill>
                <a:latin typeface="Arial"/>
                <a:ea typeface="Arial"/>
              </a:rPr>
              <a:t>Επιδεικνύει διδακτικό υλικό ή οδηγεί τους Μ. να το κάνουν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εριεχόμενο διδασκαλίας: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πιλέγεται και μετασχηματίζεται διδακτικά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τρατηγικές στο εποικοδομητικό μοντέλο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Γνωστικής σύγκρουση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νίσχυσης των ιδεώ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Αναλογίες και Μεταφορές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Γεφύρωση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718480" cy="1353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28600" y="1595520"/>
            <a:ext cx="8686800" cy="4905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«Η σύνταξη περιγράφει το μοντέλο σαν μια ροή δράσεων. Εάν ο/η  εκπαιδευτικός χρησιμοποιούσε το μοντέλο, πως θ’ άρχιζε; Τι θα έκανε πρώτο, δεύτερο, τρίτο;  Η σύνταξη περιγράφεται με μια σειρά γεγονότων, που αποκαλούνται φάσεις. Κάθε μοντέλο έχει μια διακριτή ροή φάσεων…Μία σύγκριση των συντακτικών δομών των μοντέλων αναδεικνύει τις πρακτικές διαφορές που υπάρχουν μεταξύ τους»,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l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yc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, σελ. 5, 1978)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85840" y="73080"/>
            <a:ext cx="8645400" cy="22129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28600" y="1981080"/>
            <a:ext cx="8701200" cy="4572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Φάσεις: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νάδειξης των ιδεών μαθητών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2, 3)Δοκιμασίας των ιδεών και καταγραφής των αποτελεσμάτων της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4) Εισαγωγής του επιστημονικού προτύπου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5) Εφαρμογής του επιστημονικού προτύπου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6) Μεταγνωστική φάση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4 - TextBox" descr=""/>
          <p:cNvPicPr/>
          <p:nvPr/>
        </p:nvPicPr>
        <p:blipFill>
          <a:blip r:embed="rId1"/>
          <a:stretch/>
        </p:blipFill>
        <p:spPr>
          <a:xfrm>
            <a:off x="285840" y="73080"/>
            <a:ext cx="3786120" cy="3030480"/>
          </a:xfrm>
          <a:prstGeom prst="rect">
            <a:avLst/>
          </a:prstGeom>
          <a:ln w="0">
            <a:noFill/>
          </a:ln>
        </p:spPr>
      </p:pic>
      <p:sp>
        <p:nvSpPr>
          <p:cNvPr id="413" name="5 - TextBox"/>
          <p:cNvSpPr/>
          <p:nvPr/>
        </p:nvSpPr>
        <p:spPr>
          <a:xfrm>
            <a:off x="285840" y="3103560"/>
            <a:ext cx="3643200" cy="325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Υπόμνημα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Φάση ανάδειξης των ιδεών των μαθητώ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2,3. Φάση δοκιμασία των ιδεών και καταγραφής των αποτελεσμάτων τη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4.    Φάση εισαγωγής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5.    Φάση εφαρμογής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6.    Φάση ανασκόπησης σύγκρισης  μεταξύ των ιδεών των μαθητών και του επιστημονικού προτύπο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6 - TextBox" descr=""/>
          <p:cNvPicPr/>
          <p:nvPr/>
        </p:nvPicPr>
        <p:blipFill>
          <a:blip r:embed="rId2"/>
          <a:stretch/>
        </p:blipFill>
        <p:spPr>
          <a:xfrm>
            <a:off x="3998880" y="426960"/>
            <a:ext cx="841320" cy="2140200"/>
          </a:xfrm>
          <a:prstGeom prst="rect">
            <a:avLst/>
          </a:prstGeom>
          <a:ln w="0">
            <a:noFill/>
          </a:ln>
        </p:spPr>
      </p:pic>
      <p:pic>
        <p:nvPicPr>
          <p:cNvPr id="415" name="7 - TextBox" descr=""/>
          <p:cNvPicPr/>
          <p:nvPr/>
        </p:nvPicPr>
        <p:blipFill>
          <a:blip r:embed="rId3"/>
          <a:stretch/>
        </p:blipFill>
        <p:spPr>
          <a:xfrm>
            <a:off x="3998880" y="2925720"/>
            <a:ext cx="841320" cy="3017880"/>
          </a:xfrm>
          <a:prstGeom prst="rect">
            <a:avLst/>
          </a:prstGeom>
          <a:ln w="0">
            <a:noFill/>
          </a:ln>
        </p:spPr>
      </p:pic>
      <p:sp>
        <p:nvSpPr>
          <p:cNvPr id="416" name="8 - TextBox"/>
          <p:cNvSpPr/>
          <p:nvPr/>
        </p:nvSpPr>
        <p:spPr>
          <a:xfrm>
            <a:off x="4857840" y="928800"/>
            <a:ext cx="1643040" cy="10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ΙΔΕΕΣ ΜΑΘΗΤΩΝ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(Αρχική Γνώση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9 - TextBox"/>
          <p:cNvSpPr/>
          <p:nvPr/>
        </p:nvSpPr>
        <p:spPr>
          <a:xfrm>
            <a:off x="6858000" y="928800"/>
            <a:ext cx="2000160" cy="10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ΕΠΙΣΤΗΜΟΝΙΚΟ ΠΡΟΤΥΠΟ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(Επιθυμητή Γνώση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10 - TextBox"/>
          <p:cNvSpPr/>
          <p:nvPr/>
        </p:nvSpPr>
        <p:spPr>
          <a:xfrm>
            <a:off x="4857840" y="3643200"/>
            <a:ext cx="3786120" cy="128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ΕΡΓΑ ΚΑΤΑΛΛΗΛΑ:</a:t>
            </a:r>
            <a:br>
              <a:rPr sz="24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Για την ανακάλυψη των ιδεών των μαθητών</a:t>
            </a:r>
            <a:br>
              <a:rPr sz="1500"/>
            </a:br>
            <a:r>
              <a:rPr b="0" lang="el-GR" sz="1500" spc="-1" strike="noStrike">
                <a:solidFill>
                  <a:srgbClr val="000000"/>
                </a:solidFill>
                <a:latin typeface="Calibri"/>
              </a:rPr>
              <a:t>Για την οικοδόμηση της επιθυμητής γνώσης</a:t>
            </a: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12 - Ευθύγραμμο βέλος σύνδεσης"/>
          <p:cNvCxnSpPr/>
          <p:nvPr/>
        </p:nvCxnSpPr>
        <p:spPr>
          <a:xfrm flipH="1">
            <a:off x="5784480" y="2143080"/>
            <a:ext cx="216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20 - Ευθύγραμμο βέλος σύνδεσης"/>
          <p:cNvCxnSpPr/>
          <p:nvPr/>
        </p:nvCxnSpPr>
        <p:spPr>
          <a:xfrm flipV="1">
            <a:off x="5214960" y="2142720"/>
            <a:ext cx="216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21 - Ευθύγραμμο βέλος σύνδεσης"/>
          <p:cNvCxnSpPr/>
          <p:nvPr/>
        </p:nvCxnSpPr>
        <p:spPr>
          <a:xfrm flipH="1">
            <a:off x="8071560" y="2214360"/>
            <a:ext cx="2520" cy="12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24 - Ευθύγραμμο βέλος σύνδεσης"/>
          <p:cNvCxnSpPr/>
          <p:nvPr/>
        </p:nvCxnSpPr>
        <p:spPr>
          <a:xfrm flipV="1">
            <a:off x="6071040" y="2142720"/>
            <a:ext cx="2520" cy="1215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25 - Ευθύγραμμο βέλος σύνδεσης"/>
          <p:cNvCxnSpPr/>
          <p:nvPr/>
        </p:nvCxnSpPr>
        <p:spPr>
          <a:xfrm flipV="1">
            <a:off x="7714080" y="2214000"/>
            <a:ext cx="2520" cy="12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4" name="26 - TextBox"/>
          <p:cNvSpPr/>
          <p:nvPr/>
        </p:nvSpPr>
        <p:spPr>
          <a:xfrm>
            <a:off x="484128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27 - TextBox"/>
          <p:cNvSpPr/>
          <p:nvPr/>
        </p:nvSpPr>
        <p:spPr>
          <a:xfrm>
            <a:off x="732564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28 - TextBox"/>
          <p:cNvSpPr/>
          <p:nvPr/>
        </p:nvSpPr>
        <p:spPr>
          <a:xfrm>
            <a:off x="612720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29 - TextBox"/>
          <p:cNvSpPr/>
          <p:nvPr/>
        </p:nvSpPr>
        <p:spPr>
          <a:xfrm>
            <a:off x="539676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30 - TextBox"/>
          <p:cNvSpPr/>
          <p:nvPr/>
        </p:nvSpPr>
        <p:spPr>
          <a:xfrm>
            <a:off x="8111520" y="2643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32 - Ευθύγραμμο βέλος σύνδεσης"/>
          <p:cNvCxnSpPr>
            <a:stCxn id="416" idx="3"/>
            <a:endCxn id="417" idx="1"/>
          </p:cNvCxnSpPr>
          <p:nvPr/>
        </p:nvCxnSpPr>
        <p:spPr>
          <a:xfrm>
            <a:off x="6500880" y="1459080"/>
            <a:ext cx="357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30" name="35 - TextBox"/>
          <p:cNvSpPr/>
          <p:nvPr/>
        </p:nvSpPr>
        <p:spPr>
          <a:xfrm>
            <a:off x="6500880" y="928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3"/>
          <p:cNvGrpSpPr/>
          <p:nvPr/>
        </p:nvGrpSpPr>
        <p:grpSpPr>
          <a:xfrm>
            <a:off x="0" y="1752480"/>
            <a:ext cx="9143640" cy="5105160"/>
            <a:chOff x="0" y="1752480"/>
            <a:chExt cx="9143640" cy="5105160"/>
          </a:xfrm>
        </p:grpSpPr>
        <p:grpSp>
          <p:nvGrpSpPr>
            <p:cNvPr id="433" name="Group 4"/>
            <p:cNvGrpSpPr/>
            <p:nvPr/>
          </p:nvGrpSpPr>
          <p:grpSpPr>
            <a:xfrm>
              <a:off x="0" y="1757880"/>
              <a:ext cx="9142920" cy="5093640"/>
              <a:chOff x="0" y="1757880"/>
              <a:chExt cx="9142920" cy="5093640"/>
            </a:xfrm>
          </p:grpSpPr>
          <p:grpSp>
            <p:nvGrpSpPr>
              <p:cNvPr id="434" name="Group 5"/>
              <p:cNvGrpSpPr/>
              <p:nvPr/>
            </p:nvGrpSpPr>
            <p:grpSpPr>
              <a:xfrm>
                <a:off x="0" y="1757880"/>
                <a:ext cx="4356000" cy="925560"/>
                <a:chOff x="0" y="1757880"/>
                <a:chExt cx="4356000" cy="925560"/>
              </a:xfrm>
            </p:grpSpPr>
            <p:sp>
              <p:nvSpPr>
                <p:cNvPr id="435" name="Rectangle 6"/>
                <p:cNvSpPr/>
                <p:nvPr/>
              </p:nvSpPr>
              <p:spPr>
                <a:xfrm>
                  <a:off x="0" y="1757880"/>
                  <a:ext cx="4356000" cy="925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3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ΜΕΤΑΦΟΡΑ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3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7"/>
                <p:cNvSpPr/>
                <p:nvPr/>
              </p:nvSpPr>
              <p:spPr>
                <a:xfrm>
                  <a:off x="6480" y="1757880"/>
                  <a:ext cx="4316400" cy="92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8"/>
              <p:cNvGrpSpPr/>
              <p:nvPr/>
            </p:nvGrpSpPr>
            <p:grpSpPr>
              <a:xfrm>
                <a:off x="4321440" y="1757880"/>
                <a:ext cx="4821480" cy="925560"/>
                <a:chOff x="4321440" y="1757880"/>
                <a:chExt cx="4821480" cy="925560"/>
              </a:xfrm>
            </p:grpSpPr>
            <p:sp>
              <p:nvSpPr>
                <p:cNvPr id="438" name="Rectangle 9"/>
                <p:cNvSpPr/>
                <p:nvPr/>
              </p:nvSpPr>
              <p:spPr>
                <a:xfrm>
                  <a:off x="4356360" y="1757880"/>
                  <a:ext cx="4786560" cy="925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3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ΑΝΑΚΑΛΥΨΗ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0"/>
                <p:cNvSpPr/>
                <p:nvPr/>
              </p:nvSpPr>
              <p:spPr>
                <a:xfrm>
                  <a:off x="4321440" y="1757880"/>
                  <a:ext cx="4815000" cy="92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"/>
              <p:cNvGrpSpPr/>
              <p:nvPr/>
            </p:nvGrpSpPr>
            <p:grpSpPr>
              <a:xfrm>
                <a:off x="0" y="2683800"/>
                <a:ext cx="4356000" cy="747720"/>
                <a:chOff x="0" y="2683800"/>
                <a:chExt cx="4356000" cy="747720"/>
              </a:xfrm>
            </p:grpSpPr>
            <p:sp>
              <p:nvSpPr>
                <p:cNvPr id="441" name="Rectangle 12"/>
                <p:cNvSpPr/>
                <p:nvPr/>
              </p:nvSpPr>
              <p:spPr>
                <a:xfrm>
                  <a:off x="0" y="2683800"/>
                  <a:ext cx="435600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7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άσκαλος μεταφορέα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3"/>
                <p:cNvSpPr/>
                <p:nvPr/>
              </p:nvSpPr>
              <p:spPr>
                <a:xfrm>
                  <a:off x="6480" y="2683800"/>
                  <a:ext cx="43164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4"/>
              <p:cNvGrpSpPr/>
              <p:nvPr/>
            </p:nvGrpSpPr>
            <p:grpSpPr>
              <a:xfrm>
                <a:off x="4285800" y="2683800"/>
                <a:ext cx="4857120" cy="747720"/>
                <a:chOff x="4285800" y="2683800"/>
                <a:chExt cx="4857120" cy="747720"/>
              </a:xfrm>
            </p:grpSpPr>
            <p:sp>
              <p:nvSpPr>
                <p:cNvPr id="444" name="Rectangle 15"/>
                <p:cNvSpPr/>
                <p:nvPr/>
              </p:nvSpPr>
              <p:spPr>
                <a:xfrm>
                  <a:off x="4285800" y="2683800"/>
                  <a:ext cx="485712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άσκαλος διευκολυντή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6"/>
                <p:cNvSpPr/>
                <p:nvPr/>
              </p:nvSpPr>
              <p:spPr>
                <a:xfrm>
                  <a:off x="4321080" y="2683800"/>
                  <a:ext cx="48150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7"/>
              <p:cNvGrpSpPr/>
              <p:nvPr/>
            </p:nvGrpSpPr>
            <p:grpSpPr>
              <a:xfrm>
                <a:off x="0" y="3432240"/>
                <a:ext cx="4356000" cy="748080"/>
                <a:chOff x="0" y="3432240"/>
                <a:chExt cx="4356000" cy="748080"/>
              </a:xfrm>
            </p:grpSpPr>
            <p:sp>
              <p:nvSpPr>
                <p:cNvPr id="447" name="Rectangle 18"/>
                <p:cNvSpPr/>
                <p:nvPr/>
              </p:nvSpPr>
              <p:spPr>
                <a:xfrm>
                  <a:off x="0" y="3432240"/>
                  <a:ext cx="4356000" cy="748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μαθητής Παθητικός  δέκτη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9"/>
                <p:cNvSpPr/>
                <p:nvPr/>
              </p:nvSpPr>
              <p:spPr>
                <a:xfrm>
                  <a:off x="6480" y="3432240"/>
                  <a:ext cx="4316400" cy="7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20"/>
              <p:cNvGrpSpPr/>
              <p:nvPr/>
            </p:nvGrpSpPr>
            <p:grpSpPr>
              <a:xfrm>
                <a:off x="4285800" y="3432240"/>
                <a:ext cx="4857120" cy="748080"/>
                <a:chOff x="4285800" y="3432240"/>
                <a:chExt cx="4857120" cy="748080"/>
              </a:xfrm>
            </p:grpSpPr>
            <p:sp>
              <p:nvSpPr>
                <p:cNvPr id="450" name="Rectangle 21"/>
                <p:cNvSpPr/>
                <p:nvPr/>
              </p:nvSpPr>
              <p:spPr>
                <a:xfrm>
                  <a:off x="4285800" y="3432240"/>
                  <a:ext cx="4857120" cy="748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μαθητής ενεργό υποκείμενο μάθηση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22"/>
                <p:cNvSpPr/>
                <p:nvPr/>
              </p:nvSpPr>
              <p:spPr>
                <a:xfrm>
                  <a:off x="4321080" y="3432240"/>
                  <a:ext cx="4815000" cy="74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23"/>
              <p:cNvGrpSpPr/>
              <p:nvPr/>
            </p:nvGrpSpPr>
            <p:grpSpPr>
              <a:xfrm>
                <a:off x="0" y="4180680"/>
                <a:ext cx="4356000" cy="747720"/>
                <a:chOff x="0" y="4180680"/>
                <a:chExt cx="4356000" cy="747720"/>
              </a:xfrm>
            </p:grpSpPr>
            <p:sp>
              <p:nvSpPr>
                <p:cNvPr id="453" name="Rectangle 24"/>
                <p:cNvSpPr/>
                <p:nvPr/>
              </p:nvSpPr>
              <p:spPr>
                <a:xfrm>
                  <a:off x="0" y="4180680"/>
                  <a:ext cx="435600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οιο περιεχόμενο μεταφέρεται? ΟΛ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25"/>
                <p:cNvSpPr/>
                <p:nvPr/>
              </p:nvSpPr>
              <p:spPr>
                <a:xfrm>
                  <a:off x="6480" y="4180680"/>
                  <a:ext cx="43164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26"/>
              <p:cNvGrpSpPr/>
              <p:nvPr/>
            </p:nvGrpSpPr>
            <p:grpSpPr>
              <a:xfrm>
                <a:off x="4285800" y="4180680"/>
                <a:ext cx="4857120" cy="747720"/>
                <a:chOff x="4285800" y="4180680"/>
                <a:chExt cx="4857120" cy="747720"/>
              </a:xfrm>
            </p:grpSpPr>
            <p:sp>
              <p:nvSpPr>
                <p:cNvPr id="456" name="Rectangle 27"/>
                <p:cNvSpPr/>
                <p:nvPr/>
              </p:nvSpPr>
              <p:spPr>
                <a:xfrm>
                  <a:off x="4285800" y="4180680"/>
                  <a:ext cx="4857120" cy="747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οιο περιεχόμενο ανακαλύπτεται? ΟΛ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28"/>
                <p:cNvSpPr/>
                <p:nvPr/>
              </p:nvSpPr>
              <p:spPr>
                <a:xfrm>
                  <a:off x="4321080" y="4180680"/>
                  <a:ext cx="4815000" cy="74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29"/>
              <p:cNvGrpSpPr/>
              <p:nvPr/>
            </p:nvGrpSpPr>
            <p:grpSpPr>
              <a:xfrm>
                <a:off x="0" y="4928760"/>
                <a:ext cx="4356000" cy="961200"/>
                <a:chOff x="0" y="4928760"/>
                <a:chExt cx="4356000" cy="961200"/>
              </a:xfrm>
            </p:grpSpPr>
            <p:sp>
              <p:nvSpPr>
                <p:cNvPr id="459" name="Rectangle 30"/>
                <p:cNvSpPr/>
                <p:nvPr/>
              </p:nvSpPr>
              <p:spPr>
                <a:xfrm>
                  <a:off x="0" y="4928760"/>
                  <a:ext cx="435600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είραμα : στοιχείο φυσικών επιστημώ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31"/>
                <p:cNvSpPr/>
                <p:nvPr/>
              </p:nvSpPr>
              <p:spPr>
                <a:xfrm>
                  <a:off x="6480" y="4928760"/>
                  <a:ext cx="43164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Group 32"/>
              <p:cNvGrpSpPr/>
              <p:nvPr/>
            </p:nvGrpSpPr>
            <p:grpSpPr>
              <a:xfrm>
                <a:off x="4285800" y="4928760"/>
                <a:ext cx="4857120" cy="961200"/>
                <a:chOff x="4285800" y="4928760"/>
                <a:chExt cx="4857120" cy="961200"/>
              </a:xfrm>
            </p:grpSpPr>
            <p:sp>
              <p:nvSpPr>
                <p:cNvPr id="462" name="Rectangle 33"/>
                <p:cNvSpPr/>
                <p:nvPr/>
              </p:nvSpPr>
              <p:spPr>
                <a:xfrm>
                  <a:off x="4285800" y="4928760"/>
                  <a:ext cx="485712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Πείραμα: άσκηση σε δεξιότητες (νοητικές και χειρωνακτικές) και στοιχείο φ.ε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Rectangle 34"/>
                <p:cNvSpPr/>
                <p:nvPr/>
              </p:nvSpPr>
              <p:spPr>
                <a:xfrm>
                  <a:off x="4321080" y="4928760"/>
                  <a:ext cx="48150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35"/>
              <p:cNvGrpSpPr/>
              <p:nvPr/>
            </p:nvGrpSpPr>
            <p:grpSpPr>
              <a:xfrm>
                <a:off x="0" y="5890320"/>
                <a:ext cx="4321080" cy="961200"/>
                <a:chOff x="0" y="5890320"/>
                <a:chExt cx="4321080" cy="961200"/>
              </a:xfrm>
            </p:grpSpPr>
            <p:sp>
              <p:nvSpPr>
                <p:cNvPr id="465" name="Rectangle 36"/>
                <p:cNvSpPr/>
                <p:nvPr/>
              </p:nvSpPr>
              <p:spPr>
                <a:xfrm>
                  <a:off x="0" y="5890320"/>
                  <a:ext cx="428580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ιαισθητικές αντιλήψεις μαθητών ?    tabula ra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37"/>
                <p:cNvSpPr/>
                <p:nvPr/>
              </p:nvSpPr>
              <p:spPr>
                <a:xfrm>
                  <a:off x="6480" y="5890320"/>
                  <a:ext cx="43146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Group 38"/>
              <p:cNvGrpSpPr/>
              <p:nvPr/>
            </p:nvGrpSpPr>
            <p:grpSpPr>
              <a:xfrm>
                <a:off x="4321440" y="5890320"/>
                <a:ext cx="4821480" cy="961200"/>
                <a:chOff x="4321440" y="5890320"/>
                <a:chExt cx="4821480" cy="961200"/>
              </a:xfrm>
            </p:grpSpPr>
            <p:sp>
              <p:nvSpPr>
                <p:cNvPr id="468" name="Rectangle 39"/>
                <p:cNvSpPr/>
                <p:nvPr/>
              </p:nvSpPr>
              <p:spPr>
                <a:xfrm>
                  <a:off x="4356360" y="5890320"/>
                  <a:ext cx="4786560" cy="961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24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διαισθητικές αντιλήψεις ?        ναι, αλλά αλλάζουν με διδασκαλία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40"/>
                <p:cNvSpPr/>
                <p:nvPr/>
              </p:nvSpPr>
              <p:spPr>
                <a:xfrm>
                  <a:off x="4321440" y="5890320"/>
                  <a:ext cx="4815000" cy="96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0" name="Rectangle 41"/>
            <p:cNvSpPr/>
            <p:nvPr/>
          </p:nvSpPr>
          <p:spPr>
            <a:xfrm>
              <a:off x="0" y="1752480"/>
              <a:ext cx="9143640" cy="5105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12760" y="-79200"/>
            <a:ext cx="8718480" cy="16635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213840" y="1357200"/>
            <a:ext cx="4281480" cy="54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άσκαλος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δ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ιευκολ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ύνει εποικ/ση γνώση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μαθητής ενεργό υποκείμενο μάθησης αλλά και ενήμερος των ιδεών του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ριεχόμε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επιλεγμέ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(ύπαρξη διαισθητικών αντιλήψεων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1640" y="1356840"/>
            <a:ext cx="4343400" cy="54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άσκαλος διευκολ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ύνει ανακάλυψη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μαθητής ενεργό υποκείμενο μάθησης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ριεχόμε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ε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ιλεγμένο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(ότι «υπάρχει»)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0" y="285480"/>
            <a:ext cx="4495680" cy="63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ίραμα : στοιχείο Φυσικών  Επιστημών και </a:t>
            </a:r>
            <a:r>
              <a:rPr b="0" lang="el-GR" sz="2800" spc="-1" strike="noStrike" u="sng">
                <a:solidFill>
                  <a:srgbClr val="4e3b30"/>
                </a:solidFill>
                <a:uFillTx/>
                <a:latin typeface="Arial"/>
                <a:ea typeface="Arial"/>
              </a:rPr>
              <a:t>διδασκαλίας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ιαισθητικές αντιλήψεις μαθητών ?    αφετηρία διδασκαλίας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γνώση και μεταγνώση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48320" y="285480"/>
            <a:ext cx="449568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Πείραμα: στοιχείο Φ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. Ε.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 και άσκηση σε δεξιότητες (νοητικές και χειρωνακτικές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διαισθητικές αντιλήψεις  μαθητών ?  ναι, αλλά αλλάζουν με διδασκαλία (επιλογή)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19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4e3b30"/>
                </a:solidFill>
                <a:latin typeface="Arial"/>
                <a:ea typeface="Arial"/>
              </a:rPr>
              <a:t>γνώση</a:t>
            </a:r>
            <a:r>
              <a:rPr b="0" lang="el-GR" sz="28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249120" y="212760"/>
            <a:ext cx="8645760" cy="126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206280" y="1197000"/>
          <a:ext cx="8686800" cy="5573520"/>
        </p:xfrm>
        <a:graphic>
          <a:graphicData uri="http://schemas.openxmlformats.org/drawingml/2006/table">
            <a:tbl>
              <a:tblPr/>
              <a:tblGrid>
                <a:gridCol w="2637000"/>
                <a:gridCol w="3154320"/>
                <a:gridCol w="2895480"/>
              </a:tblGrid>
              <a:tr h="67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ακάλυψ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ποικοδόμησ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ιερεύνησ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Χειρισμός (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nds on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νοιολογικά (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nds on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Και τα δύο </a:t>
                      </a:r>
                      <a:r>
                        <a:rPr b="0" lang="el-GR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Αυθεντικότητ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Υποσύνολο Διερεύνηση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Τροποποιεί Ανακάλυψ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σωματώνει Εποικοδόμησ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Διευρύνε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Ανακάλυψ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Πειραματικές αναφορέ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Ανάδειξη ιδεών μαθητώ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Διάβασμα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Γράψιμ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Ενσωματώνει το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1353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28600" y="1571400"/>
            <a:ext cx="8610480" cy="5105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«Οι αρχές αντίδρασης καθοδηγούν τις απαντήσεις του/της εκπαιδευτικού  στο/στη μαθητή / τρια. Αυτές λένε στον/στην εκπαιδευτικό πώς να βλέπει το/τη  μαθητή/ τρια και πώς να αντιδρά σε ότι αυτός/ή κάνει…Οι αρχές αντίδρασης παρέχουν στον/στην εκπαιδευτικό εμπειρικές μεθόδους με βάση τις οποίες «εναρμονίζονται» στους/στις  μαθητές/τριες και επιλέγουν κατάλληλες απαντήσεις σ’ αυτά που οι μαθητές/ τριες κάνουν».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17000" cy="1353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28400" y="1600200"/>
            <a:ext cx="8258040" cy="502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φορά τους ρόλους των μαθητών/τριών και εκπαιδευτικών, τις σχέσεις των ρόλων και τις μορφές κανονισμών που προωθούνται στην τάξη. Για παράδειγμα, σε ένα μοντέλο ο/η εκπαιδευτικός μπορεί να διευκολύνει την ομαδική δραστηριότητα των μαθητών/τριών, σ’ ένα άλλο μοντέλο, ο/η εκπαιδευτικός μπορεί να είναι ο/η προσωπικός/ή σύμβουλος των μαθητών/τριών κ.λπ.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360360" y="231840"/>
            <a:ext cx="8423280" cy="115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304920" y="1600200"/>
            <a:ext cx="85341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σύστημα υποστήριξης περιγράφει τις ειδικότερες ανάγκες ενός μοντέλου, όπως τις ειδικότερες δεξιότητες που χρειάζεται να έχει ο/η εκπαιδευτικός για την εφαρμογή του μοντέλου ή τις ιδιαίτερες τεχνικές ανάγκες που ενδεχομένως απαιτούνται (π.χ. αρκετά διδακτικά υλικά). Για παράδειγμα, ο/η εκπαιδευτικός που διεκπεραιώνει ένα μοντέλο «μη κατευθυνόμενο», απαιτείται να είναι ιδιαίτερα υπομονετικός και υποστηρικτικός,   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500040" y="139680"/>
            <a:ext cx="8302680" cy="1981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2047680"/>
            <a:ext cx="8229600" cy="452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ταφοράς της γνώση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nsmission of knowledge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ακαλυπτικ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covery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ποικοδομητικ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nstructivist)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ερεύνηση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quiry)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8785440" cy="1347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356760" y="1571760"/>
            <a:ext cx="8481960" cy="4952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Θεωρία Μάθησης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Συμπεριφοριστική – Συσσωρευτική διαδικασία μεταβίβασης τη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Μαθητής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Παθητικός Δέκτης, δεν έχει Αρχικές Ιδέε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Δάσκαλος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Κάτοχος, Φορέας και αυτός που Εγκυροποιεί  τη γνώση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Φάσεις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ξοικείωσης και Προβληματισμού, Εισαγωγής, Εφαρμογής και Αξιολόγησης της νέα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νώση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Πληροφοριακό ή και οργανωτικό επίπεδο – Μνήμης ή \και Επεξηγηματικής Κατανόη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Πείραμα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Επίδειξης - Επιβεβαίωσης νέας γνώση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78720" cy="1122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28400" y="1699920"/>
            <a:ext cx="8358120" cy="466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πό τη απλή και «βαρετή» διάλεξη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Ως την εξαιρετική επίδειξη (πειραμάτων, εικόνων, ταινιών, τρισδιάστατων αντικειμένων. ……. ) ή και την αφήγηση σε συνδυασμό με μυθοποίηση για τις μικρές ηλικίες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ε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ετάμ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τίποτε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35:42Z</dcterms:created>
  <dc:creator>qwerty</dc:creator>
  <dc:description/>
  <dc:language>en-US</dc:language>
  <cp:lastModifiedBy>Πέτρος Καριώτογλου</cp:lastModifiedBy>
  <dcterms:modified xsi:type="dcterms:W3CDTF">2019-05-14T20:18:07Z</dcterms:modified>
  <cp:revision>168</cp:revision>
  <dc:subject/>
  <dc:title>Κρίσιμα Ερωτήματα</dc:title>
</cp:coreProperties>
</file>