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284-B0D1-4FF2-9CEB-E09306858FE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28FF-912C-4194-8735-852DF3A2E39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13D-B005-44C7-AA2F-B981D794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FFB-0F2F-4564-B137-4293FC02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581-7BE0-4436-B027-A5F935E3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2C6-43FB-458B-A8DA-79103338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484C-F515-4B03-AB4B-FAEC767A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3E0A-7101-425C-AF5E-8E27361A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BE90-3CFB-499B-A231-74DF7AE9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1D22-7B49-4CF7-AE94-E25237E9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6DAD-9DBC-4A2D-9574-8265B52D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750-F39C-480F-9658-4E04417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8BD1-60AA-4D9B-8BBA-B020861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BCD-97AD-432A-9BE3-39148839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B5A3-69CA-49AA-961A-A773E51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E31-58FD-457F-B89E-213222C0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3BB-2CF9-4FE5-9AF1-B84B1BAE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9390-58D2-4D69-BEE1-1598E77F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F23A-0241-465D-85F1-4068BE98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B1F5-3F24-462F-B8C4-1FC150B7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D638-FF6D-4E7B-B1C8-31A466EC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3FC5-1BB3-4939-B231-6A49FCB4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25E5-4DAA-4B84-83EA-EF270535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9794-9A03-497F-AE2D-5B60D2C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666-16FC-41B7-9F74-1821962A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B059-ACF9-41FC-84E7-790A37A2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EEC1-417C-4A8E-A77F-661271E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B041-FCBC-4E93-B176-258A17A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915E-38C2-4F46-A8C7-DC353B5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EFAC-B6FE-4A83-9D8F-DEC28AF8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93B8-53B8-45F3-A5B3-732E26AF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6A6F-36B9-4CAE-829E-FA0C107B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4B99-D2A5-4F5C-A54B-575F7300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1F00-A1A0-4F10-9DEB-F467C98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FB58-4385-4A78-95B9-45773DD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F20-7182-440D-A9F1-43D47EE4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477B-38F1-426B-9BA0-84C643AC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5A9F-F203-4DF6-82C5-2998E72C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8738-7AC9-47B3-B9D5-CCE9D74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556C-E626-4AF4-8085-1E64089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2664-58C5-439D-9114-E465CD3D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E335-80DC-4210-8FBF-8DE5AF7D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F12A-11F2-4E29-95E7-7A1E69DF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C458-8F92-4FDB-93AC-843FB5FB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7A06-25C0-46DD-8A43-5DD61480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B1D3-A4CA-43CB-9815-DD42EA6F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30B-8012-4127-BCF5-3ED5D17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8BAB9-A7F7-4638-8C06-391136E6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26315-49D3-4D6F-B27F-40FEBA87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0E59-623E-460A-A8F8-6AC7843D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6102-AA51-4466-A733-182C698A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BDB19-6576-4703-BCD0-D082849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6DE2F-59A2-4AE6-ACC8-01CC18B9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DB51-D5C6-4E27-9EB3-FFD2CC8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467E0-287B-4DFC-8EEE-9CB19BC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D979-420B-4BEC-B571-DC4EDA4A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9E8E-5CB0-4178-A55D-16E95EE8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BFF-9CEA-4F05-BB34-978FC4EC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EB66-FEB6-410D-9991-DD368A36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BCE52-29B1-40BE-BC9A-F9C41944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A46D0-B8D7-4C51-93E2-3CE7D89C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CFF5-1B80-4381-8EAD-2E68FB6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1BED9-7277-447E-AB42-5592A68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5EC30-B224-47DE-9EFA-A01D8170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DFBF-AD04-4D1F-99CD-A008C269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6D8F3-F74C-4339-84FD-7668B85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7EEA-651D-43A4-AB9A-D43CF9B4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B1476-2186-4D0D-8331-2D7CF557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B86-7224-4C08-876E-3F740BD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F8EC-37B9-448C-AF1B-349030B3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188D6-5943-4E3C-B799-57A60900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E488-6D40-4CED-B7B2-818148D6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6A2-E85B-456B-8FF1-5722B47E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B72-ECCA-469B-9BA2-E858490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205-2B68-4486-8206-946588C076C0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770-F799-4E57-9F49-FB0FA1502ADD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3DDE-F1E7-477C-8890-43D0AD98F20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C991-98C9-4DCA-8DBD-BD80C703038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B99-6195-4E07-88C2-5F86CE75B428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AD83-F79D-43DF-B97B-6DA76C0428A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3" descr=""/>
          <p:cNvPicPr/>
          <p:nvPr/>
        </p:nvPicPr>
        <p:blipFill>
          <a:blip r:embed="rId1"/>
          <a:stretch/>
        </p:blipFill>
        <p:spPr>
          <a:xfrm>
            <a:off x="506520" y="426960"/>
            <a:ext cx="81248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8613720" cy="1116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28600" y="1143000"/>
            <a:ext cx="861048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α) Εξοικείωσης και προβληματισμού: Πρόκληση ενδιαφέροντος, για δραστηριοποίηση και συμμετοχή των μαθητών /τριών στη διδακτική διαδικασί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  Γιατί βουλιάζει μια μικρή σιδερένια μπίλια και όχι ένα πλοίο πολλών τόνων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 Γιατί δεν σβήνουν όλα τα φώτα σπίτι μας όταν καεί μια λάμπα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28320" y="647640"/>
            <a:ext cx="8458200" cy="563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β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ισαγωγή της νέας γνώσης: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Εισαγωγή εννοιών, αρχών, φαινομένων με ορισμούς, τύπους παραδείγματα με στόχο την κατανόηση του επιστημονικού περιεχομέν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ξηγούμε το φαινόμενο του βρασμού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ατάταξη των σωμάτων στις τρεις ΦΚΥ: Στερεά, Υγρά, Αέρι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ισαγωγή πίεσης με Ρ =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F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/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S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, Τύπος, Π.χ. τακούνι στιλέτο / αντικείμενα στην άμμ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04920" y="285480"/>
            <a:ext cx="8534160" cy="614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φαρμογή της γνώσης: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φαρμογή της νέας γνώσης σε γνωστά φυσικά φαινόμενα και εφαρμογές της καθημερινής ζωής. Π.χ. ερμηνεία φαινομένων και τεχνολογικών εφαρμογών, λύση προβλημάτων ……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όταν βράσει (κοχλάσει) το νερό το κατεβάζουμε από τη φωτιά;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στον παγωμένο δρόμο φοράμε παπούτσια με «ανώμαλη» σόλα (τρακτερωτά)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ρμηνεύστε τη λειτουργία του ηλεκτρικού (ή ηλιακού) θερμοσίφωνα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560" y="713880"/>
            <a:ext cx="8481960" cy="551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δ) </a:t>
            </a:r>
            <a:r>
              <a:rPr b="1" lang="el-GR" sz="32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Αξιολόγηση της νέας γνώσης: </a:t>
            </a: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Με ερωτήσεις, προβλήματα, ανάκληση γνώσεων …… ελέγχουμε αν κατανοήθηκε – αφομοιώθηκε η νέα γνώση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Ταξινομείστε τα παρακάτω σώματα σε Στερεά / Υγρά / Αέρι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Ποια λάμπα φωτοβολεί περισσότερο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285840" y="231840"/>
            <a:ext cx="8572320" cy="1347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04560" y="1518840"/>
            <a:ext cx="8553240" cy="51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πιβεβαίωση σωστών απαντήσε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Πολύ ωραία … προχωρούμε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αποδοκιμασία του λάθου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κάποιος /α άλλος 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Όχι … βέβαια …. Άλλος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άτι μας λες … κι άλλος …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3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9952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1352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Ανακαλυπτική μέθοδος ενεργοποιεί τα παιδιά, βοηθά στην ανάπτυξη νοητικών δεξιοτήτων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και απαιτεί μικρή προετοιμασία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γνώση «ανακαλύπτεται» από τα παιδιά με κατάλληλες ερωτήσεις του δάσκαλου /α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ρατηγική: Η δημιουργία και ο έλεγχος των υποθέσεων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179280" y="189000"/>
            <a:ext cx="878544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Γνωστική –  Επεξεργασία Πληροφορίας στη γνωστική δομή των μαθητ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όμως αλλάζουν εύκολα με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ξοικείωσης και Προβληματισμού, Δημιουργίας και Ελέγχου Υποθέσεων, Εφαρμογής και Αξιολόγησης της νέας 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 Διερευνητικής κατανό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επίδειξη - α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ή και Ομαδοσυνεργατικ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ομαδική εργασία - α.ο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12760" y="304920"/>
            <a:ext cx="8645400" cy="1352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28600" y="1609560"/>
            <a:ext cx="861048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Επίδειξη (αε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Ομαδική Εργασία (αοε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1171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294920"/>
            <a:ext cx="8715600" cy="53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Ιδιότητες και ταξινομήσεις σωμάτ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εις μεγεθών και φαινομένω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φαρμογές σχέσεων και αρχ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μπειρικοί νόμο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οιχεία μεθοδολογ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ύσκολα 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Έννοιε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μηνευτικά μοντέλ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Μικρόκοσμ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19240" y="426960"/>
            <a:ext cx="8656560" cy="166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85840" y="2214360"/>
            <a:ext cx="8572320" cy="38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ρχές Αντίδραση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οινωνικό Σύστημα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Υποστήριξ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1274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4920" y="1609560"/>
            <a:ext cx="853416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γασία σε ομάδες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ύλλο εργασίας – Ερωτήσει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εριεχόμενο: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κε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νδιαφέρον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υνοεί Ψυχοκινητικούς  στόχου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μηλό γνωστικό φορτ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ιοι στόχοι υλοποιούνται στην Α.Ο.Ε.;  - Όλο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λεονεκτήματα και Περιορισμοί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-122400" y="-158760"/>
            <a:ext cx="9528480" cy="17924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0" y="1214280"/>
            <a:ext cx="9143640" cy="5645880"/>
            <a:chOff x="0" y="1214280"/>
            <a:chExt cx="9143640" cy="5645880"/>
          </a:xfrm>
        </p:grpSpPr>
        <p:grpSp>
          <p:nvGrpSpPr>
            <p:cNvPr id="355" name="Group 4"/>
            <p:cNvGrpSpPr/>
            <p:nvPr/>
          </p:nvGrpSpPr>
          <p:grpSpPr>
            <a:xfrm>
              <a:off x="0" y="1217880"/>
              <a:ext cx="9142920" cy="5642280"/>
              <a:chOff x="0" y="1217880"/>
              <a:chExt cx="9142920" cy="564228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0" y="1217880"/>
                <a:ext cx="4645440" cy="931320"/>
                <a:chOff x="0" y="1217880"/>
                <a:chExt cx="4645440" cy="93132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0" y="1217880"/>
                  <a:ext cx="46454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ΕΠΙΔΕΙΞΗ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5040" y="1217880"/>
                  <a:ext cx="45154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"/>
              <p:cNvGrpSpPr/>
              <p:nvPr/>
            </p:nvGrpSpPr>
            <p:grpSpPr>
              <a:xfrm>
                <a:off x="4520880" y="1217880"/>
                <a:ext cx="4622040" cy="931320"/>
                <a:chOff x="4520880" y="1217880"/>
                <a:chExt cx="4622040" cy="931320"/>
              </a:xfrm>
            </p:grpSpPr>
            <p:sp>
              <p:nvSpPr>
                <p:cNvPr id="360" name="Rectangle 9"/>
                <p:cNvSpPr/>
                <p:nvPr/>
              </p:nvSpPr>
              <p:spPr>
                <a:xfrm>
                  <a:off x="4598280" y="121788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ΟΜΑΔΙΚΗ ΕΡΓΑΣΙΑ (Α.Ο.Ε.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10"/>
                <p:cNvSpPr/>
                <p:nvPr/>
              </p:nvSpPr>
              <p:spPr>
                <a:xfrm>
                  <a:off x="4520880" y="12178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11"/>
              <p:cNvGrpSpPr/>
              <p:nvPr/>
            </p:nvGrpSpPr>
            <p:grpSpPr>
              <a:xfrm>
                <a:off x="0" y="2149200"/>
                <a:ext cx="4561920" cy="710280"/>
                <a:chOff x="0" y="2149200"/>
                <a:chExt cx="4561920" cy="710280"/>
              </a:xfrm>
            </p:grpSpPr>
            <p:sp>
              <p:nvSpPr>
                <p:cNvPr id="363" name="Rectangle 12"/>
                <p:cNvSpPr/>
                <p:nvPr/>
              </p:nvSpPr>
              <p:spPr>
                <a:xfrm>
                  <a:off x="0" y="214920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ασκαλοκεντρική - μετωπική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13"/>
                <p:cNvSpPr/>
                <p:nvPr/>
              </p:nvSpPr>
              <p:spPr>
                <a:xfrm>
                  <a:off x="5040" y="214920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14"/>
              <p:cNvGrpSpPr/>
              <p:nvPr/>
            </p:nvGrpSpPr>
            <p:grpSpPr>
              <a:xfrm>
                <a:off x="4526280" y="2142720"/>
                <a:ext cx="4616640" cy="716400"/>
                <a:chOff x="4526280" y="2142720"/>
                <a:chExt cx="4616640" cy="716400"/>
              </a:xfrm>
            </p:grpSpPr>
            <p:sp>
              <p:nvSpPr>
                <p:cNvPr id="366" name="Rectangle 15"/>
                <p:cNvSpPr/>
                <p:nvPr/>
              </p:nvSpPr>
              <p:spPr>
                <a:xfrm>
                  <a:off x="4571280" y="21488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μαθητοκεντρική -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16"/>
                <p:cNvSpPr/>
                <p:nvPr/>
              </p:nvSpPr>
              <p:spPr>
                <a:xfrm>
                  <a:off x="4526280" y="2142720"/>
                  <a:ext cx="461664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17"/>
              <p:cNvGrpSpPr/>
              <p:nvPr/>
            </p:nvGrpSpPr>
            <p:grpSpPr>
              <a:xfrm>
                <a:off x="0" y="2859480"/>
                <a:ext cx="4645440" cy="711720"/>
                <a:chOff x="0" y="2859480"/>
                <a:chExt cx="4645440" cy="711720"/>
              </a:xfrm>
            </p:grpSpPr>
            <p:sp>
              <p:nvSpPr>
                <p:cNvPr id="369" name="Rectangle 18"/>
                <p:cNvSpPr/>
                <p:nvPr/>
              </p:nvSpPr>
              <p:spPr>
                <a:xfrm>
                  <a:off x="0" y="2859480"/>
                  <a:ext cx="4645440" cy="711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κυρίαρχο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19"/>
                <p:cNvSpPr/>
                <p:nvPr/>
              </p:nvSpPr>
              <p:spPr>
                <a:xfrm>
                  <a:off x="5040" y="2859480"/>
                  <a:ext cx="4515480" cy="71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20"/>
              <p:cNvGrpSpPr/>
              <p:nvPr/>
            </p:nvGrpSpPr>
            <p:grpSpPr>
              <a:xfrm>
                <a:off x="4520880" y="2859480"/>
                <a:ext cx="4622040" cy="710280"/>
                <a:chOff x="4520880" y="2859480"/>
                <a:chExt cx="4622040" cy="710280"/>
              </a:xfrm>
            </p:grpSpPr>
            <p:sp>
              <p:nvSpPr>
                <p:cNvPr id="372" name="Rectangle 21"/>
                <p:cNvSpPr/>
                <p:nvPr/>
              </p:nvSpPr>
              <p:spPr>
                <a:xfrm>
                  <a:off x="4598280" y="2859480"/>
                  <a:ext cx="4544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διευκολυντή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2"/>
                <p:cNvSpPr/>
                <p:nvPr/>
              </p:nvSpPr>
              <p:spPr>
                <a:xfrm>
                  <a:off x="4520880" y="285948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23"/>
              <p:cNvGrpSpPr/>
              <p:nvPr/>
            </p:nvGrpSpPr>
            <p:grpSpPr>
              <a:xfrm>
                <a:off x="0" y="3522960"/>
                <a:ext cx="4570920" cy="757440"/>
                <a:chOff x="0" y="3522960"/>
                <a:chExt cx="4570920" cy="757440"/>
              </a:xfrm>
            </p:grpSpPr>
            <p:sp>
              <p:nvSpPr>
                <p:cNvPr id="375" name="Rectangle 24"/>
                <p:cNvSpPr/>
                <p:nvPr/>
              </p:nvSpPr>
              <p:spPr>
                <a:xfrm>
                  <a:off x="0" y="3522960"/>
                  <a:ext cx="4570920" cy="709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πολλοί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25"/>
                <p:cNvSpPr/>
                <p:nvPr/>
              </p:nvSpPr>
              <p:spPr>
                <a:xfrm>
                  <a:off x="5040" y="3573360"/>
                  <a:ext cx="4515120" cy="70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26"/>
              <p:cNvGrpSpPr/>
              <p:nvPr/>
            </p:nvGrpSpPr>
            <p:grpSpPr>
              <a:xfrm>
                <a:off x="4520880" y="3570120"/>
                <a:ext cx="4622040" cy="710640"/>
                <a:chOff x="4520880" y="3570120"/>
                <a:chExt cx="4622040" cy="710640"/>
              </a:xfrm>
            </p:grpSpPr>
            <p:sp>
              <p:nvSpPr>
                <p:cNvPr id="378" name="Rectangle 27"/>
                <p:cNvSpPr/>
                <p:nvPr/>
              </p:nvSpPr>
              <p:spPr>
                <a:xfrm>
                  <a:off x="4571280" y="3570120"/>
                  <a:ext cx="4571640" cy="710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όλοι οι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28"/>
                <p:cNvSpPr/>
                <p:nvPr/>
              </p:nvSpPr>
              <p:spPr>
                <a:xfrm>
                  <a:off x="4520880" y="3570120"/>
                  <a:ext cx="462204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9"/>
              <p:cNvGrpSpPr/>
              <p:nvPr/>
            </p:nvGrpSpPr>
            <p:grpSpPr>
              <a:xfrm>
                <a:off x="0" y="4178880"/>
                <a:ext cx="4643640" cy="1033200"/>
                <a:chOff x="0" y="4178880"/>
                <a:chExt cx="4643640" cy="1033200"/>
              </a:xfrm>
            </p:grpSpPr>
            <p:sp>
              <p:nvSpPr>
                <p:cNvPr id="381" name="Rectangle 30"/>
                <p:cNvSpPr/>
                <p:nvPr/>
              </p:nvSpPr>
              <p:spPr>
                <a:xfrm>
                  <a:off x="0" y="4178880"/>
                  <a:ext cx="4643640" cy="1033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εκπαιδευτικό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31"/>
                <p:cNvSpPr/>
                <p:nvPr/>
              </p:nvSpPr>
              <p:spPr>
                <a:xfrm>
                  <a:off x="5040" y="4280760"/>
                  <a:ext cx="451548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32"/>
              <p:cNvGrpSpPr/>
              <p:nvPr/>
            </p:nvGrpSpPr>
            <p:grpSpPr>
              <a:xfrm>
                <a:off x="4520880" y="4281120"/>
                <a:ext cx="4622040" cy="931320"/>
                <a:chOff x="4520880" y="4281120"/>
                <a:chExt cx="4622040" cy="931320"/>
              </a:xfrm>
            </p:grpSpPr>
            <p:sp>
              <p:nvSpPr>
                <p:cNvPr id="384" name="Rectangle 33"/>
                <p:cNvSpPr/>
                <p:nvPr/>
              </p:nvSpPr>
              <p:spPr>
                <a:xfrm>
                  <a:off x="4598280" y="428112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34"/>
                <p:cNvSpPr/>
                <p:nvPr/>
              </p:nvSpPr>
              <p:spPr>
                <a:xfrm>
                  <a:off x="4520880" y="428112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35"/>
              <p:cNvGrpSpPr/>
              <p:nvPr/>
            </p:nvGrpSpPr>
            <p:grpSpPr>
              <a:xfrm>
                <a:off x="0" y="5212440"/>
                <a:ext cx="4561920" cy="710280"/>
                <a:chOff x="0" y="5212440"/>
                <a:chExt cx="4561920" cy="710280"/>
              </a:xfrm>
            </p:grpSpPr>
            <p:sp>
              <p:nvSpPr>
                <p:cNvPr id="387" name="Rectangle 36"/>
                <p:cNvSpPr/>
                <p:nvPr/>
              </p:nvSpPr>
              <p:spPr>
                <a:xfrm>
                  <a:off x="0" y="521244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αραδοσιακή διαχείριση τάξη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7"/>
                <p:cNvSpPr/>
                <p:nvPr/>
              </p:nvSpPr>
              <p:spPr>
                <a:xfrm>
                  <a:off x="5040" y="521244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8"/>
              <p:cNvGrpSpPr/>
              <p:nvPr/>
            </p:nvGrpSpPr>
            <p:grpSpPr>
              <a:xfrm>
                <a:off x="4520880" y="5212440"/>
                <a:ext cx="4622040" cy="710280"/>
                <a:chOff x="4520880" y="5212440"/>
                <a:chExt cx="4622040" cy="710280"/>
              </a:xfrm>
            </p:grpSpPr>
            <p:sp>
              <p:nvSpPr>
                <p:cNvPr id="390" name="Rectangle 39"/>
                <p:cNvSpPr/>
                <p:nvPr/>
              </p:nvSpPr>
              <p:spPr>
                <a:xfrm>
                  <a:off x="4571280" y="52124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τάξη σε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0"/>
                <p:cNvSpPr/>
                <p:nvPr/>
              </p:nvSpPr>
              <p:spPr>
                <a:xfrm>
                  <a:off x="4520880" y="521244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41"/>
              <p:cNvGrpSpPr/>
              <p:nvPr/>
            </p:nvGrpSpPr>
            <p:grpSpPr>
              <a:xfrm>
                <a:off x="0" y="5923080"/>
                <a:ext cx="4570920" cy="937080"/>
                <a:chOff x="0" y="5923080"/>
                <a:chExt cx="4570920" cy="937080"/>
              </a:xfrm>
            </p:grpSpPr>
            <p:sp>
              <p:nvSpPr>
                <p:cNvPr id="393" name="Rectangle 42"/>
                <p:cNvSpPr/>
                <p:nvPr/>
              </p:nvSpPr>
              <p:spPr>
                <a:xfrm>
                  <a:off x="0" y="5929200"/>
                  <a:ext cx="4570920" cy="930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γνωστικοί στόχοι (νοητικές δεξιότητες και ειδικοί γνωστικοί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43"/>
                <p:cNvSpPr/>
                <p:nvPr/>
              </p:nvSpPr>
              <p:spPr>
                <a:xfrm>
                  <a:off x="5040" y="5923080"/>
                  <a:ext cx="451512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44"/>
              <p:cNvGrpSpPr/>
              <p:nvPr/>
            </p:nvGrpSpPr>
            <p:grpSpPr>
              <a:xfrm>
                <a:off x="4520880" y="5923080"/>
                <a:ext cx="4622040" cy="931320"/>
                <a:chOff x="4520880" y="5923080"/>
                <a:chExt cx="4622040" cy="931320"/>
              </a:xfrm>
            </p:grpSpPr>
            <p:sp>
              <p:nvSpPr>
                <p:cNvPr id="396" name="Rectangle 45"/>
                <p:cNvSpPr/>
                <p:nvPr/>
              </p:nvSpPr>
              <p:spPr>
                <a:xfrm>
                  <a:off x="4571280" y="5923080"/>
                  <a:ext cx="4571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ψυχοκινητικοί,  συναισθηματικοί και γνωστικοί στόχοι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46"/>
                <p:cNvSpPr/>
                <p:nvPr/>
              </p:nvSpPr>
              <p:spPr>
                <a:xfrm>
                  <a:off x="4520880" y="59230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8" name="Rectangle 47"/>
            <p:cNvSpPr/>
            <p:nvPr/>
          </p:nvSpPr>
          <p:spPr>
            <a:xfrm>
              <a:off x="0" y="1214280"/>
              <a:ext cx="9143640" cy="5644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7232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560" y="1428840"/>
            <a:ext cx="8569080" cy="516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διερευνητική προσέγγιση φαίνεται να ενσωματώνει πολλά στοιχεία των προηγούμενων ρευμάτω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όχος είναι η πολύπλευρη μύηση του μαθητή στο περιεχόμενο, τις διαδικασίες και τη φύση της επιστήμης, παρά η μάθηση κάποιων γεγονότων, εννοιών, νόμων κλπ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95280" y="476280"/>
            <a:ext cx="8424720" cy="590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πρόβλεψης και ελέγχουν μεταβλητών που επηρεάζουν ένα φαινόμενο. «Ποιοι παράγοντες επηρεάζουν την πλεύση – βύθιση?»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γνώση και η εφαρμογή μοντέλων. Π.χ. η εισαγωγή της πυκνότητας στο Δημοτικό μέσω του μοντέλου συνωστισμένου πλήθους (δες επόμενη διαφάνεια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ελέτη πηγών – αναζήτηση πληροφοριών και η συγγραφή σχετικής έκθεση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igsaw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and experts group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8572320" cy="1243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977400"/>
            <a:ext cx="8610480" cy="57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μαθητές έρχονται στην τάξη με γνώσεις και εμπειρίες από το καθημερινό περιβάλλο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γνώσεις αυτές δημιουργούν αναπαραστάσεις για τις έννοιες και τα φαινόμενα των Φυσικών Επιστημών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αναπαραστάσεις αυτές επηρεάζουν ισχυρά τη διδασκαλία και καθοδηγούν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ρα, σχεδιάζουμε διδασκαλίες λαμβάνοντας υπόψη τις αρχικές ιδέες των μαθητών (ι.μ.) μα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142920"/>
            <a:ext cx="853416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ποικοδομητική (Γνωστική) –  Ο μαθητής «κατασκευάζει» τη γνώση του στη βάση των αρχικών ιδεών / εμπειριών το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που επηρεάζουν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 – Γνώστης Αρχικών ι.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νάδειξης των ι.μ., Δοκιμασίας των ι.μ., Εισαγωγής και Εφαρμογής της νέας γνώσης, Μετα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Μεταγνωστικ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ή και Ομαδοσυνεργατικό – για τη δοκιμασία των ι.μ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8718480" cy="1347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13840" y="1428480"/>
            <a:ext cx="86439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Προυπόθεση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Ύπαρξη διαισθητικών εναλλακτικών ιδεών και επίδρασή τους στη διδασκαλία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Μαθητής: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νήμερος απόψεών του, καθώς και των συμμαθητών του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Κατασκευάζει τη γνώση,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«ανωτερότητα» της νέας γνώ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πορεία μάθη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Εκπαιδευτικός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ιχνεύει / βρίσκει τις ι.μ. και τις μοντελοποιεί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Διευκολύνει τη μάθηση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ισάγει τη νέα γνώση, ως ευλογοφανή και παραγωγικότερη αρχικής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πιδεικνύει διδακτικό υλικό ή οδηγεί τους Μ. να το κάνουν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εριεχόμενο διδασκαλίας: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πιλέγεται και μετασχηματίζεται διδακτικά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τρατηγικές στο εποικοδομητικό μοντέλο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νωστικής σύγκρουσ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νίσχυσης των ιδεώ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ναλογίες και Μεταφορέ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εφύρωσ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18480" cy="1353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600" y="1595520"/>
            <a:ext cx="8686800" cy="4905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Η σύνταξη περιγράφει το μοντέλο σαν μια ροή δράσεων. Εάν ο/η  εκπαιδευτικός χρησιμοποιούσε το μοντέλο, πως θ’ άρχιζε; Τι θα έκανε πρώτο, δεύτερο, τρίτο;  Η σύνταξη περιγράφεται με μια σειρά γεγονότων, που αποκαλούνται φάσεις. Κάθε μοντέλο έχει μια διακριτή ροή φάσεων…Μία σύγκριση των συντακτικών δομών των μοντέλων αναδεικνύει τις πρακτικές διαφορές που υπάρχουν μεταξύ τους»,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l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yc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σελ. 5, 1978)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8645400" cy="2212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8600" y="1981080"/>
            <a:ext cx="870120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Φάσεις: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νάδειξης των ιδεών μαθητώ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2, 3)Δοκιμασίας των ιδεών και καταγραφής των αποτελεσμάτων τη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4) Εισαγω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5) Εφαρμο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6) Μεταγνωστική φάσ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4 - TextBox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3786120" cy="3030480"/>
          </a:xfrm>
          <a:prstGeom prst="rect">
            <a:avLst/>
          </a:prstGeom>
          <a:ln w="0">
            <a:noFill/>
          </a:ln>
        </p:spPr>
      </p:pic>
      <p:sp>
        <p:nvSpPr>
          <p:cNvPr id="413" name="5 - TextBox"/>
          <p:cNvSpPr/>
          <p:nvPr/>
        </p:nvSpPr>
        <p:spPr>
          <a:xfrm>
            <a:off x="285840" y="3103560"/>
            <a:ext cx="3643200" cy="325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Υπόμνημα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Φάση ανάδειξης των ιδεών των μαθητώ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,3. Φάση δοκιμασία των ιδεών και καταγραφής των αποτελεσμάτων τη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.    Φάση εισαγω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.    Φάση εφαρμο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.    Φάση ανασκόπησης σύγκρισης  μεταξύ των ιδεών των μαθητών και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6 - TextBox" descr=""/>
          <p:cNvPicPr/>
          <p:nvPr/>
        </p:nvPicPr>
        <p:blipFill>
          <a:blip r:embed="rId2"/>
          <a:stretch/>
        </p:blipFill>
        <p:spPr>
          <a:xfrm>
            <a:off x="3998880" y="426960"/>
            <a:ext cx="841320" cy="2140200"/>
          </a:xfrm>
          <a:prstGeom prst="rect">
            <a:avLst/>
          </a:prstGeom>
          <a:ln w="0">
            <a:noFill/>
          </a:ln>
        </p:spPr>
      </p:pic>
      <p:pic>
        <p:nvPicPr>
          <p:cNvPr id="415" name="7 - TextBox" descr=""/>
          <p:cNvPicPr/>
          <p:nvPr/>
        </p:nvPicPr>
        <p:blipFill>
          <a:blip r:embed="rId3"/>
          <a:stretch/>
        </p:blipFill>
        <p:spPr>
          <a:xfrm>
            <a:off x="3998880" y="2925720"/>
            <a:ext cx="841320" cy="3017880"/>
          </a:xfrm>
          <a:prstGeom prst="rect">
            <a:avLst/>
          </a:prstGeom>
          <a:ln w="0">
            <a:noFill/>
          </a:ln>
        </p:spPr>
      </p:pic>
      <p:sp>
        <p:nvSpPr>
          <p:cNvPr id="416" name="8 - TextBox"/>
          <p:cNvSpPr/>
          <p:nvPr/>
        </p:nvSpPr>
        <p:spPr>
          <a:xfrm>
            <a:off x="4857840" y="928800"/>
            <a:ext cx="164304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ΙΔΕΕΣ ΜΑΘΗΤΩΝ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Αρχικ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9 - TextBox"/>
          <p:cNvSpPr/>
          <p:nvPr/>
        </p:nvSpPr>
        <p:spPr>
          <a:xfrm>
            <a:off x="6858000" y="928800"/>
            <a:ext cx="200016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ΠΙΣΤΗΜΟΝΙΚΟ ΠΡΟΤΥΠΟ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Επιθυμητ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10 - TextBox"/>
          <p:cNvSpPr/>
          <p:nvPr/>
        </p:nvSpPr>
        <p:spPr>
          <a:xfrm>
            <a:off x="4857840" y="3643200"/>
            <a:ext cx="378612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ΡΓΑ ΚΑΤΑΛΛΗΛΑ: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ανακάλυψη των ιδεών των μαθητών</a:t>
            </a:r>
            <a:br>
              <a:rPr sz="15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οικοδόμηση της επιθυμητής γνώσης</a:t>
            </a: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12 - Ευθύγραμμο βέλος σύνδεσης"/>
          <p:cNvCxnSpPr/>
          <p:nvPr/>
        </p:nvCxnSpPr>
        <p:spPr>
          <a:xfrm flipH="1">
            <a:off x="5784480" y="214308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20 - Ευθύγραμμο βέλος σύνδεσης"/>
          <p:cNvCxnSpPr/>
          <p:nvPr/>
        </p:nvCxnSpPr>
        <p:spPr>
          <a:xfrm flipV="1">
            <a:off x="5214960" y="214272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21 - Ευθύγραμμο βέλος σύνδεσης"/>
          <p:cNvCxnSpPr/>
          <p:nvPr/>
        </p:nvCxnSpPr>
        <p:spPr>
          <a:xfrm flipH="1">
            <a:off x="8071560" y="221436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4 - Ευθύγραμμο βέλος σύνδεσης"/>
          <p:cNvCxnSpPr/>
          <p:nvPr/>
        </p:nvCxnSpPr>
        <p:spPr>
          <a:xfrm flipV="1">
            <a:off x="6071040" y="2142720"/>
            <a:ext cx="252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25 - Ευθύγραμμο βέλος σύνδεσης"/>
          <p:cNvCxnSpPr/>
          <p:nvPr/>
        </p:nvCxnSpPr>
        <p:spPr>
          <a:xfrm flipV="1">
            <a:off x="7714080" y="221400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26 - TextBox"/>
          <p:cNvSpPr/>
          <p:nvPr/>
        </p:nvSpPr>
        <p:spPr>
          <a:xfrm>
            <a:off x="484128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27 - TextBox"/>
          <p:cNvSpPr/>
          <p:nvPr/>
        </p:nvSpPr>
        <p:spPr>
          <a:xfrm>
            <a:off x="732564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28 - TextBox"/>
          <p:cNvSpPr/>
          <p:nvPr/>
        </p:nvSpPr>
        <p:spPr>
          <a:xfrm>
            <a:off x="612720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29 - TextBox"/>
          <p:cNvSpPr/>
          <p:nvPr/>
        </p:nvSpPr>
        <p:spPr>
          <a:xfrm>
            <a:off x="539676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30 - TextBox"/>
          <p:cNvSpPr/>
          <p:nvPr/>
        </p:nvSpPr>
        <p:spPr>
          <a:xfrm>
            <a:off x="811152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32 - Ευθύγραμμο βέλος σύνδεσης"/>
          <p:cNvCxnSpPr>
            <a:stCxn id="416" idx="3"/>
            <a:endCxn id="417" idx="1"/>
          </p:cNvCxnSpPr>
          <p:nvPr/>
        </p:nvCxnSpPr>
        <p:spPr>
          <a:xfrm>
            <a:off x="6500880" y="145908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30" name="35 - TextBox"/>
          <p:cNvSpPr/>
          <p:nvPr/>
        </p:nvSpPr>
        <p:spPr>
          <a:xfrm>
            <a:off x="6500880" y="928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3"/>
          <p:cNvGrpSpPr/>
          <p:nvPr/>
        </p:nvGrpSpPr>
        <p:grpSpPr>
          <a:xfrm>
            <a:off x="0" y="1752480"/>
            <a:ext cx="9143640" cy="5105160"/>
            <a:chOff x="0" y="1752480"/>
            <a:chExt cx="9143640" cy="5105160"/>
          </a:xfrm>
        </p:grpSpPr>
        <p:grpSp>
          <p:nvGrpSpPr>
            <p:cNvPr id="433" name="Group 4"/>
            <p:cNvGrpSpPr/>
            <p:nvPr/>
          </p:nvGrpSpPr>
          <p:grpSpPr>
            <a:xfrm>
              <a:off x="0" y="1757880"/>
              <a:ext cx="9142920" cy="5093640"/>
              <a:chOff x="0" y="1757880"/>
              <a:chExt cx="9142920" cy="5093640"/>
            </a:xfrm>
          </p:grpSpPr>
          <p:grpSp>
            <p:nvGrpSpPr>
              <p:cNvPr id="434" name="Group 5"/>
              <p:cNvGrpSpPr/>
              <p:nvPr/>
            </p:nvGrpSpPr>
            <p:grpSpPr>
              <a:xfrm>
                <a:off x="0" y="1757880"/>
                <a:ext cx="4356000" cy="925560"/>
                <a:chOff x="0" y="1757880"/>
                <a:chExt cx="4356000" cy="925560"/>
              </a:xfrm>
            </p:grpSpPr>
            <p:sp>
              <p:nvSpPr>
                <p:cNvPr id="435" name="Rectangle 6"/>
                <p:cNvSpPr/>
                <p:nvPr/>
              </p:nvSpPr>
              <p:spPr>
                <a:xfrm>
                  <a:off x="0" y="1757880"/>
                  <a:ext cx="435600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ΜΕΤΑΦΟΡ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3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7"/>
                <p:cNvSpPr/>
                <p:nvPr/>
              </p:nvSpPr>
              <p:spPr>
                <a:xfrm>
                  <a:off x="6480" y="1757880"/>
                  <a:ext cx="43164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8"/>
              <p:cNvGrpSpPr/>
              <p:nvPr/>
            </p:nvGrpSpPr>
            <p:grpSpPr>
              <a:xfrm>
                <a:off x="4321440" y="1757880"/>
                <a:ext cx="4821480" cy="925560"/>
                <a:chOff x="4321440" y="1757880"/>
                <a:chExt cx="4821480" cy="925560"/>
              </a:xfrm>
            </p:grpSpPr>
            <p:sp>
              <p:nvSpPr>
                <p:cNvPr id="438" name="Rectangle 9"/>
                <p:cNvSpPr/>
                <p:nvPr/>
              </p:nvSpPr>
              <p:spPr>
                <a:xfrm>
                  <a:off x="4356360" y="1757880"/>
                  <a:ext cx="478656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ΑΝΑΚΑΛΥΨ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0"/>
                <p:cNvSpPr/>
                <p:nvPr/>
              </p:nvSpPr>
              <p:spPr>
                <a:xfrm>
                  <a:off x="4321440" y="1757880"/>
                  <a:ext cx="48150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"/>
              <p:cNvGrpSpPr/>
              <p:nvPr/>
            </p:nvGrpSpPr>
            <p:grpSpPr>
              <a:xfrm>
                <a:off x="0" y="2683800"/>
                <a:ext cx="4356000" cy="747720"/>
                <a:chOff x="0" y="2683800"/>
                <a:chExt cx="4356000" cy="747720"/>
              </a:xfrm>
            </p:grpSpPr>
            <p:sp>
              <p:nvSpPr>
                <p:cNvPr id="441" name="Rectangle 12"/>
                <p:cNvSpPr/>
                <p:nvPr/>
              </p:nvSpPr>
              <p:spPr>
                <a:xfrm>
                  <a:off x="0" y="268380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μεταφορέα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3"/>
                <p:cNvSpPr/>
                <p:nvPr/>
              </p:nvSpPr>
              <p:spPr>
                <a:xfrm>
                  <a:off x="6480" y="268380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4"/>
              <p:cNvGrpSpPr/>
              <p:nvPr/>
            </p:nvGrpSpPr>
            <p:grpSpPr>
              <a:xfrm>
                <a:off x="4285800" y="2683800"/>
                <a:ext cx="4857120" cy="747720"/>
                <a:chOff x="4285800" y="2683800"/>
                <a:chExt cx="4857120" cy="747720"/>
              </a:xfrm>
            </p:grpSpPr>
            <p:sp>
              <p:nvSpPr>
                <p:cNvPr id="444" name="Rectangle 15"/>
                <p:cNvSpPr/>
                <p:nvPr/>
              </p:nvSpPr>
              <p:spPr>
                <a:xfrm>
                  <a:off x="4285800" y="268380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διευκολυντή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6"/>
                <p:cNvSpPr/>
                <p:nvPr/>
              </p:nvSpPr>
              <p:spPr>
                <a:xfrm>
                  <a:off x="4321080" y="268380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7"/>
              <p:cNvGrpSpPr/>
              <p:nvPr/>
            </p:nvGrpSpPr>
            <p:grpSpPr>
              <a:xfrm>
                <a:off x="0" y="3432240"/>
                <a:ext cx="4356000" cy="748080"/>
                <a:chOff x="0" y="3432240"/>
                <a:chExt cx="4356000" cy="748080"/>
              </a:xfrm>
            </p:grpSpPr>
            <p:sp>
              <p:nvSpPr>
                <p:cNvPr id="447" name="Rectangle 18"/>
                <p:cNvSpPr/>
                <p:nvPr/>
              </p:nvSpPr>
              <p:spPr>
                <a:xfrm>
                  <a:off x="0" y="3432240"/>
                  <a:ext cx="435600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Παθητικός  δέκτ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9"/>
                <p:cNvSpPr/>
                <p:nvPr/>
              </p:nvSpPr>
              <p:spPr>
                <a:xfrm>
                  <a:off x="6480" y="3432240"/>
                  <a:ext cx="43164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0"/>
              <p:cNvGrpSpPr/>
              <p:nvPr/>
            </p:nvGrpSpPr>
            <p:grpSpPr>
              <a:xfrm>
                <a:off x="4285800" y="3432240"/>
                <a:ext cx="4857120" cy="748080"/>
                <a:chOff x="4285800" y="3432240"/>
                <a:chExt cx="4857120" cy="748080"/>
              </a:xfrm>
            </p:grpSpPr>
            <p:sp>
              <p:nvSpPr>
                <p:cNvPr id="450" name="Rectangle 21"/>
                <p:cNvSpPr/>
                <p:nvPr/>
              </p:nvSpPr>
              <p:spPr>
                <a:xfrm>
                  <a:off x="4285800" y="3432240"/>
                  <a:ext cx="485712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ενεργό υποκείμενο μάθησ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22"/>
                <p:cNvSpPr/>
                <p:nvPr/>
              </p:nvSpPr>
              <p:spPr>
                <a:xfrm>
                  <a:off x="4321080" y="3432240"/>
                  <a:ext cx="48150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23"/>
              <p:cNvGrpSpPr/>
              <p:nvPr/>
            </p:nvGrpSpPr>
            <p:grpSpPr>
              <a:xfrm>
                <a:off x="0" y="4180680"/>
                <a:ext cx="4356000" cy="747720"/>
                <a:chOff x="0" y="4180680"/>
                <a:chExt cx="4356000" cy="747720"/>
              </a:xfrm>
            </p:grpSpPr>
            <p:sp>
              <p:nvSpPr>
                <p:cNvPr id="453" name="Rectangle 24"/>
                <p:cNvSpPr/>
                <p:nvPr/>
              </p:nvSpPr>
              <p:spPr>
                <a:xfrm>
                  <a:off x="0" y="418068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μεταφέρ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25"/>
                <p:cNvSpPr/>
                <p:nvPr/>
              </p:nvSpPr>
              <p:spPr>
                <a:xfrm>
                  <a:off x="6480" y="418068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26"/>
              <p:cNvGrpSpPr/>
              <p:nvPr/>
            </p:nvGrpSpPr>
            <p:grpSpPr>
              <a:xfrm>
                <a:off x="4285800" y="4180680"/>
                <a:ext cx="4857120" cy="747720"/>
                <a:chOff x="4285800" y="4180680"/>
                <a:chExt cx="4857120" cy="747720"/>
              </a:xfrm>
            </p:grpSpPr>
            <p:sp>
              <p:nvSpPr>
                <p:cNvPr id="456" name="Rectangle 27"/>
                <p:cNvSpPr/>
                <p:nvPr/>
              </p:nvSpPr>
              <p:spPr>
                <a:xfrm>
                  <a:off x="4285800" y="418068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ανακαλύπτ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28"/>
                <p:cNvSpPr/>
                <p:nvPr/>
              </p:nvSpPr>
              <p:spPr>
                <a:xfrm>
                  <a:off x="4321080" y="418068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29"/>
              <p:cNvGrpSpPr/>
              <p:nvPr/>
            </p:nvGrpSpPr>
            <p:grpSpPr>
              <a:xfrm>
                <a:off x="0" y="4928760"/>
                <a:ext cx="4356000" cy="961200"/>
                <a:chOff x="0" y="4928760"/>
                <a:chExt cx="4356000" cy="961200"/>
              </a:xfrm>
            </p:grpSpPr>
            <p:sp>
              <p:nvSpPr>
                <p:cNvPr id="459" name="Rectangle 30"/>
                <p:cNvSpPr/>
                <p:nvPr/>
              </p:nvSpPr>
              <p:spPr>
                <a:xfrm>
                  <a:off x="0" y="4928760"/>
                  <a:ext cx="43560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 : στοιχείο φυσικών επιστημώ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1"/>
                <p:cNvSpPr/>
                <p:nvPr/>
              </p:nvSpPr>
              <p:spPr>
                <a:xfrm>
                  <a:off x="6480" y="4928760"/>
                  <a:ext cx="43164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2"/>
              <p:cNvGrpSpPr/>
              <p:nvPr/>
            </p:nvGrpSpPr>
            <p:grpSpPr>
              <a:xfrm>
                <a:off x="4285800" y="4928760"/>
                <a:ext cx="4857120" cy="961200"/>
                <a:chOff x="4285800" y="4928760"/>
                <a:chExt cx="4857120" cy="961200"/>
              </a:xfrm>
            </p:grpSpPr>
            <p:sp>
              <p:nvSpPr>
                <p:cNvPr id="462" name="Rectangle 33"/>
                <p:cNvSpPr/>
                <p:nvPr/>
              </p:nvSpPr>
              <p:spPr>
                <a:xfrm>
                  <a:off x="4285800" y="4928760"/>
                  <a:ext cx="485712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: άσκηση σε δεξιότητες (νοητικές και χειρωνακτικές) και στοιχείο φ.ε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4"/>
                <p:cNvSpPr/>
                <p:nvPr/>
              </p:nvSpPr>
              <p:spPr>
                <a:xfrm>
                  <a:off x="4321080" y="492876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5"/>
              <p:cNvGrpSpPr/>
              <p:nvPr/>
            </p:nvGrpSpPr>
            <p:grpSpPr>
              <a:xfrm>
                <a:off x="0" y="5890320"/>
                <a:ext cx="4321080" cy="961200"/>
                <a:chOff x="0" y="5890320"/>
                <a:chExt cx="4321080" cy="961200"/>
              </a:xfrm>
            </p:grpSpPr>
            <p:sp>
              <p:nvSpPr>
                <p:cNvPr id="465" name="Rectangle 36"/>
                <p:cNvSpPr/>
                <p:nvPr/>
              </p:nvSpPr>
              <p:spPr>
                <a:xfrm>
                  <a:off x="0" y="5890320"/>
                  <a:ext cx="42858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μαθητών ?    tabula r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7"/>
                <p:cNvSpPr/>
                <p:nvPr/>
              </p:nvSpPr>
              <p:spPr>
                <a:xfrm>
                  <a:off x="6480" y="5890320"/>
                  <a:ext cx="43146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38"/>
              <p:cNvGrpSpPr/>
              <p:nvPr/>
            </p:nvGrpSpPr>
            <p:grpSpPr>
              <a:xfrm>
                <a:off x="4321440" y="5890320"/>
                <a:ext cx="4821480" cy="961200"/>
                <a:chOff x="4321440" y="5890320"/>
                <a:chExt cx="4821480" cy="961200"/>
              </a:xfrm>
            </p:grpSpPr>
            <p:sp>
              <p:nvSpPr>
                <p:cNvPr id="468" name="Rectangle 39"/>
                <p:cNvSpPr/>
                <p:nvPr/>
              </p:nvSpPr>
              <p:spPr>
                <a:xfrm>
                  <a:off x="4356360" y="5890320"/>
                  <a:ext cx="478656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?        ναι, αλλά αλλάζουν με διδασκαλί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0"/>
                <p:cNvSpPr/>
                <p:nvPr/>
              </p:nvSpPr>
              <p:spPr>
                <a:xfrm>
                  <a:off x="4321440" y="589032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Rectangle 41"/>
            <p:cNvSpPr/>
            <p:nvPr/>
          </p:nvSpPr>
          <p:spPr>
            <a:xfrm>
              <a:off x="0" y="1752480"/>
              <a:ext cx="9143640" cy="510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12760" y="-79200"/>
            <a:ext cx="8718480" cy="16635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13840" y="1357200"/>
            <a:ext cx="4281480" cy="54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δ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εποικ/ση γνώση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αλλά και ενήμερος των ιδεών τ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ε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ύπαρξη διαισθητικών αντιλήψεων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1640" y="1356840"/>
            <a:ext cx="434340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δ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ανακάλυψη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ε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ότι «υπάρχει»)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285480"/>
            <a:ext cx="4495680" cy="63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 : στοιχείο Φυσικών  Επιστημών και </a:t>
            </a:r>
            <a:r>
              <a:rPr b="0" lang="el-GR" sz="28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διδασκαλ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μαθητών ?    αφετηρία διδασκαλίας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 και μεταγνώση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8320" y="285480"/>
            <a:ext cx="449568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: στοιχείο Φ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. Ε.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και άσκηση σε δεξιότητες (νοητικές και χειρωνακτικές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 μαθητών ?  ναι, αλλά αλλάζουν με διδασκαλία (επιλογή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49120" y="212760"/>
            <a:ext cx="864576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206280" y="1197000"/>
          <a:ext cx="8686800" cy="5573520"/>
        </p:xfrm>
        <a:graphic>
          <a:graphicData uri="http://schemas.openxmlformats.org/drawingml/2006/table">
            <a:tbl>
              <a:tblPr/>
              <a:tblGrid>
                <a:gridCol w="2637000"/>
                <a:gridCol w="3154320"/>
                <a:gridCol w="2895480"/>
              </a:tblGrid>
              <a:tr h="67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κάλυψ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οικοδόμ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ιερεύν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Χειρισμός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νοιολογικά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Και τα δύο </a:t>
                      </a:r>
                      <a:r>
                        <a:rPr b="0" lang="el-GR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Αυθεντικότητ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Υποσύνολο Διερεύνηση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Τροποποιεί Ανακάλυψ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Εποικοδόμησ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Διευρύνε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ακάλυψ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Πειραματικές αναφορέ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άδειξη ιδεών μαθητώ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Διάβασμα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Γράψιμ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το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353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600" y="1571400"/>
            <a:ext cx="8610480" cy="510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Οι αρχές αντίδρασης καθοδηγούν τις απαντήσεις του/της εκπαιδευτικού  στο/στη μαθητή / τρια. Αυτές λένε στον/στην εκπαιδευτικό πώς να βλέπει το/τη  μαθητή/ τρια και πώς να αντιδρά σε ότι αυτός/ή κάνει…Οι αρχές αντίδρασης παρέχουν στον/στην εκπαιδευτικό εμπειρικές μεθόδους με βάση τις οποίες «εναρμονίζονται» στους/στις  μαθητές/τριες και επιλέγουν κατάλληλες απαντήσεις σ’ αυτά που οι μαθητές/ τριες κάνουν»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17000" cy="1353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28400" y="1600200"/>
            <a:ext cx="8258040" cy="502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φορά τους ρόλους των μαθητών/τριών και εκπαιδευτικών, τις σχέσεις των ρόλων και τις μορφές κανονισμών που προωθούνται στην τάξη. Για παράδειγμα, σε ένα μοντέλο ο/η εκπαιδευτικός μπορεί να διευκολύνει την ομαδική δραστηριότητα των μαθητών/τριών, σ’ ένα άλλο μοντέλο, ο/η εκπαιδευτικός μπορεί να είναι ο/η προσωπικός/ή σύμβουλος των μαθητών/τριών κ.λπ.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360360" y="231840"/>
            <a:ext cx="8423280" cy="115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04920" y="1600200"/>
            <a:ext cx="85341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σύστημα υποστήριξης περιγράφει τις ειδικότερες ανάγκες ενός μοντέλου, όπως τις ειδικότερες δεξιότητες που χρειάζεται να έχει ο/η εκπαιδευτικός για την εφαρμογή του μοντέλου ή τις ιδιαίτερες τεχνικές ανάγκες που ενδεχομένως απαιτούνται (π.χ. αρκετά διδακτικά υλικά). Για παράδειγμα, ο/η εκπαιδευτικός που διεκπεραιώνει ένα μοντέλο «μη κατευθυνόμενο», απαιτείται να είναι ιδιαίτερα υπομονετικός και υποστηρικτικός,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500040" y="139680"/>
            <a:ext cx="8302680" cy="1981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2047680"/>
            <a:ext cx="8229600" cy="452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αφοράς της γνώση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nsmission of knowledge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overy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οικοδομητικ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structivist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ερεύνηση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quiry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8785440" cy="1347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356760" y="1571760"/>
            <a:ext cx="8481960" cy="495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Θεωρία Μάθησης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Συμπεριφοριστική – Συσσωρευτική διαδικασία μεταβίβασης τη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αθητικός Δέκτης, δεν έχει Αρχικές Ιδέ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Κάτοχος, Φορέας και αυτός που Εγκυροποιεί  τη γνώση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Φάσεις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ξοικείωσης και Προβληματισμού, Εισαγωγής, Εφαρμογής και Αξιολόγησης τ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νώση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ληροφοριακό ή και οργανωτικό επίπεδο – Μνήμης ή \και Επεξηγηματικής Κατανόη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Πείραμα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Επίδειξης - Επιβεβαίωσ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78720" cy="1122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28400" y="1699920"/>
            <a:ext cx="8358120" cy="466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πό τη απλή και «βαρετή» διάλεξη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Ως την εξαιρετική επίδειξη (πειραμάτων, εικόνων, ταινιών, τρισδιάστατων αντικειμένων. ……. ) ή και την αφήγηση σε συνδυασμό με μυθοποίηση για τις μικρές ηλικίε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ε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ετάμ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τίποτε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4T20:18:07Z</dcterms:modified>
  <cp:revision>168</cp:revision>
  <dc:subject/>
  <dc:title>Κρίσιμα Ερωτήματα</dc:title>
</cp:coreProperties>
</file>