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ED419-0A1B-4E0B-BADA-4F504AEA5B3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D76CF-A277-4174-B785-3C0EEEDB3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985680" y="741240"/>
            <a:ext cx="4886640" cy="3665520"/>
          </a:xfrm>
          <a:prstGeom prst="rect">
            <a:avLst/>
          </a:prstGeom>
          <a:ln w="0">
            <a:noFill/>
          </a:ln>
        </p:spPr>
      </p:sp>
      <p:sp>
        <p:nvSpPr>
          <p:cNvPr id="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AF0E7-B6C9-45A9-A7C7-FE7A602EC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C8ADA-53BB-440A-864A-D5BB91C46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4F910-12D6-46F7-BD5F-BA5F4FABD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DD825-F195-43A7-9D3F-2E00DE743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57FF6-203D-4FD9-B36A-E09A0F445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D1E3C-9E65-4D56-9DA0-7DF994A1E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4DF14-D58B-4D41-B57F-4E7463DDD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814FF-1E1A-4A78-BEF4-72E246F55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CAEC4-65B4-4FE5-B3A8-7178075B1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2263B-FD59-4628-876C-0347BD318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985680" y="741240"/>
            <a:ext cx="4886640" cy="3665520"/>
          </a:xfrm>
          <a:prstGeom prst="rect">
            <a:avLst/>
          </a:prstGeom>
          <a:ln w="0">
            <a:noFill/>
          </a:ln>
        </p:spPr>
      </p:sp>
      <p:sp>
        <p:nvSpPr>
          <p:cNvPr id="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51F4A-ACA3-4348-8CC2-B4E47D696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6B54A-8563-4485-96B7-6D7B5E7C5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8C7E2-E173-4370-BE85-468E77EB6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BD7E2-11E2-4E9E-B7F6-0D32D31B4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85680" y="741240"/>
            <a:ext cx="4886640" cy="3665520"/>
          </a:xfrm>
          <a:prstGeom prst="rect">
            <a:avLst/>
          </a:prstGeom>
          <a:ln w="0">
            <a:noFill/>
          </a:ln>
        </p:spPr>
      </p:sp>
      <p:sp>
        <p:nvSpPr>
          <p:cNvPr id="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E790C-25A9-4C7C-BBDF-7F53A90D3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985680" y="741240"/>
            <a:ext cx="4886640" cy="3665520"/>
          </a:xfrm>
          <a:prstGeom prst="rect">
            <a:avLst/>
          </a:prstGeom>
          <a:ln w="0">
            <a:noFill/>
          </a:ln>
        </p:spPr>
      </p:sp>
      <p:sp>
        <p:nvSpPr>
          <p:cNvPr id="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BB0BE-ABD6-4D4A-91DD-021237AB2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85680" y="741240"/>
            <a:ext cx="4886640" cy="3665520"/>
          </a:xfrm>
          <a:prstGeom prst="rect">
            <a:avLst/>
          </a:prstGeom>
          <a:ln w="0">
            <a:noFill/>
          </a:ln>
        </p:spPr>
      </p:sp>
      <p:sp>
        <p:nvSpPr>
          <p:cNvPr id="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CC6D6-0F27-4685-9248-76266E265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985680" y="741240"/>
            <a:ext cx="4886640" cy="3665520"/>
          </a:xfrm>
          <a:prstGeom prst="rect">
            <a:avLst/>
          </a:prstGeom>
          <a:ln w="0">
            <a:noFill/>
          </a:ln>
        </p:spPr>
      </p:sp>
      <p:sp>
        <p:nvSpPr>
          <p:cNvPr id="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9963A-E79B-4990-ACD9-257723A93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985680" y="741240"/>
            <a:ext cx="4886640" cy="3665520"/>
          </a:xfrm>
          <a:prstGeom prst="rect">
            <a:avLst/>
          </a:prstGeom>
          <a:ln w="0">
            <a:noFill/>
          </a:ln>
        </p:spPr>
      </p:sp>
      <p:sp>
        <p:nvSpPr>
          <p:cNvPr id="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C6F80-F74E-453D-8176-2F078322F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985680" y="741240"/>
            <a:ext cx="4886640" cy="3665520"/>
          </a:xfrm>
          <a:prstGeom prst="rect">
            <a:avLst/>
          </a:prstGeom>
          <a:ln w="0">
            <a:noFill/>
          </a:ln>
        </p:spPr>
      </p:sp>
      <p:sp>
        <p:nvSpPr>
          <p:cNvPr id="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B505F-C804-45F7-8288-D0A748233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985680" y="741240"/>
            <a:ext cx="4886640" cy="3665520"/>
          </a:xfrm>
          <a:prstGeom prst="rect">
            <a:avLst/>
          </a:prstGeom>
          <a:ln w="0">
            <a:noFill/>
          </a:ln>
        </p:spPr>
      </p:sp>
      <p:sp>
        <p:nvSpPr>
          <p:cNvPr id="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8C194-54EA-41D3-8D84-4B2A2D690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FB8EFA-B96F-4818-B606-D6C96B8425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4CA70D2-3105-49F1-8CBD-8EA71367DE0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30C4007-035C-4EA6-BB04-795E09CE65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9F195A88-D0D7-47FB-BFEB-021A75316E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91E8FAC-5575-4720-8285-0EED2A5F05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4D72E45-5905-441D-A44D-AE003C0632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7DD87A1-6B13-4DFD-A640-4578193C54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F629F6D-65C7-4627-B394-79D9DDFEBE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1BB7F6D0-B6C8-4246-B954-C18DC8597C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A060D58-25BE-4712-B241-C8CAF60173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65AB08-F384-4F8D-954D-67B788ECD5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D2B99C8-5FDE-4FF4-8527-4A9A349DFB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2E73AB0-2082-4092-BEF6-3EA677EEC9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A5EBBD6-9483-447F-99E6-4A3A6FAB5E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938B67B-2D31-4C14-B610-8C83243928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8F3F9275-E21A-49F9-BA27-26FA0C6949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54959BFE-68DC-4B79-B6F9-0F0BD94318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2DB7D04-E836-4457-A83F-BD686FA2CED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3B711BD-76FD-4D25-98E4-4EF731046B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C70769A-278D-4CC3-83AC-D701003317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F255DEF-20E7-481A-838A-2CECFA3701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98DAEBE-F579-49D2-AC3A-612122EAEE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45930FD-8A42-4002-A0AA-85A0C13AA7F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E8AD930-B808-4C16-9A9A-1705C33199E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2FDC5AF-0D68-45F6-A1E9-83573C244D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061DBFB-114F-4E1B-9709-2CB50174390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8446381-EE50-4FB3-8B6B-86D694D1A2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224D56C-5B15-4F8A-A607-C86BA33937B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B75A725-C4A7-45CE-AA58-C785A916C1F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9D36CD8-BE6C-4FEA-B9E9-95C8FB36245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C7DA354-BC36-4CA9-A7D8-02D0D858B0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19637F6-E284-4381-9DE0-125B015774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83B52C0-6E2D-4E85-B6DA-F8692D0E72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7DDCD9-ECB3-4A1D-AD04-515FE81B7E4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184C552-1233-44F2-8513-87B8B6F74D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8075CB3-14E3-4194-9DE6-CF08648396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63CBAD7-A06C-45E4-AD5E-5E66CE61FF4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688F7A-5BFA-4E1B-BD2F-00749D926C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7E70440-9104-4D09-9727-F1FA1A2030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972E4BA-F980-45FA-BEA0-429FB2C58B6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1F461A8-25AC-481A-B67C-3C06D7F0ADA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CECB05B-6CD9-4238-B9B1-3F889ADF42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9EA0FB1-424B-4AA0-A21A-CC9338CE0D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9B22100-F429-4B42-99FD-3E82332342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21A2C09-DA28-4BCE-AC7B-4A130B600FA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AC6EDAF-F7A9-487F-82DA-B36FB4F85A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8120677-E8FA-4F88-93FD-5901D273ED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9248A55-3857-4566-A55D-1BD22717749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7B6FA0D-7C42-4EA5-906F-342ABFEF763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8EBB1548-53C7-415A-9C93-759D2E965B7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5EBE9A9-19E7-46FD-ACEE-BEA00ADA46B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B62AC41-E1D0-49EF-B5AC-54B159355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8A12872-DBD0-434A-A331-EA1981FCF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B1AC22E-C25E-4704-B6E1-71D37B86D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E325100-DEA7-469C-B445-CC31D55C29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7A3043-C5E4-4EC7-BB38-3464C80430F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354AA0C-1CE7-4A32-A1B9-90E64AEBF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FAD37FC-1642-461F-9421-61ACC14BB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65E9281-930E-4B24-9416-2AD7796FA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3166137-74FB-4D9A-92DC-C1FD50725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9B73B68-E0A2-411C-ABF5-B3C46954D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5434CCF4-0EA2-4EDE-B496-4242BED4A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AC84E18-0E8E-427F-92BB-711AD6641E9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69B4E3F-F960-4336-8782-7FD6AD4A2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5B38F2E-D1F0-42F2-BEA9-D0785B4AED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20F5CE1-ED68-433F-8B8E-2921D8A176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639C1A-241E-424B-962B-4CB0012C1F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5461E60-1041-406D-9E7E-E9DB6074F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F46DBBC-F4A0-4EB9-94CE-68AE4D8756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84D4FDE-8221-4049-9A28-4E8D639213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790FC3E-2914-4979-B1AF-395A22E70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F77DB3E-E18B-4FEA-AA85-C7AD33D528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830489B-C16E-4B92-B748-413D2C820F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F8FE2C-0D2A-4342-A518-D115419E87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1F61DA-3E3C-45E0-8E2F-8C7EC2EF95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556781-91D0-426E-A952-C6DBEE30F9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7582FB2-4843-47BA-BA63-D6A50BA591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97B430-77D4-4422-B779-A27A48BCE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139D87-8F9D-4F64-BFB8-0B33CD69CB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20A7CDF-5451-42DA-A5C2-0ADB48F331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7790C82-15F3-41B9-9408-3217B43C9C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05D7A10-5BDF-4216-8CB0-222A05E52B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3B72518-AEFD-4107-93BC-EE5303B16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AEA2F23-034F-4833-A389-876F56D038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E50AA05-3DBE-47C7-9B72-70892E1182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CBB4DC5-BF48-4095-A22C-E0B8AC1655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8FD06B-FE3B-4A40-A5AD-4E3D990D223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DE9B8A5-999D-4D50-8DF7-1B85E50E70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24A2019-42F8-4A46-AD29-D56BD3118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370125-81A0-42E2-A4FA-4634907779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85ECD52-E0C8-4572-8C48-5BDBF6D1DF1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87016AC-AF2C-4DCF-8A0F-DD287A91A6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ED31F57-4BE3-4BCB-8D55-CB3212D37DA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CDA3080-0536-4C91-8CBE-9C0A7A9FE95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B1ED0D5-0603-45F8-A792-B81E0B0F6D3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67B5294-0CBA-424C-89A8-2BF6FC3AC6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4A3C091-D4D7-4573-8CFD-406CAE427A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BAE04C2-FECD-4574-BE56-D81399C5B85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1497C6B-D4C7-4B8E-AC48-B6B261142C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D0F276-CA0F-4B79-9A2B-A13ACF2A5E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CEB6EE1-8789-4B07-8E25-9106A8BC1D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F41EC6E-0981-410C-9844-71AECCE1781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6BEEDE7-001D-46E8-B9A4-C843D55782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EFACC66-3172-450C-90AA-63E498618B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EBF739A-B28F-4C43-B8F9-34B17ABCEDE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3080897-727C-4112-AFE5-695DAD77321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65B81CC-8962-411B-86F5-DDE4E0DDDE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80807EC-A41F-4140-9030-C1464FDAE5F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88FBE20-F704-40F9-937D-74CD783755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CFAE941-9978-4E73-8DF7-2030D1F4FC7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F7AF962-1EB0-4A29-978D-ADA40DFAAD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BE5BC83-67BA-4C94-B008-ABF4BCF16F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647713A-5791-4CD3-ABE0-2D497D2CBEE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4B2B71-5398-440F-9646-E96965D961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015BDF8-5CFE-4936-97BC-4F896AEEB0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7582879-23CC-4004-9F1B-0E5068BA15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8C14730-2517-4E2F-89D6-809AD01231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CC6118C-8BA5-4C12-91A0-D9748BD681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1655ACD-8926-4B7D-9159-A234745F76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457583B-040B-48DA-8900-F7B8C07CFA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A0D2EC0-3A74-404A-A536-AB8118C053B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8601E6-32DD-4D5E-AEE8-4B40197AFC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B72C32E-B7CC-49A7-9D3F-E641B98FED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F86D453-8D59-4D7C-8DBD-18C230E898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29B7A10-59AD-4A91-9CA3-A6F5E75A22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9FFCD470-73CB-4180-A9F0-323792FC3E2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538D0C2-70D5-4689-A35D-907309A764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F1BBEB9-E584-43BF-B14A-30788C5E244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765C58D-FF25-4DF0-904F-C39273FB843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4FECA8C-F4AD-4434-B938-D0845E45F2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94E50CA-59E9-4C51-9AA1-8398B1B69C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B8854E6-0C15-416A-98F0-E2F2CC7AD3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D461220-A668-4058-BB25-C70B354DB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8467D6C-6F8E-4A3F-99C9-08B3BBFF8C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E558BB6-9F21-4021-88F7-B1FDD21912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F1B40A1-33F5-4A43-958A-A81F4CC7B8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892B1CD-503B-4162-A859-5794825187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87C8C71D-4B50-4AAA-AC13-787E1A3E533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01DE372-98E8-4B4C-8F83-6BB3ED4433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E7A4C79-2BB6-4754-882E-075DA8D998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C936CB7-505A-42BB-B847-A64EAAC9D9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452002A-32BF-4FB5-8FCB-CE7EE55B52F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A9D4734-AB38-4A2E-A2B0-F83556659E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3FCF9DD-3ED3-4467-8F42-ED4524370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705EECE-9E4B-40FC-AAFF-6D391816E3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61C10F1-51FA-47DE-B5BE-DE78451D80F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08687F3-BCEF-411D-9E27-D27BB56243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876A5F9-0D84-4544-88F1-7E0269B9C7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8AB535A-5536-45C8-9A3D-851B28EF64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B89DCC0-9374-4303-9603-ABDB1FA713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86796FC-9D50-46EC-8AE7-1CFC4AADB38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843311FB-0A17-4EDD-81A1-E4062B7536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67EBAA-107D-4C52-BAF7-ED8113DFA7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9B9ACA1-5C10-4E11-AA98-118F5EBD2D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D160F85-312C-469F-91EC-F16762BB2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34A1A-9CB4-4EAD-8627-CCCFE9C4C4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C1DAF-CAC9-4F43-8912-AAD03FBBE9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EB11C-41FD-43F3-B971-BC50816F4E2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BDC4A-978A-44B9-BF6F-5C1CCBC89F6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856C9-3C2B-4555-813A-90E5B9F4E7A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89A84-C07F-499E-A04E-1E898DDD4B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62B16-63E6-424C-A0F9-428FFB36E8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50F88-C239-435A-A8A6-BD9DE731EF8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CC63C-623E-4629-8F12-D0CE22ED7A3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DF749-5FB5-4ED2-91D2-DBD8634C3C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E595B-7B5A-482F-AD72-3440E98122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5D045-309C-4F84-AE35-1CE6BD5656D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DF99F-2CA6-4D64-B071-B6B4F3FEA6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981000"/>
            <a:ext cx="820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57120" y="1268280"/>
            <a:ext cx="8429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39" name="" descr=""/>
          <p:cNvPicPr/>
          <p:nvPr/>
        </p:nvPicPr>
        <p:blipFill>
          <a:blip r:embed="rId1"/>
          <a:stretch/>
        </p:blipFill>
        <p:spPr>
          <a:xfrm>
            <a:off x="0" y="0"/>
            <a:ext cx="9144000" cy="1368360"/>
          </a:xfrm>
          <a:prstGeom prst="rect">
            <a:avLst/>
          </a:prstGeom>
          <a:ln w="0">
            <a:noFill/>
          </a:ln>
        </p:spPr>
      </p:pic>
      <p:pic>
        <p:nvPicPr>
          <p:cNvPr id="740" name="" descr=""/>
          <p:cNvPicPr/>
          <p:nvPr/>
        </p:nvPicPr>
        <p:blipFill>
          <a:blip r:embed="rId2"/>
          <a:stretch/>
        </p:blipFill>
        <p:spPr>
          <a:xfrm>
            <a:off x="1258920" y="2060640"/>
            <a:ext cx="1297080" cy="1528560"/>
          </a:xfrm>
          <a:prstGeom prst="rect">
            <a:avLst/>
          </a:prstGeom>
          <a:ln w="0">
            <a:noFill/>
          </a:ln>
        </p:spPr>
      </p:pic>
      <p:pic>
        <p:nvPicPr>
          <p:cNvPr id="741" name="" descr=""/>
          <p:cNvPicPr/>
          <p:nvPr/>
        </p:nvPicPr>
        <p:blipFill>
          <a:blip r:embed="rId3"/>
          <a:stretch/>
        </p:blipFill>
        <p:spPr>
          <a:xfrm>
            <a:off x="6948360" y="1989000"/>
            <a:ext cx="1444680" cy="1573200"/>
          </a:xfrm>
          <a:prstGeom prst="rect">
            <a:avLst/>
          </a:prstGeom>
          <a:ln w="0">
            <a:noFill/>
          </a:ln>
        </p:spPr>
      </p:pic>
      <p:sp>
        <p:nvSpPr>
          <p:cNvPr id="7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9" name=""/>
          <p:cNvGrpSpPr/>
          <p:nvPr/>
        </p:nvGrpSpPr>
        <p:grpSpPr>
          <a:xfrm>
            <a:off x="0" y="306360"/>
            <a:ext cx="9140760" cy="6548400"/>
            <a:chOff x="0" y="306360"/>
            <a:chExt cx="9140760" cy="6548400"/>
          </a:xfrm>
        </p:grpSpPr>
        <p:grpSp>
          <p:nvGrpSpPr>
            <p:cNvPr id="560" name=""/>
            <p:cNvGrpSpPr/>
            <p:nvPr/>
          </p:nvGrpSpPr>
          <p:grpSpPr>
            <a:xfrm>
              <a:off x="0" y="306360"/>
              <a:ext cx="9140760" cy="6548400"/>
              <a:chOff x="0" y="306360"/>
              <a:chExt cx="9140760" cy="6548400"/>
            </a:xfrm>
          </p:grpSpPr>
          <p:sp>
            <p:nvSpPr>
              <p:cNvPr id="561"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268280"/>
            <a:ext cx="874872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8" name=""/>
          <p:cNvGrpSpPr/>
          <p:nvPr/>
        </p:nvGrpSpPr>
        <p:grpSpPr>
          <a:xfrm>
            <a:off x="0" y="306360"/>
            <a:ext cx="9140760" cy="6548400"/>
            <a:chOff x="0" y="306360"/>
            <a:chExt cx="9140760" cy="6548400"/>
          </a:xfrm>
        </p:grpSpPr>
        <p:grpSp>
          <p:nvGrpSpPr>
            <p:cNvPr id="569" name=""/>
            <p:cNvGrpSpPr/>
            <p:nvPr/>
          </p:nvGrpSpPr>
          <p:grpSpPr>
            <a:xfrm>
              <a:off x="0" y="306360"/>
              <a:ext cx="9140760" cy="6548400"/>
              <a:chOff x="0" y="306360"/>
              <a:chExt cx="9140760" cy="6548400"/>
            </a:xfrm>
          </p:grpSpPr>
          <p:sp>
            <p:nvSpPr>
              <p:cNvPr id="570" name=""/>
              <p:cNvSpPr/>
              <p:nvPr/>
            </p:nvSpPr>
            <p:spPr>
              <a:xfrm>
                <a:off x="179280" y="30636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37800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613872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30636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684360" y="1989000"/>
            <a:ext cx="8204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51Z</dcterms:modified>
  <cp:revision>154</cp:revision>
  <dc:subject/>
  <dc:title>Παρουσίαση του PowerPoint</dc:title>
</cp:coreProperties>
</file>