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E1A80C-38D0-43A3-BABD-F8A09F806BB9}"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9CBF8-F80D-4C97-8FF0-CF848D824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3C095-D05A-4D52-BDC8-981217407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0D796-F489-48EA-BAAA-90EDB6481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215D7-7498-4414-8E07-1CD4EDD0E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9245D-5647-408C-BC75-AF79B0905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ED409-038A-49AC-B008-1690297D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6E688-1619-4A88-B85C-6D55C9AAC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440C4-59B3-404F-8A8A-C39C827F2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0F7BD-BE28-43E0-8DF5-B12C64ACD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402EA-F511-482E-8D16-A01FD606B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E4BFE-112C-4A34-A56D-F4F8F88D3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60C16-6300-453A-A629-B31BE003A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1771B-2360-434C-98C5-A35AA878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30BE1-2F80-4D4C-86BB-5D6067691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D4E54-106B-4B22-A0E4-C530CF6A5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9726B-9FEF-4900-BF47-2AC375618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32D80-D686-4DB4-A8A5-F105BB512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EBB95-666C-43E5-88FD-0F0F2F0E8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6B93B-AEC8-4C49-8538-B3F81B98B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9DFDD-1C7F-428A-A479-4CB85DEED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280B9-7D06-49CE-BCC3-7F8D74047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EC677-A1A3-4A34-8671-F84BFD08D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43AA1-5348-495B-8DC8-544FD01FA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3291B-1FF8-4547-8D5F-667029306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15135-12F6-4892-8505-B92D84CB0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3745F-565F-4ACF-9DA4-DC3BE0921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F0961C-3F8E-4527-8256-A2B7E4E6D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884AF-FCA2-4C40-9FD3-D766429AF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F870A-20A4-47C6-8F01-F0D75D5FD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01189-B00A-4120-8E46-E5A1504AA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B09D3-B780-4FF7-90A2-B7CC0F01E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9D769-3843-4368-95B5-1F525417B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C8F67-14F5-4270-A4CE-947E50842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4586C-E068-4A28-8877-5AACC4A97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D48B3-598A-425D-8E09-D3C36CB3F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3B3DB-AF07-410D-9BD6-70C7EB13D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EC00B-7FA7-4926-B040-014DA0F38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802C5-FA35-48A4-8BE7-628EE123F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1BB0E-B080-4370-B049-DD669FD35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3CAFE-D714-44B9-900B-F22862C96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F6254-2320-4FFD-966F-7D9FBE996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11DAC-7D6F-4F7B-B333-D878B366C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D3C71-9F00-49CE-A217-088730F79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C4E67-349C-4593-BCC9-707A0D934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1573A-C730-4BBA-B3E5-D6E0E619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57AF9-2DE9-4BCA-950B-D4E32CAF4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C432A-699E-4029-AB56-89D7C4B31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80DE7-D3C7-422D-8BED-D5D158BB9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4D75D-D08A-4AAF-BD1D-FE29A9814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60D48-6E82-47BC-809C-E18536490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16EA8-3D9A-4C06-B837-BB18978CE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18162-3C25-4E9B-8105-494001EC6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3D0DE-6EFA-4284-8E77-2A8AC83EE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61861-5BB7-405E-B647-71E4A30A4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78C5D-92AA-42EF-9113-0545885E0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D57ED-C47B-4EE4-88F4-3D444CA02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C1551-7F51-419B-A0A7-6D2FD67D4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A5C6D-0D8F-4805-B74C-744F772DE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DB486-F149-4CBA-BB14-3464D8363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FA68E-1CB9-42CB-88CB-4290E70E3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E8C676-B818-4A56-A283-9BBA43BBB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E620C-EFF5-4392-9D15-A27FFB2B5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7EDC3-3F11-43E5-8A3A-CCC9F3E59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21EAF-676E-4CFD-9EF7-B568F8E57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DCB8A-60EA-4E41-97BE-1804586AC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FAC34-3F65-4A79-8179-921A5E15A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B2622-2C3B-44F0-9753-175748508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E6B88-4EB2-4741-A5AE-0015B0159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3C2B3-85EE-4401-B12C-12B8EB3F51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D8F468-1727-473E-9980-5CF13F06C5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83DC557-E7A1-431B-ACAB-8050DD7187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DB09A29-7A85-4098-9286-7BD9F44DF5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16CF58A-99C3-448F-86CD-580080B18E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C6FCC15-B7F5-484E-A3AF-D16252C557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40D5DFE-3663-45F4-99FA-EE37958D9A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4F0BC34-14B2-4D7E-9027-C0D52E576C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04324D1-4C59-447C-B6D2-EE9D44C091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E3BCC48-22BC-48AB-8DCB-61DFB82FB9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F4D7220-9F0C-47E9-8ED8-A61B0FABC2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0E1003-DA9C-4E2E-ADBB-397FD178B7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9425712-17AF-4344-AAEF-5F5904B404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A720521-BC2E-45CD-8892-2B3A771164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73B2744-8E79-43DA-9966-E1B9C2AB519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CAADF14-6289-49AC-86ED-844D44876C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BC03C31-1C19-4A1F-AB72-5E48B10AD6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9E58B2DF-093F-4C45-94F7-7E1ECDFBD65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67DEFF0-22A2-4FE3-80D3-8DDBECED94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099A2B7-65B8-4060-83F9-50CDD52CD48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4D70C96-6DD6-4B07-95AD-54DFF3FF13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6A82576-2325-4879-9401-A3D89B37B8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E947121-E727-4FC1-B166-5B43924B6B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2AFB0B8-F5E3-4909-8432-4B85183E15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7426877-2A5C-4788-AC6B-025E5BDDFC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F7333BE-71CF-4EC5-AD46-2E41277314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3BCE21F-13B3-4E24-ADEA-0A94475973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293C04A-26EE-4C94-AEE7-07DFD0442E0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6DB3100-1953-44AE-AD89-92DB27D4F9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BCC045A5-0F57-4449-9DD1-35292B4A10C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020D1B8-CB8B-481D-9693-5CD742BC43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8D7F032-6B35-49F0-AE84-628BCD16F54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52BDC2B-D406-4F2C-898C-0DA916007F3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AA928C6-96CD-4362-8CED-FBB39CD922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2D6368-7C29-4109-AC98-115FC25DD1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D8F51A0-5C24-431A-BD03-26F368A13A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C327093E-FA75-4DC2-BA5C-D19CDECA07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7986688-6395-4F9C-8EE7-1AC4D83FC1B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9BA8C5C-08F0-47D3-9BA3-64380AD165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9F7A0B4-D8DA-43C1-92BA-F58E14E591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C4062F5-EBC7-444E-8F4A-DB08F2B8D87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3E7FEB3-4D0E-4D85-BD94-AB2E8419FA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F89ABC0-470E-4E27-900D-915BDE78C28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853818C-256D-4B7E-B436-C61EC1E2CC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E5A7DFE-198A-4273-9603-0BBCB6F7E2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D98835-A492-4652-A76E-92E52C10FF1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C812C34-119D-4B43-9FF2-98A25CD6EA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BC85281-778C-4F11-8092-ED8B08A6E9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4735F3E-F322-421F-8F5B-DC9A707CDA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45A11AD1-67C0-420D-9535-342F5AB0AD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BAFA7371-495C-4C90-95DD-D723929B117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A6DFFDB-38A7-4E97-851B-2DD59DAE684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639FE94-362D-4734-A6F3-684EFEE53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107B23A-B981-44AA-AA58-B9A98AC6F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B36822A-0E99-43A8-9CC0-1CC2D37B8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0A670CE4-114E-4E38-AA2A-AE49F623DB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91AC70F-159F-4667-A0F0-5432DA29802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4D52117-A68E-48D4-9A6B-6C67BA897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C61D5BB-3C44-4911-8B56-DEE997510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E79439E-4103-4E10-B255-5B600F22C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DD60F0CD-0D63-41AA-AF38-786D32ABE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90EAA939-8E81-407B-8910-A8178573A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24FEB4C-56F1-4C41-B5BE-D19D315DF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ED2B83F-54B7-4345-85C1-6ACAD9FD753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9A1287-7B9F-45CC-86BA-53A803AD39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9A388DF-CA8F-4B9C-91F2-D17794241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882A3E4-ADBC-46BC-865F-CE1211DA85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4BCB318-7C45-46F6-B127-7DA81F5FC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10AF959-F045-4BA4-A615-309ECFC62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780345-6BB1-4116-9DCF-FDEA437DAD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3CFF2D1-3A81-49F4-90FF-F794387E5B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86787EE-14A6-4634-A2F2-A4481A0F8D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5B2D27C-1CE2-42C8-82FB-22F22DD84B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300413F-89A2-44E6-9A8A-7A67B65682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2160E0-D582-4E1A-B741-AF23150BF0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2EBEB0-619B-4F1F-AD45-DB2C50E9E0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9A172F-7B59-459D-ADD7-C6FFE0EEB0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393EC2F-4958-496D-949D-17997FD32B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2E6C49-7938-486A-BF4B-CDC53EF718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ED1BDB7-6315-4FB9-B845-6222B094ED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0D9F385-F2E7-49FB-92B6-A60C7218A9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128F6E4-E07F-4AED-A9E0-7BFA6920B4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8D63E2F-FE41-40D0-A55F-96D006EB55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83BFDC5-F189-4E80-9118-8760DC1C2A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50D4A3F-A0C3-44D6-A8BC-AF268D9E67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78BDBAD-D953-4321-B67B-A214C77AE3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2E9C193-39E3-45DC-9137-91A4DE8085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671B01-A0C0-417A-8B8A-7020EBE9FE2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3ABF0E5-F82C-4E33-955A-DAD11AE06CE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2E3DC4C-0D3D-4ECB-B101-21ACF7308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EE4189E-73C3-4411-83F0-A0D8E8DD8F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E5FA44C-D45F-48C7-A654-F8F1678303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665B25F-C913-4A55-9687-F680064A51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71DC6BE-722F-4A71-A608-2408EBED43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309CB37-AC19-4F7F-B7DF-6866C34AA2E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CED2F39-77CE-4906-9E59-547E1A380C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AFF1031-9944-4258-8674-233154D661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6A77147-60FE-4396-A32D-737DC7C95F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91C176D-F63D-4EAD-88CB-19BFE850B3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593B75F-96CA-4EBF-9994-63787D733E8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2048C2-0CBD-4C16-BE61-73A2B336A4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D7B557C-9B94-4881-9A8A-ED5B9F65FE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428F440-55FC-41ED-A498-4ED3E49D979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1371082-A72A-4BE3-9AC6-D25E5FEB6B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06C593B-51D6-4F7D-BE96-EE89347CD0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454BFAE-1E68-4214-BEDC-7135D8FD75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3ABEC7D-C821-4CC3-A6B5-BFB5F3A6A82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096B1FF-D101-4033-9764-B1D0DBC19C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C0C09F6-DF5B-4EDA-BE1A-03728CE0AF7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1C8E44E-9476-48F3-99FD-3259DAB001E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E6E5109-E17A-4083-9D56-48008A6A54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159DF31-D0EB-479A-9326-5AE0FBFBDD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64FB15E-D236-4C92-8946-923EC2C0D3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88190F78-6643-4F4A-A298-230476AD269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C218BE-DE3D-400C-A2B3-5269E2D73E7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459D123-74A4-4D7B-ADB8-1CD8DFE97E1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3797989-0AA2-4013-BE68-3CD8980B64C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9234C83-EC2D-4D2E-8A1D-8B426A8EAF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5B31BC1-4428-4217-9D94-3D36517F09E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FB563EB-7808-4517-A0B3-AF1AFF4A82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0699932-CDB1-41ED-9690-B1345934401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16D12FC-B17A-447C-B005-7FA679FAD8A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D8A0E4B-3491-4772-A77A-BFDF1C514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646A75-A33B-44BF-9410-3B91C2F431F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2089AC8-DADA-4F05-8FB3-F4E3A20806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F8F3EFB-43A6-4317-8460-866C185EB6B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26156926-A119-40B9-A7E1-2AA05E54AF6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4914303-BF02-496D-B716-9D0B191E940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A8939B3-AC84-4CF8-9FD2-52250039E80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F93AC72-9629-453A-BD6E-08FF12BB913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D5D64E0-730B-4EF7-8FB7-B2B37C429A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D78F7E8-3186-4485-8446-35ED4C4967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00C85F2-F2AD-4B0A-ABB4-FEDB85665B2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9B425D5-F121-4429-A986-65FB0D2E4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BE9A50F-44CE-40F8-9592-05A3C7310D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55AD1CF-11FC-48B4-B9F0-803EA62F5E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0A4C654-FC26-47EB-B5A7-F11932A62D8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E334B3A-B72A-4201-B18F-836A1D29C26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781E6D3-29B5-4BE1-B6F9-C4F93D5D10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2CDE1A1-1C7C-4C59-B746-524B58EBBF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2439B79-5AFF-4244-A555-6EFA52CCE1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D4153CA-BC99-44CC-903E-4B71AC7799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7B449F7-D88C-4624-AA60-B4A10976AC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9BC8AB5-A8C7-49BA-9C49-EC55E5DD22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3518B87-6B8B-43F4-90FA-E33DE7EE7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552ACF7-50A1-405B-AD89-4CBD18508A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D610E4EB-7C1B-4AF5-ACB9-309AD08F54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8E36471-5EBE-44E4-AE08-F806AC6AC9F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EF660C7-D99C-4334-886C-4793CA9CA3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7419C81-DCC2-40C7-AEBA-FC9A0BCAB3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4819AA9-B0E0-4899-BC89-86CD9AC9A5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658106DB-E330-4A95-B9DC-B88A3BC2E4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0A22051-5CA6-4828-BD80-2A4F8657F8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83A2D32-DEC6-4DDE-9D8B-D50C3AD9AA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6A5CFEC-7738-41D9-8AA4-F7C671A562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A547B9F-6022-41E7-B84C-F48F28C22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7DB05-B49D-4756-A0BC-51E3B56F796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64908-8066-4B9E-86B4-7102328535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30733-B9F6-4CEC-AF5F-4D216BAEF5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E666B-1582-4F5A-8686-253A22E0CD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2F862-341F-4E87-8557-D62A826DB96A}"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BA9A3-DD32-4E7F-A0EE-A1C8E644EB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30A45-87CA-4B88-81A9-796204A5FA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7B6FC-9CB8-44FB-9BEE-0099A562CE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98BBC-8790-4A31-8AB0-EB6953C0AE4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40872-2E17-4DBD-B241-6B03560468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C09B3-78F3-41BD-8030-E535739C7F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F6FB8-5AD1-4468-8DBE-C94C665D670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E2803-5867-4FFA-A95F-8121BD7B62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981000"/>
            <a:ext cx="8208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125360"/>
            <a:ext cx="7812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26920" y="1125360"/>
            <a:ext cx="799308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981000"/>
            <a:ext cx="8642160" cy="4680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81080" y="1392120"/>
            <a:ext cx="8783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250920" y="1052640"/>
            <a:ext cx="8640720" cy="4659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611280" y="1989000"/>
            <a:ext cx="827712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62" name="" descr=""/>
          <p:cNvPicPr/>
          <p:nvPr/>
        </p:nvPicPr>
        <p:blipFill>
          <a:blip r:embed="rId1"/>
          <a:stretch/>
        </p:blipFill>
        <p:spPr>
          <a:xfrm>
            <a:off x="0" y="0"/>
            <a:ext cx="9144000" cy="1368360"/>
          </a:xfrm>
          <a:prstGeom prst="rect">
            <a:avLst/>
          </a:prstGeom>
          <a:ln w="0">
            <a:noFill/>
          </a:ln>
        </p:spPr>
      </p:pic>
      <p:pic>
        <p:nvPicPr>
          <p:cNvPr id="1163" name="" descr=""/>
          <p:cNvPicPr/>
          <p:nvPr/>
        </p:nvPicPr>
        <p:blipFill>
          <a:blip r:embed="rId2"/>
          <a:stretch/>
        </p:blipFill>
        <p:spPr>
          <a:xfrm>
            <a:off x="1258920" y="2060640"/>
            <a:ext cx="1297080" cy="1528560"/>
          </a:xfrm>
          <a:prstGeom prst="rect">
            <a:avLst/>
          </a:prstGeom>
          <a:ln w="0">
            <a:noFill/>
          </a:ln>
        </p:spPr>
      </p:pic>
      <p:pic>
        <p:nvPicPr>
          <p:cNvPr id="1164" name="" descr=""/>
          <p:cNvPicPr/>
          <p:nvPr/>
        </p:nvPicPr>
        <p:blipFill>
          <a:blip r:embed="rId3"/>
          <a:stretch/>
        </p:blipFill>
        <p:spPr>
          <a:xfrm>
            <a:off x="6948360" y="1989000"/>
            <a:ext cx="1444680" cy="1573200"/>
          </a:xfrm>
          <a:prstGeom prst="rect">
            <a:avLst/>
          </a:prstGeom>
          <a:ln w="0">
            <a:noFill/>
          </a:ln>
        </p:spPr>
      </p:pic>
      <p:sp>
        <p:nvSpPr>
          <p:cNvPr id="116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6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20:01Z</dcterms:modified>
  <cp:revision>175</cp:revision>
  <dc:subject/>
  <dc:title>Παρουσίαση του PowerPoint</dc:title>
</cp:coreProperties>
</file>