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DFE39-7DFF-4668-BB62-E0C07CD478C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C8AA5-AB82-4D1C-A367-219EB48F8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E1A46-0BCE-470A-B11D-24C05AB67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251BC-28E0-40DE-8719-B26261DDC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BF51A-B063-4608-955F-7FE962225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42001-84FB-48FF-9F34-1F677024E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83A85-738C-45A3-8662-3648C1B4C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6CF31-7566-48BA-B2D2-D596C08DA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00C6C-AD36-4DAE-88EC-8D354737B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8E96B-8E78-4469-A9F4-D27B8335D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9052F-1F35-42E5-8AE2-02493EB3E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6EA61-DEAD-4CAD-B2B0-89556B3CD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8D087-7B27-47A7-9A3F-5BE06806C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83280-9EF8-47A0-B1A7-F5BA72D16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D419C-857C-4868-BA99-EFF7DC46E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A4CF6-BBD8-463D-B521-DFF90A034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EF7C7-BAD4-4A1B-9CEA-2030F454D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5FE38-054F-4B2C-87E8-2597B9474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97F83-5398-4E69-811F-FEBFC5D26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5927C-6D05-4F02-982C-A3B0226B9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A2214-3585-46D3-84F0-F7FC6F6F7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52D28-DB15-48E8-8302-95AA8F605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2BA5F-89DA-4791-B232-B28875000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E2E38-C133-44BB-876B-368A01FAC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67FE4-34BF-4459-80CF-9AF36CB5F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D7FDB-8553-4B1C-B11A-8CE063AB2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0DC1F-CEB6-4004-A2BD-0AC04254D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3F598-F07B-40A6-B361-D739798AC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CCAD2D-B917-4F8F-A4BC-08492FE8E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05D4A-2819-4D77-BA0B-75E25FCF8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74A51DD-B114-4B93-AB1F-0CCA42A399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64D8BFC-E93F-404F-B49B-A9E05C1577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73C07CD4-5EFD-435C-A1EE-01E76624DD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4331171-E863-45D7-8B4C-F8B16BAD4E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9D2C8A7-FF38-4DC9-902B-D8CE52F6D9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592BC9B-5242-40C0-A230-11B77F9202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0FC7513-107B-4EBC-8DEC-52CA935C81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798D6F5-0D6D-4ED4-A901-E0B435CB24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075510E-98AF-41FC-9BD2-23BE7E50EE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F37AA81-30C5-42EF-9F30-7F973C24AC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03E4925-F800-4A57-B02E-4647BABF1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48E0401-E337-41A4-92B4-0CDBE49666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46A6CE5-C094-4ED8-B595-A3D78DF511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4C42114-A563-456C-8939-5838D461903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1E691D9-F457-4ED8-921F-452A45E6B28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9BA376BB-FAA5-4124-A2F9-9A9DA57AFF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4C22491B-5A89-4C42-B18C-B854AFE020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AE831D3-F3E8-4C02-B750-E3B3CCB0C4B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39A58CB-C33A-4CDD-9AE2-605CC5506F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BA5C38A-950B-4B5A-8D96-E83CE25576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239E2BF-63DD-4B82-B255-FD3E014291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4BCCF4F-5F27-4401-87AE-A50AB65586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F4724E3-5A2B-4A92-A3EB-10F7F9C0A6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64093AE-3675-45A4-9451-A1200E3A27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18C423A-9577-4CEF-8EF5-33547ED11F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AA552D6-BEBC-45E5-B548-52F5AA69B1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DE58895-8B11-43CE-89BA-6F45045BE2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C4BF9D6-96BC-49AE-B48B-4A1AD4A3F5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D6A198D-7769-4601-AD20-1E03C8AC18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4E712219-F958-4BFC-BD1B-B17AEE060C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E48217A-80B1-4346-9E02-15A9F2C412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DB2988F-1FF7-4C05-BAD5-77500CFA0F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773212E-ABFB-4E3E-BFB9-6002F1921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7CD440-9FE3-49BA-8146-B46391CA7BA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A366E8C-34FE-48D9-AA08-EA1669F8C0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1644786-B5DC-4F58-93A8-7939E04E12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4387AC7-B295-421C-A940-FBDE30C63E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7525827-C0A0-4C09-81FF-61B845D0C6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7A69EDD-9F30-481C-B631-3BF71E2B57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4586F95-8B27-49B4-8EBC-B9A153D90C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1D93A8B-5AE5-4A05-BBEF-B85E401D68E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8B21069-9F3A-4094-95C6-6390AB561F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965608D-491B-403A-894A-B51011072C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C98B938-4B4D-4F49-B5DA-13857EE813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523014-3D1A-45D3-9CBF-18E91C18C7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427A51B-480E-40CB-8C1A-BC55B48060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98D7107-A235-4E43-988A-660A52648D9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CF02D0B-1A95-4A07-B246-C1D46A8BA4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27C5D86B-0F45-4179-9F57-1B7320807C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CA64512-86C6-4D48-9746-97D674A3E20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F7E96DD-CEDA-4A05-90AA-B6A4D79CE0B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B056E7B-8AC3-4967-AEE3-47348122C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C0799EF-C34F-4F36-8640-A61BF6A90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B6B6D75-022C-4CB8-8B3D-18314A42B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77EBBB1E-BB18-431D-BC65-AC4BBD72D3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0D5045-A62E-404E-B4A0-7245284CBDE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26AF4B3-921E-41D3-BDF5-E2D092F18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773FF1C-27FF-4FB1-91AB-D3849F0E5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D6E7A3C-1EA6-444F-8824-80D3863CC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B7DE1D1-D16B-403A-B730-CD0E26584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608F425-E3AF-49D5-B064-08AC523252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66FC7D8-96C6-4D44-BFD9-2BB5D41B9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F25F327-BA05-4AA1-82E6-F0FCC054DB3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085F064-9A10-4390-B940-E398DCB358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F771425-ED31-472E-ABFF-FDAB4ED03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4B8B871-04ED-429E-8330-62E43A88FE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C53906A-BA10-4845-BE29-E46B9EF3DC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DF36D2A-F17C-4A9A-AB2B-1EB0A4E2AC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B6D6195-74F7-4007-87C7-064A42194A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6B8C230-F49D-4B49-BEA3-C5ED775CC1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A6BD009-7DEE-4DB9-BCD8-68465B5444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F0A0C05-BDF5-4CD4-88F6-A8AB4A3B54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03DC7CC-F198-4EA0-B39F-C0413D668A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A47233-2BD7-452F-B138-ECB0C0CFA5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5DC8CC-FAF4-4B52-AC6F-82E0A204A0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D06293-8E82-45A3-B821-2B9A8537D4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9E325F1-4453-48FF-8464-65D9415803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85A115-4521-4CBE-88BC-C3758D23F8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B4B1DAB-4F21-4BC6-9FC3-AADBA5511B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ECE28A0-56CF-4311-A615-075D91FA2D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BD2A467-958C-4434-95E3-7B742B6FB8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DA35ABD-01BE-48BB-8DC5-1A28B021CC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9B123F0-F20D-4218-AA88-8149636392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F22A847-9E2C-435E-9742-E7F46DE2F7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6F05EC37-E4C1-4A59-876B-639430F95E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23FB307-0A96-41CD-8E1D-E310DFCEB0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A60BAC-B132-4D54-A0F4-02F59ACA50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AC4168A-FC8E-4493-9C27-C8627AE774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EED2E76-D544-4B4C-A640-FD81F1ED7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14FA71A-2B4D-4D37-92A9-5031B1CA90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A451830-FFBD-489C-BE1F-6D2EB37B6A5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A2B9A73-215D-4F6A-9DCD-A64F56530A6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0001945-9EE5-445E-AC67-E7E12A10F1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9059804-C953-4F24-9345-6E542E84CF8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0C63FE3-04AD-4C94-9CB3-61B6D3C082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B6A9F03-7077-42CE-A785-A4DC56CE2C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81294E6-1F13-4D16-8F96-8D37D75CEA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B1944AE-FB3D-4914-9F46-0895F608B5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83DA9B8-F9C4-457E-AA46-C0E3EF72CD2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81CEFD-20D1-4F71-BE66-ECABAB468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76697FF-4318-4D37-B0C5-75519799123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8669444-25CC-4A22-B8E3-FE3084393D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0DBB3D9-CC70-4CFE-AA1F-6CEBD24110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695C850-B298-4938-9B48-A607F26F47E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DE63306-3979-4D75-85B5-2DF94898CE3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C4C38079-94ED-4C54-884B-A6F043444A8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D3BE161-DC1A-4FF8-85C6-76A1D0367C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E49CF18-1C6B-43A4-9BF2-3438A40DC4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639CF58-F7E0-461F-A897-58EB4B75593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D315FED-6566-4EE8-8B08-1ACDAE8507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31E9917-CB12-492B-896D-1801BACE9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D960E1F-97E1-4C8B-A23C-E75C6C8FD0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D0E50A6-39F9-4E9E-B667-FFBAC331B8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83032F-F8C1-41E6-A7AE-7A620A6EBC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AA757B2-8B88-41D5-9673-4B9A2EA50C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F6AC14A-11D7-4AAA-9607-A3E6CF12841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966DF4D-1B9A-4E87-9130-27DEC4912A9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FACDFE1-DCC1-491C-B2D6-529D0F48F62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104916A-F701-468D-9A1C-F45211609B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279C3DC-A716-42DF-B8A5-9A8FA12B1A3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6A54E84-1EF5-4940-95D0-2F0182D630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4DE2E74-D6B7-46FB-811D-D33CED448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485CDA5-04D9-4D17-B23D-FD6A457130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A70236A-F50A-4AD9-BC3D-506DC861D2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CEB7AB3-9EC5-4E3B-B1E6-7C4A458319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CEEACE5-99F1-4D57-9DE7-34C38438D2F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3C478F9-5464-4615-BE17-247BD8B95A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92591CE-0367-4992-9495-359EEF11F9D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998B084-AA58-41A8-B52E-3AA6E438D61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0F7C28E-4EA4-4853-B3CB-C7D0D03ED8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9A4C5CF-F83B-4C49-9F7C-BC6C3AB9DAB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CA6188C6-3931-40D0-913B-A705821072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21E35D9-D8B6-4BA8-B78B-3D2FC20498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331833E-202B-496A-9DED-A074822348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BCF4FED-E1B6-499C-A354-E4F2BE22797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1638227-77EE-43BC-8489-6D70DAC2981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F59A502-53C7-4B80-B97E-A388A4E25DF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896BA274-F421-4711-A7F1-59AF91FA23C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071A5DB-9D9B-4C6F-9C28-91D301E974F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13D92A9-334D-49DF-BF17-22F0C41F9F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8435EAD-DC9E-440E-995F-FA752E1CD9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7C32EE2-0E18-4D8B-BFFB-2DA3A496F16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5E278C5A-0621-489B-B77A-0C57EDD3E7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410A979-6970-4D23-AC8E-18C9D1FC37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C8D4E5F-ECF7-44B4-8379-2B82D358BEE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0D5D617-B0F5-4722-8245-7AA3EDF9AF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5A573CE-457E-4CC1-A94B-EC01BE98568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BBB95B8-75CE-492B-A66E-02231300CD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11D1AA0-426B-47E2-8A34-FF9BF0F32C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FA9AAE7-F6BE-4AFB-9111-548218A081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9308B56-3AAC-489F-8841-2C31A90A38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73D16D8-7E00-4CDD-824F-4CF67436BD1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5DF5DC7-3C50-49C1-ACD4-DA74D046B7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F1A6DD7-F6A9-497E-AD37-31AD4ED67F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1903B19-4098-436F-A0BA-1CC8985757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7EF4A-194E-4DDB-A4BA-4A3F4752C32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A8269-BCD0-4D96-A2B1-292B8F54409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9787D-5619-43A6-A036-A072D80599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7454F-5762-46D8-A99F-E7BCCDDBDC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DD80F-48BC-4512-AB35-976E23E7D87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2A547-0B02-4C33-AE0C-B5833AD87F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95314-1C0C-464F-BB53-DC6AF0702E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5BFC4-DDB3-4224-8900-14BD551AA6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DDDB98-CC74-4FA7-8543-D480D5E75D8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F95DB-E8EA-4915-ACD4-8312D2338A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FCDCC-62B7-4BA1-A0A4-094484E7CD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C0983-D034-4188-9C76-80BAF7D696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E624C-0C45-4F39-B433-D676D31835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0" y="2997360"/>
            <a:ext cx="892980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4</a:t>
            </a:r>
            <a:r>
              <a:rPr b="1" lang="el-GR" sz="2400" spc="-1" strike="noStrike">
                <a:solidFill>
                  <a:srgbClr val="002060"/>
                </a:solidFill>
                <a:latin typeface="Times New Roman"/>
              </a:rPr>
              <a:t>-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324000" y="1128600"/>
            <a:ext cx="8640720" cy="403704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724040"/>
            <a:ext cx="8353440" cy="3728880"/>
          </a:xfrm>
          <a:prstGeom prst="rect">
            <a:avLst/>
          </a:prstGeom>
          <a:noFill/>
          <a:ln w="0">
            <a:noFill/>
          </a:ln>
        </p:spPr>
        <p:style>
          <a:lnRef idx="0"/>
          <a:fillRef idx="0"/>
          <a:effectRef idx="0"/>
          <a:fontRef idx="minor"/>
        </p:style>
        <p:txBody>
          <a:bodyPr lIns="685440"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24000" y="888840"/>
            <a:ext cx="8424720" cy="540072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250920" y="1108080"/>
            <a:ext cx="8497800" cy="4960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395280" y="1071720"/>
            <a:ext cx="8353440" cy="503388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0" y="909720"/>
            <a:ext cx="8820000" cy="497196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250920" y="1100160"/>
            <a:ext cx="8893080" cy="4591080"/>
          </a:xfrm>
          <a:prstGeom prst="rect">
            <a:avLst/>
          </a:prstGeom>
          <a:noFill/>
          <a:ln w="0">
            <a:noFill/>
          </a:ln>
        </p:spPr>
        <p:style>
          <a:lnRef idx="0"/>
          <a:fillRef idx="0"/>
          <a:effectRef idx="0"/>
          <a:fontRef idx="minor"/>
        </p:style>
        <p:txBody>
          <a:bodyPr lIns="57132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539640" y="2065320"/>
            <a:ext cx="820908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250920" y="1233360"/>
            <a:ext cx="8642160" cy="471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1836720"/>
            <a:ext cx="864216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53964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24000" y="134136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02" name="" descr=""/>
          <p:cNvPicPr/>
          <p:nvPr/>
        </p:nvPicPr>
        <p:blipFill>
          <a:blip r:embed="rId1"/>
          <a:stretch/>
        </p:blipFill>
        <p:spPr>
          <a:xfrm>
            <a:off x="0" y="0"/>
            <a:ext cx="9144000" cy="1368360"/>
          </a:xfrm>
          <a:prstGeom prst="rect">
            <a:avLst/>
          </a:prstGeom>
          <a:ln w="0">
            <a:noFill/>
          </a:ln>
        </p:spPr>
      </p:pic>
      <p:pic>
        <p:nvPicPr>
          <p:cNvPr id="803" name="" descr=""/>
          <p:cNvPicPr/>
          <p:nvPr/>
        </p:nvPicPr>
        <p:blipFill>
          <a:blip r:embed="rId2"/>
          <a:stretch/>
        </p:blipFill>
        <p:spPr>
          <a:xfrm>
            <a:off x="1258920" y="2060640"/>
            <a:ext cx="1297080" cy="1528560"/>
          </a:xfrm>
          <a:prstGeom prst="rect">
            <a:avLst/>
          </a:prstGeom>
          <a:ln w="0">
            <a:noFill/>
          </a:ln>
        </p:spPr>
      </p:pic>
      <p:pic>
        <p:nvPicPr>
          <p:cNvPr id="804" name="" descr=""/>
          <p:cNvPicPr/>
          <p:nvPr/>
        </p:nvPicPr>
        <p:blipFill>
          <a:blip r:embed="rId3"/>
          <a:stretch/>
        </p:blipFill>
        <p:spPr>
          <a:xfrm>
            <a:off x="6948360" y="1989000"/>
            <a:ext cx="1444680" cy="1573200"/>
          </a:xfrm>
          <a:prstGeom prst="rect">
            <a:avLst/>
          </a:prstGeom>
          <a:ln w="0">
            <a:noFill/>
          </a:ln>
        </p:spPr>
      </p:pic>
      <p:sp>
        <p:nvSpPr>
          <p:cNvPr id="8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250920" y="874800"/>
            <a:ext cx="8569080" cy="497196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250920" y="1271520"/>
            <a:ext cx="8569080" cy="4591080"/>
          </a:xfrm>
          <a:prstGeom prst="rect">
            <a:avLst/>
          </a:prstGeom>
          <a:noFill/>
          <a:ln w="0">
            <a:noFill/>
          </a:ln>
        </p:spPr>
        <p:style>
          <a:lnRef idx="0"/>
          <a:fillRef idx="0"/>
          <a:effectRef idx="0"/>
          <a:fontRef idx="minor"/>
        </p:style>
        <p:txBody>
          <a:bodyPr tIns="253800" bIns="25560" anchor="ctr">
            <a:noAutofit/>
          </a:bodyPr>
          <a:p>
            <a:pPr algn="ctr">
              <a:spcBef>
                <a:spcPts val="26"/>
              </a:spcBef>
              <a:spcAft>
                <a:spcPts val="2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0"/>
            <a:ext cx="9140760" cy="6548400"/>
            <a:chOff x="0" y="0"/>
            <a:chExt cx="9140760" cy="6548400"/>
          </a:xfrm>
        </p:grpSpPr>
        <p:grpSp>
          <p:nvGrpSpPr>
            <p:cNvPr id="604" name=""/>
            <p:cNvGrpSpPr/>
            <p:nvPr/>
          </p:nvGrpSpPr>
          <p:grpSpPr>
            <a:xfrm>
              <a:off x="0" y="0"/>
              <a:ext cx="9140760" cy="6548400"/>
              <a:chOff x="0" y="0"/>
              <a:chExt cx="9140760" cy="6548400"/>
            </a:xfrm>
          </p:grpSpPr>
          <p:sp>
            <p:nvSpPr>
              <p:cNvPr id="60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179280" y="762120"/>
            <a:ext cx="8785440" cy="533880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0"/>
            <a:ext cx="9140760" cy="6548400"/>
            <a:chOff x="0" y="0"/>
            <a:chExt cx="9140760" cy="6548400"/>
          </a:xfrm>
        </p:grpSpPr>
        <p:grpSp>
          <p:nvGrpSpPr>
            <p:cNvPr id="613" name=""/>
            <p:cNvGrpSpPr/>
            <p:nvPr/>
          </p:nvGrpSpPr>
          <p:grpSpPr>
            <a:xfrm>
              <a:off x="0" y="0"/>
              <a:ext cx="9140760" cy="6548400"/>
              <a:chOff x="0" y="0"/>
              <a:chExt cx="9140760" cy="6548400"/>
            </a:xfrm>
          </p:grpSpPr>
          <p:sp>
            <p:nvSpPr>
              <p:cNvPr id="614"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116000" y="1700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179280" y="1859040"/>
            <a:ext cx="8640720" cy="3143160"/>
          </a:xfrm>
          <a:prstGeom prst="rect">
            <a:avLst/>
          </a:prstGeom>
          <a:noFill/>
          <a:ln w="0">
            <a:noFill/>
          </a:ln>
        </p:spPr>
        <p:style>
          <a:lnRef idx="0"/>
          <a:fillRef idx="0"/>
          <a:effectRef idx="0"/>
          <a:fontRef idx="minor"/>
        </p:style>
        <p:txBody>
          <a:bodyPr lIns="685440" tIns="253800" bIns="25560"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3:44Z</dcterms:modified>
  <cp:revision>159</cp:revision>
  <dc:subject/>
  <dc:title>Παρουσίαση του PowerPoint</dc:title>
</cp:coreProperties>
</file>