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44FFB-B2EE-457D-8162-DDD24AEC95A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9A7C48-A69F-4EE3-862D-55EC81972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8BA450-CF1C-432A-B6D5-9A1EE1F03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3927D-927C-4A95-8B00-AB2A8A0C6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72C80-86E1-44D9-AB20-A858C30AD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9A57E-DD51-4086-9A7A-2A614D948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E987E-B253-4535-8651-57CE35EDB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BC2BD-1AE5-4D5D-91B5-93EC87BE8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AFE558-7BEB-42B2-9B4F-3467AE9FD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A464C-6A09-4E09-A615-028298CE9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5F86B-4F95-41A0-A593-5C2BC106D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B462F-4E9B-44D6-9B29-2E12D9B6F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CEA36-F4A9-4670-9968-98CDB0CB4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A0CA3-68E2-4E84-84EC-EB9FE78E2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C20335-C5CE-44E7-A421-72FF9642C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DD28B0-F6EC-4AA3-AD1D-A808DE118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27A4A-41E2-4965-B9C7-22652EFFC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E8F07-DF2A-4A31-9E2B-8D94F1B20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576D6-EA00-44A9-BAFC-79A76391B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6B09A-D8E7-4EFB-BF22-1B698570F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46FBE-D45C-4CD9-A797-2538BCE79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62D0A-A487-4F31-B70A-AC1AF35A2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39468-E619-4B59-81FE-C98BEF809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14BCC-C1F2-4CBE-8898-F8B54B5B0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B2364-DEDD-4FB2-8316-FA5D8FCEB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E0439-28A9-492B-9463-633BECA07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E0B82-F711-43DB-BDCC-43052B1A6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D6435-1651-48BD-8CBB-EFA0DDA80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CFBD0D-D94F-4E83-89BF-D2CBCA8AC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CD17D-53FF-46CF-BDEC-7E5A5D7A7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5171C-83EE-4A34-BB43-63854D391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41FBB-9BE2-401B-9E21-70E57F5AA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00339-6E57-456A-8F0F-1F0317A7C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C97FC-8280-4CC4-9AE8-57184BD3D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00DD4-8D5D-40AD-AFFC-D633209A9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F3CB4-F176-485C-B36C-27FE3BB47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461F6-F6C9-4CBF-971E-AFB0BD3C6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A0688-C516-4794-B067-F884F3E2A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257F5-5C7C-416A-B01D-928C6E7B9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66D0D-2708-4C6A-B63E-71A2EDE03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C13EC-3F2D-4D0F-B88D-C3B5102FE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50ADF-50FB-4FEB-9A64-504B93F39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E573C-814D-47F3-AF8B-4C3C7C439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3205B3-F550-4384-9656-625469972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29935-A0B7-4BBB-82B9-686E391AF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2D5A2-EBBB-40E1-A6CE-D3AD4E527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2EFA8-39CD-4F61-93E0-CF4024257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281D7-0DC1-480D-8138-5C44B6B37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9E062-464A-4236-9F31-A5B4B59F6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C41E0-90D0-4D25-B6D2-BA53548C0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AA6A8-7806-4686-8F57-5504EF99E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F8D5A-ADB0-4863-ADD5-E4DF18B1D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7135D4-5B52-459C-9E5D-3845C7317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EBD7D-A75F-4343-A4A3-A233ABFF5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A2BB6-1930-484A-9669-ADEC22C6B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EEBBB-A6D0-4A64-85F0-E9D13DD6D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2D9B6-F12F-428E-99ED-564197AC9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7027F-AC2B-4CF3-8416-61E298000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C7B56-DBC2-4A79-BD62-39C68EDA5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63426-B197-479C-BB29-6969ECA36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BB9E0-B8ED-4B3B-85AA-E7B9EFE41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B5F82-4482-40D1-9DD0-3956E7812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D8F8A-A2E9-4360-9429-723801469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5003D-7488-4528-9427-0E8788735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9D2441-A3EF-473A-9376-DE3D5A53E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5142D-9BF2-41DA-9FA6-ECED3113D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375B13-383C-469D-B42C-68D0E2C42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3DFDD-7FE8-45E8-B28A-252AEFFF6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BEA2A-BFB4-4D17-9BF9-EAC48D4D0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9390B-BACB-4B1A-A7EF-6623FBA3F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985680" y="741240"/>
            <a:ext cx="4886640" cy="3665520"/>
          </a:xfrm>
          <a:prstGeom prst="rect">
            <a:avLst/>
          </a:prstGeom>
          <a:ln w="0">
            <a:noFill/>
          </a:ln>
        </p:spPr>
      </p:sp>
      <p:sp>
        <p:nvSpPr>
          <p:cNvPr id="14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D9C840-2DB7-487E-B2C6-6F041CE3B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5485B1-EA59-4687-A7F8-FC99BE4B3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317CE-1AC7-4CFC-B93B-C9402C2E4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85680" y="741240"/>
            <a:ext cx="4886640" cy="3665520"/>
          </a:xfrm>
          <a:prstGeom prst="rect">
            <a:avLst/>
          </a:prstGeom>
          <a:ln w="0">
            <a:noFill/>
          </a:ln>
        </p:spPr>
      </p:sp>
      <p:sp>
        <p:nvSpPr>
          <p:cNvPr id="1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5919C-C93F-4D83-AA63-8C4A6228C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D034C-AB72-4DE0-8820-DBB17C257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08533-F77C-4CC8-B12C-C8551844DA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5E581D3-730D-4153-8D5B-69DB0C1166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41D48AB-85A8-4E12-A534-2273E39DCA4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69BC2B04-204A-4CA7-9A8A-704B428EEF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2E45AF60-6860-44F7-92D4-B299CBC279E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3B7CBD5-2169-4A13-A3DF-0DB5D04A033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C611632-2C07-4520-84BE-12DF2D635FB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3DEADB9-58ED-44F3-8FAB-4CE6274597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B65C637-B6FC-432F-9151-7741F092FA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E929DB92-4AEA-4AED-98CA-1F0F5A5F547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A82154D-E1C1-46E9-9EF8-124841EAC2E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6F40BAE-01F7-4E5B-8626-05AD88CD59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77115E2-5783-4F2E-9728-7D845746DD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29EB8E0-D761-4D1F-9F85-4063F27B26D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02E7A889-4C3A-4214-AC61-C6A6C6E2C23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1FD1F6B-0052-4054-AC6D-32BCE66D9F3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145A1B16-ECA4-4585-AC07-25E39E757D8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2B92CE9E-828B-49BA-A279-86A6539009E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2EF9213-F7AF-4578-B109-1127EB80B0A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9BB465C-1D69-4393-B8D4-0F9D295DCAE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8A7D9C0-77C8-4CB6-A2EE-FB82CE0A150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6082345-9C49-41EE-893D-882C9CE719F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BA1DDE3-3A08-474D-A493-3499C13D73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40D4D9E-0DBA-41CD-A441-08DA0BDFDBE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EAEAE3A-1A77-491A-8212-C3685BF5AD8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E255288-7EF2-48F4-B859-A582F9FF021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FBCE0E3-28ED-41AA-9D81-D375C3DD00C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9AC0F72-BBE8-49B2-B985-B00CEDD5FCE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E3F6E91-9F4B-4BB2-B038-74ECF3AC207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4F7BE913-ECAC-4DFC-A068-9FB8AA97628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5A97FFA-0881-4640-95D9-D32843D8CCA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D28F004-B2E6-4AAB-88E3-58FEA215CAD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781CCA0-CB9C-4E18-B8B3-97F08672BF8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1076828-55ED-437D-A9AB-A235999815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1525DB-E867-4574-A8F3-712945939A9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6ADFFB3-9989-43D6-9249-E4D6FAEFE75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554D1AD2-EC88-4F12-8DF2-A4E05BBF8C9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B52BEC9-3F7B-4CDD-94A7-C3EE89BB21B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647E384-5C5A-4460-BBCA-2FA72391814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08C4D7BA-FB68-418A-ADE6-85FF7CC7E99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A34E4BE-B6DC-43FD-AECC-EF05342990E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78ABF7C-509A-408C-8DF8-31E1DBF69B1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50C60027-A4C2-448A-B933-632F7FEAB7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581373D1-4133-479C-812C-B286DA37D8F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1282C67-864B-4F88-9C28-F48C06C707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C21FE89-B538-46ED-A31F-1807F90E310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DE2BC7D-BD6D-44B8-8E3B-CCABCAE5270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AD6C6ED-A275-4FF5-8A0C-E110E1E527D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8A757A2-96CA-4733-8B45-367A1130D83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AA5E0047-EC64-4757-9991-F02EDF7E2E6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7C2ADB1C-9409-4B7A-A622-1F13DC508D4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340AD73-89A7-4EEC-A841-543DE708811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F51EA4C-5187-4BE8-9346-0C1D27B2BE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8B60DAF-30B0-4361-9A50-52F60C60C2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BE033BE-C9CD-4825-8F17-4D8E6B78C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D61C4C0F-2D90-467B-8D53-00FCD98601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587C4FA-635E-44A5-A536-3986908645C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8E0CB665-53E9-4CA8-8C1A-22D6722BD3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D1B92B3-6622-4C7D-94DA-1171A67E45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3A5D0B7-5FD9-42E8-AC33-F2F206937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1A17C3E-D43F-4319-89C2-0BA849848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B1D8315-E997-442C-974B-647B8DD77B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6721BC98-F81C-4F9B-B366-3CDC66F761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6D159F8B-7144-40F3-A433-C67D16B0E4B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85C41DC-FC60-45A3-91F6-7B80C2B661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C83B80C-59BA-4451-84CE-A083452512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2EE7EBC-427D-4C9B-8D10-ACEDD04062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7616CAF-43BA-47EA-9EE2-6FF417E489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8A0B833-F8C5-4C5F-A18E-C24BF3E051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D8FB594-0DC7-4F53-B45E-9043841D43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57D573D-6994-4FB2-AEF5-FF86578717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E68E33E-2983-45BC-91C6-9B223583A6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E7332FD-1919-438B-ACF0-1A8B2626C1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81DD11D-E44F-49BB-AF9A-431E5FA069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9A77C8-515C-4873-A4C9-0AE34106F7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597183-F85D-4789-924C-33B31EB3CB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C6D4A5-052D-4AC5-AA6B-9C5C83255E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4E6E9DB-BD90-4850-B119-6C3470916E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C138FC-89D2-4F64-80B7-2CC8B2FC09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9726C8D-9DAA-4043-A244-7752A9C8C23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52F4C8D-5040-4FD9-9BC1-09112336DC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2E25582-8C27-44E6-AF89-1048049A5F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68F1EE4-A965-4254-B2E4-DCDBD0CF21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5638E7B-141C-4956-A81A-C9284544FC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284AB94-5D53-440E-BE87-BAC0852584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26E9AF48-CD46-4D3B-8489-84102A74C6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2DA0B639-18CF-4EE1-AB5E-EB43FB8B27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C81B04-DF62-4E44-A31B-B5E2746B9A5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93D219F-C253-4D64-9D56-732CC0C515E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3335803-84A4-4517-B9C5-0C0F00D5F3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F4EA8B2-623D-4748-AF09-40B886AD0B9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4AD707C-DE84-4DC5-B41F-58DCA814808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1CDB67F0-0020-4382-BC81-783D76F7921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BE0B78A-2215-4EB1-95B0-684743E020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C066E10-E6D7-4856-BF96-6683A18416A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BFDAFD4-9791-470E-A2CD-3B6EBA3D32F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05614D4-39E0-4173-A851-B934AA20BB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B0A51F9-08A4-459E-90A9-B521F22B91D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2DD3FF53-80D7-489C-93D3-877A1BBB161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C3D64B60-F62D-40B8-97C1-97CF386A7A3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0FBE40-3F1C-49D3-B492-04080F4D19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E34101DD-CED7-4392-A8FA-00E8FB2CB18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FDE5FD0-741D-4784-B3C9-8620C304FF6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1FF0B53-5BA5-4851-ABDB-7065C9DE0A0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38BCCCA-5C87-4812-9085-F30D1595EA0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FEAD523-2A6B-4EBE-8DEB-3ACA4922011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BE6898A-83E6-4770-AFBC-8AF66EB61C8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34867D0-7EED-4AAC-A119-1232ED8FB84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A1BA1E2-69FF-454F-9A3C-0749D8645B3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3872214-76B9-4C66-9BBB-CB2DB33A4B2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58A5656-D4C7-4BED-8100-7076219AAD4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B25A927-3336-43BF-8E3C-CE8EBD7A28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FB02A78-58AA-4068-88D7-BA73D852FBE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148A6A5-D80F-4816-A74C-CDADFE23AEF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FF40EC8-2F64-4609-9797-4C8BD04C581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B693686-195E-464C-8818-43970C39087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4732EB7-DAED-4C62-AC50-EDFC4383E31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6345223-AFB4-4DE7-A071-0A958C959D8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DE9B7889-2D9D-4E6B-84A7-DD28C45C35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B58A325F-60EA-4227-AC28-8176F1B7850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6224B9F-193C-4891-BCDB-4F8EE40F19E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3354753-2192-46B1-AA41-8CD32524343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CB08B3B-7575-4876-96F6-8237139058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181F8E1-0C70-4783-92BE-9337B009209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D155E1D-2E92-46D9-A1BC-78FB28448EF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0528917-436D-424E-94B1-D6B3F425656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C2AEFC3E-79B1-43C5-B285-05DCFBAE74E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3272420-3E0B-41BF-9FCB-9F902983090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481044F-1E2A-4378-83FC-27C2145EEF3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A55234D-041B-45EB-B96B-494955FAA69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1E541B1-6465-49DB-BB24-06F45A17168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50CA66B9-9CE0-426F-8A1A-61A0DFA677F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E9CFE41E-9F90-42DC-BA92-51A6BFCAE35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D870A4F-C272-4258-83F8-A90554E93F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3DF1C4D-D9B2-48B5-88A7-040AF64653C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708F6EA-3837-4CCF-81B8-5E0AC038F4D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F889AC3-C3C2-4595-899B-36BD0FE7F50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B2C2AAC4-372E-4817-9703-1B6FEEF0484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0A1D4C73-BF3F-4511-A93A-B15FD185CD7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3A48EF32-DC9C-4FAF-A2B9-793EE2C639E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7B4B08-F182-4F34-BF5C-D714BD9046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B429A1F-B78E-465C-BFA9-864FB9F3AB8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12D0404-3F65-46DA-A8D8-30A42F6361F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080DB81-E53F-44A4-82CF-9B346D2F992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75CBBA8D-C7A8-4BCE-B337-16D4E0E3C7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25BC550-D195-448A-A8F7-57C386C2E1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7D700F6D-DF63-4045-93FA-48DA47CD1F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86C22EC-B1D8-4580-9190-9F709545A6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85C398C-CFDB-455F-B01A-332A8DE29CC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A65E8E4-62C0-4FAE-9434-3557EFE14C5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ABAD15C-B349-41E4-A056-CBB35E8795B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87386D21-6270-4BC2-BCF7-58F964071DA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86FEFDD-1B02-4EAE-AC6D-70DA94652B4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4C5C696-7D1C-4568-B8BA-FD048451CCB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63752F3D-C7F3-4352-9A28-0D9B9C7C966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742D499-F825-45CF-8CCC-DD55124F84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F1662-0EA5-4C23-8E48-A3070B473D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47B972-9FFD-48C2-B83E-C218D5129E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423B7D-C6D7-4958-8F45-B0ACFAB9EE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6EC09-2E6A-45CB-BB4E-2474ABB51E2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CE919-F64B-4AA2-B362-D7B5700982A5}"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249B7-D062-49C5-9D15-CFB90F045E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6489B-F933-4590-8545-44EF8A5D6F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AB21F-21B7-4469-B748-3C018025914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BADD5-2992-4396-A20D-9C221D5C67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DAFF0-AE91-40BF-A4E0-64A7B75EDBA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9F0CB-A5A7-4F8B-8412-9D8A0CE6267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B4438-32DD-47B7-AB37-06DD57F1AF4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DF3DE-7B78-4FDF-83B2-C5CC3ADCEE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95280" y="773280"/>
            <a:ext cx="8353440" cy="503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0" y="115920"/>
            <a:ext cx="9140760" cy="6548400"/>
            <a:chOff x="0" y="115920"/>
            <a:chExt cx="9140760" cy="6548400"/>
          </a:xfrm>
        </p:grpSpPr>
        <p:grpSp>
          <p:nvGrpSpPr>
            <p:cNvPr id="640" name=""/>
            <p:cNvGrpSpPr/>
            <p:nvPr/>
          </p:nvGrpSpPr>
          <p:grpSpPr>
            <a:xfrm>
              <a:off x="0" y="115920"/>
              <a:ext cx="9140760" cy="6548400"/>
              <a:chOff x="0" y="115920"/>
              <a:chExt cx="9140760" cy="6548400"/>
            </a:xfrm>
          </p:grpSpPr>
          <p:sp>
            <p:nvSpPr>
              <p:cNvPr id="6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
        <p:nvSpPr>
          <p:cNvPr id="647" name=""/>
          <p:cNvSpPr/>
          <p:nvPr/>
        </p:nvSpPr>
        <p:spPr>
          <a:xfrm>
            <a:off x="395280" y="1938240"/>
            <a:ext cx="8280360" cy="2616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4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8" name=""/>
          <p:cNvGrpSpPr/>
          <p:nvPr/>
        </p:nvGrpSpPr>
        <p:grpSpPr>
          <a:xfrm>
            <a:off x="0" y="115920"/>
            <a:ext cx="9140760" cy="6548400"/>
            <a:chOff x="0" y="115920"/>
            <a:chExt cx="9140760" cy="6548400"/>
          </a:xfrm>
        </p:grpSpPr>
        <p:grpSp>
          <p:nvGrpSpPr>
            <p:cNvPr id="649" name=""/>
            <p:cNvGrpSpPr/>
            <p:nvPr/>
          </p:nvGrpSpPr>
          <p:grpSpPr>
            <a:xfrm>
              <a:off x="0" y="115920"/>
              <a:ext cx="9140760" cy="6548400"/>
              <a:chOff x="0" y="115920"/>
              <a:chExt cx="9140760" cy="6548400"/>
            </a:xfrm>
          </p:grpSpPr>
          <p:sp>
            <p:nvSpPr>
              <p:cNvPr id="6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
        <p:nvSpPr>
          <p:cNvPr id="656" name=""/>
          <p:cNvSpPr/>
          <p:nvPr/>
        </p:nvSpPr>
        <p:spPr>
          <a:xfrm>
            <a:off x="611280" y="1076400"/>
            <a:ext cx="8064360" cy="43401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0" y="115920"/>
            <a:ext cx="9140760" cy="6548400"/>
            <a:chOff x="0" y="115920"/>
            <a:chExt cx="9140760" cy="6548400"/>
          </a:xfrm>
        </p:grpSpPr>
        <p:grpSp>
          <p:nvGrpSpPr>
            <p:cNvPr id="676" name=""/>
            <p:cNvGrpSpPr/>
            <p:nvPr/>
          </p:nvGrpSpPr>
          <p:grpSpPr>
            <a:xfrm>
              <a:off x="0" y="115920"/>
              <a:ext cx="9140760" cy="6548400"/>
              <a:chOff x="0" y="115920"/>
              <a:chExt cx="9140760" cy="6548400"/>
            </a:xfrm>
          </p:grpSpPr>
          <p:sp>
            <p:nvSpPr>
              <p:cNvPr id="6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
        <p:nvSpPr>
          <p:cNvPr id="683" name=""/>
          <p:cNvSpPr/>
          <p:nvPr/>
        </p:nvSpPr>
        <p:spPr>
          <a:xfrm>
            <a:off x="395280" y="1711440"/>
            <a:ext cx="8064360" cy="2651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0" y="115920"/>
            <a:ext cx="9140760" cy="6548400"/>
            <a:chOff x="0" y="115920"/>
            <a:chExt cx="9140760" cy="6548400"/>
          </a:xfrm>
        </p:grpSpPr>
        <p:grpSp>
          <p:nvGrpSpPr>
            <p:cNvPr id="685" name=""/>
            <p:cNvGrpSpPr/>
            <p:nvPr/>
          </p:nvGrpSpPr>
          <p:grpSpPr>
            <a:xfrm>
              <a:off x="0" y="115920"/>
              <a:ext cx="9140760" cy="6548400"/>
              <a:chOff x="0" y="115920"/>
              <a:chExt cx="9140760" cy="6548400"/>
            </a:xfrm>
          </p:grpSpPr>
          <p:sp>
            <p:nvSpPr>
              <p:cNvPr id="6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
        <p:nvSpPr>
          <p:cNvPr id="692" name=""/>
          <p:cNvSpPr/>
          <p:nvPr/>
        </p:nvSpPr>
        <p:spPr>
          <a:xfrm>
            <a:off x="395280" y="1482840"/>
            <a:ext cx="8209080" cy="31082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190440"/>
            <a:ext cx="9140760" cy="6548400"/>
            <a:chOff x="0" y="190440"/>
            <a:chExt cx="9140760" cy="6548400"/>
          </a:xfrm>
        </p:grpSpPr>
        <p:grpSp>
          <p:nvGrpSpPr>
            <p:cNvPr id="694" name=""/>
            <p:cNvGrpSpPr/>
            <p:nvPr/>
          </p:nvGrpSpPr>
          <p:grpSpPr>
            <a:xfrm>
              <a:off x="0" y="190440"/>
              <a:ext cx="9140760" cy="6548400"/>
              <a:chOff x="0" y="190440"/>
              <a:chExt cx="9140760" cy="6548400"/>
            </a:xfrm>
          </p:grpSpPr>
          <p:sp>
            <p:nvSpPr>
              <p:cNvPr id="695" name=""/>
              <p:cNvSpPr/>
              <p:nvPr/>
            </p:nvSpPr>
            <p:spPr>
              <a:xfrm>
                <a:off x="179280" y="19044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262080"/>
                <a:ext cx="6764400" cy="6444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
              <p:cNvSpPr/>
              <p:nvPr/>
            </p:nvSpPr>
            <p:spPr>
              <a:xfrm>
                <a:off x="0" y="602280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90440"/>
              <a:ext cx="0" cy="136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
        <p:nvSpPr>
          <p:cNvPr id="701" name=""/>
          <p:cNvSpPr/>
          <p:nvPr/>
        </p:nvSpPr>
        <p:spPr>
          <a:xfrm>
            <a:off x="468360" y="944640"/>
            <a:ext cx="7991280" cy="44020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547640" y="2276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
          <p:cNvGrpSpPr/>
          <p:nvPr/>
        </p:nvGrpSpPr>
        <p:grpSpPr>
          <a:xfrm>
            <a:off x="0" y="115920"/>
            <a:ext cx="9140760" cy="6548400"/>
            <a:chOff x="0" y="115920"/>
            <a:chExt cx="9140760" cy="6548400"/>
          </a:xfrm>
        </p:grpSpPr>
        <p:grpSp>
          <p:nvGrpSpPr>
            <p:cNvPr id="721" name=""/>
            <p:cNvGrpSpPr/>
            <p:nvPr/>
          </p:nvGrpSpPr>
          <p:grpSpPr>
            <a:xfrm>
              <a:off x="0" y="115920"/>
              <a:ext cx="9140760" cy="6548400"/>
              <a:chOff x="0" y="115920"/>
              <a:chExt cx="9140760" cy="6548400"/>
            </a:xfrm>
          </p:grpSpPr>
          <p:sp>
            <p:nvSpPr>
              <p:cNvPr id="7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
        <p:nvSpPr>
          <p:cNvPr id="728" name=""/>
          <p:cNvSpPr/>
          <p:nvPr/>
        </p:nvSpPr>
        <p:spPr>
          <a:xfrm>
            <a:off x="539640" y="1473120"/>
            <a:ext cx="820908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115920"/>
            <a:ext cx="9140760" cy="6548400"/>
            <a:chOff x="0" y="115920"/>
            <a:chExt cx="9140760" cy="6548400"/>
          </a:xfrm>
        </p:grpSpPr>
        <p:grpSp>
          <p:nvGrpSpPr>
            <p:cNvPr id="730" name=""/>
            <p:cNvGrpSpPr/>
            <p:nvPr/>
          </p:nvGrpSpPr>
          <p:grpSpPr>
            <a:xfrm>
              <a:off x="0" y="115920"/>
              <a:ext cx="9140760" cy="6548400"/>
              <a:chOff x="0" y="115920"/>
              <a:chExt cx="9140760" cy="6548400"/>
            </a:xfrm>
          </p:grpSpPr>
          <p:sp>
            <p:nvSpPr>
              <p:cNvPr id="7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
        <p:nvSpPr>
          <p:cNvPr id="737" name=""/>
          <p:cNvSpPr/>
          <p:nvPr/>
        </p:nvSpPr>
        <p:spPr>
          <a:xfrm>
            <a:off x="539640" y="1511280"/>
            <a:ext cx="7920000" cy="26766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8" name=""/>
          <p:cNvGrpSpPr/>
          <p:nvPr/>
        </p:nvGrpSpPr>
        <p:grpSpPr>
          <a:xfrm>
            <a:off x="0" y="115920"/>
            <a:ext cx="9140760" cy="6548400"/>
            <a:chOff x="0" y="115920"/>
            <a:chExt cx="9140760" cy="6548400"/>
          </a:xfrm>
        </p:grpSpPr>
        <p:grpSp>
          <p:nvGrpSpPr>
            <p:cNvPr id="739" name=""/>
            <p:cNvGrpSpPr/>
            <p:nvPr/>
          </p:nvGrpSpPr>
          <p:grpSpPr>
            <a:xfrm>
              <a:off x="0" y="115920"/>
              <a:ext cx="9140760" cy="6548400"/>
              <a:chOff x="0" y="115920"/>
              <a:chExt cx="9140760" cy="6548400"/>
            </a:xfrm>
          </p:grpSpPr>
          <p:sp>
            <p:nvSpPr>
              <p:cNvPr id="7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611280" y="1701720"/>
            <a:ext cx="8277120" cy="44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
        <p:nvSpPr>
          <p:cNvPr id="746" name=""/>
          <p:cNvSpPr/>
          <p:nvPr/>
        </p:nvSpPr>
        <p:spPr>
          <a:xfrm>
            <a:off x="395280" y="2465280"/>
            <a:ext cx="820908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0" y="115920"/>
            <a:ext cx="9140760" cy="6548400"/>
            <a:chOff x="0" y="115920"/>
            <a:chExt cx="9140760" cy="6548400"/>
          </a:xfrm>
        </p:grpSpPr>
        <p:grpSp>
          <p:nvGrpSpPr>
            <p:cNvPr id="748" name=""/>
            <p:cNvGrpSpPr/>
            <p:nvPr/>
          </p:nvGrpSpPr>
          <p:grpSpPr>
            <a:xfrm>
              <a:off x="0" y="115920"/>
              <a:ext cx="9140760" cy="6548400"/>
              <a:chOff x="0" y="115920"/>
              <a:chExt cx="9140760" cy="6548400"/>
            </a:xfrm>
          </p:grpSpPr>
          <p:sp>
            <p:nvSpPr>
              <p:cNvPr id="7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611280" y="1628640"/>
            <a:ext cx="8277120" cy="446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
        <p:nvSpPr>
          <p:cNvPr id="755" name=""/>
          <p:cNvSpPr/>
          <p:nvPr/>
        </p:nvSpPr>
        <p:spPr>
          <a:xfrm>
            <a:off x="395280" y="2033640"/>
            <a:ext cx="820908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
          <p:cNvGrpSpPr/>
          <p:nvPr/>
        </p:nvGrpSpPr>
        <p:grpSpPr>
          <a:xfrm>
            <a:off x="0" y="115920"/>
            <a:ext cx="9140760" cy="6548400"/>
            <a:chOff x="0" y="115920"/>
            <a:chExt cx="9140760" cy="6548400"/>
          </a:xfrm>
        </p:grpSpPr>
        <p:grpSp>
          <p:nvGrpSpPr>
            <p:cNvPr id="757" name=""/>
            <p:cNvGrpSpPr/>
            <p:nvPr/>
          </p:nvGrpSpPr>
          <p:grpSpPr>
            <a:xfrm>
              <a:off x="0" y="115920"/>
              <a:ext cx="9140760" cy="6548400"/>
              <a:chOff x="0" y="115920"/>
              <a:chExt cx="9140760" cy="6548400"/>
            </a:xfrm>
          </p:grpSpPr>
          <p:sp>
            <p:nvSpPr>
              <p:cNvPr id="7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
        <p:nvSpPr>
          <p:cNvPr id="764" name=""/>
          <p:cNvSpPr/>
          <p:nvPr/>
        </p:nvSpPr>
        <p:spPr>
          <a:xfrm>
            <a:off x="971640" y="1603440"/>
            <a:ext cx="7488000" cy="3970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0" y="115920"/>
            <a:ext cx="9140760" cy="6548400"/>
            <a:chOff x="0" y="115920"/>
            <a:chExt cx="9140760" cy="6548400"/>
          </a:xfrm>
        </p:grpSpPr>
        <p:grpSp>
          <p:nvGrpSpPr>
            <p:cNvPr id="766" name=""/>
            <p:cNvGrpSpPr/>
            <p:nvPr/>
          </p:nvGrpSpPr>
          <p:grpSpPr>
            <a:xfrm>
              <a:off x="0" y="115920"/>
              <a:ext cx="9140760" cy="6548400"/>
              <a:chOff x="0" y="115920"/>
              <a:chExt cx="9140760" cy="6548400"/>
            </a:xfrm>
          </p:grpSpPr>
          <p:sp>
            <p:nvSpPr>
              <p:cNvPr id="7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
        <p:nvSpPr>
          <p:cNvPr id="773" name=""/>
          <p:cNvSpPr/>
          <p:nvPr/>
        </p:nvSpPr>
        <p:spPr>
          <a:xfrm>
            <a:off x="395280" y="2249640"/>
            <a:ext cx="8064360" cy="2678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0" y="115920"/>
            <a:ext cx="9140760" cy="6548400"/>
            <a:chOff x="0" y="115920"/>
            <a:chExt cx="9140760" cy="6548400"/>
          </a:xfrm>
        </p:grpSpPr>
        <p:grpSp>
          <p:nvGrpSpPr>
            <p:cNvPr id="793" name=""/>
            <p:cNvGrpSpPr/>
            <p:nvPr/>
          </p:nvGrpSpPr>
          <p:grpSpPr>
            <a:xfrm>
              <a:off x="0" y="115920"/>
              <a:ext cx="9140760" cy="6548400"/>
              <a:chOff x="0" y="115920"/>
              <a:chExt cx="9140760" cy="6548400"/>
            </a:xfrm>
          </p:grpSpPr>
          <p:sp>
            <p:nvSpPr>
              <p:cNvPr id="7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
        <p:nvSpPr>
          <p:cNvPr id="800" name=""/>
          <p:cNvSpPr/>
          <p:nvPr/>
        </p:nvSpPr>
        <p:spPr>
          <a:xfrm>
            <a:off x="539640" y="1819440"/>
            <a:ext cx="820908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95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9" name=""/>
          <p:cNvGrpSpPr/>
          <p:nvPr/>
        </p:nvGrpSpPr>
        <p:grpSpPr>
          <a:xfrm>
            <a:off x="0" y="115920"/>
            <a:ext cx="9140760" cy="6548400"/>
            <a:chOff x="0" y="115920"/>
            <a:chExt cx="9140760" cy="6548400"/>
          </a:xfrm>
        </p:grpSpPr>
        <p:grpSp>
          <p:nvGrpSpPr>
            <p:cNvPr id="820" name=""/>
            <p:cNvGrpSpPr/>
            <p:nvPr/>
          </p:nvGrpSpPr>
          <p:grpSpPr>
            <a:xfrm>
              <a:off x="0" y="115920"/>
              <a:ext cx="9140760" cy="6548400"/>
              <a:chOff x="0" y="115920"/>
              <a:chExt cx="9140760" cy="6548400"/>
            </a:xfrm>
          </p:grpSpPr>
          <p:sp>
            <p:nvSpPr>
              <p:cNvPr id="8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
        <p:nvSpPr>
          <p:cNvPr id="827" name=""/>
          <p:cNvSpPr/>
          <p:nvPr/>
        </p:nvSpPr>
        <p:spPr>
          <a:xfrm>
            <a:off x="1042920" y="1819440"/>
            <a:ext cx="7416720" cy="35384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0" y="115920"/>
            <a:ext cx="9140760" cy="6548400"/>
            <a:chOff x="0" y="115920"/>
            <a:chExt cx="9140760" cy="6548400"/>
          </a:xfrm>
        </p:grpSpPr>
        <p:grpSp>
          <p:nvGrpSpPr>
            <p:cNvPr id="829" name=""/>
            <p:cNvGrpSpPr/>
            <p:nvPr/>
          </p:nvGrpSpPr>
          <p:grpSpPr>
            <a:xfrm>
              <a:off x="0" y="115920"/>
              <a:ext cx="9140760" cy="6548400"/>
              <a:chOff x="0" y="115920"/>
              <a:chExt cx="9140760" cy="6548400"/>
            </a:xfrm>
          </p:grpSpPr>
          <p:sp>
            <p:nvSpPr>
              <p:cNvPr id="8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
        <p:nvSpPr>
          <p:cNvPr id="836" name=""/>
          <p:cNvSpPr/>
          <p:nvPr/>
        </p:nvSpPr>
        <p:spPr>
          <a:xfrm>
            <a:off x="1042920" y="2033640"/>
            <a:ext cx="7416720" cy="31100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
          <p:cNvGrpSpPr/>
          <p:nvPr/>
        </p:nvGrpSpPr>
        <p:grpSpPr>
          <a:xfrm>
            <a:off x="0" y="115920"/>
            <a:ext cx="9140760" cy="6548400"/>
            <a:chOff x="0" y="115920"/>
            <a:chExt cx="9140760" cy="6548400"/>
          </a:xfrm>
        </p:grpSpPr>
        <p:grpSp>
          <p:nvGrpSpPr>
            <p:cNvPr id="838" name=""/>
            <p:cNvGrpSpPr/>
            <p:nvPr/>
          </p:nvGrpSpPr>
          <p:grpSpPr>
            <a:xfrm>
              <a:off x="0" y="115920"/>
              <a:ext cx="9140760" cy="6548400"/>
              <a:chOff x="0" y="115920"/>
              <a:chExt cx="9140760" cy="6548400"/>
            </a:xfrm>
          </p:grpSpPr>
          <p:sp>
            <p:nvSpPr>
              <p:cNvPr id="8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
        <p:nvSpPr>
          <p:cNvPr id="845" name=""/>
          <p:cNvSpPr/>
          <p:nvPr/>
        </p:nvSpPr>
        <p:spPr>
          <a:xfrm>
            <a:off x="971640" y="2465280"/>
            <a:ext cx="748800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6" name=""/>
          <p:cNvGrpSpPr/>
          <p:nvPr/>
        </p:nvGrpSpPr>
        <p:grpSpPr>
          <a:xfrm>
            <a:off x="0" y="115920"/>
            <a:ext cx="9140760" cy="6548400"/>
            <a:chOff x="0" y="115920"/>
            <a:chExt cx="9140760" cy="6548400"/>
          </a:xfrm>
        </p:grpSpPr>
        <p:grpSp>
          <p:nvGrpSpPr>
            <p:cNvPr id="847" name=""/>
            <p:cNvGrpSpPr/>
            <p:nvPr/>
          </p:nvGrpSpPr>
          <p:grpSpPr>
            <a:xfrm>
              <a:off x="0" y="115920"/>
              <a:ext cx="9140760" cy="6548400"/>
              <a:chOff x="0" y="115920"/>
              <a:chExt cx="9140760" cy="6548400"/>
            </a:xfrm>
          </p:grpSpPr>
          <p:sp>
            <p:nvSpPr>
              <p:cNvPr id="8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
        <p:nvSpPr>
          <p:cNvPr id="854" name=""/>
          <p:cNvSpPr/>
          <p:nvPr/>
        </p:nvSpPr>
        <p:spPr>
          <a:xfrm>
            <a:off x="971640" y="2465280"/>
            <a:ext cx="7632720" cy="22464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4" name=""/>
          <p:cNvGrpSpPr/>
          <p:nvPr/>
        </p:nvGrpSpPr>
        <p:grpSpPr>
          <a:xfrm>
            <a:off x="0" y="115920"/>
            <a:ext cx="9140760" cy="6548400"/>
            <a:chOff x="0" y="115920"/>
            <a:chExt cx="9140760" cy="6548400"/>
          </a:xfrm>
        </p:grpSpPr>
        <p:grpSp>
          <p:nvGrpSpPr>
            <p:cNvPr id="865" name=""/>
            <p:cNvGrpSpPr/>
            <p:nvPr/>
          </p:nvGrpSpPr>
          <p:grpSpPr>
            <a:xfrm>
              <a:off x="0" y="115920"/>
              <a:ext cx="9140760" cy="6548400"/>
              <a:chOff x="0" y="115920"/>
              <a:chExt cx="9140760" cy="6548400"/>
            </a:xfrm>
          </p:grpSpPr>
          <p:sp>
            <p:nvSpPr>
              <p:cNvPr id="8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1" name="" descr=""/>
          <p:cNvPicPr/>
          <p:nvPr/>
        </p:nvPicPr>
        <p:blipFill>
          <a:blip r:embed="rId3"/>
          <a:stretch/>
        </p:blipFill>
        <p:spPr>
          <a:xfrm>
            <a:off x="250920" y="333360"/>
            <a:ext cx="1417680" cy="879480"/>
          </a:xfrm>
          <a:prstGeom prst="rect">
            <a:avLst/>
          </a:prstGeom>
          <a:ln w="0">
            <a:noFill/>
          </a:ln>
        </p:spPr>
      </p:pic>
      <p:sp>
        <p:nvSpPr>
          <p:cNvPr id="872" name=""/>
          <p:cNvSpPr/>
          <p:nvPr/>
        </p:nvSpPr>
        <p:spPr>
          <a:xfrm>
            <a:off x="755640" y="1484280"/>
            <a:ext cx="7812000" cy="41101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125360"/>
            <a:ext cx="8280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50920" y="981000"/>
            <a:ext cx="85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95280" y="1052640"/>
            <a:ext cx="8280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11600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1125360"/>
            <a:ext cx="84978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95280" y="1125360"/>
            <a:ext cx="84978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2985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179280" y="1392120"/>
            <a:ext cx="8713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50920" y="1052640"/>
            <a:ext cx="820872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907920"/>
            <a:ext cx="842472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539640" y="1392120"/>
            <a:ext cx="842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250920" y="836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250920" y="1052640"/>
            <a:ext cx="889308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16" name="" descr=""/>
          <p:cNvPicPr/>
          <p:nvPr/>
        </p:nvPicPr>
        <p:blipFill>
          <a:blip r:embed="rId1"/>
          <a:stretch/>
        </p:blipFill>
        <p:spPr>
          <a:xfrm>
            <a:off x="0" y="0"/>
            <a:ext cx="9144000" cy="1368360"/>
          </a:xfrm>
          <a:prstGeom prst="rect">
            <a:avLst/>
          </a:prstGeom>
          <a:ln w="0">
            <a:noFill/>
          </a:ln>
        </p:spPr>
      </p:pic>
      <p:pic>
        <p:nvPicPr>
          <p:cNvPr id="1217" name="" descr=""/>
          <p:cNvPicPr/>
          <p:nvPr/>
        </p:nvPicPr>
        <p:blipFill>
          <a:blip r:embed="rId2"/>
          <a:stretch/>
        </p:blipFill>
        <p:spPr>
          <a:xfrm>
            <a:off x="1258920" y="2060640"/>
            <a:ext cx="1297080" cy="1528560"/>
          </a:xfrm>
          <a:prstGeom prst="rect">
            <a:avLst/>
          </a:prstGeom>
          <a:ln w="0">
            <a:noFill/>
          </a:ln>
        </p:spPr>
      </p:pic>
      <p:pic>
        <p:nvPicPr>
          <p:cNvPr id="1218" name="" descr=""/>
          <p:cNvPicPr/>
          <p:nvPr/>
        </p:nvPicPr>
        <p:blipFill>
          <a:blip r:embed="rId3"/>
          <a:stretch/>
        </p:blipFill>
        <p:spPr>
          <a:xfrm>
            <a:off x="6948360" y="1989000"/>
            <a:ext cx="1444680" cy="1573200"/>
          </a:xfrm>
          <a:prstGeom prst="rect">
            <a:avLst/>
          </a:prstGeom>
          <a:ln w="0">
            <a:noFill/>
          </a:ln>
        </p:spPr>
      </p:pic>
      <p:sp>
        <p:nvSpPr>
          <p:cNvPr id="1219"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22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9640" y="1392120"/>
            <a:ext cx="842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95280" y="148428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9:08Z</dcterms:modified>
  <cp:revision>173</cp:revision>
  <dc:subject/>
  <dc:title>Παρουσίαση του PowerPoint</dc:title>
</cp:coreProperties>
</file>