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8F766-3154-4B5E-9014-0C1C15443DB7}"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19CD7-F867-45DA-BB5A-6F72D1A6A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985680" y="741240"/>
            <a:ext cx="4886640" cy="3665520"/>
          </a:xfrm>
          <a:prstGeom prst="rect">
            <a:avLst/>
          </a:prstGeom>
          <a:ln w="0">
            <a:noFill/>
          </a:ln>
        </p:spPr>
      </p:sp>
      <p:sp>
        <p:nvSpPr>
          <p:cNvPr id="1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73AC9-38BA-4FFE-8621-4327BDAB3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985680" y="741240"/>
            <a:ext cx="4886640" cy="3665520"/>
          </a:xfrm>
          <a:prstGeom prst="rect">
            <a:avLst/>
          </a:prstGeom>
          <a:ln w="0">
            <a:noFill/>
          </a:ln>
        </p:spPr>
      </p:sp>
      <p:sp>
        <p:nvSpPr>
          <p:cNvPr id="10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3B7B3-A569-4CCF-9DA6-CEF6B3CA0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985680" y="741240"/>
            <a:ext cx="4886640" cy="3665520"/>
          </a:xfrm>
          <a:prstGeom prst="rect">
            <a:avLst/>
          </a:prstGeom>
          <a:ln w="0">
            <a:noFill/>
          </a:ln>
        </p:spPr>
      </p:sp>
      <p:sp>
        <p:nvSpPr>
          <p:cNvPr id="10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D5FD66-4BBA-4280-946E-AE23E3430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985680" y="741240"/>
            <a:ext cx="4886640" cy="3665520"/>
          </a:xfrm>
          <a:prstGeom prst="rect">
            <a:avLst/>
          </a:prstGeom>
          <a:ln w="0">
            <a:noFill/>
          </a:ln>
        </p:spPr>
      </p:sp>
      <p:sp>
        <p:nvSpPr>
          <p:cNvPr id="10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941BD-3A4A-42CC-8CBE-829A450AC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985680" y="741240"/>
            <a:ext cx="4886640" cy="3665520"/>
          </a:xfrm>
          <a:prstGeom prst="rect">
            <a:avLst/>
          </a:prstGeom>
          <a:ln w="0">
            <a:noFill/>
          </a:ln>
        </p:spPr>
      </p:sp>
      <p:sp>
        <p:nvSpPr>
          <p:cNvPr id="1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B7539-0F9A-4EE5-A118-8F19D6CD8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985680" y="741240"/>
            <a:ext cx="4886640" cy="3665520"/>
          </a:xfrm>
          <a:prstGeom prst="rect">
            <a:avLst/>
          </a:prstGeom>
          <a:ln w="0">
            <a:noFill/>
          </a:ln>
        </p:spPr>
      </p:sp>
      <p:sp>
        <p:nvSpPr>
          <p:cNvPr id="10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CDDB2-90E1-422E-A109-231F5D48C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985680" y="741240"/>
            <a:ext cx="4886640" cy="3665520"/>
          </a:xfrm>
          <a:prstGeom prst="rect">
            <a:avLst/>
          </a:prstGeom>
          <a:ln w="0">
            <a:noFill/>
          </a:ln>
        </p:spPr>
      </p:sp>
      <p:sp>
        <p:nvSpPr>
          <p:cNvPr id="10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7E2DB-4E5D-4ABA-A62E-ACBCF3CC8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985680" y="741240"/>
            <a:ext cx="4886640" cy="3665520"/>
          </a:xfrm>
          <a:prstGeom prst="rect">
            <a:avLst/>
          </a:prstGeom>
          <a:ln w="0">
            <a:noFill/>
          </a:ln>
        </p:spPr>
      </p:sp>
      <p:sp>
        <p:nvSpPr>
          <p:cNvPr id="10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A9CAB-EBA7-46DD-A1A5-58DB76AC4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985680" y="741240"/>
            <a:ext cx="4886640" cy="3665520"/>
          </a:xfrm>
          <a:prstGeom prst="rect">
            <a:avLst/>
          </a:prstGeom>
          <a:ln w="0">
            <a:noFill/>
          </a:ln>
        </p:spPr>
      </p:sp>
      <p:sp>
        <p:nvSpPr>
          <p:cNvPr id="10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56591-F34C-46E0-B09B-F87B0C365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985680" y="741240"/>
            <a:ext cx="4886640" cy="3665520"/>
          </a:xfrm>
          <a:prstGeom prst="rect">
            <a:avLst/>
          </a:prstGeom>
          <a:ln w="0">
            <a:noFill/>
          </a:ln>
        </p:spPr>
      </p:sp>
      <p:sp>
        <p:nvSpPr>
          <p:cNvPr id="10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AD563-7D54-46D4-8C69-B59D730D2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014F4-4644-45C2-82B2-2CDDF3F6F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985680" y="741240"/>
            <a:ext cx="4886640" cy="3665520"/>
          </a:xfrm>
          <a:prstGeom prst="rect">
            <a:avLst/>
          </a:prstGeom>
          <a:ln w="0">
            <a:noFill/>
          </a:ln>
        </p:spPr>
      </p:sp>
      <p:sp>
        <p:nvSpPr>
          <p:cNvPr id="10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FBE4E-8DDB-488A-A7BB-4069FADC1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985680" y="741240"/>
            <a:ext cx="4886640" cy="3665520"/>
          </a:xfrm>
          <a:prstGeom prst="rect">
            <a:avLst/>
          </a:prstGeom>
          <a:ln w="0">
            <a:noFill/>
          </a:ln>
        </p:spPr>
      </p:sp>
      <p:sp>
        <p:nvSpPr>
          <p:cNvPr id="10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F0480-D4E5-4FF7-BBE5-E331D5087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985680" y="741240"/>
            <a:ext cx="4886640" cy="3665520"/>
          </a:xfrm>
          <a:prstGeom prst="rect">
            <a:avLst/>
          </a:prstGeom>
          <a:ln w="0">
            <a:noFill/>
          </a:ln>
        </p:spPr>
      </p:sp>
      <p:sp>
        <p:nvSpPr>
          <p:cNvPr id="10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8E79D-6C67-4A1B-88DA-7FA2EB406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985680" y="741240"/>
            <a:ext cx="4886640" cy="3665520"/>
          </a:xfrm>
          <a:prstGeom prst="rect">
            <a:avLst/>
          </a:prstGeom>
          <a:ln w="0">
            <a:noFill/>
          </a:ln>
        </p:spPr>
      </p:sp>
      <p:sp>
        <p:nvSpPr>
          <p:cNvPr id="10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436A16-CF1C-43E2-BFA6-BA712F5CB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985680" y="741240"/>
            <a:ext cx="4886640" cy="3665520"/>
          </a:xfrm>
          <a:prstGeom prst="rect">
            <a:avLst/>
          </a:prstGeom>
          <a:ln w="0">
            <a:noFill/>
          </a:ln>
        </p:spPr>
      </p:sp>
      <p:sp>
        <p:nvSpPr>
          <p:cNvPr id="10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BE624-AB1A-4E37-9E32-0A0717345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985680" y="741240"/>
            <a:ext cx="4886640" cy="3665520"/>
          </a:xfrm>
          <a:prstGeom prst="rect">
            <a:avLst/>
          </a:prstGeom>
          <a:ln w="0">
            <a:noFill/>
          </a:ln>
        </p:spPr>
      </p:sp>
      <p:sp>
        <p:nvSpPr>
          <p:cNvPr id="10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03BA8-4A4E-4CEA-82AF-E931D4B92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985680" y="741240"/>
            <a:ext cx="4886640" cy="3665520"/>
          </a:xfrm>
          <a:prstGeom prst="rect">
            <a:avLst/>
          </a:prstGeom>
          <a:ln w="0">
            <a:noFill/>
          </a:ln>
        </p:spPr>
      </p:sp>
      <p:sp>
        <p:nvSpPr>
          <p:cNvPr id="10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D4ED5-1A49-458D-A779-3552F4EE2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985680" y="741240"/>
            <a:ext cx="4886640" cy="3665520"/>
          </a:xfrm>
          <a:prstGeom prst="rect">
            <a:avLst/>
          </a:prstGeom>
          <a:ln w="0">
            <a:noFill/>
          </a:ln>
        </p:spPr>
      </p:sp>
      <p:sp>
        <p:nvSpPr>
          <p:cNvPr id="10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D2582-1872-460E-B1C5-76208A716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985680" y="741240"/>
            <a:ext cx="4886640" cy="3665520"/>
          </a:xfrm>
          <a:prstGeom prst="rect">
            <a:avLst/>
          </a:prstGeom>
          <a:ln w="0">
            <a:noFill/>
          </a:ln>
        </p:spPr>
      </p:sp>
      <p:sp>
        <p:nvSpPr>
          <p:cNvPr id="10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2C2CB-594C-4811-9AC6-494C4BA5D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985680" y="741240"/>
            <a:ext cx="4886640" cy="3665520"/>
          </a:xfrm>
          <a:prstGeom prst="rect">
            <a:avLst/>
          </a:prstGeom>
          <a:ln w="0">
            <a:noFill/>
          </a:ln>
        </p:spPr>
      </p:sp>
      <p:sp>
        <p:nvSpPr>
          <p:cNvPr id="10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5D253-B37D-46AF-9CF8-B6691523D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85680" y="741240"/>
            <a:ext cx="4886640" cy="3665520"/>
          </a:xfrm>
          <a:prstGeom prst="rect">
            <a:avLst/>
          </a:prstGeom>
          <a:ln w="0">
            <a:noFill/>
          </a:ln>
        </p:spPr>
      </p:sp>
      <p:sp>
        <p:nvSpPr>
          <p:cNvPr id="1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E122D-D163-48BE-A17C-DA560EEE7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985680" y="741240"/>
            <a:ext cx="4886640" cy="3665520"/>
          </a:xfrm>
          <a:prstGeom prst="rect">
            <a:avLst/>
          </a:prstGeom>
          <a:ln w="0">
            <a:noFill/>
          </a:ln>
        </p:spPr>
      </p:sp>
      <p:sp>
        <p:nvSpPr>
          <p:cNvPr id="10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BD156-BE5C-45FB-8020-770C8B99B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985680" y="741240"/>
            <a:ext cx="4886640" cy="3665520"/>
          </a:xfrm>
          <a:prstGeom prst="rect">
            <a:avLst/>
          </a:prstGeom>
          <a:ln w="0">
            <a:noFill/>
          </a:ln>
        </p:spPr>
      </p:sp>
      <p:sp>
        <p:nvSpPr>
          <p:cNvPr id="10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2D8D3-6BAD-489A-98DF-6B0F127F2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985680" y="741240"/>
            <a:ext cx="4886640" cy="3665520"/>
          </a:xfrm>
          <a:prstGeom prst="rect">
            <a:avLst/>
          </a:prstGeom>
          <a:ln w="0">
            <a:noFill/>
          </a:ln>
        </p:spPr>
      </p:sp>
      <p:sp>
        <p:nvSpPr>
          <p:cNvPr id="10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0A185-1294-4AB5-9F5B-8BA5D2100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985680" y="741240"/>
            <a:ext cx="4886640" cy="3665520"/>
          </a:xfrm>
          <a:prstGeom prst="rect">
            <a:avLst/>
          </a:prstGeom>
          <a:ln w="0">
            <a:noFill/>
          </a:ln>
        </p:spPr>
      </p:sp>
      <p:sp>
        <p:nvSpPr>
          <p:cNvPr id="10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6C61F-AD7E-4BFA-902D-F71867A51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985680" y="741240"/>
            <a:ext cx="4886640" cy="3665520"/>
          </a:xfrm>
          <a:prstGeom prst="rect">
            <a:avLst/>
          </a:prstGeom>
          <a:ln w="0">
            <a:noFill/>
          </a:ln>
        </p:spPr>
      </p:sp>
      <p:sp>
        <p:nvSpPr>
          <p:cNvPr id="10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1833C-7BF0-45A7-99C6-9E488E5A3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985680" y="741240"/>
            <a:ext cx="4886640" cy="3665520"/>
          </a:xfrm>
          <a:prstGeom prst="rect">
            <a:avLst/>
          </a:prstGeom>
          <a:ln w="0">
            <a:noFill/>
          </a:ln>
        </p:spPr>
      </p:sp>
      <p:sp>
        <p:nvSpPr>
          <p:cNvPr id="10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AFB93-B35C-467D-B8AF-0947BBFC3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985680" y="741240"/>
            <a:ext cx="4886640" cy="3665520"/>
          </a:xfrm>
          <a:prstGeom prst="rect">
            <a:avLst/>
          </a:prstGeom>
          <a:ln w="0">
            <a:noFill/>
          </a:ln>
        </p:spPr>
      </p:sp>
      <p:sp>
        <p:nvSpPr>
          <p:cNvPr id="11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D042B-D2F3-4A6A-99FB-DC0869D6E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985680" y="741240"/>
            <a:ext cx="4886640" cy="3665520"/>
          </a:xfrm>
          <a:prstGeom prst="rect">
            <a:avLst/>
          </a:prstGeom>
          <a:ln w="0">
            <a:noFill/>
          </a:ln>
        </p:spPr>
      </p:sp>
      <p:sp>
        <p:nvSpPr>
          <p:cNvPr id="11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9773D-1F8F-43D7-A0F5-6A903820E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985680" y="741240"/>
            <a:ext cx="4886640" cy="3665520"/>
          </a:xfrm>
          <a:prstGeom prst="rect">
            <a:avLst/>
          </a:prstGeom>
          <a:ln w="0">
            <a:noFill/>
          </a:ln>
        </p:spPr>
      </p:sp>
      <p:sp>
        <p:nvSpPr>
          <p:cNvPr id="11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FF7D8-D5D1-4F43-9ED2-CAAE81AEA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4C5DB-E768-42A8-A05C-CC94FADC7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985680" y="741240"/>
            <a:ext cx="4886640" cy="3665520"/>
          </a:xfrm>
          <a:prstGeom prst="rect">
            <a:avLst/>
          </a:prstGeom>
          <a:ln w="0">
            <a:noFill/>
          </a:ln>
        </p:spPr>
      </p:sp>
      <p:sp>
        <p:nvSpPr>
          <p:cNvPr id="1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D4336-A2EA-44F9-9E8C-680083C40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D06FC-87B3-4A67-AEFD-935E62B6B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037D4-8EF8-4D3F-9211-3152E8381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F6617-EC6E-4083-AE0E-46901E4A3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213DE-AD52-4A48-8F31-658B77E73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AFC1B-92C4-42B3-8A14-B05C01929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17B45-ED16-45B0-ABAF-C983B51A5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CCED3-8FBD-4F27-B18F-4240C825A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605B5-003A-4428-B351-EBAB9C097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09335-6CCD-4DE5-8521-3A946A31B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E3C23-0A6C-4698-AC65-D0F5B61AA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985680" y="741240"/>
            <a:ext cx="4886640" cy="3665520"/>
          </a:xfrm>
          <a:prstGeom prst="rect">
            <a:avLst/>
          </a:prstGeom>
          <a:ln w="0">
            <a:noFill/>
          </a:ln>
        </p:spPr>
      </p:sp>
      <p:sp>
        <p:nvSpPr>
          <p:cNvPr id="1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3F02F-8F76-4456-8C9E-6DAB97048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37328-925C-4643-8935-D377B5FA7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985680" y="741240"/>
            <a:ext cx="4886640" cy="3665520"/>
          </a:xfrm>
          <a:prstGeom prst="rect">
            <a:avLst/>
          </a:prstGeom>
          <a:ln w="0">
            <a:noFill/>
          </a:ln>
        </p:spPr>
      </p:sp>
      <p:sp>
        <p:nvSpPr>
          <p:cNvPr id="1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6AB27-8467-4E08-A72D-2C4E77B6E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985680" y="741240"/>
            <a:ext cx="4886640" cy="3665520"/>
          </a:xfrm>
          <a:prstGeom prst="rect">
            <a:avLst/>
          </a:prstGeom>
          <a:ln w="0">
            <a:noFill/>
          </a:ln>
        </p:spPr>
      </p:sp>
      <p:sp>
        <p:nvSpPr>
          <p:cNvPr id="1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3486E-74BD-4101-85A8-7EA164F97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985680" y="741240"/>
            <a:ext cx="4886640" cy="3665520"/>
          </a:xfrm>
          <a:prstGeom prst="rect">
            <a:avLst/>
          </a:prstGeom>
          <a:ln w="0">
            <a:noFill/>
          </a:ln>
        </p:spPr>
      </p:sp>
      <p:sp>
        <p:nvSpPr>
          <p:cNvPr id="1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C3528-C146-45C1-8422-F58F553F4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985680" y="741240"/>
            <a:ext cx="4886640" cy="3665520"/>
          </a:xfrm>
          <a:prstGeom prst="rect">
            <a:avLst/>
          </a:prstGeom>
          <a:ln w="0">
            <a:noFill/>
          </a:ln>
        </p:spPr>
      </p:sp>
      <p:sp>
        <p:nvSpPr>
          <p:cNvPr id="10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CCE87-50B0-4DBE-8583-32DCEB00C4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74392E2-1C24-46C9-93F2-C08007D5B1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9BA11B7-4E83-4A62-971C-35ADDF2472F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F5C6D2A-AE8F-4D39-9B1B-44D7A91B75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1AE56FD-F07F-4C1E-99EF-C3A5672818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1B1A8DE-0186-4337-AF1E-B44791AEFB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B38E0E0-1992-4D09-B05A-E00F7124346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6CD9DD9-5776-468D-B0FF-325557AD31A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8DA8EAC-7C76-4CBD-818C-D12D16B8E8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9E8E3DF-D568-4E6F-B134-9A773DE7CE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8142331-4B31-4B08-9CC9-03E007712E6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38DFB5A-F505-4A59-B228-B5DD5FA8D9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B637D5B-A6E4-4CAF-8EC6-048BF88A97E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27BB1C9-EA11-4949-B9CB-327FE0BA67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9BC663A-B5B2-4018-9DC0-71E0C325E9E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3C3C4DA-2C06-4B3C-BA8B-53693F4AE0F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0A7B4EAB-BCAB-4902-B1C4-65AC75A213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3FF9F17D-599F-426C-98D7-7585FF6EDE8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53A657F-B583-4E9B-A79C-0C086C07BA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AB61298-8F88-4477-9A12-ABE4EB7D7D6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0A9DFEC-DDAB-4180-A1EC-612A61683A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B3FCA86-38CC-4136-8D5F-32D4406B55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661E21BB-FF84-4308-89FC-01FA58F85D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8C05016-1BF0-45EF-9B77-0E67AE6E8E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69E2092-5B0D-4EFE-A3FD-530C96E5C3A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B992332-B7D5-4007-A0EA-3F6BAFD4CB2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B90EA1A-EAB6-4019-BE3F-D68539CC672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22FA345-C18D-47C6-B478-53ED13E552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7C409A3-9497-4957-BEEC-4972F5DEA62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47F4787-316B-4B43-A7A6-877C1DA1B0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112EE86-3DC3-4E47-9986-1E8978D9DE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01B84C3-E20F-4D24-828E-0B506817744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34F5269-63D5-4E1D-AA6E-01F87574AA2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2128980-7E09-4EDC-B90A-862C2E0DCA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648784-B30D-4672-B8B2-9C33DE3EB71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E8B1251-424D-41EA-9D9C-2035EA9FF57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7C69FE4-F413-465F-A10F-B89DA6B99B1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45C24285-8E33-49C5-AF75-EAB863E944F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B2BDF21-48F9-43F3-8D24-4A1CCBED8E4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E5DC554-B176-4CD7-8811-8E405851EFC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2DE9086-3C9F-4E2A-9A44-09251976005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6FCFD73-41E9-48F5-A8D2-2145E8B813E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199C0274-3DEA-4F3B-AC52-B2C5B9B5616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593E7C7-089C-44B4-AC46-E1B71E84BB0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1EED118-55AA-4877-9AC8-B65613835B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51DF2C-1530-42BA-94A5-BE0476FD3E7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85F3512-900C-45F6-80A3-AA332893F41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33E42D9-94C9-417B-9506-1545C11B790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F3CCE07-96C5-469F-A4DC-775CD547188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4B14220-FB58-4830-817C-1009AFA8DF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B05F8935-65F2-4CC2-9B8E-D74EBC7F1E4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B046BB1-6DCB-4452-9910-59E447B1873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3C34FB2-443B-47CD-907B-AFA8416183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89529A2-2535-4A95-8EFC-0C7A089FF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BA5F334-AD49-4853-B712-9973336E6F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1173C603-AF32-4B94-85D1-9FDB1A8D48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667C2B5-96DE-499A-BEA5-A1D43C13F21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E6969AD-7098-4469-A4B4-EDEB70CFA6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05A949C-1453-44FD-A24B-535A1FA879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AED8D90-A99A-4E89-A0E9-52C30C649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2A44BFA-534A-4DE9-93B5-E63658D46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02F13BD-8DCB-4BAC-8338-06783AEDF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FF156D5-0F2B-4BBE-9279-090DA770E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070C175-54BA-413B-AA9E-59B1BA9EBC1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85D6AF4-611A-4D74-B322-ECF7D1208F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BA21398-24C9-4683-8CC5-3EB37DCD38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F17FA2B-F06B-4DF0-BCEF-3CDF30C1F6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A3D3FF1-DE5B-43DB-A585-323CCF0267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3DBCB40-267D-4C61-AF85-2B77523616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32FFB9A-0948-45DA-B09F-7B610130E4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BA56C6B-9AA7-49EA-9A40-B7EE3796F2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23D6A1A-A29C-4982-A6E3-A42C47A411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D48F083-2D4D-49C0-B8AF-1B85EAEE92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EF12D9C-FEBF-4891-8C86-1E581D78D9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22CA74-832B-4998-A4C3-B15C1DE67B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8B4693-EFDB-4276-8CDD-D6ECB41420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B9C477-5824-47D3-91CC-E3DAD8677B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074AFC0-844D-4FDA-AF0B-FCDEBA3199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158887-7D2A-460B-9654-17E897B719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322AC29-C0D0-42D4-B603-872CF3E511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38C0687-6C4E-429B-ACDA-D2640C4112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5E9A1A9-0301-4C5F-96C4-E67CCBAC35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44D3DA2-82F2-4E5D-B24E-F8281F11D5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A929726-CD78-4A79-8124-4897D3C778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D9A3FB7-5501-4F57-A57B-362BD15BAE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A291DF1-FA05-4072-9336-4F4E95A6FA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22D0110-3B12-448C-9181-389D9CC9EF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432125-A07A-40AC-B635-50032A34B2D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22FF919-20BC-4BEE-A7F5-A64B37E605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86E0293-1810-4A7B-9FA9-FA96462E87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5735727-4A19-4791-AF1D-FD73356777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84EA64D-1B14-43E9-BC4B-90D03BE1382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ED65BAE-9AAC-4432-BD7C-8D3733C549E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02702DD-20D8-4A07-A181-6C0CAB2AF0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63F4157-DD5F-45CF-ACF1-75DE8E73ECE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E1B7B13-7943-42B6-9F88-314ACAFF67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8ADC025-2362-4CF6-8E7C-7EF09831C92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A967FB4-BCCE-4231-8923-7E8AEF53C0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22D06CA-571D-4FB1-8198-D6C156F1821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1937D65-5791-47BD-AD43-257E478B79C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E10465-5CFF-4D3A-9529-A7511A06C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F94133C-69D3-491B-8729-CD7CC3FD83C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D9C5EE0-96C9-49DC-9D80-D7AF14B79E0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2DD4491-6335-4CEF-9198-C06E5F8143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25FCAE6-C061-47D6-AA34-4F03502AE7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6F1046E0-4F87-40DB-90E3-BEE491C76E9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BF0CA51-C7F8-4A5D-998A-4702657F70A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770047A-7A22-4A58-AED3-C949A44CD3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DF819BF-40DB-45E3-950C-D070F2CF430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18E7F06-F283-42F9-B204-CC62C592332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709EF48-9D7A-4548-A1C8-A7A6F2C63AC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EE8CEC63-17C3-4D71-81C4-C497929F83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CA9CC77-BABB-4636-8011-472A24A3E94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EB70A721-009E-4489-86F3-2121E883BB5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06E3ED8-47B1-4C93-948A-962FE592BF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8D7E224-2065-4644-A31B-E2EBE548FA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1A98DD6-8DE3-4CED-B771-65C25CEE0F2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7750F76-4356-47A2-8A31-EE311CB8D74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359825B-650B-432F-8700-49C9F3BD098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A5473230-EB77-4A08-B2F4-F5730BF5B7C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BFD09BB-E571-438B-9D6F-4DC757F5AB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3279CE7-17D5-4F93-8F48-9566C359606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186FB24-A37B-432A-94D2-855B5A7358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DED702E-1458-4647-8024-DF28415705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7DBDDE7-F2E1-47F9-B9CA-74E138C9C35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8AE98B9-2400-48EE-A9E7-8DFDBD70A67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726E4BCD-FF5D-4195-A75D-2A9CE97B127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0215AEE-92DD-4DCB-896E-D9200CF4E39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ADB2454-02D4-4EAF-9FAD-29A83BEB42B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20C7CD2-EF24-4912-8836-B8BE09BC6D9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43A8B71-F742-4185-BB9B-69AC4290292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E144386-D86F-4F46-88D0-F5916D47E13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9E57889-8676-47B5-AE3D-E8C05FE3200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18AABBD-E652-4848-A0FB-B196AA1BA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B9D65B4-F876-48F6-B76C-29DC244E6F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8CDD18A-BD62-4595-BE40-D2A83AF3E44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186D5A5-E1D1-4858-89A8-E4E8117EB28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DA4E646-0778-4999-9D7B-36BC474BD5B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2F5F2E1-A53F-41F5-A97C-28F0DA03959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6D8D19B-18B9-4DF8-BDF5-FCAED0CE7D2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00C2982-14D3-4D21-86FD-A0B7F862DBE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03BB5ED-3441-404A-BD3B-8A3D780F968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8EEFB06-31FF-48AE-BFE3-685EB51BFE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5011AE4-FF94-407C-B98F-22AD94CAA0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84C8380-4D72-4364-86A4-2B927F213D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A08AB10-0E94-479C-B9E9-0707DEF6FF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F7A2267-876C-4701-A06B-4B5E15092FD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FE0B12F-7072-4D31-8262-6C9496D6BA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97E27AB-F8D4-400C-A5E9-5B2272B4E36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F1F8497-4577-4B89-9A3F-FC877324FE7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A59DAE5-E3B7-458F-8D59-88DA3F5AD18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C619E04-FD85-4DA0-B518-86C8EB7CBB1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669A968-79CE-4F16-A9DE-45EE0A2B27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00816DE-2634-4ECF-B859-8D87E5FEF1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49C713C-6D06-463F-B7F2-DA052AC2D2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EB66075-FF83-4F17-8B13-C7440BB8CF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B7D13-B04A-4652-BD9C-3DEB019515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CFDC2-F13A-4EF0-A619-C06A51EAAF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CAA6D-90D3-49AA-BC65-3836A89186C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2019A-1102-49B1-9E86-314B22A3A2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73FF6-849A-480F-BC01-A29478EACD6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00A94-6669-40D8-9D2D-0A15EA2BF1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17FC2-1A52-4942-8E5F-67BCC9E3E5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5F5AF-9085-4B22-9E25-68E6B81934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CAEE3-6520-45FF-9D29-706FB1B88F1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C8DC6-DCFA-4C27-9E2C-6E28E83725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0A0F9-114E-4F94-AAAA-751978FE681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EFB9C-BC01-4EE8-AD24-722982A4D3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FAEDA-1D97-43CD-BCCA-73F86BBDDA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24000" y="981000"/>
            <a:ext cx="81356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268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991" name="" descr=""/>
          <p:cNvPicPr/>
          <p:nvPr/>
        </p:nvPicPr>
        <p:blipFill>
          <a:blip r:embed="rId1"/>
          <a:stretch/>
        </p:blipFill>
        <p:spPr>
          <a:xfrm>
            <a:off x="0" y="0"/>
            <a:ext cx="9144000" cy="1368360"/>
          </a:xfrm>
          <a:prstGeom prst="rect">
            <a:avLst/>
          </a:prstGeom>
          <a:ln w="0">
            <a:noFill/>
          </a:ln>
        </p:spPr>
      </p:pic>
      <p:pic>
        <p:nvPicPr>
          <p:cNvPr id="992" name="" descr=""/>
          <p:cNvPicPr/>
          <p:nvPr/>
        </p:nvPicPr>
        <p:blipFill>
          <a:blip r:embed="rId2"/>
          <a:stretch/>
        </p:blipFill>
        <p:spPr>
          <a:xfrm>
            <a:off x="1258920" y="2060640"/>
            <a:ext cx="1297080" cy="1528560"/>
          </a:xfrm>
          <a:prstGeom prst="rect">
            <a:avLst/>
          </a:prstGeom>
          <a:ln w="0">
            <a:noFill/>
          </a:ln>
        </p:spPr>
      </p:pic>
      <p:pic>
        <p:nvPicPr>
          <p:cNvPr id="993" name="" descr=""/>
          <p:cNvPicPr/>
          <p:nvPr/>
        </p:nvPicPr>
        <p:blipFill>
          <a:blip r:embed="rId3"/>
          <a:stretch/>
        </p:blipFill>
        <p:spPr>
          <a:xfrm>
            <a:off x="6948360" y="1989000"/>
            <a:ext cx="1444680" cy="1573200"/>
          </a:xfrm>
          <a:prstGeom prst="rect">
            <a:avLst/>
          </a:prstGeom>
          <a:ln w="0">
            <a:noFill/>
          </a:ln>
        </p:spPr>
      </p:pic>
      <p:sp>
        <p:nvSpPr>
          <p:cNvPr id="994"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995"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125360"/>
            <a:ext cx="8424720" cy="458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35Z</dcterms:modified>
  <cp:revision>160</cp:revision>
  <dc:subject/>
  <dc:title>Παρουσίαση του PowerPoint</dc:title>
</cp:coreProperties>
</file>