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76028D-2132-4EBC-876D-FC5C9C9C94A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98BE94-839D-486F-AD68-F6CC84CED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0B0E6E-6974-4D12-A7A4-F9B29413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3F7910-2665-4902-94F3-6829C895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1A5980-FBFD-4F5F-ABFE-34753E02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D7C114-FA59-4B88-88E5-793C53BF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CF7751-9E9C-4C97-A37C-13E79007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4B8F9A-AA47-48B1-A34A-76B26D8A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576A9F-4776-4B9B-9A00-4CCEFA78F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D319-1F05-420C-9039-9CCCDA73B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FDB2-A4B3-49A8-9255-BE080A2A74C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AE14-173E-46C1-B254-EE70293181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2CFD-D441-4EF8-854F-BB49BFCE9B8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C19A-FE5A-435D-8E30-A95FE65B80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3428-EB6D-4E68-9BC3-A74CDD28B65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DC4E-15BF-4BE1-818D-70530E785C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56CF-7337-4777-81AD-9425CA09DD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BD9C-F9CD-48B4-81D4-7B3C7512D6D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1CC6-B0D4-4814-9176-0118F0976B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11D5-D4F3-43F6-8A7A-1769BA86A8D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BDE63-9F33-4A3A-9A14-300203978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F616-73AC-4143-BFA2-E69FEF0FDE8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6A743-079D-48F5-8363-7506FD57725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71ADC-6E4C-425B-9A13-66615DB5C5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902CC-DBCE-46C8-876E-CEDF3B6A5A9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9B625-A32F-4287-830B-9A190400230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1C609-9330-4625-A576-304CA335B8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AD82B-697D-4A67-BAEF-79BDFC82D2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D89B6-46B7-4B97-805F-A9EA021D49A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D39AA-E4FF-4E8C-BD15-474B7B6B05C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A6803-CC93-4283-BA48-8FD78968C8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16B06-335D-4971-A33F-364F4AFFB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0A5B-6B5A-45AC-B47C-B0E316AEE6E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60BB2-9E26-4560-B074-5F73D8D782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4F899-27D1-46D2-A95C-E69E7222795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A62CD-6D83-45BE-A500-18E8EBA31D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160C8-FB15-43CF-886B-718CDBBCA3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34093-9DFF-412D-BE1C-8C99F574034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87727-F9B9-4E09-81ED-A302850E47B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CBE2F-DAA6-4B3C-B418-960E178EF6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CF0D2-1609-4776-ACDA-8D84DB6A28B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E8018-FD70-4F60-92DF-2F0326C2842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B4BA7-0CB7-4955-96C6-C095EEF1F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F5C1-9446-4D19-9F54-4EFC4F88C9D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8AF81-E67F-42A0-8B25-C4789C6EC90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7FEDD-D7A3-4D5D-AAC8-8309B0123AC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9B782-C071-49B7-A5E7-26273169F39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770D-25B9-4842-986A-A65194D349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D12F-4661-4FC0-B312-496B0C0E84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B995-D786-488F-9AC4-FDCD0F0A6A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5B65-3C8D-4999-9FC6-936E075AEAD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9E55-5085-4C07-B1BB-14533FE12F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7075-0F57-4751-9906-FAAC454EE8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9312-AB0D-4B1D-A3F9-176E116E7F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5548-A5A0-4BA6-9712-C0540309E5E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F04E-2BCC-4AE0-A4C3-32346AD929F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1452-10B2-4E8E-903E-2BEB89CF782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EBDB-5D01-4F42-9300-821568778DE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3509-906C-4D4B-87EF-14B9418B4A5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6E15-8C30-4708-8166-BD39F722098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DE410-B104-46F1-A479-8FF1FD1201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95A93-6F54-4BE5-BAF2-73AC74FB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C3F7F-896E-4B67-A240-6640626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C943C-7FCC-499D-A45B-F4F701C9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19830-CF9F-42E7-ADDB-9E7F61E1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4025-748A-4CCC-B1D6-FC63269EEB7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D06C0-238C-4DB8-B5CB-0AD4E956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C5A5A-C82D-4C65-862E-AF689168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AEE77-CD1F-449C-B16A-AEC82F0A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34813-C525-4FEC-BF70-8ECD0BA7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055D5-2A22-4514-9EA7-674F5BF8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FDBEC-E3D0-4B18-A439-FFFEFA5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51B42-EE14-4A99-AFD8-8EA2AB807D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0331-48C5-434B-8E8D-FA9441EE47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2A37-6869-49BE-96B9-C96A05CDA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727A-D68D-4DFB-8C6F-48D76B4238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4670-A81A-4D49-B8A1-8BE9158D4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6EF0-9319-4728-B21D-0AF1225C4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1732-6394-4B26-84D2-0B4ADC5737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4ACA-17A6-47AF-9267-582CEF12E3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0D41-541E-46FD-AD50-CADADDC740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9FA7-05AA-499A-95EE-4830789B86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CD35-832B-43B0-A097-40483354F7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278-16CD-4D07-B446-E6777DD2C3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809-A4CF-46B7-801B-BD9FFB31D3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91E-0E55-4179-96C2-1823FB4D50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D43-2D11-41E0-BC68-611D25C7CA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626-FC44-4494-83CD-AF150AEA5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CB0C-53D9-4222-B47D-529D28E48B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7F3-36E2-496F-B937-7F3F8A889D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1D2-1D04-4E8F-97A0-1E044A164F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8D6-06B2-429E-B83E-5B9A52DD5E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30D-2885-48EA-9AE6-7D10C6B9FB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A80-E813-48E5-B560-241E4C4B2E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3F5-641B-4AF3-A85C-722601A5ED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ACB-C76E-4B2D-8722-B5AE1EE722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2F3D2-4360-434A-9DC8-B564F2A9BC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7DCF9-1A64-4DA0-8B76-A238065690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AE434-B224-49A2-A87E-B909F707B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8A50-9A5B-4164-9522-E6C5FBB990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3AFE0-1DC7-4964-9534-27906848A3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6AFA5-144F-4ACD-968C-8D66F5C476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6B7A7-B49E-49DC-8AE6-4FC26D6980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6A9E-DC0E-46DD-8106-41C681CE94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82FD1-5F54-45F6-BB0A-D486BC9C0B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629F7-F74D-4354-A517-B067E2917C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11DA3-2B09-47BA-AC69-D6D41278FF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81A92-F7E4-4050-A6D6-0EA783A183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31726-F977-45F5-A751-30B11A4575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05C36-6650-4BF7-89EA-0521CCA12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AD20-5012-41ED-958A-E9A8B54DD1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9BECA-8B9B-4136-A440-6BD44FC21D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97880-F4BC-47D1-A682-91534C56D4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3D42B-2E28-4A10-8B1E-6990127E78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F9C1B-8E50-4650-8A3B-E100D3FB42D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1D2C2-63B5-4B61-B846-0237EAF767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BDC1C-1CC8-4820-8DF7-BF91B69D6C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5CD2-12B6-4C43-B3A3-39D77F2EF8E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18787-0C9E-447B-AB95-8BAD4C51C9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47A7D-355C-4D86-859F-96E1D05955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61D66-A4B4-46A4-A332-2B837A31B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2E67-1B49-4476-959F-D31B373DF4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7B3B2-A1AF-4444-A474-03BD4AFC77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A41-498B-447B-8943-46F1496DEC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9129-3F96-469D-96A7-971DCE096B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7CF2-751D-482B-B38C-A04287AB5C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28A6-8BF7-403D-A8A1-F6D322CC43F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D98A-E2C8-455D-870B-26A54CE947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0ED-1842-4753-85EB-B7A0C51759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E6AB-7771-4EE9-B867-D4F79F9F3E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FF8D-5AB1-4328-BDC3-CE018F21D6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07DA-F558-47A3-945B-981E388D2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EC70-B369-4E92-AC36-F287E3CECA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1222-387B-47DF-AED2-C5F80E898E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7717-23AE-4899-AE1B-3AB9C08008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7F99-D18D-420A-A66D-1BE5EB0079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6BFEA-E309-4D86-BEBC-6A48AA5AFD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035D5-48BE-4655-9793-B1E1AAA102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2D534-A629-464D-A3B1-80A82E210F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0AF2B-A8D5-400D-927A-77FB06C89A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18A55-F41B-4631-BDEE-D7CDFF83F8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39D0B-152B-4B7C-A132-8B57468275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C6A47-DA68-48D6-9E7D-22C59B4E6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0A72-BD58-42E9-85C3-7822186977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65C46-C0FA-4433-9E00-652029B9CD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29ED8-BBEA-4389-9199-649121F822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7C5FC-CDC5-4F5D-A258-542509FD564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9CDFB-824F-4274-8F25-EC50CC71B7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01ABA-A208-432E-87E1-187FB7D94F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C8EEA-406F-4FF9-960B-A0AF799565D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EF0BA-3083-4107-8DF4-BCA440CDCE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F2F0A-EA05-499C-9C7B-582987331D6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DBB60-CEFE-4BDD-B404-AAAD40522E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42D12-5BE3-4B52-BEC8-A9A57128B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9A80-87E2-4C1E-ADE7-5FCF38DF82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FAE6B-2F00-4FB3-A121-5E224C16FB7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DEFE7-C0B1-4151-9F42-192AF2600D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AFCC8-AD10-44DD-B0F8-1A7AB200E6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FC4C1-C2D4-4379-A149-71B240749C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02A93-E3CF-433A-96B9-9A3808A0528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BEC45-3996-413D-8520-E42112DE11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06ADD-13A7-4FF6-8D10-1C8FF618F39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0D94-20C2-4D2B-BFBB-FB48EC8282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0CC7-516C-4937-BAF9-F9C1FE38824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8521-1CAF-4B9C-B4C1-5AD21B6A9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58CBE9-FBDF-4F0D-B760-C340F2C9423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1F8450-1749-45DB-AF06-2C34A289B61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259AFF-9C01-4146-AC33-EF170C329B8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8FCB9D-20FC-44BA-A122-935B36546C5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2FF008-FD0E-4AFB-B50A-F0BA1F118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B1CDD8-BC3C-482B-8943-4C447BC4A24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33C8EE-EE19-420C-93B6-911D1F68859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EA61E4-C1E0-44DD-9419-02346F6732A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F437B5-097D-4335-A4B1-1EAE43C634D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4AA593-D2B6-4771-B8DB-57945ABC598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BEC2AC-7BBA-41E2-A7F1-39C0AF0F653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724289-2E3D-4240-9D46-2BB0792EF30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20050F-5F9D-4650-ACCD-3193812414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5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1280" y="5950080"/>
            <a:ext cx="8064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4000" y="1413000"/>
            <a:ext cx="85690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ΕΝΟΤΗΤΑ 5</a:t>
            </a:r>
            <a:r>
              <a:rPr b="1" lang="el-GR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Η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εσμικό Πλαίσιο Συνδιδασκαλία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οντέλα Ένταξη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ροβλήματα και προϋποθέσ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χολικής Ένταξης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Σχολικής Ένταξη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l-GR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ΕΙΣΗΓΗΤΗΣ: Γούπος Θεόδωρος,  δρ. Παιδαγωγικών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3.Θεσμικό Πλαίσιο Συνδιδασκαλίας-Θεωρητικές Προσεγγίσει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26920" y="1413000"/>
            <a:ext cx="759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4.Μοντέλα Σχολικής Ένταξ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2985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5.Η Σχολική Κουλτούρ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6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O ρόλος του Εκπαιδευτικού Προσωπικ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7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ων γονέων και κηδεμόν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20620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ρόλος του ψυχολόγ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4136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Παράγοντες Διαμόρφωσης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της Σχολικής Ένταξ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9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ξωσχολικέ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οινωνικές Δραστηριότητε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4-10-30T21:16:07Z</dcterms:modified>
  <cp:revision>157</cp:revision>
  <dc:subject/>
  <dc:title>Παρουσίαση του PowerPoint</dc:title>
</cp:coreProperties>
</file>