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00CE9F-DB19-4827-8CFD-586979D0EF7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360AED-A868-4A4D-974B-503BC98CD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3FC9B3-22EB-42A5-B3E7-0A56DE020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8D6B7C-1724-42F5-BD86-CDD3632C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17EF5-15B0-413B-9B60-F64F8421A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D8A569-5E12-4ABC-80BE-6F20F430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A6F21B-744E-41F4-9844-85EF331B6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AEA1FB-9787-483A-846F-7E9AEC6FF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9E38BC-A524-4D15-908E-AABC18B11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945956-0F34-4BD4-AD5E-48BA1A43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28EE9-D0C1-406C-9D28-BC1067F0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2ED1B3-805B-460F-99BC-070924343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5B1CD-EEF1-44A9-AC2E-D59059502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5F3F0B-6EF8-438F-9F75-F3BADF8E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A00FAB-085E-4991-8146-3F9DC8364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26A49A-775D-4553-BFE5-605C55F1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498CC-42DC-4E26-AF63-D65295C5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A5C47A-0DD5-4116-A019-56D24C85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03306-8D3B-41EE-9339-E4EC31C7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93642-0FA5-44A0-8632-897494C35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726C74-C644-48BE-83AA-196315CB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55E89E-9948-4621-B217-8365B4F0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83439-E739-4BCD-B9AA-65B551D70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5CEB18-F785-4DFE-A2E1-16F9DA9B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A0691-CB70-4A0A-B81B-5E561FF96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7AAF93-CF96-446F-AF51-9E7FBA10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702EAC-F3F6-4F4B-8F9D-62E81B2F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10D939-4BB6-404B-ACCA-DFCF5797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59A3AA-7EE8-410F-A716-326EE697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B3E818-4839-4403-B7FF-5EDEAE2B7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CD0DA-D541-4ACD-A188-F994C167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C88CA5-B842-470D-BD55-CE2A5A13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168B-D901-4185-877D-3EF8D56C2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D341-62EE-421B-A8B9-00CCE48875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598B-E814-41C7-B455-79457189A2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A876-FDC6-4E25-94D6-43C7D84CBA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D2F3-DBB9-466A-A959-62C2951331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B7AA-CFCB-42A4-93F1-5B9F5279CD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3C80-41D8-43A0-8B7B-24B9B32C64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30D3-2AD1-48C0-9023-E82BDC5C7A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1652-0095-4B12-9766-E96DE476F6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9708-5FCF-4A72-8233-390053C91C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DDE8-1EDC-46C4-9115-360F4690B1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B64DD-D728-45BB-BF6E-84624603C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C2F5-FF9B-48E3-B5BF-1DAF0BC9318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C4208-ABAD-40B7-94E7-E6BC08C23B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E8511-BFF1-4C39-B879-20CEB70377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AA838-74FC-46B0-A6E2-38D97859C48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215F0-6A9A-428D-A59A-C05A9BCC43C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D0B26-EAFC-4C25-9572-527A2332D3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BA6A5-0EA3-4551-B424-E9074A5C5DA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6389F-2280-469A-B982-D64B65AE3C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DE463-4366-403B-AEE9-298048FBD0E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E0A78-42E3-497B-A14B-48114F7ECD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8B7BBE-2F95-41CA-B2DF-79EFC56C8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19D6-7D97-4295-B78B-C05298B0686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F79C4-EAB3-4606-AB4A-77772720FE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A1EAC-9C12-49E5-A2B4-21366111876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82289-6CE1-4D8E-9262-136717D27E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4A6C2-ED60-4B0B-BCBA-C26CC51EE2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7B384-E830-4203-9A47-4EE220DEDB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534F2-338E-4E61-B4C8-5EBB5FC43EC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F7D2D-A87E-457E-BB1B-E148CC42F2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8A7FC-0993-4F06-92B8-928CFE6042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B3CE4-E909-4DD7-B045-884B16E8E5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84F4A-0EA2-4EF3-A027-9B42DB9C6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EF3A-07EF-4BD1-ABBB-5B7EC5AC147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B9FC8-BED8-4A61-BEB5-C5618F6CEF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24FC5-E9F1-49A9-AF32-93F762C86F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8C12D-ECA3-49AF-9E5F-D06976A920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7FF1-F74D-419E-8687-619F4DE29D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DCCA-47D7-44BB-A457-6B87EEB399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05F99-6E8F-41C0-A6CD-D7E0FC5B840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3B4F-9A3F-4D43-9D7F-D9DB2D81BE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5797-D989-4A1D-8E42-68EEB4114F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6423F-05D1-4E2D-973A-1DB73F1FBA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F68A-034C-4763-A78B-C5512A2B4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D810-0A76-4C03-8EAF-262D127467D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6DCC-4195-43E3-AB02-D69356F604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E7B9-DEDF-48D7-93A1-AA42DBE373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9EB0-267B-4F80-8E28-02754497A0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5268-FEFE-4196-A053-1216460E6BD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EC2E-7DF4-4C1D-9BDA-414BFCDE27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AFE84-3121-4170-9F10-B92912DE8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B9F98-CC15-4811-A557-D7E838A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43841-BB3C-42FC-910C-0D2F89A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8A993-1D71-4313-8DE9-7932C0D5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98A0A-3013-4D57-9645-75AF82B6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87C8-7DE8-4695-A4AD-ECDAB989BCF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0303D-AB9E-4A9D-87C6-8A4C319D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3573F-59CC-4E42-A55E-79D48076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37804-C4BA-4004-901E-AF3F068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BC52F-AB1F-4DEA-A4EF-120E620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549EF-F1CB-44C3-AAF1-798FA3C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AAF01-64B7-4593-8CD3-A65E291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6B51B-EFAE-4010-96A2-D8036F83F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DEBA-1949-43E0-9699-6B0AD52815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CCAC-004F-491E-A223-31878E4E5D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D40F-2667-4B4F-8FFA-27BBF3F1A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1E3A-8204-480D-BB29-04FA5B0DA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359B-730E-455A-BD1A-6D22C8C33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08D0-92F6-4294-B1CA-D8ABB6BC3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A23B-0886-44C2-8872-38E7BD083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485F-F897-440B-A508-3C428DAB2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10CF-62A7-40A6-BF6A-303382821E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BE57-8854-4865-91DC-DDE8B95221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199-4F44-4A3C-BECF-37C7CF867F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EBA-76EA-4BDF-B7A7-1B47BC2629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A23-AA29-437F-BADF-07B5834B58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0B5-C900-4305-A447-901DE33E4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176-6A68-410F-8E3D-995971BD1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1D28-D02D-4D2F-BCB3-6DF4DFFDF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1A3-5BCC-4041-9CE4-9E9A42EDB9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7B3-CAB2-46AD-883D-5DA99F97BC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834-B1AB-4B75-A04B-05AACE965E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CE7-51E2-4F1F-8272-74F62D186B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A2A-86AC-4074-8D30-CEDAB02BFD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23C-28E8-4FA3-B815-6C66209162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5CA-EDCC-4CE3-AC7F-5C3454995A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FE35C-2C5A-4012-AD88-8B0A829A50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524FF-38E0-41D4-8B2C-ECF5383F2C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86AE5-2481-4907-BD30-73D250BDD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2559-7668-4926-89E8-E1639220F6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58F42-E009-4F8E-B586-D9325A440C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5B4FD-1271-40C9-B36E-E3FC43277A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D0F95-3D06-4F2F-A483-9822B80B59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E5F92-CDB9-4715-9BAF-39C76A0B73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F585-C54D-492C-BEE2-93EF4B47B4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DF9C0-AEF2-4B43-848E-14931248AE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4980-8CC2-418B-AE6A-3165439C62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0E65-914A-4697-9A34-760334BCD9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A8D7-D612-40F7-89A5-0C32F03E6C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2626-C377-411D-917D-6AE520DF7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7664-1AEB-4CD6-A38A-F7FA4ECF72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BF5AD-B745-47ED-9ADF-FEF6B1EA29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F5FE9-3F38-4A63-BB8B-F1CD38E42D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9E70-E535-4AD9-B53E-8796B8DA57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50872-EC80-4A8A-B554-137A108E65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D541D-8261-402D-AB0B-41C7FBC31BD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6B7EA-646C-4433-A996-9F073FEBD9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4ECA-E632-4122-8740-264A0A8716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21386-30CC-48C0-92DB-DC22C39AFF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84121-4529-4167-BA55-ECB468E227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FF451-BC9E-4A53-B32B-984DDA894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FFB2-4463-4B04-9EFB-30FCF1C3DA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D00A-0DB8-4998-A406-3220FA86BB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B2A2-452C-4D73-BC55-37EC54633E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8CB-1903-4032-8840-4EDCD047EF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156C-A3CA-47F2-B12B-E2DB88E1A0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916-F9FC-4738-8FFF-3B8F1B74DC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DB20-A55C-49BB-BD7D-4B7E54C5B1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5C93-AC8A-492A-87F6-72DBCED519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1808-E238-49DB-A466-0BDB7BACF9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C21E-69BF-45D1-BBFD-AEF3A5824D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3EC-3A31-4A0E-BB8A-CB1E476D8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343F-3575-481B-973F-B2E10A9963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5CDE-055C-464D-9E90-4745B32052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2F3-5035-40F3-8F5F-E620119996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0F96-7523-4C06-8D02-CA1BFAD021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FEC32-F94B-4139-975C-4E31754333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14441-FCD3-4292-92BB-99D2C2556A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55A07-DEE7-4D6F-AC38-AEAEEDD227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2DE58B-76CF-474E-9961-F623C93EFF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AFDB0-747E-4071-B31D-3D942E7921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72498-93C3-4688-8733-6FDBA27AAC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668C9-33E4-4E3C-9C23-897B089C0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59DD-FFB3-4858-9618-0176F9FC21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98A69-E3A3-4D1A-8728-4F77BC32B9C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6F4BC-5758-4FED-AA80-2E5A70121F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96627-2A4C-489D-8C44-FB0E4A741A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9F433-8A7B-42D2-8631-F02D1CDB2F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A7268D-8AB5-4E1F-A40C-AEC2568C123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FBE9A-7B63-4437-AE93-37CBA4F060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CD825-29AC-4EA2-99CC-8E2F7D77AC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B8E73-E4A1-4AD8-BF33-9F9DDBDCCB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109EE-DD8E-43AB-B172-18E8EEF912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83BD2-2B93-4343-8A1F-9E60B928F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F0AF-E2F9-4309-903E-24D99E7DD1F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52CCB-B7BB-4CD4-9A1D-D0592E82F3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8E593-D2C2-4DF4-B529-AB062CA50C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C821B-E2D2-4CF1-8720-1A9E164582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86C3D-B845-47DA-987D-385FC84BF2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EC5EE-1790-4852-9001-32EF3D903C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62B80-393F-4A5E-BACA-6A55EED671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A26E2-CE11-4ACA-9FB4-27599F7091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CD21-2D8D-47F8-80F8-FD3C91E637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A0A7-2C58-4489-B5A3-974EB480CE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85CD-0FFB-439B-AD05-93989F1A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91AEB-2398-44C6-B27A-C7446667401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4C5F32-9AD5-4762-8878-D2FFA955A80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DB3ACD-4B7C-4505-9089-E8735B4DCB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43C36-4A8A-4831-A101-87D30E43A90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8E622-B1A5-4088-A3A5-D9BC59717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B6821D-CCDC-43C4-8647-1E53547C58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269DD5-781C-4F3E-AE5D-6FD353425D5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C2DABF-6846-4DDC-8504-D54E62A6F2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0E034F-88CB-441A-B68E-F7C167EDBA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0004DB-A7A8-4B2B-A8B8-4F837FA00F7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D2359A-D22C-4F9A-B244-A554EE6E5AC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AA924-73C5-419F-8AAD-14B0A22C85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E4FF7A-B1DB-4B08-8FD6-F788711EBBF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5092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5092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7120" y="1392120"/>
            <a:ext cx="8102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95280" y="1052640"/>
            <a:ext cx="8353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32400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6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6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6836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7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8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8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9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0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0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1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1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82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82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9528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836640"/>
            <a:ext cx="799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0"/>
            <a:ext cx="9140760" cy="6548400"/>
            <a:chOff x="0" y="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0"/>
              <a:ext cx="9140760" cy="6548400"/>
              <a:chOff x="0" y="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7128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83236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3:27Z</dcterms:modified>
  <cp:revision>160</cp:revision>
  <dc:subject/>
  <dc:title>Παρουσίαση του PowerPoint</dc:title>
</cp:coreProperties>
</file>