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dt" idx="15"/>
          </p:nvPr>
        </p:nvSpPr>
        <p:spPr>
          <a:xfrm>
            <a:off x="3884760" y="-36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ldImg"/>
          </p:nvPr>
        </p:nvSpPr>
        <p:spPr>
          <a:xfrm>
            <a:off x="985320" y="733320"/>
            <a:ext cx="4883400" cy="366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body"/>
          </p:nvPr>
        </p:nvSpPr>
        <p:spPr>
          <a:xfrm>
            <a:off x="685440" y="4642920"/>
            <a:ext cx="5483160" cy="43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sldNum" idx="16"/>
          </p:nvPr>
        </p:nvSpPr>
        <p:spPr>
          <a:xfrm>
            <a:off x="3884760" y="928332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7E89BC-9B4E-4633-A1C0-8AD297F57B28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FA4B14-ED2A-493E-A00C-69FCCC5ED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3E62FD-A4B8-498E-B772-85CC706FC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1E32A9E-AA26-4D06-9947-FAC259C78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D3AD0DC-D988-48CF-9243-BAC643AF0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D63C68-D717-4BDA-93CA-15A0F173C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9BDE4E-262F-430A-8EE4-A868E9E34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9303ED5-0F09-48E7-AFFC-8A2AB536B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A9A37C-CCD9-4662-9431-31C645E83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D215F7-BD9D-4623-A19C-BC398958F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A73DA0-1B48-4E1C-AD32-EF2C426C3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90DBC5-94CD-480A-92AA-9DE6C7BD1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E0BA3-CB0A-417E-A79A-6D0BD45149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C258E-50F7-4F0A-9088-D48835B4207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92FDE-3F7A-4D54-A425-0CBAD6066D6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70B61-5B1E-4A6D-B4F1-2C8CD758874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2C102-4C03-457E-A58D-D1B86E5B298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B8657-15AE-4817-ADB0-4A7BFC2CA16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80B26-D9C8-4AE3-B868-6B312C36DF5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92292-A48D-4D23-A61F-A578B50C327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08B33-518C-4A5C-956A-8CE873E19BE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2D9E5-9F1B-4D9B-84DE-E3C96E900A4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57C3D-9BC7-4AB1-8112-DC88D59E974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A3656A-3A49-4D42-BC7D-A452295FBF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DFEFF-4C97-42F7-9825-57B34C0134E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72FB3E-EDE2-48BD-AC18-490787DE746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0FD468-0D49-4F3B-8708-846851789B9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83B3A2-4337-49F7-8904-C4DC622DB5E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6EC936-3D27-4D93-A9F4-54E654FFB97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FFA8DD-E670-46F0-A300-F6D01E4E92C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6F0939-4801-4E3E-A453-7812EA2EB80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CE8D85-63C6-45E4-A228-74D318F232A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45A078-5934-46F8-AB8A-125116417E6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875D6D-00E9-4464-A6AE-83C03F10040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7DDC9D-63F4-442A-9524-E92AE0574A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0E367-BDDE-4738-93E2-5C39C6D44E7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8387E4-794A-461C-AC19-CB0BF93F0C0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5F2178-C4F9-4A54-BF14-C51409EA2A4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EFCA81-0A34-45D3-B9D4-CA7ABA8177B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4971C7-32B9-421C-94C6-BDB9739E532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934626-C949-4D0C-A589-8A0412A12E3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EB2F9D-3D8E-4CB7-95C7-E7240464D8E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A156C2-0791-4621-AA26-4101BCA86DD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817F95-0186-4690-BCB3-61CD8A65705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1E44DB-D76D-4451-A825-B29BF41E955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9642EC-8A28-4E3B-BFFF-F1DAC0DCF3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127F3-55B3-4815-B1BE-DBC9A458722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6A3D70-CF6B-43BA-9A65-E0B1EDE2D13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79B323-0A43-4C2D-B237-8EE72864252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C9EC29-0EB3-4D80-BA03-DF5395CB839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5B64D-914D-4F97-8BE2-4BE0B0FF4D5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3B6B7-39CA-42D2-AFA0-6823043FE10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477CE-A9EB-446B-A3FA-6559F8A43F6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58CCD-37FD-4AFB-BC62-159D4C79D67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4A9B3-65D7-415F-9C76-66CDF49AE67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3CD57-C08C-455C-AC42-C18D3063A70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49E6D-B3C9-477D-AAE4-F6B4135183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1511C-3FC5-4419-961B-169ED5A9F90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DB8F5-35B4-413C-AEA2-DFA6F0836D9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F4127-CC0A-4D02-8A7B-E842054A763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78689-59C2-4F09-824A-398E1BF8825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C88E1-07C0-4E64-9E51-4EDF215A20D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EAD8B-DB3E-493D-8BE9-4CF002B6E5E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65682D-866A-4E2B-BE9C-4BC23988C6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CFF0A2-953E-403E-924E-B7D8CDB9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442470-5250-4996-A201-93776221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D6C803-A4FE-42C3-93AB-D3D5BA1D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AC6432-7102-4E65-9A0C-830D339B5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BFC5C-03FD-417E-AE67-2D71E4D7942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A66F87-CC7D-443E-B411-50888834E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915A50-8452-4D43-AA0A-307F9D77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4BA9E8-65DA-4948-B101-2D2EF03E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99EFE9-2326-45E7-B789-E6257ADC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299AB1-37ED-4744-881A-5A4BDEE8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F78CA5-7982-41C8-923E-C08B7315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AC5834-338C-4BCA-A102-4A4D1CF205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EABDE-31B0-41C5-86C9-74F29834B7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FD3D1-6C41-490C-991C-4E2F2A5C8D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B7434-A940-4095-8DE8-A03E27E513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F82FD-9817-48E2-8665-F454CEA297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16C13-CA64-47A7-A810-9EC27CD915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C5ABA-FFE8-4086-BFCC-459C2B4F65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FB526-D8E8-42FD-B033-D52CF42B74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64600-84BF-4098-B388-7D1AEFC659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18B28-C16B-4688-ACBD-DBB5550430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5C1D4-E246-4B6F-8082-EE023ACC9DC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7F08-7C2F-4F50-9A53-C97C8176F67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266F-F42F-42DA-BA7E-73BB32D701F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07C1-7D7E-499B-B088-72244381FA2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0137-7238-40C6-AA87-0BBF26DE9F8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8A3F-C2F0-423A-B6CC-66811E9D5C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923DC-DBC0-4C85-89A5-80004AAD528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5A3E-963A-449F-967D-82A907C977C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22E9-B049-445B-BB85-238AACAF285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9BCE-C4E8-4287-ADD0-33D9213D368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CC2B-80DB-44B4-B6B5-B0EDF6411D9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E5C0-7104-4833-99C8-932EC7A07D5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C1C8-5D83-41FF-B78D-098C30CA9E5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3846-1061-42D3-912A-D2B063CD8B4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48064-31CC-430E-82EF-0C8D9E853A3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5B9E3-1657-4140-985A-E1F6D86494B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B8DBA-3C55-4294-BB97-59FF345F0C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1A172-90E7-4DDF-8668-B6440FCFFBA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C9FD3-F127-4771-B2D9-F6304E973B6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3B7993-C189-47FE-952E-431F84FF1C6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1B674-C223-4CFB-89AF-DA0D281E703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624D72-D804-4494-A154-F3CA288C7F5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833AA-7F69-49B5-99EF-880EC4DD768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55770-AB13-4A2A-86CB-D96F0257E95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76AE8-E076-41C5-89C6-685A735F75F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DF14A0-7BDA-4C37-8C9A-DB6D622CCC7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8241D-D517-4E03-A489-609647486AC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0228D-9A5C-4C84-AEBF-23EF21D3AA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FD6BC-7728-4EFD-933E-08201948EFC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8B5A1-61B1-43D9-9492-A45C790CC93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C5D81-93A6-4087-A1C2-717B8530D7D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70D1E-DEF4-4AA1-A6DD-E16895107B9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82640-C840-493C-8544-092588AB670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2407B-4982-4FA4-ADE8-AF699BFB046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2576B8-7CEB-4C2F-AD64-D900370E01B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85627-2602-40F1-8EF5-B5FE3576418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9C231-64BC-4F23-B85A-872D8873722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D8E31-B887-4797-B09A-B21D4D31744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C9AC6-7F11-4FAA-BDC3-1B6570B181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7C8D6-0647-4972-A002-CB720FB8C9A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16F52-D27A-4057-9DD9-5DA0D04A448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87C4-69EC-411F-ACA7-29415B51552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C979-A23B-4E79-A000-20D37E10680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04DE-7FF5-4BB7-BAC8-39A7F64AF1E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3E22-F03E-4D0A-B4E0-125B873B210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D58C-0D2E-42FC-B5EB-4ED0FC5CE4B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7D53-322B-4CEF-9DD2-B2F24822ED6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4DCF-41F3-490D-A23C-C9EAD446FD8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2D77-BAC6-4ABC-B722-1A29824636C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A3B7-4025-4F2B-B293-E26AD6642D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BA994-1CB6-4397-B8A1-619274910A7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F2EB-25E3-4CAB-AB57-65AC1CE8D3D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0E9B-327E-472F-A18C-D0FBC541026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6336-3DA0-47B3-BB19-553863842B1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CFCF08-FB4D-4DD2-87B9-AABD333DB48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91FB83-3F32-4FD7-B0B3-138BB84CEED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9E71F0-8E86-4A6A-8409-8C2C53458D0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7B4E7F-47CF-4A8B-B9A1-2B6D0AD70F9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A376EB-A98D-494C-831A-8479CE78D6A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2C22AA-A187-4DD3-BE1F-A826DDC778E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9BD081-6CF9-45D7-AEB5-9FCEE7B456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FD201-E7B1-4C65-95F5-18F4B3506D2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412430-220C-4D4B-978A-F4274A7E3CB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F78033-4DE2-42A5-9D47-734761306F8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3C56AA-88C2-4442-B988-54B8AF98D9F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8F1D42-2AEE-4435-A62C-B75E2AA44ED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0D8E8A-E435-414E-9447-83CF9E5E97D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4E78CA-6C68-46A2-86AF-FD8E2E33251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287D4D-5C20-476F-A86C-18DB9A40647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42DA75-2E7F-48CD-A34B-A2F74E1D43C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5B6A99-D245-4061-8392-73D94265370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CC7135-F6E3-4552-B8A9-589C8D3DE0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67119-F1CB-4EDE-B712-225049FA095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F0A5CB-C56E-4EF2-8D2C-DA33FC3B419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8838DA-99CB-4DA2-A2BE-1E858FCE629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A793B7-F1D3-49B7-A320-1CFA8CB185B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CF7D42-2609-4B95-A951-02891E86485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283A08-927F-40E2-94E8-51A62568BE9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FA3DDF-F898-4F07-AF76-7778A31B72C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41E4B4-FBD6-4EF8-8253-FF608BA4D14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3A515-853C-4F53-9DAD-B2C8972D564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C8571-84B8-4A3B-8573-F8CBA7FF07D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189B8-C2B2-4640-A10A-EE646C6250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15D7855-B4AD-462E-9C5E-ACFBF0A5406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A3FDC7-CA61-4867-B2D5-9C75AF8020F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648FFE-F852-491A-A02D-53089DB8034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1364A6-165F-4262-A174-15949B86B80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1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1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C97287-6C8A-4575-BDBD-3ED79E91D1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37D8EE-D0DE-4E90-B396-6DC1750403C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7FC695A-E7DA-48B9-8086-10E03858856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126D75-39DC-4373-A78B-167737725E1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68AFC3-CA31-4693-BD84-40A3BC1DFE2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5F786ED-CEB0-4960-908F-908B033E9B8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FDCA37C-705B-4939-827E-4E9228D150F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5CF2DE-516C-4AE9-B63E-36B41C1E227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EF24F4B-ADDF-4765-A33F-0E94411C73A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763640" y="299736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Δια-ιδρυματικό – Διατμηματικό Πρόγραμμα Μεταπτυχιακών Σπουδών Ακαδημαϊκού Έτους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4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-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332000" y="4437000"/>
            <a:ext cx="687528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υχοπαιδαγωγική της Ένταξ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26920" y="5805360"/>
            <a:ext cx="7345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905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4"/>
          <a:stretch/>
        </p:blipFill>
        <p:spPr>
          <a:xfrm>
            <a:off x="5003640" y="0"/>
            <a:ext cx="1121040" cy="12193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6.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8. Η Υποδομή της Σχολικής Τάξης</a:t>
            </a:r>
            <a:br>
              <a:rPr sz="3600"/>
            </a:br>
            <a:br>
              <a:rPr sz="3600"/>
            </a:b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[Οργάνωση Σχολικής Τάξης </a:t>
            </a:r>
            <a:br>
              <a:rPr sz="3600"/>
            </a:b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στο Νηπιαγωγείο , </a:t>
            </a:r>
            <a:br>
              <a:rPr sz="3600"/>
            </a:b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στο Δημοτικό Σχολείο, </a:t>
            </a:r>
            <a:br>
              <a:rPr sz="3600"/>
            </a:b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στις άλλες βαθμίδες, </a:t>
            </a:r>
            <a:br>
              <a:rPr sz="3600"/>
            </a:b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γωνιές μάθησης, κλπ ]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23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24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8.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Η  Υποδομή  της Σχολικής Τάξη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32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33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6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 H Διαρρύθμιση της Σχολικής Τάξη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395280" y="3573360"/>
            <a:ext cx="813744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ΜΗΜΑ ΕΛΛΗΝΙΚΗΣ ΦΙΛΟΛΟΓΙΑΣ ΔΗΜΟΚΡΙΤΕΙΟΥ ΠΑΝΕΠΙΣΤΗΜΙΟΥ ΘΡΑΚΗΣ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ΘΝΙΚΟ ΚΕΝΤΡΟ ΕΡΕΥΝΑΣ ΦΥΣΙΚΩΝ ΕΠΙΣΤΗΜΩΝ «ΔΗΜΟΚΡΙΤΟΣ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1297080" cy="152856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444680" cy="157320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611280" y="59500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79280" y="50846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Ψυχοπαιδαγωγική της Ένταξ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Ενότητα 6 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Οργάνωση Υποδομών και Διαμόρφωση Περιβάλλοντος Εκπαίδευσης και Μάθησης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 Γούπος Θεόδωρος,  δρ. Παιδαγωγικών</a:t>
            </a:r>
            <a:br>
              <a:rPr sz="3200"/>
            </a:br>
            <a:br>
              <a:rPr sz="3200"/>
            </a:br>
            <a:br>
              <a:rPr sz="28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5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5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Θεματικοί Άξονες της Ενότητας  </a:t>
            </a: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60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61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H Ανθρωποκεντρική/Παιδαγωγική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προσέγγιση του Σχολικο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Χώρου </a:t>
            </a:r>
            <a:br>
              <a:rPr sz="3200"/>
            </a:b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69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70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3. Ο Σχολικός Χώρος</a:t>
            </a:r>
            <a:br>
              <a:rPr sz="3200"/>
            </a:b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78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79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Η Ποιότητα του Σχολικού Χώρου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87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88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Κριτήρια Ποιότητας του Σχολικού Χώρου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96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97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Οι Οικονομικοί Πόροι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05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06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Η Σχολική Τάξη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14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15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8:34:10Z</dcterms:created>
  <dc:creator>Maria Petmesidou</dc:creator>
  <dc:description/>
  <dc:language>en-US</dc:language>
  <cp:lastModifiedBy/>
  <dcterms:modified xsi:type="dcterms:W3CDTF">2024-10-30T21:21:30Z</dcterms:modified>
  <cp:revision>159</cp:revision>
  <dc:subject/>
  <dc:title>Παρουσίαση του PowerPoint</dc:title>
</cp:coreProperties>
</file>