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A5EFB6-BCB6-4F3B-9E6D-753AFC88F0B6}"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0BE81-F43C-4F7F-94E6-1A7DC8250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29CDB-2CEC-4109-B453-E1BD0CF40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E197E-159A-4EEB-B6F2-8016F8F5E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48651-58FE-40DE-A211-C86AB59C8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639ED-8EF1-4066-A8C0-716152ADD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3EF62-00D8-4D05-90EB-393D91DBC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C894F-7B4B-4345-AB11-42083D3E4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F5B2F-78A7-469F-8D68-D85F1B575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B2F23-FA66-4E79-A431-5CCB16E16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423CE-0896-44E6-9A62-15078BFEC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41B12-C0C4-44D9-A218-49104DCFE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E9448-A7AA-495D-896B-F4E7807D7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534E4-6B4F-4A38-A08D-E3FBDC237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144F4-EAAF-4C91-B88E-F59EED690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41B82-2F51-45A7-BCBA-49F168DFB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38812-41BD-4AAF-9945-B6699F154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8CBA3-7036-440A-8EB8-FF6BA2C4B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FB1D01-15D9-4690-B83D-DDB8D0531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0195C-A69F-4884-928D-2231AE31A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9FD5E-423A-4F6D-A3E0-385B5E995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4B37F-9B40-40F9-95C9-E8AB21F7E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56148-EB70-4146-8E5D-8B06A527D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5D2C2-BEA1-435B-A34D-6B5F00D0C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7AF1E-0B4A-409C-BA0E-523B3FAC2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7EA71-52AD-48CE-B960-0F15A5A55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5DF379-224B-4743-9250-CDCF31536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181AE-3536-47AE-BBCE-293A02B01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CEA6F-E524-47E9-95FB-F21A31F5C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B924C-DFA7-4AB7-A28E-F80932D38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C1F03-B8AB-4C7F-9AD5-6234DF0E7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664C4-36A0-48C8-8089-E4D4B6AEE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A3D01-392B-4B30-9E4C-C9F4C8F5E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A8BF2-E170-45AB-AF02-EFDB2DFF4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EEFDC-F7F3-404E-8B78-375D17CF3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4487E-C286-46B0-A67B-8DB280690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CC308-955C-4FF8-989D-5DD18C12A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E3A4F-6701-4F2D-88F3-4BD199A13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DB44C-9970-4F8E-A380-03CFEA594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F1629-7D7F-47D6-A718-336FC1085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5D67A-2D70-432A-8FB9-C326EE5A5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2A3EB-C333-47A8-9F7B-FCB9C9EBA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60FDA-15BF-4F36-808E-E81F9791A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7D268-0011-466A-9112-130BB52FB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48C37-ECFF-43C0-A529-40A9DB70F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2DE29-A54D-440C-A4EC-417A881E7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396E3A-2477-4864-837A-1B79D653A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8A16B-F52B-4E2B-A751-AE266F677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0F1B8-ED30-40E0-90A9-77BBB75BA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E42F5-E4C5-4C01-8AEF-08977C4C9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0B8E7-F821-413B-AF36-15DD45FEA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06FBE-5B58-4C82-8C43-2E0BF4FA2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51FA7-F989-4563-B2D9-40ECFC640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668C1-995C-4A78-BEB9-A1EAF0949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665DF-E3BE-4F44-A8F0-DB0E60CFB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36C2C-F3F2-487E-B57D-400D5FE42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255E9-DBEC-4828-8F5B-DEF109E07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2D789-42F3-41DE-BF3B-D3326E05A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2CF1C-5C5E-4F86-B536-966993E26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0DF33-A04E-457D-B394-2F5D0B05F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DEB4E-23DB-4448-B00F-58AF18701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DA0421-197A-4FFA-BC61-CB51F9482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F3C09-8268-42DE-8F61-5B56B1F96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CA4C92-F420-4BDB-85BE-6366B42AF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EC489-E934-4A7B-A857-07966B4CC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F8039-DFA2-4A09-9C2F-F9C25B1B2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45350-86E8-4F95-88AB-9832D766C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F46A0-32CD-4C84-A335-E2FA1E4E2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1DBCE-623E-4520-993F-4413A6D49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12F10-35E8-407A-AE66-724FD257B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FFD5D-2497-4B11-B8CB-246A249E2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3675B-99A3-4879-B21D-6A2C8FC5F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3FDC45C-07BD-4439-9991-9480635CB59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6051335-B553-44CA-B2EC-875BEDCCC0A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4BC6A86-6E13-46C9-ADFD-397C02012C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8295720-AF93-409D-9FCD-83E26BE59E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9084A55-A1F2-4C65-B2F7-980C4D51FA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6AACB75-33DB-4C2F-8E50-167D2CAA35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3CF8DDB-7949-43BD-9786-24FE2ED899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5916E82-B947-4125-8110-FA29AB0C45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A594519-31BE-4717-9E3B-41D72A113C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5B6CADF-F100-4945-8E0D-F6F345689A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295F0B-203A-4A42-B404-F7B2F9CA6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4D850F0-50EE-4C19-8357-1487E73371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21441A3-499B-403C-BC34-BECA7CB8469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0EAD5B5-78AC-4977-ACC9-EB8E2F8F18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C8B6114-B713-42AE-BC25-B86E72B94B4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85E23E5-704D-4CD8-ACC5-2AC5B52B60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179DA19-F7E7-4D06-8EC1-91B8067481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CF8D26E-F8B3-4308-ABDD-C00A42B3A68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0E4500D-4D5C-414E-AA2F-A49E248512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612AD51-A035-44AA-A3CA-713727FBD6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4118A63-56F8-4D91-87A7-FD8F3916C5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555A0B0-2142-4B3F-84CA-344A319DA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1697407-7300-4DEC-B6C1-FDA69FF471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6C9016E-BCE3-4736-99D5-0A80861C22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EEBAD37-2146-4353-B001-B7CD8D6DD7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D746CBC-4A60-434F-A7D6-C634E7FAB0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E20F1A8-3009-4993-BCCE-A7F96C6D014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FFBE145-7B2B-44D6-BC91-D73FF6354B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E2E4385-D8B8-4332-9CEF-87AABB7D0E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03A483A-856E-4BC5-A275-763392D7C3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C995FB5-A7CD-40C2-A6D3-08747EEE0FD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D831649-3105-45DF-8DC7-8FD47EBAAB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497366B-64C7-48D7-9B16-866E3D6C8D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F1BB69-0DB9-4685-880C-4FEA512B5BF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D614762-DE80-489F-AB40-2245757DCE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7EEB8C8D-5DB0-4C5C-8AD5-042E75118D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408F3551-2402-46C6-AA79-49CD15AAA09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7867DD1-988D-4C65-BFDE-052F17811C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37A0A36-671B-4387-8BC5-222FD6EB8C9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BF127A2-742D-4EA8-90D3-53284E7271C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9F32B5D-D0B9-4A02-A1FF-D8DA32C9F9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ED3F6CC-BB47-4BB1-B0DC-EDD8B8511B3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7EC4521-2F2E-4801-B81D-0C6A0DBA7B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3BE981A-019C-4467-9C81-F1CCA1342D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AC9DC93-952C-449A-A40A-4F876E40690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7BF7869-3D32-4BC7-B721-803E3D30760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25C2228-8227-4AD6-A57F-87B39B865B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367A1AA-1450-49E2-8DFA-E90ED7995D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B1196F3-B959-43C2-8FFD-16D4D4BDE3F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B35A545-63F7-408C-A4BD-98A9FC19FFB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EF9CA2A-2B28-497D-9995-8D9D9918D10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AFE115C-428F-4098-B50B-505E1EA007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0047ECA-A7F0-4B71-ADAE-FA676BB98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3FF1BEB-0910-499C-B94D-B5F4F114F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A4F2738-9528-4BA1-B82F-BACDF1A013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409857F-20CE-440B-B178-4171BF9CAD4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F8C6252-DBEF-4B28-8446-1E47FCEFAF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BEF1FF7-E87B-4FA0-BDD2-E32A8AFB1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D2FC19B-C812-4450-AD0C-03D14D6E0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82910CD-BB4F-4576-95F6-FFC2C6982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AEBCF1E-81E7-431A-ABE7-813EEBEF0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06D3387-7EF3-44B0-AC37-2D7E4CC00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05BD5CC-3F65-4E7E-9995-608D441E6DD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2A5817F-CAA2-4084-A213-70DE6BFBA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C5883AB-25AD-4AB1-9E3B-9DB5CCE2FD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3AE71E0-C255-4667-AC1C-12B55E2BEA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3509A2-3129-4818-8175-4827CC82A7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81E4CF5-2AB2-403B-99AE-FE2B562665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5B2711-7173-44E0-8F80-C04C605D94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0914388-DAD4-4B17-A423-9A101F75A7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6C52B50-49F8-4C49-BF2A-E5878E06F3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34829AC-A630-45E3-8FA4-0F1AFDCC3F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D80BC0D-8F79-4C68-B2B8-9F8C8DFDB0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4F059E-2487-47F1-920C-78FBF1EF7F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4A6E0-A879-4BE1-A35F-DB021B621C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4EC7F3-1385-4230-B781-F87AB72C6E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96E3EEE-4751-41A4-923C-DED725166B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F02600-4D5D-4C23-8B1D-6CC92258B3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D6CDDF1-FFA4-41AB-8F73-C2E5948FF8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11F3F12-0CE4-4F89-8C46-5AE2DC29FC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DD20F79-8AE1-4A88-86BE-1C52B5342F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5E4FA1E-3DB1-4959-B92B-2E968C5B07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A514F9D-EDA8-4B00-AC49-39227DCC4B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E16E51B-0C45-42B3-AC40-3696868488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B11C17B-7424-44B6-B7BE-DDEFFB53A5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FF94DBC-D4D7-4B9E-9642-9FF927C152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ABEB7C-3E83-4301-A44B-B1E8B82AC0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D427CFF-5B5B-4DF2-89BB-370C4DED3CD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CFC16E4-3558-47B4-94F4-E31E084D6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9216775-9BA0-4CA1-B1CF-C4D59BB530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29103FB-CF0D-4BFE-A60A-7743F3C229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AE71644-8589-47E6-9118-8F47C7A718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7AE1D94-C395-4B72-9846-44997628806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BE50096-5648-4C61-A718-977D8395151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A375345-5128-4677-8B45-3025263AF2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A0BF988-1B51-4FB6-A55C-193F96D2287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BA11B2D-A846-4018-9A36-F69242FE9F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679321A6-7D4D-40B9-BBBE-1B5C52140F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879BD59C-9FBE-4577-BEDB-F42FC8F05F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ECDE4D-F2B6-49B6-ACEA-D15CFC9CDF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72735E7-0933-41BD-80F0-3828F03B5B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13602EE-66C1-442D-815D-D85F875524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A10FFF5-87AA-48FB-9555-A4AE626EA4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F25361B-062A-4A02-99C9-D13DB7EEB5A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BAAB822-FA39-4539-A3A5-57FDBCAA96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BD499F7-A960-4C34-98FD-507ADD38AC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A4D2CBC-FFF3-43F5-A39B-4651FCA7538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5F4964B-92C7-49EC-94BD-B64F2BD1394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CF109B0-38DF-478B-88E9-6D42E23102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C88829B-535C-4536-94ED-6B05131D54D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CDF5877-F3C2-4C64-9D61-50F1C3099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F2F52DF-04C8-43AD-869C-1AD75342E5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F75C2C56-E277-4E03-8DD1-9E8D0B7CFE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13FD99-ABBF-4873-9D49-8283F601C44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BCDF4FD-64DF-4F76-ACA5-AE7FC9F48D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A4746EF-F4B7-445E-B872-31BCA190A92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92F1981-8C9E-4BBB-88EC-D75ABA4107D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5A43A7E-49ED-4469-9E99-258247E7855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81189C8-06F3-4E47-A02F-AC4951E0CE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74D6E54-1A9A-4148-ADDB-30D82832662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4496BB6-9E50-4385-9349-1A4618AEA32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D98E310-4285-4A34-AFE7-18BA5A8A08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6DA3A3-062B-456E-B49B-041D5FDACF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2EFF49F-2744-44E3-8514-FBA04511595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06235ED-1DD3-495A-A32C-4651DEEAF6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4C40521-9E66-42C3-9E22-3EDFBD331D9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56D41E0-6DD4-4DE0-98AC-974CBB118A1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2EDB4B0-BBDD-435B-9BE0-E659A46C1D3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0B4F643-A03B-4755-96D0-034F84E293E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DBF9B50-63CC-4209-8A75-44CACEAE3B6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A62ACB2-D92C-4D1C-ACAA-E3B14A80DD3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DADD1B6-9F99-4820-BF1C-BBA2C62CA0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6CE98A5-A1B3-48F4-BABD-8483AD740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B73383E-677E-4DDF-9CA6-9DACC5D5CF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BEF9460-05BE-4B19-8E00-3A543F1847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C149B48-8D34-4EC8-809C-6780B517B7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C83B879-EA0D-47F7-9129-71E74D1030C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8CEB33C-9A40-45F9-A890-11471ACD790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D6DBAAE-1A40-44E0-809A-49DD6ADABE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4F7F3B-6FE3-4B68-BE83-514709AACE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29C5B31-6928-49CB-ACC6-EC9AF87080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3408728-F04B-4BC1-951A-DF215578E7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6545036-F25A-404B-B6A4-0816B99128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192E86F3-520A-449D-AD18-5D843E6EB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729EA8E-9910-48F8-B1C7-81468E24FE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4BE7639-F3AF-4925-9FFB-8B667D12D53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DD0B422-9FF2-496F-8E47-8AB4707791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89E1B89-2BDC-4255-86EB-FE13A86FFED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8EE0948-3445-4A39-B689-5ADA8B69139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3B8673D-60AD-4800-87BC-E9E4FE1F86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7F653DBA-3AA1-43A7-B14A-6C42DD81D7F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2E8AB71-8B02-44A9-A703-E4D2E49BED2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C1244D-D003-4386-ABF9-597C261C95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8923BEA-70E3-4AFF-B6FF-76F936DABC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24B232A-7B5C-4558-B4F3-9010F99BB3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68402-7D2D-4BCC-B825-DBBF2EF85FE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571BE-44B4-45CC-9153-942A5934625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BCD23-9637-4CBB-BB74-BBEA7040C5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A6500-EC03-408F-AD41-FF6BCA75E61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00261-D4B3-4E95-A2EB-183EB42D0263}"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267B0-7561-4C5F-8422-CD6EFF9AA49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24A35-339B-4EA5-95F4-B40204391EA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EAAD0-F330-477D-B99E-07158663A7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CF39B-D604-4F61-8FDE-FE64E938B9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F7BC7-D739-4E72-994B-0AE857B8680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9320D-CA6F-4778-9B7F-4453C8C6C7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2AD22-F152-40D1-B185-1DF69FE16A1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24994-1161-4FB1-9BDB-747DFC9AF1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0800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81080" y="1392120"/>
            <a:ext cx="82785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324000" y="1268280"/>
            <a:ext cx="8496000" cy="45165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001880"/>
            <a:ext cx="8424720" cy="480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539640" y="1268280"/>
            <a:ext cx="827748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21284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εξωτερικές δραστηριότητες </a:t>
            </a:r>
            <a:br>
              <a:rPr sz="2800"/>
            </a:br>
            <a:r>
              <a:rPr b="1" lang="el-GR" sz="2800" spc="-1" strike="noStrike">
                <a:solidFill>
                  <a:srgbClr val="000000"/>
                </a:solidFill>
                <a:latin typeface="Times New Roman"/>
              </a:rPr>
              <a:t>(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413000"/>
            <a:ext cx="759600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125360"/>
            <a:ext cx="8207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137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9716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773280" y="1233360"/>
            <a:ext cx="759744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97164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80" name="" descr=""/>
          <p:cNvPicPr/>
          <p:nvPr/>
        </p:nvPicPr>
        <p:blipFill>
          <a:blip r:embed="rId1"/>
          <a:stretch/>
        </p:blipFill>
        <p:spPr>
          <a:xfrm>
            <a:off x="0" y="0"/>
            <a:ext cx="9144000" cy="1368360"/>
          </a:xfrm>
          <a:prstGeom prst="rect">
            <a:avLst/>
          </a:prstGeom>
          <a:ln w="0">
            <a:noFill/>
          </a:ln>
        </p:spPr>
      </p:pic>
      <p:pic>
        <p:nvPicPr>
          <p:cNvPr id="1181" name="" descr=""/>
          <p:cNvPicPr/>
          <p:nvPr/>
        </p:nvPicPr>
        <p:blipFill>
          <a:blip r:embed="rId2"/>
          <a:stretch/>
        </p:blipFill>
        <p:spPr>
          <a:xfrm>
            <a:off x="1258920" y="2060640"/>
            <a:ext cx="1297080" cy="1528560"/>
          </a:xfrm>
          <a:prstGeom prst="rect">
            <a:avLst/>
          </a:prstGeom>
          <a:ln w="0">
            <a:noFill/>
          </a:ln>
        </p:spPr>
      </p:pic>
      <p:pic>
        <p:nvPicPr>
          <p:cNvPr id="1182" name="" descr=""/>
          <p:cNvPicPr/>
          <p:nvPr/>
        </p:nvPicPr>
        <p:blipFill>
          <a:blip r:embed="rId3"/>
          <a:stretch/>
        </p:blipFill>
        <p:spPr>
          <a:xfrm>
            <a:off x="6948360" y="1989000"/>
            <a:ext cx="1444680" cy="1573200"/>
          </a:xfrm>
          <a:prstGeom prst="rect">
            <a:avLst/>
          </a:prstGeom>
          <a:ln w="0">
            <a:noFill/>
          </a:ln>
        </p:spPr>
      </p:pic>
      <p:sp>
        <p:nvSpPr>
          <p:cNvPr id="118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8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907920"/>
            <a:ext cx="813744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40Z</dcterms:modified>
  <cp:revision>170</cp:revision>
  <dc:subject/>
  <dc:title>Παρουσίαση του PowerPoint</dc:title>
</cp:coreProperties>
</file>