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9E6997-318A-452F-B75B-7C9C36B16E34}"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6F56B-C140-4FD4-B973-278A24AF6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985680" y="741240"/>
            <a:ext cx="4886640" cy="3665520"/>
          </a:xfrm>
          <a:prstGeom prst="rect">
            <a:avLst/>
          </a:prstGeom>
          <a:ln w="0">
            <a:noFill/>
          </a:ln>
        </p:spPr>
      </p:sp>
      <p:sp>
        <p:nvSpPr>
          <p:cNvPr id="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CFF13-0E4F-4655-B971-65294394C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568A9D-6CF8-4029-B552-8A4110BF7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E10814-8D30-4702-B4E6-902F93BDC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CB79B-8E27-4A2D-8FDE-575EEEA1F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269CF-4696-441A-83D8-72762247C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77207-2631-4709-9CD5-6A5997D0D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9D1FE-B8A7-48BD-A734-0CFEF2841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C33BE-841E-4E42-985C-6B94E7647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166ECC-87CE-4075-9B85-64E458E0B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0D889-922E-4127-800E-1C78D86DB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985680" y="741240"/>
            <a:ext cx="4886640" cy="3665520"/>
          </a:xfrm>
          <a:prstGeom prst="rect">
            <a:avLst/>
          </a:prstGeom>
          <a:ln w="0">
            <a:noFill/>
          </a:ln>
        </p:spPr>
      </p:sp>
      <p:sp>
        <p:nvSpPr>
          <p:cNvPr id="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78981-55B8-4DBA-B185-799E95C9D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BDCF1C-82F0-4392-80AE-3D68D058E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11742-BCC6-4043-8A9F-D0F793F10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D7207-AD60-4CCB-A638-C8FBAC671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1D9B7-1794-4F2C-839A-BEAAEDD84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53B27-C6E2-4898-99E1-926FF9D02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B3C08-30A3-4EED-A4F9-7B60655C2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985680" y="741240"/>
            <a:ext cx="4886640" cy="3665520"/>
          </a:xfrm>
          <a:prstGeom prst="rect">
            <a:avLst/>
          </a:prstGeom>
          <a:ln w="0">
            <a:noFill/>
          </a:ln>
        </p:spPr>
      </p:sp>
      <p:sp>
        <p:nvSpPr>
          <p:cNvPr id="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137EA3-4FF4-4AB2-ABFE-76EDCE7F8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985680" y="741240"/>
            <a:ext cx="4886640" cy="3665520"/>
          </a:xfrm>
          <a:prstGeom prst="rect">
            <a:avLst/>
          </a:prstGeom>
          <a:ln w="0">
            <a:noFill/>
          </a:ln>
        </p:spPr>
      </p:sp>
      <p:sp>
        <p:nvSpPr>
          <p:cNvPr id="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490B68-5F32-4A7B-8F29-88F6260F7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985680" y="741240"/>
            <a:ext cx="4886640" cy="3665520"/>
          </a:xfrm>
          <a:prstGeom prst="rect">
            <a:avLst/>
          </a:prstGeom>
          <a:ln w="0">
            <a:noFill/>
          </a:ln>
        </p:spPr>
      </p:sp>
      <p:sp>
        <p:nvSpPr>
          <p:cNvPr id="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B1666-C181-41C2-AA22-33088718B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985680" y="741240"/>
            <a:ext cx="4886640" cy="3665520"/>
          </a:xfrm>
          <a:prstGeom prst="rect">
            <a:avLst/>
          </a:prstGeom>
          <a:ln w="0">
            <a:noFill/>
          </a:ln>
        </p:spPr>
      </p:sp>
      <p:sp>
        <p:nvSpPr>
          <p:cNvPr id="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1A6F49-F7C2-42B0-ACD9-D017EDDDE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985680" y="741240"/>
            <a:ext cx="4886640" cy="3665520"/>
          </a:xfrm>
          <a:prstGeom prst="rect">
            <a:avLst/>
          </a:prstGeom>
          <a:ln w="0">
            <a:noFill/>
          </a:ln>
        </p:spPr>
      </p:sp>
      <p:sp>
        <p:nvSpPr>
          <p:cNvPr id="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1521B-6704-4C34-B651-8D6B6AE8B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985680" y="741240"/>
            <a:ext cx="4886640" cy="3665520"/>
          </a:xfrm>
          <a:prstGeom prst="rect">
            <a:avLst/>
          </a:prstGeom>
          <a:ln w="0">
            <a:noFill/>
          </a:ln>
        </p:spPr>
      </p:sp>
      <p:sp>
        <p:nvSpPr>
          <p:cNvPr id="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B2AFDE-3ED5-47D5-BA08-AB6508146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985680" y="741240"/>
            <a:ext cx="4886640" cy="3665520"/>
          </a:xfrm>
          <a:prstGeom prst="rect">
            <a:avLst/>
          </a:prstGeom>
          <a:ln w="0">
            <a:noFill/>
          </a:ln>
        </p:spPr>
      </p:sp>
      <p:sp>
        <p:nvSpPr>
          <p:cNvPr id="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E5A12A-8C79-4F48-BE4E-720E03E687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CA08F06-9A4A-47CF-8B77-1E87B9712A3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58531F2-EBE0-4D8C-9554-0CCE305E941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3FCA2A05-D5E6-422E-8CF3-1EFD0FE44A1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C27E938-9F93-47E8-BF42-5D7C36DDA09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56917E3-5CCA-4F4B-A234-481F6DF8D65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6ED9D62-DB12-4B66-A8F0-094A411A086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008313E-6B8B-43DC-8F3A-07974295492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B552432-765B-4832-89BA-6732A76AB59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5478B64F-46A3-4867-A389-290B4500EFE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FCC77180-989A-4FA8-BE98-2DE8ADC226B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8C9C954-5DAC-411E-BBB2-3AA497CC53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BA61F16-5491-40D7-AF13-4D5018524BF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15FB6F5-D624-4A4B-A9D7-9CC86EB526D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B4013E7-5D88-4F07-BAB4-D6116AECCA2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5CDAFB7-D054-4D1C-B754-661F8BAAE22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88B2264-C92B-4B3D-93C2-0F698F31192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7C33AFE5-5CCD-469D-96BA-58FBC311152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82980C0-C3B3-4DEF-A11B-B6AE276C07F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A79B439-3687-4132-8FC9-6E3FB231E2C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E0620A9-85AF-4B13-A0B7-06E25547891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C07E2C2-63A6-4EB8-842B-38FBF56022B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9977E2F4-3553-4033-9910-3295ADA3FA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6672112-8F12-4452-8244-03A51F9E8A0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524D5AD0-FF11-4E99-8B80-08A13BB244F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9B7E875-9D0C-4E5C-9A1B-12ADCDC9736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FD91EBE-357A-42BE-8B33-5E7D2D7E3F1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45BD35F-26FC-46B0-A0BD-EF580629041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7D115715-9A7E-47BA-A981-F9D06D85FB5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511F386A-669C-48B3-A45C-61D075535F5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DC37FD4-BA1C-4DA5-94D8-6B1E36058FF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1ADEA65-5737-44AC-9510-E8F8F0B54CA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9147DB1-7E75-456E-8A75-873D5527716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9DA871E-5EF0-4389-9968-88263E7F50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A8CB79-8FD3-41FF-A23A-45A3C2F00EF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452CA6F-D0EC-4071-B2E7-8381E04A45E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09A4B5FF-91F8-41E0-8560-588632304AF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D68FAC46-E084-4588-9AB9-D7ABF7F236B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C239CF3-D2F3-4065-A02F-88C3B8A2F47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5924406-C579-4B34-8B6B-046A69D858D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2D98D13-CFB8-4254-A77C-99BEA09DE75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D16246B-2DCD-421F-80A3-55EF48CBFEF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7FD62BA3-DFFF-4CBC-8497-4B6EA0E6B44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D368F125-B436-4ABB-892F-DC7B1FA7C98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A2CFC33-D5C7-4FBB-BE15-F9BE5C4A20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1B1F5EC-3C55-4533-8FC5-8C01A386CAF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6981413-28E2-42C4-AF2D-2C317D583EE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C02800D-738F-44B5-99DA-EE378CED897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79F7C26-B4B7-41C4-87B5-5C7196ED3CE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9BE0C8AD-D667-4F89-B123-DEB28928407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1371FA28-160B-4ECB-8B62-5691372D8AC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ADC1A1F-D23E-471A-9944-4F2EA351128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18EA588-D707-4344-B3FD-70B4A980E5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3CF49CC-9E88-47F0-B4D9-6B358D1372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D874AE1-831E-4BE9-AAF8-0D95AC6ADA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FE401DB6-32A9-4A9F-931F-C7F33C343F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0A0F6F1-BBB4-405C-8B6B-293AFDBBED3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28C7F69E-683E-4450-9750-44333BE6E4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14311A3-FC26-4893-98D3-E934C8FB5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238A49E-7177-4F35-BD1D-209BEB722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912E03A-B1A0-496A-9BD3-40FFC6FBB3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688E993-3FAD-48C3-BF97-6DCD93A659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9CA493A6-8473-499F-AFDB-E2B2A7FC66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204D0D79-1F0D-4F69-B42F-D009C90F326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75A7C43-F628-476A-B17E-5A45EB298F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5E82E72A-9DD3-4EEF-9D1E-B8B7AAF7EF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C8EAB36-9F4E-42F1-9E47-EA0CFDF314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098C144-1B62-4AC8-B719-BBDAA9A06C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969DF6F-5D93-4631-A992-BF577F1B6A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FBBA1D1-B082-477F-83B8-4975D37EA3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CF749CC-1513-41E9-81E2-69CC76C650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6FB46CF-2AEB-475E-9221-149E4E7F84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88ADA0E-8E63-45F5-A5ED-4531E18A95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1931A7E-D0CD-4B43-A49D-581875AAF09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5E51932-5C32-4436-B298-33D5BBB49F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125D60-1DA6-4423-B9B4-AAC02ACBAF6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7A96B9-DF25-4116-AFA6-F8E032298D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356814C-4700-4E94-BF3C-E6F730AB91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0737F3-E931-44BD-8E42-E1CAEEB694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E5B5A89-F647-4941-9130-F2E39E72FCE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5C1891B-8D85-457D-B4CC-59B11DC031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8C32D68-23C2-41E5-8071-A2ECD4A0267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683AE1E-752E-4072-A169-3B9DF1B7086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33A90EC-AD4B-4641-AB7B-49095611EA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8A8CF36-6080-4EE7-9249-DF7A0B576C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8D5EEABB-F875-48E0-AF7D-1099ED6AC07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E15C8C9-8B6C-4771-9F9B-ADC1CA85683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B13934-11CF-4ADF-A26A-28DFF041013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D58CE02-A1EA-41B9-8894-D891348ABBB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1B5580D-7C56-453F-9EE3-95873B7E18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26FF77B-422B-4EF9-A671-82E32A8ED58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D5A25E6-D037-41BF-BCB9-6C2A716E591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3F2BB902-19DF-490E-B6A0-8369A53D744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75CABBC9-D41E-4D85-8514-D0457C039F5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F3F590D-92C6-44C0-AEEF-36D171E1939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9D8837A-DF2A-4D31-B0E7-71F39507D8E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65D9BD6-B61C-4C81-BD97-A0214CB7F87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5994A86-4BFB-4BD0-ACD2-7EAE852C162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A95D5383-CBDF-4B3A-B81C-50610898F14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72E45177-F221-45B2-9CD4-CA9C5EA1AA7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CF52CD7-E6F5-4344-9965-772288137F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008318F-C884-472C-A9AC-ED618D22E78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E881116-5228-4A0B-B252-5087DF0D905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AC89525-B832-4F6D-A6D2-3377DC52D77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8F3D3CEC-132E-4FBD-9B43-079BC3E4714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D60FEA87-00CF-47F9-9340-2094DCFD923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45A59893-6BB9-4E0A-B931-3238E631401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91381E6-9D7B-4BC5-BC52-2F18713E64D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DACA1A5-D2B6-4150-80E1-99E8897E352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3630961-A941-47E0-9C8C-899F4F2BBD6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88593C9B-6865-4A21-B927-100762EFBC1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985B8D7-2BE4-4A0D-B926-427F8C390B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518231A-6DCD-4F37-9DF9-43413D78EEF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099AFFC5-6E97-47F5-A436-E63CDE2B483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04889D9-B0B8-4CED-96B9-E709EE719EE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7F1EF59-1193-4872-A388-AC0F823483D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D988F22-2515-4891-AB64-D8CA3FA40B3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E6A261D-440C-4A71-95AE-7A952C89B75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8BEDD658-63AF-4A35-AFED-AA960888091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6EB797C8-491A-4483-9C35-ACC03768CC9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ED09FED-EAE8-48F7-8519-5128A566F59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C663C95-4E3C-47FF-8BAC-2D6AF56DB28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A89D47A-77A7-497B-BCA0-09DF8122CE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F688847-E907-4506-B934-B0F4B7F2807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DAE9005-EF05-4104-95EB-0569E759843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376489E9-9472-4F88-8784-D02B07BEC4B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768C77B6-0067-43EA-9CF8-DEAF12F834B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D3E0DD6-7F97-46DA-9D2E-FA370D0C9DE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9DE5238-59C9-4F23-9B2F-250EBD9BD4F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B640E45-089D-446A-A387-6AE5F535666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72CBBE4-69B5-4E92-B816-24CBF289D57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B0BC2093-1593-4D65-9B16-65B79D37FB2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5CD0E533-BABF-4236-9CB1-811E7F687C0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A9DF15C-0888-4047-96A9-66DD62CC8D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E1EB395-2A5D-4E89-B666-408C260B8FF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D191439-56F6-4150-82D2-1B3957C47E9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BF68ECF-F6F2-4AEA-A67B-770D199D56B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099D647-630D-40DC-8819-8FD454D93BB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38A7A4E7-25ED-45FC-AFA3-5E7D81F651A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5F1BE127-9B24-402E-AAB4-7C19C1A89C0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D9D2D6C-D599-4B19-9132-5F237E1DB56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ADB5D4F-FD3F-45E1-A3EE-071AD551C67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76139096-9EFC-4F67-A8BF-ED30B868A06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36BCD4D-064D-4EDC-A936-0C7A1598695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010AC3F9-4B1D-457F-93D6-1A9B01A0FA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A90A344-6087-4EB1-BB27-31B033207B5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F0AF06A1-6EB8-4DCA-90FA-2C15E5E5544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C863B3A-2469-4EB0-BD7B-1EB247B9015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036597A-3905-44C8-85D4-81F92D961A8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DBFA4DA-5CF6-4EAC-BBD7-7DE60A4B8A9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4FF5B81-4F55-4BF3-9094-4AC22211162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3E80107B-7925-4FA9-9CB3-2BDDBED887D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B3185B66-8931-4883-9133-EB6D8F5C7EF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E22F750-D492-4DC8-8CAD-C68972CE3B8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F781B53-04EB-4FF0-AB93-BFB988D3102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441DF60-E2D9-4B45-A94A-BF27D0D8C4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CFF34-4D37-479F-8C12-DD6BBEA1D26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6FEF8-D9D0-42C5-91E6-AB65AB19017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70585-F1DB-4402-9CE5-95BAF7C3521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FC2181-02DC-4C00-A65A-EF1B53695A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198D18-0C1F-48C6-B053-063C1B2AAAC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F6E87-9682-4A9F-8A0E-D7B96D5CB1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DD4463-DBB0-4BA6-8BD0-8C3FDB0BC0A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3B460-B641-4F3D-B214-F38E9367A8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AD1C2-B6E9-47D0-AF10-04AE053D04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61A9B-FC2A-4743-A493-BF16840BFFB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427ED-902B-45AA-8BDE-001A87E7AF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54519-1D05-4C40-BADC-8BC1FEB3908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2B2ECA-8573-4A6A-B4E5-6DC20FE319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90000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611280" y="1407960"/>
            <a:ext cx="8208720" cy="4402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Έρευνες αποτύπωσης αντιλήψεων εκπαιδευτικών, μαθητών, γονέων, ειδικών (παιδαγωγών, ψυχολόγων, κοινωνιολόγων, αρχιτεκτόνων κ.ά.) και πολιτικών φορέων, συμβάλλουν θετικά στη διαμόρφωση ολοκληρωμένης άποψης για το σχεδιασμό εκπαιδευτικών μονάδων (Σταμάτης, 2006) και παρουσιάζουν ιδιαιτερότητες, κοινωνικές διαφοροποιήσεις και αποκλίσεις στις αναπαραστάσεις, τις προσδοκίες και τις απαιτήσεις των ατόμων (Γκιζελή, κ.ά., 2007).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611280" y="1193760"/>
            <a:ext cx="8208720" cy="4830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ην Ελλάδα, η ποιότητα των σχολικών χώρων όπου στεγάζονται και λειτουργούν τα δημόσια σχολεία χαρακτηρίζεται από μέτρια έως αρκετά χαμηλή (Γερμανός, 1998. Σταμάτης, 2001. Γκιζέλη, κ.α, 2007). Σε έρευνα του Κέντρου Ανανεώσιμων Πηγών Ενέργειας, το 1995 αναφορικά με την αποκατάσταση σχολικών κτιρίων σε όλη τη χώρα, περίπου 15.000 αίθουσες βρίσκονταν σε ενοικιαζόμενους χώρους, που τις περισσότερες φορές ήταν ακατάλληλοι για την εκπαιδευτική διαδικασία (Κ.Α.Π.Ε., 1995).</a:t>
            </a:r>
            <a:br>
              <a:rPr sz="2800"/>
            </a:b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611280" y="1469880"/>
            <a:ext cx="8208720" cy="4278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Times New Roman"/>
              </a:rPr>
              <a:t>Ο Γερμανός (1998) και οι Γκιζέλη κ.ά. (2007) περιγράφουν την κατάσταση των σχολικών υποδομών ως </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προβληματική</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 από ποιοτικής αλλά και ποσοτικής πλευράς. Ποσοτικά, το θέμα εμφανίζεται με την έλλειψη αιθουσών διδασκαλίας και του εκπαιδευτικού εξοπλισμού. Ποιοτικά, οι κριτικές επικεντρώνονται στο θέμα της καταλληλότητας του σχολικού χώρου. Πολλά σχολεία στεγάζονται σε χώρους ακατάλληλους και μη σχεδιασμένους για εκπαιδευτικές δραστηριότητες.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611280" y="1839960"/>
            <a:ext cx="8208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υγκεκριμένα, ο Γερμανός (1998) αναφέρει πως το 1991 ο τότε Υπουργός Παιδείας υπολόγισε πως το 1/3 των σχολικών κτιρίων της πρωτοβάθμιας αλλά και δευτεροβάθμιας εκπαίδευσης λειτουργούσε σε ακατάλληλα κτίρια. Ωστόσο, ακατάλληλα θεωρούνται και πολλά διδακτήρια με σημαντικά λειτουργικά προβλήματα που οφείλονται στην ελλιπή συντήρηση του σχολικού κτιρίου. </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ποιότητα στην εκπαίδευση</a:t>
            </a:r>
            <a:r>
              <a:rPr b="0" lang="el-GR" sz="2800" spc="-1" strike="noStrike">
                <a:solidFill>
                  <a:srgbClr val="000000"/>
                </a:solidFill>
                <a:latin typeface="Times New Roman"/>
              </a:rPr>
              <a:t>» δεν έχει  πληρότητα σε εννοιολογικό, θεσμικό, αλλά ούτε και σε ιδεολογικό επίπεδο</a:t>
            </a:r>
            <a:br>
              <a:rPr sz="2800"/>
            </a:br>
            <a:r>
              <a:rPr b="0" lang="el-GR" sz="2800" spc="-1" strike="noStrike">
                <a:solidFill>
                  <a:srgbClr val="000000"/>
                </a:solidFill>
                <a:latin typeface="Times New Roman"/>
              </a:rPr>
              <a:t>φαίνεται ωστόσο, να δίνεται έμφαση περισσότερο σε ζητήματα που σχετίζονται </a:t>
            </a:r>
            <a:r>
              <a:rPr b="1" lang="el-GR" sz="2800" spc="-1" strike="noStrike">
                <a:solidFill>
                  <a:srgbClr val="000000"/>
                </a:solidFill>
                <a:latin typeface="Times New Roman"/>
              </a:rPr>
              <a:t>με τη δυναμική της βελτίωση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χαρακτηριστικά που τη συναποτελούν είναι: </a:t>
            </a:r>
            <a:br>
              <a:rPr sz="2800"/>
            </a:br>
            <a:r>
              <a:rPr b="1" i="1" lang="el-GR" sz="2800" spc="-1" strike="noStrike">
                <a:solidFill>
                  <a:srgbClr val="000000"/>
                </a:solidFill>
                <a:latin typeface="Times New Roman"/>
              </a:rPr>
              <a:t>η ανταπόκριση σε καθορισμένους στόχους,</a:t>
            </a:r>
            <a:br>
              <a:rPr sz="2800"/>
            </a:br>
            <a:r>
              <a:rPr b="1" i="1" lang="el-GR" sz="2800" spc="-1" strike="noStrike">
                <a:solidFill>
                  <a:srgbClr val="000000"/>
                </a:solidFill>
                <a:latin typeface="Times New Roman"/>
              </a:rPr>
              <a:t>οι συνθήκες οικοδόμησης της γνώσης,</a:t>
            </a:r>
            <a:br>
              <a:rPr sz="2800"/>
            </a:br>
            <a:r>
              <a:rPr b="1" i="1" lang="el-GR" sz="2800" spc="-1" strike="noStrike">
                <a:solidFill>
                  <a:srgbClr val="000000"/>
                </a:solidFill>
                <a:latin typeface="Times New Roman"/>
              </a:rPr>
              <a:t>οι διοικητικές δομές, </a:t>
            </a:r>
            <a:br>
              <a:rPr sz="2800"/>
            </a:br>
            <a:r>
              <a:rPr b="1" i="1" lang="el-GR" sz="2800" spc="-1" strike="noStrike">
                <a:solidFill>
                  <a:srgbClr val="000000"/>
                </a:solidFill>
                <a:latin typeface="Times New Roman"/>
              </a:rPr>
              <a:t>οι οικονομικοί πόροι για την εκπαίδευση αλλά </a:t>
            </a:r>
            <a:br>
              <a:rPr sz="2800"/>
            </a:br>
            <a:r>
              <a:rPr b="1" i="1" lang="el-GR" sz="2800" spc="-1" strike="noStrike">
                <a:solidFill>
                  <a:srgbClr val="000000"/>
                </a:solidFill>
                <a:latin typeface="Times New Roman"/>
              </a:rPr>
              <a:t>και η σχολική κουλτούρα.</a:t>
            </a:r>
            <a:br>
              <a:rPr sz="28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οιότητα του χώρου </a:t>
            </a:r>
            <a:r>
              <a:rPr b="0" lang="el-GR" sz="2800" spc="-1" strike="noStrike">
                <a:solidFill>
                  <a:srgbClr val="000000"/>
                </a:solidFill>
                <a:latin typeface="Times New Roman"/>
              </a:rPr>
              <a:t>στον οποίο διαδραματίζεται το εκπαιδευτικό έργο και η</a:t>
            </a:r>
            <a:br>
              <a:rPr sz="2800"/>
            </a:br>
            <a:r>
              <a:rPr b="0" lang="el-GR" sz="2800" spc="-1" strike="noStrike">
                <a:solidFill>
                  <a:srgbClr val="000000"/>
                </a:solidFill>
                <a:latin typeface="Times New Roman"/>
              </a:rPr>
              <a:t>διαδικασία της μάθησης, </a:t>
            </a:r>
            <a:br>
              <a:rPr sz="2800"/>
            </a:br>
            <a:r>
              <a:rPr b="0" lang="el-GR" sz="2800" spc="-1" strike="noStrike">
                <a:solidFill>
                  <a:srgbClr val="000000"/>
                </a:solidFill>
                <a:latin typeface="Times New Roman"/>
              </a:rPr>
              <a:t>θεωρείται από τους βασικούς παράγοντες </a:t>
            </a:r>
            <a:br>
              <a:rPr sz="2800"/>
            </a:br>
            <a:r>
              <a:rPr b="0" lang="el-GR" sz="2800" spc="-1" strike="noStrike">
                <a:solidFill>
                  <a:srgbClr val="000000"/>
                </a:solidFill>
                <a:latin typeface="Times New Roman"/>
              </a:rPr>
              <a:t>που επηρεάζουν</a:t>
            </a:r>
            <a:br>
              <a:rPr sz="2800"/>
            </a:br>
            <a:r>
              <a:rPr b="0" lang="el-GR" sz="2800" spc="-1" strike="noStrike">
                <a:solidFill>
                  <a:srgbClr val="000000"/>
                </a:solidFill>
                <a:latin typeface="Times New Roman"/>
              </a:rPr>
              <a:t>την αποτελεσματικότητά τους.</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ίως στις μικρότερες ηλικίες η διαμόρφωση και η ποιότητα του σχολικού</a:t>
            </a:r>
            <a:br>
              <a:rPr sz="2800"/>
            </a:br>
            <a:r>
              <a:rPr b="0" lang="el-GR" sz="2800" spc="-1" strike="noStrike">
                <a:solidFill>
                  <a:srgbClr val="000000"/>
                </a:solidFill>
                <a:latin typeface="Times New Roman"/>
              </a:rPr>
              <a:t>χώρου πλαισιώνουν την ανάπτυξη του παιδιού λόγω των ερεθισμάτων-προτροπών</a:t>
            </a:r>
            <a:br>
              <a:rPr sz="2800"/>
            </a:br>
            <a:r>
              <a:rPr b="0" lang="el-GR" sz="2800" spc="-1" strike="noStrike">
                <a:solidFill>
                  <a:srgbClr val="000000"/>
                </a:solidFill>
                <a:latin typeface="Times New Roman"/>
              </a:rPr>
              <a:t>που διατίθενται, ενώ παράλληλα ευνοούν την επικοινωνία με τους άλλους, αλλά και</a:t>
            </a:r>
            <a:br>
              <a:rPr sz="2800"/>
            </a:br>
            <a:r>
              <a:rPr b="0" lang="el-GR" sz="2800" spc="-1" strike="noStrike">
                <a:solidFill>
                  <a:srgbClr val="000000"/>
                </a:solidFill>
                <a:latin typeface="Times New Roman"/>
              </a:rPr>
              <a:t>με τα χαρακτηριστικά και με τα φαινόμενα </a:t>
            </a:r>
            <a:br>
              <a:rPr sz="2800"/>
            </a:br>
            <a:r>
              <a:rPr b="0" lang="el-GR" sz="2800" spc="-1" strike="noStrike">
                <a:solidFill>
                  <a:srgbClr val="000000"/>
                </a:solidFill>
                <a:latin typeface="Times New Roman"/>
              </a:rPr>
              <a:t>του υλικού περιβάλλοντος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Φαίνεται πως υπάρχει σημαντική συσχέτιση της ποιότητας του εκπαιδευτικού περιβάλλοντος </a:t>
            </a:r>
            <a:br>
              <a:rPr sz="2800"/>
            </a:br>
            <a:r>
              <a:rPr b="0" lang="el-GR" sz="2800" spc="-1" strike="noStrike">
                <a:solidFill>
                  <a:srgbClr val="000000"/>
                </a:solidFill>
                <a:latin typeface="Times New Roman"/>
              </a:rPr>
              <a:t>και των δομών του σχολικού χώρου </a:t>
            </a:r>
            <a:br>
              <a:rPr sz="2800"/>
            </a:br>
            <a:r>
              <a:rPr b="0" lang="el-GR" sz="2800" spc="-1" strike="noStrike">
                <a:solidFill>
                  <a:srgbClr val="000000"/>
                </a:solidFill>
                <a:latin typeface="Times New Roman"/>
              </a:rPr>
              <a:t>με τη σχολική επιτυχία-  των μαθητών/τριώ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είναι ιδιαίτερα σημαντικό για το ελληνικό σχολείο, καθώς </a:t>
            </a:r>
            <a:r>
              <a:rPr b="1" i="1" lang="el-GR" sz="2800" spc="-1" strike="noStrike">
                <a:solidFill>
                  <a:srgbClr val="000000"/>
                </a:solidFill>
                <a:latin typeface="Times New Roman"/>
              </a:rPr>
              <a:t>δυσκολεύεται να ενσωματώνει </a:t>
            </a:r>
            <a:br>
              <a:rPr sz="2800"/>
            </a:br>
            <a:r>
              <a:rPr b="1" i="1" lang="el-GR" sz="2800" spc="-1" strike="noStrike">
                <a:solidFill>
                  <a:srgbClr val="000000"/>
                </a:solidFill>
                <a:latin typeface="Times New Roman"/>
              </a:rPr>
              <a:t>τις ιδιαιτερότητες,  </a:t>
            </a:r>
            <a:br>
              <a:rPr sz="2800"/>
            </a:br>
            <a:r>
              <a:rPr b="1" i="1" lang="el-GR" sz="2800" spc="-1" strike="noStrike">
                <a:solidFill>
                  <a:srgbClr val="000000"/>
                </a:solidFill>
                <a:latin typeface="Times New Roman"/>
              </a:rPr>
              <a:t>τις κοινωνικές διαφοροποιήσεις και τις προσδοκίες και τις απαιτήσεις αυτών που αποκλίνουν από το στερεοτυπικό μοντέλο μαθητή </a:t>
            </a:r>
            <a:br>
              <a:rPr sz="2800"/>
            </a:br>
            <a:r>
              <a:rPr b="0" lang="el-GR" sz="2800" spc="-1" strike="noStrike">
                <a:solidFill>
                  <a:srgbClr val="000000"/>
                </a:solidFill>
                <a:latin typeface="Times New Roman"/>
              </a:rPr>
              <a:t>του ελληνικού σχολικού συστήματο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61128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O ορθολογικός σχεδιασμός εκπαιδευτικών μονάδων οφείλει να λαμβάνει υπόψη τα</a:t>
            </a:r>
            <a:br>
              <a:rPr sz="2800"/>
            </a:br>
            <a:r>
              <a:rPr b="0" lang="el-GR" sz="2800" spc="-1" strike="noStrike">
                <a:solidFill>
                  <a:srgbClr val="000000"/>
                </a:solidFill>
                <a:latin typeface="Times New Roman"/>
              </a:rPr>
              <a:t>κριτήρια και όλες εκείνες τις απαραίτητες προδιαγραφές που θα συμβάλλουν στη</a:t>
            </a:r>
            <a:br>
              <a:rPr sz="2800"/>
            </a:br>
            <a:r>
              <a:rPr b="0" lang="el-GR" sz="2800" spc="-1" strike="noStrike">
                <a:solidFill>
                  <a:srgbClr val="000000"/>
                </a:solidFill>
                <a:latin typeface="Times New Roman"/>
              </a:rPr>
              <a:t>δημιουργία ενός ασφαλούς και ποιοτικού παιδαγωγικά μαθησιακού περιβάλλοντος,</a:t>
            </a:r>
            <a:br>
              <a:rPr sz="2800"/>
            </a:br>
            <a:r>
              <a:rPr b="0" lang="el-GR" sz="2800" spc="-1" strike="noStrike">
                <a:solidFill>
                  <a:srgbClr val="000000"/>
                </a:solidFill>
                <a:latin typeface="Times New Roman"/>
              </a:rPr>
              <a:t>το οποίο παράλληλα θα στηρίζει αποτελεσματικά το εκπαιδευτικό έργο.</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η ποιότητα των σχολικών χώρων όπου στεγάζονται και λειτουργούν</a:t>
            </a:r>
            <a:br>
              <a:rPr sz="2800"/>
            </a:br>
            <a:r>
              <a:rPr b="0" lang="el-GR" sz="2800" spc="-1" strike="noStrike">
                <a:solidFill>
                  <a:srgbClr val="000000"/>
                </a:solidFill>
                <a:latin typeface="Times New Roman"/>
              </a:rPr>
              <a:t>τα δημόσια σχολεία χαρακτηρίζεται </a:t>
            </a:r>
            <a:br>
              <a:rPr sz="2800"/>
            </a:br>
            <a:r>
              <a:rPr b="0" lang="el-GR" sz="2800" spc="-1" strike="noStrike">
                <a:solidFill>
                  <a:srgbClr val="000000"/>
                </a:solidFill>
                <a:latin typeface="Times New Roman"/>
              </a:rPr>
              <a:t>από μέτρια έως αρκετά χαμηλή.</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9528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όπως (οι Γερμανός (1998) </a:t>
            </a:r>
            <a:br>
              <a:rPr sz="2800"/>
            </a:br>
            <a:r>
              <a:rPr b="0" lang="el-GR" sz="2800" spc="-1" strike="noStrike">
                <a:solidFill>
                  <a:srgbClr val="000000"/>
                </a:solidFill>
                <a:latin typeface="Times New Roman"/>
              </a:rPr>
              <a:t>και οι Γκιζέλη κ.ά. (2007) )</a:t>
            </a:r>
            <a:br>
              <a:rPr sz="2800"/>
            </a:br>
            <a:r>
              <a:rPr b="0" lang="el-GR" sz="2800" spc="-1" strike="noStrike">
                <a:solidFill>
                  <a:srgbClr val="000000"/>
                </a:solidFill>
                <a:latin typeface="Times New Roman"/>
              </a:rPr>
              <a:t>περιγράφουν την κατάσταση των</a:t>
            </a:r>
            <a:br>
              <a:rPr sz="2800"/>
            </a:br>
            <a:r>
              <a:rPr b="0" lang="el-GR" sz="2800" spc="-1" strike="noStrike">
                <a:solidFill>
                  <a:srgbClr val="000000"/>
                </a:solidFill>
                <a:latin typeface="Times New Roman"/>
              </a:rPr>
              <a:t>σχολικών υποδομών ως «</a:t>
            </a:r>
            <a:r>
              <a:rPr b="0" i="1" lang="el-GR" sz="2800" spc="-1" strike="noStrike">
                <a:solidFill>
                  <a:srgbClr val="000000"/>
                </a:solidFill>
                <a:latin typeface="Times New Roman"/>
              </a:rPr>
              <a:t>προβληματική» από ποιοτικής αλλά και ποσοτικής πλευράς.</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Ποσοτικά</a:t>
            </a:r>
            <a:r>
              <a:rPr b="0" lang="el-GR" sz="2800" spc="-1" strike="noStrike">
                <a:solidFill>
                  <a:srgbClr val="000000"/>
                </a:solidFill>
                <a:latin typeface="Times New Roman"/>
              </a:rPr>
              <a:t>, το θέμα εμφανίζεται με την έλλειψη αιθουσών διδασκαλίας</a:t>
            </a:r>
            <a:r>
              <a:rPr b="0" lang="en-US" sz="2800" spc="-1" strike="noStrike">
                <a:solidFill>
                  <a:srgbClr val="000000"/>
                </a:solidFill>
                <a:latin typeface="Times New Roman"/>
              </a:rPr>
              <a:t> </a:t>
            </a:r>
            <a:r>
              <a:rPr b="0" lang="el-GR" sz="2800" spc="-1" strike="noStrike">
                <a:solidFill>
                  <a:srgbClr val="000000"/>
                </a:solidFill>
                <a:latin typeface="Times New Roman"/>
              </a:rPr>
              <a:t>στα μεγάλα αστικά κέντρα </a:t>
            </a:r>
            <a:br>
              <a:rPr sz="2800"/>
            </a:br>
            <a:r>
              <a:rPr b="0" lang="el-GR" sz="2800" spc="-1" strike="noStrike">
                <a:solidFill>
                  <a:srgbClr val="000000"/>
                </a:solidFill>
                <a:latin typeface="Times New Roman"/>
              </a:rPr>
              <a:t>και ανάλογου εκπαιδευτικού εξοπλισμού. </a:t>
            </a:r>
            <a:br>
              <a:rPr sz="2800"/>
            </a:br>
            <a:br>
              <a:rPr sz="2800"/>
            </a:br>
            <a:r>
              <a:rPr b="1" lang="el-GR" sz="2800" spc="-1" strike="noStrike">
                <a:solidFill>
                  <a:srgbClr val="000000"/>
                </a:solidFill>
                <a:latin typeface="Times New Roman"/>
              </a:rPr>
              <a:t>Ποιοτικά,</a:t>
            </a:r>
            <a:r>
              <a:rPr b="0" lang="el-GR" sz="2800" spc="-1" strike="noStrike">
                <a:solidFill>
                  <a:srgbClr val="000000"/>
                </a:solidFill>
                <a:latin typeface="Times New Roman"/>
              </a:rPr>
              <a:t> οι κριτικές επικεντρώνονται στο θέμα της</a:t>
            </a:r>
            <a:br>
              <a:rPr sz="2800"/>
            </a:br>
            <a:r>
              <a:rPr b="0" lang="el-GR" sz="2800" spc="-1" strike="noStrike">
                <a:solidFill>
                  <a:srgbClr val="000000"/>
                </a:solidFill>
                <a:latin typeface="Times New Roman"/>
              </a:rPr>
              <a:t>καταλληλότητας του σχολικού χώρου. </a:t>
            </a:r>
            <a:br>
              <a:rPr sz="2800"/>
            </a:br>
            <a:r>
              <a:rPr b="0" lang="el-GR" sz="2800" spc="-1" strike="noStrike">
                <a:solidFill>
                  <a:srgbClr val="000000"/>
                </a:solidFill>
                <a:latin typeface="Times New Roman"/>
              </a:rPr>
              <a:t>Πολλά σχολεία στεγάζονται σε χώρους ακατάλληλους και μη σχεδιασμένους για εκπαιδευτικές δραστηριότητες.</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Ωστόσο, ακατάλληλα θεωρούνται και πολλά διδακτήρια με σημαντικά λειτουργικά</a:t>
            </a:r>
            <a:br>
              <a:rPr sz="2800"/>
            </a:br>
            <a:r>
              <a:rPr b="0" lang="el-GR" sz="2800" spc="-1" strike="noStrike">
                <a:solidFill>
                  <a:srgbClr val="000000"/>
                </a:solidFill>
                <a:latin typeface="Times New Roman"/>
              </a:rPr>
              <a:t>προβλήματα που οφείλονται στην ελλιπή συντήρηση του σχολικού κτιρίου.</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66" name="" descr=""/>
          <p:cNvPicPr/>
          <p:nvPr/>
        </p:nvPicPr>
        <p:blipFill>
          <a:blip r:embed="rId1"/>
          <a:stretch/>
        </p:blipFill>
        <p:spPr>
          <a:xfrm>
            <a:off x="0" y="0"/>
            <a:ext cx="9144000" cy="1368360"/>
          </a:xfrm>
          <a:prstGeom prst="rect">
            <a:avLst/>
          </a:prstGeom>
          <a:ln w="0">
            <a:noFill/>
          </a:ln>
        </p:spPr>
      </p:pic>
      <p:pic>
        <p:nvPicPr>
          <p:cNvPr id="767" name="" descr=""/>
          <p:cNvPicPr/>
          <p:nvPr/>
        </p:nvPicPr>
        <p:blipFill>
          <a:blip r:embed="rId2"/>
          <a:stretch/>
        </p:blipFill>
        <p:spPr>
          <a:xfrm>
            <a:off x="1258920" y="2060640"/>
            <a:ext cx="1297080" cy="1528560"/>
          </a:xfrm>
          <a:prstGeom prst="rect">
            <a:avLst/>
          </a:prstGeom>
          <a:ln w="0">
            <a:noFill/>
          </a:ln>
        </p:spPr>
      </p:pic>
      <p:pic>
        <p:nvPicPr>
          <p:cNvPr id="768" name="" descr=""/>
          <p:cNvPicPr/>
          <p:nvPr/>
        </p:nvPicPr>
        <p:blipFill>
          <a:blip r:embed="rId3"/>
          <a:stretch/>
        </p:blipFill>
        <p:spPr>
          <a:xfrm>
            <a:off x="6948360" y="1989000"/>
            <a:ext cx="1444680" cy="1573200"/>
          </a:xfrm>
          <a:prstGeom prst="rect">
            <a:avLst/>
          </a:prstGeom>
          <a:ln w="0">
            <a:noFill/>
          </a:ln>
        </p:spPr>
      </p:pic>
      <p:sp>
        <p:nvSpPr>
          <p:cNvPr id="769"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7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539640" y="1413000"/>
            <a:ext cx="8280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της εκπαίδευσης 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0" i="1" lang="el-GR" sz="2800" spc="-1" strike="noStrike">
                <a:solidFill>
                  <a:srgbClr val="000000"/>
                </a:solidFill>
                <a:latin typeface="Times New Roman"/>
              </a:rPr>
              <a:t>οι υλικοτεχνικές υποδομές </a:t>
            </a:r>
            <a:br>
              <a:rPr sz="2800"/>
            </a:br>
            <a:r>
              <a:rPr b="0" i="1" lang="el-GR" sz="2800" spc="-1" strike="noStrike">
                <a:solidFill>
                  <a:srgbClr val="000000"/>
                </a:solidFill>
                <a:latin typeface="Times New Roman"/>
              </a:rPr>
              <a:t>και οι παράγοντες</a:t>
            </a:r>
            <a:r>
              <a:rPr b="0" lang="el-GR" sz="2800" spc="-1" strike="noStrike">
                <a:solidFill>
                  <a:srgbClr val="000000"/>
                </a:solidFill>
                <a:latin typeface="Times New Roman"/>
              </a:rPr>
              <a:t> που τις καθορίζουν .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413000"/>
            <a:ext cx="8280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οιότητα στη σχολική μονάδα, </a:t>
            </a:r>
            <a:br>
              <a:rPr sz="2800"/>
            </a:br>
            <a:r>
              <a:rPr b="0" lang="el-GR" sz="2800" spc="-1" strike="noStrike">
                <a:solidFill>
                  <a:srgbClr val="000000"/>
                </a:solidFill>
                <a:latin typeface="Times New Roman"/>
              </a:rPr>
              <a:t>ως έννοια είναι πολυδιάστατη και </a:t>
            </a:r>
            <a:br>
              <a:rPr sz="2800"/>
            </a:br>
            <a:r>
              <a:rPr b="0" lang="el-GR" sz="2800" spc="-1" strike="noStrike">
                <a:solidFill>
                  <a:srgbClr val="000000"/>
                </a:solidFill>
                <a:latin typeface="Times New Roman"/>
              </a:rPr>
              <a:t>περιλαμβάνει ποικίλα χαρακτηριστικά.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 name=""/>
          <p:cNvGrpSpPr/>
          <p:nvPr/>
        </p:nvGrpSpPr>
        <p:grpSpPr>
          <a:xfrm>
            <a:off x="0" y="115920"/>
            <a:ext cx="9140760" cy="6548400"/>
            <a:chOff x="0" y="115920"/>
            <a:chExt cx="9140760" cy="6548400"/>
          </a:xfrm>
        </p:grpSpPr>
        <p:grpSp>
          <p:nvGrpSpPr>
            <p:cNvPr id="577" name=""/>
            <p:cNvGrpSpPr/>
            <p:nvPr/>
          </p:nvGrpSpPr>
          <p:grpSpPr>
            <a:xfrm>
              <a:off x="0" y="115920"/>
              <a:ext cx="9140760" cy="6548400"/>
              <a:chOff x="0" y="115920"/>
              <a:chExt cx="9140760" cy="6548400"/>
            </a:xfrm>
          </p:grpSpPr>
          <p:sp>
            <p:nvSpPr>
              <p:cNvPr id="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
        <p:nvSpPr>
          <p:cNvPr id="584" name=""/>
          <p:cNvSpPr/>
          <p:nvPr/>
        </p:nvSpPr>
        <p:spPr>
          <a:xfrm>
            <a:off x="324000" y="2270160"/>
            <a:ext cx="849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Ο όρος «ποιότητα στην εκπαίδευση» δεν έχει οριοθετηθεί με πληρότητα σε εννοιολογικό, θεσμικό, αλλά ούτε και σε ιδεολογικό επίπεδο (Ματθαίου, 2001 &amp; 2007), φαίνεται ωστόσο, να δίνεται έμφαση περισσότερο σε ζητήματα που σχετίζονται με τη δυναμική της βελτίωσης (Ματθαίου, 2007).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324000" y="2270160"/>
            <a:ext cx="849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Μερικά από τα χαρακτηριστικά που τη συναποτελούν είναι: η ανταπόκριση σε καθορισμένους στόχους, οι συνθήκες οικοδόμησης της γνώσης, οι διοικητικές δομές μιας χώρας, οι οικονομικοί πόροι για την εκπαίδευση αλλά και η σχολική κουλτούρα (Υφαντή &amp; Βοζαΐτης, 2009).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395280" y="977760"/>
            <a:ext cx="8497800" cy="5262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ποιότητα του χώρου στον οποίο διαδραματίζεται το εκπαιδευτικό έργο και η διαδικασία της μάθησης, θεωρείται από τους βασικούς παράγοντες που επηρεάζουν την αποτελεσματικότητά τους (Γερμανός, 2003. Ματσαγγούρας, 2001). Ιδίως στις μικρότερες ηλικίες η διαμόρφωση και η ποιότητα του σχολικού χώρου πλαισιώνουν την ανάπτυξη του παιδιού λόγω των ερεθισμάτων-προτροπών που διατίθενται, ενώ παράλληλα ευνοούν την επικοινωνία με τους άλλους, αλλά και με τα χαρακτηριστικά και με τα φαινόμενα του υλικού περιβάλλοντος (Γερμανός, 1998. Γερμανός, 2003. Γερμανός, 2006).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250920" y="1407960"/>
            <a:ext cx="8569080" cy="4402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Κατόπιν, φαίνεται πως υπάρχει σημαντική συσχέτιση της ποιότητας του εκπαιδευτικού περιβάλλοντος και των δομών του σχολικού χώρου με τη σχολική επιτυχία - αποτυχία των μαθητών/τριών. Αυτό είναι ιδιαίτερα σημαντικό για το ελληνικό σχολείο, καθώς δεν είναι σε θέση να ενσωματώνει τις ιδιαιτερότητες, τις κοινωνικές διαφοροποιήσεις και τις προσδοκίες και τις απαιτήσεις αυτών που αποκλίνουν από το στερεότυπο μοντέλο μαθητή του ελληνικού σχολικού συστήματος (Γκιζελή, κ.ά., 2007, Γερμανός, 1999).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611280" y="2054160"/>
            <a:ext cx="820872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O ορθολογικός σχεδιασμός εκπαιδευτικών μονάδων οφείλει να λαμβάνει υπόψη τα κριτήρια και όλες εκείνες τις απαραίτητες προδιαγραφές που θα συμβάλλουν στη δημιουργία ενός ασφαλούς και ποιοτικού παιδαγωγικά μαθησιακού περιβάλλοντος, το οποίο παράλληλα θα στηρίζει αποτελεσματικά το εκπαιδευτικό έργο.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21Z</dcterms:modified>
  <cp:revision>157</cp:revision>
  <dc:subject/>
  <dc:title>Παρουσίαση του PowerPoint</dc:title>
</cp:coreProperties>
</file>