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DF5D22-BBD1-492D-8E50-247D259C838B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7AC8CA-768A-47AC-8C61-87C539035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AC7E77-8FA5-4CE9-A00C-C90818802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25AA5B-8B14-47FA-88BB-13ABA009D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C26CB0-E5F8-4968-80E3-6C5F42172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F0F843-BD58-4A45-9943-B4B2DAA1E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4718D6-03ED-45FD-8071-3E44F5DFB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C9C0EF-F5F3-4F0A-8A9B-FB9F8B046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5A9CC8-E33A-4BF5-9D6C-F5EF397BB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1F0E0B-C0A7-46C8-B2DC-6047DF82D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C9EFD9-FE2F-4675-B703-C55565EF5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E09E-15CE-4453-A083-8C5375A9B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47F2-8F8C-4E6E-9188-14B1F90EAF9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A1FFE-BCC1-4AD5-B356-E6FBBC7A681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19FF-C953-4391-8E3A-EDA103FD6C7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B73A7-8B98-42F2-ADBF-F20987645B3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BB78B-7020-49A8-B043-240EC14595C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E1291-9534-4994-9DCC-BAC78EA78A5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BD3A8-762E-41F6-BD57-218ED3628D7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14DF1-BAB2-4B3F-BE2E-29378167FD5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F21F9-2056-4DE9-A4BC-DC643E1168C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16810-ADFE-4695-84C2-DD742079BC7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32D5D7-7A67-4C6A-B759-9C3CBF071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53C9-EB9C-4DE6-8FCF-F7F88622B22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F3D454-22B8-49FE-A0B9-75A66DDE506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6C0BD8-9B35-413B-A594-BA119050578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AB762D-F190-41F3-9CA5-FAE563CC53A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94F6F0-0EC6-4E59-B025-6D983CCFF4D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CEBD2A-AA29-4616-A657-915B0DC0A41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57F0DC-0FAB-49EC-AAB3-A88B397203B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B702E6-89A7-4B53-82C1-8251F58A5BE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D77A47-4667-4246-8CFB-D8E38546EC8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17EB35-AEA7-42EA-8C42-91F39DD2BCC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78C423-BDEE-4F4D-B6ED-A311B540C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3FD7-FC74-4E99-8940-273EBDC75BC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99924C-23E7-47E7-A5B3-3B7DE2017E3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393E0B-EDA8-4E3C-8A74-E2C8E388AF2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C515CF-C745-458C-ABE9-D51493A2CE1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F6B923-83D0-4E3B-8A81-52446DE280A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95A0C3-AC5C-46B3-B6C1-C8D4F7B0ECD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D82158-655F-4E4F-9AB0-26CFDCA5783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36DD3-73FC-4BF7-ACDD-4635EA9B697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2E7DE-5131-4B2F-A873-9BFD7D84437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4C3155-B422-4080-ABD3-3FEC85FC40D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934822-297C-4889-9A8A-57A646B14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92A8E-3847-415E-820F-BFE4CFDC056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3EBB6-22CF-41F3-BC2E-87DF5B3333A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84BFA-0195-4A89-901D-24972092A08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790FE5-5739-439A-88E5-75C224FBFF8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79CC8-FC72-4248-B84B-4F9860B2A9F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51C4E-CB82-4A52-84B5-2F5B864C326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2A206-C087-40AF-923E-F9E44F4F2FC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CA4EA-3DF3-486C-AEB5-47793285C91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27B1D-45ED-48CD-9B54-91EB6DA7012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293DC-1737-462B-8C33-E184F5A2D99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287CE-579B-4496-8623-08D96C564E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647E-044F-49E2-80BB-EBB9A975E60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2B514-E92F-422C-8F87-DBDA5876A62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D0BBD-4F08-4274-8098-88555C82D2A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B3257-6A10-43A5-A3B6-93A6B0FE180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D99DF-823F-4A1E-8F99-696BD451444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D2F47-9FA5-4AAC-BC84-D26DBBE8D14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19C4F-F061-4943-BFE8-EAD08375BA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86547-D5EE-4AD8-ABB4-434B018E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3A77B-BEE6-43C0-A1DC-128B11E5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3A0A01-EA21-449A-A77F-025BBDEA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9E4BFF-4496-4684-8B2E-D4AF94AE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AEC8-04BA-4A9C-ADF0-F4F171E9221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01725-CBE1-4AD1-A29F-133C2E74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2769BC-2927-4EFA-9FD9-1FF7A32D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F6A1C-13E3-4EC5-A7D7-9690580C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53FCB0-9F79-443B-A936-2F739450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177CD7-F840-421B-B836-A1BFECA6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BD197E-708C-4D87-9948-091FA357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4ADD2-545C-4DA8-95BF-60AD91AE3D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A42A-3ABD-4609-B723-585BAFC492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C593A-80E1-4EA7-9AD7-56B4CB2038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54EF2-AA4B-4692-BF94-B27FE05C0A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AE18F-F6BF-46B5-9BEA-8746A96949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2604-9E8D-465F-B637-A0B185604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B7599-58D5-4A44-A14E-D80575480D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017D7-021E-4A0F-98BA-55DA7B1363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072D1-B5CC-4BD9-A693-45E6847C31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0022C-8398-47E1-92A8-4EB8CB0311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40C26-DC49-4C8A-B5CD-6CAFDFFB45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0B0-F77C-417B-8644-E8BECCD3D3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D376-FC2D-4DCA-AC8B-3DA830188E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24F-5AEB-4477-B0AC-DF941F16D5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B0B-4BD8-4662-A969-FC55DD7A27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7D8-BDF7-41CD-9BAA-D1EA91EA41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CE498-14F7-446D-A3B0-642C553524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21F-7AE0-4164-8748-E55E7562DB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1DF-7A59-4AA5-9CBA-17DAB3C21F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22C-B444-41D0-8486-651EAC706C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3D8-7149-46F4-8F2E-D65D1D13E8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EB2-A9E6-4404-9D89-CE55217D26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8AA-D829-44EC-83D0-C624A7E8EA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BB5-A607-4114-902D-18453BA372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E13C8-F776-43CE-9AA1-FE42F9861D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16520-050B-4E6F-8C81-C1EEE4A261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4E3FE-FF44-44DB-9F4E-95993B175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136E-3AF6-4D6C-B1B3-FA135C615E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B96E5-B544-45C2-B125-7EFE7ADF4A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D7955-2B1C-4DF1-9E1A-B2FCD43A47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3B015-B882-45F7-99BB-42BDA8274A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F91AC-A167-4DC9-9228-A811283989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678A3-1BE7-436F-867E-96BC13420F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6CECF-13D7-41FE-B608-36F5D35315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3F3FC-1C9B-461B-BAF9-704BB15F55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C7DFD-B23A-4DC4-9EE2-0E5AD720E3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96C8D-E052-4513-B56B-300EC5DCFCC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092BB-9D7D-4D8C-9504-8F64EAB11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5167-CD20-438F-AE60-DC56151E0E0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FFD72-B118-48C9-8012-1698519C658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90876-5F8E-4944-AC16-4CEF26F0DC4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52060-1EB5-48D7-9BF2-56F26868F08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2A0C8-06C7-4F36-8130-C07DA558A38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FCF2D-43F1-4488-976B-318DDA2D49A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7011E-645B-414B-8BB1-CB65E83FDBC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3A363-CC78-4A9E-BDC8-188A672BA06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1696F-14B0-4C26-B9C0-9490490F8FE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D83D8-A196-4C5B-949E-8A42E22344B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F4F19-2EE7-432C-BB52-D8E504AB5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78F0-C8C9-4F18-AA1C-85B97AC5EFB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D650C-FBAA-4D85-AF4C-EAFAC1F3606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9456-33CB-407F-9A68-FF53CF7906A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891C-A180-4411-B912-7C8CA1F96EF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F840-9831-49A9-871D-27EDF074EED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A17C-62DB-49D6-B3A3-4D312CC932F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4FBC-EB8D-4315-9208-953610C671D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A4C1-59AA-4C90-BA4B-0558EE4533D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D85B-36FE-4453-825D-559B4EB2E2E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6CB9-6403-4192-87F1-A8373FEA412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4922-132E-4499-B36F-B0E7BE661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DFC6-2441-47E1-AFDF-E32B43BE6C0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9413-2855-445F-A261-CEEDC49D03A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405F-A437-46BE-9E67-20809A15A95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46ED-6143-41EB-B22B-E3B5B1883DF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9C011F-C6AC-4D9F-895C-A92F29397A4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9F3315-B4B3-45D3-AFF6-B38464CD5D0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342622-58DB-46B5-82CD-125C764F92B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B2D89D-BA30-4DA0-88D7-52B3671ADB5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612E67-17A1-431A-AFC1-82F12552963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BFC8BE-5FDA-4724-99BE-B8E5CBF1BB5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FA5CFF-F50D-40CA-AA96-855151678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328D-4EC8-4700-B276-5909B8CCDEE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5878D8-9033-4594-9C02-5890583E82D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D5D3B8-5E5A-4D1F-B001-14C4F93ACF2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6F81D5-A2D2-4B84-8AD8-1158D9E4CBB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38BEDA-C4A6-4650-965C-E756ADF4C48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E97DF4-3E0C-49E1-9239-2A3AA742D7E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DF55B-55B3-417B-B77E-510C9B47540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089D5-1C33-41B9-96F7-7203878BCAD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391C1-5C6E-4B32-9AD3-B115B2BC9E9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300DD-9BFE-4B06-932E-9D8EBFA608B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B1530-2828-4C9B-AA0F-B082500EC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D195-AC2F-486F-914E-FFE864A7D3F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657F8-718D-4F57-A8E2-AD89D12ED58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AE90E-A028-4610-9A3C-1F6170CAC8D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70E00-CCB7-4551-9791-AC55F5898F6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3D273-C51F-443F-8DF9-4161E946023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EF259-1A9D-4179-95D7-F4E23B37A01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8E0F3-A14B-4FC5-839F-96CE4E36B8D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A966C-7CCC-4499-BF5E-35128CC4E73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D8D1A-E4DB-48B5-A737-247BD7DA91C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A2B26-326A-460F-B693-99D8EDDA38A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50448-ADDE-4F4C-B65D-2A60A1BA1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03529D-EDF8-463A-98F2-59D3D19D856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91D327-3B74-4C9A-83FA-0F15019D634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A32754-724D-4EBC-A4BF-B5A5AD75663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FA7E6A-51BB-4500-811C-533919BD90A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EAACE9-8A83-461E-8816-2C75EF0566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A334D0-F4D9-4ED3-9F02-DDB085CA03E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FE8430-D2A0-41B5-BC35-CBDEF8767B0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8F09EA-4226-4423-8A49-80C49210A7F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1ACD25-AC46-48E0-9C11-F9F29885024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4F5751-5BCF-4BD6-A5DF-B591BA585D1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4C6FEE-A684-4ACA-8E76-FE0F529AC1B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BBF3B9-BE9A-4D7F-893D-53279AA6708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3CB259-7949-4DA7-A5B5-083644199FE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3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Παναγιώτης Ν. Μαντάς-Κατσαντώνη Σπυριδούλα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4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br>
              <a:rPr sz="1800"/>
            </a:b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Ενότητας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1.Ένταξη και Ενσωμάτωση: 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2.Αντιλήψει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τάσεις και από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μαθητών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Ρόλος των εκπαιδευτικών και οι απόψεις τους για την ένταξη των μαθητών με  ΕΕΑ/ΑΝΑΠΗΡΙ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63640" y="1392120"/>
            <a:ext cx="7885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4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 και αντιλή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ης Γενικής Τάξης για την ένταξη μαθητ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ιδικές Μαθησιακές Ανάγκε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έσα από έρευνες.</a:t>
            </a:r>
            <a:br>
              <a:rPr sz="1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5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των μαθητώ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συμμαθητών τους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6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ου Οικογενειακού Περιβάλλοντο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μαθητών  με εεα/αναπηρίες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3-10-18T20:05:57Z</dcterms:modified>
  <cp:revision>161</cp:revision>
  <dc:subject/>
  <dc:title>Παρουσίαση του PowerPoint</dc:title>
</cp:coreProperties>
</file>