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A7A5A-87EA-44EE-AAE2-FC082487319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76F91-9D0A-4CF3-BD97-092BFC705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98A15-EB35-4D77-BC7A-7B05C2576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CC623-5493-4F35-BF42-6B9F19C0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7D08D-469D-460B-9959-87CAFB43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8A3FC-D58C-4FCE-9A47-05B283F43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4B98A-28B0-4BD6-873C-011412BE5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0A7C7-98BA-48CC-A81C-84D60FAC5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10913-3E39-4295-81D6-012B82EED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0A772-063C-4A03-BC2C-04FF2295B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D6636-636B-4983-9CA3-DB6DA7707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FED35-6E05-4453-8765-05A06274B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CAC62-4FAC-4615-A685-8463CF98A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5EF29-1C22-45C1-8E0D-AF78348D0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79E9D-2CC5-4B32-BF9C-F2FBC8A72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67433-F77E-4BE4-B405-8EDB5D83E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392ED-8EC1-41C8-AE97-9F692CC3A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0AB88-0EF5-4045-A832-4331B0792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EF23A-EB7D-46B7-9FEA-83BD8C4B0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EA893-BC4F-4F36-8F3C-89D56C8F7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AFED0-30B7-421D-8F74-337193BF4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5AD4F-E0C2-4E2F-8585-DA20DCE7D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36F33-9B7D-42A7-B34C-6AAC0DA36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FFCD4-5BEA-4A45-B4A6-78C982831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611BE-B584-4A1C-B22C-5D12C9A39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2C341-C729-423B-9A5B-B666DA4FB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0A1CA-7CF5-469E-AD1C-35FC40671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0DFF5-E5C4-4F63-8DEE-964A21E3F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73A94-74AE-42AB-834A-C385F61EA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634DF-9157-4567-BF77-5E857E146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FED38-63AD-465F-84BE-EEA153403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70617-E8BE-4D19-81BD-DD86BB442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1864E-5FC8-45BB-97A1-97040D23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A3EDE-2FFC-4F4E-BCF6-FFC89D402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048F4-9BED-4F5B-9482-42708B369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5E9ED-2572-400D-A122-316C2629C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443EB-1F21-42B0-8610-28CB2DA5A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D41CF-A8E2-4F51-9114-563A46BA0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8FA5C-5A7A-40E3-A2EA-3D6E038CB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D8CE7-03E1-4FAE-8D71-984B20869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579D5-878D-4F38-8698-6952CDCD5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009EA-9FCA-4C6B-BA2E-20E8F9004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E3A2A-DA46-493D-A1D7-4FDBFAD7E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F2B9E-8DD5-4034-8CAB-E0BD89FD1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8A257-0CCA-4516-A3B1-274877B2A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73811-ECEB-4BAC-B83B-2F04E2EA4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BF513-B760-4E14-B978-8A7F9E23D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1CAA6-A12B-4D80-A9C7-A523FB9D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9A552-7328-4A5D-B037-84F8A6BAA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FB7C2-F78D-4B2E-8C0D-F17E4E160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EE0D2-64AB-4C88-A740-9F6D9B881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6E85E-DE53-4A13-A065-51D35994A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6CFE2-50D7-4A4F-97CA-77A3A697B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4DD23-99A8-4DF6-8D9D-13A3F7C64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85680" y="741240"/>
            <a:ext cx="4886640" cy="3665520"/>
          </a:xfrm>
          <a:prstGeom prst="rect">
            <a:avLst/>
          </a:prstGeom>
          <a:ln w="0">
            <a:noFill/>
          </a:ln>
        </p:spPr>
      </p:sp>
      <p:sp>
        <p:nvSpPr>
          <p:cNvPr id="14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DFC10-2600-460F-BE29-DCEF2075B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6BD39-C6CC-4D26-A8F5-60718BB8E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688FE-4C8F-4128-BE59-324CC0213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1E139-8ADC-4B58-A4C5-587CB02CE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985680" y="741240"/>
            <a:ext cx="4886640" cy="3665520"/>
          </a:xfrm>
          <a:prstGeom prst="rect">
            <a:avLst/>
          </a:prstGeom>
          <a:ln w="0">
            <a:noFill/>
          </a:ln>
        </p:spPr>
      </p:sp>
      <p:sp>
        <p:nvSpPr>
          <p:cNvPr id="1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23E6A-7F44-48D3-B436-7102045A3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85680" y="741240"/>
            <a:ext cx="4886640" cy="3665520"/>
          </a:xfrm>
          <a:prstGeom prst="rect">
            <a:avLst/>
          </a:prstGeom>
          <a:ln w="0">
            <a:noFill/>
          </a:ln>
        </p:spPr>
      </p:sp>
      <p:sp>
        <p:nvSpPr>
          <p:cNvPr id="14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F40AE-C4FC-4A08-B35C-4B0928A9A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D4397-B37F-4FD4-94C0-3162849A2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985680" y="741240"/>
            <a:ext cx="4886640" cy="3665520"/>
          </a:xfrm>
          <a:prstGeom prst="rect">
            <a:avLst/>
          </a:prstGeom>
          <a:ln w="0">
            <a:noFill/>
          </a:ln>
        </p:spPr>
      </p:sp>
      <p:sp>
        <p:nvSpPr>
          <p:cNvPr id="14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70855-8FD7-4571-A66A-97607A6E8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85680" y="741240"/>
            <a:ext cx="4886640" cy="3665520"/>
          </a:xfrm>
          <a:prstGeom prst="rect">
            <a:avLst/>
          </a:prstGeom>
          <a:ln w="0">
            <a:noFill/>
          </a:ln>
        </p:spPr>
      </p:sp>
      <p:sp>
        <p:nvSpPr>
          <p:cNvPr id="1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DED8D-36C9-4D74-99ED-D2A9DA9B8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985680" y="741240"/>
            <a:ext cx="4886640" cy="3665520"/>
          </a:xfrm>
          <a:prstGeom prst="rect">
            <a:avLst/>
          </a:prstGeom>
          <a:ln w="0">
            <a:noFill/>
          </a:ln>
        </p:spPr>
      </p:sp>
      <p:sp>
        <p:nvSpPr>
          <p:cNvPr id="14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E3D93-6B1B-463E-BFF5-475397430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109CA-72E4-4EF5-9B0E-15265A02E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985680" y="741240"/>
            <a:ext cx="4886640" cy="3665520"/>
          </a:xfrm>
          <a:prstGeom prst="rect">
            <a:avLst/>
          </a:prstGeom>
          <a:ln w="0">
            <a:noFill/>
          </a:ln>
        </p:spPr>
      </p:sp>
      <p:sp>
        <p:nvSpPr>
          <p:cNvPr id="1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3ADA3-0E4C-4F86-8B1D-0E65EB358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85680" y="741240"/>
            <a:ext cx="4886640" cy="3665520"/>
          </a:xfrm>
          <a:prstGeom prst="rect">
            <a:avLst/>
          </a:prstGeom>
          <a:ln w="0">
            <a:noFill/>
          </a:ln>
        </p:spPr>
      </p:sp>
      <p:sp>
        <p:nvSpPr>
          <p:cNvPr id="1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648B1-1797-4FC8-83F6-F7B1D0D59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E95B9-495A-42F3-AB6F-04FE161AA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985680" y="741240"/>
            <a:ext cx="4886640" cy="3665520"/>
          </a:xfrm>
          <a:prstGeom prst="rect">
            <a:avLst/>
          </a:prstGeom>
          <a:ln w="0">
            <a:noFill/>
          </a:ln>
        </p:spPr>
      </p:sp>
      <p:sp>
        <p:nvSpPr>
          <p:cNvPr id="14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65840-173E-4D8F-A5D4-5FF05880E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33E09-DE2D-4FEC-8F68-B105902EE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85680" y="741240"/>
            <a:ext cx="4886640" cy="3665520"/>
          </a:xfrm>
          <a:prstGeom prst="rect">
            <a:avLst/>
          </a:prstGeom>
          <a:ln w="0">
            <a:noFill/>
          </a:ln>
        </p:spPr>
      </p:sp>
      <p:sp>
        <p:nvSpPr>
          <p:cNvPr id="1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10ADF-C58F-476A-92E7-814872AFD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85680" y="741240"/>
            <a:ext cx="4886640" cy="3665520"/>
          </a:xfrm>
          <a:prstGeom prst="rect">
            <a:avLst/>
          </a:prstGeom>
          <a:ln w="0">
            <a:noFill/>
          </a:ln>
        </p:spPr>
      </p:sp>
      <p:sp>
        <p:nvSpPr>
          <p:cNvPr id="1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D7FDD-A455-4518-8D17-EE77B97CC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85680" y="741240"/>
            <a:ext cx="4886640" cy="3665520"/>
          </a:xfrm>
          <a:prstGeom prst="rect">
            <a:avLst/>
          </a:prstGeom>
          <a:ln w="0">
            <a:noFill/>
          </a:ln>
        </p:spPr>
      </p:sp>
      <p:sp>
        <p:nvSpPr>
          <p:cNvPr id="14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CC3C8E-EDC8-4B69-BD64-0664C4A22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14071-C450-4DDA-AF76-C4C44701B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85680" y="741240"/>
            <a:ext cx="4886640" cy="3665520"/>
          </a:xfrm>
          <a:prstGeom prst="rect">
            <a:avLst/>
          </a:prstGeom>
          <a:ln w="0">
            <a:noFill/>
          </a:ln>
        </p:spPr>
      </p:sp>
      <p:sp>
        <p:nvSpPr>
          <p:cNvPr id="1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83AE3-E675-403C-A5FA-E29DC836A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985680" y="741240"/>
            <a:ext cx="4886640" cy="3665520"/>
          </a:xfrm>
          <a:prstGeom prst="rect">
            <a:avLst/>
          </a:prstGeom>
          <a:ln w="0">
            <a:noFill/>
          </a:ln>
        </p:spPr>
      </p:sp>
      <p:sp>
        <p:nvSpPr>
          <p:cNvPr id="1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FDB41-F0CB-4CDD-B2FF-87601C676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85680" y="741240"/>
            <a:ext cx="4886640" cy="3665520"/>
          </a:xfrm>
          <a:prstGeom prst="rect">
            <a:avLst/>
          </a:prstGeom>
          <a:ln w="0">
            <a:noFill/>
          </a:ln>
        </p:spPr>
      </p:sp>
      <p:sp>
        <p:nvSpPr>
          <p:cNvPr id="15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9FDB9-F5BF-4813-ABBF-C9DD65EFB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17433-FFDA-493B-881C-4826EC200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D9299-DA5F-4897-B192-030D5757A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85680" y="741240"/>
            <a:ext cx="4886640" cy="3665520"/>
          </a:xfrm>
          <a:prstGeom prst="rect">
            <a:avLst/>
          </a:prstGeom>
          <a:ln w="0">
            <a:noFill/>
          </a:ln>
        </p:spPr>
      </p:sp>
      <p:sp>
        <p:nvSpPr>
          <p:cNvPr id="1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87029-225D-4B44-9662-B30DABC17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985680" y="741240"/>
            <a:ext cx="4886640" cy="3665520"/>
          </a:xfrm>
          <a:prstGeom prst="rect">
            <a:avLst/>
          </a:prstGeom>
          <a:ln w="0">
            <a:noFill/>
          </a:ln>
        </p:spPr>
      </p:sp>
      <p:sp>
        <p:nvSpPr>
          <p:cNvPr id="1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51C3C-D360-4094-A327-C73FC5BBA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6A4E1-4E3D-4972-B242-66C2FE6B2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EB67B2C-9C5E-47C6-BA59-13027FE0BC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53A735D-03BE-45DB-8F43-CF945B033C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51BB1B2F-207F-4FD4-A001-AD111DF2E8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8780B13-2B17-4F85-BD7F-8C6980D359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8C659CC-C11A-494A-84B8-0B671C6D41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CCF8814-9BF3-49DC-80E7-B448171FE9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CA1F8D5-D62A-4EF1-9C4B-619416445C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04AA891-5C49-48F5-967B-50928CA0EE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D2847F2-1C8A-45A4-BDF2-0CBAECFA4C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A1AE013-442A-4405-9A87-EFFB947B1E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B0D233F-9CDC-43B7-9793-F38EC9183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B2A9071-8AAB-4BC1-8A5D-C7F236B30D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E14FB58-64F7-4EB5-B841-D7F95B4DFB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BB0AA6C-4133-4A52-AB0B-A1D973FCC6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69A0BF7-33CD-435E-BC74-3D2F87BB2C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4B30AFD-7435-4C22-B642-D45FF8F620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1F9CBBA-DA19-4E22-8EB7-410BBB0D5A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F8D1777-D0BC-47AF-93CC-DBFD882B2E3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3929913-F8C8-4B39-830F-8B55FA7953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3DFA560-7C48-4D1B-844A-B399435652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560D97A-5F37-4FFB-9939-665F1CDD00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EF6F213-A67C-42E7-9055-DDDAF3BCD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AE222C2-2262-4905-A80F-50919B9303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CF26E8F-E685-47A2-B934-B355125461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9E5B83E-654F-41EB-81B6-55C321E8E5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AC1090C-6900-4FD9-A689-986B27EB6B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7427FDA-CC6B-46BA-84A6-F5848DAECD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9E96175-367F-4B8E-97D7-A5C21F5825A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A7AC9F6-DBC5-4632-876B-CDEA1360FF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5714B44-68BD-4448-8449-D0E064D85C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5584420-36AC-4EED-BFAE-09ED4F7267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9F81E12-F060-4F78-BA1A-FA10F9DEBA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5232649-6FB7-4902-BC71-743EB1C74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AEE2F9-2F8B-4B98-9517-D7F7F5DE94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598E133-F2FB-42CC-A438-622DF4600D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054550B-2A18-4927-A83F-BA9A333D0E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5BA0BEB-4871-410A-BB37-93F63D4BC3D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16DB1C9-7BF0-4B5B-AEF3-981E2C942A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4FFD549-055D-435B-B141-D41BA57D04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8EB5548-182B-42E9-880A-A0BD4F76B59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405D961-B7CC-4427-9517-E0B37A19E8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3FDB810-3D8F-459A-A942-BA924DE7E5B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7A8E3CC-BC63-48DB-BE2D-3D9DEC882C2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D955918-F9BD-41D7-AF98-8FFAE088C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FEE0326-7ADC-4899-BCE3-620A1B9A67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86517FC-0844-4D09-BEE8-663000C241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6ABDD01-B88F-443B-ABC8-A26669EFFC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816A569-5A83-4BF0-A39A-39FC714E2B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5ADD8F6-DBD5-40FB-B580-61979B3813D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87D7FE7-CA5E-411B-AFD3-046EECBC052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6C3E41D-7891-4626-8E93-CB1173B05E2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147B535-2A91-4D5E-B73A-3F65D0423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2E66DE9-5CD3-4B57-8AE0-D9CC2F884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5DE7D70-8263-48EE-AAA2-B6FE7DF64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E4D84E3-5EBB-47E8-AFA9-BB13B0A59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6A60B70-EB55-4358-A43D-1372F7A6AC4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CA1DD7C-E9BC-4EDC-971D-9BF97157D4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F69AB48-7AD1-4B89-A1B6-C0EEE4AFC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F3197CD-FFF1-402F-9316-DD58E7B0F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F34F3D9-0CC0-4891-B8C6-D950DE9F5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392A5AD-F2CE-46F0-9CBD-B1EE8E57F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96CC7AE-E9B6-4A00-B878-4D824E87E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F04F228-79A6-4F93-9A13-B669E018DBC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BAAD139-6ED2-4B80-80B9-1E895B14A5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16FAD1F-1E1A-4606-BF3F-9BC6754AA7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5A17B20-FC29-449A-ABCE-99C3184936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7AD7D00-C51B-4437-A9D5-0B706110A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65343D9-0CD5-48F7-AD98-E3D528C27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B4E3A52-714F-4C2B-AB0C-8A6BD4AF1D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1EC732-8B47-4BED-8129-A07F0AA86B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73A0EF-A8AE-47AD-AE02-650A31272A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DE0D7AF-5292-43CE-9186-A4877D58AA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C49235C-D545-473D-8CCF-47225C8E7C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2ECFBD-D8FB-412F-BB53-8472C94D85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CA6A41-5D87-4D83-A43C-FCD13A54D9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DD8ED9-5D81-47FC-9F85-168F520FA0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0634AC6-55A9-4048-8E76-8B373C5A26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B6D007-A90E-413D-82A6-0AE40F1A9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3E2F3AD-FF06-44BB-AC26-DE8B75ABCB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E031C39-9755-43A7-990B-E91872DA0A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2630999-6781-440C-A08C-8741EFB5D9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6A0D013-E022-4BB2-946E-A1B1B5246A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66CF5F4-4AA1-4482-A5C0-C7BAA02D30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6ECE76A-F2B9-4A12-BE6D-5D6115C23D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7CD9565-B7BF-47E6-B0C4-85F27E7B5B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7DD5290-1FF0-4931-962C-F7C28C99DF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7CC5A-9053-4A61-8DBF-DECCBF1B87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335CFAB-50A5-4C74-A5BF-8F30A0E671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0B77442-84FF-4D0F-9589-B779CFD277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86921C5-C715-467E-911A-FF394BE583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7B0DE3B-02AA-4DF4-B109-65FCD2731D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292226F-C6B4-47D0-948F-D7683E4589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9B32D3F-1E2D-4386-99BE-E689EB8579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E23E193-A887-44A6-81B6-A2EC5F6F0BB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98C4739-4460-427D-B23D-1D6D6459EA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2BE6A56-CEAD-46B9-A1A2-2984E094A6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854025F-DA64-4D5B-9A05-FCE93A05F79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F1B4395-D5C8-46E2-9D82-2311827D22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E5A9BDE-9FCC-45FB-9F73-7D231E648D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5F954A-9C86-4477-8469-67305A6F39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CF6EAE7-0BB9-4527-BF8C-C292D0BDFA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5D9A315-09C6-4DC7-8E2B-5DBACA1EF8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F5961E0-04D6-4978-8D9F-9E06C78F59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E6137B7-6383-44AC-A233-09CC27DDF37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2B7A0DF-B647-495A-85CF-F5EE4CF073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AE7DF21-586C-4587-930E-C968B651D1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8164C14-A1C9-46E9-8C1B-5C71AEE83B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7146CC5-57A2-49CA-979E-DF58A647EF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1037D49-AB52-44E2-8347-51840139F7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463E362-A70A-4F79-9E5F-4961E0EEEB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D5CEE08-240E-43E0-9716-960388F74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EDC632C-B1E8-44B8-B95D-C72DD6A9C0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A045899-3337-4F01-B64C-07F4BCA212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04179B-5025-493E-B479-A0C90C3FD6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D519735-05DD-49CE-A491-DB540F45B7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DB2758B-892F-49DC-A273-406C6A91FD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07723C0-6434-4E9B-B268-EA0BCE32041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82A592A-879B-4539-B61E-2179FF78EC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C994405-BFA2-4FF7-94FD-2B5314882F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C227EDF-1B21-4604-9D9E-6F22835F228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377B9AC-28A1-44A4-B7B2-EC8F62B95E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B12EC21-312F-42FC-8F38-50E574347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5514567-574C-44B3-9E1F-F6B7BC8B94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6E531A7-2BF4-48DB-97D3-58139F9CDE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7864429-6647-4869-BFA7-235DBA529B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E91CBFF-E225-47B2-BD0D-E5B8E801ED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DC9D00E-3DE6-447B-9876-B0BA233F75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582ECFD-6A7E-4BDD-97F7-6A95B5DCFCF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5B54E21-4AD5-47BB-BAEF-735EF5F658F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D869380-8ED2-4D15-BD44-F25CA268A1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7788659-BD03-4219-8ABA-0218C2DD974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9ADFDEA-018C-449B-8C35-7B962FEDEC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4322E08-0BC6-47B5-91E7-8920503E2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9CF7827-8175-40DA-B331-7789C164FB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7AF8B5C-957F-42FA-95AE-73BD98F1EB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248A18B-C01E-4B13-A2E5-B1B5BAFABF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816FCE8-3DA3-461A-9B64-1E0695E920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000BA11-200D-4941-A53A-DB80F1627A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D5A4882-63E0-4456-8D78-42288A8FE0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35654A-D197-4C09-B736-68B3D32E19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E9E8BAB-B9CF-4D9A-8429-350A116899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5CA1023-8C29-4104-BDD2-1EF341BA85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58E0A09-908E-4922-A1F8-19E1F05B924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7D11668-9FAB-4EB3-AC99-A30C58313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FCA5EC1-9B98-4442-A008-50D67528D7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C425427-3F7D-4986-870E-418521EDDF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CA0C769-3C53-4127-BA66-29316EDCE1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6877799-84B3-4847-9957-928789AA8D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4D9A23D-997D-46A8-9457-19678F454F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CF51B4E-4893-46FD-B716-280F787404A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E0927CE-5921-4109-A6E4-CA83536B8E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7B9F460-6F3B-49E6-8505-199BB008DD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AB3297-BA01-4C69-AD30-3835D395AC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300F110-6827-42F9-A412-F23DCF098CD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4E11144-A939-4E6F-B60F-F1B39CFFF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76753-F782-4F3B-8C22-76F6D41FC9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93027-07F1-48D8-B478-3721DC2CA3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847C9-1344-465F-A2A3-CC67730FEA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EFEDB-6A46-4882-AB0D-E2D6B43D5C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40C4E-55DF-4809-85AD-B22A963E384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5EB9F-E2C2-4119-B281-ACC0047D364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0D8E7-7BB2-479F-9DC5-F0EA12105E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670BC-06C0-4312-993E-0A60CCF2E9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657EB-0015-4E8A-AD4B-446226C8F6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230A7-41F6-41C5-B69D-834C1F8489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099FD-6556-4AD9-9E0A-B1DECD42B0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034C0-771D-4113-AF34-4FE30CE027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F7026-F67D-4CFE-8AA1-73A034D7F1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197000"/>
            <a:ext cx="8351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00" y="1052640"/>
            <a:ext cx="849600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24000" y="1341360"/>
            <a:ext cx="8496000" cy="444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ea typeface="Microsoft YaHei"/>
              </a:rPr>
              <a:t>Αντιλήψεις</a:t>
            </a:r>
            <a:r>
              <a:rPr b="1" lang="en-US" sz="3200" spc="-1" strike="noStrike">
                <a:solidFill>
                  <a:srgbClr val="000000"/>
                </a:solidFill>
                <a:latin typeface="Times New Roman"/>
                <a:ea typeface="Microsoft YaHei"/>
              </a:rPr>
              <a:t>,</a:t>
            </a:r>
            <a:r>
              <a:rPr b="1" lang="el-GR" sz="3200" spc="-1" strike="noStrike">
                <a:solidFill>
                  <a:srgbClr val="000000"/>
                </a:solidFill>
                <a:latin typeface="Times New Roman"/>
                <a:ea typeface="Microsoft YaHei"/>
              </a:rPr>
              <a:t>στάσεις και απόψεις  </a:t>
            </a:r>
            <a:br>
              <a:rPr sz="3200"/>
            </a:br>
            <a:r>
              <a:rPr b="1" lang="el-GR" sz="3200" spc="-1" strike="noStrike">
                <a:solidFill>
                  <a:srgbClr val="000000"/>
                </a:solidFill>
                <a:latin typeface="Times New Roman"/>
                <a:ea typeface="Microsoft YaHei"/>
              </a:rPr>
              <a:t>των εκπαιδευτικών </a:t>
            </a:r>
            <a:br>
              <a:rPr sz="3200"/>
            </a:br>
            <a:r>
              <a:rPr b="1" lang="el-GR" sz="3200" spc="-1" strike="noStrike">
                <a:solidFill>
                  <a:srgbClr val="000000"/>
                </a:solidFill>
                <a:latin typeface="Times New Roman"/>
                <a:ea typeface="Microsoft YaHei"/>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79280" y="907920"/>
            <a:ext cx="842508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125360"/>
            <a:ext cx="86374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125360"/>
            <a:ext cx="8569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25092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70" name="" descr=""/>
          <p:cNvPicPr/>
          <p:nvPr/>
        </p:nvPicPr>
        <p:blipFill>
          <a:blip r:embed="rId1"/>
          <a:stretch/>
        </p:blipFill>
        <p:spPr>
          <a:xfrm>
            <a:off x="0" y="0"/>
            <a:ext cx="9144000" cy="1368360"/>
          </a:xfrm>
          <a:prstGeom prst="rect">
            <a:avLst/>
          </a:prstGeom>
          <a:ln w="0">
            <a:noFill/>
          </a:ln>
        </p:spPr>
      </p:pic>
      <p:pic>
        <p:nvPicPr>
          <p:cNvPr id="1271" name="" descr=""/>
          <p:cNvPicPr/>
          <p:nvPr/>
        </p:nvPicPr>
        <p:blipFill>
          <a:blip r:embed="rId2"/>
          <a:stretch/>
        </p:blipFill>
        <p:spPr>
          <a:xfrm>
            <a:off x="1258920" y="2060640"/>
            <a:ext cx="1297080" cy="1528560"/>
          </a:xfrm>
          <a:prstGeom prst="rect">
            <a:avLst/>
          </a:prstGeom>
          <a:ln w="0">
            <a:noFill/>
          </a:ln>
        </p:spPr>
      </p:pic>
      <p:pic>
        <p:nvPicPr>
          <p:cNvPr id="1272" name="" descr=""/>
          <p:cNvPicPr/>
          <p:nvPr/>
        </p:nvPicPr>
        <p:blipFill>
          <a:blip r:embed="rId3"/>
          <a:stretch/>
        </p:blipFill>
        <p:spPr>
          <a:xfrm>
            <a:off x="6948360" y="1989000"/>
            <a:ext cx="1444680" cy="1573200"/>
          </a:xfrm>
          <a:prstGeom prst="rect">
            <a:avLst/>
          </a:prstGeom>
          <a:ln w="0">
            <a:noFill/>
          </a:ln>
        </p:spPr>
      </p:pic>
      <p:sp>
        <p:nvSpPr>
          <p:cNvPr id="127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27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7:37Z</dcterms:modified>
  <cp:revision>166</cp:revision>
  <dc:subject/>
  <dc:title>Παρουσίαση του PowerPoint</dc:title>
</cp:coreProperties>
</file>