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85E48B-B537-4540-9942-DF9FB9A5170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DAA7E7-3BC8-4CEA-BE99-2ED90FCCD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73CC32-1E6C-440A-812B-D48A56B9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1BA374-A8C6-428B-94CB-C1B1A141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D4A882-0436-467A-B3EA-D72397CD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A8BFFB-4B95-49F2-BC7C-D0F3A9521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CD7B47-ADBE-451E-BFB3-44B88428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189FE-FA83-4987-A856-CD51B5B8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F1A450-BED3-4DBB-829B-CB7358EB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9E90D7-A6A4-4268-83AB-F938F8B4F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B7D88F-9E69-476B-832E-2C6EFC07B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05D03F-F651-463F-95B6-4E0B7A482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8DB0F8-B8CD-424F-8C31-A43097580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2D1F93-62F6-4982-981A-50126BF9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2EC2FA-3CF5-4872-9A9C-BEA529080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7F65C1-B7E2-4E5F-95C0-8BEF3D64D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B89449-D965-48BA-9435-E1FE81352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DB8447-C7A5-4856-9AE1-5E6BB96E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1864E6-EE90-421A-A095-7EC98A50A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73EBD-70E5-4CB7-868D-852C8E35E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B54B97-39D9-4F3A-BAEF-D3B6365E7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B8A731-5A07-47B7-9865-B850D4BC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64FA0D-2041-44F0-B581-A90BA88D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45FD89-85DC-4147-AB4A-EAA1A821C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71F9-6E91-4277-9EED-389146C9C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E335-9B9E-416C-B152-7DDE2E8A5E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7222-5E52-4F1E-AD39-2157C8F9E02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DB3A-CFDE-4DB9-860B-7DC365DDC09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51EB-E6D7-4EAA-8B2E-A0BCC7E459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3EFD-2B5F-484D-B14E-75CF6A3C83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AD08-7135-4D5F-B544-2FDFC0C871A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1F9C-4A82-4CC9-BE05-86A1ED8387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2FFD-3773-4FE9-B0E1-862681B2F8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05E0-E0A5-4A8F-A92F-6C2F1987CA0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CC4F-8B34-4FC9-9E92-27E41F4FC77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333DC-01F0-48A9-851A-97BCA3B7E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168A-B3EF-4962-B604-BE5F87FBD3C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DDCEE-BC71-47A4-8911-F45B613EC4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830F5-B99D-459E-9762-55882B94841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4B7D2-AD7F-46C6-B244-5824383085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5F94E-84CF-47A3-97C0-755593E024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4187E-9BC0-4F8F-AF78-27DA1025D68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CB6D6-2AC6-4632-A258-50299769319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B6581-938D-480B-9168-68976323C35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8D9C2-09D3-43F8-81F9-684E2D93C20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3EED6-C055-4F9A-B553-5D656BBD76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949F1-FE8F-40B7-B527-B4366551E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467A-9E8D-48B4-9E1D-390A2EAF8D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65777-FF3F-4692-84B3-F9B207687D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C195D-1935-49FA-88ED-A8BB8B7E6F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6DDED-E74D-4D31-8ECA-F21187B1068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F8089-EF33-4180-9561-ABA8953AE05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F027C-777A-4155-883C-3C196218477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8F33A-223C-40CB-8AD4-4CE2C16808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BBAA6-6FB6-4E6F-8708-86CCFF36823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38D34-DE43-4FD5-B261-73C29D667F4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DA539-1564-4EBF-900A-9C0CCAC592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50F54-8210-4771-A154-035B2A8CC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CC12-217D-4545-998A-25A79DE528A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1425F-19B7-407E-A01A-F6514F4B61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F6785-5308-4187-9DDC-EF7424AAEF5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48FD0-8040-4DD7-8FA4-30206BE1A2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3510-3141-40BF-B2DC-BB331C4C50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854C-5668-4812-8E6C-DEAE7163300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B13E8-2B40-4A1C-A665-5985B6F5AE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6F57-BC13-498D-92CE-EBE2E30184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C53A-CB09-472D-A9C6-3357FF23B48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2D607-2DB7-4528-80B7-66D619CE34A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8899-1DB1-464C-B760-727194C47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770D-AB78-4FC7-BCF0-555CA37B9AF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06C33-5875-456B-A770-09365162EBD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AE2D-BC1E-4B30-A3DE-5A24C66216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C36F-7AC5-4CE9-B350-F41B8C823A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29D0-B631-4B8F-942C-7823708D18E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B35A-37BC-4B2A-A62D-C1472CD473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1373C-B503-48FD-8BD0-15739D3AC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CB386-0893-4466-B421-11B91D3F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A4037-8EAC-42D1-8F09-AB54411B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FAE07-AB48-4019-AFFC-C61F7D18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0E80C-E05C-425B-81FA-4322F09D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89FE-C8BC-4040-BE65-F0D85DB604A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B2E28-904A-438F-9D72-02D4AB15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20239-A1D7-43F7-ABBB-9CB999A5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2ECB4-234E-44A5-A5FB-23A7B5B9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939B0-FEA7-4FDE-8BA4-451A4390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2FB35-6076-41A9-8190-A7D4CCE0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57F1C-B187-4807-8903-AD2FBCD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37CEA-73DD-4BE7-8A79-E77D42A26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3992-215D-482F-99B8-0F891BEEDA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11AF-E7D3-42FC-B2C6-B0AE606DC3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B278-8C1E-4380-B82B-C7B8C4A6D6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6189-7822-4205-ABB2-D033E2DE22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47AC-9B1C-45F9-8CDD-72D5DCA1E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A708-5015-4E37-81B5-3E690338C5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F0EF-A2BC-45B5-85E7-5DA1A12A3D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D57A-8330-48AD-B419-B7DBD1434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6BF0-7C05-425D-B224-BA1A39224B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A258-9959-479B-8949-D8BE0D1977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96F-90FB-4A9F-8031-472D3196EA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0B2-886D-4E7C-B31C-BE97913E7F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B59-C999-475D-B597-D89B94FF30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DD4-4698-4B8B-AC74-5323C9E191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F4A-9D17-422D-A7EA-3A7FFE987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7D82-BE29-4DD5-B111-76ED5E7644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EC9-35D9-41A6-8E89-B2AE381E4B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EDF-C7F6-4E59-84D9-F1C996029D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13D-19AD-4EA5-BDE9-8BA8CBC10B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FC9-DFF6-4FCF-B0DB-7B64DFF792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787-7E3F-4A6F-8FFE-D3CA6A2EE3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13E-BED3-43C9-B548-45F2738C08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499-0834-4CE3-BD40-198934A4D2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32949-A650-44A1-8EED-E492DEC96F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7735C-BB33-4CAA-B899-5615E09E4A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8196E-FD41-45B7-981F-6A8C37884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0570-9591-4A1A-9924-7290F9606D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FB8D1-2657-4610-8951-14BFFB9150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7CED3-502B-44A7-AFA3-87BF4DE0BF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DEDC2-00B8-4C6F-A3A0-60C5D82E46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E210F-D9B1-461F-8AA2-4B46F8013A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1D2BB-FA9F-4069-8D1A-44C39A58D0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5C503-C8C3-48A5-99AA-1B3FE03156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658BE-7047-42FC-BB0C-C8A8454B8C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58FAD-1ED2-4D7A-9621-CC5135FD44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7589F-7ED2-40F7-9B42-BCA9A9C871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887E1-9422-4BBE-803C-FE98A04AD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F2BF-52B9-4457-9C97-377B134475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222F3-6E9D-4777-A12D-7C31D4058B9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031DC-F96C-40C1-8B6B-55D79CFD0F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91C98-5657-4A43-90BC-AF19C1A70F4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25805-3CAC-4996-99AB-82715C017A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45197-BABE-467E-80AB-95773053E4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DE2C2-2D51-4301-BA16-C96E06B3E0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19088-1D77-4305-A9C9-65858FDE16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B9877-5FB0-4AC2-AD95-3A4EFCC499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B0364-9B3E-44C8-BE97-17B909F45A6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E91A0-C47C-40D4-B264-3792EB7B9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73FF-59D7-404E-9702-975A09101C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8F9A7-DC54-4762-A2AD-13E7B307156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ECC2-7D9E-471F-9CFC-2C6904C7B1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6918-5B31-42FE-AC58-C2314D8BE6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D9A-F633-4700-98C2-3D494BF44E9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9E36-FF91-4B02-9370-E53B407796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7B49-C950-4FFF-99BB-2464C61B111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5D7C-F0B6-434C-A51D-7BC6A5E119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EF4F-7D04-4D30-AE7B-7E31D406F2A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F9E8-C4F5-4D0F-98DE-E08B5FD860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A174-4BD1-42E1-9A3F-D38C9E620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F2C1-4CD5-4C55-8927-014BABBA43E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0C51-3BE8-4EE2-8DC1-1679F9F422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5A77-55CD-4BD6-808B-AF2B37D2D1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BDB8-15EA-4B24-AA8A-66EB1B92C0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FBBA9-E8C2-4E55-AB67-6FE171B3B54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A68BA-966A-4465-BD23-3BD430D10E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6E243-AC8C-45C2-BB2F-59A9CD6A62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CDC23-AF37-4218-A751-9CFDCEDC16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523406-5FDC-4C45-B42C-ED8212F1B4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BB9FC-5AF8-4D38-9067-D5B07BC9CE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5FF64D-841D-44C2-8933-FD49EFE56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E015-EC9F-41ED-89E9-B69F3F471A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68432-9D66-49E0-800A-B79AC393ED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C2674-A21C-4036-ABE2-EE0144AC15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34E904-2A04-4599-96A8-A685428EC1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53979-7364-4524-9BA9-DEB4515C96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F6783-1C04-455F-8B71-3D012536671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C8BE8-2C15-46B2-A7D5-1CBBF61795A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C2D20-29F0-41D2-ABB9-575F5DE0A5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C4C95-1AD7-4E8B-83D1-27FF3453EB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B293E-23D6-4A25-9DEC-A8AA51D8F13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2CCAD-919C-4AFE-ADF1-E3E7409DA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DBF9-4B90-4ABF-8916-D005BC4F23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F1D26-CE2C-4A8A-98B7-1C34EDA8EC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64FAB-B9D8-40F4-914C-FCF98F652E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BD2CF-40D0-4870-BD75-4FFEB5CF6C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D19FF-A8E7-4CB1-9BDF-5C45D39CCC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25900-8D13-465B-89E0-6E3BE399EE6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4D200-6AB1-4A6E-9D65-006B150BF6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3EBB4-CA5D-48F1-9E00-1AFCB3DFA5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E4C5-3BC2-47F5-A206-F10C929AE0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AD22-7B9D-4034-9729-CDDA0A6F47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0B68-8A4F-43AF-A289-875D13EDE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5A4B1D-9EAB-43F4-899A-A65555DEBBC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D38A26-3EF9-4168-BEDE-F8D54A555C6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49E16F-BEB4-4A76-8D4A-0285575B6C0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06A37C-4EF5-4EA3-A9F1-D54A9C01437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E0F36F-27EA-4078-BAB6-60F7E7FE7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D459C2-DBF4-44E4-8BF9-7E664FF2774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8FF879-43B9-48A8-937D-820F42BE04A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BFF9C2-7EA1-44DE-BF25-3119277AF3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F2D608-FBB8-4AB4-98E4-612F60443D2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D73E3C-0FBA-481C-9FB9-164CBC60AFA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E04777-A16B-43A4-BE30-6EF6E350587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44173F-669C-4CB5-9E0D-35061983C19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0F690A-4BB2-427C-ACC9-89DF8AA7374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3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9528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95280" y="1125360"/>
            <a:ext cx="835344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332000" y="46753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7928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Κατσαντώνη Σπυριδούλ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04292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3-10-18T20:15:06Z</dcterms:modified>
  <cp:revision>154</cp:revision>
  <dc:subject/>
  <dc:title>Παρουσίαση του PowerPoint</dc:title>
</cp:coreProperties>
</file>