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7A4-E809-48D0-A2FF-CE87B8BBE337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8021-9009-4B45-A8EB-6F86D9312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08E3-5EBE-4798-9D85-3A54BDE16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2DC-33FC-4BB7-BFFA-87136D65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550C-7FF7-4ADF-8254-E92BC14F2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45E3-E86B-418E-9CF0-A3EFBB90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CAE-4666-459F-833D-DD337682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53CA-99D9-450F-AE70-2F162AD1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6878-6A20-43CB-8F9D-6C72A316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3BEA-8FFE-4F7C-933A-DE9E90EEC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B8EE-3605-4308-8888-0BAC57B1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158-D0BF-4310-9E7B-FF56382C0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3700-1350-452C-8984-9D7FE0F3E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40F0-8174-46C8-92AB-62810B8D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B4C1-4D4F-4578-BD46-544991AA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7486-32B6-4DC3-A34E-CD7D452E9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ADE-8877-4123-A43B-35A0F9928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3FE1-3356-4FDC-8DA5-5F7467C65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7B3-7B14-4E2C-8105-B0C6D9EF0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1215-9672-4E41-AA17-69FF20A8F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D3A0-27EE-41E2-8A52-634DB89B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BA5C-968D-450C-B665-37073DAF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3988-C1BA-49B8-9820-0782D08B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19C8-C2AE-47CC-A184-8A99BA316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6EC7-DED8-420E-9BF6-82F68C0B6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D05-2C34-4833-9FCA-48325633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94-E7D8-414B-80E1-C56B0AAF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F3DE5-549C-4C6E-9EEA-056BEDF2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E778D-0A14-4BA5-BA24-1C72A89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A142-C472-49A8-A7E9-76F03ED6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63B65-446B-4CEF-9450-110235A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16FBF-3A77-46C4-8AF3-E10E645B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6573B-6CB3-4D8B-9A7E-2FACA47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21DB3-5B45-437C-A393-3D1B2078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9035F-4137-48F0-8A89-32506D44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62FC2-6019-4B14-AD5D-E8D4E663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8C382-087A-425A-B7B7-B49987A9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79E0-53F6-4633-B730-A9B7EBB4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A2AEE-916C-49ED-9B1F-6767222D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848EB-152D-46A3-BA55-02C37E0B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0D41A-0C78-4518-9B69-B4716DA7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4D5F20-5CFF-4BDF-8B8C-2820A700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313C7-C254-4000-B221-DF09B822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1E45B-3037-4B93-8A71-F41449E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0CE20-08E9-4BF3-A761-F9B71A6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92104-C1E3-4566-BDF4-93FCE209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2995B-7210-46B2-9AD0-3BC8E598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234C0-1B46-4CF5-B845-8CA8267D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BB1-7B96-48C8-B597-5FE3F0BCC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788DE-8544-495C-94D4-A793017E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9F342-A012-499A-8F9E-6D2AF102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51BA8-40B1-41EA-9ECD-FCDF70D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C6869-EB7A-4059-B203-0F5471B1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7DA21-559F-4ECF-9B18-24D4CB1D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0964D-520F-41CD-9C66-C9254451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BA363-DCBA-43C0-8484-0C76A5A0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A5587-0780-4F67-B389-C1152340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0DDE0-0B9A-4B82-AAA9-800EAD9B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F4E63-DA8B-4353-8298-5567168B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FD64-F80A-4B38-900F-1C6D5108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C81530-0467-43E1-A0FD-F511CCF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18284-06DD-4641-81CF-C7A8F576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AF594-B18A-4D6E-8046-CF29A117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824BC-EEB5-476F-B5B0-A2D17C6FD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0B953-3081-4652-82F4-FFCFEE1A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D734F-6629-40C4-A6E8-6D19FDCB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22D7F-072C-48F9-A156-8BB5D7E0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63E36-51F4-45C3-B12C-E38FB6B9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76FAC-0D1A-4C9F-8EC1-FF9E5AD6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705C6-B70F-4C96-BEFC-C46E651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5697-4DDA-4ECA-94D7-4E73E6D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6D8E1-DD6E-4970-B04C-6B14F5B8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C5A5D-0A48-4997-8A89-603D8BDC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D9D50-A7D7-456C-B8ED-97CD738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BD9D0C-7DA4-4F01-AAA6-23B74D49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448AA-5548-4A08-8AFF-A6ABDF13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B1D473-1124-4004-8A03-26ED86430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CCE07B-54F9-4B09-B3E8-A312A28A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5FB279-A885-4DB0-A409-B71E4FB5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3D0ECB-A1D1-4CFF-A7B0-B3A73D62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083BCE-A8BA-4A65-8B1B-2F0F3B82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9EF5-C67F-49B4-903B-4A98F142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0B0CAE-0F77-460E-B254-2915B22C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072DBB-07E0-4BB5-A536-1671EA4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761AE-0022-491D-869A-C84ACFC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4C0DAB-3685-40C0-B9D9-63FD8974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A1861C-4E87-4498-A5FE-201BD549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46A41C-A1E8-4D74-9AEE-DE2E2AD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10FB4C-8FBC-4FC3-A327-8FD4C35932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DAFD-5EBE-4169-A099-BDF520EE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EBBD-4655-431E-9DFE-76D9F73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2D37-6C4D-4189-9A2C-210C88AC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F08C-AF3F-4958-BAB9-6273B5D3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F136-2F1D-4E29-9589-C731BA2F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B4AC-76D4-4E86-89FC-6950CD16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2C56-7195-4A52-864F-E6770AAA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B704-6C71-4ABF-85E9-D214A1BB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76E7-18FA-4674-8411-B5717666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99A7-91C7-457C-9C7D-1A761CE0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8237-5074-470B-A2B6-1CC6DB50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992F-D2E5-4BFB-87B5-142B8ED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A0AC-8840-482E-9C3E-B2767547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C137A-EB87-425D-BBC3-5373C784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38CAF-8E6E-48C2-B13F-A24AC61B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D7F-2BC1-4BEE-A0CB-FC392F7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49E5B-7D7B-4D35-8559-5C0E982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0C7A7-7D81-43A8-8022-06A0649B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397F8-D091-49AD-92D4-000BBD1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BB64C-5BD2-4DB0-9AF8-F651E8E1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3FD2E-45A9-425B-831B-244C57AE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9102-D767-4B3F-9EAB-3703920D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E720-A8D2-4D15-AFFC-25E2CF7AA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C296-5935-45DF-BC1E-60FB72D1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AC4B7-7B48-4997-9127-76EDDF63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FFB17-AA42-446F-9247-5759B3A9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D43-53F9-4D98-B36A-580F7D8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4625-309D-4617-ADC9-7ADBDCC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92FEA-F945-464D-A37D-2DABB47E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D64C-95B5-4C81-9081-B8DCCD61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7F9A-5227-4EED-A7C8-AAD3B66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92456-FA4D-4D1F-9C0C-60B1C6F2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1D6BD-C994-4AD5-97F7-0F64B7A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FF5A6-7A4F-4011-9833-517BFDF7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7112-10BA-4B27-AEC8-23161412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00C0-AA38-4999-AE84-2D0AB9C3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BB9D-2B78-46BA-A52C-F5782FDD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609-873C-480E-946E-8378D3F2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FF526-E9D6-4365-A7E3-6A68BFDA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D8C21-DC59-412E-ACB4-2CEC5F9F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1FCF2-FE12-4BE2-9F05-1F274D4E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35D39-92EA-4489-9E31-62A883C7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73AF-94EA-48C0-A26A-F98E9D97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723AF-29CC-4CF5-8123-91C86FA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63CEB-9291-422A-85A0-CE265B2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312CB-C30E-4BF3-8D28-A3107327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E5346-999F-44C0-9502-33058A78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6D9A0-BC83-4F81-B90D-2CF11FC2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BA5-86F9-48B6-A1AA-3C6FF6B9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6F44E-5462-459E-9319-31915732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DF11-2958-42E8-977C-FB287F819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7A7C8-EE79-4B17-9325-3AEAC740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3F5BE-87CE-45FE-B334-D3D2C40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DCB41-9149-4B74-B4FF-451E111D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6EC91-9030-4807-8693-CA17CCA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9AF02-239E-49E8-8EDA-E6C7E48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950E1-11E0-42A9-9793-3B8D71E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D879D-288D-4262-9E53-9AB9C4C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8495E-6448-4055-8062-6CFF0A84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CE6-B15E-4F93-A82A-7EC3CFF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BCD4D-4B3F-47AB-8077-4535AA87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9932-0841-49C0-80ED-D4F366EE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3EA8A-919C-4947-9033-59F5BED6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7ADC2-9B7E-4DC5-8D24-4A9A5B4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B9DAD-F87F-432B-B2A4-B01E7F5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6C8FA-282D-4B08-9741-77B8397B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005FC-6F38-46CA-AB0B-6892F15F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C1D54-51F7-48EB-842B-505C82D1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24B70-EC66-4788-8AAF-6CBF855A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F7554-9C4E-4545-852B-F6D457EF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F7D-1FA3-4CF6-AFF2-087C13D9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B6C54-9161-4686-9F20-481C7D7F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282B-E8D6-4857-9A6D-FDB9BD3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C995C-4ADB-4A22-BAF3-B1D48342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436EC-7318-4684-B41A-BAFCC9AB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600B7-81AA-4E32-8A00-C116FF1E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255BD-0AF9-4D8F-852B-85FC3C21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571C-6B80-468C-A992-9C2F472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46098-7EB5-4056-A16B-44E87AB1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AF9A3-C869-4079-A847-A856452D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E1535-3677-4999-9940-FD8B8FE3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7A4-B643-4AF7-BCDC-EE69D8F3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EC46A-6274-4E23-BDE0-129EE411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9FE16-1F66-4CE4-8C59-6C4AD03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F37D7-9475-4B9E-A138-CE2C5A55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82CAD-504F-4E26-9DAB-668CF62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4A7A-7D39-4E56-B9F6-469F9065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8CDFE-F1F2-4A5A-91CA-9590A792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D60A4-985F-4C60-92D1-D2F8C50E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4A0E1-F731-4109-AE80-6D3AD4B4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1AB50-A9FE-48EB-BA36-C0C952CB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8706E-C78E-4E44-BF43-87D61A72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C90D-C561-4825-BED6-4F472F99115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EB72-4819-4C86-9DAE-D956177D34A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9DA4-4058-4783-9BD0-B8F7C9C2A60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3368-F212-4072-A942-A227F2CA9EC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792-6D77-406F-8D81-77D0B66FA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0DA3-1E28-4EFB-A512-740CC530909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BCA0-413B-4982-9380-6485E97CFCF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D44D-E49F-4078-A547-F12F28EB5AD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A5A1-1B90-47B2-BA5B-31155C8D5D1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4EB6-5938-434F-9B4F-0E708B43EC9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488-4D68-42C2-B332-B4B890CB466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405-7E01-4DE0-BC6A-AA4675AD85F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7A7-ACDA-4D8C-990B-D0E6BA8E2E2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Rectangle 1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465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1760"/>
            <a:ext cx="7596000" cy="23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6" name="10 - Ορθογώνιο"/>
          <p:cNvSpPr/>
          <p:nvPr/>
        </p:nvSpPr>
        <p:spPr>
          <a:xfrm>
            <a:off x="1332000" y="467532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1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7892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907560"/>
            <a:ext cx="7596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7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8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1-02-18T21:56:57Z</dcterms:modified>
  <cp:revision>151</cp:revision>
  <dc:subject/>
  <dc:title>Παρουσίαση του PowerPoint</dc:title>
</cp:coreProperties>
</file>