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D58F-1A76-4C2E-B05C-9154EDC4796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D300-9926-4FDD-8720-E6D2D9623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12BC-1A48-4DF9-9F81-48E81179E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1871-14F0-4A34-AD9F-50DE08666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C6AC-D303-44AA-8BB0-E605CF83D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9203-D364-4101-9435-55F9004D8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CC5CF-0701-4753-AE65-6E6557B21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5556-BADD-4E51-9D51-7100375CC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D444-3075-43FE-9105-868D60218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0375-BACE-4D27-905E-B6581C532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2643-00B3-415F-84DB-54134AA76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CB7B5-3440-4C3D-940D-4BC533C75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306D-E5D3-4AE6-A01F-AB2652A33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41257-7D9E-4FAE-99E4-C4D0CA1CB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9783-BE6A-4CE5-B83D-54FC5CE01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6895-4A60-40CB-AA7F-523AD9D1D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5992-3DA5-4101-983D-4D5EC0F23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B946-11FC-4924-AFDD-8C746D484C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30FB-95DB-43E6-B609-2C6EECED0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FFDF-A85F-4E84-8452-F6D50D5A6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C0D22-BCAF-4780-AC81-5D3232B00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9557-A670-4D78-8A4A-D143D6F49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9B4B1-C292-4438-903B-621F6DB61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14EBE-9220-4AC8-B50C-D5B896828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14FF-5C05-4699-940E-7827997E3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61BB-0D4D-4A96-BCBA-D1AAC2385E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B0F5-635C-451B-80E5-DC43696CA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CD78-0028-41E7-9651-26C26B35A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F6CC-D858-4E24-B8F2-093D5CC3F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4533-B261-4E51-B11C-7F95CCB52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248B-C123-4A9A-BA72-C496ED11C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5F4C-EE8B-4241-A9AC-B85179532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46D11-9632-4CBE-AD4C-B82E2211F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6C92-69ED-43C2-91F4-A12AE189D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F39A-0148-486C-AA12-2C8AFA334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82680-413C-41A9-AA94-3FF925175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3237-640E-4A4E-974F-BFC25E7B7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5FCA-EF9B-48A3-9070-F78768A62E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7664D-A1DA-494B-8DB1-3394EFD94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90CC-CA77-490E-9858-D9AFEF7E1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A115-659A-4276-8D15-EE795E901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5501-5CAB-48D3-96FE-FF73E1FE6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03A7-9322-4212-B744-69607ACB1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623E-7C19-4E9C-9085-34659FFFC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714F-1EE5-45A7-AD73-61D7D1DC9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8629-431A-4641-90FF-00C6B1A2EB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9C5D-2548-4A7B-911A-8AB175980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4FEE-890B-4A9E-A5E9-ADCDD2CA7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17D8-84AF-45FB-A7CD-69EDA42D5E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28C5-5BF3-4243-8207-4CB7BEDC1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4A38-7502-4D77-B4D6-B982C0989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F420-BFC8-4A9E-A5D3-514746597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6A03-B376-46AA-AAE5-D0060A97AD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B214-355B-40C8-88C6-275F763A3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AF5B-3941-47D1-BCF6-06633DE195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85EC-B89D-4135-8A4F-D692A362EF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D1CB-3D52-421C-A398-B01216EC0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C833-2ED8-4142-97CE-E39C86CAA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A07A-ED73-472E-9E92-C92F29530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1E66-5059-4A72-A5CE-84F59D5437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E854-7225-451A-AE46-18BE33350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46542-25C2-4BA8-9FA7-F7819C3CD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1EAB-F97D-4C0B-869C-092CC28A0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4009-7E94-4D38-9E35-6C42A12F4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93A06-4B82-44C9-BDA0-5F5E7A8A4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73F6-FEA0-4D1A-8557-EE557F6E3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678E-2149-4F16-BD8E-337FAFF5E5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0C58-B497-49FD-A32F-887AE4FF4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A34E-231E-4159-9120-04538BD03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5C37-5ADA-4B3E-93F9-311932DEC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F3E3-C847-418C-A405-897F08400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D55C-079C-43D5-9D3F-DC0C6ED2E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AB482-4966-440E-B077-707C47493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28FB-6119-4286-82A9-1B610D1F2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42AAD-042B-4DB9-8029-4D3D2EA08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272B5-EBA8-4A2A-B4A4-8ADD23255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4E4B28-80E8-4B73-9053-00EF77C486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2BA1F0-DED8-453A-AEDD-69FDA971B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9B4E0B-2A2D-47D8-B23B-FE271FEE3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05E94F-C2DA-4061-92A0-84D2826A5B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7B13EE-762F-490C-86C7-51F6E65E57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60C97-BC25-466F-8C6C-E00F2AD701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597E4C-6B9F-45C7-B3FE-C58B81165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996C35-E088-490B-B947-8A0D0B7D68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D2397E-BEB7-40C3-8E02-0EA12BB260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EE1AA8-A637-4EA9-9FD8-D079ED26E0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940C8-A6BF-42B9-8033-94E13EECD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EB4B96-82C6-4EA0-A684-7C5406743D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377303-E64A-4BE3-8410-CD0D0ED3F03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A7ABFE-1A9A-4FA9-9A6C-FB9F248C63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85CD5F-966A-46E3-9DB3-4A000D76D4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67A892-F387-41FC-85B3-F42F134B5A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4B8B0E-96A3-4338-940B-79BA555396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C6C80E-7158-4549-8C2E-CB333D7BDD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36551D-E655-4CCA-80A4-B99A41487C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F19001-16B7-4B1A-BB91-3B206C1964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CBBC59-B634-4BB2-BEA4-4EF96CCD1C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740FA-33E8-46B8-B44B-313F185BE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F1B943A-A9CA-48F2-9865-C7A8A250DD0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F56D6B-E392-4E9F-8EB1-4DE7FF2F2A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F9B066-4B38-4528-A9AC-AB77472401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DC6056-E437-4662-B39B-AA3ECFF8A2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45B3F8-343B-4DF5-A5A1-2820D897222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0EDD80-C2DB-4ACA-8B54-ECEB0F20BE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0B1955-B56B-4010-8B92-55B4258A37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8A3413-DFE2-4C8E-854A-DDC761C777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788B0C-CFD5-4AB0-8ECC-78291816DE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1A3B00-9923-4D69-932A-9019B94FF0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324AA6-2CC8-4446-A70E-C8425C334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0743A7-3EA2-442E-A8AC-7163E86E15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1607EB-BAA0-462F-B55F-72CA1ACF1CD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CEAF1F-8C95-4C8A-9993-2500B31D1E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9107B14-9617-42E3-A7A9-FDDADBBB10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8C5DA77-5CED-4015-840B-FC6BF17B96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5A0874-159E-4C03-9D18-4269B31862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3B93D1E-FCD6-4C05-8B9B-47D88E61C1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69D6CC-A6EF-4543-95DB-667CA95CD0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C81908-8275-4ED7-89C0-9436BC7509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119E65-8B83-4281-8C9A-DF8887E689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9D277-AE09-47B5-AEF0-E1F9DE51D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3C6945-807B-405A-9B88-EFB6CC8624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70E6A6-DA88-4642-957E-1E76554FD2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DDEA29-5A7E-47B5-8735-C7A6026191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6194AB0-974B-441D-9C55-4C58A05AF6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DA4A6DC-97C3-42B0-B43E-A914D93825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3ED843C5-145A-4B2D-84C8-470F7345F196}"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2993401-F638-46E5-870F-499076DB5B2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4E7CAD0-7270-4416-A00A-193C02D2002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19C7FF9-3AAB-47B8-A225-C6F86C7DEF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C17F2365-40CA-4F01-A996-6AD3DA89C4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29ECA-9AFB-4041-810F-C15698294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A0C308CF-1DA8-41B7-BC70-9E6FD8D188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9831005-D5A9-445C-AA55-09DA29F80A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FCA1920-E518-47C8-A56E-F48FD172266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5B36D7A-114E-4B0B-A595-33BF5A1AF62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9E77D4EF-7C1E-488F-92A4-44ECDEDD3C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50ED46D-0B2A-4BAE-80A7-74E47A1AF6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7E1BA45B-0698-44D6-99D5-234C97B45D6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9933F-1E1D-46D3-8BF0-3E6B83AF7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8DC2B-75C7-4670-AD2D-CDCBF92B8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20E09-28D2-4906-8225-DBC45FDFD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2ABE5-0F17-4A1D-A6E0-C4FB2DCB0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D0A46-4370-4B25-A7A7-8064BBB68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117A4-22E7-478A-93D3-7A98AFBCD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A5B97-BC68-4138-BCE9-859168BE2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A8B1-7677-4176-874A-42CF3DBE6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29673-772F-46F6-A30F-00B340D54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367EE-E5D2-4350-AA23-D1F723EB0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DDC5B8-1633-42BF-AFF2-595EE546B4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DFFBE2-A977-448D-A632-05EDE0458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D8471E-088D-40EC-A832-88E4CD433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9BCF47-C556-4DDA-8CC0-D4D93D7EB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5B1367-D87E-47AB-AAA9-7CB02CB0DA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25446-8634-4ACC-8A71-9C5C8D1A5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C13F81-6F37-48F5-824C-5E602E6B9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BF91B-0EDD-4DB4-A457-AC14EA0F96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D74EB-66D2-40F8-A34D-CEC5C2E9A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9ACF2-29E1-4B92-9D31-8143B28BCE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4FC08-4C7B-4EF5-BF36-1E98C9CC8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3B904D-D8C2-4669-B1FC-966CA9904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D889C8-C37F-46D2-95C7-A1055C24AD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868A09-1215-4BCC-A3BB-9ED8307A8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8B7EFA-24A7-4928-BADD-64E76B0C9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12779A-B55C-4572-9A80-B6B8EF6FC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E90D6-BC05-47FA-BA07-C5F5FFC7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0DC67-B33B-4F05-BF9D-66B33AF3ED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FAC04-F5EE-4C3D-907F-987523E8F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FEE1C-2ECA-4CF0-9EBB-38C94CE1DF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4C3190-D346-412A-AF40-892D0CC3A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5EFC1-4EEB-42C5-968A-4B88229593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DFA292-9D32-4BD9-B85C-1C48078ED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A8B80-2D1E-4D81-9CBB-CCE68743A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8A3B32-FB93-43E0-9C79-8CC0AAFC92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F629B-DA88-4165-B76C-813B738B3A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35686-FE1E-4564-B7B6-F09C69348D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4487D-9F53-4F93-900D-4D7BB8D36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3B85D1-26F3-418B-9122-3A491B99AB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D24916-399A-4992-A85E-555D67F9AE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1CFB2C-EB52-45C4-95FB-7C55541DC2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60299-8BCF-4DAA-860B-A1C4F9812F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49591-E3DC-4BF1-946C-B1D91DCF5C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FB983-9043-448B-A2E9-AD6233C26C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8FBB09-BB26-46E7-9E0F-8BF18E996A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6025B8-41CE-4C1B-BFC6-274C71411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04B313-B37C-4D07-BE55-C96005D3B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8091BA-B81B-4BB3-8955-DD7831AE88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E28FF-794E-4DDC-A2DF-E0E7D2F1D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1DA2F5-2EDD-4FFB-9FB8-334B684D4C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643C3C-2271-441B-993A-103F6C22B2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C8DDC6-2659-4C9C-B54A-E54AA06434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D7399E-B33A-4961-B938-F9AAEFC9E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56964-C7D7-4733-A4CF-4389D0E1D2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EAEF41-4146-466F-A7CD-3C633C811A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E7BDD-720B-40F5-8A32-CB99DB701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8E180-EF54-4CA9-B2F0-14F3D28E4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48B507-A85A-435F-8E73-5BD98987E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DB7A3-FE86-46F6-AD85-D2AA5228A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35188-7631-4421-947F-05DA13EFC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871A3-95A5-43BE-B8E2-BFFE40BCF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4A7B0C-7BE9-435B-9C50-B4183788C9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494FB2-BB8E-4DAD-8B0E-AD32CA950B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E288C0-2D84-469C-A521-4368E50DF2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B60707-570E-409F-9477-E988E749A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0569F-C222-4C27-A85D-A35D94169C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92B387-3424-48B1-8017-AD1B8DA922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DF0D1A-C91A-49EA-969E-AAC778EDA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85A5B-632B-4BD9-855C-B3831CD6CF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C3C535-B182-4DE3-B28E-A67738F212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ECB41-5F10-47F5-BBAD-0B2721F82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BA8CC-5E8A-4CC5-8336-69E1D6AACB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C62581-4A01-446B-8A31-4744D5A9F1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03FE34-AFC7-4F19-AC04-0C8DE997C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EEA4CE-B9F4-42E1-A959-18C7311A64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5C5A6E-EF99-41C2-AD6C-A10D67ACAC7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996D71-DEF3-4EAF-91CF-37C36C4672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C66E46-BE80-48C5-9743-C403518DEC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35070-DE33-4B9D-847A-D3EA82CE84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D4A159-74B2-430A-ACC0-9C07D636D7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4DBA39-371E-4A14-B467-A3D145F3D2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9A00-D580-466D-B1CD-E3C285E23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DC9F39-D4E6-467B-9E5C-755BC914CD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F95DA8-7DC1-42A8-8D78-A42B80CBF0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921E92-6F08-4EDC-BD0D-E6DE74AC4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657033-C0F7-422F-AAF8-6AC123514D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B875EB-8ECB-46B0-821F-E561175D4F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9BFD81-49CB-424A-86C7-CDCC2D9C71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89F135-7A00-470A-8C61-B3FB8CD821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761E67-7B6A-4A4A-AEF3-40222A10A8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8315A-EA42-4C02-A3B0-2108C74BDB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F0062E-8680-4D4D-B95B-92DA238AB16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7F391-9BF6-4217-82E3-EB6482B95BC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D808-F046-459E-85A9-9D2DCD06B96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A50BE-D14D-42FB-8C4E-51C94543C43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C1662-A3EB-4ABB-9AA6-05739C1621E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8E4BF-8A38-4C30-B304-6FC42B9A4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9D00-2C12-4FED-845A-5AC00A45AFF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D954-CA00-4643-9AF8-6F9A895BC72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EA7F-A0CB-4CF7-A3CC-B93A786B44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FE0E-8154-4B9D-93DD-E5427F4ABCE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828F-F7EE-41E0-AF70-787D2AECCF9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CF09F-A9A0-47AB-BC8E-BC7F3C26DF7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CE35-260F-4129-89E0-31F5C967644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0CC04-DA46-4752-BB41-111DFA9C5E8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Ομάδα 1"/>
          <p:cNvGrpSpPr/>
          <p:nvPr/>
        </p:nvGrpSpPr>
        <p:grpSpPr>
          <a:xfrm>
            <a:off x="0" y="115920"/>
            <a:ext cx="9144000" cy="6551640"/>
            <a:chOff x="0" y="115920"/>
            <a:chExt cx="9144000" cy="6551640"/>
          </a:xfrm>
        </p:grpSpPr>
        <p:grpSp>
          <p:nvGrpSpPr>
            <p:cNvPr id="620" name="Ομάδα 1"/>
            <p:cNvGrpSpPr/>
            <p:nvPr/>
          </p:nvGrpSpPr>
          <p:grpSpPr>
            <a:xfrm>
              <a:off x="0" y="115920"/>
              <a:ext cx="9144000" cy="6551640"/>
              <a:chOff x="0" y="115920"/>
              <a:chExt cx="9144000" cy="6551640"/>
            </a:xfrm>
          </p:grpSpPr>
          <p:sp>
            <p:nvSpPr>
              <p:cNvPr id="6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9 - Εικόνα" descr=""/>
          <p:cNvPicPr/>
          <p:nvPr/>
        </p:nvPicPr>
        <p:blipFill>
          <a:blip r:embed="rId3"/>
          <a:stretch/>
        </p:blipFill>
        <p:spPr>
          <a:xfrm>
            <a:off x="250920" y="333360"/>
            <a:ext cx="1417680" cy="879480"/>
          </a:xfrm>
          <a:prstGeom prst="rect">
            <a:avLst/>
          </a:prstGeom>
          <a:ln w="0">
            <a:noFill/>
          </a:ln>
        </p:spPr>
      </p:pic>
      <p:sp>
        <p:nvSpPr>
          <p:cNvPr id="627" name="PlaceHolder 1"/>
          <p:cNvSpPr>
            <a:spLocks noGrp="1"/>
          </p:cNvSpPr>
          <p:nvPr>
            <p:ph type="title"/>
          </p:nvPr>
        </p:nvSpPr>
        <p:spPr>
          <a:xfrm>
            <a:off x="468000" y="2249280"/>
            <a:ext cx="8280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Κατά τη διάρκεια του 20ού αιώνα ο σχολικός χώρος ολοένα και αποκτά μεγαλύτερη και διαφοροποιημένη σημασία σε σχέση με προγενέστερες περιόδους, </a:t>
            </a:r>
            <a:br>
              <a:rPr sz="2800"/>
            </a:br>
            <a:r>
              <a:rPr b="0" lang="el-GR" sz="2800" spc="-1" strike="noStrike">
                <a:solidFill>
                  <a:srgbClr val="000000"/>
                </a:solidFill>
                <a:latin typeface="Times New Roman"/>
                <a:ea typeface="Calibri"/>
              </a:rPr>
              <a:t>και συνδέεται στενότερα με τη διδακτική </a:t>
            </a:r>
            <a:r>
              <a:rPr b="0" lang="en-US"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διαδικασία και την επιτέλεση του εκπαιδευτικού έργου  (Πασχαλίδου, 2013).</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8" name="Ομάδα 1"/>
          <p:cNvGrpSpPr/>
          <p:nvPr/>
        </p:nvGrpSpPr>
        <p:grpSpPr>
          <a:xfrm>
            <a:off x="0" y="115920"/>
            <a:ext cx="9144000" cy="6551640"/>
            <a:chOff x="0" y="115920"/>
            <a:chExt cx="9144000" cy="6551640"/>
          </a:xfrm>
        </p:grpSpPr>
        <p:grpSp>
          <p:nvGrpSpPr>
            <p:cNvPr id="629" name="Ομάδα 1"/>
            <p:cNvGrpSpPr/>
            <p:nvPr/>
          </p:nvGrpSpPr>
          <p:grpSpPr>
            <a:xfrm>
              <a:off x="0" y="115920"/>
              <a:ext cx="9144000" cy="6551640"/>
              <a:chOff x="0" y="115920"/>
              <a:chExt cx="9144000" cy="6551640"/>
            </a:xfrm>
          </p:grpSpPr>
          <p:sp>
            <p:nvSpPr>
              <p:cNvPr id="6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9 - Εικόνα" descr=""/>
          <p:cNvPicPr/>
          <p:nvPr/>
        </p:nvPicPr>
        <p:blipFill>
          <a:blip r:embed="rId3"/>
          <a:stretch/>
        </p:blipFill>
        <p:spPr>
          <a:xfrm>
            <a:off x="250920" y="333360"/>
            <a:ext cx="1417680" cy="879480"/>
          </a:xfrm>
          <a:prstGeom prst="rect">
            <a:avLst/>
          </a:prstGeom>
          <a:ln w="0">
            <a:noFill/>
          </a:ln>
        </p:spPr>
      </p:pic>
      <p:sp>
        <p:nvSpPr>
          <p:cNvPr id="636" name="PlaceHolder 1"/>
          <p:cNvSpPr>
            <a:spLocks noGrp="1"/>
          </p:cNvSpPr>
          <p:nvPr>
            <p:ph type="title"/>
          </p:nvPr>
        </p:nvSpPr>
        <p:spPr>
          <a:xfrm>
            <a:off x="395280" y="1603080"/>
            <a:ext cx="8353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σχολικός χώρος μπορεί αντικειμενικά να περιγράφεται από τη  δομή του αλλά προσδιορίζεται  αξιοποιώντας στοιχεία </a:t>
            </a:r>
            <a:r>
              <a:rPr b="0" i="1" lang="el-GR" sz="2800" spc="-1" strike="noStrike">
                <a:solidFill>
                  <a:srgbClr val="000000"/>
                </a:solidFill>
                <a:latin typeface="Times New Roman"/>
                <a:ea typeface="Calibri"/>
              </a:rPr>
              <a:t>από τους κλάδους της Παιδαγωγικής, της Ψυχολογίας, της Περιβαλλοντικής Ψυχολογίας, της Κοινωνιολογίας, της Αρχιτεκτονικής, της Ψυχανάλυσης και της Σημειολογίας</a:t>
            </a:r>
            <a:r>
              <a:rPr b="0" lang="el-GR" sz="2800" spc="-1" strike="noStrike">
                <a:solidFill>
                  <a:srgbClr val="000000"/>
                </a:solidFill>
                <a:latin typeface="Times New Roman"/>
                <a:ea typeface="Calibri"/>
              </a:rPr>
              <a:t> και από έννοιες όπως η πολυπλοκότητα, η ευελιξία, η πλαστικότητα η και προσαρμοστικότητα του χώρου που εξειδικεύονται με αξίες παιδαγωγικές, ψυχολογικές . (Τσουκαλά, 2000).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5280" y="138744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ιδικότερα, </a:t>
            </a:r>
            <a:r>
              <a:rPr b="0" i="1" lang="el-GR" sz="2800" spc="-1" strike="noStrike">
                <a:solidFill>
                  <a:srgbClr val="000000"/>
                </a:solidFill>
                <a:latin typeface="Times New Roman"/>
                <a:ea typeface="Calibri"/>
              </a:rPr>
              <a:t>από τη θεώρηση της Ψυχολογίας, της Κοινωνικής Ψυχολογίας </a:t>
            </a:r>
            <a:br>
              <a:rPr sz="2800"/>
            </a:br>
            <a:r>
              <a:rPr b="0" lang="el-GR" sz="2800" spc="-1" strike="noStrike">
                <a:solidFill>
                  <a:srgbClr val="000000"/>
                </a:solidFill>
                <a:latin typeface="Times New Roman"/>
                <a:ea typeface="Calibri"/>
              </a:rPr>
              <a:t>ο χώρος αντιμετωπίστηκε ως ένα πεδίο δραστηριότητας του παιδιού. </a:t>
            </a:r>
            <a:br>
              <a:rPr sz="2800"/>
            </a:br>
            <a:r>
              <a:rPr b="0" lang="el-GR" sz="2800" spc="-1" strike="noStrike">
                <a:solidFill>
                  <a:srgbClr val="000000"/>
                </a:solidFill>
                <a:latin typeface="Times New Roman"/>
                <a:ea typeface="Calibri"/>
              </a:rPr>
              <a:t>Το πεδίο αυτό με τις ιδιότητές του και τις δυνατότητες που παρέχει, επιδρά  στη διαμόρφωση του σχολικού /παιδαγωγικού κλιματος, στις διεργασίες απόκτησης δεξιοτήτων, στη διαμόρφωση της συμπεριφοράς και γενικά στη διαδικασία ωρίμανσης του παιδιού. (Γερμανός, 1998).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395280" y="2465280"/>
            <a:ext cx="835344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έρευνες στη διεθνή βιβλιογραφία που χαρακτηρίζουν το σχολικό χώρο ως δεύτερο εκπαιδευτικό/δάσκαλο  αυξάνονται (Lang, 2002.Higgins et al., 2004) αναδεικνύοντας τον πολύ σημαντικό ρόλο του στην επιτέλεση της εκπαιδευτικής πράξης.</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5" name="Ομάδα 1"/>
          <p:cNvGrpSpPr/>
          <p:nvPr/>
        </p:nvGrpSpPr>
        <p:grpSpPr>
          <a:xfrm>
            <a:off x="0" y="115920"/>
            <a:ext cx="9144000" cy="6551640"/>
            <a:chOff x="0" y="115920"/>
            <a:chExt cx="9144000" cy="6551640"/>
          </a:xfrm>
        </p:grpSpPr>
        <p:grpSp>
          <p:nvGrpSpPr>
            <p:cNvPr id="656" name="Ομάδα 1"/>
            <p:cNvGrpSpPr/>
            <p:nvPr/>
          </p:nvGrpSpPr>
          <p:grpSpPr>
            <a:xfrm>
              <a:off x="0" y="115920"/>
              <a:ext cx="9144000" cy="6551640"/>
              <a:chOff x="0" y="115920"/>
              <a:chExt cx="9144000" cy="6551640"/>
            </a:xfrm>
          </p:grpSpPr>
          <p:sp>
            <p:nvSpPr>
              <p:cNvPr id="6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2" name="9 - Εικόνα" descr=""/>
          <p:cNvPicPr/>
          <p:nvPr/>
        </p:nvPicPr>
        <p:blipFill>
          <a:blip r:embed="rId3"/>
          <a:stretch/>
        </p:blipFill>
        <p:spPr>
          <a:xfrm>
            <a:off x="250920" y="333360"/>
            <a:ext cx="1417680" cy="879480"/>
          </a:xfrm>
          <a:prstGeom prst="rect">
            <a:avLst/>
          </a:prstGeom>
          <a:ln w="0">
            <a:noFill/>
          </a:ln>
        </p:spPr>
      </p:pic>
      <p:sp>
        <p:nvSpPr>
          <p:cNvPr id="663" name="PlaceHolder 1"/>
          <p:cNvSpPr>
            <a:spLocks noGrp="1"/>
          </p:cNvSpPr>
          <p:nvPr>
            <p:ph type="title"/>
          </p:nvPr>
        </p:nvSpPr>
        <p:spPr>
          <a:xfrm>
            <a:off x="468360" y="1982520"/>
            <a:ext cx="835344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Σύμφωνα με την ανθρωποκεντρική προσέγγιση</a:t>
            </a:r>
            <a:r>
              <a:rPr b="0" lang="el-GR" sz="2800" spc="-1" strike="noStrike">
                <a:solidFill>
                  <a:srgbClr val="000000"/>
                </a:solidFill>
                <a:latin typeface="Times New Roman"/>
                <a:ea typeface="Calibri"/>
              </a:rPr>
              <a:t>, </a:t>
            </a:r>
            <a:br>
              <a:rPr sz="2800"/>
            </a:br>
            <a:r>
              <a:rPr b="0" lang="el-GR" sz="2800" spc="-1" strike="noStrike">
                <a:solidFill>
                  <a:srgbClr val="000000"/>
                </a:solidFill>
                <a:latin typeface="Times New Roman"/>
                <a:ea typeface="Calibri"/>
              </a:rPr>
              <a:t>ο χώρος συνδέεται με τα κοινωνικά, ψυχολογικά και πολιτισμικά χαρακτηριστικά του υποκειμένου </a:t>
            </a:r>
            <a:br>
              <a:rPr sz="2800"/>
            </a:br>
            <a:r>
              <a:rPr b="0" lang="el-GR" sz="2800" spc="-1" strike="noStrike">
                <a:solidFill>
                  <a:srgbClr val="000000"/>
                </a:solidFill>
                <a:latin typeface="Times New Roman"/>
                <a:ea typeface="Calibri"/>
              </a:rPr>
              <a:t>και τον ερευνά ως ένα περιβάλλον ζωής, που έχει μια δική του δυναμική. </a:t>
            </a:r>
            <a:br>
              <a:rPr sz="2800"/>
            </a:br>
            <a:r>
              <a:rPr b="0" lang="el-GR" sz="2800" spc="-1" strike="noStrike">
                <a:solidFill>
                  <a:srgbClr val="000000"/>
                </a:solidFill>
                <a:latin typeface="Times New Roman"/>
                <a:ea typeface="Calibri"/>
              </a:rPr>
              <a:t>Το άτομο και η ομάδα συνδέονται με το χώρο μέσα από τις πράξεις τους και τις μορφές συμπεριφοράς που αναπτύσσουν. </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4" name="Ομάδα 1"/>
          <p:cNvGrpSpPr/>
          <p:nvPr/>
        </p:nvGrpSpPr>
        <p:grpSpPr>
          <a:xfrm>
            <a:off x="0" y="115920"/>
            <a:ext cx="9144000" cy="6551640"/>
            <a:chOff x="0" y="115920"/>
            <a:chExt cx="9144000" cy="6551640"/>
          </a:xfrm>
        </p:grpSpPr>
        <p:grpSp>
          <p:nvGrpSpPr>
            <p:cNvPr id="665" name="Ομάδα 1"/>
            <p:cNvGrpSpPr/>
            <p:nvPr/>
          </p:nvGrpSpPr>
          <p:grpSpPr>
            <a:xfrm>
              <a:off x="0" y="115920"/>
              <a:ext cx="9144000" cy="6551640"/>
              <a:chOff x="0" y="115920"/>
              <a:chExt cx="9144000" cy="6551640"/>
            </a:xfrm>
          </p:grpSpPr>
          <p:sp>
            <p:nvSpPr>
              <p:cNvPr id="6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9 - Εικόνα" descr=""/>
          <p:cNvPicPr/>
          <p:nvPr/>
        </p:nvPicPr>
        <p:blipFill>
          <a:blip r:embed="rId3"/>
          <a:stretch/>
        </p:blipFill>
        <p:spPr>
          <a:xfrm>
            <a:off x="250920" y="333360"/>
            <a:ext cx="1417680" cy="879480"/>
          </a:xfrm>
          <a:prstGeom prst="rect">
            <a:avLst/>
          </a:prstGeom>
          <a:ln w="0">
            <a:noFill/>
          </a:ln>
        </p:spPr>
      </p:pic>
      <p:sp>
        <p:nvSpPr>
          <p:cNvPr id="672" name="PlaceHolder 1"/>
          <p:cNvSpPr>
            <a:spLocks noGrp="1"/>
          </p:cNvSpPr>
          <p:nvPr>
            <p:ph type="title"/>
          </p:nvPr>
        </p:nvSpPr>
        <p:spPr>
          <a:xfrm>
            <a:off x="468360" y="2414160"/>
            <a:ext cx="835344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δεν αποτελεί ένα  πλαίσιο που δεν μεταβάλλεται. </a:t>
            </a:r>
            <a:br>
              <a:rPr sz="2800"/>
            </a:br>
            <a:r>
              <a:rPr b="0" lang="el-GR" sz="2800" spc="-1" strike="noStrike">
                <a:solidFill>
                  <a:srgbClr val="000000"/>
                </a:solidFill>
                <a:latin typeface="Times New Roman"/>
                <a:ea typeface="Calibri"/>
              </a:rPr>
              <a:t>Είναι ένα  πεδίο αλληλεπίδρασης, στο οποίο αναπτύσσονται όλες οι δραστηριότητες ανταλλαγής και αλληλοπροσδιορισμού ανάμεσα στο άτομο και το κοινωνικό περιβάλλον του.</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468000" y="2465280"/>
            <a:ext cx="828036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αποτελεί την υλική βάση της αλληλεπίδρασης, ανάμεσα στο υποκείμενο και το κοινωνικό του περιβάλλον, που έχει ως στόχο να  διασυνδέσει και εναρμονίσει τις στάσεις του ατόμου με τα χαρακτηριστικά του κοινωνικού του περιβάλλοντος .</a:t>
            </a: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468000" y="1941480"/>
            <a:ext cx="8280360" cy="329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διαδικασία εξελίσσεται ταυτόχρονα </a:t>
            </a:r>
            <a:br>
              <a:rPr sz="2800"/>
            </a:br>
            <a:r>
              <a:rPr b="0" lang="el-GR" sz="2800" spc="-1" strike="noStrike">
                <a:solidFill>
                  <a:srgbClr val="000000"/>
                </a:solidFill>
                <a:latin typeface="Times New Roman"/>
                <a:ea typeface="Calibri"/>
              </a:rPr>
              <a:t>προς δύο κατευθύνσεις:</a:t>
            </a:r>
            <a:br>
              <a:rPr sz="2800"/>
            </a:br>
            <a:br>
              <a:rPr sz="2800"/>
            </a:br>
            <a:r>
              <a:rPr b="0" lang="el-GR" sz="2800" spc="-1" strike="noStrike">
                <a:solidFill>
                  <a:srgbClr val="000000"/>
                </a:solidFill>
                <a:latin typeface="Times New Roman"/>
                <a:ea typeface="Calibri"/>
              </a:rPr>
              <a:t>Το υποκείμενο δέχεται τις επιδράσεις του κοινωνικού περιβάλλοντος, οι οποίες προβάλλονται μέσα από την οργάνωση και τη λειτουργία του χώρου των πραγμάτων</a:t>
            </a:r>
            <a:br>
              <a:rPr sz="2000"/>
            </a:br>
            <a:br>
              <a:rPr sz="2000"/>
            </a:b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15920"/>
            <a:ext cx="9144000" cy="6551640"/>
            <a:chOff x="0" y="115920"/>
            <a:chExt cx="9144000" cy="6551640"/>
          </a:xfrm>
        </p:grpSpPr>
        <p:grpSp>
          <p:nvGrpSpPr>
            <p:cNvPr id="692" name="Ομάδα 1"/>
            <p:cNvGrpSpPr/>
            <p:nvPr/>
          </p:nvGrpSpPr>
          <p:grpSpPr>
            <a:xfrm>
              <a:off x="0" y="115920"/>
              <a:ext cx="9144000" cy="6551640"/>
              <a:chOff x="0" y="115920"/>
              <a:chExt cx="9144000" cy="6551640"/>
            </a:xfrm>
          </p:grpSpPr>
          <p:sp>
            <p:nvSpPr>
              <p:cNvPr id="6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000" y="1665000"/>
            <a:ext cx="828036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Το υποκείμενο προσλαμβάνει ένα μέρος από τα μηνύματα του περιβάλλοντός του και τα επεξεργάζεται με τη βοήθεια των δικών του δεδομένων, ιδίως της αντίληψης, της μνήμης και των νοητικών αναπαραστάσεων και έτσι διαμορφώνει στάσεις απέναντι σε αυτές τις επιδράσεις, </a:t>
            </a:r>
            <a:br>
              <a:rPr sz="2800"/>
            </a:br>
            <a:r>
              <a:rPr b="0" lang="el-GR" sz="2800" spc="-1" strike="noStrike">
                <a:solidFill>
                  <a:srgbClr val="000000"/>
                </a:solidFill>
                <a:latin typeface="Times New Roman"/>
                <a:ea typeface="Calibri"/>
              </a:rPr>
              <a:t>που συχνά συνδέονται και με προσωπικές παρεμβάσεις</a:t>
            </a:r>
            <a:br>
              <a:rPr sz="2000"/>
            </a:b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0" name="Ομάδα 1"/>
          <p:cNvGrpSpPr/>
          <p:nvPr/>
        </p:nvGrpSpPr>
        <p:grpSpPr>
          <a:xfrm>
            <a:off x="0" y="115920"/>
            <a:ext cx="9144000" cy="6551640"/>
            <a:chOff x="0" y="115920"/>
            <a:chExt cx="9144000" cy="6551640"/>
          </a:xfrm>
        </p:grpSpPr>
        <p:grpSp>
          <p:nvGrpSpPr>
            <p:cNvPr id="701" name="Ομάδα 1"/>
            <p:cNvGrpSpPr/>
            <p:nvPr/>
          </p:nvGrpSpPr>
          <p:grpSpPr>
            <a:xfrm>
              <a:off x="0" y="115920"/>
              <a:ext cx="9144000" cy="6551640"/>
              <a:chOff x="0" y="115920"/>
              <a:chExt cx="9144000" cy="6551640"/>
            </a:xfrm>
          </p:grpSpPr>
          <p:sp>
            <p:nvSpPr>
              <p:cNvPr id="7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7" name="9 - Εικόνα" descr=""/>
          <p:cNvPicPr/>
          <p:nvPr/>
        </p:nvPicPr>
        <p:blipFill>
          <a:blip r:embed="rId3"/>
          <a:stretch/>
        </p:blipFill>
        <p:spPr>
          <a:xfrm>
            <a:off x="250920" y="333360"/>
            <a:ext cx="1417680" cy="879480"/>
          </a:xfrm>
          <a:prstGeom prst="rect">
            <a:avLst/>
          </a:prstGeom>
          <a:ln w="0">
            <a:noFill/>
          </a:ln>
        </p:spPr>
      </p:pic>
      <p:sp>
        <p:nvSpPr>
          <p:cNvPr id="708" name="PlaceHolder 1"/>
          <p:cNvSpPr>
            <a:spLocks noGrp="1"/>
          </p:cNvSpPr>
          <p:nvPr>
            <p:ph type="title"/>
          </p:nvPr>
        </p:nvSpPr>
        <p:spPr>
          <a:xfrm>
            <a:off x="250560" y="875880"/>
            <a:ext cx="849780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οργανώνεται γύρω από </a:t>
            </a:r>
            <a:br>
              <a:rPr sz="2800"/>
            </a:br>
            <a:r>
              <a:rPr b="0" lang="el-GR" sz="2800" spc="-1" strike="noStrike">
                <a:solidFill>
                  <a:srgbClr val="000000"/>
                </a:solidFill>
                <a:latin typeface="Times New Roman"/>
                <a:ea typeface="Calibri"/>
              </a:rPr>
              <a:t>τρεις(3) κατηγορίες παραγόντων:</a:t>
            </a:r>
            <a:br>
              <a:rPr sz="2800"/>
            </a:br>
            <a:r>
              <a:rPr b="1" lang="el-GR" sz="2800" spc="-1" strike="noStrike">
                <a:solidFill>
                  <a:srgbClr val="000000"/>
                </a:solidFill>
                <a:latin typeface="Times New Roman"/>
                <a:ea typeface="Calibri"/>
              </a:rPr>
              <a:t>Τα δεδομένα του υλικού περιβάλλοντος</a:t>
            </a:r>
            <a:r>
              <a:rPr b="0" lang="el-GR" sz="2800" spc="-1" strike="noStrike">
                <a:solidFill>
                  <a:srgbClr val="000000"/>
                </a:solidFill>
                <a:latin typeface="Times New Roman"/>
                <a:ea typeface="Calibri"/>
              </a:rPr>
              <a:t>, κτίρια, έπιπλα, παιδαγωγικό υλικό σε μία τάξη, υπαίθριος χώρος</a:t>
            </a:r>
            <a:br>
              <a:rPr sz="2800"/>
            </a:br>
            <a:r>
              <a:rPr b="1" lang="el-GR" sz="2800" spc="-1" strike="noStrike">
                <a:solidFill>
                  <a:srgbClr val="000000"/>
                </a:solidFill>
                <a:latin typeface="Times New Roman"/>
                <a:ea typeface="Calibri"/>
              </a:rPr>
              <a:t>Τα δεδομένα του κοινωνικού περιβάλλοντος</a:t>
            </a:r>
            <a:r>
              <a:rPr b="0" lang="el-GR" sz="2800" spc="-1" strike="noStrike">
                <a:solidFill>
                  <a:srgbClr val="000000"/>
                </a:solidFill>
                <a:latin typeface="Times New Roman"/>
                <a:ea typeface="Calibri"/>
              </a:rPr>
              <a:t>, οι μορφές συμπεριφοράς και η αισθητική, που προωθεί η οργάνωση του χώρου</a:t>
            </a:r>
            <a:br>
              <a:rPr sz="2800"/>
            </a:br>
            <a:r>
              <a:rPr b="1" lang="el-GR" sz="2800" spc="-1" strike="noStrike">
                <a:solidFill>
                  <a:srgbClr val="000000"/>
                </a:solidFill>
                <a:latin typeface="Times New Roman"/>
                <a:ea typeface="Calibri"/>
              </a:rPr>
              <a:t>Τα δεδομένα του υποκειμένου</a:t>
            </a:r>
            <a:r>
              <a:rPr b="0" lang="el-GR" sz="2800" spc="-1" strike="noStrike">
                <a:solidFill>
                  <a:srgbClr val="000000"/>
                </a:solidFill>
                <a:latin typeface="Times New Roman"/>
                <a:ea typeface="Calibri"/>
              </a:rPr>
              <a:t>, τα στοιχεία που συνδέουν το σώμα του υποκειμένου με τις μορφές συμπεριφοράς και τους ρόλους που αναπτύσσει στο χώρο.</a:t>
            </a:r>
            <a:br>
              <a:rPr sz="800"/>
            </a:b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ργάνωση υποδομών και διαμόρφωση περιβάλλοντος εκπαίδευσης και μάθησης</a:t>
            </a:r>
            <a:br>
              <a:rPr sz="2800"/>
            </a:br>
            <a:br>
              <a:rPr sz="2800"/>
            </a:b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9" name="Ομάδα 1"/>
          <p:cNvGrpSpPr/>
          <p:nvPr/>
        </p:nvGrpSpPr>
        <p:grpSpPr>
          <a:xfrm>
            <a:off x="0" y="115920"/>
            <a:ext cx="9144000" cy="6551640"/>
            <a:chOff x="0" y="115920"/>
            <a:chExt cx="9144000" cy="6551640"/>
          </a:xfrm>
        </p:grpSpPr>
        <p:grpSp>
          <p:nvGrpSpPr>
            <p:cNvPr id="710" name="Ομάδα 1"/>
            <p:cNvGrpSpPr/>
            <p:nvPr/>
          </p:nvGrpSpPr>
          <p:grpSpPr>
            <a:xfrm>
              <a:off x="0" y="115920"/>
              <a:ext cx="9144000" cy="6551640"/>
              <a:chOff x="0" y="115920"/>
              <a:chExt cx="9144000" cy="6551640"/>
            </a:xfrm>
          </p:grpSpPr>
          <p:sp>
            <p:nvSpPr>
              <p:cNvPr id="7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6" name="9 - Εικόνα" descr=""/>
          <p:cNvPicPr/>
          <p:nvPr/>
        </p:nvPicPr>
        <p:blipFill>
          <a:blip r:embed="rId3"/>
          <a:stretch/>
        </p:blipFill>
        <p:spPr>
          <a:xfrm>
            <a:off x="250920" y="333360"/>
            <a:ext cx="1417680" cy="879480"/>
          </a:xfrm>
          <a:prstGeom prst="rect">
            <a:avLst/>
          </a:prstGeom>
          <a:ln w="0">
            <a:noFill/>
          </a:ln>
        </p:spPr>
      </p:pic>
      <p:sp>
        <p:nvSpPr>
          <p:cNvPr id="717" name="PlaceHolder 1"/>
          <p:cNvSpPr>
            <a:spLocks noGrp="1"/>
          </p:cNvSpPr>
          <p:nvPr>
            <p:ph type="title"/>
          </p:nvPr>
        </p:nvSpPr>
        <p:spPr>
          <a:xfrm>
            <a:off x="395280" y="1879560"/>
            <a:ext cx="8353440" cy="341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αράγοντες των τριών κατηγοριών βρίσκονται σε συνεχή αλληλεξάρτηση και δια-συνδέονται με σχέσεις αλληλεπίδρασης. Έτσι, ο χώρος γίνεται μια πολυδύναμη υλική πραγματικότητα.</a:t>
            </a:r>
            <a:br>
              <a:rPr sz="2800"/>
            </a:br>
            <a:r>
              <a:rPr b="0" lang="el-GR" sz="2800" spc="-1" strike="noStrike">
                <a:solidFill>
                  <a:srgbClr val="000000"/>
                </a:solidFill>
                <a:latin typeface="Times New Roman"/>
                <a:ea typeface="Calibri"/>
              </a:rPr>
              <a:t>Η διαμόρφωση ενός ευέλικτου χώρου στο σημερινό/σύγχρονο σχολείο, εκφράζεται και μέσα από τη δομή του, κυρίως σε τρία επίπεδα:</a:t>
            </a:r>
            <a:br>
              <a:rPr sz="2000"/>
            </a:br>
            <a:endParaRPr b="0"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395280" y="1257120"/>
            <a:ext cx="8353440" cy="466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l-GR" sz="2800" spc="-1" strike="noStrike">
                <a:solidFill>
                  <a:srgbClr val="000000"/>
                </a:solidFill>
                <a:latin typeface="Times New Roman"/>
                <a:ea typeface="Calibri"/>
              </a:rPr>
              <a:t>στην οργάνωση των εσωτερικών χώρων</a:t>
            </a:r>
            <a:r>
              <a:rPr b="0" lang="el-GR" sz="2800" spc="-1" strike="noStrike">
                <a:solidFill>
                  <a:srgbClr val="000000"/>
                </a:solidFill>
                <a:latin typeface="Times New Roman"/>
                <a:ea typeface="Calibri"/>
              </a:rPr>
              <a:t>, με την προσαρμογή του χώρου στα μέτρα του παιδιού, κάνοντας έτσι το χώρο εύχρηστο, άνετο και ασφαλή</a:t>
            </a:r>
            <a:br>
              <a:rPr sz="2800"/>
            </a:br>
            <a:br>
              <a:rPr sz="2800"/>
            </a:br>
            <a:r>
              <a:rPr b="1" lang="el-GR" sz="2800" spc="-1" strike="noStrike">
                <a:solidFill>
                  <a:srgbClr val="000000"/>
                </a:solidFill>
                <a:latin typeface="Times New Roman"/>
                <a:ea typeface="Calibri"/>
              </a:rPr>
              <a:t>στη σχέση των εσωτερικών χώρων με τους υπαίθριους χώρους, </a:t>
            </a:r>
            <a:br>
              <a:rPr sz="2800"/>
            </a:br>
            <a:r>
              <a:rPr b="0" lang="el-GR" sz="2800" spc="-1" strike="noStrike">
                <a:solidFill>
                  <a:srgbClr val="000000"/>
                </a:solidFill>
                <a:latin typeface="Times New Roman"/>
                <a:ea typeface="Calibri"/>
              </a:rPr>
              <a:t>όπου οι σχολικές δραστηριότητες δεν περιορίζονται στο διδακτήριο, αλλά συνδέονται ευρύτερα με τον περίγυρό του, το εξωσχολικό υλικό και το κοινωνικό περιβάλλον</a:t>
            </a:r>
            <a:br>
              <a:rPr sz="2800"/>
            </a:b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395280" y="2373120"/>
            <a:ext cx="8353440" cy="243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1" lang="el-GR" sz="2800" spc="-1" strike="noStrike">
                <a:solidFill>
                  <a:srgbClr val="000000"/>
                </a:solidFill>
                <a:latin typeface="Times New Roman"/>
                <a:ea typeface="Calibri"/>
              </a:rPr>
              <a:t>στις πρακτικές χρησιμοποίησης του χώρου</a:t>
            </a:r>
            <a:r>
              <a:rPr b="0" lang="el-GR" sz="2800" spc="-1" strike="noStrike">
                <a:solidFill>
                  <a:srgbClr val="000000"/>
                </a:solidFill>
                <a:latin typeface="Times New Roman"/>
                <a:ea typeface="Calibri"/>
              </a:rPr>
              <a:t>, όπως οι εναλλακτικές μορφές χρησιμοποίησης της αίθουσας διδασκαλίας , η  σχέση του παιδιού με το χώρο, κλπ</a:t>
            </a:r>
            <a:br>
              <a:rPr sz="2000"/>
            </a:b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179280" y="1603080"/>
            <a:ext cx="85694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Από το 1898 τα ελληνικά σχολικά κτίρια οικοδομούνται με βάση κτιριολογικά προγράμματα, που νομοθετήθηκαν κατά περιόδους από την πολιτεία, ως οι επίσημοι και υποχρεωτικοί κανονισμοί για τη δημιουργία σχολικού χώρου. </a:t>
            </a:r>
            <a:br>
              <a:rPr sz="2800"/>
            </a:br>
            <a:r>
              <a:rPr b="0" lang="el-GR" sz="2800" spc="-1" strike="noStrike">
                <a:solidFill>
                  <a:srgbClr val="000000"/>
                </a:solidFill>
                <a:latin typeface="Times New Roman"/>
                <a:ea typeface="Calibri"/>
              </a:rPr>
              <a:t>Οι μεταρρυθμίσεις και οι άλλες σημαντικές αλλαγές στην εκπαίδευση συνεπάγονταν συχνά και αναμορφώσεις των κτιριολογικών προγραμμάτων, με στόχο την προσαρμογή τους στις νέες εκπαιδευτικές κατευθύνσεις.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5280" y="181908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1962 ιδρύθηκε ο Οργανισμός Σχολικών Κτιρίων (ΟΣΚ), </a:t>
            </a:r>
            <a:r>
              <a:rPr b="0" lang="el-GR" sz="2800" spc="-1" strike="noStrike">
                <a:solidFill>
                  <a:srgbClr val="000000"/>
                </a:solidFill>
                <a:latin typeface="Times New Roman"/>
                <a:ea typeface="Calibri"/>
              </a:rPr>
              <a:t>ο οποίος ανέλαβε τα θέματα μελέτης και οργάνωσης της κατασκευής των σχολικών κτιρίων. </a:t>
            </a:r>
            <a:br>
              <a:rPr sz="2800"/>
            </a:br>
            <a:br>
              <a:rPr sz="2800"/>
            </a:br>
            <a:r>
              <a:rPr b="0" lang="el-GR" sz="2800" spc="-1" strike="noStrike">
                <a:solidFill>
                  <a:srgbClr val="000000"/>
                </a:solidFill>
                <a:latin typeface="Times New Roman"/>
                <a:ea typeface="Calibri"/>
              </a:rPr>
              <a:t>Ο ΟΣΚ, από το 1962 μέχρι σήμερα, έχει εκπονήσει κτιριολογικά προγράμματα και πρότυπα σχέδια διδακτηρίων, τα οποία στην ουσία δεν έχουν αλλάξει το σημερινό μοντέλο σχολικού χώρου από τότε ως σήμερα.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250560" y="1019160"/>
            <a:ext cx="8497800" cy="51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Το μοντέλο οργάνωσης της γενικής κάτοψης των διδακτηρίων στην Ελλάδα έχει χαρακτήρα μονολειτουργικό. </a:t>
            </a:r>
            <a:br>
              <a:rPr sz="2800"/>
            </a:br>
            <a:r>
              <a:rPr b="0" lang="el-GR" sz="2800" spc="-1" strike="noStrike">
                <a:solidFill>
                  <a:srgbClr val="000000"/>
                </a:solidFill>
                <a:latin typeface="Times New Roman"/>
                <a:ea typeface="Calibri"/>
              </a:rPr>
              <a:t>Ο μονολειτουργικός χαρακτήρας του κτισμένου χώρου αντιστοιχεί σε μια ειδική/μοναδική  οργάνωση του χώρου που τείνει να επιδράσει με δύο τρόπους στο εκπαιδευτικό περιβάλλον:</a:t>
            </a:r>
            <a:br>
              <a:rPr sz="2800"/>
            </a:br>
            <a:r>
              <a:rPr b="0" lang="el-GR" sz="2800" spc="-1" strike="noStrike">
                <a:solidFill>
                  <a:srgbClr val="000000"/>
                </a:solidFill>
                <a:latin typeface="Times New Roman"/>
                <a:ea typeface="Calibri"/>
              </a:rPr>
              <a:t>Με την υλοποίηση μίας μόνο μορφής εκπαιδευτικής λειτουργίας , εμποδίζοντας  ταυτόχρονα την ανάπτυξη άλλων μορφών λειτουργίας του σχολικού περιβάλλοντος οι οποίες διαφέρουν από τις προβλεπόμενες</a:t>
            </a:r>
            <a:br>
              <a:rPr sz="2000"/>
            </a:b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εκπαιδευτικός και οι μαθητές, έχουν τη δυνατότητα να οργανώσουν δραστηριότητες του αναλυτικού προγράμματος με εναλλακτικούς τρόπους ή να πραγματοποιήσουν κάποιες εκπαιδευτικές δραστηριότητες που δεν προβλέπονται από το αναλυτικό πρόγραμμα   και μπορούν να υλοποιηθούν . Ωστόσο, για την υλοποίηση τέτοιων δραστηριοτήτων είναι αναγκαία η τροποποίηση των μονολειτουργικών χαρακτηριστικών του κτισμένου περιβάλλοντος του διδακτηρίου.</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
        <p:nvSpPr>
          <p:cNvPr id="780"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αίθουσας διδασκαλίας περιλαμβάνει μόνο τρία είδη επίπλων:</a:t>
            </a:r>
            <a:br>
              <a:rPr sz="2800"/>
            </a:br>
            <a:br>
              <a:rPr sz="2800"/>
            </a:br>
            <a:r>
              <a:rPr b="1" lang="el-GR" sz="2800" spc="-1" strike="noStrike">
                <a:solidFill>
                  <a:srgbClr val="000000"/>
                </a:solidFill>
                <a:latin typeface="Times New Roman"/>
                <a:ea typeface="Calibri"/>
              </a:rPr>
              <a:t>Γραφείο για τον εκπαιδευτικό </a:t>
            </a:r>
            <a:br>
              <a:rPr sz="2800"/>
            </a:br>
            <a:r>
              <a:rPr b="1" lang="el-GR" sz="2800" spc="-1" strike="noStrike">
                <a:solidFill>
                  <a:srgbClr val="000000"/>
                </a:solidFill>
                <a:latin typeface="Times New Roman"/>
                <a:ea typeface="Calibri"/>
              </a:rPr>
              <a:t>θρανία και καθίσματά για τους μαθητές και </a:t>
            </a:r>
            <a:br>
              <a:rPr sz="2800"/>
            </a:br>
            <a:r>
              <a:rPr b="1" lang="el-GR" sz="2800" spc="-1" strike="noStrike">
                <a:solidFill>
                  <a:srgbClr val="000000"/>
                </a:solidFill>
                <a:latin typeface="Times New Roman"/>
                <a:ea typeface="Calibri"/>
              </a:rPr>
              <a:t>έπιπλα τακτοποίησης υλικού (ντουλάπια ή βιβλιοθήκες).</a:t>
            </a:r>
            <a:br>
              <a:rPr sz="2800"/>
            </a:b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
        <p:nvSpPr>
          <p:cNvPr id="789" name="PlaceHolder 1"/>
          <p:cNvSpPr>
            <a:spLocks noGrp="1"/>
          </p:cNvSpPr>
          <p:nvPr>
            <p:ph type="title"/>
          </p:nvPr>
        </p:nvSpPr>
        <p:spPr>
          <a:xfrm>
            <a:off x="250560" y="1328400"/>
            <a:ext cx="84978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ήμερα, τα θρανία παραμένουν διθέσια, </a:t>
            </a:r>
            <a:br>
              <a:rPr sz="2800"/>
            </a:br>
            <a:r>
              <a:rPr b="0" lang="el-GR" sz="2800" spc="-1" strike="noStrike">
                <a:solidFill>
                  <a:srgbClr val="000000"/>
                </a:solidFill>
                <a:latin typeface="Times New Roman"/>
                <a:ea typeface="Calibri"/>
              </a:rPr>
              <a:t>αλλά είναι ανεξάρτητα από τα καθίσματα για να προσφέρουν περισσότερη άνεση. </a:t>
            </a:r>
            <a:br>
              <a:rPr sz="2800"/>
            </a:br>
            <a:r>
              <a:rPr b="0" lang="el-GR" sz="2800" spc="-1" strike="noStrike">
                <a:solidFill>
                  <a:srgbClr val="000000"/>
                </a:solidFill>
                <a:latin typeface="Times New Roman"/>
                <a:ea typeface="Calibri"/>
              </a:rPr>
              <a:t>Ο εξοπλισμός συμπληρώνεται από ένα πίνακα που παλαιότερα ήταν μαύρος και σήμερα είναι πράσινος ή (πίνακας μαρκαδόρου και λευκός) και ένα ξύλινο βάθρο, πάνω στο οποίο τοποθετείται το τραπέζι του εκπαιδευτικού για τον οπτικό έλεγχο της αίθουσας(το οποίο στις περισσότερες αίθουσες έχει αφαιρεθεί). </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324000" y="1614600"/>
            <a:ext cx="8424720" cy="31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θρανίων δεν έχει αλλάξει</a:t>
            </a:r>
            <a:br>
              <a:rPr sz="2800"/>
            </a:br>
            <a:r>
              <a:rPr b="0" lang="el-GR" sz="2800" spc="-1" strike="noStrike">
                <a:solidFill>
                  <a:srgbClr val="000000"/>
                </a:solidFill>
                <a:latin typeface="Times New Roman"/>
                <a:ea typeface="Calibri"/>
              </a:rPr>
              <a:t>(πολλοί εκπαιδευτικοί επιχειρούν άλλη διάταξη) </a:t>
            </a:r>
            <a:br>
              <a:rPr sz="2800"/>
            </a:br>
            <a:r>
              <a:rPr b="0" lang="el-GR" sz="2800" spc="-1" strike="noStrike">
                <a:solidFill>
                  <a:srgbClr val="000000"/>
                </a:solidFill>
                <a:latin typeface="Times New Roman"/>
                <a:ea typeface="Calibri"/>
              </a:rPr>
              <a:t>και πάντοτε τοποθετούνται σε παράλληλες σειρές. </a:t>
            </a:r>
            <a:br>
              <a:rPr sz="2800"/>
            </a:br>
            <a:r>
              <a:rPr b="0" lang="el-GR" sz="2800" spc="-1" strike="noStrike">
                <a:solidFill>
                  <a:srgbClr val="000000"/>
                </a:solidFill>
                <a:latin typeface="Times New Roman"/>
                <a:ea typeface="Calibri"/>
              </a:rPr>
              <a:t>Ο προσανατολισμός των θρανίων διατηρείται </a:t>
            </a:r>
            <a:br>
              <a:rPr sz="2800"/>
            </a:br>
            <a:r>
              <a:rPr b="0" lang="el-GR" sz="2800" spc="-1" strike="noStrike">
                <a:solidFill>
                  <a:srgbClr val="000000"/>
                </a:solidFill>
                <a:latin typeface="Times New Roman"/>
                <a:ea typeface="Calibri"/>
              </a:rPr>
              <a:t>σταθερός προς τον πίνακα και </a:t>
            </a:r>
            <a:br>
              <a:rPr sz="2800"/>
            </a:br>
            <a:r>
              <a:rPr b="0" lang="el-GR" sz="2800" spc="-1" strike="noStrike">
                <a:solidFill>
                  <a:srgbClr val="000000"/>
                </a:solidFill>
                <a:latin typeface="Times New Roman"/>
                <a:ea typeface="Calibri"/>
              </a:rPr>
              <a:t>η έδρα/γραφείο του εκπαιδευτικού βρίσκεται μόνιμα ανάμεσα στον πίνακα  και απέναντι από τα θρανία.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1072800"/>
            <a:ext cx="8353440" cy="4732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χώρος του σχολείου</a:t>
            </a:r>
            <a:br>
              <a:rPr sz="2800"/>
            </a:br>
            <a:r>
              <a:rPr b="0" lang="en-US" sz="2800" spc="-1" strike="noStrike">
                <a:solidFill>
                  <a:srgbClr val="000000"/>
                </a:solidFill>
                <a:latin typeface="Times New Roman"/>
              </a:rPr>
              <a:t>(</a:t>
            </a:r>
            <a:r>
              <a:rPr b="0" lang="el-GR" sz="2800" spc="-1" strike="noStrike">
                <a:solidFill>
                  <a:srgbClr val="000000"/>
                </a:solidFill>
                <a:latin typeface="Times New Roman"/>
              </a:rPr>
              <a:t>οι αίθουσες διδασκαλίας, η αίθουσα εκδηλώσεων, </a:t>
            </a:r>
            <a:br>
              <a:rPr sz="2800"/>
            </a:br>
            <a:r>
              <a:rPr b="0" lang="el-GR" sz="2800" spc="-1" strike="noStrike">
                <a:solidFill>
                  <a:srgbClr val="000000"/>
                </a:solidFill>
                <a:latin typeface="Times New Roman"/>
              </a:rPr>
              <a:t>η σχολική αυλή και άλλοι δευτερεύοντες χώροι),</a:t>
            </a:r>
            <a:br>
              <a:rPr sz="2800"/>
            </a:br>
            <a:r>
              <a:rPr b="0" lang="el-GR" sz="2800" spc="-1" strike="noStrike">
                <a:solidFill>
                  <a:srgbClr val="000000"/>
                </a:solidFill>
                <a:latin typeface="Times New Roman"/>
              </a:rPr>
              <a:t> όπου συμβιούν καθημερινά μαθητές</a:t>
            </a:r>
            <a:r>
              <a:rPr b="0" lang="en-US" sz="2800" spc="-1" strike="noStrike">
                <a:solidFill>
                  <a:srgbClr val="000000"/>
                </a:solidFill>
                <a:latin typeface="Times New Roman"/>
              </a:rPr>
              <a:t> </a:t>
            </a:r>
            <a:r>
              <a:rPr b="0" lang="el-GR" sz="2800" spc="-1" strike="noStrike">
                <a:solidFill>
                  <a:srgbClr val="000000"/>
                </a:solidFill>
                <a:latin typeface="Times New Roman"/>
              </a:rPr>
              <a:t>διαφόρων ηλικιών</a:t>
            </a:r>
            <a:r>
              <a:rPr b="0" lang="en-US" sz="2800" spc="-1" strike="noStrike">
                <a:solidFill>
                  <a:srgbClr val="000000"/>
                </a:solidFill>
                <a:latin typeface="Times New Roman"/>
              </a:rPr>
              <a:t> </a:t>
            </a:r>
            <a:br>
              <a:rPr sz="2800"/>
            </a:br>
            <a:r>
              <a:rPr b="0" lang="el-GR" sz="2800" spc="-1" strike="noStrike">
                <a:solidFill>
                  <a:srgbClr val="000000"/>
                </a:solidFill>
                <a:latin typeface="Times New Roman"/>
              </a:rPr>
              <a:t>με διαφορετικά ενδιαφέροντα, </a:t>
            </a:r>
            <a:br>
              <a:rPr sz="2800"/>
            </a:br>
            <a:r>
              <a:rPr b="0" lang="el-GR" sz="2800" spc="-1" strike="noStrike">
                <a:solidFill>
                  <a:srgbClr val="000000"/>
                </a:solidFill>
                <a:latin typeface="Times New Roman"/>
              </a:rPr>
              <a:t>εκπαιδευτικές ανάγκες και ιδιαιτερότητες αποτελεί:</a:t>
            </a: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PlaceHolder 1"/>
          <p:cNvSpPr>
            <a:spLocks noGrp="1"/>
          </p:cNvSpPr>
          <p:nvPr>
            <p:ph type="title"/>
          </p:nvPr>
        </p:nvSpPr>
        <p:spPr>
          <a:xfrm>
            <a:off x="324000" y="1603080"/>
            <a:ext cx="842472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παράθυρα βρίσκονται κατά μήκος της μεγάλης πλευράς της αίθουσας, αριστερά από τη διάταξη των θρανίων και εξασφαλίζει φωτισμό ευνοϊκό για τους δεξιόχειρες μαθητές. </a:t>
            </a:r>
            <a:br>
              <a:rPr sz="2800"/>
            </a:br>
            <a:r>
              <a:rPr b="0" lang="el-GR" sz="2800" spc="-1" strike="noStrike">
                <a:solidFill>
                  <a:srgbClr val="000000"/>
                </a:solidFill>
                <a:latin typeface="Times New Roman"/>
                <a:ea typeface="Calibri"/>
              </a:rPr>
              <a:t>Παλαιότερα, τα παράθυρα δεν επέτρεπαν στον καθιστό μαθητή να έχει ορατότητα  στο επίπεδο της αυλής, ενώ, αντίθετα, η απόσταση των περίπου 80 εκατοστών η οποία εφαρμόζεται σήμερα, κάνει εφικτή την οπτική επικοινωνία των μαθητών με τον εξωτερικό χώρο.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8" name="Ομάδα 1"/>
          <p:cNvGrpSpPr/>
          <p:nvPr/>
        </p:nvGrpSpPr>
        <p:grpSpPr>
          <a:xfrm>
            <a:off x="0" y="115920"/>
            <a:ext cx="9144000" cy="6551640"/>
            <a:chOff x="0" y="115920"/>
            <a:chExt cx="9144000" cy="6551640"/>
          </a:xfrm>
        </p:grpSpPr>
        <p:grpSp>
          <p:nvGrpSpPr>
            <p:cNvPr id="809" name="Ομάδα 1"/>
            <p:cNvGrpSpPr/>
            <p:nvPr/>
          </p:nvGrpSpPr>
          <p:grpSpPr>
            <a:xfrm>
              <a:off x="0" y="115920"/>
              <a:ext cx="9144000" cy="6551640"/>
              <a:chOff x="0" y="115920"/>
              <a:chExt cx="9144000" cy="6551640"/>
            </a:xfrm>
          </p:grpSpPr>
          <p:sp>
            <p:nvSpPr>
              <p:cNvPr id="8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9 - Εικόνα" descr=""/>
          <p:cNvPicPr/>
          <p:nvPr/>
        </p:nvPicPr>
        <p:blipFill>
          <a:blip r:embed="rId3"/>
          <a:stretch/>
        </p:blipFill>
        <p:spPr>
          <a:xfrm>
            <a:off x="250920" y="333360"/>
            <a:ext cx="1417680" cy="879480"/>
          </a:xfrm>
          <a:prstGeom prst="rect">
            <a:avLst/>
          </a:prstGeom>
          <a:ln w="0">
            <a:noFill/>
          </a:ln>
        </p:spPr>
      </p:pic>
      <p:sp>
        <p:nvSpPr>
          <p:cNvPr id="816" name="PlaceHolder 1"/>
          <p:cNvSpPr>
            <a:spLocks noGrp="1"/>
          </p:cNvSpPr>
          <p:nvPr>
            <p:ph type="title"/>
          </p:nvPr>
        </p:nvSpPr>
        <p:spPr>
          <a:xfrm>
            <a:off x="324000" y="1836360"/>
            <a:ext cx="8424720" cy="35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άταξη των επίπλων διαμορφώνει την αίθουσα διδασκαλίας σε επιμέρους περιοχές, καθεμιά από τις οποίες έχει διαφορετική λειτουργία. </a:t>
            </a:r>
            <a:br>
              <a:rPr sz="2800"/>
            </a:br>
            <a:br>
              <a:rPr sz="2800"/>
            </a:br>
            <a:r>
              <a:rPr b="0" lang="el-GR" sz="2800" spc="-1" strike="noStrike">
                <a:solidFill>
                  <a:srgbClr val="000000"/>
                </a:solidFill>
                <a:latin typeface="Times New Roman"/>
                <a:ea typeface="Calibri"/>
              </a:rPr>
              <a:t>Ο διαχωρισμός τους γίνεται με άτυπα όρια που τοποθετούνται από το περίγραμμα ενός αντικειμένου ή το νοητό περίγραμμα ενός συνόλου από έπιπλα. </a:t>
            </a:r>
            <a:br>
              <a:rPr sz="2800"/>
            </a:b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324000" y="987120"/>
            <a:ext cx="8424720" cy="520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ιακρίνουμε τις ακόλουθες περιοχές:</a:t>
            </a:r>
            <a:br>
              <a:rPr sz="2800"/>
            </a:br>
            <a:br>
              <a:rPr sz="2800"/>
            </a:br>
            <a:r>
              <a:rPr b="0" lang="el-GR" sz="2800" spc="-1" strike="noStrike">
                <a:solidFill>
                  <a:srgbClr val="000000"/>
                </a:solidFill>
                <a:latin typeface="Times New Roman"/>
                <a:ea typeface="Calibri"/>
              </a:rPr>
              <a:t>Το χώρο εργασίας των μαθητών, με τα θρανία και τα καθίσματά τους</a:t>
            </a:r>
            <a:br>
              <a:rPr sz="2800"/>
            </a:br>
            <a:r>
              <a:rPr b="0" lang="el-GR" sz="2800" spc="-1" strike="noStrike">
                <a:solidFill>
                  <a:srgbClr val="000000"/>
                </a:solidFill>
                <a:latin typeface="Times New Roman"/>
                <a:ea typeface="Calibri"/>
              </a:rPr>
              <a:t> Το χώρο του εκπαιδευτικού με την έδρα/γραφείο  του </a:t>
            </a:r>
            <a:br>
              <a:rPr sz="2800"/>
            </a:br>
            <a:r>
              <a:rPr b="0" lang="el-GR" sz="2800" spc="-1" strike="noStrike">
                <a:solidFill>
                  <a:srgbClr val="000000"/>
                </a:solidFill>
                <a:latin typeface="Times New Roman"/>
                <a:ea typeface="Calibri"/>
              </a:rPr>
              <a:t>Την περιοχή παράδοσης / εξέτασης του μαθήματος μπροστά στον πίνακα</a:t>
            </a:r>
            <a:br>
              <a:rPr sz="2800"/>
            </a:br>
            <a:r>
              <a:rPr b="0" lang="el-GR" sz="2800" spc="-1" strike="noStrike">
                <a:solidFill>
                  <a:srgbClr val="000000"/>
                </a:solidFill>
                <a:latin typeface="Times New Roman"/>
                <a:ea typeface="Calibri"/>
              </a:rPr>
              <a:t>Τους διαδρόμους κυκλοφορίας</a:t>
            </a:r>
            <a:br>
              <a:rPr sz="2800"/>
            </a:br>
            <a:r>
              <a:rPr b="0" lang="el-GR" sz="2800" spc="-1" strike="noStrike">
                <a:solidFill>
                  <a:srgbClr val="000000"/>
                </a:solidFill>
                <a:latin typeface="Times New Roman"/>
                <a:ea typeface="Calibri"/>
              </a:rPr>
              <a:t>Την περιοχή όπου βρίσκονται τα έπιπλα για την τακτοποίηση του εκπαιδευτικού υλικού(ντουλάπες/βιβλιοθήκες)</a:t>
            </a:r>
            <a:br>
              <a:rPr sz="800"/>
            </a:b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324000" y="2865240"/>
            <a:ext cx="842472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Ένας σημαντικός περιβαλλοντικός παράγοντας της αίθουσας διδασκαλίας είναι και ο φωτισμός. </a:t>
            </a:r>
            <a:br>
              <a:rPr sz="2800"/>
            </a:br>
            <a:br>
              <a:rPr sz="800"/>
            </a:b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468000" y="107640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ημαντική είναι η ένταση του φωτισμού, η οποία δημιουργεί τις ευνοϊκότερες οπτικές συνθήκες για τον κάθε μαθητή και το φως που προσπίπτει στα μάτια, επειδή ανακλάται από την επιφάνεια εργασίας, όπως είναι οι λευκές σελίδες ενός βιβλίου ή η επιφάνεια του θρανίου. </a:t>
            </a:r>
            <a:br>
              <a:rPr sz="2800"/>
            </a:br>
            <a:r>
              <a:rPr b="0" lang="el-GR" sz="2800" spc="-1" strike="noStrike">
                <a:solidFill>
                  <a:srgbClr val="000000"/>
                </a:solidFill>
                <a:latin typeface="Times New Roman"/>
                <a:ea typeface="Calibri"/>
              </a:rPr>
              <a:t>Σήμερα για τη ρύθμιση αυτών των προβλημάτων με τον παιδαγωγικό ανασχεδιασμό του χώρου, προτείνεται η συνδυασμένη χρήση φυσικού και τεχνητού φωτισμού σε δύο επίπεδα.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468000" y="2033280"/>
            <a:ext cx="8280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ρώτο είναι ο γενικός φωτισμός της τάξης, με χρήση φωτιστικών σωμάτων και λαμπτήρων κατάλληλων για αίθουσες διδασκαλίας, που θα ενισχύουν το φυσικό φως. Ενδείκνυται ο φωτισμός φθορισμού, γιατί προσφέρει μεγαλύτερη ποικιλία στην ποιότητα του φωτισμού, σταθερότητα στην απόδοση και διάρκεια στη ζωή των λαμπτήρων. </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3" name="Ομάδα 1"/>
          <p:cNvGrpSpPr/>
          <p:nvPr/>
        </p:nvGrpSpPr>
        <p:grpSpPr>
          <a:xfrm>
            <a:off x="0" y="115920"/>
            <a:ext cx="9144000" cy="6551640"/>
            <a:chOff x="0" y="115920"/>
            <a:chExt cx="9144000" cy="6551640"/>
          </a:xfrm>
        </p:grpSpPr>
        <p:grpSp>
          <p:nvGrpSpPr>
            <p:cNvPr id="854" name="Ομάδα 1"/>
            <p:cNvGrpSpPr/>
            <p:nvPr/>
          </p:nvGrpSpPr>
          <p:grpSpPr>
            <a:xfrm>
              <a:off x="0" y="115920"/>
              <a:ext cx="9144000" cy="6551640"/>
              <a:chOff x="0" y="115920"/>
              <a:chExt cx="9144000" cy="6551640"/>
            </a:xfrm>
          </p:grpSpPr>
          <p:sp>
            <p:nvSpPr>
              <p:cNvPr id="8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9 - Εικόνα" descr=""/>
          <p:cNvPicPr/>
          <p:nvPr/>
        </p:nvPicPr>
        <p:blipFill>
          <a:blip r:embed="rId3"/>
          <a:stretch/>
        </p:blipFill>
        <p:spPr>
          <a:xfrm>
            <a:off x="250920" y="333360"/>
            <a:ext cx="1417680" cy="879480"/>
          </a:xfrm>
          <a:prstGeom prst="rect">
            <a:avLst/>
          </a:prstGeom>
          <a:ln w="0">
            <a:noFill/>
          </a:ln>
        </p:spPr>
      </p:pic>
      <p:sp>
        <p:nvSpPr>
          <p:cNvPr id="861" name="PlaceHolder 1"/>
          <p:cNvSpPr>
            <a:spLocks noGrp="1"/>
          </p:cNvSpPr>
          <p:nvPr>
            <p:ph type="title"/>
          </p:nvPr>
        </p:nvSpPr>
        <p:spPr>
          <a:xfrm>
            <a:off x="468000" y="1434960"/>
            <a:ext cx="828036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δεύτερο επίπεδο είναι ο εξατομικευμένος φωτισμός. Ο χώρος της αίθουσας πρέπει να εξασφαλίζει στα παιδιά και στον εκπαιδευτικό τη δυνατότητα συμπληρωματικής ρύθμισης του επιπέδου φωτισμού στο χώρο δραστηριοποίησής τους, για να προσαρμόσουν τις οπτικές συνθήκες στις ανάγκες τους, π.χ. με τη χρήση ατομικών φωτιστικών στο χώρο εργασίας του ατόμου ή της ομάδας(που δεν υπάρχει)</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ο ΟΣΚ προσπαθεί να ανανεώσει την αισθητική των κτιρίων του προσθέτοντας στέγες από κεραμίδια ή υιοθετώντας πιο εναλλακτικές  μορφές </a:t>
            </a:r>
            <a:br>
              <a:rPr sz="2800"/>
            </a:br>
            <a:r>
              <a:rPr b="0" lang="el-GR" sz="2800" spc="-1" strike="noStrike">
                <a:solidFill>
                  <a:srgbClr val="000000"/>
                </a:solidFill>
                <a:latin typeface="Times New Roman"/>
              </a:rPr>
              <a:t>στα κουφώματα,  στις πόρτες και  τα παράθυρα.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ένα άλλο πρόβλημα της αισθητικής των σχολικών κτιρίων είναι ότι δεν ανταποκρίνεται στην ηλικία των παιδιών. </a:t>
            </a:r>
            <a:br>
              <a:rPr sz="2800"/>
            </a:br>
            <a:r>
              <a:rPr b="0" lang="el-GR" sz="2800" spc="-1" strike="noStrike">
                <a:solidFill>
                  <a:srgbClr val="000000"/>
                </a:solidFill>
                <a:latin typeface="Times New Roman"/>
              </a:rPr>
              <a:t>Είναι πολύ δύσκολο για κάποιον που βλέπει ένα διδακτήριο να αντιληφθεί αν πρόκειται για δημοτικό, γυμνάσιο ή λύκειο. </a:t>
            </a:r>
            <a:br>
              <a:rPr sz="2800"/>
            </a:br>
            <a:r>
              <a:rPr b="0" lang="el-GR" sz="2800" spc="-1" strike="noStrike">
                <a:solidFill>
                  <a:srgbClr val="000000"/>
                </a:solidFill>
                <a:latin typeface="Times New Roman"/>
              </a:rPr>
              <a:t>Την έλλειψη προσαρμογής στην ηλικία τη διαπιστώνει κανείς τόσο στο μοντέλο της</a:t>
            </a:r>
            <a:r>
              <a:rPr b="0" lang="el-GR" sz="2800" spc="-1" strike="noStrike">
                <a:solidFill>
                  <a:srgbClr val="000000"/>
                </a:solidFill>
                <a:latin typeface="Calibri"/>
                <a:ea typeface="Calibri"/>
              </a:rPr>
              <a:t> γενικής κάτοψης όσο και στην αίθουσα διδασκαλία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PlaceHolder 1"/>
          <p:cNvSpPr>
            <a:spLocks noGrp="1"/>
          </p:cNvSpPr>
          <p:nvPr>
            <p:ph type="title"/>
          </p:nvPr>
        </p:nvSpPr>
        <p:spPr>
          <a:xfrm>
            <a:off x="324000" y="1542960"/>
            <a:ext cx="842472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νάγκη η αισθητική του σχολικού χώρου να επαναπροσδιορισθεί με τρόπους, που να ενσωματώνουν σύγχρονες αρχιτεκτονικές και παιδαγωγικές θεωρήσεις  με τις φόρμες, τα χρώματα και τη γενικότερη αντιληπτική οργάνωση του χώρου, να λαμβάνουν υπόψη τους την ηλικία των μαθητών και να δίνουν μια ζεστή και φιλική εικόνα της εκπαίδευσης. </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5280" y="836280"/>
            <a:ext cx="8353440" cy="494820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ώρο παροχής γνώσης και αγωγής,</a:t>
            </a:r>
            <a:br>
              <a:rPr sz="2800"/>
            </a:br>
            <a:br>
              <a:rPr sz="2800"/>
            </a:br>
            <a:r>
              <a:rPr b="0" lang="el-GR" sz="2800" spc="-1" strike="noStrike">
                <a:solidFill>
                  <a:srgbClr val="000000"/>
                </a:solidFill>
                <a:latin typeface="Times New Roman"/>
              </a:rPr>
              <a:t> χώρο κοινωνικοποίησης και επικοινωνία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απόκτησης και καλλιέργειας δεξιοτήτων,</a:t>
            </a:r>
            <a:br>
              <a:rPr sz="2800"/>
            </a:br>
            <a:br>
              <a:rPr sz="2800"/>
            </a:br>
            <a:r>
              <a:rPr b="0" lang="el-GR" sz="2800" spc="-1" strike="noStrike">
                <a:solidFill>
                  <a:srgbClr val="000000"/>
                </a:solidFill>
                <a:latin typeface="Times New Roman"/>
              </a:rPr>
              <a:t>χώρο διεξαγωγής παιχνιδιού</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χώρο υλοποίησης εκδηλώσεων, </a:t>
            </a:r>
            <a:br>
              <a:rPr sz="2800"/>
            </a:br>
            <a:r>
              <a:rPr b="0" lang="el-GR" sz="2800" spc="-1" strike="noStrike">
                <a:solidFill>
                  <a:srgbClr val="000000"/>
                </a:solidFill>
                <a:latin typeface="Times New Roman"/>
              </a:rPr>
              <a:t>ένα </a:t>
            </a:r>
            <a:br>
              <a:rPr sz="2800"/>
            </a:br>
            <a:r>
              <a:rPr b="1" lang="el-GR" sz="2800" spc="-1" strike="noStrike">
                <a:solidFill>
                  <a:srgbClr val="000000"/>
                </a:solidFill>
                <a:latin typeface="Times New Roman"/>
              </a:rPr>
              <a:t>Ζωντανό Εργαστήριο προετοιμασίας για τη ζωή</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9" name="Ομάδα 1"/>
          <p:cNvGrpSpPr/>
          <p:nvPr/>
        </p:nvGrpSpPr>
        <p:grpSpPr>
          <a:xfrm>
            <a:off x="0" y="115920"/>
            <a:ext cx="9144000" cy="6551640"/>
            <a:chOff x="0" y="115920"/>
            <a:chExt cx="9144000" cy="6551640"/>
          </a:xfrm>
        </p:grpSpPr>
        <p:grpSp>
          <p:nvGrpSpPr>
            <p:cNvPr id="890" name="Ομάδα 1"/>
            <p:cNvGrpSpPr/>
            <p:nvPr/>
          </p:nvGrpSpPr>
          <p:grpSpPr>
            <a:xfrm>
              <a:off x="0" y="115920"/>
              <a:ext cx="9144000" cy="6551640"/>
              <a:chOff x="0" y="115920"/>
              <a:chExt cx="9144000" cy="6551640"/>
            </a:xfrm>
          </p:grpSpPr>
          <p:sp>
            <p:nvSpPr>
              <p:cNvPr id="8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6" name="9 - Εικόνα" descr=""/>
          <p:cNvPicPr/>
          <p:nvPr/>
        </p:nvPicPr>
        <p:blipFill>
          <a:blip r:embed="rId3"/>
          <a:stretch/>
        </p:blipFill>
        <p:spPr>
          <a:xfrm>
            <a:off x="250920" y="333360"/>
            <a:ext cx="1417680" cy="879480"/>
          </a:xfrm>
          <a:prstGeom prst="rect">
            <a:avLst/>
          </a:prstGeom>
          <a:ln w="0">
            <a:noFill/>
          </a:ln>
        </p:spPr>
      </p:pic>
      <p:sp>
        <p:nvSpPr>
          <p:cNvPr id="897" name="PlaceHolder 1"/>
          <p:cNvSpPr>
            <a:spLocks noGrp="1"/>
          </p:cNvSpPr>
          <p:nvPr>
            <p:ph type="title"/>
          </p:nvPr>
        </p:nvSpPr>
        <p:spPr>
          <a:xfrm>
            <a:off x="324000" y="1387440"/>
            <a:ext cx="842472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ης τάξης πρέπει να προσφέρει πλούσια και ποικίλα ερεθίσματα, ιδίως οπτικά, απτικά και ακουστικά, με στόχο να γίνει:</a:t>
            </a:r>
            <a:br>
              <a:rPr sz="2800"/>
            </a:br>
            <a:r>
              <a:rPr b="0" lang="el-GR" sz="2800" spc="-1" strike="noStrike">
                <a:solidFill>
                  <a:srgbClr val="000000"/>
                </a:solidFill>
                <a:latin typeface="Times New Roman"/>
                <a:ea typeface="Calibri"/>
              </a:rPr>
              <a:t>χώρος  ελκυστικός για τα παιδιά</a:t>
            </a:r>
            <a:br>
              <a:rPr sz="2800"/>
            </a:br>
            <a:r>
              <a:rPr b="0" lang="el-GR" sz="2800" spc="-1" strike="noStrike">
                <a:solidFill>
                  <a:srgbClr val="000000"/>
                </a:solidFill>
                <a:latin typeface="Times New Roman"/>
                <a:ea typeface="Calibri"/>
              </a:rPr>
              <a:t>χώρος λειτουργικός για την εκπαιδευτική διαδικασία</a:t>
            </a:r>
            <a:br>
              <a:rPr sz="2800"/>
            </a:br>
            <a:r>
              <a:rPr b="0" lang="el-GR" sz="2800" spc="-1" strike="noStrike">
                <a:solidFill>
                  <a:srgbClr val="000000"/>
                </a:solidFill>
                <a:latin typeface="Times New Roman"/>
                <a:ea typeface="Calibri"/>
              </a:rPr>
              <a:t>χώρος  που θα προσφέρει τα ερεθίσματα, θα πρέπει να οργανώνεται σε σύνολα, τα οποία θα διασυνδέουν τους λογικούς με τους αισθητικούς παράγοντες της πληροφορίας και θα τους συσχετίζουν με την εκπαιδευτική διαδικασία</a:t>
            </a:r>
            <a:r>
              <a:rPr b="0" lang="el-GR" sz="1200" spc="-1" strike="noStrike">
                <a:solidFill>
                  <a:srgbClr val="000000"/>
                </a:solidFill>
                <a:latin typeface="Calibri"/>
                <a:ea typeface="Calibri"/>
              </a:rPr>
              <a:t>.</a:t>
            </a:r>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8" name="Ομάδα 1"/>
          <p:cNvGrpSpPr/>
          <p:nvPr/>
        </p:nvGrpSpPr>
        <p:grpSpPr>
          <a:xfrm>
            <a:off x="0" y="115920"/>
            <a:ext cx="9144000" cy="6551640"/>
            <a:chOff x="0" y="115920"/>
            <a:chExt cx="9144000" cy="6551640"/>
          </a:xfrm>
        </p:grpSpPr>
        <p:grpSp>
          <p:nvGrpSpPr>
            <p:cNvPr id="899" name="Ομάδα 1"/>
            <p:cNvGrpSpPr/>
            <p:nvPr/>
          </p:nvGrpSpPr>
          <p:grpSpPr>
            <a:xfrm>
              <a:off x="0" y="115920"/>
              <a:ext cx="9144000" cy="6551640"/>
              <a:chOff x="0" y="115920"/>
              <a:chExt cx="9144000" cy="6551640"/>
            </a:xfrm>
          </p:grpSpPr>
          <p:sp>
            <p:nvSpPr>
              <p:cNvPr id="9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5" name="9 - Εικόνα" descr=""/>
          <p:cNvPicPr/>
          <p:nvPr/>
        </p:nvPicPr>
        <p:blipFill>
          <a:blip r:embed="rId3"/>
          <a:stretch/>
        </p:blipFill>
        <p:spPr>
          <a:xfrm>
            <a:off x="250920" y="333360"/>
            <a:ext cx="1417680" cy="879480"/>
          </a:xfrm>
          <a:prstGeom prst="rect">
            <a:avLst/>
          </a:prstGeom>
          <a:ln w="0">
            <a:noFill/>
          </a:ln>
        </p:spPr>
      </p:pic>
      <p:sp>
        <p:nvSpPr>
          <p:cNvPr id="906" name="PlaceHolder 1"/>
          <p:cNvSpPr>
            <a:spLocks noGrp="1"/>
          </p:cNvSpPr>
          <p:nvPr>
            <p:ph type="title"/>
          </p:nvPr>
        </p:nvSpPr>
        <p:spPr>
          <a:xfrm>
            <a:off x="395280" y="1683720"/>
            <a:ext cx="8353440" cy="380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εύτερη κατηγορία χώρου στην οποία αναπτύσσεται το εκπαιδευτικό πρόγραμμα είναι η σχολική αυλή. </a:t>
            </a:r>
            <a:br>
              <a:rPr sz="2800"/>
            </a:br>
            <a:br>
              <a:rPr sz="2800"/>
            </a:br>
            <a:r>
              <a:rPr b="0" lang="el-GR" sz="2800" spc="-1" strike="noStrike">
                <a:solidFill>
                  <a:srgbClr val="000000"/>
                </a:solidFill>
                <a:latin typeface="Times New Roman"/>
                <a:ea typeface="Calibri"/>
              </a:rPr>
              <a:t>Ο υπαίθριος χώρος θα πρέπει να προσφέρει εναλλακτικές  δυνατότητες για τη διαδικασία μάθησης, παρέχοντας πλήθος από ερεθίσματα και ευκαιρίες για ανάπτυξη δραστηριοτήτων με μεγάλη εκπαιδευτική αξία. </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7" name="Ομάδα 1"/>
          <p:cNvGrpSpPr/>
          <p:nvPr/>
        </p:nvGrpSpPr>
        <p:grpSpPr>
          <a:xfrm>
            <a:off x="0" y="115920"/>
            <a:ext cx="9144000" cy="6551640"/>
            <a:chOff x="0" y="115920"/>
            <a:chExt cx="9144000" cy="6551640"/>
          </a:xfrm>
        </p:grpSpPr>
        <p:grpSp>
          <p:nvGrpSpPr>
            <p:cNvPr id="908" name="Ομάδα 1"/>
            <p:cNvGrpSpPr/>
            <p:nvPr/>
          </p:nvGrpSpPr>
          <p:grpSpPr>
            <a:xfrm>
              <a:off x="0" y="115920"/>
              <a:ext cx="9144000" cy="6551640"/>
              <a:chOff x="0" y="115920"/>
              <a:chExt cx="9144000" cy="6551640"/>
            </a:xfrm>
          </p:grpSpPr>
          <p:sp>
            <p:nvSpPr>
              <p:cNvPr id="9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4" name="9 - Εικόνα" descr=""/>
          <p:cNvPicPr/>
          <p:nvPr/>
        </p:nvPicPr>
        <p:blipFill>
          <a:blip r:embed="rId3"/>
          <a:stretch/>
        </p:blipFill>
        <p:spPr>
          <a:xfrm>
            <a:off x="250920" y="333360"/>
            <a:ext cx="1417680" cy="879480"/>
          </a:xfrm>
          <a:prstGeom prst="rect">
            <a:avLst/>
          </a:prstGeom>
          <a:ln w="0">
            <a:noFill/>
          </a:ln>
        </p:spPr>
      </p:pic>
      <p:sp>
        <p:nvSpPr>
          <p:cNvPr id="915" name="PlaceHolder 1"/>
          <p:cNvSpPr>
            <a:spLocks noGrp="1"/>
          </p:cNvSpPr>
          <p:nvPr>
            <p:ph type="title"/>
          </p:nvPr>
        </p:nvSpPr>
        <p:spPr>
          <a:xfrm>
            <a:off x="395280" y="1419120"/>
            <a:ext cx="835344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τυπικός υπαίθριος χώρος περιλαμβάνει τρεις (ή σε αρκετές περιπτώσεις τέσσερις) βασικές περιοχές λειτουργίας:</a:t>
            </a:r>
            <a:br>
              <a:rPr sz="2800"/>
            </a:br>
            <a:br>
              <a:rPr sz="2800"/>
            </a:br>
            <a:r>
              <a:rPr b="0" lang="el-GR" sz="2800" spc="-1" strike="noStrike">
                <a:solidFill>
                  <a:srgbClr val="000000"/>
                </a:solidFill>
                <a:latin typeface="Times New Roman"/>
                <a:ea typeface="Calibri"/>
              </a:rPr>
              <a:t>Την κυρίως αυλή</a:t>
            </a:r>
            <a:br>
              <a:rPr sz="2800"/>
            </a:br>
            <a:r>
              <a:rPr b="0" lang="el-GR" sz="2800" spc="-1" strike="noStrike">
                <a:solidFill>
                  <a:srgbClr val="000000"/>
                </a:solidFill>
                <a:latin typeface="Times New Roman"/>
                <a:ea typeface="Calibri"/>
              </a:rPr>
              <a:t>συνήθως έναν στεγασμένο χώρο( υπόστεγο)</a:t>
            </a:r>
            <a:br>
              <a:rPr sz="2800"/>
            </a:br>
            <a:r>
              <a:rPr b="0" lang="el-GR" sz="2800" spc="-1" strike="noStrike">
                <a:solidFill>
                  <a:srgbClr val="000000"/>
                </a:solidFill>
                <a:latin typeface="Times New Roman"/>
                <a:ea typeface="Calibri"/>
              </a:rPr>
              <a:t>μια περιμετρική(ή και ενδιάμεση) </a:t>
            </a:r>
            <a:br>
              <a:rPr sz="2800"/>
            </a:br>
            <a:r>
              <a:rPr b="0" lang="el-GR" sz="2800" spc="-1" strike="noStrike">
                <a:solidFill>
                  <a:srgbClr val="000000"/>
                </a:solidFill>
                <a:latin typeface="Times New Roman"/>
                <a:ea typeface="Calibri"/>
              </a:rPr>
              <a:t>ζώνη πρασίνου και βλάστησης ή και </a:t>
            </a:r>
            <a:br>
              <a:rPr sz="2800"/>
            </a:br>
            <a:r>
              <a:rPr b="0" lang="el-GR" sz="2800" spc="-1" strike="noStrike">
                <a:solidFill>
                  <a:srgbClr val="000000"/>
                </a:solidFill>
                <a:latin typeface="Times New Roman"/>
                <a:ea typeface="Calibri"/>
              </a:rPr>
              <a:t>χώρους άθλησης(γήπεδο μπάσκετ κλπ)</a:t>
            </a:r>
            <a:br>
              <a:rPr sz="2400"/>
            </a:br>
            <a:r>
              <a:rPr b="0" lang="el-GR" sz="2400" spc="-1" strike="noStrike">
                <a:solidFill>
                  <a:srgbClr val="000000"/>
                </a:solidFill>
                <a:latin typeface="Calibri"/>
                <a:ea typeface="Calibri"/>
              </a:rPr>
              <a:t>,</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6" name="Ομάδα 1"/>
          <p:cNvGrpSpPr/>
          <p:nvPr/>
        </p:nvGrpSpPr>
        <p:grpSpPr>
          <a:xfrm>
            <a:off x="0" y="115920"/>
            <a:ext cx="9144000" cy="6551640"/>
            <a:chOff x="0" y="115920"/>
            <a:chExt cx="9144000" cy="6551640"/>
          </a:xfrm>
        </p:grpSpPr>
        <p:grpSp>
          <p:nvGrpSpPr>
            <p:cNvPr id="917" name="Ομάδα 1"/>
            <p:cNvGrpSpPr/>
            <p:nvPr/>
          </p:nvGrpSpPr>
          <p:grpSpPr>
            <a:xfrm>
              <a:off x="0" y="115920"/>
              <a:ext cx="9144000" cy="6551640"/>
              <a:chOff x="0" y="115920"/>
              <a:chExt cx="9144000" cy="6551640"/>
            </a:xfrm>
          </p:grpSpPr>
          <p:sp>
            <p:nvSpPr>
              <p:cNvPr id="9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3" name="9 - Εικόνα" descr=""/>
          <p:cNvPicPr/>
          <p:nvPr/>
        </p:nvPicPr>
        <p:blipFill>
          <a:blip r:embed="rId3"/>
          <a:stretch/>
        </p:blipFill>
        <p:spPr>
          <a:xfrm>
            <a:off x="250920" y="333360"/>
            <a:ext cx="1417680" cy="879480"/>
          </a:xfrm>
          <a:prstGeom prst="rect">
            <a:avLst/>
          </a:prstGeom>
          <a:ln w="0">
            <a:noFill/>
          </a:ln>
        </p:spPr>
      </p:pic>
      <p:sp>
        <p:nvSpPr>
          <p:cNvPr id="924" name="PlaceHolder 1"/>
          <p:cNvSpPr>
            <a:spLocks noGrp="1"/>
          </p:cNvSpPr>
          <p:nvPr>
            <p:ph type="title"/>
          </p:nvPr>
        </p:nvSpPr>
        <p:spPr>
          <a:xfrm>
            <a:off x="250560" y="1203120"/>
            <a:ext cx="8497800" cy="477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υρίως αυλή προορίζεται για τις αυθόρμητες δραστηριότητες διαλείμματος, τις συγκεντρώσεις των μαθητών και για το μάθημα της γυμναστικής. </a:t>
            </a:r>
            <a:br>
              <a:rPr sz="2800"/>
            </a:br>
            <a:r>
              <a:rPr b="0" lang="el-GR" sz="2800" spc="-1" strike="noStrike">
                <a:solidFill>
                  <a:srgbClr val="000000"/>
                </a:solidFill>
                <a:latin typeface="Times New Roman"/>
                <a:ea typeface="Calibri"/>
              </a:rPr>
              <a:t>Το υπόστεγο χρησιμεύει για τις ίδιες λειτουργίες σε περίπτωση κακοκαιρίας και </a:t>
            </a:r>
            <a:br>
              <a:rPr sz="2800"/>
            </a:br>
            <a:r>
              <a:rPr b="0" lang="el-GR" sz="2800" spc="-1" strike="noStrike">
                <a:solidFill>
                  <a:srgbClr val="000000"/>
                </a:solidFill>
                <a:latin typeface="Times New Roman"/>
                <a:ea typeface="Calibri"/>
              </a:rPr>
              <a:t>η περιμετρική ζώνη βλάστησης δεν έχει καμία εκπαιδευτική χρήση και λειτουργεί αποκλειστικά ως ζώνη απομόνωσης του σχολικού κτιρίου από τον περίγυρό του. Τα υλικά εδάφους που χρησιμοποιούνται είναι μόνο τρία:</a:t>
            </a:r>
            <a:br>
              <a:rPr sz="2800"/>
            </a:br>
            <a:r>
              <a:rPr b="0" lang="el-GR" sz="2800" spc="-1" strike="noStrike">
                <a:solidFill>
                  <a:srgbClr val="000000"/>
                </a:solidFill>
                <a:latin typeface="Times New Roman"/>
                <a:ea typeface="Calibri"/>
              </a:rPr>
              <a:t>Άσφαλτος</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Πλάκες πεζοδρομίου</a:t>
            </a:r>
            <a:r>
              <a:rPr b="0" lang="en-US" sz="2800" spc="-1" strike="noStrike">
                <a:solidFill>
                  <a:srgbClr val="000000"/>
                </a:solidFill>
                <a:latin typeface="Times New Roman"/>
                <a:ea typeface="Calibri"/>
              </a:rPr>
              <a:t>,</a:t>
            </a:r>
            <a:r>
              <a:rPr b="0" lang="el-GR" sz="2800" spc="-1" strike="noStrike">
                <a:solidFill>
                  <a:srgbClr val="000000"/>
                </a:solidFill>
                <a:latin typeface="Times New Roman"/>
                <a:ea typeface="Calibri"/>
              </a:rPr>
              <a:t>Χώμα</a:t>
            </a:r>
            <a:br>
              <a:rPr sz="800"/>
            </a:b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Ομάδα 1"/>
          <p:cNvGrpSpPr/>
          <p:nvPr/>
        </p:nvGrpSpPr>
        <p:grpSpPr>
          <a:xfrm>
            <a:off x="0" y="115920"/>
            <a:ext cx="9144000" cy="6551640"/>
            <a:chOff x="0" y="115920"/>
            <a:chExt cx="9144000" cy="6551640"/>
          </a:xfrm>
        </p:grpSpPr>
        <p:grpSp>
          <p:nvGrpSpPr>
            <p:cNvPr id="926" name="Ομάδα 1"/>
            <p:cNvGrpSpPr/>
            <p:nvPr/>
          </p:nvGrpSpPr>
          <p:grpSpPr>
            <a:xfrm>
              <a:off x="0" y="115920"/>
              <a:ext cx="9144000" cy="6551640"/>
              <a:chOff x="0" y="115920"/>
              <a:chExt cx="9144000" cy="6551640"/>
            </a:xfrm>
          </p:grpSpPr>
          <p:sp>
            <p:nvSpPr>
              <p:cNvPr id="9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2" name="9 - Εικόνα" descr=""/>
          <p:cNvPicPr/>
          <p:nvPr/>
        </p:nvPicPr>
        <p:blipFill>
          <a:blip r:embed="rId3"/>
          <a:stretch/>
        </p:blipFill>
        <p:spPr>
          <a:xfrm>
            <a:off x="250920" y="333360"/>
            <a:ext cx="1417680" cy="879480"/>
          </a:xfrm>
          <a:prstGeom prst="rect">
            <a:avLst/>
          </a:prstGeom>
          <a:ln w="0">
            <a:noFill/>
          </a:ln>
        </p:spPr>
      </p:pic>
      <p:sp>
        <p:nvSpPr>
          <p:cNvPr id="933" name="PlaceHolder 1"/>
          <p:cNvSpPr>
            <a:spLocks noGrp="1"/>
          </p:cNvSpPr>
          <p:nvPr>
            <p:ph type="title"/>
          </p:nvPr>
        </p:nvSpPr>
        <p:spPr>
          <a:xfrm>
            <a:off x="250560" y="1665000"/>
            <a:ext cx="8497800" cy="384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οργανώνεται σε δύο σαφώς διακριτές περιοχές, με διαφορετικό χαρακτήρα:</a:t>
            </a:r>
            <a:br>
              <a:rPr sz="2800"/>
            </a:br>
            <a:br>
              <a:rPr sz="2800"/>
            </a:br>
            <a:r>
              <a:rPr b="0" lang="el-GR" sz="2800" spc="-1" strike="noStrike">
                <a:solidFill>
                  <a:srgbClr val="000000"/>
                </a:solidFill>
                <a:latin typeface="Times New Roman"/>
                <a:ea typeface="Calibri"/>
              </a:rPr>
              <a:t>την συνήθη παράλληλη περιοχή διάταξης των θρανίων προσανατολισμένων προς τον πίνακα </a:t>
            </a:r>
            <a:br>
              <a:rPr sz="2800"/>
            </a:br>
            <a:br>
              <a:rPr sz="2800"/>
            </a:br>
            <a:r>
              <a:rPr b="0" lang="el-GR" sz="2800" spc="-1" strike="noStrike">
                <a:solidFill>
                  <a:srgbClr val="000000"/>
                </a:solidFill>
                <a:latin typeface="Times New Roman"/>
                <a:ea typeface="Calibri"/>
              </a:rPr>
              <a:t>την περιοχή των ομάδων, (όπου αυτό γίνεται)</a:t>
            </a:r>
            <a:br>
              <a:rPr sz="2800"/>
            </a:br>
            <a:br>
              <a:rPr sz="2400"/>
            </a:b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4" name="Ομάδα 1"/>
          <p:cNvGrpSpPr/>
          <p:nvPr/>
        </p:nvGrpSpPr>
        <p:grpSpPr>
          <a:xfrm>
            <a:off x="0" y="115920"/>
            <a:ext cx="9144000" cy="6551640"/>
            <a:chOff x="0" y="115920"/>
            <a:chExt cx="9144000" cy="6551640"/>
          </a:xfrm>
        </p:grpSpPr>
        <p:grpSp>
          <p:nvGrpSpPr>
            <p:cNvPr id="935" name="Ομάδα 1"/>
            <p:cNvGrpSpPr/>
            <p:nvPr/>
          </p:nvGrpSpPr>
          <p:grpSpPr>
            <a:xfrm>
              <a:off x="0" y="115920"/>
              <a:ext cx="9144000" cy="6551640"/>
              <a:chOff x="0" y="115920"/>
              <a:chExt cx="9144000" cy="6551640"/>
            </a:xfrm>
          </p:grpSpPr>
          <p:sp>
            <p:nvSpPr>
              <p:cNvPr id="9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1" name="9 - Εικόνα" descr=""/>
          <p:cNvPicPr/>
          <p:nvPr/>
        </p:nvPicPr>
        <p:blipFill>
          <a:blip r:embed="rId3"/>
          <a:stretch/>
        </p:blipFill>
        <p:spPr>
          <a:xfrm>
            <a:off x="250920" y="333360"/>
            <a:ext cx="1417680" cy="879480"/>
          </a:xfrm>
          <a:prstGeom prst="rect">
            <a:avLst/>
          </a:prstGeom>
          <a:ln w="0">
            <a:noFill/>
          </a:ln>
        </p:spPr>
      </p:pic>
      <p:sp>
        <p:nvSpPr>
          <p:cNvPr id="942" name="PlaceHolder 1"/>
          <p:cNvSpPr>
            <a:spLocks noGrp="1"/>
          </p:cNvSpPr>
          <p:nvPr>
            <p:ph type="title"/>
          </p:nvPr>
        </p:nvSpPr>
        <p:spPr>
          <a:xfrm>
            <a:off x="250560" y="1563480"/>
            <a:ext cx="8497800" cy="353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εριοχή των ομάδων συγκεντρώνει τα μικρο-περιβάλλοντα για τη δραστηριοποίηση των μαθητών τόσο σε μικρές ομάδες των 4-6 ατόμων, όσο και ατομικά. </a:t>
            </a:r>
            <a:br>
              <a:rPr sz="2800"/>
            </a:br>
            <a:r>
              <a:rPr b="0" lang="el-GR" sz="2800" spc="-1" strike="noStrike">
                <a:solidFill>
                  <a:srgbClr val="000000"/>
                </a:solidFill>
                <a:latin typeface="Times New Roman"/>
                <a:ea typeface="Calibri"/>
              </a:rPr>
              <a:t>Ο εξοπλισμός της περιοχής των ομάδων περιλαμβάνει τραπέζια και καθίσματα για τους μαθητές, έπιπλα για την τακτοποίηση του εκπαιδευτικού υλικού και προσωπικών αντικειμένων, καθώς και πίνακες έκφρασης, επικοινωνίας και αισθητικής δημιουργίας. </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3" name="Ομάδα 1"/>
          <p:cNvGrpSpPr/>
          <p:nvPr/>
        </p:nvGrpSpPr>
        <p:grpSpPr>
          <a:xfrm>
            <a:off x="0" y="115920"/>
            <a:ext cx="9144000" cy="6551640"/>
            <a:chOff x="0" y="115920"/>
            <a:chExt cx="9144000" cy="6551640"/>
          </a:xfrm>
        </p:grpSpPr>
        <p:grpSp>
          <p:nvGrpSpPr>
            <p:cNvPr id="944" name="Ομάδα 1"/>
            <p:cNvGrpSpPr/>
            <p:nvPr/>
          </p:nvGrpSpPr>
          <p:grpSpPr>
            <a:xfrm>
              <a:off x="0" y="115920"/>
              <a:ext cx="9144000" cy="6551640"/>
              <a:chOff x="0" y="115920"/>
              <a:chExt cx="9144000" cy="6551640"/>
            </a:xfrm>
          </p:grpSpPr>
          <p:sp>
            <p:nvSpPr>
              <p:cNvPr id="9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0" name="9 - Εικόνα" descr=""/>
          <p:cNvPicPr/>
          <p:nvPr/>
        </p:nvPicPr>
        <p:blipFill>
          <a:blip r:embed="rId3"/>
          <a:stretch/>
        </p:blipFill>
        <p:spPr>
          <a:xfrm>
            <a:off x="250920" y="333360"/>
            <a:ext cx="1417680" cy="879480"/>
          </a:xfrm>
          <a:prstGeom prst="rect">
            <a:avLst/>
          </a:prstGeom>
          <a:ln w="0">
            <a:noFill/>
          </a:ln>
        </p:spPr>
      </p:pic>
      <p:sp>
        <p:nvSpPr>
          <p:cNvPr id="951" name="PlaceHolder 1"/>
          <p:cNvSpPr>
            <a:spLocks noGrp="1"/>
          </p:cNvSpPr>
          <p:nvPr>
            <p:ph type="title"/>
          </p:nvPr>
        </p:nvSpPr>
        <p:spPr>
          <a:xfrm>
            <a:off x="250560" y="1434960"/>
            <a:ext cx="8497800" cy="354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άλληλη περιοχή διάταξης των θρανίων προσανατολισμένων προς τον πίνακα  προορίζεται για τη δραστηριοποίηση της τάξης στο σύνολό της, </a:t>
            </a:r>
            <a:br>
              <a:rPr sz="2800"/>
            </a:br>
            <a:r>
              <a:rPr b="0" lang="el-GR" sz="2800" spc="-1" strike="noStrike">
                <a:solidFill>
                  <a:srgbClr val="000000"/>
                </a:solidFill>
                <a:latin typeface="Times New Roman"/>
                <a:ea typeface="Calibri"/>
              </a:rPr>
              <a:t>με τη μορφή μιας μεγάλης ομάδας. </a:t>
            </a:r>
            <a:br>
              <a:rPr sz="2800"/>
            </a:br>
            <a:r>
              <a:rPr b="0" lang="el-GR" sz="2800" spc="-1" strike="noStrike">
                <a:solidFill>
                  <a:srgbClr val="000000"/>
                </a:solidFill>
                <a:latin typeface="Times New Roman"/>
                <a:ea typeface="Calibri"/>
              </a:rPr>
              <a:t>Στις αίθουσες των νηπιαγωγείων μπορούμε να διακρίνουμε και το χώρο ξεκούρασης(καθιστικό)</a:t>
            </a:r>
            <a:br>
              <a:rPr sz="2800"/>
            </a:br>
            <a:r>
              <a:rPr b="0" lang="el-GR" sz="2800" spc="-1" strike="noStrike">
                <a:solidFill>
                  <a:srgbClr val="000000"/>
                </a:solidFill>
                <a:latin typeface="Times New Roman"/>
                <a:ea typeface="Calibri"/>
              </a:rPr>
              <a:t>Ο εξοπλισμός του αποτελείται από καναπέδες, άλλα καθίσματα, μεγάλα μαξιλάρια σε μια μοκέτα στο πάτωμα.</a:t>
            </a: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2" name="Ομάδα 1"/>
          <p:cNvGrpSpPr/>
          <p:nvPr/>
        </p:nvGrpSpPr>
        <p:grpSpPr>
          <a:xfrm>
            <a:off x="0" y="115920"/>
            <a:ext cx="9144000" cy="6551640"/>
            <a:chOff x="0" y="115920"/>
            <a:chExt cx="9144000" cy="6551640"/>
          </a:xfrm>
        </p:grpSpPr>
        <p:grpSp>
          <p:nvGrpSpPr>
            <p:cNvPr id="953" name="Ομάδα 1"/>
            <p:cNvGrpSpPr/>
            <p:nvPr/>
          </p:nvGrpSpPr>
          <p:grpSpPr>
            <a:xfrm>
              <a:off x="0" y="115920"/>
              <a:ext cx="9144000" cy="6551640"/>
              <a:chOff x="0" y="115920"/>
              <a:chExt cx="9144000" cy="6551640"/>
            </a:xfrm>
          </p:grpSpPr>
          <p:sp>
            <p:nvSpPr>
              <p:cNvPr id="9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9" name="9 - Εικόνα" descr=""/>
          <p:cNvPicPr/>
          <p:nvPr/>
        </p:nvPicPr>
        <p:blipFill>
          <a:blip r:embed="rId3"/>
          <a:stretch/>
        </p:blipFill>
        <p:spPr>
          <a:xfrm>
            <a:off x="250920" y="333360"/>
            <a:ext cx="1417680" cy="879480"/>
          </a:xfrm>
          <a:prstGeom prst="rect">
            <a:avLst/>
          </a:prstGeom>
          <a:ln w="0">
            <a:noFill/>
          </a:ln>
        </p:spPr>
      </p:pic>
      <p:sp>
        <p:nvSpPr>
          <p:cNvPr id="960" name="PlaceHolder 1"/>
          <p:cNvSpPr>
            <a:spLocks noGrp="1"/>
          </p:cNvSpPr>
          <p:nvPr>
            <p:ph type="title"/>
          </p:nvPr>
        </p:nvSpPr>
        <p:spPr>
          <a:xfrm>
            <a:off x="395280" y="2033280"/>
            <a:ext cx="83534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αίθουσας πρέπει να προσφέρει στους μαθητές τη δυνατότητα να κινούνται στο χώρο και να προβάλλουν προσωπικά τους στοιχεία. </a:t>
            </a:r>
            <a:br>
              <a:rPr sz="2800"/>
            </a:br>
            <a:r>
              <a:rPr b="0" lang="el-GR" sz="2800" spc="-1" strike="noStrike">
                <a:solidFill>
                  <a:srgbClr val="000000"/>
                </a:solidFill>
                <a:latin typeface="Times New Roman"/>
                <a:ea typeface="Calibri"/>
              </a:rPr>
              <a:t>Με τις παρεμβάσεις τους, οι μαθητές θα μπορούν να προσαρμόσουν το χώρο στις λειτουργικές, αισθητικές και συναισθηματικές προτιμήσεις τους και να δημιουργήσουν το «δικό τους τόπο» μέσα στην αίθουσα. </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1" name="Ομάδα 1"/>
          <p:cNvGrpSpPr/>
          <p:nvPr/>
        </p:nvGrpSpPr>
        <p:grpSpPr>
          <a:xfrm>
            <a:off x="0" y="115920"/>
            <a:ext cx="9144000" cy="6551640"/>
            <a:chOff x="0" y="115920"/>
            <a:chExt cx="9144000" cy="6551640"/>
          </a:xfrm>
        </p:grpSpPr>
        <p:grpSp>
          <p:nvGrpSpPr>
            <p:cNvPr id="962" name="Ομάδα 1"/>
            <p:cNvGrpSpPr/>
            <p:nvPr/>
          </p:nvGrpSpPr>
          <p:grpSpPr>
            <a:xfrm>
              <a:off x="0" y="115920"/>
              <a:ext cx="9144000" cy="6551640"/>
              <a:chOff x="0" y="115920"/>
              <a:chExt cx="9144000" cy="6551640"/>
            </a:xfrm>
          </p:grpSpPr>
          <p:sp>
            <p:nvSpPr>
              <p:cNvPr id="9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8" name="9 - Εικόνα" descr=""/>
          <p:cNvPicPr/>
          <p:nvPr/>
        </p:nvPicPr>
        <p:blipFill>
          <a:blip r:embed="rId3"/>
          <a:stretch/>
        </p:blipFill>
        <p:spPr>
          <a:xfrm>
            <a:off x="250920" y="333360"/>
            <a:ext cx="1417680" cy="879480"/>
          </a:xfrm>
          <a:prstGeom prst="rect">
            <a:avLst/>
          </a:prstGeom>
          <a:ln w="0">
            <a:noFill/>
          </a:ln>
        </p:spPr>
      </p:pic>
      <p:sp>
        <p:nvSpPr>
          <p:cNvPr id="969" name="PlaceHolder 1"/>
          <p:cNvSpPr>
            <a:spLocks noGrp="1"/>
          </p:cNvSpPr>
          <p:nvPr>
            <p:ph type="title"/>
          </p:nvPr>
        </p:nvSpPr>
        <p:spPr>
          <a:xfrm>
            <a:off x="395280" y="1220760"/>
            <a:ext cx="8353440" cy="440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ε περιπτώσεις που ο διαθέσιμος χώρος της τάξης είναι μεγαλύτερος, η περιοχή εργασίας σε ομάδες μπορεί να εμπλουτιστεί με στοιχεία χώρου και εξοπλισμό που δίνουν έμφαση στην πρόσβαση του παιδιού στη γνώση και τη συστηματοποιούν. </a:t>
            </a:r>
            <a:br>
              <a:rPr sz="2800"/>
            </a:br>
            <a:br>
              <a:rPr sz="2800"/>
            </a:br>
            <a:r>
              <a:rPr b="0" lang="el-GR" sz="2800" spc="-1" strike="noStrike">
                <a:solidFill>
                  <a:srgbClr val="000000"/>
                </a:solidFill>
                <a:latin typeface="Times New Roman"/>
                <a:ea typeface="Calibri"/>
              </a:rPr>
              <a:t>Τέτοια στοιχεία θα μπορούσε να είναι ένας χώρος πολυμέσων για μελέτη και εκπαιδευτική επικοινωνία με χρήση νέων τεχνολογιών ή μια βιβλιοθήκη της τάξης, με χώρο συλλογής στοιχείων και προετοιμασίας εργασιών.</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0" name="Ομάδα 1"/>
          <p:cNvGrpSpPr/>
          <p:nvPr/>
        </p:nvGrpSpPr>
        <p:grpSpPr>
          <a:xfrm>
            <a:off x="0" y="115920"/>
            <a:ext cx="9144000" cy="6551640"/>
            <a:chOff x="0" y="115920"/>
            <a:chExt cx="9144000" cy="6551640"/>
          </a:xfrm>
        </p:grpSpPr>
        <p:grpSp>
          <p:nvGrpSpPr>
            <p:cNvPr id="971" name="Ομάδα 1"/>
            <p:cNvGrpSpPr/>
            <p:nvPr/>
          </p:nvGrpSpPr>
          <p:grpSpPr>
            <a:xfrm>
              <a:off x="0" y="115920"/>
              <a:ext cx="9144000" cy="6551640"/>
              <a:chOff x="0" y="115920"/>
              <a:chExt cx="9144000" cy="6551640"/>
            </a:xfrm>
          </p:grpSpPr>
          <p:sp>
            <p:nvSpPr>
              <p:cNvPr id="9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7" name="9 - Εικόνα" descr=""/>
          <p:cNvPicPr/>
          <p:nvPr/>
        </p:nvPicPr>
        <p:blipFill>
          <a:blip r:embed="rId3"/>
          <a:stretch/>
        </p:blipFill>
        <p:spPr>
          <a:xfrm>
            <a:off x="250920" y="333360"/>
            <a:ext cx="1417680" cy="879480"/>
          </a:xfrm>
          <a:prstGeom prst="rect">
            <a:avLst/>
          </a:prstGeom>
          <a:ln w="0">
            <a:noFill/>
          </a:ln>
        </p:spPr>
      </p:pic>
      <p:sp>
        <p:nvSpPr>
          <p:cNvPr id="978" name="PlaceHolder 1"/>
          <p:cNvSpPr>
            <a:spLocks noGrp="1"/>
          </p:cNvSpPr>
          <p:nvPr>
            <p:ph type="title"/>
          </p:nvPr>
        </p:nvSpPr>
        <p:spPr>
          <a:xfrm>
            <a:off x="324000" y="2065320"/>
            <a:ext cx="842472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αίθουσα διδασκαλίας είναι ένα  μαθησιακό περιβάλλον, όπου οι μαθητές μπορούν να εργάζονται μαζί και να αλληλοϋποστηρίζονται να  χρησιμοποιούν μια ποικιλία εργαλείων και πηγών πληροφορίας  για την επίτευξη μαθησιακών στόχων και την πραγματοποίηση δραστηριοτήτων επίλυσης προβλημάτων.</a:t>
            </a:r>
            <a:br>
              <a:rPr sz="800"/>
            </a:b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δεν  είναι ένα άψυχο οικοδόμημα, </a:t>
            </a:r>
            <a:br>
              <a:rPr sz="2800"/>
            </a:br>
            <a:r>
              <a:rPr b="0" lang="el-GR" sz="2800" spc="-1" strike="noStrike">
                <a:solidFill>
                  <a:srgbClr val="000000"/>
                </a:solidFill>
                <a:latin typeface="Times New Roman"/>
              </a:rPr>
              <a:t>αλλά ως ένας ζωντανός</a:t>
            </a:r>
            <a:r>
              <a:rPr b="0" lang="en-US" sz="2800" spc="-1" strike="noStrike">
                <a:solidFill>
                  <a:srgbClr val="000000"/>
                </a:solidFill>
                <a:latin typeface="Times New Roman"/>
              </a:rPr>
              <a:t> </a:t>
            </a:r>
            <a:r>
              <a:rPr b="0" lang="el-GR" sz="2800" spc="-1" strike="noStrike">
                <a:solidFill>
                  <a:srgbClr val="000000"/>
                </a:solidFill>
                <a:latin typeface="Times New Roman"/>
              </a:rPr>
              <a:t>χώρος,</a:t>
            </a:r>
            <a:br>
              <a:rPr sz="2800"/>
            </a:br>
            <a:r>
              <a:rPr b="0" lang="el-GR" sz="2800" spc="-1" strike="noStrike">
                <a:solidFill>
                  <a:srgbClr val="000000"/>
                </a:solidFill>
                <a:latin typeface="Times New Roman"/>
              </a:rPr>
              <a:t> που δημιουργήθηκε στο πλαίσιο συγκεκριμένων εκπαιδευτικών αντιλήψεων με</a:t>
            </a:r>
            <a:br>
              <a:rPr sz="2800"/>
            </a:br>
            <a:r>
              <a:rPr b="0" lang="el-GR" sz="2800" spc="-1" strike="noStrike">
                <a:solidFill>
                  <a:srgbClr val="000000"/>
                </a:solidFill>
                <a:latin typeface="Times New Roman"/>
              </a:rPr>
              <a:t>σκοπό  να υποστηρίξει τις διαδικασίες αγωγής </a:t>
            </a:r>
            <a:br>
              <a:rPr sz="2800"/>
            </a:br>
            <a:r>
              <a:rPr b="0" lang="el-GR" sz="2800" spc="-1" strike="noStrike">
                <a:solidFill>
                  <a:srgbClr val="000000"/>
                </a:solidFill>
                <a:latin typeface="Times New Roman"/>
              </a:rPr>
              <a:t>των μαθητών και</a:t>
            </a:r>
            <a:r>
              <a:rPr b="0" lang="en-US" sz="2800" spc="-1" strike="noStrike">
                <a:solidFill>
                  <a:srgbClr val="000000"/>
                </a:solidFill>
                <a:latin typeface="Times New Roman"/>
              </a:rPr>
              <a:t> </a:t>
            </a:r>
            <a:r>
              <a:rPr b="0" lang="el-GR" sz="2800" spc="-1" strike="noStrike">
                <a:solidFill>
                  <a:srgbClr val="000000"/>
                </a:solidFill>
                <a:latin typeface="Times New Roman"/>
              </a:rPr>
              <a:t>να ενδυναμώσει συνακόλουθα </a:t>
            </a:r>
            <a:br>
              <a:rPr sz="2800"/>
            </a:br>
            <a:r>
              <a:rPr b="0" lang="el-GR" sz="2800" spc="-1" strike="noStrike">
                <a:solidFill>
                  <a:srgbClr val="000000"/>
                </a:solidFill>
                <a:latin typeface="Times New Roman"/>
              </a:rPr>
              <a:t>το πολύπλοκο και πολυεπίπεδο έργο των διδασκόντω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PlaceHolder 1"/>
          <p:cNvSpPr>
            <a:spLocks noGrp="1"/>
          </p:cNvSpPr>
          <p:nvPr>
            <p:ph type="title"/>
          </p:nvPr>
        </p:nvSpPr>
        <p:spPr>
          <a:xfrm>
            <a:off x="324000" y="1541160"/>
            <a:ext cx="8424720" cy="409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αίθουσα διδασκαλίας πρέπει να είναι ενα περιβάλλον μάθησης εποικοδομητικό και μαθητο-κεντρικό. </a:t>
            </a:r>
            <a:br>
              <a:rPr sz="2800"/>
            </a:br>
            <a:r>
              <a:rPr b="0" lang="el-GR" sz="2800" spc="-1" strike="noStrike">
                <a:solidFill>
                  <a:srgbClr val="000000"/>
                </a:solidFill>
                <a:latin typeface="Times New Roman"/>
                <a:ea typeface="Calibri"/>
              </a:rPr>
              <a:t>Το μαθητο-κεντρικό περιβάλλον μάθησης αποτελεί μια εναλλακτική λύση και ειδικά αυτά που είναι εμπλουτισμένα  με τεχνολογικά μέσα (χώρος πολυμέσων), προωθούν την ενεργό εμπλοκή μέσα από μαθητο-κεντρικές δραστηριότητες και οργανώνουν θέματα μάθησης που συνδέονται μεταξύ τους σε πλαίσια που έχουν νόημα για τους μαθητές. </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8" name="Ομάδα 1"/>
          <p:cNvGrpSpPr/>
          <p:nvPr/>
        </p:nvGrpSpPr>
        <p:grpSpPr>
          <a:xfrm>
            <a:off x="0" y="115920"/>
            <a:ext cx="9144000" cy="6551640"/>
            <a:chOff x="0" y="115920"/>
            <a:chExt cx="9144000" cy="6551640"/>
          </a:xfrm>
        </p:grpSpPr>
        <p:grpSp>
          <p:nvGrpSpPr>
            <p:cNvPr id="989" name="Ομάδα 1"/>
            <p:cNvGrpSpPr/>
            <p:nvPr/>
          </p:nvGrpSpPr>
          <p:grpSpPr>
            <a:xfrm>
              <a:off x="0" y="115920"/>
              <a:ext cx="9144000" cy="6551640"/>
              <a:chOff x="0" y="115920"/>
              <a:chExt cx="9144000" cy="6551640"/>
            </a:xfrm>
          </p:grpSpPr>
          <p:sp>
            <p:nvSpPr>
              <p:cNvPr id="9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5" name="9 - Εικόνα" descr=""/>
          <p:cNvPicPr/>
          <p:nvPr/>
        </p:nvPicPr>
        <p:blipFill>
          <a:blip r:embed="rId3"/>
          <a:stretch/>
        </p:blipFill>
        <p:spPr>
          <a:xfrm>
            <a:off x="250920" y="333360"/>
            <a:ext cx="1417680" cy="879480"/>
          </a:xfrm>
          <a:prstGeom prst="rect">
            <a:avLst/>
          </a:prstGeom>
          <a:ln w="0">
            <a:noFill/>
          </a:ln>
        </p:spPr>
      </p:pic>
      <p:sp>
        <p:nvSpPr>
          <p:cNvPr id="996" name="PlaceHolder 1"/>
          <p:cNvSpPr>
            <a:spLocks noGrp="1"/>
          </p:cNvSpPr>
          <p:nvPr>
            <p:ph type="title"/>
          </p:nvPr>
        </p:nvSpPr>
        <p:spPr>
          <a:xfrm>
            <a:off x="250560" y="181908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καινοτομική χρήση των υπολογιστών μέσα στην τάξη οδηγεί σε σημαντικές αλλαγές των παραδοσιακών ρόλων όλων των συντελεστών που εμπλέκονται στη διαδικασία διδασκαλίας και μάθησης:</a:t>
            </a:r>
            <a:br>
              <a:rPr sz="2800"/>
            </a:br>
            <a:r>
              <a:rPr b="0" lang="el-GR" sz="2800" spc="-1" strike="noStrike">
                <a:solidFill>
                  <a:srgbClr val="000000"/>
                </a:solidFill>
                <a:latin typeface="Times New Roman"/>
                <a:ea typeface="Calibri"/>
              </a:rPr>
              <a:t>Οι μαθητές δεν είναι πλέον παθητικοί δέκτες της πληροφορίας και της γνώσης, αλλά ενεργοί παράγοντες της οικοδόμησης της ίδιας τους της γνώσης, καθώς εργάζονται είτε στο πλαίσιο μικρών ομάδων είτε ατομικά.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Ομάδα 1"/>
          <p:cNvGrpSpPr/>
          <p:nvPr/>
        </p:nvGrpSpPr>
        <p:grpSpPr>
          <a:xfrm>
            <a:off x="0" y="115920"/>
            <a:ext cx="9144000" cy="6551640"/>
            <a:chOff x="0" y="115920"/>
            <a:chExt cx="9144000" cy="6551640"/>
          </a:xfrm>
        </p:grpSpPr>
        <p:grpSp>
          <p:nvGrpSpPr>
            <p:cNvPr id="998" name="Ομάδα 1"/>
            <p:cNvGrpSpPr/>
            <p:nvPr/>
          </p:nvGrpSpPr>
          <p:grpSpPr>
            <a:xfrm>
              <a:off x="0" y="115920"/>
              <a:ext cx="9144000" cy="6551640"/>
              <a:chOff x="0" y="115920"/>
              <a:chExt cx="9144000" cy="6551640"/>
            </a:xfrm>
          </p:grpSpPr>
          <p:sp>
            <p:nvSpPr>
              <p:cNvPr id="9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4" name="9 - Εικόνα" descr=""/>
          <p:cNvPicPr/>
          <p:nvPr/>
        </p:nvPicPr>
        <p:blipFill>
          <a:blip r:embed="rId3"/>
          <a:stretch/>
        </p:blipFill>
        <p:spPr>
          <a:xfrm>
            <a:off x="250920" y="333360"/>
            <a:ext cx="1417680" cy="879480"/>
          </a:xfrm>
          <a:prstGeom prst="rect">
            <a:avLst/>
          </a:prstGeom>
          <a:ln w="0">
            <a:noFill/>
          </a:ln>
        </p:spPr>
      </p:pic>
      <p:sp>
        <p:nvSpPr>
          <p:cNvPr id="1005" name="PlaceHolder 1"/>
          <p:cNvSpPr>
            <a:spLocks noGrp="1"/>
          </p:cNvSpPr>
          <p:nvPr>
            <p:ph type="title"/>
          </p:nvPr>
        </p:nvSpPr>
        <p:spPr>
          <a:xfrm>
            <a:off x="250560" y="2065320"/>
            <a:ext cx="849780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αιδί συνειδητοποιεί τη σημασία και τις επιπτώσεις των ίδιων του των ιδεών και όταν αυτές αντικρούονται από την πραγματικότητα έρχεται αντιμέτωπο με τις ίδιες του τις απόψεις, που το παρακινούν να τις τροποποιήσει και να υιοθετήσει άλλες απόψεις, πιο κοντά στις επιστημονικές</a:t>
            </a:r>
            <a:br>
              <a:rPr sz="2400"/>
            </a:b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6" name="Ομάδα 1"/>
          <p:cNvGrpSpPr/>
          <p:nvPr/>
        </p:nvGrpSpPr>
        <p:grpSpPr>
          <a:xfrm>
            <a:off x="0" y="115920"/>
            <a:ext cx="9144000" cy="6551640"/>
            <a:chOff x="0" y="115920"/>
            <a:chExt cx="9144000" cy="6551640"/>
          </a:xfrm>
        </p:grpSpPr>
        <p:grpSp>
          <p:nvGrpSpPr>
            <p:cNvPr id="1007" name="Ομάδα 1"/>
            <p:cNvGrpSpPr/>
            <p:nvPr/>
          </p:nvGrpSpPr>
          <p:grpSpPr>
            <a:xfrm>
              <a:off x="0" y="115920"/>
              <a:ext cx="9144000" cy="6551640"/>
              <a:chOff x="0" y="115920"/>
              <a:chExt cx="9144000" cy="6551640"/>
            </a:xfrm>
          </p:grpSpPr>
          <p:sp>
            <p:nvSpPr>
              <p:cNvPr id="10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3" name="9 - Εικόνα" descr=""/>
          <p:cNvPicPr/>
          <p:nvPr/>
        </p:nvPicPr>
        <p:blipFill>
          <a:blip r:embed="rId3"/>
          <a:stretch/>
        </p:blipFill>
        <p:spPr>
          <a:xfrm>
            <a:off x="250920" y="333360"/>
            <a:ext cx="1417680" cy="879480"/>
          </a:xfrm>
          <a:prstGeom prst="rect">
            <a:avLst/>
          </a:prstGeom>
          <a:ln w="0">
            <a:noFill/>
          </a:ln>
        </p:spPr>
      </p:pic>
      <p:sp>
        <p:nvSpPr>
          <p:cNvPr id="1014" name="PlaceHolder 1"/>
          <p:cNvSpPr>
            <a:spLocks noGrp="1"/>
          </p:cNvSpPr>
          <p:nvPr>
            <p:ph type="title"/>
          </p:nvPr>
        </p:nvSpPr>
        <p:spPr>
          <a:xfrm>
            <a:off x="322200" y="1423800"/>
            <a:ext cx="8499600" cy="47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δεν είναι πλέον οι μόνοι κάτοχοι και μεταδότες της πληροφορίας και της γνώσης, αλλά σχεδιαστές των δραστηριοτήτων των μαθητών και εμψυχωτές και  βοηθοί τους στην μαθησιακή διαδικασία. Αναλύουν τις στρατηγικές που χρησιμοποιούνται για τη λύση προβλημάτων και εκμεταλλεύονται τα λάθη των μαθητών ως ένα μηχανισμό ανάδρασης για την εμβάθυνση της κατανόησης εκ μέρους τους, ώστε να οδηγηθούν στην τροποποίηση των αρχικών ιδεών και στη βελτίωση της κατανόησης και της μάθησης</a:t>
            </a:r>
            <a:r>
              <a:rPr b="0" lang="el-GR" sz="2400" spc="-1" strike="noStrike">
                <a:solidFill>
                  <a:srgbClr val="000000"/>
                </a:solidFill>
                <a:latin typeface="Times New Roman"/>
                <a:ea typeface="Calibri"/>
              </a:rPr>
              <a:t>.</a:t>
            </a:r>
            <a:br>
              <a:rPr sz="800"/>
            </a:b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5" name="Ομάδα 1"/>
          <p:cNvGrpSpPr/>
          <p:nvPr/>
        </p:nvGrpSpPr>
        <p:grpSpPr>
          <a:xfrm>
            <a:off x="0" y="115920"/>
            <a:ext cx="9144000" cy="6551640"/>
            <a:chOff x="0" y="115920"/>
            <a:chExt cx="9144000" cy="6551640"/>
          </a:xfrm>
        </p:grpSpPr>
        <p:grpSp>
          <p:nvGrpSpPr>
            <p:cNvPr id="1016" name="Ομάδα 1"/>
            <p:cNvGrpSpPr/>
            <p:nvPr/>
          </p:nvGrpSpPr>
          <p:grpSpPr>
            <a:xfrm>
              <a:off x="0" y="115920"/>
              <a:ext cx="9144000" cy="6551640"/>
              <a:chOff x="0" y="115920"/>
              <a:chExt cx="9144000" cy="6551640"/>
            </a:xfrm>
          </p:grpSpPr>
          <p:sp>
            <p:nvSpPr>
              <p:cNvPr id="10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2" name="9 - Εικόνα" descr=""/>
          <p:cNvPicPr/>
          <p:nvPr/>
        </p:nvPicPr>
        <p:blipFill>
          <a:blip r:embed="rId3"/>
          <a:stretch/>
        </p:blipFill>
        <p:spPr>
          <a:xfrm>
            <a:off x="250920" y="333360"/>
            <a:ext cx="1417680" cy="879480"/>
          </a:xfrm>
          <a:prstGeom prst="rect">
            <a:avLst/>
          </a:prstGeom>
          <a:ln w="0">
            <a:noFill/>
          </a:ln>
        </p:spPr>
      </p:pic>
      <p:sp>
        <p:nvSpPr>
          <p:cNvPr id="1023" name="PlaceHolder 1"/>
          <p:cNvSpPr>
            <a:spLocks noGrp="1"/>
          </p:cNvSpPr>
          <p:nvPr>
            <p:ph type="title"/>
          </p:nvPr>
        </p:nvSpPr>
        <p:spPr>
          <a:xfrm>
            <a:off x="468000" y="1633320"/>
            <a:ext cx="8280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α εμπλουτισμένα τεχνολογικά περιβάλλοντα μάθησης:</a:t>
            </a:r>
            <a:br>
              <a:rPr sz="2800"/>
            </a:br>
            <a:br>
              <a:rPr sz="2800"/>
            </a:br>
            <a:r>
              <a:rPr b="0" lang="el-GR" sz="2800" spc="-1" strike="noStrike">
                <a:solidFill>
                  <a:srgbClr val="000000"/>
                </a:solidFill>
                <a:latin typeface="Times New Roman"/>
                <a:ea typeface="Calibri"/>
              </a:rPr>
              <a:t>προωθούν τη μελέτη και τη διερεύνηση μέσα σε αυθεντικά πλαίσια, που έχουν νόημα για τα παιδιά</a:t>
            </a:r>
            <a:br>
              <a:rPr sz="2800"/>
            </a:br>
            <a:br>
              <a:rPr sz="2800"/>
            </a:br>
            <a:r>
              <a:rPr b="0" lang="el-GR" sz="2800" spc="-1" strike="noStrike">
                <a:solidFill>
                  <a:srgbClr val="000000"/>
                </a:solidFill>
                <a:latin typeface="Times New Roman"/>
                <a:ea typeface="Calibri"/>
              </a:rPr>
              <a:t>προσαρμόζουν την υπό μελέτη ύλη στο επίπεδο των μαθητών με εστίαση σε ρεαλιστικές προσεγγίσεις και όχι σε ακαδημαϊκά πλαίσια μάθησης</a:t>
            </a:r>
            <a:br>
              <a:rPr sz="2400"/>
            </a:b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4" name="Ομάδα 1"/>
          <p:cNvGrpSpPr/>
          <p:nvPr/>
        </p:nvGrpSpPr>
        <p:grpSpPr>
          <a:xfrm>
            <a:off x="0" y="115920"/>
            <a:ext cx="9144000" cy="6551640"/>
            <a:chOff x="0" y="115920"/>
            <a:chExt cx="9144000" cy="6551640"/>
          </a:xfrm>
        </p:grpSpPr>
        <p:grpSp>
          <p:nvGrpSpPr>
            <p:cNvPr id="1025" name="Ομάδα 1"/>
            <p:cNvGrpSpPr/>
            <p:nvPr/>
          </p:nvGrpSpPr>
          <p:grpSpPr>
            <a:xfrm>
              <a:off x="0" y="115920"/>
              <a:ext cx="9144000" cy="6551640"/>
              <a:chOff x="0" y="115920"/>
              <a:chExt cx="9144000" cy="6551640"/>
            </a:xfrm>
          </p:grpSpPr>
          <p:sp>
            <p:nvSpPr>
              <p:cNvPr id="10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0"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1" name="9 - Εικόνα" descr=""/>
          <p:cNvPicPr/>
          <p:nvPr/>
        </p:nvPicPr>
        <p:blipFill>
          <a:blip r:embed="rId3"/>
          <a:stretch/>
        </p:blipFill>
        <p:spPr>
          <a:xfrm>
            <a:off x="250920" y="333360"/>
            <a:ext cx="1417680" cy="879480"/>
          </a:xfrm>
          <a:prstGeom prst="rect">
            <a:avLst/>
          </a:prstGeom>
          <a:ln w="0">
            <a:noFill/>
          </a:ln>
        </p:spPr>
      </p:pic>
      <p:sp>
        <p:nvSpPr>
          <p:cNvPr id="1032" name="PlaceHolder 1"/>
          <p:cNvSpPr>
            <a:spLocks noGrp="1"/>
          </p:cNvSpPr>
          <p:nvPr>
            <p:ph type="title"/>
          </p:nvPr>
        </p:nvSpPr>
        <p:spPr>
          <a:xfrm>
            <a:off x="468000" y="957240"/>
            <a:ext cx="8280360" cy="526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παρουσιάζουν αυθεντικές καταστάσεις και προβλήματα, που συνδέονται με το πραγματικό πλαίσιο της διδασκαλίας και όχι με το αφαιρετικό πλαίσιο, ώστε να επιτυγχάνεται η θεμελίωση της μάθησης σε ένα πλούσιο αυθεντικό περιβάλλον λύσης προβλημάτων</a:t>
            </a:r>
            <a:br>
              <a:rPr sz="2800"/>
            </a:br>
            <a:br>
              <a:rPr sz="2800"/>
            </a:br>
            <a:r>
              <a:rPr b="0" lang="el-GR" sz="2800" spc="-1" strike="noStrike">
                <a:solidFill>
                  <a:srgbClr val="000000"/>
                </a:solidFill>
                <a:latin typeface="Times New Roman"/>
                <a:ea typeface="Calibri"/>
              </a:rPr>
              <a:t>προσανατολίζουν τους μαθητές ώστε να είναι ενεργοί παράγοντες της ίδιας τους της μάθησης, να χειρίζονται δηλαδή εργαλεία και αντικείμενα και να σκέφτονται τις ενέργειες που κάνουν</a:t>
            </a:r>
            <a:br>
              <a:rPr sz="2800"/>
            </a:b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3" name="Ομάδα 1"/>
          <p:cNvGrpSpPr/>
          <p:nvPr/>
        </p:nvGrpSpPr>
        <p:grpSpPr>
          <a:xfrm>
            <a:off x="0" y="115920"/>
            <a:ext cx="9144000" cy="6551640"/>
            <a:chOff x="0" y="115920"/>
            <a:chExt cx="9144000" cy="6551640"/>
          </a:xfrm>
        </p:grpSpPr>
        <p:grpSp>
          <p:nvGrpSpPr>
            <p:cNvPr id="1034" name="Ομάδα 1"/>
            <p:cNvGrpSpPr/>
            <p:nvPr/>
          </p:nvGrpSpPr>
          <p:grpSpPr>
            <a:xfrm>
              <a:off x="0" y="115920"/>
              <a:ext cx="9144000" cy="6551640"/>
              <a:chOff x="0" y="115920"/>
              <a:chExt cx="9144000" cy="6551640"/>
            </a:xfrm>
          </p:grpSpPr>
          <p:sp>
            <p:nvSpPr>
              <p:cNvPr id="10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0" name="9 - Εικόνα" descr=""/>
          <p:cNvPicPr/>
          <p:nvPr/>
        </p:nvPicPr>
        <p:blipFill>
          <a:blip r:embed="rId3"/>
          <a:stretch/>
        </p:blipFill>
        <p:spPr>
          <a:xfrm>
            <a:off x="250920" y="333360"/>
            <a:ext cx="1417680" cy="879480"/>
          </a:xfrm>
          <a:prstGeom prst="rect">
            <a:avLst/>
          </a:prstGeom>
          <a:ln w="0">
            <a:noFill/>
          </a:ln>
        </p:spPr>
      </p:pic>
      <p:sp>
        <p:nvSpPr>
          <p:cNvPr id="1041" name="PlaceHolder 1"/>
          <p:cNvSpPr>
            <a:spLocks noGrp="1"/>
          </p:cNvSpPr>
          <p:nvPr>
            <p:ph type="title"/>
          </p:nvPr>
        </p:nvSpPr>
        <p:spPr>
          <a:xfrm>
            <a:off x="468000" y="1449360"/>
            <a:ext cx="8280360" cy="427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υποστηρίζουν διαδικασίες επικοινωνίας, διαλόγου και συνεργασίας των μαθητών με άλλους και προωθούν τη συνεργατική οικοδόμηση της γνώσης,  στην προσπάθεια αναζήτησης λύσεων μέσα από κοινωνική διαπραγμάτευση και σύνδεση των μαθητών με την κοινωνία και τον κόσμο, ώστε να κατανοούν ότι υπάρχουν πολλοί τρόποι θέασης του κόσμου και διάφορες λύσεις στα ποικίλα προβλήματα της ζωής</a:t>
            </a:r>
            <a:br>
              <a:rPr sz="2800"/>
            </a:br>
            <a:endParaRPr b="0" lang="en-US" sz="28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2" name="Ομάδα 1"/>
          <p:cNvGrpSpPr/>
          <p:nvPr/>
        </p:nvGrpSpPr>
        <p:grpSpPr>
          <a:xfrm>
            <a:off x="0" y="115920"/>
            <a:ext cx="9144000" cy="6551640"/>
            <a:chOff x="0" y="115920"/>
            <a:chExt cx="9144000" cy="6551640"/>
          </a:xfrm>
        </p:grpSpPr>
        <p:grpSp>
          <p:nvGrpSpPr>
            <p:cNvPr id="1043" name="Ομάδα 1"/>
            <p:cNvGrpSpPr/>
            <p:nvPr/>
          </p:nvGrpSpPr>
          <p:grpSpPr>
            <a:xfrm>
              <a:off x="0" y="115920"/>
              <a:ext cx="9144000" cy="6551640"/>
              <a:chOff x="0" y="115920"/>
              <a:chExt cx="9144000" cy="6551640"/>
            </a:xfrm>
          </p:grpSpPr>
          <p:sp>
            <p:nvSpPr>
              <p:cNvPr id="10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9" name="9 - Εικόνα" descr=""/>
          <p:cNvPicPr/>
          <p:nvPr/>
        </p:nvPicPr>
        <p:blipFill>
          <a:blip r:embed="rId3"/>
          <a:stretch/>
        </p:blipFill>
        <p:spPr>
          <a:xfrm>
            <a:off x="250920" y="333360"/>
            <a:ext cx="1417680" cy="879480"/>
          </a:xfrm>
          <a:prstGeom prst="rect">
            <a:avLst/>
          </a:prstGeom>
          <a:ln w="0">
            <a:noFill/>
          </a:ln>
        </p:spPr>
      </p:pic>
      <p:sp>
        <p:nvSpPr>
          <p:cNvPr id="1050" name="PlaceHolder 1"/>
          <p:cNvSpPr>
            <a:spLocks noGrp="1"/>
          </p:cNvSpPr>
          <p:nvPr>
            <p:ph type="title"/>
          </p:nvPr>
        </p:nvSpPr>
        <p:spPr>
          <a:xfrm>
            <a:off x="468000" y="2157120"/>
            <a:ext cx="8280360" cy="286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800"/>
            </a:br>
            <a:r>
              <a:rPr b="0" lang="el-GR" sz="2800" spc="-1" strike="noStrike">
                <a:solidFill>
                  <a:srgbClr val="000000"/>
                </a:solidFill>
                <a:latin typeface="Times New Roman"/>
                <a:ea typeface="Calibri"/>
              </a:rPr>
              <a:t>σχεδιάζουν σαφείς παιδαγωγικούς στόχους και σκοπούς, οι οποίοι αποτελούν αντικείμενο διαπραγμάτευσης και δεν επιβάλλονται και υποστηρίζουν τους μαθητές στη διαμόρφωση των δικών τους μαθησιακών στόχων</a:t>
            </a:r>
            <a:br>
              <a:rPr sz="2000"/>
            </a:br>
            <a:endParaRPr b="0" lang="en-US" sz="28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1" name="Ομάδα 1"/>
          <p:cNvGrpSpPr/>
          <p:nvPr/>
        </p:nvGrpSpPr>
        <p:grpSpPr>
          <a:xfrm>
            <a:off x="0" y="115920"/>
            <a:ext cx="9144000" cy="6551640"/>
            <a:chOff x="0" y="115920"/>
            <a:chExt cx="9144000" cy="6551640"/>
          </a:xfrm>
        </p:grpSpPr>
        <p:grpSp>
          <p:nvGrpSpPr>
            <p:cNvPr id="1052" name="Ομάδα 1"/>
            <p:cNvGrpSpPr/>
            <p:nvPr/>
          </p:nvGrpSpPr>
          <p:grpSpPr>
            <a:xfrm>
              <a:off x="0" y="115920"/>
              <a:ext cx="9144000" cy="6551640"/>
              <a:chOff x="0" y="115920"/>
              <a:chExt cx="9144000" cy="6551640"/>
            </a:xfrm>
          </p:grpSpPr>
          <p:sp>
            <p:nvSpPr>
              <p:cNvPr id="10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8" name="9 - Εικόνα" descr=""/>
          <p:cNvPicPr/>
          <p:nvPr/>
        </p:nvPicPr>
        <p:blipFill>
          <a:blip r:embed="rId3"/>
          <a:stretch/>
        </p:blipFill>
        <p:spPr>
          <a:xfrm>
            <a:off x="250920" y="333360"/>
            <a:ext cx="1417680" cy="879480"/>
          </a:xfrm>
          <a:prstGeom prst="rect">
            <a:avLst/>
          </a:prstGeom>
          <a:ln w="0">
            <a:noFill/>
          </a:ln>
        </p:spPr>
      </p:pic>
      <p:sp>
        <p:nvSpPr>
          <p:cNvPr id="1059" name="PlaceHolder 1"/>
          <p:cNvSpPr>
            <a:spLocks noGrp="1"/>
          </p:cNvSpPr>
          <p:nvPr>
            <p:ph type="title"/>
          </p:nvPr>
        </p:nvSpPr>
        <p:spPr>
          <a:xfrm>
            <a:off x="324000" y="618840"/>
            <a:ext cx="8424720" cy="593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νθαρρύνουν την ανάπτυξη της υπευθυνότητας των μαθητών, την ανάληψη πρωτοβουλιών, τη λήψη αποφάσεων και τη σκόπιμη μάθηση και καλλιεργούν τη συνεργασία των μαθητών μεταξύ τους και με τον εκπαιδευτικό</a:t>
            </a:r>
            <a:br>
              <a:rPr sz="2800"/>
            </a:br>
            <a:br>
              <a:rPr sz="2800"/>
            </a:br>
            <a:r>
              <a:rPr b="0" lang="el-GR" sz="2800" spc="-1" strike="noStrike">
                <a:solidFill>
                  <a:srgbClr val="000000"/>
                </a:solidFill>
                <a:latin typeface="Times New Roman"/>
                <a:ea typeface="Calibri"/>
              </a:rPr>
              <a:t>χρησιμοποιούν δυναμικές, διαθεματικές και δημιουργικές μαθησιακές δραστηριότητες που προωθούν νοητικές διαδικασίες ανώτερου επιπέδου για να βοηθήσουν τους μαθητές να αναπτύξουν πλούσιες νοητικές και γνωστικές δομές</a:t>
            </a:r>
            <a:br>
              <a:rPr sz="2400"/>
            </a:br>
            <a:br>
              <a:rPr sz="2400"/>
            </a:br>
            <a:endParaRPr b="0" lang="en-US" sz="28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PlaceHolder 1"/>
          <p:cNvSpPr>
            <a:spLocks noGrp="1"/>
          </p:cNvSpPr>
          <p:nvPr>
            <p:ph type="title"/>
          </p:nvPr>
        </p:nvSpPr>
        <p:spPr>
          <a:xfrm>
            <a:off x="324000" y="1849320"/>
            <a:ext cx="8424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l-GR" sz="2800" spc="-1" strike="noStrike">
                <a:solidFill>
                  <a:srgbClr val="000000"/>
                </a:solidFill>
                <a:latin typeface="Times New Roman"/>
                <a:ea typeface="Calibri"/>
              </a:rPr>
              <a:t>αξιολογούν την πρόοδο των μαθητών που αναφέρεται στη μάθηση του περιεχομένου και σε διαδικασίες του να μαθαίνουν πώς να μαθαίνουν μέσα σε αυθεντικά πλαίσια χρησιμοποιώντας ρεαλιστικές ενέργειες και δράσεις (Σολομωνίδου, 2006)</a:t>
            </a:r>
            <a:br>
              <a:rPr sz="2800"/>
            </a:b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
        <p:nvSpPr>
          <p:cNvPr id="591" name="PlaceHolder 1"/>
          <p:cNvSpPr>
            <a:spLocks noGrp="1"/>
          </p:cNvSpPr>
          <p:nvPr>
            <p:ph type="title"/>
          </p:nvPr>
        </p:nvSpPr>
        <p:spPr>
          <a:xfrm>
            <a:off x="395280" y="995400"/>
            <a:ext cx="835344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Λόγω της μεγάλης σημασίας του χώρου, έχουν διατυπωθεί κάποιες θεωρίες σχετικά μ’ αυτόν </a:t>
            </a:r>
            <a:br>
              <a:rPr sz="2800"/>
            </a:br>
            <a:r>
              <a:rPr b="0" lang="el-GR" sz="2800" spc="-1" strike="noStrike">
                <a:solidFill>
                  <a:srgbClr val="000000"/>
                </a:solidFill>
                <a:latin typeface="Times New Roman"/>
                <a:ea typeface="Times New Roman"/>
              </a:rPr>
              <a:t>και έχει αναπτυχθεί </a:t>
            </a:r>
            <a:br>
              <a:rPr sz="2800"/>
            </a:br>
            <a:r>
              <a:rPr b="1" lang="el-GR" sz="2800" spc="-1" strike="noStrike">
                <a:solidFill>
                  <a:srgbClr val="000000"/>
                </a:solidFill>
                <a:latin typeface="Times New Roman"/>
                <a:ea typeface="Times New Roman"/>
              </a:rPr>
              <a:t>η Ανθρωποκεντρική / Παιδαγωγική προσέγγιση, </a:t>
            </a:r>
            <a:br>
              <a:rPr sz="2800"/>
            </a:br>
            <a:r>
              <a:rPr b="1" lang="el-GR" sz="2800" spc="-1" strike="noStrike">
                <a:solidFill>
                  <a:srgbClr val="000000"/>
                </a:solidFill>
                <a:latin typeface="Times New Roman"/>
                <a:ea typeface="Times New Roman"/>
              </a:rPr>
              <a:t>η οποία αφορά στη σύνδεσή του με τον άνθρωπο και τις ψυχοκινητικές διαδικασίες </a:t>
            </a:r>
            <a:r>
              <a:rPr b="0" lang="el-GR" sz="2800" spc="-1" strike="noStrike">
                <a:solidFill>
                  <a:srgbClr val="000000"/>
                </a:solidFill>
                <a:latin typeface="Times New Roman"/>
                <a:ea typeface="Times New Roman"/>
              </a:rPr>
              <a:t>που διαδραματίζονται εντός του πλαισίου του, λαμβάνοντας υπόψη σε κάθε περίπτωση, την αλληλεπίδραση, την κοινωνικοποίηση και την επικοινωνία των υποκειμένων εντός του σχολικού χώρου (Γκιζελή, 2008).</a:t>
            </a: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μπερασματικά </a:t>
            </a:r>
            <a:br>
              <a:rPr sz="2800"/>
            </a:br>
            <a:br>
              <a:rPr sz="2800"/>
            </a:br>
            <a:r>
              <a:rPr b="0" lang="el-GR" sz="2800" spc="-1" strike="noStrike">
                <a:solidFill>
                  <a:srgbClr val="000000"/>
                </a:solidFill>
                <a:latin typeface="Times New Roman"/>
              </a:rPr>
              <a:t>Κατά τη διάρκεια του 20ού αιώνα ο σχολικός χώρος ολοένα και αποκτά μεγαλύτερη και διαφοροποιημένη σημασία σε σχέση με προγενέστερες περιόδους,</a:t>
            </a:r>
            <a:br>
              <a:rPr sz="2800"/>
            </a:br>
            <a:r>
              <a:rPr b="0" lang="el-GR" sz="2800" spc="-1" strike="noStrike">
                <a:solidFill>
                  <a:srgbClr val="000000"/>
                </a:solidFill>
                <a:latin typeface="Times New Roman"/>
              </a:rPr>
              <a:t>και συνδέεται στενότερα με τη διδακτική και την επιτέλεση του εκπαιδευτικού έργου.</a:t>
            </a:r>
            <a:br>
              <a:rPr sz="2800"/>
            </a:b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197000"/>
            <a:ext cx="849780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ρευνες αρχιτεκτονικής φύσεως που έγιναν ανατροφοδοτούμενες από την Περιβαλλοντική και Κοινωνική Ψυχολογία, </a:t>
            </a:r>
            <a:br>
              <a:rPr sz="2800"/>
            </a:br>
            <a:r>
              <a:rPr b="0" lang="el-GR" sz="2800" spc="-1" strike="noStrike">
                <a:solidFill>
                  <a:srgbClr val="000000"/>
                </a:solidFill>
                <a:latin typeface="Times New Roman"/>
              </a:rPr>
              <a:t>οδήγησαν σε αυτό </a:t>
            </a:r>
            <a:br>
              <a:rPr sz="2800"/>
            </a:br>
            <a:r>
              <a:rPr b="0" lang="el-GR" sz="2800" spc="-1" strike="noStrike">
                <a:solidFill>
                  <a:srgbClr val="000000"/>
                </a:solidFill>
                <a:latin typeface="Times New Roman"/>
              </a:rPr>
              <a:t>που αποκαλείται: «Χωροπαιδαγωγική»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Κοινωνικές Επιστήμες </a:t>
            </a:r>
            <a:br>
              <a:rPr sz="2800"/>
            </a:br>
            <a:r>
              <a:rPr b="0" lang="el-GR" sz="2800" spc="-1" strike="noStrike">
                <a:solidFill>
                  <a:srgbClr val="000000"/>
                </a:solidFill>
                <a:latin typeface="Times New Roman"/>
              </a:rPr>
              <a:t>συμβάλλουν με τις έρευνές τους </a:t>
            </a:r>
            <a:br>
              <a:rPr sz="2800"/>
            </a:br>
            <a:r>
              <a:rPr b="0" lang="el-GR" sz="2800" spc="-1" strike="noStrike">
                <a:solidFill>
                  <a:srgbClr val="000000"/>
                </a:solidFill>
                <a:latin typeface="Times New Roman"/>
              </a:rPr>
              <a:t>στον τρόπο με τον οποίο χρησιμοποιείται </a:t>
            </a:r>
            <a:br>
              <a:rPr sz="2800"/>
            </a:br>
            <a:r>
              <a:rPr b="0" lang="el-GR" sz="2800" spc="-1" strike="noStrike">
                <a:solidFill>
                  <a:srgbClr val="000000"/>
                </a:solidFill>
                <a:latin typeface="Times New Roman"/>
              </a:rPr>
              <a:t>ο εκπαιδευτικός χώρος </a:t>
            </a:r>
            <a:br>
              <a:rPr sz="2800"/>
            </a:br>
            <a:r>
              <a:rPr b="0" lang="el-GR" sz="2800" spc="-1" strike="noStrike">
                <a:solidFill>
                  <a:srgbClr val="000000"/>
                </a:solidFill>
                <a:latin typeface="Times New Roman"/>
              </a:rPr>
              <a:t>από τα άτομα και τις ομάδες που τον βιώνουν.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οικίλες νέες απόψεις που αναδύθηκαν χαρακτηρίζονται από μια </a:t>
            </a:r>
            <a:r>
              <a:rPr b="1" lang="el-GR" sz="2800" spc="-1" strike="noStrike">
                <a:solidFill>
                  <a:srgbClr val="000000"/>
                </a:solidFill>
                <a:latin typeface="Times New Roman"/>
              </a:rPr>
              <a:t>ανθρωποκεντρική προσέγγιση </a:t>
            </a:r>
            <a:r>
              <a:rPr b="0" lang="el-GR" sz="2800" spc="-1" strike="noStrike">
                <a:solidFill>
                  <a:srgbClr val="000000"/>
                </a:solidFill>
                <a:latin typeface="Times New Roman"/>
              </a:rPr>
              <a:t>του χώρου και αναδεικνύουν </a:t>
            </a:r>
            <a:br>
              <a:rPr sz="2800"/>
            </a:br>
            <a:r>
              <a:rPr b="0" lang="el-GR" sz="2800" spc="-1" strike="noStrike">
                <a:solidFill>
                  <a:srgbClr val="000000"/>
                </a:solidFill>
                <a:latin typeface="Times New Roman"/>
              </a:rPr>
              <a:t>την παιδαγωγική  αξία που συνδέει το χώρο με τα κοινωνικά, ψυχολογικά και πολιτισμικά γνωρίσματα των ατόμων που σχετίζονται με αυτόν και τον ερευνά ως περιβάλλον ζωής με δική του δυναμική.</a:t>
            </a:r>
            <a:br>
              <a:rPr sz="2800"/>
            </a:b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ασική παραδοχή της Χωροπαιδαγωγικής, που μελετά συστηματικά το ρόλο του</a:t>
            </a:r>
            <a:br>
              <a:rPr sz="2800"/>
            </a:br>
            <a:r>
              <a:rPr b="0" lang="el-GR" sz="2800" spc="-1" strike="noStrike">
                <a:solidFill>
                  <a:srgbClr val="000000"/>
                </a:solidFill>
                <a:latin typeface="Times New Roman"/>
              </a:rPr>
              <a:t>δομημένου σχολικού χώρου στη μάθηση και την ανάπτυξη του/της μαθητή/τριας,</a:t>
            </a:r>
            <a:br>
              <a:rPr sz="2800"/>
            </a:br>
            <a:r>
              <a:rPr b="0" lang="el-GR" sz="2800" spc="-1" strike="noStrike">
                <a:solidFill>
                  <a:srgbClr val="000000"/>
                </a:solidFill>
                <a:latin typeface="Times New Roman"/>
              </a:rPr>
              <a:t>είναι ότι </a:t>
            </a:r>
            <a:r>
              <a:rPr b="1" lang="el-GR" sz="2800" spc="-1" strike="noStrike">
                <a:solidFill>
                  <a:srgbClr val="000000"/>
                </a:solidFill>
                <a:latin typeface="Times New Roman"/>
              </a:rPr>
              <a:t>ο κτισμένος χώρος με τις δομές του </a:t>
            </a:r>
            <a:r>
              <a:rPr b="0" lang="el-GR" sz="2800" spc="-1" strike="noStrike">
                <a:solidFill>
                  <a:srgbClr val="000000"/>
                </a:solidFill>
                <a:latin typeface="Times New Roman"/>
              </a:rPr>
              <a:t>δεν παρέχει μόνο το στεγασμένο πλαίσιο</a:t>
            </a:r>
            <a:br>
              <a:rPr sz="2800"/>
            </a:br>
            <a:r>
              <a:rPr b="0" lang="el-GR" sz="2800" spc="-1" strike="noStrike">
                <a:solidFill>
                  <a:srgbClr val="000000"/>
                </a:solidFill>
                <a:latin typeface="Times New Roman"/>
              </a:rPr>
              <a:t>άσκησης της εκπαιδευτικής διαδικασίας, αλλά ανάλογα με το </a:t>
            </a:r>
            <a:r>
              <a:rPr b="1" lang="el-GR" sz="2800" spc="-1" strike="noStrike">
                <a:solidFill>
                  <a:srgbClr val="000000"/>
                </a:solidFill>
                <a:latin typeface="Times New Roman"/>
              </a:rPr>
              <a:t>είδος της δόμησης εκφράζει κοινωνικές σχέσεις και αξίες</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με την εξέλιξη της</a:t>
            </a:r>
            <a:br>
              <a:rPr sz="2800"/>
            </a:br>
            <a:r>
              <a:rPr b="0" lang="el-GR" sz="2800" spc="-1" strike="noStrike">
                <a:solidFill>
                  <a:srgbClr val="000000"/>
                </a:solidFill>
                <a:latin typeface="Times New Roman"/>
              </a:rPr>
              <a:t>αρχιτεκτονικής και τη συνειδητοποίηση από την πλευρά της Παιδαγωγικής του</a:t>
            </a:r>
            <a:br>
              <a:rPr sz="2800"/>
            </a:br>
            <a:r>
              <a:rPr b="0" lang="el-GR" sz="2800" spc="-1" strike="noStrike">
                <a:solidFill>
                  <a:srgbClr val="000000"/>
                </a:solidFill>
                <a:latin typeface="Times New Roman"/>
              </a:rPr>
              <a:t>σημαντικού ρόλου που διαδραματίζει το διδακτήριο, τροποποιούνται συνεχώς </a:t>
            </a:r>
            <a:br>
              <a:rPr sz="2800"/>
            </a:br>
            <a:r>
              <a:rPr b="0" lang="el-GR" sz="2800" spc="-1" strike="noStrike">
                <a:solidFill>
                  <a:srgbClr val="000000"/>
                </a:solidFill>
                <a:latin typeface="Times New Roman"/>
              </a:rPr>
              <a:t>τόσο η</a:t>
            </a:r>
            <a:r>
              <a:rPr b="0" lang="en-US" sz="2800" spc="-1" strike="noStrike">
                <a:solidFill>
                  <a:srgbClr val="000000"/>
                </a:solidFill>
                <a:latin typeface="Times New Roman"/>
              </a:rPr>
              <a:t> </a:t>
            </a:r>
            <a:r>
              <a:rPr b="1" lang="el-GR" sz="2800" spc="-1" strike="noStrike">
                <a:solidFill>
                  <a:srgbClr val="000000"/>
                </a:solidFill>
                <a:latin typeface="Times New Roman"/>
              </a:rPr>
              <a:t>αρχιτεκτονική δομή των σχολείων</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όσο και η </a:t>
            </a:r>
            <a:r>
              <a:rPr b="1" lang="el-GR" sz="2800" spc="-1" strike="noStrike">
                <a:solidFill>
                  <a:srgbClr val="000000"/>
                </a:solidFill>
                <a:latin typeface="Times New Roman"/>
              </a:rPr>
              <a:t>εσωτερική διαρρύθμιση της τάξης.</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σχολικός χώρος μπορεί  προσδιορίζεται κυρίως αξιοποιώντας στοιχεία από τους κλάδους της Παιδαγωγικής, της Ψυχολογίας, </a:t>
            </a:r>
            <a:br>
              <a:rPr sz="2800"/>
            </a:br>
            <a:r>
              <a:rPr b="0" lang="el-GR" sz="2800" spc="-1" strike="noStrike">
                <a:solidFill>
                  <a:srgbClr val="000000"/>
                </a:solidFill>
                <a:latin typeface="Times New Roman"/>
              </a:rPr>
              <a:t>της Περιβαλλοντικής Ψυχολογίας,</a:t>
            </a:r>
            <a:br>
              <a:rPr sz="2800"/>
            </a:br>
            <a:r>
              <a:rPr b="0" lang="el-GR" sz="2800" spc="-1" strike="noStrike">
                <a:solidFill>
                  <a:srgbClr val="000000"/>
                </a:solidFill>
                <a:latin typeface="Times New Roman"/>
              </a:rPr>
              <a:t>της Κοινωνιολογίας, της Αρχιτεκτονικής, της Ψυχανάλυσης και της Σημειολογίας και</a:t>
            </a:r>
            <a:br>
              <a:rPr sz="2800"/>
            </a:br>
            <a:r>
              <a:rPr b="0" lang="el-GR" sz="2800" spc="-1" strike="noStrike">
                <a:solidFill>
                  <a:srgbClr val="000000"/>
                </a:solidFill>
                <a:latin typeface="Times New Roman"/>
              </a:rPr>
              <a:t>από έννοιες όπως </a:t>
            </a:r>
            <a:r>
              <a:rPr b="1" i="1" lang="el-GR" sz="2800" spc="-1" strike="noStrike">
                <a:solidFill>
                  <a:srgbClr val="000000"/>
                </a:solidFill>
                <a:latin typeface="Times New Roman"/>
              </a:rPr>
              <a:t>η πολυπλοκότητα, η ευελιξία, η πλαστικότητα η και προσαρμοστικότητα του χώρου </a:t>
            </a:r>
            <a:r>
              <a:rPr b="0" lang="el-GR" sz="2800" spc="-1" strike="noStrike">
                <a:solidFill>
                  <a:srgbClr val="000000"/>
                </a:solidFill>
                <a:latin typeface="Times New Roman"/>
              </a:rPr>
              <a:t>που επενδύονται με αξίες παιδαγωγικές, ψυχολογικές</a:t>
            </a:r>
            <a:br>
              <a:rPr sz="2800"/>
            </a:br>
            <a:r>
              <a:rPr b="0" lang="el-GR" sz="2800" spc="-1" strike="noStrike">
                <a:solidFill>
                  <a:srgbClr val="000000"/>
                </a:solidFill>
                <a:latin typeface="Times New Roman"/>
              </a:rPr>
              <a:t>και σημασιολογικέ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23640" y="1052280"/>
            <a:ext cx="8569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χώρος φαίνεται πως αποτελεί το βασικό πεδίο αλληλεπίδρασης, στο οποίο αναπτύσσονται όλες οι δραστηριότητες ανάμεσα στο άτομο και το κοινωνικό του περιβάλλον  και έναν καθοριστικό παράγοντα διαμόρφωσης διαπροσωπικών σχέσεων . </a:t>
            </a:r>
            <a:br>
              <a:rPr sz="2800"/>
            </a:br>
            <a:br>
              <a:rPr sz="2800"/>
            </a:br>
            <a:r>
              <a:rPr b="0" lang="el-GR" sz="2800" spc="-1" strike="noStrike">
                <a:solidFill>
                  <a:srgbClr val="000000"/>
                </a:solidFill>
                <a:latin typeface="Times New Roman"/>
              </a:rPr>
              <a:t>Βάσει των όσων προαναφέρθηκαν η μορφή του σχολικού χώρου προσδιορίζεται από τις ακόλουθες κατηγορίες:</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από τα υλικά στοιχεία, που έχουν γεωμετρικά χαρακτηριστικά (κτίρια, έπιπλα,</a:t>
            </a:r>
            <a:br>
              <a:rPr sz="2800"/>
            </a:br>
            <a:r>
              <a:rPr b="1" lang="el-GR" sz="2800" spc="-1" strike="noStrike">
                <a:solidFill>
                  <a:srgbClr val="000000"/>
                </a:solidFill>
                <a:latin typeface="Times New Roman"/>
              </a:rPr>
              <a:t>εξοπλισμός, διαμορφώσεις υπαίθριου χώρου</a:t>
            </a:r>
            <a:r>
              <a:rPr b="0" lang="el-GR" sz="2800" spc="-1" strike="noStrike">
                <a:solidFill>
                  <a:srgbClr val="000000"/>
                </a:solidFill>
                <a:latin typeface="Times New Roman"/>
              </a:rPr>
              <a:t>),</a:t>
            </a:r>
            <a:br>
              <a:rPr sz="2800"/>
            </a:br>
            <a:br>
              <a:rPr sz="2800"/>
            </a:b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1412640"/>
            <a:ext cx="84978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Β. </a:t>
            </a:r>
            <a:r>
              <a:rPr b="1" i="1" lang="el-GR" sz="2800" spc="-1" strike="noStrike">
                <a:solidFill>
                  <a:srgbClr val="000000"/>
                </a:solidFill>
                <a:latin typeface="Times New Roman"/>
              </a:rPr>
              <a:t>από τα κοινωνικο-οικονομικά και </a:t>
            </a:r>
            <a:br>
              <a:rPr sz="2800"/>
            </a:br>
            <a:r>
              <a:rPr b="1" i="1" lang="el-GR" sz="2800" spc="-1" strike="noStrike">
                <a:solidFill>
                  <a:srgbClr val="000000"/>
                </a:solidFill>
                <a:latin typeface="Times New Roman"/>
              </a:rPr>
              <a:t>πολιτισμικά δεδομένα, </a:t>
            </a:r>
            <a:br>
              <a:rPr sz="2800"/>
            </a:br>
            <a:r>
              <a:rPr b="1" i="1" lang="el-GR" sz="2800" spc="-1" strike="noStrike">
                <a:solidFill>
                  <a:srgbClr val="000000"/>
                </a:solidFill>
                <a:latin typeface="Times New Roman"/>
              </a:rPr>
              <a:t>τις τυποποιημένες</a:t>
            </a:r>
            <a:r>
              <a:rPr b="1" i="1" lang="en-US" sz="2800" spc="-1" strike="noStrike">
                <a:solidFill>
                  <a:srgbClr val="000000"/>
                </a:solidFill>
                <a:latin typeface="Times New Roman"/>
              </a:rPr>
              <a:t> </a:t>
            </a:r>
            <a:r>
              <a:rPr b="1" lang="el-GR" sz="2800" spc="-1" strike="noStrike">
                <a:solidFill>
                  <a:srgbClr val="000000"/>
                </a:solidFill>
                <a:latin typeface="Times New Roman"/>
              </a:rPr>
              <a:t>πρακτικές </a:t>
            </a:r>
            <a:br>
              <a:rPr sz="2800"/>
            </a:br>
            <a:r>
              <a:rPr b="1" lang="el-GR" sz="2800" spc="-1" strike="noStrike">
                <a:solidFill>
                  <a:srgbClr val="000000"/>
                </a:solidFill>
                <a:latin typeface="Times New Roman"/>
              </a:rPr>
              <a:t>και μορφές συμπεριφοράς </a:t>
            </a:r>
            <a:br>
              <a:rPr sz="2800"/>
            </a:br>
            <a:r>
              <a:rPr b="0" lang="el-GR" sz="2800" spc="-1" strike="noStrike">
                <a:solidFill>
                  <a:srgbClr val="000000"/>
                </a:solidFill>
                <a:latin typeface="Times New Roman"/>
              </a:rPr>
              <a:t>οι οποίες παραπέμπουν στις αξίες, στα σύμβολα</a:t>
            </a:r>
            <a:br>
              <a:rPr sz="2800"/>
            </a:br>
            <a:r>
              <a:rPr b="0" lang="el-GR" sz="2800" spc="-1" strike="noStrike">
                <a:solidFill>
                  <a:srgbClr val="000000"/>
                </a:solidFill>
                <a:latin typeface="Times New Roman"/>
              </a:rPr>
              <a:t>και στα πρότυπα συμπεριφοράς, στους ρόλους και στις ιεραρχήσεις που κυριαρχούν</a:t>
            </a:r>
            <a:br>
              <a:rPr sz="2800"/>
            </a:br>
            <a:r>
              <a:rPr b="0" lang="el-GR" sz="2800" spc="-1" strike="noStrike">
                <a:solidFill>
                  <a:srgbClr val="000000"/>
                </a:solidFill>
                <a:latin typeface="Times New Roman"/>
              </a:rPr>
              <a:t>τη συγκεκριμένη χρονική περίοδο,</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
        <p:nvSpPr>
          <p:cNvPr id="600" name="PlaceHolder 1"/>
          <p:cNvSpPr>
            <a:spLocks noGrp="1"/>
          </p:cNvSpPr>
          <p:nvPr>
            <p:ph type="title"/>
          </p:nvPr>
        </p:nvSpPr>
        <p:spPr>
          <a:xfrm>
            <a:off x="0" y="1387440"/>
            <a:ext cx="882000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Έχει αποδειχθεί πως ο σχολικός χώρος συμβάλλει θετικά ή αρνητικά στις επιδόσεις των μαθητών, ανάλογα με την ποιότητά του (Πασχαλίδου, 2013). </a:t>
            </a:r>
            <a:br>
              <a:rPr sz="2800"/>
            </a:br>
            <a:r>
              <a:rPr b="0" lang="el-GR" sz="2800" spc="-1" strike="noStrike">
                <a:solidFill>
                  <a:srgbClr val="000000"/>
                </a:solidFill>
                <a:latin typeface="Times New Roman"/>
                <a:ea typeface="Times New Roman"/>
              </a:rPr>
              <a:t>Κάποια από τα βασικότερα χαρακτηριστικά του σχολικού χώρου, τα οποία καθορίζουν την ποιότητά του </a:t>
            </a:r>
            <a:r>
              <a:rPr b="0" i="1" lang="el-GR" sz="2800" spc="-1" strike="noStrike">
                <a:solidFill>
                  <a:srgbClr val="000000"/>
                </a:solidFill>
                <a:latin typeface="Times New Roman"/>
                <a:ea typeface="Times New Roman"/>
              </a:rPr>
              <a:t>είναι η ανταπόκριση σε στόχους που έχουν ήδη τεθεί, οι συνθήκες, κάτω από τις οποίες, παρέχεται η γνώση, οι διοικητικές δομές σε κρατικό επίπεδο, οι οικονομικοί πόροι που διατίθενται για τον τομέα της εκπαίδευσης και ακόμη, η σχολική κουλτούρα </a:t>
            </a:r>
            <a:r>
              <a:rPr b="0" lang="el-GR" sz="2800" spc="-1" strike="noStrike">
                <a:solidFill>
                  <a:srgbClr val="000000"/>
                </a:solidFill>
                <a:latin typeface="Times New Roman"/>
                <a:ea typeface="Times New Roman"/>
              </a:rPr>
              <a:t>(Βοζαΐτης &amp; Υφαντή, 2009).</a:t>
            </a:r>
            <a:endParaRPr b="0" lang="en-US" sz="28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από τον τρόπο που χρησιμοποιείται, με συγκεκριμένο σκοπό </a:t>
            </a:r>
            <a:br>
              <a:rPr sz="2800"/>
            </a:br>
            <a:r>
              <a:rPr b="1" i="1" lang="el-GR" sz="2800" spc="-1" strike="noStrike">
                <a:solidFill>
                  <a:srgbClr val="000000"/>
                </a:solidFill>
                <a:latin typeface="Times New Roman"/>
              </a:rPr>
              <a:t>και πλαίσιο</a:t>
            </a:r>
            <a:r>
              <a:rPr b="1" i="1" lang="en-US" sz="2800" spc="-1" strike="noStrike">
                <a:solidFill>
                  <a:srgbClr val="000000"/>
                </a:solidFill>
                <a:latin typeface="Times New Roman"/>
              </a:rPr>
              <a:t> </a:t>
            </a:r>
            <a:r>
              <a:rPr b="1" i="1" lang="el-GR" sz="2800" spc="-1" strike="noStrike">
                <a:solidFill>
                  <a:srgbClr val="000000"/>
                </a:solidFill>
                <a:latin typeface="Times New Roman"/>
              </a:rPr>
              <a:t>λειτουργίας, </a:t>
            </a:r>
            <a:br>
              <a:rPr sz="2800"/>
            </a:br>
            <a:r>
              <a:rPr b="0" lang="el-GR" sz="2800" spc="-1" strike="noStrike">
                <a:solidFill>
                  <a:srgbClr val="000000"/>
                </a:solidFill>
                <a:latin typeface="Times New Roman"/>
              </a:rPr>
              <a:t>και που παραπέμπει κυρίως στα συστήματα σχέσεων και επικοινωνίας</a:t>
            </a:r>
            <a:br>
              <a:rPr sz="2800"/>
            </a:br>
            <a:r>
              <a:rPr b="0" lang="el-GR" sz="2800" spc="-1" strike="noStrike">
                <a:solidFill>
                  <a:srgbClr val="000000"/>
                </a:solidFill>
                <a:latin typeface="Times New Roman"/>
              </a:rPr>
              <a:t>που αναπτύσσονται, καθώς και στις πρακτικές που υιοθετούνται και,</a:t>
            </a:r>
            <a:br>
              <a:rPr sz="2800"/>
            </a:br>
            <a:r>
              <a:rPr b="1"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Δ. </a:t>
            </a:r>
            <a:r>
              <a:rPr b="1" i="1" lang="el-GR" sz="2800" spc="-1" strike="noStrike">
                <a:solidFill>
                  <a:srgbClr val="000000"/>
                </a:solidFill>
                <a:latin typeface="Times New Roman"/>
              </a:rPr>
              <a:t>από τα δεδομένα του υποκειμένου, τον τρόπο δηλαδή που βιώνεται από το παιδί</a:t>
            </a:r>
            <a:br>
              <a:rPr sz="2800"/>
            </a:br>
            <a:r>
              <a:rPr b="0" lang="el-GR" sz="2800" spc="-1" strike="noStrike">
                <a:solidFill>
                  <a:srgbClr val="000000"/>
                </a:solidFill>
                <a:latin typeface="Times New Roman"/>
              </a:rPr>
              <a:t>ή </a:t>
            </a:r>
            <a:r>
              <a:rPr b="1" i="1" lang="el-GR" sz="2800" spc="-1" strike="noStrike">
                <a:solidFill>
                  <a:srgbClr val="000000"/>
                </a:solidFill>
                <a:latin typeface="Times New Roman"/>
              </a:rPr>
              <a:t>και την ομάδα ατόμων (εκπαιδευτικών) που τον χρησιμοποιε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υποκείμενο, δηλαδή, </a:t>
            </a:r>
            <a:br>
              <a:rPr sz="2800"/>
            </a:br>
            <a:r>
              <a:rPr b="0" lang="el-GR" sz="2800" spc="-1" strike="noStrike">
                <a:solidFill>
                  <a:srgbClr val="000000"/>
                </a:solidFill>
                <a:latin typeface="Times New Roman"/>
              </a:rPr>
              <a:t>βιώνει τον υλικό χώρο και χρησιμοποιώντας τον στο πλαίσιο μιας κοινωνικής δυναμικής, επιδρά σε αυτόν και τον τροποποιεί προσδίδοντάς του με</a:t>
            </a:r>
            <a:br>
              <a:rPr sz="2800"/>
            </a:br>
            <a:r>
              <a:rPr b="0" lang="el-GR" sz="2800" spc="-1" strike="noStrike">
                <a:solidFill>
                  <a:srgbClr val="000000"/>
                </a:solidFill>
                <a:latin typeface="Times New Roman"/>
              </a:rPr>
              <a:t>αυτόν τον τρόπο την τελική του ταυτότητα.</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εκπαιδευτικός χώρος</a:t>
            </a:r>
            <a:r>
              <a:rPr b="0" lang="el-GR" sz="2800" spc="-1" strike="noStrike">
                <a:solidFill>
                  <a:srgbClr val="000000"/>
                </a:solidFill>
                <a:latin typeface="Times New Roman"/>
              </a:rPr>
              <a:t>, λειτουργεί «</a:t>
            </a:r>
            <a:r>
              <a:rPr b="0" i="1" lang="el-GR" sz="2800" spc="-1" strike="noStrike">
                <a:solidFill>
                  <a:srgbClr val="000000"/>
                </a:solidFill>
                <a:latin typeface="Times New Roman"/>
              </a:rPr>
              <a:t>ως μια πολυδύναμη υλική πραγματικότητα και μπορεί να θεωρηθεί ως ένα ανθρωπογενές περιβάλλον που</a:t>
            </a:r>
            <a:br>
              <a:rPr sz="2800"/>
            </a:br>
            <a:r>
              <a:rPr b="0" i="1" lang="el-GR" sz="2800" spc="-1" strike="noStrike">
                <a:solidFill>
                  <a:srgbClr val="000000"/>
                </a:solidFill>
                <a:latin typeface="Times New Roman"/>
              </a:rPr>
              <a:t>αντανακλά ανθρωπιστικές αξίες και μοντέλα συμπεριφοράς της κοινωνίας που το παράγε</a:t>
            </a:r>
            <a:r>
              <a:rPr b="0" lang="el-GR" sz="2800" spc="-1" strike="noStrike">
                <a:solidFill>
                  <a:srgbClr val="000000"/>
                </a:solidFill>
                <a:latin typeface="Times New Roman"/>
              </a:rPr>
              <a:t>ι».</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ο λόγο αυτό εντάσσεται στις σημαντικές παραμέτρους των εκπαιδευτικών</a:t>
            </a:r>
            <a:br>
              <a:rPr sz="2800"/>
            </a:br>
            <a:r>
              <a:rPr b="0" lang="el-GR" sz="2800" spc="-1" strike="noStrike">
                <a:solidFill>
                  <a:srgbClr val="000000"/>
                </a:solidFill>
                <a:latin typeface="Times New Roman"/>
              </a:rPr>
              <a:t>διεργασιών, των οποίων την ποιότητα κάθε φορέας εκπαιδευτικής πολιτικής,</a:t>
            </a:r>
            <a:br>
              <a:rPr sz="2800"/>
            </a:br>
            <a:r>
              <a:rPr b="0" lang="el-GR" sz="2800" spc="-1" strike="noStrike">
                <a:solidFill>
                  <a:srgbClr val="000000"/>
                </a:solidFill>
                <a:latin typeface="Times New Roman"/>
              </a:rPr>
              <a:t>προγραμματισμού, σχεδιασμού και οργάνωσης οφείλει να μελετά, να αξιολογεί και</a:t>
            </a:r>
            <a:br>
              <a:rPr sz="2800"/>
            </a:br>
            <a:r>
              <a:rPr b="0" lang="el-GR" sz="2800" spc="-1" strike="noStrike">
                <a:solidFill>
                  <a:srgbClr val="000000"/>
                </a:solidFill>
                <a:latin typeface="Times New Roman"/>
              </a:rPr>
              <a:t>να βελτιώνει.</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H Ανθρωποκεντρική/Παιδαγωγική προσέγγιση του σχολικού</a:t>
            </a:r>
            <a:r>
              <a:rPr b="1" lang="en-US" sz="2800" spc="-1" strike="noStrike">
                <a:solidFill>
                  <a:srgbClr val="000000"/>
                </a:solidFill>
                <a:latin typeface="Times New Roman"/>
              </a:rPr>
              <a:t> </a:t>
            </a:r>
            <a:r>
              <a:rPr b="1" lang="el-GR" sz="2800" spc="-1" strike="noStrike">
                <a:solidFill>
                  <a:srgbClr val="000000"/>
                </a:solidFill>
                <a:latin typeface="Times New Roman"/>
              </a:rPr>
              <a:t>χώρου</a:t>
            </a:r>
            <a:br>
              <a:rPr sz="2800"/>
            </a:br>
            <a:br>
              <a:rPr sz="2800"/>
            </a:br>
            <a:br>
              <a:rPr sz="2000"/>
            </a:br>
            <a:r>
              <a:rPr b="1" lang="el-GR" sz="2000" spc="-1" strike="noStrike">
                <a:solidFill>
                  <a:srgbClr val="000099"/>
                </a:solidFill>
                <a:latin typeface="Arial"/>
                <a:ea typeface="Arial"/>
              </a:rPr>
              <a:t>ΕΙΣΗΓΗΤΗΣ: </a:t>
            </a:r>
            <a:br>
              <a:rPr sz="2000"/>
            </a:br>
            <a:r>
              <a:rPr b="1" lang="el-GR" sz="2000" spc="-1" strike="noStrike">
                <a:solidFill>
                  <a:srgbClr val="000099"/>
                </a:solidFill>
                <a:latin typeface="Arial"/>
                <a:ea typeface="Arial"/>
              </a:rPr>
              <a:t>Γούπος Θεόδωρος,  δρ. Παιδαγωγικών</a:t>
            </a:r>
            <a:br>
              <a:rPr sz="2000"/>
            </a:br>
            <a:endParaRPr b="0" lang="en-US" sz="20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05" name="Picture 9" descr=""/>
          <p:cNvPicPr/>
          <p:nvPr/>
        </p:nvPicPr>
        <p:blipFill>
          <a:blip r:embed="rId1"/>
          <a:stretch/>
        </p:blipFill>
        <p:spPr>
          <a:xfrm>
            <a:off x="0" y="0"/>
            <a:ext cx="9144000" cy="1368360"/>
          </a:xfrm>
          <a:prstGeom prst="rect">
            <a:avLst/>
          </a:prstGeom>
          <a:ln w="0">
            <a:noFill/>
          </a:ln>
        </p:spPr>
      </p:pic>
      <p:pic>
        <p:nvPicPr>
          <p:cNvPr id="1206" name="Picture 10" descr=""/>
          <p:cNvPicPr/>
          <p:nvPr/>
        </p:nvPicPr>
        <p:blipFill>
          <a:blip r:embed="rId2"/>
          <a:stretch/>
        </p:blipFill>
        <p:spPr>
          <a:xfrm>
            <a:off x="1258920" y="2060640"/>
            <a:ext cx="1297080" cy="1528560"/>
          </a:xfrm>
          <a:prstGeom prst="rect">
            <a:avLst/>
          </a:prstGeom>
          <a:ln w="0">
            <a:noFill/>
          </a:ln>
        </p:spPr>
      </p:pic>
      <p:pic>
        <p:nvPicPr>
          <p:cNvPr id="1207" name="12 - Εικόνα" descr=""/>
          <p:cNvPicPr/>
          <p:nvPr/>
        </p:nvPicPr>
        <p:blipFill>
          <a:blip r:embed="rId3"/>
          <a:stretch/>
        </p:blipFill>
        <p:spPr>
          <a:xfrm>
            <a:off x="6948360" y="1989000"/>
            <a:ext cx="1444680" cy="1573200"/>
          </a:xfrm>
          <a:prstGeom prst="rect">
            <a:avLst/>
          </a:prstGeom>
          <a:ln w="0">
            <a:noFill/>
          </a:ln>
        </p:spPr>
      </p:pic>
      <p:sp>
        <p:nvSpPr>
          <p:cNvPr id="1208"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
        <p:nvSpPr>
          <p:cNvPr id="609"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χώρος του σχολείου όπου συμβιούν καθημερινά μαθητές διαφόρων ηλικιών με διαφορετικά ενδιαφέροντα, εκπαιδευτικές ανάγκες και ιδιαιτερότητες αποτελεί χώρο παροχής γνώσης και αγωγής, </a:t>
            </a:r>
            <a:br>
              <a:rPr sz="2800"/>
            </a:br>
            <a:r>
              <a:rPr b="0" lang="el-GR" sz="2800" spc="-1" strike="noStrike">
                <a:solidFill>
                  <a:srgbClr val="000000"/>
                </a:solidFill>
                <a:latin typeface="Times New Roman"/>
                <a:ea typeface="Calibri"/>
              </a:rPr>
              <a:t>χώρο απόκτησης και καλλιέργειας δεξιοτήτων, </a:t>
            </a:r>
            <a:br>
              <a:rPr sz="2800"/>
            </a:br>
            <a:r>
              <a:rPr b="0" lang="el-GR" sz="2800" spc="-1" strike="noStrike">
                <a:solidFill>
                  <a:srgbClr val="000000"/>
                </a:solidFill>
                <a:latin typeface="Times New Roman"/>
                <a:ea typeface="Calibri"/>
              </a:rPr>
              <a:t>χώρο κοινωνικοποίησης και επικοινωνίας (Γκιζέλη, (2007), Γερμανός, (1998), χώρο διεξαγωγής παιχνιδιού και υλοποίησης εκδηλώσεων, ένα εργαστήριο προετοιμασίας για τη ζωή (Σταμάτης, 2006). </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PlaceHolder 1"/>
          <p:cNvSpPr>
            <a:spLocks noGrp="1"/>
          </p:cNvSpPr>
          <p:nvPr>
            <p:ph type="title"/>
          </p:nvPr>
        </p:nvSpPr>
        <p:spPr>
          <a:xfrm>
            <a:off x="468000" y="1603080"/>
            <a:ext cx="8280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ο περιβάλλον του σχολείου δεν είναι ή δεν πρέπει να εκλαμβάνεται   ως ένα άψυχο οικοδόμημα, αλλά ως ένας χώρος που δημιουργήθηκε στο πλαίσιο συγκεκριμένων εκπαιδευτικών αντιλήψεων με σκοπό  να υποστηρίξει τις διαδικασίες αγωγής των μαθητών.</a:t>
            </a:r>
            <a:br>
              <a:rPr sz="2800"/>
            </a:br>
            <a:r>
              <a:rPr b="0" lang="el-GR" sz="2800" spc="-1" strike="noStrike">
                <a:solidFill>
                  <a:srgbClr val="000000"/>
                </a:solidFill>
                <a:latin typeface="Times New Roman"/>
                <a:ea typeface="Calibri"/>
              </a:rPr>
              <a:t>Αυτό αυτό που περιμένουν τα παιδιά από το σχολείο είναι ένα υποκατάστατο του σπιτιού και της οικογένειας, ένα περιβάλλον που διεγείρει συνεχώς τη σκέψη και το λόγο τους (Γερμανός, (2006).</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7T08:13:26Z</dcterms:modified>
  <cp:revision>170</cp:revision>
  <dc:subject/>
  <dc:title>Παρουσίαση του PowerPoint</dc:title>
</cp:coreProperties>
</file>