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AE35-37F3-40FF-A8AB-66F8903C1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20320" y="409824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3720-D761-417E-AC5C-CC2A86C2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6408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351D-89AD-4074-BADB-C7F06342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8028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3988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2032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8028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3988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D205-6BEB-4FC3-97FA-541638B4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85CF-D2B3-4527-A12A-73F27527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2A59-159C-4FCB-9CED-CDBD7F30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C39C-5C5C-4EF5-BA6F-38A47573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087A-7592-4FF0-B037-840ED81F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8235-1993-443C-85C3-D8180F9D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4A2B-CBD2-40D5-BF90-152BA28B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9463-9FA9-4396-B0EE-F0B2DBC4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F61F-4F99-460E-845E-48340141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6408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5157-1D76-44BD-A8CA-FF447148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D9DC-DFE7-4B04-A31D-5785E7F9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20320" y="409824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CDAF-95E7-429D-9B0F-D2EB87AA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36408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0695-6FAA-4C66-91CE-A7787A5A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8028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39880" y="182520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2032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58028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39880" y="4098240"/>
            <a:ext cx="329472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8950-929B-498F-B4AC-E3866567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D3D8-B145-49AC-8E0C-F83A6EA2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9CAE-67F4-47EF-91BD-88C4BFC6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BD30-F9D8-4665-87B0-D3356948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BB39-6857-4ACF-A8B4-FF2770E1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CAB9-B023-4F39-A54C-B9AA1444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364080" y="409824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8941-0C25-4457-BCAB-067DD2B9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2032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64080" y="1825200"/>
            <a:ext cx="49935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20320" y="4098240"/>
            <a:ext cx="10233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0E6F-125B-4F14-8037-466D84C3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C3D8BC-7AAA-4603-B0A6-451FD474AF43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111320" y="7873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0437840" y="274320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20320" y="1825200"/>
            <a:ext cx="10233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5A7514-654E-4743-8AFD-7225BD80B4E1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Τίτλος 1" descr=""/>
          <p:cNvPicPr/>
          <p:nvPr/>
        </p:nvPicPr>
        <p:blipFill>
          <a:blip r:embed="rId1"/>
          <a:stretch/>
        </p:blipFill>
        <p:spPr>
          <a:xfrm>
            <a:off x="2212920" y="4462560"/>
            <a:ext cx="9425160" cy="1646280"/>
          </a:xfrm>
          <a:prstGeom prst="rect">
            <a:avLst/>
          </a:prstGeom>
          <a:ln w="0">
            <a:noFill/>
          </a:ln>
        </p:spPr>
      </p:pic>
      <p:pic>
        <p:nvPicPr>
          <p:cNvPr id="85" name="Υπότιτλος 2" descr=""/>
          <p:cNvPicPr/>
          <p:nvPr/>
        </p:nvPicPr>
        <p:blipFill>
          <a:blip r:embed="rId2"/>
          <a:stretch/>
        </p:blipFill>
        <p:spPr>
          <a:xfrm>
            <a:off x="2206800" y="3200400"/>
            <a:ext cx="91440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3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5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7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9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371520" y="158760"/>
            <a:ext cx="1098540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08080" y="208080"/>
            <a:ext cx="1114884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68200" y="128520"/>
            <a:ext cx="1108872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176040" y="66600"/>
            <a:ext cx="1118088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62080" y="115920"/>
            <a:ext cx="1109484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139680" y="85680"/>
            <a:ext cx="1121724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Τίτλος 1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87" name="Θέση περιεχομένου 2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19240" y="133200"/>
            <a:ext cx="1113768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139680" y="92160"/>
            <a:ext cx="1121724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182520" y="158760"/>
            <a:ext cx="1117440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74680" y="158760"/>
            <a:ext cx="1108224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4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89" name="5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1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3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5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7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99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1 - Τίτλος" descr=""/>
          <p:cNvPicPr/>
          <p:nvPr/>
        </p:nvPicPr>
        <p:blipFill>
          <a:blip r:embed="rId1"/>
          <a:stretch/>
        </p:blipFill>
        <p:spPr>
          <a:xfrm>
            <a:off x="841320" y="365040"/>
            <a:ext cx="10515600" cy="1324080"/>
          </a:xfrm>
          <a:prstGeom prst="rect">
            <a:avLst/>
          </a:prstGeom>
          <a:ln w="0">
            <a:noFill/>
          </a:ln>
        </p:spPr>
      </p:pic>
      <p:pic>
        <p:nvPicPr>
          <p:cNvPr id="101" name="2 - Θέση περιεχομένου" descr=""/>
          <p:cNvPicPr/>
          <p:nvPr/>
        </p:nvPicPr>
        <p:blipFill>
          <a:blip r:embed="rId2"/>
          <a:stretch/>
        </p:blipFill>
        <p:spPr>
          <a:xfrm>
            <a:off x="1122480" y="1822320"/>
            <a:ext cx="10234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9T09:29:30Z</dcterms:created>
  <dc:creator>Βιβη</dc:creator>
  <dc:description/>
  <dc:language>en-US</dc:language>
  <cp:lastModifiedBy>Kostantinos Lolitsas</cp:lastModifiedBy>
  <dcterms:modified xsi:type="dcterms:W3CDTF">2020-02-16T11:41:37Z</dcterms:modified>
  <cp:revision>37</cp:revision>
  <dc:subject/>
  <dc:title>Παρουσίαση του PowerPoint</dc:title>
</cp:coreProperties>
</file>