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8054-9791-4CDF-ABA9-CCB64DA5624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3746-B043-4B20-82F1-9F7B60A1A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0" name="PlaceHolder 1"/>
          <p:cNvSpPr>
            <a:spLocks noGrp="1"/>
          </p:cNvSpPr>
          <p:nvPr>
            <p:ph type="sldImg"/>
          </p:nvPr>
        </p:nvSpPr>
        <p:spPr>
          <a:xfrm>
            <a:off x="985680" y="741240"/>
            <a:ext cx="4886640" cy="3665520"/>
          </a:xfrm>
          <a:prstGeom prst="rect">
            <a:avLst/>
          </a:prstGeom>
          <a:ln w="0">
            <a:noFill/>
          </a:ln>
        </p:spPr>
      </p:sp>
      <p:sp>
        <p:nvSpPr>
          <p:cNvPr id="8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973F2-B573-4505-98D1-FEF504BF6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3" name="PlaceHolder 1"/>
          <p:cNvSpPr>
            <a:spLocks noGrp="1"/>
          </p:cNvSpPr>
          <p:nvPr>
            <p:ph type="sldImg"/>
          </p:nvPr>
        </p:nvSpPr>
        <p:spPr>
          <a:xfrm>
            <a:off x="985680" y="741240"/>
            <a:ext cx="4886640" cy="3665520"/>
          </a:xfrm>
          <a:prstGeom prst="rect">
            <a:avLst/>
          </a:prstGeom>
          <a:ln w="0">
            <a:noFill/>
          </a:ln>
        </p:spPr>
      </p:sp>
      <p:sp>
        <p:nvSpPr>
          <p:cNvPr id="8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11E3-0134-4479-B621-B331CC592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6" name="PlaceHolder 1"/>
          <p:cNvSpPr>
            <a:spLocks noGrp="1"/>
          </p:cNvSpPr>
          <p:nvPr>
            <p:ph type="sldImg"/>
          </p:nvPr>
        </p:nvSpPr>
        <p:spPr>
          <a:xfrm>
            <a:off x="985680" y="741240"/>
            <a:ext cx="4886640" cy="3665520"/>
          </a:xfrm>
          <a:prstGeom prst="rect">
            <a:avLst/>
          </a:prstGeom>
          <a:ln w="0">
            <a:noFill/>
          </a:ln>
        </p:spPr>
      </p:sp>
      <p:sp>
        <p:nvSpPr>
          <p:cNvPr id="8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C03E-87A1-4693-9ACB-27C00DE6A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9" name="PlaceHolder 1"/>
          <p:cNvSpPr>
            <a:spLocks noGrp="1"/>
          </p:cNvSpPr>
          <p:nvPr>
            <p:ph type="sldImg"/>
          </p:nvPr>
        </p:nvSpPr>
        <p:spPr>
          <a:xfrm>
            <a:off x="985680" y="741240"/>
            <a:ext cx="4886640" cy="3665520"/>
          </a:xfrm>
          <a:prstGeom prst="rect">
            <a:avLst/>
          </a:prstGeom>
          <a:ln w="0">
            <a:noFill/>
          </a:ln>
        </p:spPr>
      </p:sp>
      <p:sp>
        <p:nvSpPr>
          <p:cNvPr id="8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6F81-1C4A-4317-8835-C54CC4EED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2" name="PlaceHolder 1"/>
          <p:cNvSpPr>
            <a:spLocks noGrp="1"/>
          </p:cNvSpPr>
          <p:nvPr>
            <p:ph type="sldImg"/>
          </p:nvPr>
        </p:nvSpPr>
        <p:spPr>
          <a:xfrm>
            <a:off x="985680" y="741240"/>
            <a:ext cx="4886640" cy="3665520"/>
          </a:xfrm>
          <a:prstGeom prst="rect">
            <a:avLst/>
          </a:prstGeom>
          <a:ln w="0">
            <a:noFill/>
          </a:ln>
        </p:spPr>
      </p:sp>
      <p:sp>
        <p:nvSpPr>
          <p:cNvPr id="8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3DA2-84B2-40C4-B164-C236F20F0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EB63-EC22-4095-9A18-AB80C0A81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8B20-28DE-4BAD-A19C-8966376A1D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A5EAE-22AA-4E44-BC7C-F9718C49E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E3D9-634C-47F6-BCC3-EF3CCC242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C3E0F-821F-4B87-B2E9-B76F161B7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6" name="PlaceHolder 1"/>
          <p:cNvSpPr>
            <a:spLocks noGrp="1"/>
          </p:cNvSpPr>
          <p:nvPr>
            <p:ph type="sldImg"/>
          </p:nvPr>
        </p:nvSpPr>
        <p:spPr>
          <a:xfrm>
            <a:off x="985680" y="741240"/>
            <a:ext cx="4886640" cy="3665520"/>
          </a:xfrm>
          <a:prstGeom prst="rect">
            <a:avLst/>
          </a:prstGeom>
          <a:ln w="0">
            <a:noFill/>
          </a:ln>
        </p:spPr>
      </p:sp>
      <p:sp>
        <p:nvSpPr>
          <p:cNvPr id="8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7AC33-DA08-4894-9538-43951211F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7A294-A6FE-4535-A328-95533B318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F702-D503-4CE4-A732-E925D07AB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3FEFF-81E7-4EF8-B0AE-B7ED71020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95C4-1AFA-43D4-9219-2A35CE3A0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32E1-35CD-447B-901F-9CD374C13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1608-4333-489D-AFA1-76C8EA42B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9B58-92B9-4B15-96D5-08DD5C1CE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7EAF-9CA0-45E6-8AE9-9695576AB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52E7-5257-464E-BEB3-AF0EC7EF92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3CFF-AF54-42CA-90BC-474E4137C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985680" y="741240"/>
            <a:ext cx="4886640" cy="3665520"/>
          </a:xfrm>
          <a:prstGeom prst="rect">
            <a:avLst/>
          </a:prstGeom>
          <a:ln w="0">
            <a:noFill/>
          </a:ln>
        </p:spPr>
      </p:sp>
      <p:sp>
        <p:nvSpPr>
          <p:cNvPr id="8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5DF0E-33DE-4AB7-871D-E25E7294A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2" name="PlaceHolder 1"/>
          <p:cNvSpPr>
            <a:spLocks noGrp="1"/>
          </p:cNvSpPr>
          <p:nvPr>
            <p:ph type="sldImg"/>
          </p:nvPr>
        </p:nvSpPr>
        <p:spPr>
          <a:xfrm>
            <a:off x="985680" y="741240"/>
            <a:ext cx="4886640" cy="3665520"/>
          </a:xfrm>
          <a:prstGeom prst="rect">
            <a:avLst/>
          </a:prstGeom>
          <a:ln w="0">
            <a:noFill/>
          </a:ln>
        </p:spPr>
      </p:sp>
      <p:sp>
        <p:nvSpPr>
          <p:cNvPr id="8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4588-CE4A-46F5-AD42-A662E6905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5" name="PlaceHolder 1"/>
          <p:cNvSpPr>
            <a:spLocks noGrp="1"/>
          </p:cNvSpPr>
          <p:nvPr>
            <p:ph type="sldImg"/>
          </p:nvPr>
        </p:nvSpPr>
        <p:spPr>
          <a:xfrm>
            <a:off x="985680" y="741240"/>
            <a:ext cx="4886640" cy="3665520"/>
          </a:xfrm>
          <a:prstGeom prst="rect">
            <a:avLst/>
          </a:prstGeom>
          <a:ln w="0">
            <a:noFill/>
          </a:ln>
        </p:spPr>
      </p:sp>
      <p:sp>
        <p:nvSpPr>
          <p:cNvPr id="8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CED1-3FA7-496B-BED0-674BC91852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8" name="PlaceHolder 1"/>
          <p:cNvSpPr>
            <a:spLocks noGrp="1"/>
          </p:cNvSpPr>
          <p:nvPr>
            <p:ph type="sldImg"/>
          </p:nvPr>
        </p:nvSpPr>
        <p:spPr>
          <a:xfrm>
            <a:off x="985680" y="741240"/>
            <a:ext cx="4886640" cy="3665520"/>
          </a:xfrm>
          <a:prstGeom prst="rect">
            <a:avLst/>
          </a:prstGeom>
          <a:ln w="0">
            <a:noFill/>
          </a:ln>
        </p:spPr>
      </p:sp>
      <p:sp>
        <p:nvSpPr>
          <p:cNvPr id="8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B6D0-BCA5-4697-9E47-5CFB8340A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1" name="PlaceHolder 1"/>
          <p:cNvSpPr>
            <a:spLocks noGrp="1"/>
          </p:cNvSpPr>
          <p:nvPr>
            <p:ph type="sldImg"/>
          </p:nvPr>
        </p:nvSpPr>
        <p:spPr>
          <a:xfrm>
            <a:off x="985680" y="741240"/>
            <a:ext cx="4886640" cy="3665520"/>
          </a:xfrm>
          <a:prstGeom prst="rect">
            <a:avLst/>
          </a:prstGeom>
          <a:ln w="0">
            <a:noFill/>
          </a:ln>
        </p:spPr>
      </p:sp>
      <p:sp>
        <p:nvSpPr>
          <p:cNvPr id="8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19E1-4F6B-4377-A48F-6CDF7B3B2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985680" y="741240"/>
            <a:ext cx="4886640" cy="3665520"/>
          </a:xfrm>
          <a:prstGeom prst="rect">
            <a:avLst/>
          </a:prstGeom>
          <a:ln w="0">
            <a:noFill/>
          </a:ln>
        </p:spPr>
      </p:sp>
      <p:sp>
        <p:nvSpPr>
          <p:cNvPr id="8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C099-5AD6-4AD7-BFB1-45C7AB2BD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7" name="PlaceHolder 1"/>
          <p:cNvSpPr>
            <a:spLocks noGrp="1"/>
          </p:cNvSpPr>
          <p:nvPr>
            <p:ph type="sldImg"/>
          </p:nvPr>
        </p:nvSpPr>
        <p:spPr>
          <a:xfrm>
            <a:off x="985680" y="741240"/>
            <a:ext cx="4886640" cy="3665520"/>
          </a:xfrm>
          <a:prstGeom prst="rect">
            <a:avLst/>
          </a:prstGeom>
          <a:ln w="0">
            <a:noFill/>
          </a:ln>
        </p:spPr>
      </p:sp>
      <p:sp>
        <p:nvSpPr>
          <p:cNvPr id="8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14568-BB06-4A01-A5C2-670F9F3E6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20741-3738-4415-ABEA-A11950A2D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05BA8E-20C0-40D9-B22A-8490BECA01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807DAA-358A-47F4-8279-A36943BBA7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6D0396-7196-481E-A5A5-BE47E4F5C9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4EA60-12EF-4B08-91C1-688F65B11E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0F8298-FAD0-43CF-B877-C87E7BBBD4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28FC49-B094-4891-A7C1-B3D8DBA329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D4F5D0-7FD9-44F5-B344-704540ACD7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C06BFB-6C98-45D7-84D2-1CB3F7A6A4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4ADB52-7B7E-4F37-8C9A-3314CE6BF2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8F1C13-DB01-40EC-BC30-E8422A2D8C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32A71-6E81-4709-8AB3-258E324BA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816911-1448-419B-9EAE-A13CD8E950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6E750A-EFB6-46C6-B678-7581DB1C2B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01C9CA-DF52-4D5D-AEF6-4F56165867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94F42F-F5E7-4010-87A0-4251F79CD8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A0DC10-90DF-49DF-8623-93F53EB4F5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92CEFA-372E-4BDD-8E17-BBEDFEC84E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131D11-EEDC-4DE5-B5EE-7070F0E753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A3C426-E4CF-47AF-A909-28D75E00F9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B04B4B-C66E-4367-B197-C63D14ACC5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DA2F75A-A739-42AC-979F-9327705CA30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E4A67-A992-4B5C-B89A-6021227EA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F55A5E6-5076-4AE3-9768-A59DC7F86B2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2B2B6C-3989-40E6-99F0-0A3F4FBC6D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EFDDE2-6DB5-4F6C-981B-C7CABADF64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D6105B-8808-4418-B9CD-3FA2EBF7948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472497-76C8-40FD-A931-10FF5A6950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256E6FD-5091-4A7D-8B3C-BF0DFFDF98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353936A-B17C-44B9-8FEF-50884E8461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1D866D7-6AC1-49CD-A3AC-5FF589CF20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56F863-5A43-4571-A1C6-1846C613E0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3C54D6-23E5-48BE-91CC-F3987B2F86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73F0C-A848-4CF3-9EBD-55C9C5BA53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8FDA12-565C-41B6-A9B9-9BC9844AA6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D35D5C-853E-4928-9BE1-4434121B88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CBE15DA-43E4-4817-A050-5F4C83C0742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6273CF-EBB7-452A-8834-ADA34BD6FD0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0D0831-E29B-442C-96FA-0451019A63F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45088F2-A2B6-40BB-A6BB-78207CA27B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90786E-2A5B-47D7-B03E-7719844864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EA66A7E-10B9-4B90-90F7-DD63130FCA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7F87A1-9769-4CE5-9391-5CE5037F86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3D2A76-57BD-4EEE-BD9E-FBE1AD1A02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3B3E5-CABC-4036-BE78-5C565855C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08B193-D891-4321-A217-AA6BA26B3E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87654E-F195-42CB-B23A-BB092630B1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4F29A0-044B-4C8B-B82D-265F3B1754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1DC88A8-B40C-4E1F-BF02-FBEB4E2472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C47081-3523-42D7-8042-52E1AE5E792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E919CABD-4941-4860-B36A-F154125999E7}"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D057011-A0EB-4DA8-8369-AEAD4E6D83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D94AE4B-24DC-43E6-945A-B58FC02D2B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B42F5860-4451-4805-9C7D-18990161F0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449E0CFB-65B4-4F86-94C2-E0A026D4328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4C541-7BD7-4176-8B67-913E4FBEA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9BA77F20-0ECB-47EE-8853-F365BF64172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51DCF0D7-257C-4159-B087-6145CEDC33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EE6B26FD-ED26-45ED-9C78-2EF2B369075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6BFAECC-A51E-46D6-80B4-E212D6D4E2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96884238-26AD-4170-9565-B4796BA57D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C7A35A0C-4953-4151-A7AA-5E3F090198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D0E02590-9A86-4C5F-BB03-FB139516D490}"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611A6-AAA9-421C-BDB9-FE1639B24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3FD0C-25A5-4B01-B3BA-61853F1AA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64169-7623-4F3F-8826-242FA026F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889E2-D8B5-4ACE-A1A1-010CE1F14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970C3-1C1F-4C54-80D2-5AE3F9774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EE36B-0C2E-4208-B70C-E1ED64E370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01A47-9079-4CB2-AC42-65F5FAA2C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CC15D-4F80-4F78-BBD4-D86B48DCB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964F0-60A9-45B0-935F-048108508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3B419-2A24-4179-97CB-17AE52246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E6C9BA-3F72-4CAD-84C1-3027DAEE4A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9547B-375C-4369-B847-F2C24C066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A6F57-BE32-4FE3-9801-62C33E8A80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9EEF7A-5854-4AD2-BF46-69995279C2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E0B54B-1C7E-40FE-A1CE-1EE37A986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36462-2730-4C38-BF44-D95FE1B15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13362A-41B6-4196-9039-0DE6CE0EFB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895ED-F079-4479-93BF-076716F4D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A5BDC4-BEBA-44B7-87B8-D492468BF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055E1-BD37-4149-BA8B-577FB9A74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2B4170-8799-4214-895E-BCB1CE5451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8C7464-5073-48E1-B35A-941790961F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E27464-E762-42C2-8735-57B1918B98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21C4CE-FF3B-4DE2-8B6B-EF1960B2CA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4F59BB-E2E2-420B-A737-BD25BD36CE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716344-72F5-4DE9-8270-6FFF1361A7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3C9F2-B87B-4399-81EA-39E97C64F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BE9E7-4455-42E0-90B2-D8B8AE2957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5C74DE-9110-42C6-A6AA-F5429D10F6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BBB326-DC94-4C14-BE9D-03844E8C53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F82438-4D6A-44C0-8266-36CC97B15F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7ECAC8-0076-48DC-BA29-E35C9454A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EE30F7-AEC6-4AF8-9268-BCE180B000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D266D-0137-4C72-97FB-FCB95FF74B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A319D2-1105-4548-A726-9A9D004BC0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8CCD4D-8704-4C30-A532-7B175F2696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C17D60-90A7-4DA5-9DFA-A7B8CAB5B0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624E9-A828-4BC2-A86F-71C47D192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2B0845-857C-41A6-969E-62872106F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CAEBDB-F207-4C87-8B91-22E8DF80F4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59CFAB-2812-428C-8D95-06CBB24B8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660866-545A-4BF2-BD9F-2505E36B25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A08873-EDCB-413D-9618-90AFCB7D1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DE14E4-E748-4C42-A802-A480779BE3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E5025C-EE39-437B-BEB6-35F3D5C1A2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D291A1-1F91-40AC-B8B1-D0CA114B4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B7C9FF-0AE7-4277-9139-2842D20058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CF7114-5B59-472B-988A-E9F6173766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C705B-52E9-490E-8F8E-AA5E13C61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D8C3D4-F48F-4EFF-9239-27868F19D8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66BD4D-2477-4DA8-876E-B395C92ACF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621B16-AF16-4556-A9D2-4FDE22ECA1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940B83-473A-496E-AFA1-8AC40624AA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A16379-FC0F-4289-BC5A-C88E1629C4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6A62FF-F823-4DC5-90F6-85455C80F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79616-4F9B-4FDB-BCEF-5E8EC83FFB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16DAF6-AB65-4C1C-AC97-4B7062DA27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BDA50-6A66-48D8-AEE2-56425A7095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A4EF20-F115-4D6C-8FBF-CB8DC54C9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B1087-95F9-4DB5-9F3F-B5C5F8B59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E99D8E-C4DB-4838-9112-69C073C6F0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08FAAA-1A15-427C-8423-7C698A3D7B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5859AF-BE40-4E44-AC9C-F632EA3418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C91DCE-7AD2-4630-8D35-143E730E67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04F2F2-21B0-470A-A4A7-DCBC3F197F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39CD61-0F85-48F5-ACFC-CB5E6F9264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FE7BC5-1303-47EF-AEDC-738ABA319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47ED4D-13CF-4495-8EC8-9D9C908426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C840D9-DF64-43FA-9FE0-7F82C6B543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F9AFF7-F498-4524-AAE1-88FD57F405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C2320-21CC-40A5-BBB4-85ACEE8D5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4749E5-C61E-4872-A3D5-AB43E25450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4A18E-A5E7-4E29-AF4C-24D4794A95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6BB7C1-3078-4269-A97F-F8F12988E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FBE4B0-0897-48C9-9655-0D94D99A09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D6476E-F83F-45CE-BE0D-5CFC335FF0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301D14-A1C2-43D0-BA4B-CE82EE35F1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278367-1422-4316-B332-9B653B447F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46B976-59C6-4CD2-9226-B5E19D59F4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4B78A0-44B0-42A5-B4A3-175ECE10F8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EC9DCC-414B-4CD6-9C88-E0C3FD594A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77632-1D06-40D3-BCB1-FBFA89ADF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046AF8-B41C-418A-AF38-6565D1A514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72BAB5-ADC3-4FA3-9F80-B9FE0839E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44104-8E69-479F-A208-817EFFBDB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052C0E-7827-40E0-9A6F-F80837AC6A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CCDDCA-5456-4F23-84CB-B0E162A340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5E11B8F-E523-46B7-8A81-701AD525FB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9C4A84-B723-4AAC-8ED6-432BD81183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7D245A-8BFA-47CD-A711-ABEE8884C9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B75119-BB2F-4F90-B7E0-CBE206DBBF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398CBD-FE3F-41F5-830F-7D033BF7F0B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BD44-ACA2-499B-B7B6-D07F6380356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E965-547C-430D-A173-EF157505EC1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4BB3-C49C-4F27-B0AE-77D9ED9CF43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2173-778E-4EBA-B056-EB2E5860FE1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0767-80FC-4AF7-9FE8-EEBF59F30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2EF3-C04C-4B45-A528-802C2F4BAF5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AB4E-5460-43B3-95A3-F7F4A56DC5D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2C64-7EB8-403B-B255-755803375F1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8192-B21C-496A-9BE6-105592921E9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C65F-3499-4A51-9AEB-E283DF4F2F1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3E64-DE25-405D-A5E8-DAB0E8D6DF4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414D0-7476-40A1-8A0A-6D9D9D982B4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B6DE-A03C-4970-82B9-21FA29DA345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a:t>
            </a:r>
            <a:r>
              <a:rPr b="1" lang="en-US" sz="2400" spc="-1" strike="noStrike">
                <a:solidFill>
                  <a:srgbClr val="002060"/>
                </a:solidFill>
                <a:latin typeface="Times New Roman"/>
              </a:rPr>
              <a:t>0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324000" y="1128600"/>
            <a:ext cx="8640720" cy="4037040"/>
          </a:xfrm>
          <a:prstGeom prst="rect">
            <a:avLst/>
          </a:prstGeom>
          <a:noFill/>
          <a:ln w="0">
            <a:noFill/>
          </a:ln>
        </p:spPr>
        <p:txBody>
          <a:bodyPr lIns="685440"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Η ημικυκλική διάταξη </a:t>
            </a:r>
            <a:br>
              <a:rPr sz="2800"/>
            </a:br>
            <a:r>
              <a:rPr b="0" lang="el-GR" sz="2400" spc="-1" strike="noStrike">
                <a:solidFill>
                  <a:srgbClr val="000000"/>
                </a:solidFill>
                <a:latin typeface="Times New Roman"/>
                <a:ea typeface="Times New Roman"/>
              </a:rPr>
              <a:t>Η ημικυκλική διάταξη παραλλαγή  της οποίας αποτελεί η διάταξη σε σχήμα Π  ευνοεί  τόσο την επικοινωνία μεταξύ των μαθητών όσο  και  την επικοινωνία μεταξύ των μαθητών και του δασκάλου (Ματσαγγούρας, 2008). </a:t>
            </a:r>
            <a:br>
              <a:rPr sz="2400"/>
            </a:br>
            <a:br>
              <a:rPr sz="2400"/>
            </a:br>
            <a:r>
              <a:rPr b="0" lang="el-GR" sz="2400" spc="-1" strike="noStrike">
                <a:solidFill>
                  <a:srgbClr val="000000"/>
                </a:solidFill>
                <a:latin typeface="Times New Roman"/>
                <a:ea typeface="Times New Roman"/>
              </a:rPr>
              <a:t>Τέτοιου τύπου διατάξεις ευνοούν τη συζήτηση με όλη την τάξη, την αποδοτικότερη επικοινωνία των μαθητών μεταξύ τους και το συντονισμό της συζήτησης από τον δάσκαλο ή κάποιον από τους μαθητές (Δημητρόπουλος, 2003).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611280" y="1724040"/>
            <a:ext cx="8353440" cy="3728880"/>
          </a:xfrm>
          <a:prstGeom prst="rect">
            <a:avLst/>
          </a:prstGeom>
          <a:noFill/>
          <a:ln w="0">
            <a:noFill/>
          </a:ln>
        </p:spPr>
        <p:txBody>
          <a:bodyPr lIns="685440"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ον τρόπο αυτό κάθε μαθητής έχει τη δυνατότητα να βλέπει, να παρακολουθεί και να κατανοεί καλύτερα τους άλλους, ενώ παράλληλα η μη λεκτική επικοινωνία εμπλουτίζει την λεκτική, καθώς οι μαθητές μπορούν να βλέπονται κατά πρόσωπο,  γεγονός που βελτιώνει σημαντικά την συναισθηματική και κοινωνική ατμόσφαιρα της τάξης ( Δημητρόπουλος, 2003).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24000" y="888480"/>
            <a:ext cx="8424720" cy="540036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κατά ομάδες διάταξη</a:t>
            </a:r>
            <a:br>
              <a:rPr sz="2400"/>
            </a:br>
            <a:br>
              <a:rPr sz="2400"/>
            </a:br>
            <a:r>
              <a:rPr b="0" lang="el-GR" sz="2400" spc="-1" strike="noStrike">
                <a:solidFill>
                  <a:srgbClr val="000000"/>
                </a:solidFill>
                <a:latin typeface="Times New Roman"/>
              </a:rPr>
              <a:t>Η διάταξη των θρανίων (ανά δύο ή τρία θρανία  ή αντικριστά) σε ομάδες, οι οποίες συγκροτούνται από 3 μέχρι 6 άτομα χρησιμοποιείται στην ομαδική μορφή διδασκαλίας. Επιτρέπει στους μαθητές να κάθονται πολλοί κοντά μεταξύ τους, έτσι ώστε να βλέπει ο ένας τον άλλο, να επικοινωνούν άμεσα, να αυτενεργούν, να διαλέγονται, να αλληλοϋποστηρίζονται (Δημητρόπουλος, 2003). Επίσης, ενώ η κατά ομάδες διάταξη ευνοεί την ομαδοκεντρική μορφή διδασκαλίας, παράλληλα αυξάνει, όπως και η ημικυκλική διάταξη, και τις εκτός μαθήματος επικοινωνίες (Ματσαγγούρας, 2008). </a:t>
            </a:r>
            <a:br>
              <a:rPr sz="2400"/>
            </a:b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250560" y="1108080"/>
            <a:ext cx="8497800" cy="496080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κυκλική διάταξη</a:t>
            </a:r>
            <a:br>
              <a:rPr sz="2800"/>
            </a:br>
            <a:br>
              <a:rPr sz="2800"/>
            </a:br>
            <a:r>
              <a:rPr b="0" lang="el-GR" sz="2800" spc="-1" strike="noStrike">
                <a:solidFill>
                  <a:srgbClr val="000000"/>
                </a:solidFill>
                <a:latin typeface="Times New Roman"/>
              </a:rPr>
              <a:t>Η κυκλική διάταξη εξασφαλίζει την πολύ καλή επαφή. Όλοι μπορούν να βλέπουν   όλους τους υπόλοιπους και να αισθάνονται ίσοι έναντι όλων καθώς βρίσκονται σε έναν ενιαίο κύκλο ή μπορεί να βρίσκονται και σε μικρούς ομόκεντρους κύκλους με το δάσκαλο να κινείται μεταξύ των κύκλων ή να εντάσσεται περιστασιακά σε κάποιον από τους κύκλους (Δημητρόπουλος, 2003). </a:t>
            </a:r>
            <a:br>
              <a:rPr sz="2400"/>
            </a:b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Ομάδα 1"/>
          <p:cNvGrpSpPr/>
          <p:nvPr/>
        </p:nvGrpSpPr>
        <p:grpSpPr>
          <a:xfrm>
            <a:off x="0" y="115920"/>
            <a:ext cx="9144000" cy="6551640"/>
            <a:chOff x="0" y="115920"/>
            <a:chExt cx="9144000" cy="6551640"/>
          </a:xfrm>
        </p:grpSpPr>
        <p:grpSp>
          <p:nvGrpSpPr>
            <p:cNvPr id="656" name="Ομάδα 1"/>
            <p:cNvGrpSpPr/>
            <p:nvPr/>
          </p:nvGrpSpPr>
          <p:grpSpPr>
            <a:xfrm>
              <a:off x="0" y="115920"/>
              <a:ext cx="9144000" cy="6551640"/>
              <a:chOff x="0" y="115920"/>
              <a:chExt cx="9144000" cy="6551640"/>
            </a:xfrm>
          </p:grpSpPr>
          <p:sp>
            <p:nvSpPr>
              <p:cNvPr id="6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2" name="9 - Εικόνα" descr=""/>
          <p:cNvPicPr/>
          <p:nvPr/>
        </p:nvPicPr>
        <p:blipFill>
          <a:blip r:embed="rId3"/>
          <a:stretch/>
        </p:blipFill>
        <p:spPr>
          <a:xfrm>
            <a:off x="250920" y="333360"/>
            <a:ext cx="1417680" cy="879480"/>
          </a:xfrm>
          <a:prstGeom prst="rect">
            <a:avLst/>
          </a:prstGeom>
          <a:ln w="0">
            <a:noFill/>
          </a:ln>
        </p:spPr>
      </p:pic>
      <p:sp>
        <p:nvSpPr>
          <p:cNvPr id="663" name="PlaceHolder 1"/>
          <p:cNvSpPr>
            <a:spLocks noGrp="1"/>
          </p:cNvSpPr>
          <p:nvPr>
            <p:ph type="title"/>
          </p:nvPr>
        </p:nvSpPr>
        <p:spPr>
          <a:xfrm>
            <a:off x="395280" y="1071360"/>
            <a:ext cx="8353440" cy="503460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διάταξη σε σχήμα σταυρού</a:t>
            </a:r>
            <a:br>
              <a:rPr sz="2400"/>
            </a:br>
            <a:r>
              <a:rPr b="0" lang="el-GR" sz="2400" spc="-1" strike="noStrike">
                <a:solidFill>
                  <a:srgbClr val="000000"/>
                </a:solidFill>
                <a:latin typeface="Times New Roman"/>
              </a:rPr>
              <a:t>Η διάταξη σε σχήμα σταυρού είναι εκείνη στην οποία η έδρα του δασκάλου βρίσκεται στο κέντρο της τάξης και σε κάθε μία από τις πλευρές της τοποθετείται μία ομάδα δύο θρανίων ή ένα μεμονωμένο θρανίο. Με τον τρόπο αυτό όλοι οι μαθητές βλέπουν και ακούν καθαρά το δάσκαλο, ενώ και ο ίδιος έχει εποπτεία του συνόλου των μαθητών, δεδομένου ότι βρίσκονται σε κοντινή απόσταση από την θέση του. Συνήθως εφαρμόζεται σε μικρές τάξεις, με λίγους μαθητές και ευνοεί την εφαρμογή και αξιοποίηση της ομαδοσυνεργατικής μεθόδου, δημιουργώντας παράλληλα στους μαθητές μια αίσθηση εγγύτητας με τον δάσκαλο.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Ομάδα 1"/>
          <p:cNvGrpSpPr/>
          <p:nvPr/>
        </p:nvGrpSpPr>
        <p:grpSpPr>
          <a:xfrm>
            <a:off x="0" y="115920"/>
            <a:ext cx="9144000" cy="6551640"/>
            <a:chOff x="0" y="115920"/>
            <a:chExt cx="9144000" cy="6551640"/>
          </a:xfrm>
        </p:grpSpPr>
        <p:grpSp>
          <p:nvGrpSpPr>
            <p:cNvPr id="665" name="Ομάδα 1"/>
            <p:cNvGrpSpPr/>
            <p:nvPr/>
          </p:nvGrpSpPr>
          <p:grpSpPr>
            <a:xfrm>
              <a:off x="0" y="115920"/>
              <a:ext cx="9144000" cy="6551640"/>
              <a:chOff x="0" y="115920"/>
              <a:chExt cx="9144000" cy="6551640"/>
            </a:xfrm>
          </p:grpSpPr>
          <p:sp>
            <p:nvSpPr>
              <p:cNvPr id="6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9 - Εικόνα" descr=""/>
          <p:cNvPicPr/>
          <p:nvPr/>
        </p:nvPicPr>
        <p:blipFill>
          <a:blip r:embed="rId3"/>
          <a:stretch/>
        </p:blipFill>
        <p:spPr>
          <a:xfrm>
            <a:off x="250920" y="333360"/>
            <a:ext cx="1417680" cy="879480"/>
          </a:xfrm>
          <a:prstGeom prst="rect">
            <a:avLst/>
          </a:prstGeom>
          <a:ln w="0">
            <a:noFill/>
          </a:ln>
        </p:spPr>
      </p:pic>
      <p:sp>
        <p:nvSpPr>
          <p:cNvPr id="672" name="PlaceHolder 1"/>
          <p:cNvSpPr>
            <a:spLocks noGrp="1"/>
          </p:cNvSpPr>
          <p:nvPr>
            <p:ph type="title"/>
          </p:nvPr>
        </p:nvSpPr>
        <p:spPr>
          <a:xfrm>
            <a:off x="0" y="909360"/>
            <a:ext cx="8820000" cy="4972320"/>
          </a:xfrm>
          <a:prstGeom prst="rect">
            <a:avLst/>
          </a:prstGeom>
          <a:noFill/>
          <a:ln w="0">
            <a:noFill/>
          </a:ln>
        </p:spPr>
        <p:txBody>
          <a:bodyPr lIns="57132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ιλογή της κατάλληλης διάταξης θρανίων</a:t>
            </a:r>
            <a:br>
              <a:rPr sz="2800"/>
            </a:br>
            <a:r>
              <a:rPr b="0" lang="el-GR" sz="2800" spc="-1" strike="noStrike">
                <a:solidFill>
                  <a:srgbClr val="000000"/>
                </a:solidFill>
                <a:latin typeface="Times New Roman"/>
              </a:rPr>
              <a:t>Οι παράγοντες από τους οποίους εξαρτάται η επιλογή της κατάλληλης διάταξης των θρανίων για την εκάστοτε τάξη είναι μεταξύ άλλων το αντικείμενο διδασκαλίας, η ηλικία μαθητών, ο αριθμός μαθητών, ο σκοπός του μαθήματος που διδάσκεται τη δεδομένη στιγμή  ( Δημητρόπουλος, 2003). Επομένως, δεν υπάρχει άριστη μορφή διάταξης αλλά διατάξεις για συγκεκριμένους διδακτικούς στόχους και συγκεκριμένες μορφές διδασκαλίας (Ματσαγγούρας, 2008).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250560" y="1099800"/>
            <a:ext cx="8893080" cy="4591080"/>
          </a:xfrm>
          <a:prstGeom prst="rect">
            <a:avLst/>
          </a:prstGeom>
          <a:noFill/>
          <a:ln w="0">
            <a:noFill/>
          </a:ln>
        </p:spPr>
        <p:txBody>
          <a:bodyPr lIns="57132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οργάνωση και η διάταξη της τάξης σχετίζονται άμεσα με τη διδακτική μεθοδολογία που χρησιμοποιείται από τον εκπαιδευτικό και τους στόχους που τίθενται από αυτόν. </a:t>
            </a:r>
            <a:br>
              <a:rPr sz="2800"/>
            </a:br>
            <a:r>
              <a:rPr b="0" lang="el-GR" sz="2800" spc="-1" strike="noStrike">
                <a:solidFill>
                  <a:srgbClr val="000000"/>
                </a:solidFill>
                <a:latin typeface="Times New Roman"/>
              </a:rPr>
              <a:t>Για παράδειγμα,  δεν υπάρχει λόγος να οργανωθεί η τάξη σε μικρές ομάδες σε κύκλους όταν ο καθηγητής κάθεται στην έδρα και τους κάνει μια διάλεξη, εφόσον δεν αξιοποιείται η ομαδοσυνεργατική μέθοδος διδασκαλίας, η οποία ευνοείται από την κατά ομάδες διάταξη (Δημητρόπουλος (2003)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539280" y="2065320"/>
            <a:ext cx="820908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μετωπική διάταξη διευκολύνει τη δασκαλοκεντρική και μονολογική μορφή διδασκαλίας, διότι προσφέρει τη δυνατότητα της άνετης επικοινωνίας μεταξύ εκπαιδευτικού και μαθητών, ενώ ταυτόχρονα ελαχιστοποιεί τη δυνατότητα της διαμαθητικής επικοινωνίας (Ματσαγγούρας, 2008</a:t>
            </a:r>
            <a:r>
              <a:rPr b="0" lang="el-GR" sz="1200" spc="-1" strike="noStrike">
                <a:solidFill>
                  <a:srgbClr val="000000"/>
                </a:solidFill>
                <a:latin typeface="Times New Roman"/>
                <a:ea typeface="Times New Roman"/>
              </a:rPr>
              <a:t>). </a:t>
            </a:r>
            <a:br>
              <a:rPr sz="800"/>
            </a:b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15920"/>
            <a:ext cx="9144000" cy="6551640"/>
            <a:chOff x="0" y="115920"/>
            <a:chExt cx="9144000" cy="6551640"/>
          </a:xfrm>
        </p:grpSpPr>
        <p:grpSp>
          <p:nvGrpSpPr>
            <p:cNvPr id="692" name="Ομάδα 1"/>
            <p:cNvGrpSpPr/>
            <p:nvPr/>
          </p:nvGrpSpPr>
          <p:grpSpPr>
            <a:xfrm>
              <a:off x="0" y="115920"/>
              <a:ext cx="9144000" cy="6551640"/>
              <a:chOff x="0" y="115920"/>
              <a:chExt cx="9144000" cy="6551640"/>
            </a:xfrm>
          </p:grpSpPr>
          <p:sp>
            <p:nvSpPr>
              <p:cNvPr id="6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250920" y="1233360"/>
            <a:ext cx="8642160" cy="471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 New Roman"/>
              </a:rPr>
              <a:t>Η διάταξη σε σχήμα Π ή  σε σχήμα ημικυκλίου μεγιστοποιεί τη δυνατότητα διαμαθητικής επικοινωνίας (</a:t>
            </a:r>
            <a:r>
              <a:rPr b="0" lang="en-US" sz="2800" spc="-1" strike="noStrike">
                <a:solidFill>
                  <a:srgbClr val="000000"/>
                </a:solidFill>
                <a:latin typeface="Times New Roman"/>
                <a:ea typeface="Times New Roman"/>
              </a:rPr>
              <a:t>Lambert</a:t>
            </a:r>
            <a:r>
              <a:rPr b="0" lang="el-GR" sz="2800" spc="-1" strike="noStrike">
                <a:solidFill>
                  <a:srgbClr val="000000"/>
                </a:solidFill>
                <a:latin typeface="Times New Roman"/>
                <a:ea typeface="Times New Roman"/>
              </a:rPr>
              <a:t>, 1995 στο Ματσαγγούρας, 2008), αλλά προσφέρεται άριστα και για δασκαλομαθητική επικοινωνία, επειδή όλοι οι μαθητές αισθάνονται ότι είναι κοντά στον εκπαιδευτικό και όχι απομακρυσμένοι  όπως συμβαίνει με τους μαθητές των τελευταίων θρανίων στις μακρόστενες και με μετωπική διάταξη τάξεις (Ματσαγγούρας, 2008</a:t>
            </a:r>
            <a:r>
              <a:rPr b="0" lang="el-GR" sz="2400" spc="-1" strike="noStrike">
                <a:solidFill>
                  <a:srgbClr val="000000"/>
                </a:solidFill>
                <a:latin typeface="Times New Roman"/>
                <a:ea typeface="Times New Roman"/>
              </a:rPr>
              <a:t>). </a:t>
            </a:r>
            <a:br>
              <a:rPr sz="800"/>
            </a:b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Ομάδα 1"/>
          <p:cNvGrpSpPr/>
          <p:nvPr/>
        </p:nvGrpSpPr>
        <p:grpSpPr>
          <a:xfrm>
            <a:off x="0" y="115920"/>
            <a:ext cx="9144000" cy="6551640"/>
            <a:chOff x="0" y="115920"/>
            <a:chExt cx="9144000" cy="6551640"/>
          </a:xfrm>
        </p:grpSpPr>
        <p:grpSp>
          <p:nvGrpSpPr>
            <p:cNvPr id="701" name="Ομάδα 1"/>
            <p:cNvGrpSpPr/>
            <p:nvPr/>
          </p:nvGrpSpPr>
          <p:grpSpPr>
            <a:xfrm>
              <a:off x="0" y="115920"/>
              <a:ext cx="9144000" cy="6551640"/>
              <a:chOff x="0" y="115920"/>
              <a:chExt cx="9144000" cy="6551640"/>
            </a:xfrm>
          </p:grpSpPr>
          <p:sp>
            <p:nvSpPr>
              <p:cNvPr id="7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6"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7" name="9 - Εικόνα" descr=""/>
          <p:cNvPicPr/>
          <p:nvPr/>
        </p:nvPicPr>
        <p:blipFill>
          <a:blip r:embed="rId3"/>
          <a:stretch/>
        </p:blipFill>
        <p:spPr>
          <a:xfrm>
            <a:off x="250920" y="333360"/>
            <a:ext cx="1417680" cy="879480"/>
          </a:xfrm>
          <a:prstGeom prst="rect">
            <a:avLst/>
          </a:prstGeom>
          <a:ln w="0">
            <a:noFill/>
          </a:ln>
        </p:spPr>
      </p:pic>
      <p:sp>
        <p:nvSpPr>
          <p:cNvPr id="708" name="PlaceHolder 1"/>
          <p:cNvSpPr>
            <a:spLocks noGrp="1"/>
          </p:cNvSpPr>
          <p:nvPr>
            <p:ph type="title"/>
          </p:nvPr>
        </p:nvSpPr>
        <p:spPr>
          <a:xfrm>
            <a:off x="250920" y="1836360"/>
            <a:ext cx="8642160" cy="350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Τα πλεονεκτήματα της ημικυκλικής διάταξης οφείλονται στο φυσικό πλησίασμα που εξασφαλίζει στον εκπαιδευτικό και στους μαθητές τη δυνατότητα της οπτικής επαφής, καθώς όπως υποστηρίζουν πολλοί κοινωνικοί ψυχολόγοι, τα μάτια παίζουν πρωταρχικό ρόλο στη διαπροσωπική επικοινωνία ανάμεσα στους ανθρώπους (Βρεττός, 1994 στο Ματσαγγούρας, 2008).  </a:t>
            </a:r>
            <a:br>
              <a:rPr sz="2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Ομάδα 1"/>
          <p:cNvGrpSpPr/>
          <p:nvPr/>
        </p:nvGrpSpPr>
        <p:grpSpPr>
          <a:xfrm>
            <a:off x="0" y="115920"/>
            <a:ext cx="9144000" cy="6551640"/>
            <a:chOff x="0" y="115920"/>
            <a:chExt cx="9144000" cy="6551640"/>
          </a:xfrm>
        </p:grpSpPr>
        <p:grpSp>
          <p:nvGrpSpPr>
            <p:cNvPr id="710" name="Ομάδα 1"/>
            <p:cNvGrpSpPr/>
            <p:nvPr/>
          </p:nvGrpSpPr>
          <p:grpSpPr>
            <a:xfrm>
              <a:off x="0" y="115920"/>
              <a:ext cx="9144000" cy="6551640"/>
              <a:chOff x="0" y="115920"/>
              <a:chExt cx="9144000" cy="6551640"/>
            </a:xfrm>
          </p:grpSpPr>
          <p:sp>
            <p:nvSpPr>
              <p:cNvPr id="7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6" name="9 - Εικόνα" descr=""/>
          <p:cNvPicPr/>
          <p:nvPr/>
        </p:nvPicPr>
        <p:blipFill>
          <a:blip r:embed="rId3"/>
          <a:stretch/>
        </p:blipFill>
        <p:spPr>
          <a:xfrm>
            <a:off x="250920" y="333360"/>
            <a:ext cx="1417680" cy="879480"/>
          </a:xfrm>
          <a:prstGeom prst="rect">
            <a:avLst/>
          </a:prstGeom>
          <a:ln w="0">
            <a:noFill/>
          </a:ln>
        </p:spPr>
      </p:pic>
      <p:sp>
        <p:nvSpPr>
          <p:cNvPr id="717" name="PlaceHolder 1"/>
          <p:cNvSpPr>
            <a:spLocks noGrp="1"/>
          </p:cNvSpPr>
          <p:nvPr>
            <p:ph type="title"/>
          </p:nvPr>
        </p:nvSpPr>
        <p:spPr>
          <a:xfrm>
            <a:off x="539280" y="1387440"/>
            <a:ext cx="82090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Times New Roman"/>
              </a:rPr>
              <a:t>Η τοποθέτηση των θρανίων ανά δύο ή τρία (αντικριστά) αποτελεί την καταλληλότερη επιλογή διάταξης για την κατά ομάδες διδασκαλία (ομαδοσυνεργατική μέθοδος). Αν  ο δάσκαλος προτιμά τη δασκαλοκεντρική διδασκαλία, το σχήμα αυτό δεν προσφέρεται, καθώς σε στιγμές χαλάρωσης των μαθητών ευνοεί τις μεταξύ τους συζητήσεις. Ακόμη είναι πιο δύσκολο για το δάσκαλο να επαναφέρει την ηρεμία  στην τάξη </a:t>
            </a: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έδρα(του διδάσκοντα) συνήθως βρίσκεται</a:t>
            </a:r>
            <a:br>
              <a:rPr sz="2800"/>
            </a:br>
            <a:r>
              <a:rPr b="0" lang="el-GR" sz="2800" spc="-1" strike="noStrike">
                <a:solidFill>
                  <a:srgbClr val="000000"/>
                </a:solidFill>
                <a:latin typeface="Times New Roman"/>
              </a:rPr>
              <a:t>πάνω σε βάθρο,  έτσι ώστε να εξασφαλίζεται </a:t>
            </a:r>
            <a:br>
              <a:rPr sz="2800"/>
            </a:br>
            <a:r>
              <a:rPr b="0" lang="el-GR" sz="2800" spc="-1" strike="noStrike">
                <a:solidFill>
                  <a:srgbClr val="000000"/>
                </a:solidFill>
                <a:latin typeface="Times New Roman"/>
              </a:rPr>
              <a:t>ο οπτικός έλεγχος της τάξης,</a:t>
            </a:r>
            <a:br>
              <a:rPr sz="2800"/>
            </a:b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Η θέση της έδρας παραμένει </a:t>
            </a:r>
            <a:br>
              <a:rPr sz="2800"/>
            </a:br>
            <a:r>
              <a:rPr b="0" lang="el-GR" sz="2800" spc="-1" strike="noStrike">
                <a:solidFill>
                  <a:srgbClr val="000000"/>
                </a:solidFill>
                <a:latin typeface="Times New Roman"/>
              </a:rPr>
              <a:t>δίπλα στον πίνακα, </a:t>
            </a:r>
            <a:br>
              <a:rPr sz="2800"/>
            </a:br>
            <a:r>
              <a:rPr b="0" lang="el-GR" sz="2800" spc="-1" strike="noStrike">
                <a:solidFill>
                  <a:srgbClr val="000000"/>
                </a:solidFill>
                <a:latin typeface="Times New Roman"/>
              </a:rPr>
              <a:t>προς την πλευρά των παραθύρων</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συμβολικά εκπαιδευτικά σημεία</a:t>
            </a:r>
            <a:r>
              <a:rPr b="0" lang="en-US" sz="2800" spc="-1" strike="noStrike">
                <a:solidFill>
                  <a:srgbClr val="000000"/>
                </a:solidFill>
                <a:latin typeface="Times New Roman"/>
              </a:rPr>
              <a:t> </a:t>
            </a:r>
            <a:r>
              <a:rPr b="0" lang="el-GR" sz="2800" spc="-1" strike="noStrike">
                <a:solidFill>
                  <a:srgbClr val="000000"/>
                </a:solidFill>
                <a:latin typeface="Times New Roman"/>
              </a:rPr>
              <a:t>αναφοράς που κυριαρχούν στο χώρο,</a:t>
            </a:r>
            <a:br>
              <a:rPr sz="2800"/>
            </a:br>
            <a:r>
              <a:rPr b="0" lang="el-GR" sz="2800" spc="-1" strike="noStrike">
                <a:solidFill>
                  <a:srgbClr val="000000"/>
                </a:solidFill>
                <a:latin typeface="Times New Roman"/>
              </a:rPr>
              <a:t>όπως: ο μαυρο-πίνακας, η έδρα του διδάσκοντα</a:t>
            </a:r>
            <a:br>
              <a:rPr sz="2800"/>
            </a:br>
            <a:r>
              <a:rPr b="0" lang="el-GR" sz="2800" spc="-1" strike="noStrike">
                <a:solidFill>
                  <a:srgbClr val="000000"/>
                </a:solidFill>
                <a:latin typeface="Times New Roman"/>
              </a:rPr>
              <a:t>τα οποία παραμένουν τα ίδια και</a:t>
            </a:r>
            <a:br>
              <a:rPr sz="2800"/>
            </a:br>
            <a:r>
              <a:rPr b="0" lang="el-GR" sz="2800" spc="-1" strike="noStrike">
                <a:solidFill>
                  <a:srgbClr val="000000"/>
                </a:solidFill>
                <a:latin typeface="Times New Roman"/>
              </a:rPr>
              <a:t>στις ίδιες θέσεις.</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α τελευταία χρόνια παρατηρούνται μικρές διαφοροποιήσεις που συνδέονται με την ύπαρξη και τη θέση ηλεκτρονικού υπολογιστή ή διαδραστικού πίνακα ή και άλλων τύπων πινάκων (πχ. πίνακας μαρκαδόρου)και άλλων</a:t>
            </a:r>
            <a:br>
              <a:rPr sz="2800"/>
            </a:br>
            <a:r>
              <a:rPr b="0" lang="el-GR" sz="2800" spc="-1" strike="noStrike">
                <a:solidFill>
                  <a:srgbClr val="000000"/>
                </a:solidFill>
                <a:latin typeface="Times New Roman"/>
              </a:rPr>
              <a:t>εποπτικών μέσων διδασκαλίας  στην αίθουσα </a:t>
            </a:r>
            <a:br>
              <a:rPr sz="2800"/>
            </a:br>
            <a:r>
              <a:rPr b="0" lang="el-GR" sz="2800" spc="-1" strike="noStrike">
                <a:solidFill>
                  <a:srgbClr val="000000"/>
                </a:solidFill>
                <a:latin typeface="Times New Roman"/>
              </a:rPr>
              <a:t> ή άλλου εκπαιδευτικού υλικού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2400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ελληνικό σχολείο και ιδίως στην αίθουσα διδασκαλίας επικρατούν χαρακτηριστικά όπως</a:t>
            </a:r>
            <a:br>
              <a:rPr sz="2800"/>
            </a:br>
            <a:r>
              <a:rPr b="0" lang="el-GR" sz="2800" spc="-1" strike="noStrike">
                <a:solidFill>
                  <a:srgbClr val="000000"/>
                </a:solidFill>
                <a:latin typeface="Times New Roman"/>
              </a:rPr>
              <a:t>η τυποποίηση,(π.χ. διάταξη θρανίων σε σειρές), ο χαμηλός βαθμός πολυπλοκότητας,</a:t>
            </a:r>
            <a:br>
              <a:rPr sz="2800"/>
            </a:br>
            <a:r>
              <a:rPr b="0" lang="el-GR" sz="2800" spc="-1" strike="noStrike">
                <a:solidFill>
                  <a:srgbClr val="000000"/>
                </a:solidFill>
                <a:latin typeface="Times New Roman"/>
              </a:rPr>
              <a:t>ο κλειστός χαρακτήρας λειτουργίας της αίθουσας </a:t>
            </a:r>
            <a:br>
              <a:rPr sz="2800"/>
            </a:br>
            <a:r>
              <a:rPr b="0" lang="el-GR" sz="2800" spc="-1" strike="noStrike">
                <a:solidFill>
                  <a:srgbClr val="000000"/>
                </a:solidFill>
                <a:latin typeface="Times New Roman"/>
              </a:rPr>
              <a:t> που οδηγούν στην αποξένωση του σχολικού χώρου </a:t>
            </a:r>
            <a:br>
              <a:rPr sz="2800"/>
            </a:br>
            <a:r>
              <a:rPr b="0" lang="el-GR" sz="2800" spc="-1" strike="noStrike">
                <a:solidFill>
                  <a:srgbClr val="000000"/>
                </a:solidFill>
                <a:latin typeface="Times New Roman"/>
              </a:rPr>
              <a:t>από το περιεχόμενο της εκπαιδευτικής διαδικασίας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αισθητική και διακόσμηση της αίθουσας φαίνεται να μην λαμβάνει υπόψη</a:t>
            </a:r>
            <a:br>
              <a:rPr sz="2800"/>
            </a:br>
            <a:r>
              <a:rPr b="0" lang="el-GR" sz="2800" spc="-1" strike="noStrike">
                <a:solidFill>
                  <a:srgbClr val="000000"/>
                </a:solidFill>
                <a:latin typeface="Times New Roman"/>
              </a:rPr>
              <a:t> την ηλικία και τις προτιμήσεις των μαθητών, </a:t>
            </a:r>
            <a:br>
              <a:rPr sz="2800"/>
            </a:br>
            <a:r>
              <a:rPr b="0" lang="el-GR" sz="2800" spc="-1" strike="noStrike">
                <a:solidFill>
                  <a:srgbClr val="000000"/>
                </a:solidFill>
                <a:latin typeface="Times New Roman"/>
              </a:rPr>
              <a:t>αλλά και</a:t>
            </a:r>
            <a:br>
              <a:rPr sz="2800"/>
            </a:br>
            <a:r>
              <a:rPr b="0" lang="el-GR" sz="2800" spc="-1" strike="noStrike">
                <a:solidFill>
                  <a:srgbClr val="000000"/>
                </a:solidFill>
                <a:latin typeface="Times New Roman"/>
              </a:rPr>
              <a:t> το περιεχόμενο της εκπαιδευτικής διαδικασί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24000" y="134136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υτά τα χαρακτηριστικά  της αίθουσας διδασκαλίας οδηγούν σε πάγιες και αναμενόμενες μορφές αλληλεπίδρασης παιδαγωγικών και  διδακτικών πρακτικών </a:t>
            </a:r>
            <a:br>
              <a:rPr sz="2800"/>
            </a:br>
            <a:r>
              <a:rPr b="0" lang="el-GR" sz="2800" spc="-1" strike="noStrike">
                <a:solidFill>
                  <a:srgbClr val="000000"/>
                </a:solidFill>
                <a:latin typeface="Times New Roman"/>
              </a:rPr>
              <a:t>που δεν έχουν καμία  συσχέτιση  με τις  παιδαγωγικές προσεγγίσεις </a:t>
            </a:r>
            <a:br>
              <a:rPr sz="2800"/>
            </a:br>
            <a:r>
              <a:rPr b="0" lang="el-GR" sz="2800" spc="-1" strike="noStrike">
                <a:solidFill>
                  <a:srgbClr val="000000"/>
                </a:solidFill>
                <a:latin typeface="Times New Roman"/>
              </a:rPr>
              <a:t>περί μαθητοκεντρικής διδασκαλίας </a:t>
            </a:r>
            <a:br>
              <a:rPr sz="2800"/>
            </a:br>
            <a:r>
              <a:rPr b="0" lang="el-GR" sz="2800" spc="-1" strike="noStrike">
                <a:solidFill>
                  <a:srgbClr val="000000"/>
                </a:solidFill>
                <a:latin typeface="Times New Roman"/>
              </a:rPr>
              <a:t>και ομαδοσυνεργατικής μάθησης.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24000" y="134136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Μάλλον φαίνεται να διαιωνίζεται</a:t>
            </a:r>
            <a:br>
              <a:rPr sz="2800"/>
            </a:br>
            <a:r>
              <a:rPr b="0" lang="el-GR" sz="2800" spc="-1" strike="noStrike">
                <a:solidFill>
                  <a:srgbClr val="000000"/>
                </a:solidFill>
                <a:latin typeface="Times New Roman"/>
              </a:rPr>
              <a:t> η δασκαλοκεντρική διδασκαλία, η οποία φαίνεται να ενισχύεται από μια φτωχή σε ερεθίσματα και ακατάλληλη και μη εξοπλισμένη σχολική αίθουσα.</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H διαρρύθμιση της σχολικής τάξης</a:t>
            </a:r>
            <a:br>
              <a:rPr sz="3200"/>
            </a:b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ίθουσα διδασκαλίας </a:t>
            </a:r>
            <a:br>
              <a:rPr sz="2800"/>
            </a:br>
            <a:r>
              <a:rPr b="0" lang="el-GR" sz="2800" spc="-1" strike="noStrike">
                <a:solidFill>
                  <a:srgbClr val="000000"/>
                </a:solidFill>
                <a:latin typeface="Times New Roman"/>
              </a:rPr>
              <a:t> είναι το  τμήμα του σχολικού κτιρίου στο οποίο πραγματοποιούνται κατά κύριο λόγο τα μαθήματα του λεγόμενου «συμβατικού προγράμματος»,</a:t>
            </a:r>
            <a:br>
              <a:rPr sz="2800"/>
            </a:br>
            <a:r>
              <a:rPr b="0" lang="el-GR" sz="2800" spc="-1" strike="noStrike">
                <a:solidFill>
                  <a:srgbClr val="000000"/>
                </a:solidFill>
                <a:latin typeface="Times New Roman"/>
              </a:rPr>
              <a:t>(εκτός από τη γυμναστική, την πληροφορική ίσως τα εικαστικά και την θεατρική αγωγή, ενδεχομένως και άλλα διδακτικά αντικείμενα).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00" name="Picture 9" descr=""/>
          <p:cNvPicPr/>
          <p:nvPr/>
        </p:nvPicPr>
        <p:blipFill>
          <a:blip r:embed="rId1"/>
          <a:stretch/>
        </p:blipFill>
        <p:spPr>
          <a:xfrm>
            <a:off x="0" y="0"/>
            <a:ext cx="9144000" cy="1368360"/>
          </a:xfrm>
          <a:prstGeom prst="rect">
            <a:avLst/>
          </a:prstGeom>
          <a:ln w="0">
            <a:noFill/>
          </a:ln>
        </p:spPr>
      </p:pic>
      <p:pic>
        <p:nvPicPr>
          <p:cNvPr id="801" name="Picture 10" descr=""/>
          <p:cNvPicPr/>
          <p:nvPr/>
        </p:nvPicPr>
        <p:blipFill>
          <a:blip r:embed="rId2"/>
          <a:stretch/>
        </p:blipFill>
        <p:spPr>
          <a:xfrm>
            <a:off x="1258920" y="2060640"/>
            <a:ext cx="1297080" cy="1528560"/>
          </a:xfrm>
          <a:prstGeom prst="rect">
            <a:avLst/>
          </a:prstGeom>
          <a:ln w="0">
            <a:noFill/>
          </a:ln>
        </p:spPr>
      </p:pic>
      <p:pic>
        <p:nvPicPr>
          <p:cNvPr id="802" name="12 - Εικόνα" descr=""/>
          <p:cNvPicPr/>
          <p:nvPr/>
        </p:nvPicPr>
        <p:blipFill>
          <a:blip r:embed="rId3"/>
          <a:stretch/>
        </p:blipFill>
        <p:spPr>
          <a:xfrm>
            <a:off x="6948360" y="1989000"/>
            <a:ext cx="1444680" cy="1573200"/>
          </a:xfrm>
          <a:prstGeom prst="rect">
            <a:avLst/>
          </a:prstGeom>
          <a:ln w="0">
            <a:noFill/>
          </a:ln>
        </p:spPr>
      </p:pic>
      <p:sp>
        <p:nvSpPr>
          <p:cNvPr id="803"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διαρρύθμιση του χώρου της αίθουσας διδασκαλίας, ουσιαστικά δεν έχει διαφοροποιηθεί και εμφανίζει απίστευτες ομοιότητες τα τελευταία  χρόνια παρά τις εξελίξεις της Παιδαγωγικής επιστήμης και της Τεχνολογία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αίτερη εντύπωση προκαλούν τα ακόλουθα διαχρονικά χαρακτηριστικά :</a:t>
            </a:r>
            <a:br>
              <a:rPr sz="2800"/>
            </a:br>
            <a:br>
              <a:rPr sz="2800"/>
            </a:br>
            <a:r>
              <a:rPr b="0" lang="el-GR" sz="2800" spc="-1" strike="noStrike">
                <a:solidFill>
                  <a:srgbClr val="000000"/>
                </a:solidFill>
                <a:latin typeface="Times New Roman"/>
              </a:rPr>
              <a:t>• Η διάταξη των θρανίων δε μεταβάλλεται εύκολα. </a:t>
            </a:r>
            <a:br>
              <a:rPr sz="2800"/>
            </a:br>
            <a:r>
              <a:rPr b="0" lang="el-GR" sz="2800" spc="-1" strike="noStrike">
                <a:solidFill>
                  <a:srgbClr val="000000"/>
                </a:solidFill>
                <a:latin typeface="Times New Roman"/>
              </a:rPr>
              <a:t>Τις περισσότερες φορές τα θρανία  </a:t>
            </a:r>
            <a:br>
              <a:rPr sz="2800"/>
            </a:br>
            <a:r>
              <a:rPr b="0" lang="el-GR" sz="2800" spc="-1" strike="noStrike">
                <a:solidFill>
                  <a:srgbClr val="000000"/>
                </a:solidFill>
                <a:latin typeface="Times New Roman"/>
              </a:rPr>
              <a:t>τοποθετούνται σε παράλληλες σειρές </a:t>
            </a:r>
            <a:br>
              <a:rPr sz="2800"/>
            </a:br>
            <a:r>
              <a:rPr b="0" lang="el-GR" sz="2800" spc="-1" strike="noStrike">
                <a:solidFill>
                  <a:srgbClr val="000000"/>
                </a:solidFill>
                <a:latin typeface="Times New Roman"/>
              </a:rPr>
              <a:t>με προσανατολισμό στον πίνακα,</a:t>
            </a:r>
            <a:br>
              <a:rPr sz="2800"/>
            </a:b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250560" y="874440"/>
            <a:ext cx="8569080" cy="4972320"/>
          </a:xfrm>
          <a:prstGeom prst="rect">
            <a:avLst/>
          </a:prstGeom>
          <a:noFill/>
          <a:ln w="0">
            <a:noFill/>
          </a:ln>
        </p:spPr>
        <p:txBody>
          <a:bodyPr tIns="253800" bIns="255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Τύποι διάταξης των θρανίων </a:t>
            </a:r>
            <a:br>
              <a:rPr sz="2800"/>
            </a:br>
            <a:br>
              <a:rPr sz="2800"/>
            </a:br>
            <a:r>
              <a:rPr b="0" lang="el-G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a:t>
            </a:r>
            <a:r>
              <a:rPr b="0" lang="el-GR" sz="2800" spc="-1" strike="noStrike">
                <a:solidFill>
                  <a:srgbClr val="000000"/>
                </a:solidFill>
                <a:latin typeface="Times New Roman"/>
                <a:ea typeface="Times New Roman"/>
              </a:rPr>
              <a:t>ι δυνατοί τρόποι διευθέτησης των θρανίων είναι πολλοί (</a:t>
            </a:r>
            <a:r>
              <a:rPr b="0" lang="en-US" sz="2800" spc="-1" strike="noStrike">
                <a:solidFill>
                  <a:srgbClr val="000000"/>
                </a:solidFill>
                <a:latin typeface="Times New Roman"/>
                <a:ea typeface="Times New Roman"/>
              </a:rPr>
              <a:t>Burden</a:t>
            </a:r>
            <a:r>
              <a:rPr b="0" lang="el-GR" sz="2800" spc="-1" strike="noStrike">
                <a:solidFill>
                  <a:srgbClr val="000000"/>
                </a:solidFill>
                <a:latin typeface="Times New Roman"/>
                <a:ea typeface="Times New Roman"/>
              </a:rPr>
              <a:t> 1995, </a:t>
            </a:r>
            <a:r>
              <a:rPr b="0" lang="en-US" sz="2800" spc="-1" strike="noStrike">
                <a:solidFill>
                  <a:srgbClr val="000000"/>
                </a:solidFill>
                <a:latin typeface="Times New Roman"/>
                <a:ea typeface="Times New Roman"/>
              </a:rPr>
              <a:t>Edwards</a:t>
            </a:r>
            <a:r>
              <a:rPr b="0" lang="el-GR" sz="2800" spc="-1" strike="noStrike">
                <a:solidFill>
                  <a:srgbClr val="000000"/>
                </a:solidFill>
                <a:latin typeface="Times New Roman"/>
                <a:ea typeface="Times New Roman"/>
              </a:rPr>
              <a:t> 1997, Γερμανός 1998, στο Ματσαγγούρας 2008):</a:t>
            </a:r>
            <a:br>
              <a:rPr sz="2800"/>
            </a:br>
            <a:br>
              <a:rPr sz="2800"/>
            </a:br>
            <a:r>
              <a:rPr b="0" lang="el-GR" sz="2800" spc="-1" strike="noStrike">
                <a:solidFill>
                  <a:srgbClr val="000000"/>
                </a:solidFill>
                <a:latin typeface="Times New Roman"/>
                <a:ea typeface="Times New Roman"/>
              </a:rPr>
              <a:t>ο παραδοσιακός τρόπος της κατά σειράς διευθέτησης των θρανίων (μετωπική διάταξη) </a:t>
            </a:r>
            <a:br>
              <a:rPr sz="2800"/>
            </a:br>
            <a:br>
              <a:rPr sz="2800"/>
            </a:br>
            <a:r>
              <a:rPr b="0" lang="el-GR" sz="2800" spc="-1" strike="noStrike">
                <a:solidFill>
                  <a:srgbClr val="000000"/>
                </a:solidFill>
                <a:latin typeface="Times New Roman"/>
                <a:ea typeface="Times New Roman"/>
              </a:rPr>
              <a:t>η κατά μικρές ομάδες διάταξη των θρανίων (2-4), </a:t>
            </a:r>
            <a:br>
              <a:rPr sz="2800"/>
            </a:b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250560" y="1271160"/>
            <a:ext cx="8569080" cy="4591080"/>
          </a:xfrm>
          <a:prstGeom prst="rect">
            <a:avLst/>
          </a:prstGeom>
          <a:noFill/>
          <a:ln w="0">
            <a:noFill/>
          </a:ln>
        </p:spPr>
        <p:txBody>
          <a:bodyPr tIns="253800" bIns="2556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Τύποι διάταξης των θρανίων </a:t>
            </a:r>
            <a:br>
              <a:rPr sz="2800"/>
            </a:br>
            <a:r>
              <a:rPr b="0" lang="el-GR" sz="2800" spc="-1" strike="noStrike">
                <a:solidFill>
                  <a:srgbClr val="000000"/>
                </a:solidFill>
                <a:latin typeface="Times New Roman"/>
                <a:ea typeface="Times New Roman"/>
              </a:rPr>
              <a:t> </a:t>
            </a:r>
            <a:br>
              <a:rPr sz="2800"/>
            </a:br>
            <a:r>
              <a:rPr b="0" lang="el-GR" sz="2800" spc="-1" strike="noStrike">
                <a:solidFill>
                  <a:srgbClr val="000000"/>
                </a:solidFill>
                <a:latin typeface="Times New Roman"/>
                <a:ea typeface="Times New Roman"/>
              </a:rPr>
              <a:t>η ημικυκλική (ή σε σχήμα Π) διάταξη, </a:t>
            </a:r>
            <a:br>
              <a:rPr sz="2800"/>
            </a:br>
            <a:br>
              <a:rPr sz="2800"/>
            </a:br>
            <a:r>
              <a:rPr b="0" lang="el-GR" sz="2800" spc="-1" strike="noStrike">
                <a:solidFill>
                  <a:srgbClr val="000000"/>
                </a:solidFill>
                <a:latin typeface="Times New Roman"/>
                <a:ea typeface="Times New Roman"/>
              </a:rPr>
              <a:t>η διάταξη τους σε σχήματα σταυρού, </a:t>
            </a:r>
            <a:br>
              <a:rPr sz="2800"/>
            </a:br>
            <a:br>
              <a:rPr sz="2800"/>
            </a:br>
            <a:r>
              <a:rPr b="0" lang="el-GR" sz="2800" spc="-1" strike="noStrike">
                <a:solidFill>
                  <a:srgbClr val="000000"/>
                </a:solidFill>
                <a:latin typeface="Times New Roman"/>
                <a:ea typeface="Times New Roman"/>
              </a:rPr>
              <a:t>η κατά ομόκεντρα ημικύκλια διάταξη </a:t>
            </a:r>
            <a:br>
              <a:rPr sz="2800"/>
            </a:br>
            <a:br>
              <a:rPr sz="2800"/>
            </a:br>
            <a:r>
              <a:rPr b="0" lang="el-GR" sz="2800" spc="-1" strike="noStrike">
                <a:solidFill>
                  <a:srgbClr val="000000"/>
                </a:solidFill>
                <a:latin typeface="Times New Roman"/>
                <a:ea typeface="Times New Roman"/>
              </a:rPr>
              <a:t>διατάξεις που συνδυάζουν στοιχεία  από διάφορους τύπους διατάξεων</a:t>
            </a:r>
            <a:r>
              <a:rPr b="0" lang="el-G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0"/>
            <a:ext cx="9144000" cy="6551640"/>
            <a:chOff x="0" y="0"/>
            <a:chExt cx="9144000" cy="6551640"/>
          </a:xfrm>
        </p:grpSpPr>
        <p:grpSp>
          <p:nvGrpSpPr>
            <p:cNvPr id="602" name="Ομάδα 1"/>
            <p:cNvGrpSpPr/>
            <p:nvPr/>
          </p:nvGrpSpPr>
          <p:grpSpPr>
            <a:xfrm>
              <a:off x="0" y="0"/>
              <a:ext cx="9144000" cy="6551640"/>
              <a:chOff x="0" y="0"/>
              <a:chExt cx="9144000" cy="6551640"/>
            </a:xfrm>
          </p:grpSpPr>
          <p:sp>
            <p:nvSpPr>
              <p:cNvPr id="603"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179280" y="761400"/>
            <a:ext cx="8785440" cy="533808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Η μετωπική διάταξη</a:t>
            </a:r>
            <a:br>
              <a:rPr sz="2800"/>
            </a:br>
            <a:r>
              <a:rPr b="0" lang="el-GR" sz="2800" spc="-1" strike="noStrike">
                <a:solidFill>
                  <a:srgbClr val="000000"/>
                </a:solidFill>
                <a:latin typeface="Times New Roman"/>
              </a:rPr>
              <a:t> Η μετωπική διάταξη, δηλαδή οι παράλληλες σειρές θρανίων τα οποία είναι προσανατολισμένα προς τον πίνακα και την έδρα του δασκάλου εκφράζει την παραδοσιακή αντίληψη για την διαρρύθμιση του χώρου της τάξης, όπως επίσης και για τη διδακτική και μαθησιακή διαδικασία.</a:t>
            </a:r>
            <a:br>
              <a:rPr sz="2800"/>
            </a:br>
            <a:r>
              <a:rPr b="0" lang="el-GR" sz="2800" spc="-1" strike="noStrike">
                <a:solidFill>
                  <a:srgbClr val="000000"/>
                </a:solidFill>
                <a:latin typeface="Times New Roman"/>
              </a:rPr>
              <a:t> Έτσι, ευνοεί την προφορική παράδοση από το δάσκαλο, καθώς έχει πλήρη εποπτεία των μαθητών και βρίσκεται στο κέντρο της προσοχής, ενώ περιορίζει τους μαθητικούς περισπασμούς (Ματσαγγούρας, 2008).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0"/>
            <a:ext cx="9144000" cy="6551640"/>
            <a:chOff x="0" y="0"/>
            <a:chExt cx="9144000" cy="6551640"/>
          </a:xfrm>
        </p:grpSpPr>
        <p:grpSp>
          <p:nvGrpSpPr>
            <p:cNvPr id="611" name="Ομάδα 1"/>
            <p:cNvGrpSpPr/>
            <p:nvPr/>
          </p:nvGrpSpPr>
          <p:grpSpPr>
            <a:xfrm>
              <a:off x="0" y="0"/>
              <a:ext cx="9144000" cy="6551640"/>
              <a:chOff x="0" y="0"/>
              <a:chExt cx="9144000" cy="6551640"/>
            </a:xfrm>
          </p:grpSpPr>
          <p:sp>
            <p:nvSpPr>
              <p:cNvPr id="612"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116000" y="1700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179280" y="1858680"/>
            <a:ext cx="8640720" cy="3143160"/>
          </a:xfrm>
          <a:prstGeom prst="rect">
            <a:avLst/>
          </a:prstGeom>
          <a:noFill/>
          <a:ln w="0">
            <a:noFill/>
          </a:ln>
        </p:spPr>
        <p:txBody>
          <a:bodyPr lIns="685440" tIns="253800" bIns="2556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πικοινωνία ανάμεσα στον δάσκαλο και τους μαθητές γίνεται με τη μορφή ερωταποκρίσεων, ενώ σπάνια αναπτύσσεται ουσιαστικός διάλογος μεταξύ τους. Τέλος, η επικοινωνία ανάμεσα στους μαθητές γίνεται πάντοτε με τη διαμεσολάβηση του δασκάλου (Δημητρόπουλος, 2003).</a:t>
            </a:r>
            <a:br>
              <a:rPr sz="1800"/>
            </a:b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7T09:04:40Z</dcterms:modified>
  <cp:revision>155</cp:revision>
  <dc:subject/>
  <dc:title>Παρουσίαση του PowerPoint</dc:title>
</cp:coreProperties>
</file>