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E71D-33E2-4088-BB13-E3F83FDBB27E}"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25E1-0BCA-45A7-9E80-373DF3A01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B335-4DCF-4231-8A4B-68CD0CC6F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6424-E6FA-4C9A-A344-CF8FE2A34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9AA97-ABBF-4146-823B-4B626D2AB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11F8-B98B-4007-8904-84670B8145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EB68-683D-4286-AAE1-82C99BFCD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2DF6-A8EF-4A9E-9907-5C33577A0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65E2-DB3F-44F0-B091-149D29F37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5911-1763-427D-94A4-D4390D9B80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D98D-FBDE-457E-9671-264B8CE99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B152F-E23D-4F2E-BDE6-7BBF51E04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5" name="PlaceHolder 1"/>
          <p:cNvSpPr>
            <a:spLocks noGrp="1"/>
          </p:cNvSpPr>
          <p:nvPr>
            <p:ph type="sldImg"/>
          </p:nvPr>
        </p:nvSpPr>
        <p:spPr>
          <a:xfrm>
            <a:off x="985680" y="741240"/>
            <a:ext cx="4886640" cy="3665520"/>
          </a:xfrm>
          <a:prstGeom prst="rect">
            <a:avLst/>
          </a:prstGeom>
          <a:ln w="0">
            <a:noFill/>
          </a:ln>
        </p:spPr>
      </p:sp>
      <p:sp>
        <p:nvSpPr>
          <p:cNvPr id="11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9155-70C4-4E3A-BCA4-D01C1B308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990E-89C1-47EC-B72B-E6B6E79D1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D414-4545-448E-BA40-3FFFA95F8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B8E7-4B5A-4F8C-B1EE-A9D2D282A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AF04-7091-43F3-82DA-525DBE9EC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EA8A-AFAD-47C6-80A2-8FE63BE7FD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386F-F375-4E1C-A996-C1AFE5AE36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8F645-4CC3-4DDA-8AA3-9E8C7C893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7EBF-7637-4B86-AE6F-29C2E0B46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B974-1605-466F-98F7-DD6E3F8167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82AC-AE55-4944-BE3C-B942B93AC3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8E4F-1050-4E0F-AD5C-4FA34F615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AA06-67D3-49A1-A2FB-3BA442C23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F4F1-C661-4B54-9944-65A6731EC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98B4-1241-4F8C-9E24-BC370F26A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7F9C-CD8B-40EF-A77D-AE9452DF1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4054-37F6-4440-83DB-5EB425CE6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3115-8A6C-4539-BAFF-7EF87307D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3FA1-4DC6-433D-9E6C-8736C29D1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E54B-CC8F-4FBD-AACC-F57D769A1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ED31-7AAB-4E7B-B21C-5CDB68E6D1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2CE1-E9BC-4E69-B7C7-A05E4367F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7066-2603-484A-9219-28F9835ADA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AC4A-6D03-48CC-B4AB-61BC4B371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0977-6422-4E38-A24E-D18E9E884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66EA-EA07-4F1E-8BAB-3BF96B4A50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EEFF-3041-4B9A-8AE3-DB84A5C45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A282-3D9D-40CD-BBC9-5E77C3684D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E738-4F37-4AB0-8956-7540E5755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E7BD-396D-47F3-A911-EC641C410F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7DB9-C635-407B-A9FF-631184244F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F449-853E-4447-93C4-E9A66FC98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27E5D-0039-45B1-9063-A25101062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CD50-5C1D-4D74-AB4D-878933D64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D476-F932-4550-A89F-1A94BDF944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7307-D3E7-4DEB-BE5C-5958EE632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4354-CE40-45E2-9A70-12B4E34D9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A620-69D0-4B23-A60D-00AC16CE9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8493-CEFB-4448-9934-D8AF1D35B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93036-1DB6-4F70-A0A7-34D175476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8D37-D8E2-471B-A903-DE4358728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6805-EF77-4FB1-B7C3-79B854611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B9DB-6E42-40A2-84EB-E02746881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326A-D8B4-4D2B-AE39-278413A20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2118-2E79-4770-81F4-8500C4096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E752-B660-4A22-96C3-0025F6EF5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7AE0-B0F1-458E-B36D-E50DA46D3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AEAC-CFF5-4FA1-BD2D-2DEB123FD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0E34-93A4-4272-9FD2-BF4D64C8C3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A160-B6B9-49A8-828B-8BE9719FE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A038-6D80-49FC-977E-E59B709210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2ABB-1B55-48E4-AA51-8B31B702D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AFBC-E2D3-40DB-AF1C-316BD89D2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9FD77-B488-4D35-813A-278625373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5E05-20B9-4E71-B887-77D5EB88F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1B02-F3B6-468F-8919-5F64EC8EF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FDDE-BEC3-44A2-88D0-AB7896928A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71A8-603A-45A7-9E85-B356AAE7F0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910B3-8F3C-461D-AFD0-5859925CA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EF75F-259C-49A3-B680-3BC0BA2F8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D2AD6E-FE5F-47FE-8911-EB8371A073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C0979-34A3-4F91-BED1-3D91E3793D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4CA19D-F7A7-419E-8C64-BA9293FAB7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1B89A-EF29-4F55-8236-F3142D0A8F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6CA65E-A446-4A0C-8B38-6B1059BCB2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869907-BDD5-4FA0-9F96-71B33BA60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0548BD-B6CA-4C1C-9C56-1BACFE1D8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EC4C28-F902-425A-B172-F47D99473D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300436-E3C8-4163-9FC2-41C4AE1BBA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390E7C9-56BB-45B4-91C9-F1CAEC9279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02C7A-1330-40C6-9A94-237708BE8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8F8FED-276A-46E1-A5E5-29E057A1A9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3A4CF2-5CA6-486A-AA6F-5B629CECBC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50B0AB-7F63-4D6B-A3BB-83755348B7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ABFCD0-5A59-4D16-9B61-8C9A8B9A5D4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8C91AE-AAE0-48AF-B7F6-A6A21E6224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6AA954-54A1-4691-B8B4-90F9CE9372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03EA7B-5981-4D89-A3F0-D1402AB33F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DA881F-0630-46AF-AF8F-39997F10C2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2DCF10-83E2-41BF-BD98-BB8C2846E2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9D09F0-AD41-4B9C-9EB3-32DF3FFFEB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F3EBC-7EF4-43A3-B0FB-49D6EC7B0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5E1254-3CBA-4B1B-938A-A016E24073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AB0037-61AF-4C0C-AC41-4F4EDCFC2E4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F7B0B5-DCD2-44A7-93E7-C899BCC551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0E8CDD-A4EA-446E-8443-E470F120E1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BEF457-AF2E-4DEC-8144-58C552DA0E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A4EA6B-833C-4342-A06C-568AE13F43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3EB3EF-F622-4A13-99CF-D4EE71C0B1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F2AF31-B22B-4C2B-86BA-8A73333072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BB9E26-2938-4509-995C-4546133294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F1CD7D-A178-4080-BE79-64FBEA124B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29C13-168B-4C91-9DBC-AE425DA72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A4AEF2-73D7-45B4-AA8A-29AA276BBA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EA79E21-2A43-4BD5-AF86-E4D56490CF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7D61C5C-CED9-41FF-B3FA-F3BDC11385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68E9E01-70B9-4708-A1F8-A1ADB64803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E768BF5-51C3-4660-BC9A-7E764786D9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015EE9-9115-4097-AB40-77BD1169E66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69D4248-0D7D-4843-B5AF-96C4358918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1A9C14-BD21-4CE5-8F1D-2D18DF76B4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E761C7-7B4F-482D-B6F7-CE0C4040EF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CC1352-7736-4371-9B09-F4CE71510C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14A44D-8B59-43A8-B5CA-F4BFF7C6C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F0E4CE-5D7B-4943-8C07-F284641A29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2BC353-30E0-4EF0-B64E-496A99C899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7E3DD5-4C01-47C4-AE93-38F94196D6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FD94B4-4EEC-46B4-8C5C-904D2AFF52F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014501-F41A-4A67-ACF0-89B260E60BB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9778A1A9-AC9E-4DAA-84DB-D96C5E4958C5}"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18E1B1D3-E884-4BBC-BFC5-87CEFF66C53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D112434-993D-4288-9A39-8E58EEF2A5F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BCB82E6-204F-4F4E-9D56-74CEAC62DA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B22D1A3B-AE10-4CA2-95A4-68C68C821B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6C175-29AE-4949-B2B9-6886D05F16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EAC4848-4F4B-4AD5-9ECC-CC04967459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A49C6E08-0BFF-479C-AC79-95A9BB4A78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7FE1FBA-DF7D-4890-9F8C-65A9B420AE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77BD608-F3E4-4C78-B0C4-E577D63CC20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4D2A78A5-8CBB-4945-8D3E-92C99DEC779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229EFF1-E521-4EF4-BAA1-B4017FCCFD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9BA01911-4254-4583-9289-7AFEA34FC8C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A81A6-97C1-4CC5-9C9B-A504A54C1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664A3-96DC-4D4C-9786-CC619094F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D2FE1-6FC1-41BA-AA15-4A008A126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B6A0C-1C7A-4087-974F-E519FA1DD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368B-BB14-4E6B-BEB9-D0B6B7D2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7AC1A-1A8E-439E-818C-B4290220A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1F02B-3354-4D95-988F-68AD97AB7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01E974-5C2C-42BB-B4ED-402E2C31F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585D7-0129-4B74-B9EC-E5CDED253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511B3-AA7E-4EFA-9C08-A569B8F41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CAC9A1-0720-43EC-97F7-2BF19CB27C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3A3FAC-B3E0-4AB8-8823-04CF48AA00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05C19B-E467-42DA-8BA7-DDB877C57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D55F32-39D8-460F-ACA5-95E1D5E432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B187B-BC95-4990-98B4-0ECF3ADBA8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58D21-4DF8-4DA6-90E6-A67C4350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364419-B23B-489C-8729-3E9AAA1D2A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5A6576-3644-4D75-8941-F7B412F342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1D232F-718E-4804-A3B8-350879EAC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5C9AE-0BFA-4C78-A26D-86C5DC85C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158B52-3BDA-4788-9AEA-A958FC9BD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2C5EBE-BA8C-4166-9841-72DEE098BE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94F0D-8E11-48EA-80BF-1DAF94DA87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C131D2-674C-4B2F-B797-872B62A92D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7BF69-9069-4C27-B378-D12DA8F5B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B5B754-D478-46F1-9CCF-F2CBED151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DB04C-326F-4C97-BB49-5457A609C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8540B6-F58D-4A44-9B30-634E706A9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9373F-302E-4EEC-94D7-D7AC9BE3F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FD214C-1E03-40F1-83DF-574E61E11A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67C37-E092-4FAC-A0AF-28B39429A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E2144-C038-4CD2-847D-C6DEDBBDEF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A298B-A283-4FA0-9B34-98D959F497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7DCD8-5F7E-4D0C-983C-97898FBA3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48F347-16DE-4895-BA24-BB1EEA3921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0433F9-3C9C-411B-803C-12B9F0827D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78F989-9498-4454-99BF-A9B9DBFEC2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290D-03BB-4543-831E-0FBDD1B6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0B61DA-7858-446F-9A45-44CF079525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76A298-05E4-40F2-B1F0-31E71CC00D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8EB4CD-9564-4C3D-868B-A99114629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5D310-1A73-4452-9292-0B922E4491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B119A-4AA8-4863-A9E0-8BB8539F38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AC336-FF12-41FF-A51B-D32C39DFDF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D122D-2F05-495D-B278-BC41AE4573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AED6B-20D0-4C2F-9324-855DCE12E2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0E08D6-4929-4862-A5AA-AB595A36E2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86A4A4-07C2-4374-AA8B-B2EF4847E0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29221-A695-40D1-B9AA-E7F5BCFCC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BCA4F3-DD10-4882-990D-A4A67100E5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09BF82-5671-42F4-82BA-DCCC73AB09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6A24C-5F4A-409B-B515-A033DB2911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4F1ACD-0C38-46E7-8526-5610559AB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F315F7-3CE6-4268-8131-8F077F54DA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A0B340-9574-4764-95C0-E6EF62C89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6779EF-18C8-4785-A14D-53E9D14DE7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92417-98F8-4552-B4A2-316EFC5BE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54403F-7E57-45AA-93D2-3C74243FB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EBBA0-0A06-413A-982A-E529960085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5D90E-3A35-4CE2-8644-FD95DA2AA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47AB79-3427-4325-9417-39903B60CC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DFABAE-1A66-49EB-A279-72FD901685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AC92D4-E05A-4649-AA3F-8CCD2888BB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E4881A-80C4-4950-8E67-000D1A845F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3629F-507B-421B-A982-A2DDD4E3FF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14085C-768E-4A02-98F3-8D742F190E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C125A-2C7D-4D1C-9AF9-E5DCF7ACF1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C9AFB-FD37-46A5-826D-116DAF664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8EFFD8-0600-428F-9D26-30CC19C9F7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FA9DC4-4141-46EC-B709-9241E6EFB0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71EAE-22EC-4A72-B010-74FB49124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4E0A00-8C42-4B69-A975-0C15E751B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C93EFD-B8D2-4EFA-AF4F-B42BEF1A38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84C0A0-2316-4AAC-AD81-4CC7C79D51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A1C186-531B-45E8-8C83-42B0306E48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4EF4AB-C756-46F9-9463-681DEE0850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9E1056-5C76-4F8D-AD5E-590736CA51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72A889-5BB9-492F-B0CA-3C90AC15E5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392FB8-BD1D-4751-BEFD-4FABD0696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E91AE6-84EB-432B-8DD9-A93E71E0E5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30602A-087C-47D2-AD48-3FAE10E715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7D190-23D1-4D41-A45A-C81AC09E7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4C348D-8770-446B-8889-DFBB44A9D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4F364B-66B8-4A22-AE72-CABD092513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B917CD-FA57-4ADA-A8CE-1C26B0974C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13026E-D2D2-44AF-9FB5-A4337C861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11760D-3B3F-40C4-BA71-391D21F8BA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591B07-D7E7-4DA4-8809-169A89E9E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2C5581-AB11-448A-8005-D88D2A9CAD7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7197E0-B4B5-4D27-93CF-83EB3D0B0C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2A5DB3-6594-42A2-A7FB-5EC4E1E6C0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E6F47F-2C33-4455-9127-1A01932EDC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65DB-4662-4A58-AA82-EA15A33E0E1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6618-5F1D-4A4E-9888-9062833ED3E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05BC-F760-4A58-B75F-4A4D50471F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CE00-F862-400A-88D8-EEBB80CF3A0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9CBA3-1DD3-4CF7-B5C2-198D2AF02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B377-2494-4E6D-9A01-64D468E4963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6864-C11F-4006-BE1D-F2131857E6A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E0B0-A958-4FF2-B91C-3B132CCACC1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517E-BFF7-4A43-ABF0-401B4B11D99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6460-0EE2-4BF3-9354-022776CF1CE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3C056-F142-42FB-AE44-808A2A3B1A8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54F0-085C-4E94-9A67-0715A86C4C5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401C5-B0D5-4F0B-8F0E-ADD29E07E1F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οτελεί συχνό φαινόμενο, στην ελληνική πραγματικότητα, η σχέση μεταξύ του εκπαιδευτικού και των γονέων, να μην είναι συνεργατική και υποβοηθητική. Η αδυναμία οριοθέτησης των ρόλων των δυο εμπλεκόμενων σε συνδυασμό με την αναγνώριση, </a:t>
            </a:r>
            <a:br>
              <a:rPr sz="2800"/>
            </a:br>
            <a:r>
              <a:rPr b="0" lang="el-GR" sz="2800" spc="-1" strike="noStrike">
                <a:solidFill>
                  <a:srgbClr val="000000"/>
                </a:solidFill>
                <a:latin typeface="Times New Roman"/>
              </a:rPr>
              <a:t>εκ μέρους του ελληνικού εκπαιδευτικού συστήματος, της υπεροχής του εκπαιδευτικού σε ότι σχετίζεται με την εκπαιδευτική διαδικασία δυσχεραίνει την δυνατότητα επιτυχούς συνεργασίας μεταξύ τους (Σούλης, 2008).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981000"/>
            <a:ext cx="8208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ελληνικό εκπαιδευτικό σύστημα, αναγνωρίζει θεσμικά, ότι ο εκπαιδευτικός είναι απόλυτα υπεύθυνος για  τη μαθησιακή διαδικασία. </a:t>
            </a:r>
            <a:br>
              <a:rPr sz="2800"/>
            </a:br>
            <a:r>
              <a:rPr b="0" lang="el-GR" sz="2800" spc="-1" strike="noStrike">
                <a:solidFill>
                  <a:srgbClr val="000000"/>
                </a:solidFill>
                <a:latin typeface="Times New Roman"/>
              </a:rPr>
              <a:t>Η λήψη αποφάσεων, η επαγγελματική αυτονομία, </a:t>
            </a:r>
            <a:br>
              <a:rPr sz="2800"/>
            </a:br>
            <a:r>
              <a:rPr b="0" lang="el-GR" sz="2800" spc="-1" strike="noStrike">
                <a:solidFill>
                  <a:srgbClr val="000000"/>
                </a:solidFill>
                <a:latin typeface="Times New Roman"/>
              </a:rPr>
              <a:t>η αξιολόγηση των μαθητών, </a:t>
            </a:r>
            <a:br>
              <a:rPr sz="2800"/>
            </a:br>
            <a:r>
              <a:rPr b="0" lang="el-GR" sz="2800" spc="-1" strike="noStrike">
                <a:solidFill>
                  <a:srgbClr val="000000"/>
                </a:solidFill>
                <a:latin typeface="Times New Roman"/>
              </a:rPr>
              <a:t>η οργάνωση ης διδασκαλίας,  </a:t>
            </a:r>
            <a:br>
              <a:rPr sz="2800"/>
            </a:br>
            <a:r>
              <a:rPr b="0" lang="el-GR" sz="2800" spc="-1" strike="noStrike">
                <a:solidFill>
                  <a:srgbClr val="000000"/>
                </a:solidFill>
                <a:latin typeface="Times New Roman"/>
              </a:rPr>
              <a:t>ο σχεδιασμός και οι μέθοδοι υλοποίησης των εκπαιδευτικών προγραμμάτων αποτελούν ευθύνη και δικαίωμα των εκπαιδευτικών </a:t>
            </a:r>
            <a:br>
              <a:rPr sz="2800"/>
            </a:br>
            <a:r>
              <a:rPr b="0" lang="el-GR" sz="2800" spc="-1" strike="noStrike">
                <a:solidFill>
                  <a:srgbClr val="000000"/>
                </a:solidFill>
                <a:latin typeface="Times New Roman"/>
              </a:rPr>
              <a:t>(Ματσαγγούρας &amp; Βέρδης, 2003).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φού δεν έχουν  λόγο και δικαίωμα παρέμβασης στην οργάνωση και τη λειτουργία της σχολικής τάξης, περιθωριοποιούνται και υποβαθμίζεται ο ρόλος τους στην εκπαίδευση των μαθητών. </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έση μεταξύ των εκπαιδευτικών και των γονέων των μαθητών επηρεάζεται αρνητικά και από την μετάβαση της κοινωνίας  σε νέα σχήματα και σε νέες επιστημονικές αναζητήσεις. </a:t>
            </a:r>
            <a:br>
              <a:rPr sz="2800"/>
            </a:br>
            <a:br>
              <a:rPr sz="2800"/>
            </a:br>
            <a:r>
              <a:rPr b="0" lang="el-GR" sz="2800" spc="-1" strike="noStrike">
                <a:solidFill>
                  <a:srgbClr val="000000"/>
                </a:solidFill>
                <a:latin typeface="Times New Roman"/>
              </a:rPr>
              <a:t>Η μετάβαση αυτή, είχε ως αποτέλεσμα το σχολείο να θεσπιστεί ως ο κύριος φορέας παροχής γνώσεων, αγωγής και κοινωνικοποίησης των μαθητών. </a:t>
            </a: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125000"/>
            <a:ext cx="78120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άγκη για εξειδικευμένη κατάρτιση και συστηματική και οργανωμένη εκπαίδευση, ώστε να είναι ικανοί οι μαθητές να ανταποκριθούν στα δεδομένα της κοινωνίας, έθεσε τον εκπαιδευτικό σε προνομιακή θέση σε σχέση με τον γονέα και την εκπαίδευση και αγωγή την οποία εκείνος είναι ικανός να παρέχει στο παιδί του (Σούλης, 2008).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λέον έχοντας αναγνωριστεί οι δυνατότητες και η αξία της Παιδαγωγικής, της Ψυχολογίας, της Κοινωνιολογίας και η σημασία της εμπλοκής τους στην μαθησιακή διαδικασία </a:t>
            </a:r>
            <a:br>
              <a:rPr sz="2800"/>
            </a:br>
            <a:r>
              <a:rPr b="0" lang="el-GR" sz="2800" spc="-1" strike="noStrike">
                <a:solidFill>
                  <a:srgbClr val="000000"/>
                </a:solidFill>
                <a:latin typeface="Times New Roman"/>
              </a:rPr>
              <a:t>ο εκπαιδευτικός, ως εκείνος ο ειδικός επιστήμονας , ως  γνώστης των επιστημών αυτών, </a:t>
            </a:r>
            <a:br>
              <a:rPr sz="2800"/>
            </a:br>
            <a:r>
              <a:rPr b="0" lang="el-GR" sz="2800" spc="-1" strike="noStrike">
                <a:solidFill>
                  <a:srgbClr val="000000"/>
                </a:solidFill>
                <a:latin typeface="Times New Roman"/>
              </a:rPr>
              <a:t>αποκτά κύρος και καταξιώνεται. </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λοιπόν,  έρχονται σε δεύτερη σχέση και εξαρτώνται από τον εκπαιδευτικό καθώς εκείνος είναι αυτός που έχει  τις γνώσεις, την εμπειρία και την κριτική σκέψη  και τη θεσμική κατοχύρωση να αναγνωρίσει και να εντοπίσει τα προβλήματα , τις δυσκολίες και τις δυνατότητες κάθε μαθητή </a:t>
            </a:r>
            <a:br>
              <a:rPr sz="2800"/>
            </a:br>
            <a:r>
              <a:rPr b="0" lang="el-GR" sz="2800" spc="-1" strike="noStrike">
                <a:solidFill>
                  <a:srgbClr val="000000"/>
                </a:solidFill>
                <a:latin typeface="Times New Roman"/>
              </a:rPr>
              <a:t>(Σούλης, 2008).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ινότητα, οργανώνει, παρεμβαίνει και παρέχει στον μαθητή την κατάλληλη, συστηματική και οργανωμένη εκπαίδευση που χρειάζεται, ανάλογα με την προσωπικότητά του, τις ανάγκες και τα ενδιαφέροντά του. </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εκπαίδευση αυτή δεν παρέχεται αποκλειστικά από τον εκπαιδευτικό της τάξης αλλά  σε αυτήν συμβάλλει το σύνολο του εκπαιδευτικού προσωπικού. </a:t>
            </a:r>
            <a:br>
              <a:rPr sz="2800"/>
            </a:br>
            <a:r>
              <a:rPr b="0" lang="el-GR" sz="2800" spc="-1" strike="noStrike">
                <a:solidFill>
                  <a:srgbClr val="000000"/>
                </a:solidFill>
                <a:latin typeface="Times New Roman"/>
              </a:rPr>
              <a:t>Για τον σχεδιασμό της εκπαιδευτικής διαδικασίας αλλά και την αντιμετώπιση διαφόρων καταστάσεων ο εκπαιδευτικός μπορεί να συμβουλεύεται ακόμα, τον σχολικό σύμβουλο/συντονιστή εκπαιδευτικού έργου, αλλά και άλλους εξειδικευμένους επιστήμονες. </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λοιπόν εμφανές, ότι οι γονείς σε αντίθεση με τους εκπαιδευτικούς, είναι σε μειονεκτικότερη θέση καθώς δεν έχουν τις γνώσεις, την άμεση βοήθεια και υποστήριξη που χρειάζονται για την διαχείριση θεμάτων και την επίλυση προβλημάτων σχετικά με τα παιδιά τους (Σούλης, 2008).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26560" y="1125360"/>
            <a:ext cx="799308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r>
              <a:rPr b="1" lang="en-US" sz="2800" spc="-1" strike="noStrike">
                <a:solidFill>
                  <a:srgbClr val="000000"/>
                </a:solidFill>
                <a:latin typeface="Arial"/>
                <a:ea typeface="Arial"/>
              </a:rPr>
              <a:t>-</a:t>
            </a:r>
            <a:r>
              <a:rPr b="1" lang="el-GR" sz="2800" spc="-1" strike="noStrike">
                <a:solidFill>
                  <a:srgbClr val="000000"/>
                </a:solidFill>
                <a:latin typeface="Arial"/>
                <a:ea typeface="Arial"/>
              </a:rPr>
              <a:t>Προετοιμασία όλων των παραγόντων</a:t>
            </a:r>
            <a:br>
              <a:rPr sz="2800"/>
            </a:b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3200"/>
            </a:br>
            <a:br>
              <a:rPr sz="3200"/>
            </a:br>
            <a:r>
              <a:rPr b="1" lang="el-GR" sz="2000" spc="-1" strike="noStrike">
                <a:solidFill>
                  <a:srgbClr val="000099"/>
                </a:solidFill>
                <a:latin typeface="Arial"/>
                <a:ea typeface="Arial"/>
              </a:rPr>
              <a:t>ΕΙΣΗΓΗΤΗΣ: Γούπος Θεόδωρος,  δρ. Παιδαγωγικών</a:t>
            </a:r>
            <a:br>
              <a:rPr sz="2000"/>
            </a:b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920" y="981000"/>
            <a:ext cx="8642160" cy="468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και οι κηδεμόνες, δεν επιδιώκουν να συμμετέχουν ενεργά στην εκπαιδευτική διαδικασία των παιδιών τους, εναποθέτοντας εξ ολοκλήρου το βάρος και την ευθύνη  στη σχολική κοινότητα και στους εκπαιδευτικούς. </a:t>
            </a:r>
            <a:br>
              <a:rPr sz="2800"/>
            </a:br>
            <a:r>
              <a:rPr b="0" lang="el-GR" sz="2800" spc="-1" strike="noStrike">
                <a:solidFill>
                  <a:srgbClr val="000000"/>
                </a:solidFill>
                <a:latin typeface="Times New Roman"/>
              </a:rPr>
              <a:t>Έχοντας την αντίληψη ότι το σχολείο δεν αναμένει από αυτούς την εμπλοκή και την βοήθεια τους στην διαδικασία μάθησης και επίλυσης των προβλημάτων που προκύπτουν στο σχολείο, ισχυροποιείται η θέση αλλά και η ευθύνη του εκπαιδευτικού για την μαθησιακή αλλά και κοινωνικο-συναισθηματική ανάπτυξη του κάθε μαθητή</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ονείς ,αρκετές φορές έχουν την πεποίθηση ότι η συνεργασία με τους εκπαιδευτικούς δεν είναι απαραίτητη με αποτέλεσμα να υπάρχει δυσκολία επικοινωνίας και αλληλεπίδρασης μεταξύ σχολείου και οικογένειας. </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 Ματσαγγούρας (2008) αναφέρει:</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Στα σχολεία-κεντρικά μοντέλα οι σχέσεις σχολείου και οικογένειας καθορίζονται με αποκλειστική πρωτοβουλία και ευθύνη του σχολείου και εξαντλούνται σε μια εξουσιαστικής μορφής επικοινωνία του σχολείου με την οικογένει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απόρροια της άποψης αυτής οι γονείς έχουν περιορισμένες ευθύνες σχετικά με το σύνολο της σχολικής ζωής του παιδιού τους, </a:t>
            </a:r>
            <a:br>
              <a:rPr sz="2800"/>
            </a:br>
            <a:r>
              <a:rPr b="0" lang="el-GR" sz="2800" spc="-1" strike="noStrike">
                <a:solidFill>
                  <a:srgbClr val="000000"/>
                </a:solidFill>
                <a:latin typeface="Times New Roman"/>
              </a:rPr>
              <a:t>είναι απόλυτα εξαρτημένοι από τους εκπαιδευτικούς και το σχολείο, συνεπακόλουθα, υποβαθμίζει το ρόλο και την σημασία της ενεργούς συμμετοχής των γονέων στην εκπαίδευση των παιδιών (Ματσαγγούρας, 2008).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από τα βασικότερα δικαιώματα των γονέων μαθητών με ειδικές εκπαιδευτικές ανάγκες αποτελεί το δικαίωμα επιλογής του κατάλληλου θεσμικού πλαισίου το οποίο θα παρέχει την καλύτερα στοχευμένη και κατάλληλα προσαρμοσμένη εκπαιδευτική παρέμβαση. </a:t>
            </a:r>
            <a:br>
              <a:rPr sz="2800"/>
            </a:br>
            <a:r>
              <a:rPr b="0" lang="el-GR" sz="2800" spc="-1" strike="noStrike">
                <a:solidFill>
                  <a:srgbClr val="000000"/>
                </a:solidFill>
                <a:latin typeface="Times New Roman"/>
              </a:rPr>
              <a:t>Επιπλέον, έχουν το αναφαίρετο δικαίωμα της τελικής απόφασης για την φοίτηση του παιδιού σε οποιαδήποτε εκπαιδευτική μονάδα. </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α δικαιώματα των γονέων, συμπεριλαμβάνεται το δικαίωμα διεκδίκησης μεταφοράς των μαθητών στην σχολική μονάδα στην οποία φοιτούν με έξοδα του κράτους, την παροχή στα παιδιά τους, σε ορισμένες περιπτώσεις, εξειδικευμένου θεσμού ,της κατ’ οίκον διδασκαλίας. </a:t>
            </a:r>
            <a:br>
              <a:rPr sz="2800"/>
            </a:br>
            <a:r>
              <a:rPr b="0" lang="el-GR" sz="2800" spc="-1" strike="noStrike">
                <a:solidFill>
                  <a:srgbClr val="000000"/>
                </a:solidFill>
                <a:latin typeface="Times New Roman"/>
              </a:rPr>
              <a:t>Τέλος, διαθέτουν το δικαίωμα να κατέχουν σημαντικό ρόλο στην κατάρτιση και εφαρμογή προγραμμάτων πρώιμης εκπαιδευτικής παρέμβασης, συμβουλευτικής γονέων και οικογένειας (Τσιμπιδάκη, 2007).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α ήταν πολύ αποτελεσματικό να  θεσπιστεί και να ενισχυθεί μια συνεχόμενη και σταθερή επικοινωνία ανάμεσα στο σχολείο και τους γονείς ή τους κηδεμόνες. </a:t>
            </a:r>
            <a:br>
              <a:rPr sz="2800"/>
            </a:br>
            <a:r>
              <a:rPr b="0" lang="el-GR" sz="2800" spc="-1" strike="noStrike">
                <a:solidFill>
                  <a:srgbClr val="000000"/>
                </a:solidFill>
                <a:latin typeface="Times New Roman"/>
              </a:rPr>
              <a:t>Για να επιτευχθεί η συστηματική επικοινωνία ο γονέας θα πρέπει να συνεργάζεται  αρμονικά και εποικοδομητικά , να  απαντά άμεσα στα μηνύματα, </a:t>
            </a:r>
            <a:br>
              <a:rPr sz="2800"/>
            </a:br>
            <a:r>
              <a:rPr b="0" lang="el-GR" sz="2800" spc="-1" strike="noStrike">
                <a:solidFill>
                  <a:srgbClr val="000000"/>
                </a:solidFill>
                <a:latin typeface="Times New Roman"/>
              </a:rPr>
              <a:t> ή τα σημειώματα των εκπαιδευτικών, </a:t>
            </a:r>
            <a:br>
              <a:rPr sz="2800"/>
            </a:br>
            <a:r>
              <a:rPr b="0" lang="el-GR" sz="2800" spc="-1" strike="noStrike">
                <a:solidFill>
                  <a:srgbClr val="000000"/>
                </a:solidFill>
                <a:latin typeface="Times New Roman"/>
              </a:rPr>
              <a:t>να είναι πρόθυμος να κανονιστούν συναντήσεις με τους εκπαιδευτικούς και να είναι συνεπής σε αυτές.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γονέας είναι σημαντικό να νιώσει ασφάλεια και εμπιστοσύνη και να μη φοβάται ότι θα κριθεί ή θα αντιμετωπιστεί από τον εκπαιδευτικό αρνητικά εκφράζοντας τις ανησυχίες ή τα θέματα που τον απασχολούν σχετικά με την εκπαίδευση του παιδιού.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ληροφορίες που μπορεί να δώσει ο γονέας στον εκπαιδευτικό για την συμπεριφορά του μαθητή στο σπίτι είναι πολύ σημαντικές .</a:t>
            </a:r>
            <a:br>
              <a:rPr sz="2800"/>
            </a:br>
            <a:r>
              <a:rPr b="0" lang="el-GR" sz="2800" spc="-1" strike="noStrike">
                <a:solidFill>
                  <a:srgbClr val="000000"/>
                </a:solidFill>
                <a:latin typeface="Times New Roman"/>
              </a:rPr>
              <a:t>Μπορεί να μοιράζεται ιδέες και προτάσεις, οι οποίες μπορεί να είναι ωφέλιμες για τη διαχείριση και την διαπαιδαγώγηση του μαθητή στο σχολείο αλλά και την ενίσχυση της σχολικής του επίδοση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ολύ σημαντική  είναι η  συνεχής ενημέρωση και αλληλοτροφοδότηση  των εκπαιδευτικών από τους γονείς για την ιατρική και αναπτυξιακή πρόοδο των μαθητών. </a:t>
            </a:r>
            <a:br>
              <a:rPr sz="2800"/>
            </a:b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διαμφισβήτητα, ο ρόλος των γονέων και των κηδεμόνων στην προώθηση των</a:t>
            </a:r>
            <a:br>
              <a:rPr sz="2800"/>
            </a:br>
            <a:r>
              <a:rPr b="0" lang="el-GR" sz="2800" spc="-1" strike="noStrike">
                <a:solidFill>
                  <a:srgbClr val="000000"/>
                </a:solidFill>
                <a:latin typeface="Times New Roman"/>
              </a:rPr>
              <a:t>διαδικασιών της ένταξης αναγνωρίζεται ως καθοριστικός . </a:t>
            </a:r>
            <a:br>
              <a:rPr sz="2800"/>
            </a:br>
            <a:r>
              <a:rPr b="0" lang="el-GR" sz="2800" spc="-1" strike="noStrike">
                <a:solidFill>
                  <a:srgbClr val="000000"/>
                </a:solidFill>
                <a:latin typeface="Times New Roman"/>
              </a:rPr>
              <a:t>Ο ρόλος των γονέων και των κηδεμόνων  καθορίζεται και διαμορφώνεται από το ευρύτερο εκπαιδευτικό πλαίσιο.</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ι γονείς, προκειμένου να δημιουργηθεί ένα γόνιμο και πρόσφορο έδαφος για την επίτευξη ειλικρινούς και αποτελεσματικής επικοινωνίας είναι αποδεκτό να ζητούν επεξηγήσεις  για οποιοδήποτε ζήτημα ή τομέα στο οποίο έχουν απορία ή χρειάζονται κάποια διευκρίνηση από τον εκπαιδευτικό ή το διευθυντή του σχολείου.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γονέας έχει  δικαίωμα αλλά και την ευθύνη ταυτόχρονα, να πληροφορείται για τα προγράμματα τα οποία θα μπορούσαν να παρέχονται και να ωφελήσουν το παιδί του ανάλογα με τις ανάγκες και τις δυνατότητές του. </a:t>
            </a:r>
            <a:br>
              <a:rPr sz="2800"/>
            </a:br>
            <a:r>
              <a:rPr b="0" lang="el-GR" sz="2800" spc="-1" strike="noStrike">
                <a:solidFill>
                  <a:srgbClr val="000000"/>
                </a:solidFill>
                <a:latin typeface="Times New Roman"/>
              </a:rPr>
              <a:t>Να ερευνά και να ενημερώνεται για τυχόν υλικά, πόρους και οτιδήποτε πρόγραμμα θα μπορούσαν να επηρεάσουν θετικά το παιδί και εκτός του σχολικού πλαισίου (Tien, 2004).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η εμπλοκή των γονέων στην εκπαιδευτική διαδικασία, είτε ως οργανωμένη παρέμβαση του συλλόγου γονέων και κηδεμόνων είτε ως ατομική πρωτοβουλία, συμβάλλει στην αποτελεσματικότερη ενημέρωση των εκπαιδευτικών σχετικά με τις ανάγκες και τις δυνατότητες των παιδιών, καθώς οι γονείς γνωρίζουν τις ανάγκες των παιδιών τους καλύτερα από οποιοδήποτε άλλο πρόσωπο.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ούς τους λόγους, όπως υποστηρίζει ο </a:t>
            </a:r>
            <a:r>
              <a:rPr b="0" lang="en-US" sz="2800" spc="-1" strike="noStrike">
                <a:solidFill>
                  <a:srgbClr val="000000"/>
                </a:solidFill>
                <a:latin typeface="Times New Roman"/>
              </a:rPr>
              <a:t>Stiller</a:t>
            </a:r>
            <a:r>
              <a:rPr b="0" lang="el-GR" sz="2800" spc="-1" strike="noStrike">
                <a:solidFill>
                  <a:srgbClr val="000000"/>
                </a:solidFill>
                <a:latin typeface="Times New Roman"/>
              </a:rPr>
              <a:t> (2004,  Σούλης, 2008), οι γονείς σήμερα θεωρούνται οι πιο συνεπείς υποστηρικτές της εκπαίδευσης των παιδιών τους, το σημείο-κλειδί της σχολικής ένταξης προσφέροντας πολύτιμες πληροφορίες στον εκπαιδευτικό.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180720" y="1392120"/>
            <a:ext cx="8783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θεωρείται ότι είναι θετικός γιατί συμβάλλει στην πιο ολοκληρωμένη και σφαιρική κατανόηση της προσωπικότητας των μαθητών, αλλά και στη δημιουργία των αναγκαίων συνθηκών οι οποίες επιτρέπουν την αποτελεσματική εφαρμογή των πρακτικών της συνεκπαίδευσης, με βάση τους </a:t>
            </a:r>
            <a:r>
              <a:rPr b="0" lang="en-US" sz="2800" spc="-1" strike="noStrike">
                <a:solidFill>
                  <a:srgbClr val="000000"/>
                </a:solidFill>
                <a:latin typeface="Times New Roman"/>
              </a:rPr>
              <a:t>Hoover</a:t>
            </a:r>
            <a:r>
              <a:rPr b="0" lang="el-GR" sz="2800" spc="-1" strike="noStrike">
                <a:solidFill>
                  <a:srgbClr val="000000"/>
                </a:solidFill>
                <a:latin typeface="Times New Roman"/>
              </a:rPr>
              <a:t>-</a:t>
            </a:r>
            <a:r>
              <a:rPr b="0" lang="en-US" sz="2800" spc="-1" strike="noStrike">
                <a:solidFill>
                  <a:srgbClr val="000000"/>
                </a:solidFill>
                <a:latin typeface="Times New Roman"/>
              </a:rPr>
              <a:t>Dempsey et al</a:t>
            </a:r>
            <a:r>
              <a:rPr b="0" lang="el-GR" sz="2800" spc="-1" strike="noStrike">
                <a:solidFill>
                  <a:srgbClr val="000000"/>
                </a:solidFill>
                <a:latin typeface="Times New Roman"/>
              </a:rPr>
              <a:t>.2008, Σούλης, 2008). </a:t>
            </a:r>
            <a:br>
              <a:rPr sz="2800"/>
            </a:br>
            <a:r>
              <a:rPr b="0" lang="el-GR" sz="2800" spc="-1" strike="noStrike">
                <a:solidFill>
                  <a:srgbClr val="000000"/>
                </a:solidFill>
                <a:latin typeface="Times New Roman"/>
              </a:rPr>
              <a:t>Με αυτό τον τρόπο, οι γονείς των παιδιών με ειδικές ανάγκες μπορούν να λειτουργήσουν ως συνεχιστές του έργου του εκπαιδευτικού στο σπίτι, σύμφωνα φυσικά με τις υποδείξεις του. </a:t>
            </a:r>
            <a:br>
              <a:rPr sz="2800"/>
            </a:b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ρευνητές ( </a:t>
            </a:r>
            <a:r>
              <a:rPr b="0" lang="en-US" sz="2800" spc="-1" strike="noStrike">
                <a:solidFill>
                  <a:srgbClr val="000000"/>
                </a:solidFill>
                <a:latin typeface="Times New Roman"/>
              </a:rPr>
              <a:t>Soodak</a:t>
            </a:r>
            <a:r>
              <a:rPr b="0" lang="el-GR" sz="2800" spc="-1" strike="noStrike">
                <a:solidFill>
                  <a:srgbClr val="000000"/>
                </a:solidFill>
                <a:latin typeface="Times New Roman"/>
              </a:rPr>
              <a:t>, 2003, Σούλης, 2008), υποστηρίζουν ότι για να είναι αποτελεσματικές οι παραπάνω πρακτικές, θα πρέπει όλοι οι εμπλεκόμενοι να έχουν θέσει κοινούς στόχους και να μην διστάζουν να αναλαμβάνουν και να εκτελούν ευθύνες και αρμοδιότητες, ενώ η μεταξύ τους σχέση θα πρέπει να στηρίζεται στον σεβασμό, την ειλικρίνεια και την αμοιβαία εμπιστοσύνη.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ομένως, μια από τις σημαντικότερες στρατηγικές </a:t>
            </a:r>
            <a:r>
              <a:rPr b="1" lang="el-GR" sz="2800" spc="-1" strike="noStrike">
                <a:solidFill>
                  <a:srgbClr val="000000"/>
                </a:solidFill>
                <a:latin typeface="Times New Roman"/>
              </a:rPr>
              <a:t>της πολιτικής του Σχολείου για Όλους </a:t>
            </a:r>
            <a:br>
              <a:rPr sz="2800"/>
            </a:br>
            <a:r>
              <a:rPr b="0" lang="el-GR" sz="2800" spc="-1" strike="noStrike">
                <a:solidFill>
                  <a:srgbClr val="000000"/>
                </a:solidFill>
                <a:latin typeface="Times New Roman"/>
              </a:rPr>
              <a:t>είναι η ενίσχυση των στρατηγικών που εμπλέκουν ουσιαστικά τους γονείς σε όλες τις δραστηριότητές του, αναγνωρίζοντας τη συμμετοχή τους ως υποχρέωσή τους και όχι μόνο ως δικαίωμά τους, προκειμένου να συμβάλουν στην ανάπτυξη της προσωπικότητας και την πρόοδο του παιδιού τους.</a:t>
            </a:r>
            <a:br>
              <a:rPr sz="2800"/>
            </a:b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Ειδικότερα, ένα σχολείο που προωθεί την ένταξη και τη συνεκπαίδευση θα πρέπει να προσανατολίζεται σε τρόπους εκπαίδευσης των γονέων, όπως και εμπλουτισμού των γνώσεών τους ώστε να αναβαθμιστεί  ποιοτικά ο ρόλος τους.  (</a:t>
            </a:r>
            <a:r>
              <a:rPr b="0" lang="en-US" sz="2800" spc="-1" strike="noStrike">
                <a:solidFill>
                  <a:srgbClr val="000000"/>
                </a:solidFill>
                <a:latin typeface="Times New Roman"/>
              </a:rPr>
              <a:t>Banicky</a:t>
            </a:r>
            <a:r>
              <a:rPr b="0" lang="el-GR" sz="2800" spc="-1" strike="noStrike">
                <a:solidFill>
                  <a:srgbClr val="000000"/>
                </a:solidFill>
                <a:latin typeface="Times New Roman"/>
              </a:rPr>
              <a:t> &amp; </a:t>
            </a:r>
            <a:r>
              <a:rPr b="0" lang="en-US" sz="2800" spc="-1" strike="noStrike">
                <a:solidFill>
                  <a:srgbClr val="000000"/>
                </a:solidFill>
                <a:latin typeface="Times New Roman"/>
              </a:rPr>
              <a:t>Foss</a:t>
            </a:r>
            <a:r>
              <a:rPr b="0" lang="el-GR" sz="2800" spc="-1" strike="noStrike">
                <a:solidFill>
                  <a:srgbClr val="000000"/>
                </a:solidFill>
                <a:latin typeface="Times New Roman"/>
              </a:rPr>
              <a:t> 2008, Σούλης, 2008). </a:t>
            </a:r>
            <a:br>
              <a:rPr sz="2800"/>
            </a:b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πό κοινού εργασία γονέων και εκπαιδευτικών εξασφαλίζει την αμοιβαία υποστήριξη και ικανοποίηση και των δυο πλευρών, οδηγώντας τα παιδιά σε θετικές αλλαγές. </a:t>
            </a:r>
            <a:br>
              <a:rPr sz="2800"/>
            </a:br>
            <a:r>
              <a:rPr b="0" lang="el-GR" sz="2800" spc="-1" strike="noStrike">
                <a:solidFill>
                  <a:srgbClr val="000000"/>
                </a:solidFill>
                <a:latin typeface="Times New Roman"/>
              </a:rPr>
              <a:t>Με αυτό τον τρόπο, επιτυγχάνεται όχι μόνο η απόδοση αλλά η αυτοεκτίμηση, η συμμετοχή και η βελτίωση  της συμπεριφοράς των παιδιών με ειδικές ανάγκες</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τρόπος που μπορεί να επιτευχθεί αυτή η συνεργασία είναι οι γονείς να ενισχύσουν  τη συμμετοχή  των παιδιών τους σε δραστηριότητες με παιδιά της ίδιας ηλικίας, με συνομηλίκους  αλλά με διαφορετικές ικανότητες. Επίσης, τα παιδιά πρέπει να ενθαρρύνονται να συνάπτουν φιλίες με τους συμμαθητές τους ή με άλλα παιδιά από τη γειτονιά.  </a:t>
            </a:r>
            <a:br>
              <a:rPr sz="2800"/>
            </a:b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η δεκαετία του ’60, οι γονείς αντιμετωπίζονταν ως ένα επιπρόσθετο «πρόβλημα» που έπρεπε να το διαχειριστούν οι εκπαιδευτικοί.</a:t>
            </a:r>
            <a:br>
              <a:rPr sz="2800"/>
            </a:br>
            <a:r>
              <a:rPr b="0" lang="el-GR" sz="2800" spc="-1" strike="noStrike">
                <a:solidFill>
                  <a:srgbClr val="000000"/>
                </a:solidFill>
                <a:latin typeface="Times New Roman"/>
              </a:rPr>
              <a:t> Άρα πέρα από τους μαθητές αμεα υπήρχε και το ζήτημα του χειρισμού των γονέων. </a:t>
            </a:r>
            <a:br>
              <a:rPr sz="2800"/>
            </a:br>
            <a:r>
              <a:rPr b="0" lang="el-GR" sz="2800" spc="-1" strike="noStrike">
                <a:solidFill>
                  <a:srgbClr val="000000"/>
                </a:solidFill>
                <a:latin typeface="Times New Roman"/>
              </a:rPr>
              <a:t>Σταδιακά, από τη δεκαετία του ’70 και έπειτα, </a:t>
            </a:r>
            <a:br>
              <a:rPr sz="2800"/>
            </a:br>
            <a:r>
              <a:rPr b="0" lang="el-GR" sz="2800" spc="-1" strike="noStrike">
                <a:solidFill>
                  <a:srgbClr val="000000"/>
                </a:solidFill>
                <a:latin typeface="Times New Roman"/>
              </a:rPr>
              <a:t>ο ρόλος που δόθηκε στους γονείς ήταν ο ρόλος του</a:t>
            </a:r>
            <a:br>
              <a:rPr sz="2800"/>
            </a:br>
            <a:r>
              <a:rPr b="0" lang="el-GR" sz="2800" spc="-1" strike="noStrike">
                <a:solidFill>
                  <a:srgbClr val="000000"/>
                </a:solidFill>
                <a:latin typeface="Times New Roman"/>
              </a:rPr>
              <a:t>εκπαιδευόμενου.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Ιδιαίτερα σημαντικό εξίσου είναι οι γονείς να συζητούν τους στόχους, τις προσδοκίες και τις προτιμήσεις τους για το παιδί τους με τους εκπαιδευτικούς, τους θεραπευτές και άλλους ειδικούς πριν αποφασίσουν στο σχολείο ποιο εκπαιδευτικό πρόγραμμα θα ακολουθήσουν. Ακόμα, οι γονείς χρειάζεται να γνωρίζουν πλήρως τα δικαιώματα των παιδιών τους ώστε να συμμετέχουν σε μια συμπεριληπτική εκπαίδευση (</a:t>
            </a:r>
            <a:r>
              <a:rPr b="0" lang="en-US" sz="2800" spc="-1" strike="noStrike">
                <a:solidFill>
                  <a:srgbClr val="000000"/>
                </a:solidFill>
                <a:latin typeface="Times New Roman"/>
              </a:rPr>
              <a:t>de Boer et al</a:t>
            </a:r>
            <a:r>
              <a:rPr b="0" lang="el-GR" sz="2800" spc="-1" strike="noStrike">
                <a:solidFill>
                  <a:srgbClr val="000000"/>
                </a:solidFill>
                <a:latin typeface="Times New Roman"/>
              </a:rPr>
              <a:t>., 2010).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κάποιες φορές τα σχολεία δεν μπορούν να υποστηρίξουν την επιθυμία μιας οικογένειας για ένταξη, γι‘ αυτό οι γονείς και η οικογένεια θα πρέπει να εξηγήσουν τον λόγο για τον οποίο πιστεύουν ότι η συμπεριληπτική εκπαίδευση είναι απαραίτητη για τα παιδιά τους. Εκτός από αυτό, οι γονείς μπορούν να βοηθηθούν συναντώντας έναν ειδικό για να τους προσφέρει πληροφορίες όσον αφορά τα πλεονεκτήματα της εκπαίδευσης της συμπερίληψης.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σε σχολικό επίπεδο οι γονείς μπορούν να προσπαθήσουν να διευκολύνουν την ένταξη με ποικίλους τρόπους, για παράδειγμα τροποποιώντας το αναλυτικό πρόγραμμα του παιδιού τους, βοηθώντας τα παιδιά τους μέσα στην τάξη ή παρέχοντας υλικό στους εκπαιδευτικούς σχετικά με τις δυσλειτουργία του παιδιού τους, έτσι ώστε  εκείνοι να ενημερωθούν και να διευκολυνθεί το έργο του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Η συνεργασία των γονέων με τους εκπαιδευτικούς καθίσταται συχνά προβληματική, επειδή οι γονείς υποστηρίζουν ότι οι εκπαιδευτικοί δεν εκτιμούν τις απόψεις ή τις γνώσεις τους, δεν τους σέβονται ούτε θεωρούν αναγκαίο να τους ενημερώνουν για τις αποφάσεις που λαμβάνουν όσον αφορά την εκπαίδευση των παιδιών τους, σύμφωνα με τους </a:t>
            </a:r>
            <a:r>
              <a:rPr b="0" lang="en-US" sz="2800" spc="-1" strike="noStrike">
                <a:solidFill>
                  <a:srgbClr val="000000"/>
                </a:solidFill>
                <a:latin typeface="Times New Roman"/>
              </a:rPr>
              <a:t>Pruitt et al</a:t>
            </a:r>
            <a:r>
              <a:rPr b="0" lang="el-GR" sz="2800" spc="-1" strike="noStrike">
                <a:solidFill>
                  <a:srgbClr val="000000"/>
                </a:solidFill>
                <a:latin typeface="Times New Roman"/>
              </a:rPr>
              <a:t>. ( Σούλης, 2008).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ρικές φορές επίσης, οι γονείς δηλώνουν ότι το προσωπικό του σχολείου τους συμπεριφέρεται με εχθρότητα ή προσπαθεί να τους χειραγωγήσει, αντιμετωπίζοντάς τους σαν να είναι και οι ίδιοι ανάπηροι, ενώ ακόμα παρατηρούν ότι δεν διαθέτουν επαρκή χρόνο για την ενημέρωση τους σχετικά με την πρόοδο των παιδιών τους.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όμοιες ενστάσεις και προβλήματα διατυπώνονται και από την πλευρά των εκπαιδευτικών σε σχέση με τους γονείς. </a:t>
            </a:r>
            <a:br>
              <a:rPr sz="2800"/>
            </a:br>
            <a:r>
              <a:rPr b="0" lang="el-GR" sz="2800" spc="-1" strike="noStrike">
                <a:solidFill>
                  <a:srgbClr val="000000"/>
                </a:solidFill>
                <a:latin typeface="Times New Roman"/>
              </a:rPr>
              <a:t>Παρ'όλα αυτά, το σχολείο θα πρέπει να υποστηρίζει την εφαρμογή πρακτικών ενίσχυσης και βελτίωσης της συνεργασίας μεταξύ γονέων και εκπαιδευτικών.</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 σχετική βιβλιογραφία προκύπτει πως οι γονείς των μαθητών αμεα, και</a:t>
            </a:r>
            <a:br>
              <a:rPr sz="2800"/>
            </a:br>
            <a:r>
              <a:rPr b="0" lang="el-GR" sz="2800" spc="-1" strike="noStrike">
                <a:solidFill>
                  <a:srgbClr val="000000"/>
                </a:solidFill>
                <a:latin typeface="Times New Roman"/>
              </a:rPr>
              <a:t>κυρίως οι μητέρες, αν και υπάρχουν διαφορετικά κίνητρα από οικογένεια σε οικογένεια,</a:t>
            </a:r>
            <a:br>
              <a:rPr sz="2800"/>
            </a:br>
            <a:r>
              <a:rPr b="0" lang="el-GR" sz="2800" spc="-1" strike="noStrike">
                <a:solidFill>
                  <a:srgbClr val="000000"/>
                </a:solidFill>
                <a:latin typeface="Times New Roman"/>
              </a:rPr>
              <a:t>είναι θετικοί, σε θεωρητικό επίπεδο, ως προς την προώθηση της κοινωνικής ένταξης των</a:t>
            </a:r>
            <a:br>
              <a:rPr sz="2800"/>
            </a:br>
            <a:r>
              <a:rPr b="0" lang="el-GR" sz="2800" spc="-1" strike="noStrike">
                <a:solidFill>
                  <a:srgbClr val="000000"/>
                </a:solidFill>
                <a:latin typeface="Times New Roman"/>
              </a:rPr>
              <a:t>παιδιών τους στο πλαίσιο του γενικού σχολείου.</a:t>
            </a: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ωστόσο, πως στην πράξη διατυπώνουν επιφυλάξεις και ανησυχούν για τη διαδικασία</a:t>
            </a:r>
            <a:br>
              <a:rPr sz="2800"/>
            </a:br>
            <a:r>
              <a:rPr b="0" lang="el-GR" sz="2800" spc="-1" strike="noStrike">
                <a:solidFill>
                  <a:srgbClr val="000000"/>
                </a:solidFill>
                <a:latin typeface="Times New Roman"/>
              </a:rPr>
              <a:t>κοινωνικοποίησης και τη συναισθηματική ανάπτυξη των παιδιών τους καθώς και για την ποιότητα των παρεχόμενων υπηρεσιών</a:t>
            </a:r>
            <a:br>
              <a:rPr sz="2800"/>
            </a:br>
            <a:r>
              <a:rPr b="0" lang="el-GR" sz="2800" spc="-1" strike="noStrike">
                <a:solidFill>
                  <a:srgbClr val="000000"/>
                </a:solidFill>
                <a:latin typeface="Times New Roman"/>
              </a:rPr>
              <a:t>που αυτά μπορούν να λάβουν ως μαθητές του γενικού σχολείου.</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Θεωρούν πιθανό πως οι διαδικασίες συνύπαρξης με τα άλλα παιδιά του γενικού σχολέιου</a:t>
            </a:r>
            <a:br>
              <a:rPr sz="2800"/>
            </a:br>
            <a:r>
              <a:rPr b="0" lang="el-GR" sz="2800" spc="-1" strike="noStrike">
                <a:solidFill>
                  <a:srgbClr val="000000"/>
                </a:solidFill>
                <a:latin typeface="Times New Roman"/>
              </a:rPr>
              <a:t> μπορεί να ενισχύσουν την απόρριψή των παιδιών τους από τους συνομηλίκους, στις περιπτώσεις που η ένταξη δεν γίνεται συστηματικά και οργανωμένα. </a:t>
            </a:r>
            <a:br>
              <a:rPr sz="2800"/>
            </a:b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φόβοι τους θεωρούνται ρεαλιστικοί και επιβεβαιώνονται από την σχολική πραγματικότητα, </a:t>
            </a:r>
            <a:br>
              <a:rPr sz="2800"/>
            </a:br>
            <a:r>
              <a:rPr b="0" lang="el-GR" sz="2800" spc="-1" strike="noStrike">
                <a:solidFill>
                  <a:srgbClr val="000000"/>
                </a:solidFill>
                <a:latin typeface="Times New Roman"/>
              </a:rPr>
              <a:t>αφού πολλοί γονείς</a:t>
            </a:r>
            <a:br>
              <a:rPr sz="2800"/>
            </a:br>
            <a:r>
              <a:rPr b="0" lang="el-GR" sz="2800" spc="-1" strike="noStrike">
                <a:solidFill>
                  <a:srgbClr val="000000"/>
                </a:solidFill>
                <a:latin typeface="Times New Roman"/>
              </a:rPr>
              <a:t>έχοντας αρνητικές εμπειρίες από παρεμβάσεις συνύπαρξης, προτιμούν τα παιδιά τους να</a:t>
            </a:r>
            <a:br>
              <a:rPr sz="2800"/>
            </a:br>
            <a:r>
              <a:rPr b="0" lang="el-GR" sz="2800" spc="-1" strike="noStrike">
                <a:solidFill>
                  <a:srgbClr val="000000"/>
                </a:solidFill>
                <a:latin typeface="Times New Roman"/>
              </a:rPr>
              <a:t>φοιτούν σε ειδικό σχολείο προβάλλοντας ως επιχείρημα το γεγονός πως τα συγκεκριμένα</a:t>
            </a:r>
            <a:br>
              <a:rPr sz="2800"/>
            </a:br>
            <a:r>
              <a:rPr b="0" lang="el-GR" sz="2800" spc="-1" strike="noStrike">
                <a:solidFill>
                  <a:srgbClr val="000000"/>
                </a:solidFill>
                <a:latin typeface="Times New Roman"/>
              </a:rPr>
              <a:t>σχολεία στελεχώνονται</a:t>
            </a:r>
            <a:br>
              <a:rPr sz="2800"/>
            </a:br>
            <a:r>
              <a:rPr b="0" lang="el-GR" sz="2800" spc="-1" strike="noStrike">
                <a:solidFill>
                  <a:srgbClr val="000000"/>
                </a:solidFill>
                <a:latin typeface="Times New Roman"/>
              </a:rPr>
              <a:t> με ειδικό εκπαιδευτικό προσωπικό</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36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κτός, λοιπόν, από τους μαθητές έπρεπε να εκπαιδευτούν και οι γονείς, να μάθουν </a:t>
            </a:r>
            <a:br>
              <a:rPr sz="2800"/>
            </a:br>
            <a:r>
              <a:rPr b="0" lang="el-GR" sz="2800" spc="-1" strike="noStrike">
                <a:solidFill>
                  <a:srgbClr val="000000"/>
                </a:solidFill>
                <a:latin typeface="Times New Roman"/>
              </a:rPr>
              <a:t>να αντιμετωπίζουν τις δυσκολίες που προκύπτου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Έτσι, οι γονείς σταδιακά έγιναν «συμμέτοχοι» στις διαδικασίες ένταξη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Αρκετοί ερευνητές τονίζουν πως η ουσιαστική επικοινωνία των εκπαιδευτικών με τους  γονείς, η αποδοχή από τους γονείς του ρόλου τους</a:t>
            </a:r>
            <a:br>
              <a:rPr sz="2800"/>
            </a:br>
            <a:r>
              <a:rPr b="0" lang="el-GR" sz="2800" spc="-1" strike="noStrike">
                <a:solidFill>
                  <a:srgbClr val="000000"/>
                </a:solidFill>
                <a:latin typeface="Times New Roman"/>
              </a:rPr>
              <a:t>και η ανάληψη της προσωπικής ευθύνης που απορρέει από αυτόν το ρόλο  καθώς και η πλαισίωση των διαδικασιών ένταξης από ειδικούς επιστήμονες</a:t>
            </a:r>
            <a:br>
              <a:rPr sz="2800"/>
            </a:br>
            <a:r>
              <a:rPr b="0" lang="el-GR" sz="2800" spc="-1" strike="noStrike">
                <a:solidFill>
                  <a:srgbClr val="000000"/>
                </a:solidFill>
                <a:latin typeface="Times New Roman"/>
              </a:rPr>
              <a:t>(π.χ. το σχολικό ψυχολόγο)  ενδυναμώνουν και ενεργοποιούν τους γονείς, συμβάλλοντας θετικά στην προώθηση των διαδικασιών κοινωνικής ένταξης</a:t>
            </a:r>
            <a:br>
              <a:rPr sz="2800"/>
            </a:br>
            <a:r>
              <a:rPr b="0" lang="el-GR" sz="2800" spc="-1" strike="noStrike">
                <a:solidFill>
                  <a:srgbClr val="000000"/>
                </a:solidFill>
                <a:latin typeface="Times New Roman"/>
              </a:rPr>
              <a:t>των μαθητών αμεα.</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σον αφορά τους γονείς των παιδιών με τυπική ανάπτυξη, παρουσιάζονται εξίσου</a:t>
            </a:r>
            <a:br>
              <a:rPr sz="2800"/>
            </a:br>
            <a:r>
              <a:rPr b="0" lang="el-GR" sz="2800" spc="-1" strike="noStrike">
                <a:solidFill>
                  <a:srgbClr val="000000"/>
                </a:solidFill>
                <a:latin typeface="Times New Roman"/>
              </a:rPr>
              <a:t>θετικοί ως προς την προώθηση προγραμμάτων κοινωνικής ένταξης των μαθητών αμεα, αντιλαμβανόμενοι τα οφέλη που μπορεί να αποκομίσουν τα παιδιά τους, κυρίως στον κοινωνικό και συναισθηματικό τομέα. </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Έχουν την πεποίθηση πως, με τη</a:t>
            </a:r>
            <a:br>
              <a:rPr sz="2800"/>
            </a:br>
            <a:r>
              <a:rPr b="0" lang="el-GR" sz="2800" spc="-1" strike="noStrike">
                <a:solidFill>
                  <a:srgbClr val="000000"/>
                </a:solidFill>
                <a:latin typeface="Times New Roman"/>
              </a:rPr>
              <a:t>συμμετοχή στις παραπάνω δραστηριότητες, θα ευαισθητοποιηθούν ως προς την</a:t>
            </a:r>
            <a:br>
              <a:rPr sz="2800"/>
            </a:br>
            <a:r>
              <a:rPr b="0" lang="el-GR" sz="2800" spc="-1" strike="noStrike">
                <a:solidFill>
                  <a:srgbClr val="000000"/>
                </a:solidFill>
                <a:latin typeface="Times New Roman"/>
              </a:rPr>
              <a:t>αναπηρία και θα αποδεχτούν τη διαφορετικότητ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υνοϊκή στάση που αναπτύσσουν οι γονείς επηρεάζεται από</a:t>
            </a:r>
            <a:br>
              <a:rPr sz="2800"/>
            </a:br>
            <a:r>
              <a:rPr b="0" lang="el-GR" sz="2800" spc="-1" strike="noStrike">
                <a:solidFill>
                  <a:srgbClr val="000000"/>
                </a:solidFill>
                <a:latin typeface="Times New Roman"/>
              </a:rPr>
              <a:t>το υψηλό κοινωνικό-οικονομικό επίπεδο της οικογένειας, </a:t>
            </a:r>
            <a:br>
              <a:rPr sz="2800"/>
            </a:br>
            <a:r>
              <a:rPr b="0" lang="el-GR" sz="2800" spc="-1" strike="noStrike">
                <a:solidFill>
                  <a:srgbClr val="000000"/>
                </a:solidFill>
                <a:latin typeface="Times New Roman"/>
              </a:rPr>
              <a:t>το υψηλό μορφωτικό επίπεδο, </a:t>
            </a:r>
            <a:br>
              <a:rPr sz="2800"/>
            </a:br>
            <a:r>
              <a:rPr b="0" lang="el-GR" sz="2800" spc="-1" strike="noStrike">
                <a:solidFill>
                  <a:srgbClr val="000000"/>
                </a:solidFill>
                <a:latin typeface="Times New Roman"/>
              </a:rPr>
              <a:t>τις  θετικές εμπειρίες από την ένταξη μαθητών αμεα και άλλους  παράγοντες.</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250920" y="1052640"/>
            <a:ext cx="8640720" cy="465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η μεγάλη πλειονότητα</a:t>
            </a:r>
            <a:br>
              <a:rPr sz="2800"/>
            </a:br>
            <a:r>
              <a:rPr b="0" lang="el-GR" sz="2800" spc="-1" strike="noStrike">
                <a:solidFill>
                  <a:srgbClr val="000000"/>
                </a:solidFill>
                <a:latin typeface="Times New Roman"/>
              </a:rPr>
              <a:t>των γονέων με παιδιά που φοιτούν στο γενικό σχολείο θεωρούν ότι οι πρακτικές ένταξης</a:t>
            </a:r>
            <a:br>
              <a:rPr sz="2800"/>
            </a:br>
            <a:r>
              <a:rPr b="0" lang="el-GR" sz="2800" spc="-1" strike="noStrike">
                <a:solidFill>
                  <a:srgbClr val="000000"/>
                </a:solidFill>
                <a:latin typeface="Times New Roman"/>
              </a:rPr>
              <a:t>προωθούν την αποδοχή των παιδιών αμεα τόσο στο σχολικό πλαίσιο όσο και στην ευρύτερη τοπική κοινότητα, παρέχουν περισσότερες ευκαιρίες συμμετοχής των μαθητών με ειδικές εκπαιδευτικές ανάγκες σε ποίκιλες κοινωνικές δραστηριότητες και τους προετοιμάζουν αποδοτικότερα για την μετέπειτα κοινωνική τους ένταξη ως ενήλικες</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οι γονείς με παιδιά με τυπική ανάπτυξη ανησυχούν για την ακαδημαϊκή</a:t>
            </a:r>
            <a:br>
              <a:rPr sz="2800"/>
            </a:br>
            <a:r>
              <a:rPr b="0" lang="el-GR" sz="2800" spc="-1" strike="noStrike">
                <a:solidFill>
                  <a:srgbClr val="000000"/>
                </a:solidFill>
                <a:latin typeface="Times New Roman"/>
              </a:rPr>
              <a:t>πρόοδο των παιδιών τους και την περαιτέρω γνωστική τους ανάπτυξη στις περιπτώσεις</a:t>
            </a:r>
            <a:br>
              <a:rPr sz="2800"/>
            </a:br>
            <a:r>
              <a:rPr b="0" lang="el-GR" sz="2800" spc="-1" strike="noStrike">
                <a:solidFill>
                  <a:srgbClr val="000000"/>
                </a:solidFill>
                <a:latin typeface="Times New Roman"/>
              </a:rPr>
              <a:t>που φοιτούν μαζί με  μαθητές αμεα στην ίδια τάξη.  </a:t>
            </a:r>
            <a:br>
              <a:rPr sz="2800"/>
            </a:b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ανησυχία πηγάζει από την υπόθεση που κάνουν </a:t>
            </a:r>
            <a:br>
              <a:rPr sz="2800"/>
            </a:br>
            <a:r>
              <a:rPr b="0" lang="el-GR" sz="2800" spc="-1" strike="noStrike">
                <a:solidFill>
                  <a:srgbClr val="000000"/>
                </a:solidFill>
                <a:latin typeface="Times New Roman"/>
              </a:rPr>
              <a:t>πως η έμφαση στις αρχές της</a:t>
            </a:r>
            <a:br>
              <a:rPr sz="2800"/>
            </a:br>
            <a:r>
              <a:rPr b="0" lang="el-GR" sz="2800" spc="-1" strike="noStrike">
                <a:solidFill>
                  <a:srgbClr val="000000"/>
                </a:solidFill>
                <a:latin typeface="Times New Roman"/>
              </a:rPr>
              <a:t>συνεργασίας και της αποδοχής εντός του σχολικού πλαισίου μπορεί να θέσει εμπόδια</a:t>
            </a:r>
            <a:br>
              <a:rPr sz="2800"/>
            </a:br>
            <a:r>
              <a:rPr b="0" lang="el-GR" sz="2800" spc="-1" strike="noStrike">
                <a:solidFill>
                  <a:srgbClr val="000000"/>
                </a:solidFill>
                <a:latin typeface="Times New Roman"/>
              </a:rPr>
              <a:t>στην ακαδημαϊκή πρόοδο των μαθητών.</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θεώρηση συνδέεται με την</a:t>
            </a:r>
            <a:br>
              <a:rPr sz="2800"/>
            </a:br>
            <a:r>
              <a:rPr b="0" lang="el-GR" sz="2800" spc="-1" strike="noStrike">
                <a:solidFill>
                  <a:srgbClr val="000000"/>
                </a:solidFill>
                <a:latin typeface="Times New Roman"/>
              </a:rPr>
              <a:t>υιοθέτηση του ιατρικού μοντέλου  που ανάγει τη διαχείριση των εκπαιδευτικών δυσκολιών σε υπόθεση που αφορά τη σχέση του εκπαιδευτικού με κάθε μαθητή ξεχωριστά, υποβαθμίζοντας τις δυνατότητες μάθησης που παρέχουν οι</a:t>
            </a:r>
            <a:br>
              <a:rPr sz="2800"/>
            </a:br>
            <a:r>
              <a:rPr b="0" lang="el-GR" sz="2800" spc="-1" strike="noStrike">
                <a:solidFill>
                  <a:srgbClr val="000000"/>
                </a:solidFill>
                <a:latin typeface="Times New Roman"/>
              </a:rPr>
              <a:t>συλλογικές σχολικές διαδικασίες.</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βιβλιογραφική ανασκόπηση δείχνει πως εκδηλώνονται διαφορετικές στάσεις</a:t>
            </a:r>
            <a:br>
              <a:rPr sz="2800"/>
            </a:br>
            <a:r>
              <a:rPr b="0" lang="el-GR" sz="2800" spc="-1" strike="noStrike">
                <a:solidFill>
                  <a:srgbClr val="000000"/>
                </a:solidFill>
                <a:latin typeface="Times New Roman"/>
              </a:rPr>
              <a:t>από τους πατεράδες και τις μητέρες των μαθητών με τυπική ανάπτυξη αναφορικά με την</a:t>
            </a:r>
            <a:br>
              <a:rPr sz="2800"/>
            </a:br>
            <a:r>
              <a:rPr b="0" lang="el-GR" sz="2800" spc="-1" strike="noStrike">
                <a:solidFill>
                  <a:srgbClr val="000000"/>
                </a:solidFill>
                <a:latin typeface="Times New Roman"/>
              </a:rPr>
              <a:t>κοινωνική ένταξη των μαθητών αμεα.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ατεράδες φαίνεται να είναι θετικοί στην</a:t>
            </a:r>
            <a:br>
              <a:rPr sz="2800"/>
            </a:br>
            <a:r>
              <a:rPr b="0" lang="el-GR" sz="2800" spc="-1" strike="noStrike">
                <a:solidFill>
                  <a:srgbClr val="000000"/>
                </a:solidFill>
                <a:latin typeface="Times New Roman"/>
              </a:rPr>
              <a:t>ιδέα της κοινωνικής ένταξης και να ενθαρρύνουν την ανάπτυξη δεσμών ανάμεσα στα</a:t>
            </a:r>
            <a:br>
              <a:rPr sz="2800"/>
            </a:br>
            <a:r>
              <a:rPr b="0" lang="el-GR" sz="2800" spc="-1" strike="noStrike">
                <a:solidFill>
                  <a:srgbClr val="000000"/>
                </a:solidFill>
                <a:latin typeface="Times New Roman"/>
              </a:rPr>
              <a:t>παιδιά τους και τα παιδιά αμεα αλλά αυτές οι απόψεις μένουν κυρίως σε</a:t>
            </a:r>
            <a:br>
              <a:rPr sz="2800"/>
            </a:br>
            <a:r>
              <a:rPr b="0" lang="el-GR" sz="2800" spc="-1" strike="noStrike">
                <a:solidFill>
                  <a:srgbClr val="000000"/>
                </a:solidFill>
                <a:latin typeface="Times New Roman"/>
              </a:rPr>
              <a:t>θεωρητικό επίπεδο.</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μέρες μας, με την</a:t>
            </a:r>
            <a:r>
              <a:rPr b="0" lang="en-US" sz="2800" spc="-1" strike="noStrike">
                <a:solidFill>
                  <a:srgbClr val="000000"/>
                </a:solidFill>
                <a:latin typeface="Times New Roman"/>
              </a:rPr>
              <a:t> </a:t>
            </a:r>
            <a:r>
              <a:rPr b="0" lang="el-GR" sz="2800" spc="-1" strike="noStrike">
                <a:solidFill>
                  <a:srgbClr val="000000"/>
                </a:solidFill>
                <a:latin typeface="Times New Roman"/>
              </a:rPr>
              <a:t>προώθηση πρακτικών ένταξης, η σχέση που προωθείται ανάμεσα στο σχολείο και τους</a:t>
            </a:r>
            <a:r>
              <a:rPr b="0" lang="en-US" sz="2800" spc="-1" strike="noStrike">
                <a:solidFill>
                  <a:srgbClr val="000000"/>
                </a:solidFill>
                <a:latin typeface="Times New Roman"/>
              </a:rPr>
              <a:t> </a:t>
            </a:r>
            <a:r>
              <a:rPr b="0" lang="el-GR" sz="2800" spc="-1" strike="noStrike">
                <a:solidFill>
                  <a:srgbClr val="000000"/>
                </a:solidFill>
                <a:latin typeface="Times New Roman"/>
              </a:rPr>
              <a:t>γονείς είναι η συνεργατική σχέσ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τον όρο συνεργατική σχέση  ερευνητές </a:t>
            </a:r>
            <a:br>
              <a:rPr sz="2800"/>
            </a:br>
            <a:r>
              <a:rPr b="0" lang="el-GR" sz="2800" spc="-1" strike="noStrike">
                <a:solidFill>
                  <a:srgbClr val="000000"/>
                </a:solidFill>
                <a:latin typeface="Times New Roman"/>
              </a:rPr>
              <a:t>(ο de Boer και οι συνεργάτες του (2010))</a:t>
            </a:r>
            <a:br>
              <a:rPr sz="2800"/>
            </a:br>
            <a:r>
              <a:rPr b="0" lang="el-GR" sz="2800" spc="-1" strike="noStrike">
                <a:solidFill>
                  <a:srgbClr val="000000"/>
                </a:solidFill>
                <a:latin typeface="Times New Roman"/>
              </a:rPr>
              <a:t> αναφέρονται στην ανταλλαγή της γνώσης,</a:t>
            </a:r>
            <a:br>
              <a:rPr sz="2800"/>
            </a:br>
            <a:r>
              <a:rPr b="0" lang="el-GR" sz="2800" spc="-1" strike="noStrike">
                <a:solidFill>
                  <a:srgbClr val="000000"/>
                </a:solidFill>
                <a:latin typeface="Times New Roman"/>
              </a:rPr>
              <a:t>την προώθηση του κοινού σκοπού και </a:t>
            </a:r>
            <a:br>
              <a:rPr sz="2800"/>
            </a:br>
            <a:r>
              <a:rPr b="0" lang="el-GR" sz="2800" spc="-1" strike="noStrike">
                <a:solidFill>
                  <a:srgbClr val="000000"/>
                </a:solidFill>
                <a:latin typeface="Times New Roman"/>
              </a:rPr>
              <a:t>την από κοινού λήψη αποφάσεων ανάμεσα στις</a:t>
            </a:r>
            <a:br>
              <a:rPr sz="2800"/>
            </a:br>
            <a:r>
              <a:rPr b="0" lang="el-GR" sz="2800" spc="-1" strike="noStrike">
                <a:solidFill>
                  <a:srgbClr val="000000"/>
                </a:solidFill>
                <a:latin typeface="Times New Roman"/>
              </a:rPr>
              <a:t>σχολικές δομές και τους γονείς. </a:t>
            </a:r>
            <a:br>
              <a:rPr sz="2800"/>
            </a:b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ητέρες, αντιθέτως, είναι πιο πρόθυμες να συμμετέχουν ουσιαστικά στη διαδικασία της ένταξης και να δεσμευτούν με διαφορετικούς τρόπους όπως καλώντας ένα παιδί αμεα στο σπίτι τους, προσέχοντάς το για κάποιες ώρες</a:t>
            </a:r>
            <a:br>
              <a:rPr sz="2800"/>
            </a:br>
            <a:r>
              <a:rPr b="0" lang="el-GR" sz="2800" spc="-1" strike="noStrike">
                <a:solidFill>
                  <a:srgbClr val="000000"/>
                </a:solidFill>
                <a:latin typeface="Times New Roman"/>
              </a:rPr>
              <a:t>μαζί με το δικό τους παιδί και συνάπτοντας φιλικές σχέσεις με τους γονείς του.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αφοροποίηση αποδίδεται κυρίως στους</a:t>
            </a:r>
            <a:br>
              <a:rPr sz="2800"/>
            </a:br>
            <a:r>
              <a:rPr b="0" lang="el-GR" sz="2800" spc="-1" strike="noStrike">
                <a:solidFill>
                  <a:srgbClr val="000000"/>
                </a:solidFill>
                <a:latin typeface="Times New Roman"/>
              </a:rPr>
              <a:t>ρόλους που έχουν υιοθετηθεί στην οικογένεια, όπου η μητέρα θεωρείται περισσότερο</a:t>
            </a:r>
            <a:br>
              <a:rPr sz="2800"/>
            </a:br>
            <a:r>
              <a:rPr b="0" lang="el-GR" sz="2800" spc="-1" strike="noStrike">
                <a:solidFill>
                  <a:srgbClr val="000000"/>
                </a:solidFill>
                <a:latin typeface="Times New Roman"/>
              </a:rPr>
              <a:t>υπεύθυνη για την συναισθηματική ανάπτυξη των παιδιών σε σχέση με τον πατέρα.</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ες μεταβλητές που επηρεάζουν ευρύτερα τις στάσεις των γονέων μαθητών  αναφορικά με τις εκπαιδευτικές διαδικασίες και την ένταξη είναι </a:t>
            </a:r>
            <a:br>
              <a:rPr sz="2800"/>
            </a:br>
            <a:r>
              <a:rPr b="0" lang="el-GR" sz="2800" spc="-1" strike="noStrike">
                <a:solidFill>
                  <a:srgbClr val="000000"/>
                </a:solidFill>
                <a:latin typeface="Times New Roman"/>
              </a:rPr>
              <a:t>το κοινωνικο- οικονομικό τους επίπεδο, </a:t>
            </a:r>
            <a:br>
              <a:rPr sz="2800"/>
            </a:br>
            <a:r>
              <a:rPr b="0" lang="el-GR" sz="2800" spc="-1" strike="noStrike">
                <a:solidFill>
                  <a:srgbClr val="000000"/>
                </a:solidFill>
                <a:latin typeface="Times New Roman"/>
              </a:rPr>
              <a:t>το μορφωτικό τους επίπεδο, </a:t>
            </a:r>
            <a:br>
              <a:rPr sz="2800"/>
            </a:br>
            <a:r>
              <a:rPr b="0" lang="el-GR" sz="2800" spc="-1" strike="noStrike">
                <a:solidFill>
                  <a:srgbClr val="000000"/>
                </a:solidFill>
                <a:latin typeface="Times New Roman"/>
              </a:rPr>
              <a:t>οι προηγούμενες</a:t>
            </a:r>
            <a:br>
              <a:rPr sz="2800"/>
            </a:br>
            <a:r>
              <a:rPr b="0" lang="el-GR" sz="2800" spc="-1" strike="noStrike">
                <a:solidFill>
                  <a:srgbClr val="000000"/>
                </a:solidFill>
                <a:latin typeface="Times New Roman"/>
              </a:rPr>
              <a:t>εμπειρίες με άτομα αμεα.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468000" y="1392120"/>
            <a:ext cx="84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γονείς με υψηλό ή μεσαίο κοινωνικοοικονομικό επίπεδο και</a:t>
            </a:r>
            <a:br>
              <a:rPr sz="2800"/>
            </a:br>
            <a:r>
              <a:rPr b="0" lang="el-GR" sz="2800" spc="-1" strike="noStrike">
                <a:solidFill>
                  <a:srgbClr val="000000"/>
                </a:solidFill>
                <a:latin typeface="Times New Roman"/>
              </a:rPr>
              <a:t>πανεπιστημιακή μόρφωση είναι πιο θετικοί απέναντι στην ένταξη των παιδιών τους σε σχέση με γονείς με χαμηλό κοινωνικό οικονομικό επίπεδο και βασική εκπαίδευση.</a:t>
            </a:r>
            <a:br>
              <a:rPr sz="2800"/>
            </a:br>
            <a:r>
              <a:rPr b="0" lang="el-GR"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γονείς με</a:t>
            </a:r>
            <a:br>
              <a:rPr sz="2800"/>
            </a:br>
            <a:r>
              <a:rPr b="0" lang="el-GR" sz="2800" spc="-1" strike="noStrike">
                <a:solidFill>
                  <a:srgbClr val="000000"/>
                </a:solidFill>
                <a:latin typeface="Times New Roman"/>
              </a:rPr>
              <a:t>ακαδημαϊκές γνώσεις είναι πιο πιθανό να συνεργαστούν με τους εκπαιδευτικούς γενικής</a:t>
            </a:r>
            <a:br>
              <a:rPr sz="2800"/>
            </a:br>
            <a:r>
              <a:rPr b="0" lang="el-GR" sz="2800" spc="-1" strike="noStrike">
                <a:solidFill>
                  <a:srgbClr val="000000"/>
                </a:solidFill>
                <a:latin typeface="Times New Roman"/>
              </a:rPr>
              <a:t>και ειδικής εκπαίδευσης για την προώθηση των διαδικασιών ένταξης, θεωρώντας</a:t>
            </a:r>
            <a:br>
              <a:rPr sz="2800"/>
            </a:br>
            <a:r>
              <a:rPr b="0" lang="el-GR" sz="2800" spc="-1" strike="noStrike">
                <a:solidFill>
                  <a:srgbClr val="000000"/>
                </a:solidFill>
                <a:latin typeface="Times New Roman"/>
              </a:rPr>
              <a:t>σημαντική την ενεργό συμμετοχή τους στην εκπαίδευση των παιδιών τους.</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ερισσότεροι γονείς που εμφανίζονται θετικοί ως προς την προαγωγή των διαδικασιών ένταξης αναφέρουν πως οι θετικές τους εμπειρίες</a:t>
            </a:r>
            <a:br>
              <a:rPr sz="2800"/>
            </a:br>
            <a:r>
              <a:rPr b="0" lang="el-GR" sz="2800" spc="-1" strike="noStrike">
                <a:solidFill>
                  <a:srgbClr val="000000"/>
                </a:solidFill>
                <a:latin typeface="Times New Roman"/>
              </a:rPr>
              <a:t>από την ένταξη ατόμων αμεα επηρεάζουν το ευρύτερο κοινωνικό τους πλαίσιο.</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όσον αφορά το είδος των δυσκολιών, οι γονείς παρουσιάζονται ιδιαίτερα</a:t>
            </a:r>
            <a:br>
              <a:rPr sz="2800"/>
            </a:br>
            <a:r>
              <a:rPr b="0" lang="el-GR" sz="2800" spc="-1" strike="noStrike">
                <a:solidFill>
                  <a:srgbClr val="000000"/>
                </a:solidFill>
                <a:latin typeface="Times New Roman"/>
              </a:rPr>
              <a:t>επιφυλακτικοί σε σχέση με την κοινωνική ένταξη μαθητών με συναισθηματικές</a:t>
            </a:r>
            <a:br>
              <a:rPr sz="2800"/>
            </a:br>
            <a:r>
              <a:rPr b="0" lang="el-GR" sz="2800" spc="-1" strike="noStrike">
                <a:solidFill>
                  <a:srgbClr val="000000"/>
                </a:solidFill>
                <a:latin typeface="Times New Roman"/>
              </a:rPr>
              <a:t>διαταραχές, νοητική καθυστέρηση ή αναπτυξιακές διαταραχές θεωρώντας πως είναι</a:t>
            </a:r>
            <a:br>
              <a:rPr sz="2800"/>
            </a:br>
            <a:r>
              <a:rPr b="0" lang="el-GR" sz="2800" spc="-1" strike="noStrike">
                <a:solidFill>
                  <a:srgbClr val="000000"/>
                </a:solidFill>
                <a:latin typeface="Times New Roman"/>
              </a:rPr>
              <a:t>ιδιαιτέρως δύσκολη η επικοινωνία και η οριοθέτηση των παραπάνω παιδιών. </a:t>
            </a:r>
            <a:br>
              <a:rPr sz="20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 </a:t>
            </a:r>
            <a:r>
              <a:rPr b="0" lang="el-GR" sz="2800" spc="-1" strike="noStrike">
                <a:solidFill>
                  <a:srgbClr val="000000"/>
                </a:solidFill>
                <a:latin typeface="Times New Roman"/>
              </a:rPr>
              <a:t>Σε αντίθεση με τους μαθητές με σωματικές ή αισθητηριακές αναπηρίες για τους οποίους επικρατεί η αντίληψη ότι είναι ευκολότερη η καλή συνεργασία και η πειθάρχηση των παραπάνω</a:t>
            </a:r>
            <a:br>
              <a:rPr sz="2800"/>
            </a:br>
            <a:r>
              <a:rPr b="0" lang="el-GR" sz="2800" spc="-1" strike="noStrike">
                <a:solidFill>
                  <a:srgbClr val="000000"/>
                </a:solidFill>
                <a:latin typeface="Times New Roman"/>
              </a:rPr>
              <a:t>μαθητών εντός και εκτός του σχολικού πλαισίου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611280" y="1989000"/>
            <a:ext cx="827712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υνοψίζοντας</a:t>
            </a:r>
            <a:br>
              <a:rPr sz="2800"/>
            </a:br>
            <a:r>
              <a:rPr b="0" lang="el-GR" sz="2800" spc="-1" strike="noStrike">
                <a:solidFill>
                  <a:srgbClr val="000000"/>
                </a:solidFill>
                <a:latin typeface="Times New Roman"/>
              </a:rPr>
              <a:t> η υποστηρικτική  στάση των γονέων απέναντι στις διαδικασίες συνεκπαίδευσης των μαθητών με  μαθητές αμεα συμβάλλει στην προώθηση των</a:t>
            </a:r>
            <a:br>
              <a:rPr sz="2800"/>
            </a:br>
            <a:r>
              <a:rPr b="0" lang="el-GR" sz="2800" spc="-1" strike="noStrike">
                <a:solidFill>
                  <a:srgbClr val="000000"/>
                </a:solidFill>
                <a:latin typeface="Times New Roman"/>
              </a:rPr>
              <a:t>διαδικασιών κοινωνικής ένταξης στο πλαίσιο των σχολικών δραστηριοτήτων. </a:t>
            </a:r>
            <a:br>
              <a:rPr sz="2800"/>
            </a:br>
            <a:r>
              <a:rPr b="0" lang="el-GR" sz="2800" spc="-1" strike="noStrike">
                <a:solidFill>
                  <a:srgbClr val="000000"/>
                </a:solidFill>
                <a:latin typeface="Times New Roman"/>
              </a:rPr>
              <a:t>Πιο συγκεκριμένα η θετική τους στάση απέναντι στα προγράμματα συνύπαρξης:</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 ενισχύει την ενεργητική εμπλοκή του εκπαιδευτικού και του διοικητικού προσωπικού στις</a:t>
            </a:r>
            <a:br>
              <a:rPr sz="2800"/>
            </a:br>
            <a:r>
              <a:rPr b="0" lang="el-GR" sz="2800" spc="-1" strike="noStrike">
                <a:solidFill>
                  <a:srgbClr val="000000"/>
                </a:solidFill>
                <a:latin typeface="Times New Roman"/>
              </a:rPr>
              <a:t>ενταξιακές διαδικασίες,</a:t>
            </a:r>
            <a:br>
              <a:rPr sz="2800"/>
            </a:br>
            <a:br>
              <a:rPr sz="2800"/>
            </a:br>
            <a:r>
              <a:rPr b="0" lang="el-GR" sz="2800" spc="-1" strike="noStrike">
                <a:solidFill>
                  <a:srgbClr val="000000"/>
                </a:solidFill>
                <a:latin typeface="Times New Roman"/>
              </a:rPr>
              <a:t> β) ενεργοποιεί περισσότερο τους ίδιους τους γονείς  με τα δικαιώματα των παιδιών τους και</a:t>
            </a:r>
            <a:br>
              <a:rPr sz="2800"/>
            </a:br>
            <a:br>
              <a:rPr sz="2800"/>
            </a:br>
            <a:r>
              <a:rPr b="0" lang="el-GR" sz="2800" spc="-1" strike="noStrike">
                <a:solidFill>
                  <a:srgbClr val="000000"/>
                </a:solidFill>
                <a:latin typeface="Times New Roman"/>
              </a:rPr>
              <a:t> γ) διευκολύνει την ανάπτυξη κουλτούρας</a:t>
            </a:r>
            <a:br>
              <a:rPr sz="2800"/>
            </a:br>
            <a:r>
              <a:rPr b="0" lang="el-GR" sz="2800" spc="-1" strike="noStrike">
                <a:solidFill>
                  <a:srgbClr val="000000"/>
                </a:solidFill>
                <a:latin typeface="Times New Roman"/>
              </a:rPr>
              <a:t>αλληλεγγύης των μαθητών απέναντι στους συνομήλικους συμμαθητές με ειδικές εκπαιδευτικές ανάγκες </a:t>
            </a:r>
            <a:br>
              <a:rPr sz="2800"/>
            </a:br>
            <a:br>
              <a:rPr sz="2800"/>
            </a:b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Επίσης, άλλοι ερευνητές </a:t>
            </a:r>
            <a:br>
              <a:rPr sz="2800"/>
            </a:br>
            <a:r>
              <a:rPr b="0" lang="el-GR" sz="2800" spc="-1" strike="noStrike">
                <a:solidFill>
                  <a:srgbClr val="000000"/>
                </a:solidFill>
                <a:latin typeface="Times New Roman"/>
              </a:rPr>
              <a:t>(ο Ainscow και οι συνεργάτες του (2003))</a:t>
            </a:r>
            <a:br>
              <a:rPr sz="2800"/>
            </a:br>
            <a:r>
              <a:rPr b="0" lang="el-GR" sz="2800" spc="-1" strike="noStrike">
                <a:solidFill>
                  <a:srgbClr val="000000"/>
                </a:solidFill>
                <a:latin typeface="Times New Roman"/>
              </a:rPr>
              <a:t>αναφέρουν πως το σχολείο πρέπει να καταστήσει τους γονείς χρήσιμους συνεργάτες</a:t>
            </a:r>
            <a:br>
              <a:rPr sz="2800"/>
            </a:br>
            <a:r>
              <a:rPr b="0" lang="el-GR" sz="2800" spc="-1" strike="noStrike">
                <a:solidFill>
                  <a:srgbClr val="000000"/>
                </a:solidFill>
                <a:latin typeface="Times New Roman"/>
              </a:rPr>
              <a:t>γιατί η γονική υποστήριξη και ανάμειξη και η εμπλοκή τους  παίζουν πολύ σημαντικό ρόλο </a:t>
            </a:r>
            <a:br>
              <a:rPr sz="2800"/>
            </a:br>
            <a:r>
              <a:rPr b="0" lang="el-GR" sz="2800" spc="-1" strike="noStrike">
                <a:solidFill>
                  <a:srgbClr val="000000"/>
                </a:solidFill>
                <a:latin typeface="Times New Roman"/>
              </a:rPr>
              <a:t>στη διευκόλυνση των διαδικασιών κοινωνικής ένταξης των μαθητών αμεα.</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br>
              <a:rPr sz="2800"/>
            </a:br>
            <a:br>
              <a:rPr sz="2800"/>
            </a:br>
            <a:r>
              <a:rPr b="1" lang="en-US" sz="2800" spc="-1" strike="noStrike">
                <a:solidFill>
                  <a:srgbClr val="000000"/>
                </a:solidFill>
                <a:latin typeface="Times New Roman"/>
                <a:ea typeface="Arial"/>
              </a:rPr>
              <a:t>O </a:t>
            </a:r>
            <a:r>
              <a:rPr b="1" lang="el-GR" sz="2800" spc="-1" strike="noStrike">
                <a:solidFill>
                  <a:srgbClr val="000000"/>
                </a:solidFill>
                <a:latin typeface="Times New Roman"/>
              </a:rPr>
              <a:t>Ρόλος των γονέων και κηδεμόνων</a:t>
            </a:r>
            <a:br>
              <a:rPr sz="2800"/>
            </a:br>
            <a:br>
              <a:rPr sz="20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169" name="Picture 9" descr=""/>
          <p:cNvPicPr/>
          <p:nvPr/>
        </p:nvPicPr>
        <p:blipFill>
          <a:blip r:embed="rId1"/>
          <a:stretch/>
        </p:blipFill>
        <p:spPr>
          <a:xfrm>
            <a:off x="0" y="0"/>
            <a:ext cx="9144000" cy="1368360"/>
          </a:xfrm>
          <a:prstGeom prst="rect">
            <a:avLst/>
          </a:prstGeom>
          <a:ln w="0">
            <a:noFill/>
          </a:ln>
        </p:spPr>
      </p:pic>
      <p:pic>
        <p:nvPicPr>
          <p:cNvPr id="1170" name="Picture 10" descr=""/>
          <p:cNvPicPr/>
          <p:nvPr/>
        </p:nvPicPr>
        <p:blipFill>
          <a:blip r:embed="rId2"/>
          <a:stretch/>
        </p:blipFill>
        <p:spPr>
          <a:xfrm>
            <a:off x="1258920" y="2060640"/>
            <a:ext cx="1297080" cy="1528560"/>
          </a:xfrm>
          <a:prstGeom prst="rect">
            <a:avLst/>
          </a:prstGeom>
          <a:ln w="0">
            <a:noFill/>
          </a:ln>
        </p:spPr>
      </p:pic>
      <p:pic>
        <p:nvPicPr>
          <p:cNvPr id="1171" name="12 - Εικόνα" descr=""/>
          <p:cNvPicPr/>
          <p:nvPr/>
        </p:nvPicPr>
        <p:blipFill>
          <a:blip r:embed="rId3"/>
          <a:stretch/>
        </p:blipFill>
        <p:spPr>
          <a:xfrm>
            <a:off x="6948360" y="1989000"/>
            <a:ext cx="1444680" cy="1573200"/>
          </a:xfrm>
          <a:prstGeom prst="rect">
            <a:avLst/>
          </a:prstGeom>
          <a:ln w="0">
            <a:noFill/>
          </a:ln>
        </p:spPr>
      </p:pic>
      <p:sp>
        <p:nvSpPr>
          <p:cNvPr id="1172" name="5 - Ορθογώνιο"/>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p:txBody>
      </p:sp>
      <p:sp>
        <p:nvSpPr>
          <p:cNvPr id="117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γονέων και των κηδεμόνων των μαθητών αποτελεί σημαντικό παράγοντα για την επιτυχία της εκπαιδευτικής διαδικασίας και επηρεάζει σε μεγάλο βαθμό την σχολική ζωή των μαθητών. </a:t>
            </a:r>
            <a:br>
              <a:rPr sz="2800"/>
            </a:br>
            <a:r>
              <a:rPr b="0" lang="el-GR" sz="2800" spc="-1" strike="noStrike">
                <a:solidFill>
                  <a:srgbClr val="000000"/>
                </a:solidFill>
                <a:latin typeface="Times New Roman"/>
              </a:rPr>
              <a:t>Πολυάριθμες μελέτες της διεθνούς βιβλιογραφίας έχουν εξάγει ανάλογα συμπεράσματα </a:t>
            </a:r>
            <a:br>
              <a:rPr sz="2800"/>
            </a:br>
            <a:r>
              <a:rPr b="0" lang="el-GR" sz="2800" spc="-1" strike="noStrike">
                <a:solidFill>
                  <a:srgbClr val="000000"/>
                </a:solidFill>
                <a:latin typeface="Times New Roman"/>
              </a:rPr>
              <a:t>(Συμέου, 2013).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έχει διερευνηθεί πως η ομαλή συνεργασία και η συνεχής επικοινωνία μεταξύ των εκπαιδευτικών και των γονέων, ιδιαίτερα σε μαθητές μικρών τάξεων του δημοτικού είναι καθοριστική </a:t>
            </a:r>
            <a:br>
              <a:rPr sz="2800"/>
            </a:br>
            <a:r>
              <a:rPr b="0" lang="el-GR" sz="2800" spc="-1" strike="noStrike">
                <a:solidFill>
                  <a:srgbClr val="000000"/>
                </a:solidFill>
                <a:latin typeface="Times New Roman"/>
              </a:rPr>
              <a:t>(Βρυνιώτη &amp; Ματσαγγούρας, 2005).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07:51:08Z</dcterms:modified>
  <cp:revision>171</cp:revision>
  <dc:subject/>
  <dc:title>Παρουσίαση του PowerPoint</dc:title>
</cp:coreProperties>
</file>