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EA58-24DF-4B9A-B633-8694ADAA494D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509D-A6DB-4FE7-9DAB-8CB79A8BA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FBD5-EC00-4704-83F7-AFE2D8D0C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7C5B-3C0F-48E7-BEE7-ED2F4AA7D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2112-803B-4EB4-A7D9-DD9698B49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9E18-C9A7-4EAC-964D-2C09B6103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A2C9-53BE-40AD-94CA-FECBC6E80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4537-05D9-4280-ADFF-A437356E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F37E-7A63-4EBA-B18D-E70BCBC9F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AD6D-2FCB-44AF-89DF-ADE28CD8D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AE5F-BBC8-4E05-8F91-DB2CF961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5AB5-D981-4ACD-9AD3-47BFEA796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67D6-524E-4540-98C3-AA219CCCC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C4BA-6035-49A9-873B-34AEF23DD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C970-49ED-4F73-B966-E672BA808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60CC-8256-492D-96C1-2BA5E5658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9351-3DD9-4D95-AE68-B0E1AD682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53A1-289B-4C8D-8650-0F2B885FC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5893-7878-45C2-B753-DDD92A27E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948-8709-41E8-8C50-18323A379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9C28-4AF7-4F37-B266-1FE2E71E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C2A5-5178-4914-95FD-0C5FCA914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502A-753D-4D61-9207-215D5F65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0EE7-1CAC-4B50-BBA0-598CFF32B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97DE-397D-4C68-9B34-ADBD87812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B699-AAD5-4CB6-BB47-52AFB24D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C4C2-CF40-4791-9B20-459C01863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0622-B44E-4232-9F5F-7514D4B7F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A5D4-4B3C-4106-9837-CAAD5B533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B347-4009-45D2-BB4B-5B7295EB1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91EB-D9B5-4A10-9F5C-1A235520A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9032-8CB3-46DC-960B-3C3C3CA3C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46E-F211-4DE8-9E0F-94DDC914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351-FCDB-40F4-9B64-AEA3C5BD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6F349-E65D-4B1D-A4E8-1CC41AD6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0E7DE-7F51-43F6-A2FD-5FF78240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2667A3-0CB9-43C3-BC92-093AF313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C0E4D-EB60-4FCF-90A0-A67A0D5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C28E9-42B5-425E-898B-FA30C96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01428-09BE-40A6-B77B-1AC10400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3DA1D-52F0-4B1C-A01E-4BCF60FE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CDCB4-C48A-49B2-A6D5-940ACBBE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DAD74-9AED-4D06-8655-FCD6C109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B0572-28D3-49DC-9801-3C173B8B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F74F-3D1C-4C5C-880C-7A0A853F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8DD0D-837B-42CD-91EB-C922A6A3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B88AD-FFF4-4E00-B0BA-E7574888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24EC7-5E16-4B90-9962-F9348F6D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B21B1-765E-4438-98B3-FD1AAEA3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0AEFD-6145-4029-982F-EBE47CE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F4BF1-9CC9-4507-BA48-A6355D60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DF51D-AAEB-48A7-A89D-37DEC505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B50E3-7483-4EE4-A29E-108111F3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C9FA9-B1FD-49E7-AA78-F4A72E08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64124-412B-4012-8555-66EF2974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2B8-1DA1-4253-BF32-ACAC0741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78972-830B-4BE7-9E23-41CCDCB3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B74BE-2D8C-410C-9C65-E48212C7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77AA8-3CD0-49D4-976B-B3220CE9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890A1-25DF-41D7-B054-16DDE98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FD993-7ADA-4D59-B053-3174961C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D72B7-724A-437D-90FC-A4543192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8E948-B7A3-473D-AE7B-929EA167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124AB-D225-411D-9427-5DDA336F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889D6-C7BB-4B85-AA50-7A57FEEE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52BDC-3C48-4F5C-BB2E-8AA8FC9D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E296-7DE8-45D9-8B38-104B2CC02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D32E2-093C-4792-B419-88508CBA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DC4BA-2E1E-4DE4-A942-EB845D8A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D2255-7F9F-426E-9639-FDF84AAB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FEC1F-B94C-4EA2-8530-C9BC46B7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34248-F58C-4A53-8C3F-AC7F37B9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CE711-5659-4C35-946A-000DD112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05B05-5B37-4BD4-92B2-883B44F7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F8672-CAC3-4B73-8059-1644CAA1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76A55-DC17-4E0B-B2AD-2C2DD2A6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39D55-1719-4C2E-855E-F59DA0D1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0919-B64F-4322-B8FC-7C0E565A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28B71-1ECC-4C6F-BA14-A1E095E8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93AC5-A559-4FF1-BBE2-ABD630E0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80362-2E74-4C94-8352-C07A283C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FE46F-AC49-40DD-BDA3-3372FEAC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5E136-278F-45E2-8595-D092AFE6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A75374-9635-4255-A1B4-DE734C45CB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E72A49-FC4E-4369-A63C-C205B02C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BB2757-19C3-4A29-BFBC-80C650FC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A2B398-C99D-49B8-A891-4A85928C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12368B-3D57-490C-9203-6B7FD12A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35AC-E494-4402-88AB-C765902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EF6947-1FA1-46C5-978E-8D348AFD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75EF38-7596-4A73-9F8F-6C8DAA84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1CE2E6-ED75-41A9-B7BA-CC40D6B4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B39051-129D-4DFD-B898-B07FA550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8A1B51-ADBC-4443-A136-6429E2DF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EC96A8-A603-4AB0-85DE-2A61216D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C9CCB1-6386-4ED5-9FCE-56CD1D2E36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C274-544D-4678-9EBC-7537FADE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5483-7347-4A77-92D2-31D0C8A4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4A7F-242D-4446-BE53-8FFEBAAC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0BCF-7496-402B-94F1-D7ACDDB3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FE8A-B5D8-4E80-B979-666CA461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477F-684A-44B8-8EFB-26DE4269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A1EC-7CEA-407F-90F0-86DC20DE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96A2-DA6C-4C17-9A3E-EE8A23A7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4BF5-A15F-4600-B86E-78C7DD97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EE5B2-FF52-435A-B5FA-1F1AF051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2598C-6785-4AFC-B534-F8A820CF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11601-D830-450D-A5A3-37040BC3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EE05E-8969-4BAF-8F47-174B70EE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22817-293E-424C-9B6A-B58D2CF3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CB18-FD86-43C6-8E33-AC95E626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BA7-374D-495D-9FE0-DD935B50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B628-66D3-4D79-BEEC-2BCB647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A001-0370-448E-A471-E57967B7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75466-D8DC-4867-AA76-1F0D8FCD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0FAE7-2C07-4412-B02C-6B70BFA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6F3BB-8C05-427C-A76C-6CB5D1F2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65A26-CCE0-460D-9088-BEEB699E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4339-12A9-4451-9D46-197873EC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3970B-861F-4681-B3FC-63DCAAB3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1917C-2982-4686-BE9C-BC474077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4FE49-53BB-4847-A9B9-5C8A8BB7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BDF-62BE-436D-A462-7D080E75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124DA-611B-4EDA-B06B-C6953D65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B8691-212E-4023-8B2B-135CF628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B3B02-FA73-4D57-9B46-05D452CE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1DB0B-3679-4E79-B663-8C789048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C7336-276D-4C60-9670-B81F49CB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EC06B-6697-4093-83DA-F9AC2460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ABF8-B640-44A4-BCE6-FCD431FD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52D32-DDB7-4B66-A0A2-903B0F8F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71EBE-CBFC-4B0D-9E9A-88C04B4B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12BF5-C520-41F5-9526-F2DE746A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D31-73AD-4731-91DA-6E9D2BA0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9E059-B2F5-49A7-BB6D-177924C5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27CF0-526F-4A1E-A986-FCC7FF2B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F93A-5E2C-458F-8839-9050690E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3116B-19EB-4AA2-9F31-43D4378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3273-CED7-4F31-BFE3-83617BE4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51AC3-F9CF-47F6-B03D-607C05FE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3D8D-5E42-432D-9370-8935FF24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EF883-8996-420A-9DFE-489EE95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A3830-1F10-4865-B03B-4F4748CA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2DFCA-F00A-4608-B82F-B78723DE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9945-FF90-47A2-B576-19E13DAB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940D-A2AE-455A-99A1-DE07F754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3ACC7-5935-4616-82C9-AB12B190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4E9A-EC40-4DDC-A6DF-B9A735CB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04E2B-9297-4EEC-A5FA-C388C854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631CF-4DAC-4A99-874C-236BD8FF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83B90-FCA6-4C9F-8B82-FE0B9D3E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300D9-3299-46B8-A2AF-5436817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DD619-097C-4A4A-86D9-BEDBC15E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4AD9D-D4EB-476D-BFCD-CEFDA0E4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46BDB-2179-4A0D-B837-CF42A935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273D-392B-4253-B88E-6C8CD381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C82F3-3DFD-464C-B426-9AE8EFE9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2FE5B-6BCB-4133-9CA4-64D3C850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4061C-CF8B-407A-AE5F-39DD84D4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26C3-C5BC-40C8-AE68-6CDC9A81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063E-AB56-48F7-8F54-49E23B9D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63551-8BA3-4656-AA9E-03F453F2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FAD86-67F7-4170-BA98-EB12A4DB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EAAB6-1946-4AE1-8888-AF0C6046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7A6ED-D348-4BD4-B2FB-747CCA6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B0AE8-3928-4A9F-BBEB-DE71AFA8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3BE-FDE9-4127-8176-DAEDBD41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15D81-7938-4B0C-BD2B-43EAEBA7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7F323-5754-410F-B0DF-92BE99F2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BB618-9D32-4896-AE54-F20380EA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81410-8555-4005-9DA7-97D6B894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8D6A5-CB25-49F1-9E73-B1D7349B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88CF2-D1D5-4220-A831-11C5527E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B97F5-7D9E-4D8D-911A-5694BEF9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4D4DB-F341-4AEC-BEAC-9F4CC8F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C4577-9F9E-488E-B792-83F33C91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4F47E-A595-4BD2-94E7-D2DFFFC1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DD4C-7610-4BAF-8017-24650415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14558-10CD-441B-9856-1406E67D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90CF1-7017-47DF-8126-7632B00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5B6A1-30B4-43B6-86A1-7A759F4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9FB22-0B3D-48B7-AD36-2C01A8BB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22D79-2D4A-4946-BBBB-C768BFC2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39399-D472-4C31-B526-4E7951E6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02D40-6A58-4BB6-928D-C8B1C88C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1BF51-81CA-4C1C-B095-FB576C1A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7A75A-8DDF-49F7-9E05-22A036D0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019F6-EEFA-4262-8A52-FE83DAAA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83A4-514B-4EA3-A429-411CB854B18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EA3D-5E0E-4F67-BBDA-B0FEBCA34A8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D6F6-0390-4E65-A792-C6804F90E00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7E9B-9729-4026-89C5-2607BE5C034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A042-EF11-4DB0-98D3-0BBEF74B3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81B2-9F14-4A3A-BAF7-B81C684D8F5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4A05-3C9C-4E1C-88C8-13DE33A4DA3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FE1F-7EBD-46C7-9FD5-6E7DB60F764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9DB-D556-4ACF-8F30-A89BE67F2FE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AC3E-56EE-4FB6-875A-9AA48A7B12C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C9F6-38D4-45E3-8902-14C812165E6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4D33-4811-4D73-B85B-E25E0AE6480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73AA-542F-49A2-9A70-ABAA19A37A17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ακόμη ενδιαφέρουσα, λειτουργία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τισμένου χώρου είναι πως ανάλογα με τα χαρακτηριστικά του, δηλαδή το μέγεθος και το σχήμ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ευκολύνουν 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διαμόρφω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ού χώρου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ην οργάνωση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ων διαφόρων περιοχών της τάξης(γωνιές μάθησης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ό στοιχείο είναι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χώρος που αναλογεί στον κάθε μαθητή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γχρονες προδιαγραφές απαιτού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ιφάνεια αίθουσας τουλάχιστον 1,50 τ.μ/ανά μαθητή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Πηγή: Ο.Σ.Κ. Α.Ε.)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0560" y="1197000"/>
            <a:ext cx="8569080" cy="45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800" spc="-1" strike="noStrike">
                <a:solidFill>
                  <a:srgbClr val="000000"/>
                </a:solidFill>
                <a:latin typeface="Times New Roman"/>
              </a:rPr>
              <a:t>Αυτό είναι σημαντικό, καθώς ο συνωστισμός μαθητών σε μια αίθουσα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φαίνεται να έχει αρνητικές επιδράσεις στη συμπεριφορά των ατόμων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διαμφισβήτητο επίσης  είναι ότι οι ευρύχωρες αίθουσε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δίνουν τη δυνατότητα στον εκπαιδευτικό να χρησιμοποιεί εναλλακ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ρφές διάταξης των θρανίω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π.χ. ομαδοσυνεργατική διδασκαλία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η διάταξη κλπ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κάθε σχολική αίθουσα έχει μια συγκεκριμένη διαρρύθμιση.  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σωτερικό της μπορεί να χωρίζεται σε περιοχές με διαφορετική λειτουργία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εμία από αυτές τις περιοχ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 σχήμα και το μέγεθός τ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υπηρετεί συγκεκριμένες πτυχές του διδακτικο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γου ( γωνιές μάθησης, ανάπτυξη ορισμένων δραστηριοτήτων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4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0560" y="1392120"/>
            <a:ext cx="856908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έπιπλα (θρανία, καρέκλες, βιβλιοθήκες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ίνακες, εποπτικό υλικό ,κλπ)και ο εξοπλισμό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ποθετούνται στο χώρο ανάλογα με τη λειτουργία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5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5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διαμορφωμένος χώρος έχει μεγάλη σημασία καθώς η βασική λειτουργία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γκειται ότι προσφέρει τις άμεσες συνθήκες του χώρου για το εκπαιδευτικό έργο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υτό  επιτυγχάνεται με τη διαρρύθμιση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ισθητική του, οι οποίες δημιουργούν τις υλικές προϋποθέσεις για την οργάνωση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σε τέσσερα επίπεδ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6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6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στη διαμόρφωσή της σε επιμέρους περιοχές λειτουργίας (για ομαδική/ ατομική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, μελέτη, συζήτηση),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στην αντιληπτική και αισθητική οργάνωση του εσωτερικού χώρου, οι οπο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νισχύουν σημαντικά τον προσανατολισμό της λειτουργίας της υλικής δομής,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7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7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στην ανάπτυξη συγκεκριμένων μορφών εκπαιδευτικής επικοινωνί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ασίας στο εσωτερικό της, που σχετίζονται με τις πρακτικές χώρου, 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έσεις και τις στάσεις του σώματος του παιδιού στην τάξη,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8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8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Rectangle 1"/>
          <p:cNvSpPr/>
          <p:nvPr/>
        </p:nvSpPr>
        <p:spPr>
          <a:xfrm>
            <a:off x="971640" y="220500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στη δημιουργία συνθηκών μικροπεριβάλλοντος (με τοπικές ρυθμίσει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, και του χρωματικού ερεθίσματος) που ευνοούν την εκπαιδευτικ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ία μιας περιοχή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9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9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ι τεχνικοί περιβαλλοντικοί παράγοντες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τα αισθητικά και τα τεχνικά δεδομένα της σχολικής τάξη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αυτ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αταλέγοντ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χρώματα, ο φωτισμός, η θερμοκρασ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καθορίζου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εχνικές συνθήκες περιβάλλοντος στην αίθουσα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0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0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 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2000"/>
            </a:br>
            <a:br>
              <a:rPr sz="32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353440" cy="47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ίγουρα, μπορούν 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ροποποιηθούν ευκολότερα σε αντίθεση με τα στοιχεία του κτισμένου χώρου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μφίβολα, συμβάλλουν στη δημιουργία των κατάλληλων προϋποθέσεων για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ή διαδικασί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1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1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ια φωτεινή, ζεστή με χαρούμεν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χρώματα αίθουσα προδιαθέτει τους μαθητές και τους διδάσκοντες διαφορετικά από  μια μουντή και ψυχρή αίθουσ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2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Rectangle 1"/>
          <p:cNvSpPr/>
          <p:nvPr/>
        </p:nvSpPr>
        <p:spPr>
          <a:xfrm>
            <a:off x="1042920" y="191628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θερμοκρασία, η θέρμανση , ο αερισμός είνα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πιο σημαντικο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εριβαλλοντικοί παράγοντες που επηρεάζουν την επίδοση των μαθητών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2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αυξημένος θόρυβος προκαλεί δυσλειτουργίες στην απόδοση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τόμου ενώ ευθύνεται για την επιθετική συμπεριφορά και τη νευρικότητα 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θόρυβοι,, η  έλλειψη μόνωσης είναι στοιχεία που δεν επιδρούν θετικά στη διαδικασί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, από πλευράς εκπαιδευτικών αλλά και μάθησης από πλευράς μαθητ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3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3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φωτισμός των αιθουσών είναι ένας σημαντικό ζήτημα 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Δεν είναι ασύνηθες το γεγονός μαθητές διαμαρτύρ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ως δεν μπορούν να παρακολουθήσουν το μάθημα λόγω ανεπαρ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ύς ή υπερβολικού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ωτισμού ιδίως στα ελληνικά δεδομένα, που παράθυρα και κουρτίνες δεν είναι σ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λύτερη δυνατή κατάστα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4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4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23640" y="1392120"/>
            <a:ext cx="813564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ημαντική είναι η επιλογή των χρωμάτων της αίθουσας καθώς επηρεάζ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ψυχική διάθεση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δανικός θεωρείται ο συνδυασμός των φωτεινών, ψυχρών και θερμών χρωμάτων,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κολουθεί τις αρχές της δυναμικής των χρωμάτων (Συγκολλίτου, 1997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5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5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Η επίπλωση και ο εξοπλισμ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όκειται για αντικείμενα με συγκεκριμένη χρήση που υποστηρίζουν τον τρόπο της εκπαιδευτικής λειτουργίας της τάξης, όπως τα θρανία, η έδρα, ο πίνακας,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ίσματα, οι κουρτίνες, η βιβλιοθήκη και άλλα 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6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6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6800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θρανία και το κάθισμα του μαθητή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έπει να είναι εργονομικά 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να συμβάλλουν στη δημιουργία ενός φιλικού παιδαγωγικού  περιβάλλοντος για τις σχολικές δραστηριότητ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7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7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24000" y="1392120"/>
            <a:ext cx="84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 τα έπιπλα και ο εξοπλισμός παρουσιάζου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γονομικές ατέλειες έχουν αντίκτυπο στο αποτέλεσμα της εργασίας του μαθητή, ενώ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πορούν να προκαλέσουν επιθετική συμπεριφορά ακόμα  και προβλήματα υγείας (π.χ. σκολίωση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8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8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δώ συγκαταλέγεται το υλικό που χρησιμοποιείται κατά τη διάρκεια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ιδασκαλίας και μάθησης το οποίο είτε ανήκει στο σχολείο (βιβλία, εποπτικό υλικ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ξοπλιστικός μηχανισμός) είτε στους μαθητές (υλικό γραφής και ανάγνωσης)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79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79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δακτηριακές εγκαταστάσεις του σχολείου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τον εξοπλισμό τους(πίνακες ,θρανία, καρέκλες, βιβλιοθήκες, εποπτικό υλικό, κλπ)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φωτισμό, τ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ρμοκρασία, τον αερισμό ,το θόρυβο και το είδος της οργάνωσης όλων αυτών των στοιχεί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φέρουν ποικιλία φυσικών και συναισθηματικών ερεθισμάτων στα παιδιά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λλαπλά οφέλη στη διαδικασία της μάθησ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κπαιδευτικό υλικό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πηγή ερεθισμάτων μάθη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ώς παρουσιάζει στον μαθητή πληροφορί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ικά με το περιεχόμενο των μαθημάτων 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0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0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6421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ποιότητα της δραστηριότητας εξαρτάται από το εκπαιδευτικό υλικό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Όταν το υλικό είναι πλούσιο σε χρώματα , γραφικές παραστάσεις, κλπ  και ανανεώνεται τότε η  δραστηριότητα εμπλουτίζεται και πετυχαίνει το στόχο τη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τίθετα όταν το εκπαιδευτικό υλικό βρίσκεται είναι ελλιπές, φτωχό σε ερεθίσματα και σε κακή κατάσταση , η δραστηριότητα υποβαθμίζεται ή στην χειρότερη περίπτωση δεν προκαλεί και δενενδιαφέρει τους μαθητέ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1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υλική (υπο)δομή της σχολικής τάξης</a:t>
            </a: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81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82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82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830" name="5 - Ορθογώνιο"/>
          <p:cNvSpPr/>
          <p:nvPr/>
        </p:nvSpPr>
        <p:spPr>
          <a:xfrm>
            <a:off x="61128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1392120"/>
            <a:ext cx="806436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  για τη σχολική τάξη ερευνητές 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Γερμανός (2006)) διακρίνει πέντε κατηγορίες παραγόντων της υλικής δομής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ής αίθουσας: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. τον κτισ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2. τον διαμορφωμένο χώρο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3. τους τεχνητούς περιβαλλοντικούς παράγοντ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4. την επίπλωση και τον εξοπλισμό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5. το εκπαιδευτικό υλικ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920" y="139212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διάφορες κατηγορίες της υλικής δομής επιτελούν ξεχωριστές λειτουργίες 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ες βρίσκονται σε διαδικασία συνεχής αλληλεξάρτησης και αλληλοσυμπλήρωσης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οινός παρανομαστής όλων αυτών , είναι πως επιδρούν στη συμπεριφορά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κειμένων και στη λειτουργία της τάξης. Συνδέουν, δηλαδή, το χώρο με του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ες της κοινωνικής δομής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91280" cy="494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κτισμένος χώρος της τάξης περιγράφεται από τα στοιχεία της κατασκευή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τοίχοι, παράθυρα, πόρτα σχήμα, μέγεθος, κλπ) και ιδίως από την κάτοψ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τις όψεις της αίθουσας διδασκαλίας. 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πράξη τα δεδομένα αυτά είναι δύσκολ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υποστούν οποιαδήποτε τροποποίηση ή μπορεί και να μην επιδέχονται καμί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τροπή ανάλογα με τους κανονισμούς του  οργανισμού κατασκευής το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ικού κτιρίου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0"/>
            <a:ext cx="9144000" cy="6551640"/>
            <a:chOff x="0" y="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0"/>
              <a:ext cx="9144000" cy="6551640"/>
              <a:chOff x="0" y="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7128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83272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ο σύνολό τους αυτά τα στοιχεί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θορίζουν τις γενικές αρχές οργάνω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ς σχολικής ζωή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συνεπώς τα βασικά κριτήρια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ργάνωσης τ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αθησιακού περιβάλλοντο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ύμφωνα με ερευνητές(  Γερμανός (2006), ο κτισμένος χώρος οργανώνει τη σύνδεση τη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ς με τους υπόλοιπους χώρους του σχολείου διασυνδέοντας ή όχι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και οπτική επικοινωνία με αυτούς τους χώρ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ς παράδειγμα ορίζεται η ύπαρξη τ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αθύρων στην σχολική αίθουσ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79280" y="1392120"/>
            <a:ext cx="8640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λυτικότερα, μεγάλα και φαρδιά παράθυρα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τική προς τον εξωτερικό υπαίθριο χώρο μπορούν να διευκολύνουν την οπτική κα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λειτουργική επικοινωνία της αίθουσας με τον αύλειο χώρο δίνοντας στο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ό και στους μαθητές τη δυνατότητα αξιοποίησης των εξωτερικώ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ρεθισμάτων που θεωρούνται σημαντικό παιδαγωγικό εργαλείο στη διδακτική πράξη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ίθουσα χωρίς ή με λίγα και μικρά παράθυρα προσδίδουν στην τάξη έναν εσωστρεφή χαρακτήρα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8:16:04Z</dcterms:modified>
  <cp:revision>156</cp:revision>
  <dc:subject/>
  <dc:title>Παρουσίαση του PowerPoint</dc:title>
</cp:coreProperties>
</file>