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D030-D6B6-4450-B0EE-9BD802141C49}"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A1FA-0DE6-44CC-B4BE-D2CCC306E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3" name="PlaceHolder 1"/>
          <p:cNvSpPr>
            <a:spLocks noGrp="1"/>
          </p:cNvSpPr>
          <p:nvPr>
            <p:ph type="sldImg"/>
          </p:nvPr>
        </p:nvSpPr>
        <p:spPr>
          <a:xfrm>
            <a:off x="985680" y="741240"/>
            <a:ext cx="4886640" cy="3665520"/>
          </a:xfrm>
          <a:prstGeom prst="rect">
            <a:avLst/>
          </a:prstGeom>
          <a:ln w="0">
            <a:noFill/>
          </a:ln>
        </p:spPr>
      </p:sp>
      <p:sp>
        <p:nvSpPr>
          <p:cNvPr id="11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7BE23-E020-454A-B25F-551712E186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6" name="PlaceHolder 1"/>
          <p:cNvSpPr>
            <a:spLocks noGrp="1"/>
          </p:cNvSpPr>
          <p:nvPr>
            <p:ph type="sldImg"/>
          </p:nvPr>
        </p:nvSpPr>
        <p:spPr>
          <a:xfrm>
            <a:off x="985680" y="741240"/>
            <a:ext cx="4886640" cy="3665520"/>
          </a:xfrm>
          <a:prstGeom prst="rect">
            <a:avLst/>
          </a:prstGeom>
          <a:ln w="0">
            <a:noFill/>
          </a:ln>
        </p:spPr>
      </p:sp>
      <p:sp>
        <p:nvSpPr>
          <p:cNvPr id="11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886A9-3C67-42B3-B05B-8E0D3C8062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9" name="PlaceHolder 1"/>
          <p:cNvSpPr>
            <a:spLocks noGrp="1"/>
          </p:cNvSpPr>
          <p:nvPr>
            <p:ph type="sldImg"/>
          </p:nvPr>
        </p:nvSpPr>
        <p:spPr>
          <a:xfrm>
            <a:off x="985680" y="741240"/>
            <a:ext cx="4886640" cy="3665520"/>
          </a:xfrm>
          <a:prstGeom prst="rect">
            <a:avLst/>
          </a:prstGeom>
          <a:ln w="0">
            <a:noFill/>
          </a:ln>
        </p:spPr>
      </p:sp>
      <p:sp>
        <p:nvSpPr>
          <p:cNvPr id="11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B4BD8-B9E9-4169-ADC7-917EAFC91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2" name="PlaceHolder 1"/>
          <p:cNvSpPr>
            <a:spLocks noGrp="1"/>
          </p:cNvSpPr>
          <p:nvPr>
            <p:ph type="sldImg"/>
          </p:nvPr>
        </p:nvSpPr>
        <p:spPr>
          <a:xfrm>
            <a:off x="985680" y="741240"/>
            <a:ext cx="4886640" cy="3665520"/>
          </a:xfrm>
          <a:prstGeom prst="rect">
            <a:avLst/>
          </a:prstGeom>
          <a:ln w="0">
            <a:noFill/>
          </a:ln>
        </p:spPr>
      </p:sp>
      <p:sp>
        <p:nvSpPr>
          <p:cNvPr id="11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54340-E44A-4FD6-AC50-D209D4053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5" name="PlaceHolder 1"/>
          <p:cNvSpPr>
            <a:spLocks noGrp="1"/>
          </p:cNvSpPr>
          <p:nvPr>
            <p:ph type="sldImg"/>
          </p:nvPr>
        </p:nvSpPr>
        <p:spPr>
          <a:xfrm>
            <a:off x="985680" y="741240"/>
            <a:ext cx="4886640" cy="3665520"/>
          </a:xfrm>
          <a:prstGeom prst="rect">
            <a:avLst/>
          </a:prstGeom>
          <a:ln w="0">
            <a:noFill/>
          </a:ln>
        </p:spPr>
      </p:sp>
      <p:sp>
        <p:nvSpPr>
          <p:cNvPr id="11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9DB4B-1B8A-49E7-A272-FC53672CB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8" name="PlaceHolder 1"/>
          <p:cNvSpPr>
            <a:spLocks noGrp="1"/>
          </p:cNvSpPr>
          <p:nvPr>
            <p:ph type="sldImg"/>
          </p:nvPr>
        </p:nvSpPr>
        <p:spPr>
          <a:xfrm>
            <a:off x="985680" y="741240"/>
            <a:ext cx="4886640" cy="3665520"/>
          </a:xfrm>
          <a:prstGeom prst="rect">
            <a:avLst/>
          </a:prstGeom>
          <a:ln w="0">
            <a:noFill/>
          </a:ln>
        </p:spPr>
      </p:sp>
      <p:sp>
        <p:nvSpPr>
          <p:cNvPr id="11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6818C-00B2-4C12-A1DA-625B69B2FD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1" name="PlaceHolder 1"/>
          <p:cNvSpPr>
            <a:spLocks noGrp="1"/>
          </p:cNvSpPr>
          <p:nvPr>
            <p:ph type="sldImg"/>
          </p:nvPr>
        </p:nvSpPr>
        <p:spPr>
          <a:xfrm>
            <a:off x="985680" y="741240"/>
            <a:ext cx="4886640" cy="3665520"/>
          </a:xfrm>
          <a:prstGeom prst="rect">
            <a:avLst/>
          </a:prstGeom>
          <a:ln w="0">
            <a:noFill/>
          </a:ln>
        </p:spPr>
      </p:sp>
      <p:sp>
        <p:nvSpPr>
          <p:cNvPr id="11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E35F0-1D8C-4855-9F28-F18C6F4A72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4" name="PlaceHolder 1"/>
          <p:cNvSpPr>
            <a:spLocks noGrp="1"/>
          </p:cNvSpPr>
          <p:nvPr>
            <p:ph type="sldImg"/>
          </p:nvPr>
        </p:nvSpPr>
        <p:spPr>
          <a:xfrm>
            <a:off x="985680" y="741240"/>
            <a:ext cx="4886640" cy="3665520"/>
          </a:xfrm>
          <a:prstGeom prst="rect">
            <a:avLst/>
          </a:prstGeom>
          <a:ln w="0">
            <a:noFill/>
          </a:ln>
        </p:spPr>
      </p:sp>
      <p:sp>
        <p:nvSpPr>
          <p:cNvPr id="11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F1B12-1FB5-45F0-8F5A-5652A8FD5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7" name="PlaceHolder 1"/>
          <p:cNvSpPr>
            <a:spLocks noGrp="1"/>
          </p:cNvSpPr>
          <p:nvPr>
            <p:ph type="sldImg"/>
          </p:nvPr>
        </p:nvSpPr>
        <p:spPr>
          <a:xfrm>
            <a:off x="985680" y="741240"/>
            <a:ext cx="4886640" cy="3665520"/>
          </a:xfrm>
          <a:prstGeom prst="rect">
            <a:avLst/>
          </a:prstGeom>
          <a:ln w="0">
            <a:noFill/>
          </a:ln>
        </p:spPr>
      </p:sp>
      <p:sp>
        <p:nvSpPr>
          <p:cNvPr id="11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6D29C-1143-4909-AE3D-5F71CFF9B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0" name="PlaceHolder 1"/>
          <p:cNvSpPr>
            <a:spLocks noGrp="1"/>
          </p:cNvSpPr>
          <p:nvPr>
            <p:ph type="sldImg"/>
          </p:nvPr>
        </p:nvSpPr>
        <p:spPr>
          <a:xfrm>
            <a:off x="985680" y="741240"/>
            <a:ext cx="4886640" cy="3665520"/>
          </a:xfrm>
          <a:prstGeom prst="rect">
            <a:avLst/>
          </a:prstGeom>
          <a:ln w="0">
            <a:noFill/>
          </a:ln>
        </p:spPr>
      </p:sp>
      <p:sp>
        <p:nvSpPr>
          <p:cNvPr id="11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553BD-FB39-4042-BB25-C24378ECB8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9" name="PlaceHolder 1"/>
          <p:cNvSpPr>
            <a:spLocks noGrp="1"/>
          </p:cNvSpPr>
          <p:nvPr>
            <p:ph type="sldImg"/>
          </p:nvPr>
        </p:nvSpPr>
        <p:spPr>
          <a:xfrm>
            <a:off x="985680" y="741240"/>
            <a:ext cx="4886640" cy="3665520"/>
          </a:xfrm>
          <a:prstGeom prst="rect">
            <a:avLst/>
          </a:prstGeom>
          <a:ln w="0">
            <a:noFill/>
          </a:ln>
        </p:spPr>
      </p:sp>
      <p:sp>
        <p:nvSpPr>
          <p:cNvPr id="11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EC105-8278-4F25-8013-512EBDA1DF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985680" y="741240"/>
            <a:ext cx="4886640" cy="3665520"/>
          </a:xfrm>
          <a:prstGeom prst="rect">
            <a:avLst/>
          </a:prstGeom>
          <a:ln w="0">
            <a:noFill/>
          </a:ln>
        </p:spPr>
      </p:sp>
      <p:sp>
        <p:nvSpPr>
          <p:cNvPr id="11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B3995-D0EB-475D-97CD-E243FD9DE5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6" name="PlaceHolder 1"/>
          <p:cNvSpPr>
            <a:spLocks noGrp="1"/>
          </p:cNvSpPr>
          <p:nvPr>
            <p:ph type="sldImg"/>
          </p:nvPr>
        </p:nvSpPr>
        <p:spPr>
          <a:xfrm>
            <a:off x="985680" y="741240"/>
            <a:ext cx="4886640" cy="3665520"/>
          </a:xfrm>
          <a:prstGeom prst="rect">
            <a:avLst/>
          </a:prstGeom>
          <a:ln w="0">
            <a:noFill/>
          </a:ln>
        </p:spPr>
      </p:sp>
      <p:sp>
        <p:nvSpPr>
          <p:cNvPr id="11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0AFC8-F7F0-4F5F-B4DD-088363B13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985680" y="741240"/>
            <a:ext cx="4886640" cy="3665520"/>
          </a:xfrm>
          <a:prstGeom prst="rect">
            <a:avLst/>
          </a:prstGeom>
          <a:ln w="0">
            <a:noFill/>
          </a:ln>
        </p:spPr>
      </p:sp>
      <p:sp>
        <p:nvSpPr>
          <p:cNvPr id="12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B393C-414F-4656-BAFB-340B1CEEA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2" name="PlaceHolder 1"/>
          <p:cNvSpPr>
            <a:spLocks noGrp="1"/>
          </p:cNvSpPr>
          <p:nvPr>
            <p:ph type="sldImg"/>
          </p:nvPr>
        </p:nvSpPr>
        <p:spPr>
          <a:xfrm>
            <a:off x="985680" y="741240"/>
            <a:ext cx="4886640" cy="3665520"/>
          </a:xfrm>
          <a:prstGeom prst="rect">
            <a:avLst/>
          </a:prstGeom>
          <a:ln w="0">
            <a:noFill/>
          </a:ln>
        </p:spPr>
      </p:sp>
      <p:sp>
        <p:nvSpPr>
          <p:cNvPr id="12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2329B-3083-4FE9-99C2-DB82C0C2B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5" name="PlaceHolder 1"/>
          <p:cNvSpPr>
            <a:spLocks noGrp="1"/>
          </p:cNvSpPr>
          <p:nvPr>
            <p:ph type="sldImg"/>
          </p:nvPr>
        </p:nvSpPr>
        <p:spPr>
          <a:xfrm>
            <a:off x="985680" y="741240"/>
            <a:ext cx="4886640" cy="3665520"/>
          </a:xfrm>
          <a:prstGeom prst="rect">
            <a:avLst/>
          </a:prstGeom>
          <a:ln w="0">
            <a:noFill/>
          </a:ln>
        </p:spPr>
      </p:sp>
      <p:sp>
        <p:nvSpPr>
          <p:cNvPr id="12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190B2-E140-4077-848C-4CB5F2C44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8" name="PlaceHolder 1"/>
          <p:cNvSpPr>
            <a:spLocks noGrp="1"/>
          </p:cNvSpPr>
          <p:nvPr>
            <p:ph type="sldImg"/>
          </p:nvPr>
        </p:nvSpPr>
        <p:spPr>
          <a:xfrm>
            <a:off x="985680" y="741240"/>
            <a:ext cx="4886640" cy="3665520"/>
          </a:xfrm>
          <a:prstGeom prst="rect">
            <a:avLst/>
          </a:prstGeom>
          <a:ln w="0">
            <a:noFill/>
          </a:ln>
        </p:spPr>
      </p:sp>
      <p:sp>
        <p:nvSpPr>
          <p:cNvPr id="12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F7D93-A586-4424-B860-C3CD1BE5E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985680" y="741240"/>
            <a:ext cx="4886640" cy="3665520"/>
          </a:xfrm>
          <a:prstGeom prst="rect">
            <a:avLst/>
          </a:prstGeom>
          <a:ln w="0">
            <a:noFill/>
          </a:ln>
        </p:spPr>
      </p:sp>
      <p:sp>
        <p:nvSpPr>
          <p:cNvPr id="12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8C9F5-C0E1-43FF-AFED-49E314102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85680" y="741240"/>
            <a:ext cx="4886640" cy="3665520"/>
          </a:xfrm>
          <a:prstGeom prst="rect">
            <a:avLst/>
          </a:prstGeom>
          <a:ln w="0">
            <a:noFill/>
          </a:ln>
        </p:spPr>
      </p:sp>
      <p:sp>
        <p:nvSpPr>
          <p:cNvPr id="1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0A7CF-7B91-4984-91E2-21FD04D7F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985680" y="741240"/>
            <a:ext cx="4886640" cy="3665520"/>
          </a:xfrm>
          <a:prstGeom prst="rect">
            <a:avLst/>
          </a:prstGeom>
          <a:ln w="0">
            <a:noFill/>
          </a:ln>
        </p:spPr>
      </p:sp>
      <p:sp>
        <p:nvSpPr>
          <p:cNvPr id="12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F2BD1-1332-4855-8AD1-440B0992FB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0" name="PlaceHolder 1"/>
          <p:cNvSpPr>
            <a:spLocks noGrp="1"/>
          </p:cNvSpPr>
          <p:nvPr>
            <p:ph type="sldImg"/>
          </p:nvPr>
        </p:nvSpPr>
        <p:spPr>
          <a:xfrm>
            <a:off x="985680" y="741240"/>
            <a:ext cx="4886640" cy="3665520"/>
          </a:xfrm>
          <a:prstGeom prst="rect">
            <a:avLst/>
          </a:prstGeom>
          <a:ln w="0">
            <a:noFill/>
          </a:ln>
        </p:spPr>
      </p:sp>
      <p:sp>
        <p:nvSpPr>
          <p:cNvPr id="12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A64F6-004B-4748-9AF4-DB47E8049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2" name="PlaceHolder 1"/>
          <p:cNvSpPr>
            <a:spLocks noGrp="1"/>
          </p:cNvSpPr>
          <p:nvPr>
            <p:ph type="sldImg"/>
          </p:nvPr>
        </p:nvSpPr>
        <p:spPr>
          <a:xfrm>
            <a:off x="985680" y="741240"/>
            <a:ext cx="4886640" cy="3665520"/>
          </a:xfrm>
          <a:prstGeom prst="rect">
            <a:avLst/>
          </a:prstGeom>
          <a:ln w="0">
            <a:noFill/>
          </a:ln>
        </p:spPr>
      </p:sp>
      <p:sp>
        <p:nvSpPr>
          <p:cNvPr id="11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3D6E4-A02C-4259-A294-F7B4D67D0E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985680" y="741240"/>
            <a:ext cx="4886640" cy="3665520"/>
          </a:xfrm>
          <a:prstGeom prst="rect">
            <a:avLst/>
          </a:prstGeom>
          <a:ln w="0">
            <a:noFill/>
          </a:ln>
        </p:spPr>
      </p:sp>
      <p:sp>
        <p:nvSpPr>
          <p:cNvPr id="12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94DF9-7227-49C0-A186-9E188E11B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6" name="PlaceHolder 1"/>
          <p:cNvSpPr>
            <a:spLocks noGrp="1"/>
          </p:cNvSpPr>
          <p:nvPr>
            <p:ph type="sldImg"/>
          </p:nvPr>
        </p:nvSpPr>
        <p:spPr>
          <a:xfrm>
            <a:off x="985680" y="741240"/>
            <a:ext cx="4886640" cy="3665520"/>
          </a:xfrm>
          <a:prstGeom prst="rect">
            <a:avLst/>
          </a:prstGeom>
          <a:ln w="0">
            <a:noFill/>
          </a:ln>
        </p:spPr>
      </p:sp>
      <p:sp>
        <p:nvSpPr>
          <p:cNvPr id="1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55159-CB2D-4586-B2A5-B8298EB85A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85680" y="741240"/>
            <a:ext cx="4886640" cy="3665520"/>
          </a:xfrm>
          <a:prstGeom prst="rect">
            <a:avLst/>
          </a:prstGeom>
          <a:ln w="0">
            <a:noFill/>
          </a:ln>
        </p:spPr>
      </p:sp>
      <p:sp>
        <p:nvSpPr>
          <p:cNvPr id="12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2622-1F07-406D-934F-A0A68B1170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985680" y="741240"/>
            <a:ext cx="4886640" cy="3665520"/>
          </a:xfrm>
          <a:prstGeom prst="rect">
            <a:avLst/>
          </a:prstGeom>
          <a:ln w="0">
            <a:noFill/>
          </a:ln>
        </p:spPr>
      </p:sp>
      <p:sp>
        <p:nvSpPr>
          <p:cNvPr id="1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7AA31-3E7F-4EDE-B469-D60CB7B53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85680" y="741240"/>
            <a:ext cx="4886640" cy="3665520"/>
          </a:xfrm>
          <a:prstGeom prst="rect">
            <a:avLst/>
          </a:prstGeom>
          <a:ln w="0">
            <a:noFill/>
          </a:ln>
        </p:spPr>
      </p:sp>
      <p:sp>
        <p:nvSpPr>
          <p:cNvPr id="1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5576C-82A1-4A82-BCD7-51C2B89F2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A0723-3E17-4915-9143-39CFD02FE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85680" y="741240"/>
            <a:ext cx="4886640" cy="3665520"/>
          </a:xfrm>
          <a:prstGeom prst="rect">
            <a:avLst/>
          </a:prstGeom>
          <a:ln w="0">
            <a:noFill/>
          </a:ln>
        </p:spPr>
      </p:sp>
      <p:sp>
        <p:nvSpPr>
          <p:cNvPr id="12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6E683-7E41-437A-8BFA-B57C4ABBC2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985680" y="741240"/>
            <a:ext cx="4886640" cy="3665520"/>
          </a:xfrm>
          <a:prstGeom prst="rect">
            <a:avLst/>
          </a:prstGeom>
          <a:ln w="0">
            <a:noFill/>
          </a:ln>
        </p:spPr>
      </p:sp>
      <p:sp>
        <p:nvSpPr>
          <p:cNvPr id="1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0D7A9-E102-4D23-B398-C24896392F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85680" y="741240"/>
            <a:ext cx="4886640" cy="3665520"/>
          </a:xfrm>
          <a:prstGeom prst="rect">
            <a:avLst/>
          </a:prstGeom>
          <a:ln w="0">
            <a:noFill/>
          </a:ln>
        </p:spPr>
      </p:sp>
      <p:sp>
        <p:nvSpPr>
          <p:cNvPr id="1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FC3E-2720-45AA-A36C-0EAA906A55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F66BE-4D10-431F-BB4E-E44D7B20DB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5" name="PlaceHolder 1"/>
          <p:cNvSpPr>
            <a:spLocks noGrp="1"/>
          </p:cNvSpPr>
          <p:nvPr>
            <p:ph type="sldImg"/>
          </p:nvPr>
        </p:nvSpPr>
        <p:spPr>
          <a:xfrm>
            <a:off x="985680" y="741240"/>
            <a:ext cx="4886640" cy="3665520"/>
          </a:xfrm>
          <a:prstGeom prst="rect">
            <a:avLst/>
          </a:prstGeom>
          <a:ln w="0">
            <a:noFill/>
          </a:ln>
        </p:spPr>
      </p:sp>
      <p:sp>
        <p:nvSpPr>
          <p:cNvPr id="11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637C1-7DB4-4044-AA32-84CB0BA64C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985680" y="741240"/>
            <a:ext cx="4886640" cy="3665520"/>
          </a:xfrm>
          <a:prstGeom prst="rect">
            <a:avLst/>
          </a:prstGeom>
          <a:ln w="0">
            <a:noFill/>
          </a:ln>
        </p:spPr>
      </p:sp>
      <p:sp>
        <p:nvSpPr>
          <p:cNvPr id="12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AA173-6971-48AC-AE61-100095382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985680" y="741240"/>
            <a:ext cx="4886640" cy="3665520"/>
          </a:xfrm>
          <a:prstGeom prst="rect">
            <a:avLst/>
          </a:prstGeom>
          <a:ln w="0">
            <a:noFill/>
          </a:ln>
        </p:spPr>
      </p:sp>
      <p:sp>
        <p:nvSpPr>
          <p:cNvPr id="1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0CE3F-2E33-4CC2-8D2A-AF6DDDFCD9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985680" y="741240"/>
            <a:ext cx="4886640" cy="3665520"/>
          </a:xfrm>
          <a:prstGeom prst="rect">
            <a:avLst/>
          </a:prstGeom>
          <a:ln w="0">
            <a:noFill/>
          </a:ln>
        </p:spPr>
      </p:sp>
      <p:sp>
        <p:nvSpPr>
          <p:cNvPr id="1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C0379-34EA-424A-8D85-E3F7DB2EB2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68E31-7462-41C6-A9FC-DAB6C2048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985680" y="741240"/>
            <a:ext cx="4886640" cy="3665520"/>
          </a:xfrm>
          <a:prstGeom prst="rect">
            <a:avLst/>
          </a:prstGeom>
          <a:ln w="0">
            <a:noFill/>
          </a:ln>
        </p:spPr>
      </p:sp>
      <p:sp>
        <p:nvSpPr>
          <p:cNvPr id="12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BEAEA-CD76-4F77-856C-E5BC765370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985680" y="741240"/>
            <a:ext cx="4886640" cy="3665520"/>
          </a:xfrm>
          <a:prstGeom prst="rect">
            <a:avLst/>
          </a:prstGeom>
          <a:ln w="0">
            <a:noFill/>
          </a:ln>
        </p:spPr>
      </p:sp>
      <p:sp>
        <p:nvSpPr>
          <p:cNvPr id="1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7B55B-7BAB-4C87-864A-3AEA60EC2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985680" y="741240"/>
            <a:ext cx="4886640" cy="3665520"/>
          </a:xfrm>
          <a:prstGeom prst="rect">
            <a:avLst/>
          </a:prstGeom>
          <a:ln w="0">
            <a:noFill/>
          </a:ln>
        </p:spPr>
      </p:sp>
      <p:sp>
        <p:nvSpPr>
          <p:cNvPr id="1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89A01-0158-457F-BAFD-D39EB18AC1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CCFE-79A8-4B77-B603-3540139A9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FCA08-F6C9-4837-B689-1FB2E2400B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C726D-F9AC-48A4-9C5C-DAA1BD3F4D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8" name="PlaceHolder 1"/>
          <p:cNvSpPr>
            <a:spLocks noGrp="1"/>
          </p:cNvSpPr>
          <p:nvPr>
            <p:ph type="sldImg"/>
          </p:nvPr>
        </p:nvSpPr>
        <p:spPr>
          <a:xfrm>
            <a:off x="985680" y="741240"/>
            <a:ext cx="4886640" cy="3665520"/>
          </a:xfrm>
          <a:prstGeom prst="rect">
            <a:avLst/>
          </a:prstGeom>
          <a:ln w="0">
            <a:noFill/>
          </a:ln>
        </p:spPr>
      </p:sp>
      <p:sp>
        <p:nvSpPr>
          <p:cNvPr id="11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2C11D-6FEB-4210-BFC6-5F5B0D9064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28DA7-19B0-4C81-AC7E-FB3C46A0A9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7D98-7007-4002-B91A-88D01168C7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B7138-A119-4D6E-8274-1A2B5D871D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CC12-6D4F-4534-82CF-B78DADE36C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4E349-4F99-4E70-BA8B-426AA22571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D044A-A8BF-43B4-BB7E-A7FDD8D22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E6B7D-2294-4563-8D61-EBA54D354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18396-B660-419F-8C76-C20310B06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0B9FB-FFE5-4A5A-B92C-26492018A7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6E680-56DE-4093-B954-E7A7397FB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1" name="PlaceHolder 1"/>
          <p:cNvSpPr>
            <a:spLocks noGrp="1"/>
          </p:cNvSpPr>
          <p:nvPr>
            <p:ph type="sldImg"/>
          </p:nvPr>
        </p:nvSpPr>
        <p:spPr>
          <a:xfrm>
            <a:off x="985680" y="741240"/>
            <a:ext cx="4886640" cy="3665520"/>
          </a:xfrm>
          <a:prstGeom prst="rect">
            <a:avLst/>
          </a:prstGeom>
          <a:ln w="0">
            <a:noFill/>
          </a:ln>
        </p:spPr>
      </p:sp>
      <p:sp>
        <p:nvSpPr>
          <p:cNvPr id="11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3BE87-F4D1-4299-BB78-002D1E5E51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74408-EE10-469B-BE12-A0A7E127A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2636C-2A7B-411D-9756-96E9287210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5F8CC-BAD8-478D-9933-22D4EA514E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23B56-C661-4E00-85B8-D5971172E8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F0917-A0D5-448B-86AD-0B3D0E0766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0CECC-A8CB-49E4-8596-BDEF2E8FDF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D72F5-377F-4014-BC20-42F37DC77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4" name="PlaceHolder 1"/>
          <p:cNvSpPr>
            <a:spLocks noGrp="1"/>
          </p:cNvSpPr>
          <p:nvPr>
            <p:ph type="sldImg"/>
          </p:nvPr>
        </p:nvSpPr>
        <p:spPr>
          <a:xfrm>
            <a:off x="985680" y="741240"/>
            <a:ext cx="4886640" cy="3665520"/>
          </a:xfrm>
          <a:prstGeom prst="rect">
            <a:avLst/>
          </a:prstGeom>
          <a:ln w="0">
            <a:noFill/>
          </a:ln>
        </p:spPr>
      </p:sp>
      <p:sp>
        <p:nvSpPr>
          <p:cNvPr id="11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51557-F0A6-4825-867D-A39C33105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7" name="PlaceHolder 1"/>
          <p:cNvSpPr>
            <a:spLocks noGrp="1"/>
          </p:cNvSpPr>
          <p:nvPr>
            <p:ph type="sldImg"/>
          </p:nvPr>
        </p:nvSpPr>
        <p:spPr>
          <a:xfrm>
            <a:off x="985680" y="741240"/>
            <a:ext cx="4886640" cy="3665520"/>
          </a:xfrm>
          <a:prstGeom prst="rect">
            <a:avLst/>
          </a:prstGeom>
          <a:ln w="0">
            <a:noFill/>
          </a:ln>
        </p:spPr>
      </p:sp>
      <p:sp>
        <p:nvSpPr>
          <p:cNvPr id="11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3AD23-2E13-4A24-9FDA-2765F47A0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0" name="PlaceHolder 1"/>
          <p:cNvSpPr>
            <a:spLocks noGrp="1"/>
          </p:cNvSpPr>
          <p:nvPr>
            <p:ph type="sldImg"/>
          </p:nvPr>
        </p:nvSpPr>
        <p:spPr>
          <a:xfrm>
            <a:off x="985680" y="741240"/>
            <a:ext cx="4886640" cy="3665520"/>
          </a:xfrm>
          <a:prstGeom prst="rect">
            <a:avLst/>
          </a:prstGeom>
          <a:ln w="0">
            <a:noFill/>
          </a:ln>
        </p:spPr>
      </p:sp>
      <p:sp>
        <p:nvSpPr>
          <p:cNvPr id="11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A6FE4-1A78-480D-8B74-DB4CCB24A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52B85-4C16-4353-8018-E93CE5DF8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C2C6EC-ED47-4C39-BBF1-577F4D2195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A90BDF-8D02-4959-8F10-B2673AFA27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1CE696-20C1-408E-9566-D7055D80E9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B52198-D030-43F8-A184-713218071D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7D50E2-D90B-46C9-807A-0B42AD8D04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554D14-066F-463A-837D-7D30BDC46F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EB008D-C41C-4365-9E97-A59D925E6F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C777CF-72BC-40A7-838D-89E637F0F8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87AE83B-5083-4B9C-8D93-D4C46AECE1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8F289AB-3467-42FF-B241-785A3FD6862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E5EA9-6BB8-4615-BD47-5D9725A37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E09BB56-543F-40CB-B52B-5EE5A19B13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0C5071-6785-4346-90EA-9A8CEC943C2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2064305-82A6-4C0D-9AA4-425C9213054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E9648A3-FC8D-4FB2-8341-48C9C709650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C1B3C91-C675-4174-A3D6-BA8791427C8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B9F7BD-DBA2-4566-A6F1-EA800052B5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03C4C8-9501-4249-A877-9733AE39FC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5A84EF-F39E-4B38-B751-65A7BC29F9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693BF7-2807-48A8-8398-C6FCBEAED6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0BF20CC-B304-4278-955E-86C3B843003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3CCB0-EDB5-44A5-9366-C116B2F1E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95FF599-C951-4FB6-89F1-840F91D14C7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D6E4A0A-1137-448C-B007-B0E905D78E7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E61FE48-16EE-4B16-9E7E-63FBEF9E789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4E619B5-0357-47D2-BC5B-35B022C007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A4C9CD4-2D47-49CC-8283-553DA4DE37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056BDA-65D7-4337-80BA-729F97AF71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A0DAE2F-8A47-4C66-B37F-49AC22A0D54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695B34-436E-4476-94F3-0FB478B1A3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24C8A3-2AAE-4115-BFBA-D1C3E2BE69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05BFF3-602D-46FB-9D49-B65373E6B0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922F04-3B2A-422E-ACC4-D4C9B9436F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D60DFE-958A-4981-B733-E16ECFDD23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E63245D-BFC6-4770-9F3D-401F38BE3BE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8A0F625-F0CB-4135-A722-1F99306B624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6C082FD-E487-4A8A-81C5-3BE73B12FD2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09A4F11-FF6E-4D7E-A10A-7DDD25C2353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2F713D6-7588-41E6-92B8-4DE4EF451E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5393F0-D64A-4B1E-A22A-865D6729F24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FE6A568-A061-4214-A06F-163BEACA210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DFA913F-CA44-4B5B-8D43-2D64081ABE5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3834A08-BE2F-4413-A385-81C69BE993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4A43C-CBE4-4739-9447-3C3E6C243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E743D7-3E54-4411-97F0-29DB41DB5B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51FFD9-B9C3-4E86-AE69-6F0A549D8A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6ADC04B-B2EA-4192-AD95-EB087F2EEE6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5BC395F-4A02-414D-9CBD-CE189165CCD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0A6F498-02E3-46D5-A9C7-9BE7B84BEE8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CA91E3A5-9C8D-494E-BBAC-B52FE510517A}"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1CF2A1C5-0E6D-4C27-8423-70CD2FD663E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DF0416EA-7427-40D7-B8B5-F67F25B0D7D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34960E21-962C-4752-8848-FAA87A833B2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99105ED3-D553-4ACA-92B5-04CADC8AA54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20C4A-1C5F-4EF1-9034-C819C5E22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8D556C4A-3857-4225-8D93-1348DEA970E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F908A343-ABC3-4FB5-A1BF-4A35208288A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0C18BC0B-A3D5-45E5-819D-1DAB2D2565C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326510BF-882A-4149-8A8B-7A0E14C8962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FD5A2D39-1C96-460F-9C53-F4F5EA9EB13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5CF17425-EDF4-4D38-A91D-9A6E32CB288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ECD3765B-21B0-4D42-9C79-B186A455292A}"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AABBE-10F8-44E5-8947-AC3E6A6E6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2DFF0-DE3D-48A6-BACB-F502CD684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45950-AD29-4F13-86D6-BA367D34C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9611D-C0C5-4E84-88CD-9129545ED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D22F4-43F2-4A5F-AFDB-47AF4002B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322E7-4E27-4EDB-B554-84E68995A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4BD5C-9BF9-41F9-8E17-C79C16CCE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3B4FC-90F8-4FB3-B234-36BEB277A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E3EAEF-6E79-4385-93F4-E902B5F9A1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C455B2-9D15-418D-8B23-C8CE546C6A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0527B8-9BE0-436A-ABE4-6ED9963107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04E353-89DD-4BEA-B399-2DBBE68CFE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5BB640-9C80-4F7B-AA9A-BD84D88281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D17492-65E0-47A1-8201-E22E91C5D7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531E7E-2E77-42C7-8963-523ED6D05D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C8715-2247-4FCA-8E18-616B0A7C0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BF64E5-0582-482A-A270-AD301A0A9A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85DB30-F903-481F-849B-176E281207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BD07A2-E91B-4871-9BC1-F4DD0FC64A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4D73BE-A8A6-42ED-9F35-A8579C12A2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6BFC38-4938-4ED0-A14F-92CA37B709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7BC0B5-33BF-4282-83DB-19A2638DC3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ED94CB-6C09-4CCF-9304-92F9994C63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D26C89-2CAA-4DEE-B22D-F60CB78B58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813133-759B-4624-940A-9B35F17AC0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83E8EB-BDF5-4202-BFB0-A352FDE5A2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A8AC8-CFC6-4E4D-BCA9-91F30867C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4E3634-EBB3-49F4-92A6-8178FC4C9B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EFD5EC-16C0-4612-91F0-34D06E8F39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18E59D-8627-4C1F-8C28-8425F386BA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129AD0-6FBC-4687-95F7-52BF8347D3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8F1FED-CB14-4390-AD4B-1DC366AAB9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39C6FF-EA2A-47BC-9E03-38D6EA7E2D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A0270B-0C88-446B-8D13-3F019679B9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D821CE-B205-4DAA-BB4A-6AADE4094B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04BE94-C794-4683-8CE6-C3D3FA2704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E69004-0799-4615-B792-DC8DA734C9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DF7FB-6187-405C-BDF3-F4DD1C78A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036201-09C0-4821-8B38-50B15EF046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7761FE-3ECE-4D9F-AD8E-EB16239824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20C6AF-9ADA-47FE-AF8F-4BC65FABB4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634E38-B636-43CB-BB36-47A90058C9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2F3B41-646A-4B0A-BF0A-77AB14D1A4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552686-7BEB-469C-99C9-4431BB284F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5A8CB5-6D1C-41A1-99B7-57A5A044D2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72664F-01F2-404A-BDDE-E4B831ED14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8D1D9B-5B4E-4A03-95D5-D5B40A1588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D20156-9241-4170-9936-9B31E8CAE9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D2BD9-0488-4CE7-9B1C-8DBAB2155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D6F0D3-9AF8-4B4C-8B86-801586F216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CD8BBB-D77A-4E3C-AE13-C9486BA6B8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696BB6-FE6B-49B6-BF23-B5221F20B8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1788AA-DC8A-4E2E-B116-EEC9DF1C1F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04D3D4-355D-4270-9A1D-73EA4D566B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11BEC9-2DA8-4EF5-A5A1-6FC21FE4A9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0A5642-064B-48F3-95D1-D249955457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07AFDA-2466-4028-B29A-9935521518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1EBE27-72B5-4131-876D-07A3E2365B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B24C30-6CE8-4DD5-B666-AC71524E73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815B1-4053-4186-9EBC-B3B7BD0D0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292CB7-90AD-41EF-B29A-CDFB7A4910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756D0B-6752-41A9-8AA7-1B4B2A4FDF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7975C6-44A3-40E9-BD16-79A743082E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DBB137-479F-48CE-8B96-F771CE6AC2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690ABF-9506-4CD5-8C5E-AA14D1BA03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7CC101-C751-45F4-B79F-814D56A211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76CF58-7DFB-46C8-8B4A-482C3B9569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922932-F28C-4625-BFAA-5C6BD20DE5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838A58-B999-4831-AE11-7D3A961FEE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0876F8-AF9E-409C-83B2-5F6CC772BA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D7330-30EC-428C-94F4-002651D73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30D441-F4E1-4315-BD40-D4D08DB420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0F18BF-DAAD-46C0-A275-9AAA733623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3AA575-2846-49C6-96CD-8FB089C259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CE01CE-E60B-4879-B1E3-BD444423F3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AEAED8-4A4E-4C52-A486-D76E39D709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2E9973-F37C-4AD4-B5FB-B7A7984144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85E1DC-E67C-470F-A5F2-60BD7DCF1A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3C8095-207D-4A2F-85C0-CB37C152A0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5F35CF-90CD-4F60-A38D-79F1F90F01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66AD34-47BD-4535-9FD9-34437F1959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F8AD2-0987-479E-8FBA-650F48BAD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F17543-16E1-4F49-82A4-300C7B0D91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3939E2-6FCD-4479-9E70-39FBE0C967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CE1497-DE5D-4B45-9FF1-914B676462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C20511-6245-40C3-B065-6A299EA8FE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205D14-FA81-40D8-AA0D-096C21C25B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A9EA68-4B3B-4314-9599-F210F38059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1F4528-EC28-4310-822F-4F0B10A9CF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F63411-0BBE-4D9A-8615-27BB1A8ADE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064A07-7FD3-4AD3-B8E6-10B56864FC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14D37D-01F4-423F-B436-270CB533D99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DAF5B-F04F-4FBF-993A-4250489AA67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80EDC-8610-4844-80AE-66B69BD0132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3DEFA-2FDD-4C52-8444-0EB54CC3FE2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064E0-C735-49E0-8DDD-DC792C266C2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08B62-0408-44A7-8BBC-1B4457F248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AF772-0D9D-4712-9F42-23DD2E29F7F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26EE4-FFA4-4F4E-907A-4BFA1C2290F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1E137-F072-4347-8577-30A13C6D17A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86510-D043-41AC-8BC9-8DEBCAAA9F6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DD2EA-422C-41E7-9AAD-5A593DB3987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B7ED1-B313-482C-9F0C-CA256FAA799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B874E-844E-4752-8324-F2B82032A12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1849C-33D3-4B30-AE1B-3F3657F9058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επώς  θα µπορούσε να προκύψει η µετάβαση </a:t>
            </a:r>
            <a:br>
              <a:rPr sz="2800"/>
            </a:br>
            <a:r>
              <a:rPr b="0" lang="el-GR" sz="2800" spc="-1" strike="noStrike">
                <a:solidFill>
                  <a:srgbClr val="000000"/>
                </a:solidFill>
                <a:latin typeface="Times New Roman"/>
              </a:rPr>
              <a:t>από την ένταξη στη συµπεριληπτική εκπαίδευση</a:t>
            </a:r>
            <a:br>
              <a:rPr sz="2800"/>
            </a:br>
            <a:r>
              <a:rPr b="0" lang="el-GR" sz="2800" spc="-1" strike="noStrike">
                <a:solidFill>
                  <a:srgbClr val="000000"/>
                </a:solidFill>
                <a:latin typeface="Times New Roman"/>
              </a:rPr>
              <a:t>(inclusive education). </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Η  συµπεριληπτική εκπαίδευση  προϋποθέτει τη µετάβαση από ένα µοντέλο κοινωνικής πρόνοιας σε ένα άλλο µοντέλο ίσων ευκαιριών και δικαιωµάτων µε ταυτόχρονη άρση προκαταλήψεων και αποδοχή της διαφορετικότητας (Ζώνιου-Σιδέρη, 2000).</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µπεριληπτική εκπαίδευση απαιτεί αλλαγές στις ήδη υπάρχουσες µορφές διδασκαλίας, </a:t>
            </a:r>
            <a:br>
              <a:rPr sz="2800"/>
            </a:br>
            <a:r>
              <a:rPr b="0" lang="el-GR" sz="2800" spc="-1" strike="noStrike">
                <a:solidFill>
                  <a:srgbClr val="000000"/>
                </a:solidFill>
                <a:latin typeface="Times New Roman"/>
              </a:rPr>
              <a:t>όπως στον τρόπο συμμετοχής των παιδιών στην εκπαιδευτική διαδικασία καθώς και </a:t>
            </a:r>
            <a:br>
              <a:rPr sz="2800"/>
            </a:br>
            <a:r>
              <a:rPr b="0" lang="el-GR" sz="2800" spc="-1" strike="noStrike">
                <a:solidFill>
                  <a:srgbClr val="000000"/>
                </a:solidFill>
                <a:latin typeface="Times New Roman"/>
              </a:rPr>
              <a:t>στον τρόπο εργασίας των µαθητών </a:t>
            </a:r>
            <a:br>
              <a:rPr sz="2800"/>
            </a:br>
            <a:r>
              <a:rPr b="0" lang="el-GR" sz="2800" spc="-1" strike="noStrike">
                <a:solidFill>
                  <a:srgbClr val="000000"/>
                </a:solidFill>
                <a:latin typeface="Times New Roman"/>
              </a:rPr>
              <a:t>(Κυπριωτάκης, 2001). </a:t>
            </a:r>
            <a:br>
              <a:rPr sz="2800"/>
            </a:b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539280" y="1392120"/>
            <a:ext cx="83487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όρος «συµπεριληπτική εκπαίδευση» είναι αποτέλεσµα της προσπάθειας των επιστηµόνων να διευρύνουν τον όρο «ένταξη», ο οποίος δεν αποτελεί πια στόχο αλλά µέσο για την αλλαγή των κοινωνικών δεδοµένων, αφού αφορά τις ευρύτερες κοινωνικές δοµές </a:t>
            </a:r>
            <a:br>
              <a:rPr sz="2800"/>
            </a:br>
            <a:r>
              <a:rPr b="0" lang="el-GR" sz="2800" spc="-1" strike="noStrike">
                <a:solidFill>
                  <a:srgbClr val="000000"/>
                </a:solidFill>
                <a:latin typeface="Times New Roman"/>
              </a:rPr>
              <a:t>(Ζώνιου-Σιδέρη, 2000). </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µπεριληπτική εκπαίδευση» δεν σχετίζεται µε την αφοµοίωση και δεν αγνοεί τις εννοιολογικές και πρακτικές διαφορές µεταξύ των δύο ατόµων µέσα σε ένα κατεξοχήν αµετάβλητο  σύστηµα εκπαιδευτικών παροχών και πρακτικών. </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µπεριληπτική εκπαίδευση»  στοχεύει στο πώς θα κατανοήσουµε και θα εμπλακούμε µε τη διαφορετικότητα µε δημιουργικό  τρόπο και πώς θα χρησιμοποιήσουμε αυτές τις διαφορές σαν µια ευκαιρία για µάθηση και όχι σαν ένα πρόβληµα </a:t>
            </a:r>
            <a:br>
              <a:rPr sz="2800"/>
            </a:br>
            <a:r>
              <a:rPr b="0" lang="el-GR" sz="2800" spc="-1" strike="noStrike">
                <a:solidFill>
                  <a:srgbClr val="000000"/>
                </a:solidFill>
                <a:latin typeface="Times New Roman"/>
              </a:rPr>
              <a:t>που µπορεί να λυθεί ή να αποκλειστεί. </a:t>
            </a:r>
            <a:br>
              <a:rPr sz="2800"/>
            </a:br>
            <a:r>
              <a:rPr b="0" lang="el-GR" sz="2800" spc="-1" strike="noStrike">
                <a:solidFill>
                  <a:srgbClr val="000000"/>
                </a:solidFill>
                <a:latin typeface="Times New Roman"/>
              </a:rPr>
              <a:t>Η «συµπεριληπτική εκπαίδευση» δεν αποτελεί αυτοσκοπό αλλά το µέσο για να επιτευχθεί ο στόχος «</a:t>
            </a:r>
            <a:r>
              <a:rPr b="0" i="1" lang="el-GR" sz="2800" spc="-1" strike="noStrike">
                <a:solidFill>
                  <a:srgbClr val="000000"/>
                </a:solidFill>
                <a:latin typeface="Times New Roman"/>
              </a:rPr>
              <a:t>για µια κοινωνία inclusion</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1128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µπεριληπτική εκπαίδευση» ασχολείται µε τις αιτίες, τον τρόπο, το χρόνο, τον τόπο και τα ενδεχόµενα αποτελέσµατα της εκπαίδευσης </a:t>
            </a:r>
            <a:br>
              <a:rPr sz="2800"/>
            </a:br>
            <a:r>
              <a:rPr b="0" lang="el-GR" sz="2800" spc="-1" strike="noStrike">
                <a:solidFill>
                  <a:srgbClr val="000000"/>
                </a:solidFill>
                <a:latin typeface="Times New Roman"/>
              </a:rPr>
              <a:t>όλων ανεξαιρέτως των µαθητών, µε τη διδασκαλία και τη συµµετοχή όλων εκείνων των αποκλεισµένων µαθητών  αμεα .</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µπεριληπτική εκπαίδευση» αναφέρεται και στην αύξηση της συμμετοχής των µαθητών και στον περιορισµό του αποκλεισµού τους από την πολιτιστική ζωή, τα αναλυτικά προγράµµατα και την ευρύτερη κοινοτική δραστηριότητα του σχολείου. </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8436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µπεριληπτική εκπαίδευση» καλείται να αντιμετωπίσει ζητήματα ισότητας, ανθρωπίνων δικαιωµάτων, κατάργησης των διακρίσεων, και θεμελιώνεται στα ιδανικά της κοινωνικής δικαιοσύνης.</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11280" y="1392120"/>
            <a:ext cx="8137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ανάµεσα στους όρους «ενσωµάτωση» και «συμπερίληψη», σε ό,τι αφορά στο σχολικό περιβάλλον και στο µαθητή, υπάρχουν µερικές βασικές διαφορές. Έτσι, ο όρος «ενσωµάτωση» ερμηνεύεται στενά για να αποδώσει τη φυσική τοποθέτηση και προσαρμογή του µαθητή σε ένα κοινό σχολείο και όχι την ευρύτερη κοινωνική και εκπαιδευτική του ένταξη. </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όρος «συµπερίληψη» κρίνει αναγκαία την προσαρµογή του σχολείου για την ικανοποίηση όλων ανεξαιρέτως των µαθητών </a:t>
            </a:r>
            <a:br>
              <a:rPr sz="2800"/>
            </a:br>
            <a:r>
              <a:rPr b="0" lang="el-GR" sz="2800" spc="-1" strike="noStrike">
                <a:solidFill>
                  <a:srgbClr val="000000"/>
                </a:solidFill>
                <a:latin typeface="Times New Roman"/>
              </a:rPr>
              <a:t>(Campbell et al., 2001). </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Ένταξη και Ενσωμάτωση: </a:t>
            </a:r>
            <a:br>
              <a:rPr sz="3200"/>
            </a:br>
            <a:r>
              <a:rPr b="1" lang="el-GR" sz="3200" spc="-1" strike="noStrike">
                <a:solidFill>
                  <a:srgbClr val="000000"/>
                </a:solidFill>
                <a:latin typeface="Times New Roman"/>
              </a:rPr>
              <a:t>Σημασιολογική Διασαφήνιση των όρων- Προσδιορισμοί και Οριοθετήσεις</a:t>
            </a:r>
            <a:br>
              <a:rPr sz="3200"/>
            </a:br>
            <a:br>
              <a:rPr sz="3200"/>
            </a:br>
            <a:br>
              <a:rPr sz="3200"/>
            </a:br>
            <a:r>
              <a:rPr b="1" lang="el-GR" sz="2000" spc="-1" strike="noStrike">
                <a:solidFill>
                  <a:srgbClr val="000099"/>
                </a:solidFill>
                <a:latin typeface="Arial"/>
                <a:ea typeface="Arial"/>
              </a:rPr>
              <a:t>ΕΙΣΗΓΗΤΕΣ: Παναγιώτης Ν. Μαντάς-Σπυριδούλα Κατσαντώνη</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όρος «ενσωµάτωση» υπονοεί αλλαγές που συμβαίνουν στα µειονεκτούντα άτοµα, </a:t>
            </a:r>
            <a:br>
              <a:rPr sz="2800"/>
            </a:br>
            <a:r>
              <a:rPr b="0" lang="el-GR" sz="2800" spc="-1" strike="noStrike">
                <a:solidFill>
                  <a:srgbClr val="000000"/>
                </a:solidFill>
                <a:latin typeface="Times New Roman"/>
              </a:rPr>
              <a:t>σύµφωνα µε κριτήρια ατόµων που δεν τα διακρίνει κάποια µειονεξία. </a:t>
            </a:r>
            <a:br>
              <a:rPr sz="2800"/>
            </a:br>
            <a:r>
              <a:rPr b="0" lang="el-GR" sz="2800" spc="-1" strike="noStrike">
                <a:solidFill>
                  <a:srgbClr val="000000"/>
                </a:solidFill>
                <a:latin typeface="Times New Roman"/>
              </a:rPr>
              <a:t>Προτείνει δηλαδή ένα αφοµοιωτικό µοντέλο, που υπονοεί ότι ο σκοπός είναι να ενσωματώσουμε κάποιον που έχει αποκλειστεί από κάτι που θεωρείται κανονικό, ώστε να επανέλθει σε αυτό. </a:t>
            </a:r>
            <a:br>
              <a:rPr sz="2800"/>
            </a:b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94920" y="1392120"/>
            <a:ext cx="820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όρος «ενσωµάτωση» δεν αποδέχεται τα θετικά στοιχεία που µπορεί να φέρνει το κάθε άτοµο ξεχωριστά στο µαθησιακό του περιβάλλον, κάτι που απαξιώνει πρωταρχικά κάθε είδους εναλλακτική, προσωπική εµπειρία (Copper, 2000). </a:t>
            </a:r>
            <a:br>
              <a:rPr sz="2800"/>
            </a:br>
            <a:r>
              <a:rPr b="0" lang="el-GR" sz="2800" spc="-1" strike="noStrike">
                <a:solidFill>
                  <a:srgbClr val="000000"/>
                </a:solidFill>
                <a:latin typeface="Times New Roman"/>
              </a:rPr>
              <a:t>Ο όρος «συμπερίληψη» όµως αναγνωρίζει το δικαίωµα και βάζει τέλος στη διάκριση δίνοντας έµφαση στις ίσες ευκαιρίες για όλους τους µαθητές </a:t>
            </a:r>
            <a:br>
              <a:rPr sz="2800"/>
            </a:br>
            <a:r>
              <a:rPr b="0" lang="el-GR" sz="2800" spc="-1" strike="noStrike">
                <a:solidFill>
                  <a:srgbClr val="000000"/>
                </a:solidFill>
                <a:latin typeface="Times New Roman"/>
              </a:rPr>
              <a:t>(Angelides et al., 2006).</a:t>
            </a:r>
            <a:br>
              <a:rPr sz="2800"/>
            </a:b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οψίζοντας θα λέγαµε ότι πέρα από την απλή παροχή ευκαιριών για τοποθέτηση ενός ατόµου µέσα σ’ ένα σύνολο (ένταξη), τα παιδιά µε ειδικές εκπαιδευτικές ανάγκες έχουν κάθε δικαίωµα στις ίδιες εμπειρίες όπως και οι συνοµήλικοί τους που δεν αντιμετωπίζουν κάποια δυσκολία. Έχουν δηλαδή ανάγκη  για  αλληλεπίδραση µε αυτά τα παιδιά και για  εμπειρίες  κοινωνικοποίησης (ενσωµάτωση). </a:t>
            </a:r>
            <a:br>
              <a:rPr sz="2800"/>
            </a:b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25092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νσωμάτωση (</a:t>
            </a:r>
            <a:r>
              <a:rPr b="0" lang="en-US" sz="2800" spc="-1" strike="noStrike">
                <a:solidFill>
                  <a:srgbClr val="000000"/>
                </a:solidFill>
                <a:latin typeface="Times New Roman"/>
              </a:rPr>
              <a:t>mainstreaming</a:t>
            </a:r>
            <a:r>
              <a:rPr b="0" lang="el-GR" sz="2800" spc="-1" strike="noStrike">
                <a:solidFill>
                  <a:srgbClr val="000000"/>
                </a:solidFill>
                <a:latin typeface="Times New Roman"/>
              </a:rPr>
              <a:t>) αφορά κατά βάση τη φυσική τοποθέτηση των μαθητών με ειδικές ανάγκες στο γενικό σχολείο. </a:t>
            </a:r>
            <a:br>
              <a:rPr sz="2800"/>
            </a:br>
            <a:r>
              <a:rPr b="0" lang="el-GR" sz="2800" spc="-1" strike="noStrike">
                <a:solidFill>
                  <a:srgbClr val="000000"/>
                </a:solidFill>
                <a:latin typeface="Times New Roman"/>
              </a:rPr>
              <a:t>Οι μαθητές αυτοί συμμετέχουν σε όλες τις δραστηριότητες που λαμβάνουν χώρα στην κοινή τάξη ανάλογα πάντα με τις δυνατότητες τους χωρίς όμως να λαμβάνουν καμία ξεχωριστή βοήθεια από κάποιον άλλο δάσκαλο εκτός από τον δάσκαλο της τάξης τους (Κόμπος, 1992). </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μοντέλο αυτό δεν προωθεί πέρα από το στοιχείο της φυσικής παρουσίας στο γενικό σχολείο, την ευρύτερη εκπαιδευτική και κοινωνική συμπερίληψη των παιδιών αυτών και δεν λαμβάνει υπόψη τις πραγματικές τους ανάγκες( Ζώνιου-Σιδέρη, 1998).</a:t>
            </a:r>
            <a:br>
              <a:rPr sz="2800"/>
            </a:br>
            <a:r>
              <a:rPr b="0" lang="el-GR" sz="2800" spc="-1" strike="noStrike">
                <a:solidFill>
                  <a:srgbClr val="000000"/>
                </a:solidFill>
                <a:latin typeface="Times New Roman"/>
              </a:rPr>
              <a:t>Ως απάντηση στο μοντέλο της ενσωμάτωσης εμφανίστηκε και απασχόλησε έντονα το εκπαιδευτικό μοντέλο και η λογική της ένταξης (</a:t>
            </a:r>
            <a:r>
              <a:rPr b="0" lang="en-US" sz="2800" spc="-1" strike="noStrike">
                <a:solidFill>
                  <a:srgbClr val="000000"/>
                </a:solidFill>
                <a:latin typeface="Times New Roman"/>
              </a:rPr>
              <a:t>integration</a:t>
            </a:r>
            <a:r>
              <a:rPr b="0" lang="el-GR"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9492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ταξη σημαίνει την αποδοχή, μέσα σε μια ήδη λειτουργούσα- με τις δικές της φυσικές και κοινωνικές δυναμικές –ομάδα, μιας θέσης, από  ένα άτομο ή μια κατηγορία ατόμων, που έχουν διαφορετικά κοινωνικά, βιολογικά, ψυχολογικά ή οικονομικά χαρακτηριστικά και την παροχή κάθε είδους βοήθειας μέσα και έξω από την ομάδα για την διατήρηση της θέσης αυτής καθώς και την απόκτηση ρόλου ή ρόλων στα πλαίσια αυτής της ομάδας ( Ζώνιου-Σιδέρη 1996 στο Χαρίτου, χ,χ.,σελ.24).</a:t>
            </a:r>
            <a:br>
              <a:rPr sz="2800"/>
            </a:b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24000" y="1212840"/>
            <a:ext cx="849600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άλλοι ερευνητές (</a:t>
            </a:r>
            <a:r>
              <a:rPr b="0" lang="en-US" sz="2800" spc="-1" strike="noStrike">
                <a:solidFill>
                  <a:srgbClr val="000000"/>
                </a:solidFill>
                <a:latin typeface="Times New Roman"/>
              </a:rPr>
              <a:t>Sebba</a:t>
            </a:r>
            <a:r>
              <a:rPr b="0" lang="el-GR" sz="2800" spc="-1" strike="noStrike">
                <a:solidFill>
                  <a:srgbClr val="000000"/>
                </a:solidFill>
                <a:latin typeface="Times New Roman"/>
              </a:rPr>
              <a:t>&amp;</a:t>
            </a:r>
            <a:r>
              <a:rPr b="0" lang="en-US" sz="2800" spc="-1" strike="noStrike">
                <a:solidFill>
                  <a:srgbClr val="000000"/>
                </a:solidFill>
                <a:latin typeface="Times New Roman"/>
              </a:rPr>
              <a:t>Ainscow</a:t>
            </a:r>
            <a:r>
              <a:rPr b="0" lang="el-GR" sz="2800" spc="-1" strike="noStrike">
                <a:solidFill>
                  <a:srgbClr val="000000"/>
                </a:solidFill>
                <a:latin typeface="Times New Roman"/>
              </a:rPr>
              <a:t>1996), τονίζουν ότι ένα από τα βασικά μειονεκτήματα της ένταξης είναι ότι αναφέρεται μόνο στον τύπο και τη μορφή του εκπαιδευτικού πλαισίου στο οποίο φοιτούν οι μαθητές με ειδικές ανάγκες ή αναπηρίες, ενώ δε δίνει πληροφορίες για την ποιότητα της παρεχόμενης εκπαίδευσης. </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39640" y="1392120"/>
            <a:ext cx="806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ήμερα η κυρίαρχη τάση όσον αφορά την εκπαίδευση των μαθητών με ειδικές εκπαιδευτικές ανάγκες ή αναπηρίες είναι το μοντέλο της συμπερίληψης (</a:t>
            </a:r>
            <a:r>
              <a:rPr b="0" lang="en-US" sz="2800" spc="-1" strike="noStrike">
                <a:solidFill>
                  <a:srgbClr val="000000"/>
                </a:solidFill>
                <a:latin typeface="Times New Roman"/>
              </a:rPr>
              <a:t>inclusion</a:t>
            </a:r>
            <a:r>
              <a:rPr b="0" lang="el-GR" sz="2800" spc="-1" strike="noStrike">
                <a:solidFill>
                  <a:srgbClr val="000000"/>
                </a:solidFill>
                <a:latin typeface="Times New Roman"/>
              </a:rPr>
              <a:t>). Όλο και περισσότερες χώρες αναγνωρίζοντας στα άτομα αυτά το δικαίωμα να συμμετέχουν ισότιμα στη γενική εκπαίδευση, υιοθετούν τη συμπερίληψη ως κυρίαρχο ρεύμα στην εκπαιδευτική τους πολιτική</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deBoer</a:t>
            </a:r>
            <a:r>
              <a:rPr b="0" lang="el-GR" sz="2800" spc="-1" strike="noStrike">
                <a:solidFill>
                  <a:srgbClr val="000000"/>
                </a:solidFill>
                <a:latin typeface="Times New Roman"/>
              </a:rPr>
              <a:t>, </a:t>
            </a:r>
            <a:r>
              <a:rPr b="0" lang="en-US" sz="2800" spc="-1" strike="noStrike">
                <a:solidFill>
                  <a:srgbClr val="000000"/>
                </a:solidFill>
                <a:latin typeface="Times New Roman"/>
              </a:rPr>
              <a:t>Timmerman</a:t>
            </a:r>
            <a:r>
              <a:rPr b="0" lang="el-GR" sz="2800" spc="-1" strike="noStrike">
                <a:solidFill>
                  <a:srgbClr val="000000"/>
                </a:solidFill>
                <a:latin typeface="Times New Roman"/>
              </a:rPr>
              <a:t>, </a:t>
            </a:r>
            <a:r>
              <a:rPr b="0" lang="en-US" sz="2800" spc="-1" strike="noStrike">
                <a:solidFill>
                  <a:srgbClr val="000000"/>
                </a:solidFill>
                <a:latin typeface="Times New Roman"/>
              </a:rPr>
              <a:t>Pijl </a:t>
            </a:r>
            <a:r>
              <a:rPr b="0" lang="el-GR" sz="2800" spc="-1" strike="noStrike">
                <a:solidFill>
                  <a:srgbClr val="000000"/>
                </a:solidFill>
                <a:latin typeface="Times New Roman"/>
              </a:rPr>
              <a:t>&amp; </a:t>
            </a:r>
            <a:r>
              <a:rPr b="0" lang="en-US" sz="2800" spc="-1" strike="noStrike">
                <a:solidFill>
                  <a:srgbClr val="000000"/>
                </a:solidFill>
                <a:latin typeface="Times New Roman"/>
              </a:rPr>
              <a:t>Minnaert</a:t>
            </a:r>
            <a:r>
              <a:rPr b="0" lang="el-GR" sz="2800" spc="-1" strike="noStrike">
                <a:solidFill>
                  <a:srgbClr val="000000"/>
                </a:solidFill>
                <a:latin typeface="Times New Roman"/>
              </a:rPr>
              <a:t>, 2012).</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μπεριληπτική εκπαίδευση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ή συνεκπαίδευση ή ισότιμη συνεκπαίδευση κατά </a:t>
            </a:r>
            <a:r>
              <a:rPr b="0" lang="en-US" sz="2800" spc="-1" strike="noStrike">
                <a:solidFill>
                  <a:srgbClr val="000000"/>
                </a:solidFill>
                <a:latin typeface="Times New Roman"/>
              </a:rPr>
              <a:t>Hammond</a:t>
            </a:r>
            <a:r>
              <a:rPr b="0" lang="el-GR" sz="2800" spc="-1" strike="noStrike">
                <a:solidFill>
                  <a:srgbClr val="000000"/>
                </a:solidFill>
                <a:latin typeface="Times New Roman"/>
              </a:rPr>
              <a:t>&amp;</a:t>
            </a:r>
            <a:r>
              <a:rPr b="0" lang="en-US" sz="2800" spc="-1" strike="noStrike">
                <a:solidFill>
                  <a:srgbClr val="000000"/>
                </a:solidFill>
                <a:latin typeface="Times New Roman"/>
              </a:rPr>
              <a:t>Ingalls  </a:t>
            </a:r>
            <a:r>
              <a:rPr b="0" lang="el-GR" sz="2800" spc="-1" strike="noStrike">
                <a:solidFill>
                  <a:srgbClr val="000000"/>
                </a:solidFill>
                <a:latin typeface="Times New Roman"/>
              </a:rPr>
              <a:t>(2003),αφορά τον κάθε μαθητή, με τις ιδιαιτερότητες του και του αναγνωρίζει το δικαίωμα να δεχτεί μία ισότιμη εκπαίδευση με όλους τους μαθητές της ίδιας ηλικίας, με σεβασμό στις δυνατότητες και τις αδυναμίες του.</a:t>
            </a:r>
            <a:br>
              <a:rPr sz="2800"/>
            </a:b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68000" y="1392120"/>
            <a:ext cx="849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φιλοσοφία της συμπερίληψης διαπερνά πλέον όλα τα προγράμματα της </a:t>
            </a:r>
            <a:r>
              <a:rPr b="0" lang="en-US" sz="2800" spc="-1" strike="noStrike">
                <a:solidFill>
                  <a:srgbClr val="000000"/>
                </a:solidFill>
                <a:latin typeface="Times New Roman"/>
              </a:rPr>
              <a:t>UNESCO</a:t>
            </a:r>
            <a:r>
              <a:rPr b="0" lang="el-GR" sz="2800" spc="-1" strike="noStrike">
                <a:solidFill>
                  <a:srgbClr val="000000"/>
                </a:solidFill>
                <a:latin typeface="Times New Roman"/>
              </a:rPr>
              <a:t> και αποτελεί έμπνευση και βασική κατεύθυνση  για την ανάπτυξη της εκπαίδευσης για όλους (</a:t>
            </a:r>
            <a:r>
              <a:rPr b="0" lang="en-US" sz="2800" spc="-1" strike="noStrike">
                <a:solidFill>
                  <a:srgbClr val="000000"/>
                </a:solidFill>
                <a:latin typeface="Times New Roman"/>
              </a:rPr>
              <a:t>UNESCO</a:t>
            </a:r>
            <a:r>
              <a:rPr b="0" lang="el-GR" sz="2800" spc="-1" strike="noStrike">
                <a:solidFill>
                  <a:srgbClr val="000000"/>
                </a:solidFill>
                <a:latin typeface="Times New Roman"/>
              </a:rPr>
              <a:t>, 2002). Σχετίζεται με αλλαγές και προσαρμογές στο περιεχόμενο της διδασκαλίας, τις προσεγγίσεις και τις στρατηγικές με στόχο την κάλυψη των εκπαιδευτικών αναγκών όλων των μαθητών και με κυρίαρχη την αντίληψη ότι ένα γενικό εκπαιδευτικό σύστημα έχει την απόλυτη ευθύνη για την εκπαίδευση όλων των παιδιών (</a:t>
            </a:r>
            <a:r>
              <a:rPr b="0" lang="en-US" sz="2800" spc="-1" strike="noStrike">
                <a:solidFill>
                  <a:srgbClr val="000000"/>
                </a:solidFill>
                <a:latin typeface="Times New Roman"/>
              </a:rPr>
              <a:t>Winter </a:t>
            </a:r>
            <a:r>
              <a:rPr b="0" lang="el-GR" sz="2800" spc="-1" strike="noStrike">
                <a:solidFill>
                  <a:srgbClr val="000000"/>
                </a:solidFill>
                <a:latin typeface="Times New Roman"/>
              </a:rPr>
              <a:t>&amp; </a:t>
            </a:r>
            <a:r>
              <a:rPr b="0" lang="en-US" sz="2800" spc="-1" strike="noStrike">
                <a:solidFill>
                  <a:srgbClr val="000000"/>
                </a:solidFill>
                <a:latin typeface="Times New Roman"/>
              </a:rPr>
              <a:t>O</a:t>
            </a:r>
            <a:r>
              <a:rPr b="0" lang="el-GR" sz="2800" spc="-1" strike="noStrike">
                <a:solidFill>
                  <a:srgbClr val="000000"/>
                </a:solidFill>
                <a:latin typeface="Times New Roman"/>
              </a:rPr>
              <a:t>΄</a:t>
            </a:r>
            <a:r>
              <a:rPr b="0" lang="en-US" sz="2800" spc="-1" strike="noStrike">
                <a:solidFill>
                  <a:srgbClr val="000000"/>
                </a:solidFill>
                <a:latin typeface="Times New Roman"/>
              </a:rPr>
              <a:t>Raw</a:t>
            </a:r>
            <a:r>
              <a:rPr b="0" lang="el-GR" sz="2800" spc="-1" strike="noStrike">
                <a:solidFill>
                  <a:srgbClr val="000000"/>
                </a:solidFill>
                <a:latin typeface="Times New Roman"/>
              </a:rPr>
              <a:t>, 2010).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ις μέρες μας στο πλαίσιο της Ειδικής Παιδαγωγικής χρησιμοποιούνται συχνά οι όροι «ένταξη», «ενσωµάτωση» και «συμπερίληψη». </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K</a:t>
            </a:r>
            <a:r>
              <a:rPr b="0" lang="el-GR" sz="2800" spc="-1" strike="noStrike">
                <a:solidFill>
                  <a:srgbClr val="000000"/>
                </a:solidFill>
                <a:latin typeface="Times New Roman"/>
              </a:rPr>
              <a:t>ρίνεται απαραίτητο να   αποσαφηνίσουμε τους όρους αυτούς. </a:t>
            </a:r>
            <a:br>
              <a:rPr sz="2800"/>
            </a:br>
            <a:br>
              <a:rPr sz="2800"/>
            </a:b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 φιλοσοφία της συμπερίληψης  εντάσσεται και η προοπτική ότι όταν ένας μαθητής αντιμετωπίζει δυσκολίες στη μαθησιακή του πορεία τότε το πρόβλημα πρέπει να αναζητηθεί στις μαθησιακές στρατηγικές που εφαρμόζονται και γενικότερα στη λειτουργία του σχολείου και όχι στον ίδιο τον μαθητή(</a:t>
            </a:r>
            <a:r>
              <a:rPr b="0" lang="en-US" sz="2800" spc="-1" strike="noStrike">
                <a:solidFill>
                  <a:srgbClr val="000000"/>
                </a:solidFill>
                <a:latin typeface="Times New Roman"/>
              </a:rPr>
              <a:t>Sharma</a:t>
            </a:r>
            <a:r>
              <a:rPr b="0" lang="el-GR" sz="2800" spc="-1" strike="noStrike">
                <a:solidFill>
                  <a:srgbClr val="000000"/>
                </a:solidFill>
                <a:latin typeface="Times New Roman"/>
              </a:rPr>
              <a:t>, </a:t>
            </a:r>
            <a:r>
              <a:rPr b="0" lang="en-US" sz="2800" spc="-1" strike="noStrike">
                <a:solidFill>
                  <a:srgbClr val="000000"/>
                </a:solidFill>
                <a:latin typeface="Times New Roman"/>
              </a:rPr>
              <a:t>Loreman </a:t>
            </a:r>
            <a:r>
              <a:rPr b="0" lang="el-GR" sz="2800" spc="-1" strike="noStrike">
                <a:solidFill>
                  <a:srgbClr val="000000"/>
                </a:solidFill>
                <a:latin typeface="Times New Roman"/>
              </a:rPr>
              <a:t>&amp; </a:t>
            </a:r>
            <a:r>
              <a:rPr b="0" lang="en-US" sz="2800" spc="-1" strike="noStrike">
                <a:solidFill>
                  <a:srgbClr val="000000"/>
                </a:solidFill>
                <a:latin typeface="Times New Roman"/>
              </a:rPr>
              <a:t>Forlin</a:t>
            </a:r>
            <a:r>
              <a:rPr b="0" lang="el-GR" sz="2800" spc="-1" strike="noStrike">
                <a:solidFill>
                  <a:srgbClr val="000000"/>
                </a:solidFill>
                <a:latin typeface="Times New Roman"/>
              </a:rPr>
              <a:t>,2012).</a:t>
            </a:r>
            <a:br>
              <a:rPr sz="2800"/>
            </a:b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ν Ημέλλου Ο., (2017), η φιλοσοφία του «σχολείου για όλους τους μαθητές», αποτελεί κοινό σημείο αναφοράς της απόδοσης στην ελληνική γλώσσα του αγγλικού όρου «inclusion» με όρους όπως «ενσωμάτωση», «ένταξη», «συνεκπαίδευση», «ισότιμη συνεκπαίδευση» ή «συμπερίληψη». </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Πιο κοντά στην εκπαιδευτική διαδικασία βρίσκεται ο όρος «ισότιμη συνεκπαίδευση» (Χαρούπιας, 1997, σ. 58), ενεργητική και κοινωνικά αλληλεπιδρασιακή διαδικασία της συγκεκριμένης φιλοσοφίας (Ημέλλου, 2015). Άλλοι πάλι αποδίδουν τον όρο inclusion στην ελληνική πραγματικότητα με τον όρο ένταξη ή ενταξιακή εκπαίδευση αναφορικά με το χώρο της εκπαίδευσης. </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στιάζοντας στη διαφορετικότητα και στην αναφορά του όρου «ανθρώπινη ποικιλομορφία», στα πλαίσια της Σύμβασης για τα Δικαιώματα των Ατόμων με Αναπηρία (Νόμος 4074, 2012, σ. 2640), προτείνεται η αξιοποίηση του όρου «νευροποικιλότητα» (neurodiversity), ως ένας νέος τρόπος αναφοράς στις διαφορετικότητες των ατόμων με αναπηρία και/ή ειδικές εκπαιδευτικές ανάγκες (Armstrong,2012).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διεθνής βιβλιογραφία και αρθρογραφία αναδεικνύουν σημαντικές διαφορές στις απόψεις των χωρών, των κυβερνήσεων, των διεθνών οργανισμών αλλά και των ακαδημαϊκών αναφορικά με το περιεχόμενο του όρου συμπερίληψη(</a:t>
            </a:r>
            <a:r>
              <a:rPr b="0" lang="en-US" sz="2800" spc="-1" strike="noStrike">
                <a:solidFill>
                  <a:srgbClr val="000000"/>
                </a:solidFill>
                <a:latin typeface="Times New Roman"/>
              </a:rPr>
              <a:t>Acedo</a:t>
            </a:r>
            <a:r>
              <a:rPr b="0" lang="el-GR" sz="2800" spc="-1" strike="noStrike">
                <a:solidFill>
                  <a:srgbClr val="000000"/>
                </a:solidFill>
                <a:latin typeface="Times New Roman"/>
              </a:rPr>
              <a:t>, </a:t>
            </a:r>
            <a:r>
              <a:rPr b="0" lang="en-US" sz="2800" spc="-1" strike="noStrike">
                <a:solidFill>
                  <a:srgbClr val="000000"/>
                </a:solidFill>
                <a:latin typeface="Times New Roman"/>
              </a:rPr>
              <a:t>Ferrer </a:t>
            </a:r>
            <a:r>
              <a:rPr b="0" lang="el-GR" sz="2800" spc="-1" strike="noStrike">
                <a:solidFill>
                  <a:srgbClr val="000000"/>
                </a:solidFill>
                <a:latin typeface="Times New Roman"/>
              </a:rPr>
              <a:t>&amp; </a:t>
            </a:r>
            <a:r>
              <a:rPr b="0" lang="en-US" sz="2800" spc="-1" strike="noStrike">
                <a:solidFill>
                  <a:srgbClr val="000000"/>
                </a:solidFill>
                <a:latin typeface="Times New Roman"/>
              </a:rPr>
              <a:t>Pamies</a:t>
            </a:r>
            <a:r>
              <a:rPr b="0" lang="el-GR" sz="2800" spc="-1" strike="noStrike">
                <a:solidFill>
                  <a:srgbClr val="000000"/>
                </a:solidFill>
                <a:latin typeface="Times New Roman"/>
              </a:rPr>
              <a:t>, 2009). Άλλοι ορισμοί εστιάζουν στην εκπαιδευτική συμπερίληψη των μαθητών με ειδικές ανάγκες ή αναπηρίες σε δομές του γενικού σχολείου για όλους, ενώ άλλοι μιλούν για κοινωνική συμπερίληψη(</a:t>
            </a:r>
            <a:r>
              <a:rPr b="0" lang="en-US" sz="2800" spc="-1" strike="noStrike">
                <a:solidFill>
                  <a:srgbClr val="000000"/>
                </a:solidFill>
                <a:latin typeface="Times New Roman"/>
              </a:rPr>
              <a:t>Sosu</a:t>
            </a:r>
            <a:r>
              <a:rPr b="0" lang="el-GR" sz="2800" spc="-1" strike="noStrike">
                <a:solidFill>
                  <a:srgbClr val="000000"/>
                </a:solidFill>
                <a:latin typeface="Times New Roman"/>
              </a:rPr>
              <a:t>, </a:t>
            </a:r>
            <a:r>
              <a:rPr b="0" lang="en-US" sz="2800" spc="-1" strike="noStrike">
                <a:solidFill>
                  <a:srgbClr val="000000"/>
                </a:solidFill>
                <a:latin typeface="Times New Roman"/>
              </a:rPr>
              <a:t>Mtika </a:t>
            </a:r>
            <a:r>
              <a:rPr b="0" lang="el-GR" sz="2800" spc="-1" strike="noStrike">
                <a:solidFill>
                  <a:srgbClr val="000000"/>
                </a:solidFill>
                <a:latin typeface="Times New Roman"/>
              </a:rPr>
              <a:t>&amp; </a:t>
            </a:r>
            <a:r>
              <a:rPr b="0" lang="en-US" sz="2800" spc="-1" strike="noStrike">
                <a:solidFill>
                  <a:srgbClr val="000000"/>
                </a:solidFill>
                <a:latin typeface="Times New Roman"/>
              </a:rPr>
              <a:t>Colucci</a:t>
            </a:r>
            <a:r>
              <a:rPr b="0" lang="el-GR" sz="2800" spc="-1" strike="noStrike">
                <a:solidFill>
                  <a:srgbClr val="000000"/>
                </a:solidFill>
                <a:latin typeface="Times New Roman"/>
              </a:rPr>
              <a:t>-</a:t>
            </a:r>
            <a:r>
              <a:rPr b="0" lang="en-US" sz="2800" spc="-1" strike="noStrike">
                <a:solidFill>
                  <a:srgbClr val="000000"/>
                </a:solidFill>
                <a:latin typeface="Times New Roman"/>
              </a:rPr>
              <a:t>Gray</a:t>
            </a:r>
            <a:r>
              <a:rPr b="0" lang="el-GR" sz="2800" spc="-1" strike="noStrike">
                <a:solidFill>
                  <a:srgbClr val="000000"/>
                </a:solidFill>
                <a:latin typeface="Times New Roman"/>
              </a:rPr>
              <a:t>, 2010).</a:t>
            </a:r>
            <a:br>
              <a:rPr sz="2800"/>
            </a:b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ζήτημα της ένταξης των παιδιών με ε.ε.α στο γενικό σχολικό σύστημα συχνά φαίνεται να τίθεται γενικά και να απαντάται συνολικά. </a:t>
            </a:r>
            <a:br>
              <a:rPr sz="2800"/>
            </a:br>
            <a:r>
              <a:rPr b="0" lang="el-GR" sz="2800" spc="-1" strike="noStrike">
                <a:solidFill>
                  <a:srgbClr val="000000"/>
                </a:solidFill>
                <a:latin typeface="Times New Roman"/>
              </a:rPr>
              <a:t>Η ένταξη όμως δεν είναι καθορισμένη και ούτε επιτυγχάνεται με το να βρίσκονται </a:t>
            </a:r>
            <a:br>
              <a:rPr sz="2800"/>
            </a:br>
            <a:r>
              <a:rPr b="0" lang="el-GR" sz="2800" spc="-1" strike="noStrike">
                <a:solidFill>
                  <a:srgbClr val="000000"/>
                </a:solidFill>
                <a:latin typeface="Times New Roman"/>
              </a:rPr>
              <a:t>στον ίδιο χώρο οι μαθητές με ε.ε.α </a:t>
            </a:r>
            <a:br>
              <a:rPr sz="2800"/>
            </a:br>
            <a:r>
              <a:rPr b="0" lang="el-GR" sz="2800" spc="-1" strike="noStrike">
                <a:solidFill>
                  <a:srgbClr val="000000"/>
                </a:solidFill>
                <a:latin typeface="Times New Roman"/>
              </a:rPr>
              <a:t>με τους μαθητές με τυπική ανάπτυξη.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a:t>
            </a:r>
            <a:r>
              <a:rPr b="0" i="1" lang="el-GR" sz="2800" spc="-1" strike="noStrike">
                <a:solidFill>
                  <a:srgbClr val="000000"/>
                </a:solidFill>
                <a:latin typeface="Times New Roman"/>
              </a:rPr>
              <a:t>Σκοπός της ένταξης είναι ο κάθε άνθρωπος να αναγνωρίζεται και να μαθαίνει σαν ένα ολοκληρωμένο άτομο, έτσι ώστε να συμμετέχει ισότιμα σ’ όλους τους τομείς της κοινωνίας μας, η δημιουργία ενός σχολείου για ανθρώπους που δεν είναι οι «συνηθισμένοι» αλλά ξεχωρίζουν ατομικά και ειδικά και που τους επιτρέπεται να ζουν με διαφορετικούς τρόπους, να θέτουν διαφορετικούς στόχους και να διαμορφώνουν από κοινού το σχολείο και την κοινωνία»</a:t>
            </a:r>
            <a:r>
              <a:rPr b="0" lang="el-GR" sz="2800" spc="-1" strike="noStrike">
                <a:solidFill>
                  <a:srgbClr val="000000"/>
                </a:solidFill>
                <a:latin typeface="Times New Roman"/>
              </a:rPr>
              <a:t> (Ζώνιου- Σιδέρη, 1996).</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77336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a:t>
            </a:r>
            <a:r>
              <a:rPr b="0" lang="en-US" sz="2800" spc="-1" strike="noStrike">
                <a:solidFill>
                  <a:srgbClr val="000000"/>
                </a:solidFill>
                <a:latin typeface="Times New Roman"/>
              </a:rPr>
              <a:t>Zoniou</a:t>
            </a:r>
            <a:r>
              <a:rPr b="0" lang="el-GR" sz="2800" spc="-1" strike="noStrike">
                <a:solidFill>
                  <a:srgbClr val="000000"/>
                </a:solidFill>
                <a:latin typeface="Times New Roman"/>
              </a:rPr>
              <a:t>- </a:t>
            </a:r>
            <a:r>
              <a:rPr b="0" lang="en-US" sz="2800" spc="-1" strike="noStrike">
                <a:solidFill>
                  <a:srgbClr val="000000"/>
                </a:solidFill>
                <a:latin typeface="Times New Roman"/>
              </a:rPr>
              <a:t>Sideri </a:t>
            </a:r>
            <a:r>
              <a:rPr b="0" lang="el-GR" sz="2800" spc="-1" strike="noStrike">
                <a:solidFill>
                  <a:srgbClr val="000000"/>
                </a:solidFill>
                <a:latin typeface="Times New Roman"/>
              </a:rPr>
              <a:t>&amp; </a:t>
            </a:r>
            <a:r>
              <a:rPr b="0" lang="en-US" sz="2800" spc="-1" strike="noStrike">
                <a:solidFill>
                  <a:srgbClr val="000000"/>
                </a:solidFill>
                <a:latin typeface="Times New Roman"/>
              </a:rPr>
              <a:t>Vlachou </a:t>
            </a:r>
            <a:r>
              <a:rPr b="0" lang="el-GR" sz="2800" spc="-1" strike="noStrike">
                <a:solidFill>
                  <a:srgbClr val="000000"/>
                </a:solidFill>
                <a:latin typeface="Times New Roman"/>
              </a:rPr>
              <a:t>(2006) αναφέρουν πως η «ένταξη» και η «ενταξιακή εκπαίδευση» είναι συνδεδεμένες </a:t>
            </a:r>
            <a:br>
              <a:rPr sz="2800"/>
            </a:br>
            <a:r>
              <a:rPr b="1" i="1" lang="el-GR" sz="2800" spc="-1" strike="noStrike">
                <a:solidFill>
                  <a:srgbClr val="000000"/>
                </a:solidFill>
                <a:latin typeface="Times New Roman"/>
              </a:rPr>
              <a:t>με το αίτημα της ισότητας, </a:t>
            </a:r>
            <a:br>
              <a:rPr sz="2800"/>
            </a:br>
            <a:r>
              <a:rPr b="1" i="1" lang="el-GR" sz="2800" spc="-1" strike="noStrike">
                <a:solidFill>
                  <a:srgbClr val="000000"/>
                </a:solidFill>
                <a:latin typeface="Times New Roman"/>
              </a:rPr>
              <a:t>της κοινωνικής δικαιοσύνης, </a:t>
            </a:r>
            <a:br>
              <a:rPr sz="2800"/>
            </a:br>
            <a:r>
              <a:rPr b="1" i="1" lang="el-GR" sz="2800" spc="-1" strike="noStrike">
                <a:solidFill>
                  <a:srgbClr val="000000"/>
                </a:solidFill>
                <a:latin typeface="Times New Roman"/>
              </a:rPr>
              <a:t>της συμμετοχής και </a:t>
            </a:r>
            <a:br>
              <a:rPr sz="2800"/>
            </a:br>
            <a:r>
              <a:rPr b="1" i="1" lang="el-GR" sz="2800" spc="-1" strike="noStrike">
                <a:solidFill>
                  <a:srgbClr val="000000"/>
                </a:solidFill>
                <a:latin typeface="Times New Roman"/>
              </a:rPr>
              <a:t>της απομάκρυνσης όλων των ιδεολογιών και των πρακτικών «διαχωρισμού</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ασίζεται σε μια </a:t>
            </a:r>
            <a:r>
              <a:rPr b="1" i="1" lang="el-GR" sz="2800" spc="-1" strike="noStrike">
                <a:solidFill>
                  <a:srgbClr val="000000"/>
                </a:solidFill>
                <a:latin typeface="Times New Roman"/>
              </a:rPr>
              <a:t>θετική οπτική της διαφορετικότητας</a:t>
            </a:r>
            <a:r>
              <a:rPr b="0" lang="el-GR" sz="2800" spc="-1" strike="noStrike">
                <a:solidFill>
                  <a:srgbClr val="000000"/>
                </a:solidFill>
                <a:latin typeface="Times New Roman"/>
              </a:rPr>
              <a:t> και </a:t>
            </a:r>
            <a:br>
              <a:rPr sz="2800"/>
            </a:br>
            <a:r>
              <a:rPr b="0" lang="el-GR" sz="2800" spc="-1" strike="noStrike">
                <a:solidFill>
                  <a:srgbClr val="000000"/>
                </a:solidFill>
                <a:latin typeface="Times New Roman"/>
              </a:rPr>
              <a:t>στην αρχή ότι όλοι οι μαθητές, συμπεριλαμβανομένων και των «</a:t>
            </a:r>
            <a:r>
              <a:rPr b="1" i="1" lang="el-GR" sz="2800" spc="-1" strike="noStrike">
                <a:solidFill>
                  <a:srgbClr val="000000"/>
                </a:solidFill>
                <a:latin typeface="Times New Roman"/>
              </a:rPr>
              <a:t>διαφορετικών»</a:t>
            </a:r>
            <a:r>
              <a:rPr b="0" lang="el-GR" sz="2800" spc="-1" strike="noStrike">
                <a:solidFill>
                  <a:srgbClr val="000000"/>
                </a:solidFill>
                <a:latin typeface="Times New Roman"/>
              </a:rPr>
              <a:t>, πρέπει να θεωρούνται «άξιοι» και να γίνονται «σεβαστοί» από την σχολική κοινότητα, συνεισφέροντας με αυτόν τον τρόπο στις κοινωνικές δομές του σχολείου, στο αναλυτικό πρόγραμμα και στις στρατηγικές που χρησιμοποιούνται από τους εκπαιδευτικούς προκειμένου να διδάξουν όλα τα παιδιά.</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Υπό αυτή την οπτική, η «ενταξιακή εκπαίδευση» είναι μια σύνθετη διαδικασία, η οποία απαιτεί κοινωνική θεώρηση της αναπηρίας, ανακατασκευή των «ειδικών εκπαιδευτικών αναγκών», επαναδόμηση και επανοργάνωση του σχολείου και του αναλυτικού προγράμματος και τέλος διαχείριση των δομών, με τέτοιο τρόπο έτσι ώστε να μπορούν κάθε φορά, αφού προσδιοριστούν τα εμπόδια για την «συμμετοχή», να</a:t>
            </a:r>
            <a:br>
              <a:rPr sz="2800"/>
            </a:br>
            <a:r>
              <a:rPr b="0" lang="el-GR" sz="2800" spc="-1" strike="noStrike">
                <a:solidFill>
                  <a:srgbClr val="000000"/>
                </a:solidFill>
                <a:latin typeface="Times New Roman"/>
              </a:rPr>
              <a:t>υπερνικηθούν. </a:t>
            </a:r>
            <a:br>
              <a:rPr sz="2800"/>
            </a:b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χνά οι έννοιες αυτές θεωρούνται έννοιες ταυτόσηµες. Πολλοί χρησιμοποιούν τους όρους ένταξη, και ενσωμάτωση µε την ίδια, παραπλήσια ή και διαφορετική έννοια. </a:t>
            </a:r>
            <a:br>
              <a:rPr sz="2800"/>
            </a:br>
            <a:r>
              <a:rPr b="0" lang="el-GR" sz="2800" spc="-1" strike="noStrike">
                <a:solidFill>
                  <a:srgbClr val="000000"/>
                </a:solidFill>
                <a:latin typeface="Times New Roman"/>
              </a:rPr>
              <a:t>Άλλοι προτιµούν τον όρο «ένταξη» αντί του όρου «ενσωµάτωση» ή και τους δυο µε την ίδια έννοια, ή θεωρούν την ένταξη ως προϋπόθεση της ενσωµάτωσης. </a:t>
            </a:r>
            <a:br>
              <a:rPr sz="2800"/>
            </a:br>
            <a:r>
              <a:rPr b="0" lang="el-GR" sz="2800" spc="-1" strike="noStrike">
                <a:solidFill>
                  <a:srgbClr val="000000"/>
                </a:solidFill>
                <a:latin typeface="Times New Roman"/>
              </a:rPr>
              <a:t>(Λιοδάκης, 1997, Κόµπος, 1992, Τσιναρέλης, 1993, Πολυχρονοπούλου, 1995). </a:t>
            </a:r>
            <a:br>
              <a:rPr sz="2800"/>
            </a:b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ομοίως για τον </a:t>
            </a:r>
            <a:r>
              <a:rPr b="0" lang="en-US" sz="2800" spc="-1" strike="noStrike">
                <a:solidFill>
                  <a:srgbClr val="000000"/>
                </a:solidFill>
                <a:latin typeface="Times New Roman"/>
              </a:rPr>
              <a:t>Ainscow </a:t>
            </a:r>
            <a:r>
              <a:rPr b="0" lang="el-GR" sz="2800" spc="-1" strike="noStrike">
                <a:solidFill>
                  <a:srgbClr val="000000"/>
                </a:solidFill>
                <a:latin typeface="Times New Roman"/>
              </a:rPr>
              <a:t>(1995) «ενταξιακή εκπαίδευση»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είναι η διεύρυνση του πεδίου δράσης του γενικού σχολείου έτσι ώστε να μπορέσει να συμπεριλάβει μεγαλύτερο εύρος αναγκών και δυνατοτήτων, άλλωστε η ένταξη συνεπάγεται την συντροφικότητα και την άνευ όρων συμμετοχή ενός ατόμου με ε.ε.α στην γενική τάξη του γενικού σχολείου.</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178920" y="1125000"/>
            <a:ext cx="87138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στις πρακτικές «διαχωρισμού», </a:t>
            </a:r>
            <a:br>
              <a:rPr sz="2800"/>
            </a:br>
            <a:r>
              <a:rPr b="0" lang="el-GR" sz="2800" spc="-1" strike="noStrike">
                <a:solidFill>
                  <a:srgbClr val="000000"/>
                </a:solidFill>
                <a:latin typeface="Times New Roman"/>
              </a:rPr>
              <a:t>η διαφοροποίηση της ενταξιακής εκπαίδευσης </a:t>
            </a:r>
            <a:br>
              <a:rPr sz="2800"/>
            </a:br>
            <a:r>
              <a:rPr b="0" lang="el-GR" sz="2800" spc="-1" strike="noStrike">
                <a:solidFill>
                  <a:srgbClr val="000000"/>
                </a:solidFill>
                <a:latin typeface="Times New Roman"/>
              </a:rPr>
              <a:t>δεν περιορίζεται στο δίπτυχο </a:t>
            </a:r>
            <a:br>
              <a:rPr sz="2800"/>
            </a:br>
            <a:r>
              <a:rPr b="1" i="1" lang="el-GR" sz="2800" spc="-1" strike="noStrike">
                <a:solidFill>
                  <a:srgbClr val="000000"/>
                </a:solidFill>
                <a:latin typeface="Times New Roman"/>
              </a:rPr>
              <a:t>«γενική τάξη /</a:t>
            </a:r>
            <a:r>
              <a:rPr b="1" i="1" lang="en-US" sz="2800" spc="-1" strike="noStrike">
                <a:solidFill>
                  <a:srgbClr val="000000"/>
                </a:solidFill>
                <a:latin typeface="Times New Roman"/>
              </a:rPr>
              <a:t> </a:t>
            </a:r>
            <a:r>
              <a:rPr b="1" i="1" lang="el-GR" sz="2800" spc="-1" strike="noStrike">
                <a:solidFill>
                  <a:srgbClr val="000000"/>
                </a:solidFill>
                <a:latin typeface="Times New Roman"/>
              </a:rPr>
              <a:t>ειδική τάξη/ ειδικό σχολείο», </a:t>
            </a:r>
            <a:br>
              <a:rPr sz="2800"/>
            </a:br>
            <a:r>
              <a:rPr b="0" lang="el-GR" sz="2800" spc="-1" strike="noStrike">
                <a:solidFill>
                  <a:srgbClr val="000000"/>
                </a:solidFill>
                <a:latin typeface="Times New Roman"/>
              </a:rPr>
              <a:t>αλλά καλύπτει όλες τις εκπαιδευτικές πρακτικές που διαχωρίζουν τους μαθητές (</a:t>
            </a:r>
            <a:r>
              <a:rPr b="0" lang="en-US" sz="2800" spc="-1" strike="noStrike">
                <a:solidFill>
                  <a:srgbClr val="000000"/>
                </a:solidFill>
                <a:latin typeface="Times New Roman"/>
              </a:rPr>
              <a:t>Mitchell</a:t>
            </a:r>
            <a:r>
              <a:rPr b="0" lang="el-GR" sz="2800" spc="-1" strike="noStrike">
                <a:solidFill>
                  <a:srgbClr val="000000"/>
                </a:solidFill>
                <a:latin typeface="Times New Roman"/>
              </a:rPr>
              <a:t>, 2005). </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178920" y="1125000"/>
            <a:ext cx="8713800" cy="465948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a:t>
            </a:r>
            <a:r>
              <a:rPr b="0" lang="en-US" sz="2800" spc="-1" strike="noStrike">
                <a:solidFill>
                  <a:srgbClr val="000000"/>
                </a:solidFill>
                <a:latin typeface="Times New Roman"/>
              </a:rPr>
              <a:t>Dyson </a:t>
            </a:r>
            <a:r>
              <a:rPr b="0" lang="el-GR" sz="2800" spc="-1" strike="noStrike">
                <a:solidFill>
                  <a:srgbClr val="000000"/>
                </a:solidFill>
                <a:latin typeface="Times New Roman"/>
              </a:rPr>
              <a:t>(2001) παρατηρεί </a:t>
            </a:r>
            <a:br>
              <a:rPr sz="2800"/>
            </a:br>
            <a:r>
              <a:rPr b="0" lang="el-GR" sz="2800" spc="-1" strike="noStrike">
                <a:solidFill>
                  <a:srgbClr val="000000"/>
                </a:solidFill>
                <a:latin typeface="Times New Roman"/>
              </a:rPr>
              <a:t>πως υπάρχουν πολλοί μαθητές με ε.ε.α που είναι φαινομενικά ενταγμένοι και </a:t>
            </a:r>
            <a:br>
              <a:rPr sz="2800"/>
            </a:br>
            <a:r>
              <a:rPr b="0" lang="el-GR" sz="2800" spc="-1" strike="noStrike">
                <a:solidFill>
                  <a:srgbClr val="000000"/>
                </a:solidFill>
                <a:latin typeface="Times New Roman"/>
              </a:rPr>
              <a:t>οι οποίοι εκπαιδεύονται σε ξεχωριστές </a:t>
            </a:r>
            <a:br>
              <a:rPr sz="2800"/>
            </a:br>
            <a:r>
              <a:rPr b="0" lang="el-GR" sz="2800" spc="-1" strike="noStrike">
                <a:solidFill>
                  <a:srgbClr val="000000"/>
                </a:solidFill>
                <a:latin typeface="Times New Roman"/>
              </a:rPr>
              <a:t>ή εν μέρει ξεχωριστές δομές μέσα στο γενικό σχολείο, </a:t>
            </a:r>
            <a:br>
              <a:rPr sz="2800"/>
            </a:br>
            <a:r>
              <a:rPr b="0" lang="el-GR" sz="2800" spc="-1" strike="noStrike">
                <a:solidFill>
                  <a:srgbClr val="000000"/>
                </a:solidFill>
                <a:latin typeface="Times New Roman"/>
              </a:rPr>
              <a:t>βρισκόμενοι σε τόσο μεγάλη απομόνωση </a:t>
            </a:r>
            <a:br>
              <a:rPr sz="2800"/>
            </a:br>
            <a:r>
              <a:rPr b="0" lang="el-GR" sz="2800" spc="-1" strike="noStrike">
                <a:solidFill>
                  <a:srgbClr val="000000"/>
                </a:solidFill>
                <a:latin typeface="Times New Roman"/>
              </a:rPr>
              <a:t>από τους συνομηλίκους τους, </a:t>
            </a:r>
            <a:br>
              <a:rPr sz="2800"/>
            </a:br>
            <a:r>
              <a:rPr b="0" lang="el-GR" sz="2800" spc="-1" strike="noStrike">
                <a:solidFill>
                  <a:srgbClr val="000000"/>
                </a:solidFill>
                <a:latin typeface="Times New Roman"/>
              </a:rPr>
              <a:t>έτσι ώστε να μπορούμε να μιλάμε για «μικρά» ειδικά σχολεία μέσα στα γενικά.</a:t>
            </a: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η ένταξη δεν αφορά μόνο στην εκπαίδευση αλλά και στην εργασία, την δημιουργικότητα, την υγεία και τις συνθήκες ζωής. Για αυτό λοιπόν τον λόγο απαιτούνται αλλαγές σε επίπεδο κυβερνητικό αλλά και δημοσίων παροχών.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αρακτηριστικά αναφέρει ο </a:t>
            </a:r>
            <a:r>
              <a:rPr b="0" lang="en-US" sz="2800" spc="-1" strike="noStrike">
                <a:solidFill>
                  <a:srgbClr val="000000"/>
                </a:solidFill>
                <a:latin typeface="Times New Roman"/>
              </a:rPr>
              <a:t>Mitchell </a:t>
            </a:r>
            <a:r>
              <a:rPr b="0" lang="el-GR" sz="2800" spc="-1" strike="noStrike">
                <a:solidFill>
                  <a:srgbClr val="000000"/>
                </a:solidFill>
                <a:latin typeface="Times New Roman"/>
              </a:rPr>
              <a:t>(2005) πως ο εκπαιδευτικός αποκλεισμός λαμβάνει χώρα μέσα σε μια «θάλασσα» κοινωνικού αποκλεισμού, ο οποίος επηρεάζει βασικά ανθρώπινα δικαιώματα όπως: τροφή, στέγη, κοινωνική ασφάλιση, εργασία, εκπαίδευση.</a:t>
            </a:r>
            <a:br>
              <a:rPr sz="2000"/>
            </a:b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324000" y="1392120"/>
            <a:ext cx="8424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a:t>
            </a:r>
            <a:r>
              <a:rPr b="0" lang="en-US" sz="2800" spc="-1" strike="noStrike">
                <a:solidFill>
                  <a:srgbClr val="000000"/>
                </a:solidFill>
                <a:latin typeface="Times New Roman"/>
              </a:rPr>
              <a:t>Corbett </a:t>
            </a:r>
            <a:r>
              <a:rPr b="0" lang="el-GR" sz="2800" spc="-1" strike="noStrike">
                <a:solidFill>
                  <a:srgbClr val="000000"/>
                </a:solidFill>
                <a:latin typeface="Times New Roman"/>
              </a:rPr>
              <a:t>(1999) προκειμένου να μας βοηθήσει να κατανοήσουμε το νόημα της «ενταξιακής εκπαίδευση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τονίζει πως θα ήταν βοηθητικό να αντιμετωπίσουμε την ενταξιακή εκπαίδευση σαν να πρόκειται για την σύνθετη σχέση μεταξύ της κυρίαρχης κουλτούρας και των υποκουλτούρων. </a:t>
            </a:r>
            <a:br>
              <a:rPr sz="2000"/>
            </a:b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79280" y="213372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ωστε η ενταξιακή εκπαίδευση </a:t>
            </a:r>
            <a:r>
              <a:rPr b="0" lang="en-US" sz="2800" spc="-1" strike="noStrike">
                <a:solidFill>
                  <a:srgbClr val="000000"/>
                </a:solidFill>
                <a:latin typeface="Times New Roman"/>
              </a:rPr>
              <a:t>(inclusive education) </a:t>
            </a:r>
            <a:r>
              <a:rPr b="0" lang="el-GR" sz="2800" spc="-1" strike="noStrike">
                <a:solidFill>
                  <a:srgbClr val="000000"/>
                </a:solidFill>
                <a:latin typeface="Times New Roman"/>
              </a:rPr>
              <a:t>απαιτεί καθημερινό προβληματισμό για κάθε πτυχή του σχολικού και κοινωνικού πλαισίου εντός του οποίου εφαρμόζεται (</a:t>
            </a:r>
            <a:r>
              <a:rPr b="0" lang="en-US" sz="2800" spc="-1" strike="noStrike">
                <a:solidFill>
                  <a:srgbClr val="000000"/>
                </a:solidFill>
                <a:latin typeface="Times New Roman"/>
              </a:rPr>
              <a:t>Sayed</a:t>
            </a:r>
            <a:r>
              <a:rPr b="0" lang="el-GR" sz="2800" spc="-1" strike="noStrike">
                <a:solidFill>
                  <a:srgbClr val="000000"/>
                </a:solidFill>
                <a:latin typeface="Times New Roman"/>
              </a:rPr>
              <a:t>, 2003). Η διάσταση της παροχής υποστηρικτικών υπηρεσιών στα άτομα με ε.ε.α. φαίνεται να είναι ζωτικής σημασίας κατά την διαδικασία της ένταξης.</a:t>
            </a: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για τον </a:t>
            </a:r>
            <a:r>
              <a:rPr b="0" lang="en-US" sz="2800" spc="-1" strike="noStrike">
                <a:solidFill>
                  <a:srgbClr val="000000"/>
                </a:solidFill>
                <a:latin typeface="Times New Roman"/>
              </a:rPr>
              <a:t>Booth </a:t>
            </a:r>
            <a:r>
              <a:rPr b="0" lang="el-GR" sz="2800" spc="-1" strike="noStrike">
                <a:solidFill>
                  <a:srgbClr val="000000"/>
                </a:solidFill>
                <a:latin typeface="Times New Roman"/>
              </a:rPr>
              <a:t>(2000) η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έχει στόχο τον προσδιορισμό και την μείωση των εμποδίων που αφορούν στην μάθηση και στην «συμμετοχή» καθώς και την μεγιστοποίηση των πηγών παροχής υποστήριξης στις παραπάνω διαδικασίες</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Συνοψίζοντας το εκπαιδευτικό σύστημα αποτελεί μέρος του κοινωνικού συστήματος, και οι αλλαγές στην θεώρηση της αναπηρίας, μετάβαση από το ιατρικό μοντέλο στην θεώρηση της αναπηρίας ως κοινωνικής κατασκευής, επέφεραν αλλαγές και στην εκπαίδευση των ατόμων με αναπηρία</a:t>
            </a:r>
            <a:br>
              <a:rPr sz="2800"/>
            </a:b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χρι τα τέλη της δεκαετίας του ’80 η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αποτελούσε κυρίαρχη πολιτική των Δυτικοευρωπαϊκών κυβερνήσεων για την εκπαίδευση των ατόμων με αναπηρία, ενώ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εμφανίστηκε στο προσκήνιο μόλις στις αρχές της δεκαετίας του ’90. </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844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3964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όρος </a:t>
            </a:r>
            <a:r>
              <a:rPr b="1" lang="el-GR" sz="2800" spc="-1" strike="noStrike">
                <a:solidFill>
                  <a:srgbClr val="000000"/>
                </a:solidFill>
                <a:latin typeface="Times New Roman"/>
              </a:rPr>
              <a:t>ένταξη</a:t>
            </a:r>
            <a:r>
              <a:rPr b="0" lang="el-GR" sz="2800" spc="-1" strike="noStrike">
                <a:solidFill>
                  <a:srgbClr val="000000"/>
                </a:solidFill>
                <a:latin typeface="Times New Roman"/>
              </a:rPr>
              <a:t> (integration) αναδύθηκε  τις δεκαετίες του ’50 και του ’60 και αντανακλούσε την επιθυµία για απομάκρυνση</a:t>
            </a:r>
            <a:r>
              <a:rPr b="0" lang="en-US" sz="2800" spc="-1" strike="noStrike">
                <a:solidFill>
                  <a:srgbClr val="000000"/>
                </a:solidFill>
                <a:latin typeface="Times New Roman"/>
              </a:rPr>
              <a:t> </a:t>
            </a:r>
            <a:r>
              <a:rPr b="0" lang="el-GR" sz="2800" spc="-1" strike="noStrike">
                <a:solidFill>
                  <a:srgbClr val="000000"/>
                </a:solidFill>
                <a:latin typeface="Times New Roman"/>
              </a:rPr>
              <a:t> και αποστασιοποίηση από οποιαδήποτε έννοια αποκλεισμού και περιθωριοποίησης των αμεα.</a:t>
            </a:r>
            <a:br>
              <a:rPr sz="2800"/>
            </a:br>
            <a:r>
              <a:rPr b="0" lang="el-GR" sz="2800" spc="-1" strike="noStrike">
                <a:solidFill>
                  <a:srgbClr val="000000"/>
                </a:solidFill>
                <a:latin typeface="Times New Roman"/>
              </a:rPr>
              <a:t>Σύµφωνα µε όσα υποστηρίζει η Ζώνιου-Σιδέρη (1996), ο όρος «ένταξη» «</a:t>
            </a:r>
            <a:r>
              <a:rPr b="0" i="1" lang="el-GR" sz="2800" spc="-1" strike="noStrike">
                <a:solidFill>
                  <a:srgbClr val="000000"/>
                </a:solidFill>
                <a:latin typeface="Times New Roman"/>
              </a:rPr>
              <a:t>δηλώνει τη συστηµατική τοποθέτηση κάποιου µέσα σε κάτι άλλο και την ολοκλήρωση του υποκείμενου ως αυτοτελούς, ακέραιου µέρους ενός ευρύτερου συνόλου</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το Παγκόσμιο Συνέδριο για την εκπαίδευση των ατόμων με ειδικές εκπαιδευτικές ανάγκες, το οποίο διεξήχθη στην Σαλαμάνκα της Ισπανίας, αποτέλεσε καθοριστικό σταθμό προς την κατεύθυνση της ενταξιακής εκπαίδευση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σε παγκόσμιο πια επίπεδο (</a:t>
            </a:r>
            <a:r>
              <a:rPr b="0" lang="en-US" sz="2800" spc="-1" strike="noStrike">
                <a:solidFill>
                  <a:srgbClr val="000000"/>
                </a:solidFill>
                <a:latin typeface="Times New Roman"/>
              </a:rPr>
              <a:t>Unesco</a:t>
            </a:r>
            <a:r>
              <a:rPr b="0" lang="el-GR" sz="2800" spc="-1" strike="noStrike">
                <a:solidFill>
                  <a:srgbClr val="000000"/>
                </a:solidFill>
                <a:latin typeface="Times New Roman"/>
              </a:rPr>
              <a:t>, 1994). </a:t>
            </a:r>
            <a:br>
              <a:rPr sz="2800"/>
            </a:br>
            <a:r>
              <a:rPr b="0" lang="el-GR" sz="2800" spc="-1" strike="noStrike">
                <a:solidFill>
                  <a:srgbClr val="000000"/>
                </a:solidFill>
                <a:latin typeface="Times New Roman"/>
              </a:rPr>
              <a:t>Μετά την διακήρυξη της Σαλαμάνκα επιτυγχάνεται η μετάβαση από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στον όρο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a:t>
            </a:r>
            <a:r>
              <a:rPr b="0" lang="en-US" sz="2800" spc="-1" strike="noStrike">
                <a:solidFill>
                  <a:srgbClr val="000000"/>
                </a:solidFill>
                <a:latin typeface="Times New Roman"/>
              </a:rPr>
              <a:t>Vislie</a:t>
            </a:r>
            <a:r>
              <a:rPr b="0" lang="el-GR" sz="2800" spc="-1" strike="noStrike">
                <a:solidFill>
                  <a:srgbClr val="000000"/>
                </a:solidFill>
                <a:latin typeface="Times New Roman"/>
              </a:rPr>
              <a:t>, 2003).</a:t>
            </a: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97164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ορίσματα του συνεδρίου, τα οποία επηρέασαν την πολιτική πολλών χωρών αναφέρονταν στα ακόλουθα:</a:t>
            </a:r>
            <a:br>
              <a:rPr sz="2800"/>
            </a:br>
            <a:br>
              <a:rPr sz="2800"/>
            </a:br>
            <a:r>
              <a:rPr b="1" lang="el-GR" sz="2800" spc="-1" strike="noStrike">
                <a:solidFill>
                  <a:srgbClr val="000000"/>
                </a:solidFill>
                <a:latin typeface="Times New Roman"/>
              </a:rPr>
              <a:t>Κάθε παιδί έχει το βασικό δικαίωμα για εκπαίδευση.</a:t>
            </a:r>
            <a:br>
              <a:rPr sz="2800"/>
            </a:br>
            <a:br>
              <a:rPr sz="2800"/>
            </a:br>
            <a:r>
              <a:rPr b="1" lang="el-GR" sz="2800" spc="-1" strike="noStrike">
                <a:solidFill>
                  <a:srgbClr val="000000"/>
                </a:solidFill>
                <a:latin typeface="Times New Roman"/>
              </a:rPr>
              <a:t>Κάθε παιδί έχει μοναδικά χαρακτηριστικά, ενδιαφέροντα, ικανότητες και μαθησιακές ανάγκες.</a:t>
            </a:r>
            <a:br>
              <a:rPr sz="2800"/>
            </a:br>
            <a:r>
              <a:rPr b="0" lang="el-GR" sz="2800" spc="-1" strike="noStrike">
                <a:solidFill>
                  <a:srgbClr val="000000"/>
                </a:solidFill>
                <a:latin typeface="Times New Roman"/>
              </a:rPr>
              <a:t>Κατά την παροχή των εκπαιδευτικών υπηρεσιών θα πρέπει να λαμβάνονται υπόψη αυτά τα διαφορετικά χαρακτηριστικά και ανάγκ</a:t>
            </a:r>
            <a:r>
              <a:rPr b="0" lang="el-GR" sz="2000" spc="-1" strike="noStrike">
                <a:solidFill>
                  <a:srgbClr val="000000"/>
                </a:solidFill>
                <a:latin typeface="Times New Roman"/>
              </a:rPr>
              <a:t>ες.</a:t>
            </a:r>
            <a:br>
              <a:rPr sz="2000"/>
            </a:br>
            <a:endParaRPr b="0" lang="en-US" sz="20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αιδιά με ειδικές εκπαιδευτικές ανάγκες πρέπει να έχουν πρόσβαση στο συνηθισμένο σχολείο.</a:t>
            </a:r>
            <a:br>
              <a:rPr sz="2800"/>
            </a:br>
            <a:r>
              <a:rPr b="0" lang="el-GR" sz="2800" spc="-1" strike="noStrike">
                <a:solidFill>
                  <a:srgbClr val="000000"/>
                </a:solidFill>
                <a:latin typeface="Times New Roman"/>
              </a:rPr>
              <a:t>Η πολιτική της ένταξης στα σχολεία είναι η πιο αποτελεσματική αντιμετώπιση του διαχωρισμού και του αποκλεισμού των παιδιών με ειδικές ανάγκες από τις συνηθισμένες διαδικασίες εκπαίδευσης (</a:t>
            </a:r>
            <a:r>
              <a:rPr b="0" lang="en-US" sz="2800" spc="-1" strike="noStrike">
                <a:solidFill>
                  <a:srgbClr val="000000"/>
                </a:solidFill>
                <a:latin typeface="Times New Roman"/>
              </a:rPr>
              <a:t>Vislie</a:t>
            </a:r>
            <a:r>
              <a:rPr b="0" lang="el-GR" sz="2800" spc="-1" strike="noStrike">
                <a:solidFill>
                  <a:srgbClr val="000000"/>
                </a:solidFill>
                <a:latin typeface="Times New Roman"/>
              </a:rPr>
              <a:t>, 2003)</a:t>
            </a:r>
            <a:br>
              <a:rPr sz="2800"/>
            </a:b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468360" y="1392120"/>
            <a:ext cx="842472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ηνική βιβλιογραφία και όχι μόνο,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φαίνεται να συγχέεται αρκετά συχνά με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Επιχειρώντας μια ετυμολογική ανάλυση των δύο εννοιών, παρατηρούμε πως ο όρος «</a:t>
            </a:r>
            <a:r>
              <a:rPr b="0" lang="en-US" sz="2800" spc="-1" strike="noStrike">
                <a:solidFill>
                  <a:srgbClr val="000000"/>
                </a:solidFill>
                <a:latin typeface="Times New Roman"/>
              </a:rPr>
              <a:t>inclusive </a:t>
            </a:r>
            <a:r>
              <a:rPr b="0" lang="el-GR" sz="2800" spc="-1" strike="noStrike">
                <a:solidFill>
                  <a:srgbClr val="000000"/>
                </a:solidFill>
                <a:latin typeface="Times New Roman"/>
              </a:rPr>
              <a:t>εκπαίδευση- </a:t>
            </a:r>
            <a:r>
              <a:rPr b="0" lang="en-US" sz="2800" spc="-1" strike="noStrike">
                <a:solidFill>
                  <a:srgbClr val="000000"/>
                </a:solidFill>
                <a:latin typeface="Times New Roman"/>
              </a:rPr>
              <a:t>inclusion</a:t>
            </a:r>
            <a:r>
              <a:rPr b="0" lang="el-GR" sz="2800" spc="-1" strike="noStrike">
                <a:solidFill>
                  <a:srgbClr val="000000"/>
                </a:solidFill>
                <a:latin typeface="Times New Roman"/>
              </a:rPr>
              <a:t>» σηματοδοτεί ότι και ο όρος «ένταξη». Συγκεκριμένα όρο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μπορεί να αποδοθεί με περιφραστικό τρόπο στην ελληνική γλώσσα ως: «η εκπαίδευση που συμπεριλαμβάνει όλους», που λαμβάνει υπόψη της τις ανάγκες και τη διαφορετικότητα όλων.</a:t>
            </a: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επίθετο </a:t>
            </a:r>
            <a:r>
              <a:rPr b="0" lang="en-US" sz="2800" spc="-1" strike="noStrike">
                <a:solidFill>
                  <a:srgbClr val="000000"/>
                </a:solidFill>
                <a:latin typeface="Times New Roman"/>
              </a:rPr>
              <a:t>inclusive </a:t>
            </a:r>
            <a:r>
              <a:rPr b="0" lang="el-GR" sz="2800" spc="-1" strike="noStrike">
                <a:solidFill>
                  <a:srgbClr val="000000"/>
                </a:solidFill>
                <a:latin typeface="Times New Roman"/>
              </a:rPr>
              <a:t>προέρχεται από το λατινικό ρήμα </a:t>
            </a:r>
            <a:r>
              <a:rPr b="0" lang="en-US" sz="2800" spc="-1" strike="noStrike">
                <a:solidFill>
                  <a:srgbClr val="000000"/>
                </a:solidFill>
                <a:latin typeface="Times New Roman"/>
              </a:rPr>
              <a:t>includere </a:t>
            </a:r>
            <a:r>
              <a:rPr b="0" lang="el-GR" sz="2800" spc="-1" strike="noStrike">
                <a:solidFill>
                  <a:srgbClr val="000000"/>
                </a:solidFill>
                <a:latin typeface="Times New Roman"/>
              </a:rPr>
              <a:t>που σημαίνει συμπεριλαμβάνω. Ο όρος, λοιπόν, θα μπορούσε να αποδοθεί συνοπτικά ως «συμπεριληπτική εκπαίδευση» ή ως «εκπαίδευση του μη αποκλεισμού» (Ζώνιου-Σιδέρη 2000). </a:t>
            </a:r>
            <a:br>
              <a:rPr sz="2800"/>
            </a:br>
            <a:r>
              <a:rPr b="0" lang="el-GR" sz="2800" spc="-1" strike="noStrike">
                <a:solidFill>
                  <a:srgbClr val="000000"/>
                </a:solidFill>
                <a:latin typeface="Times New Roman"/>
              </a:rPr>
              <a:t>Ωστόσο η Ζώνιου - Σιδέρη (1996) διατηρεί μια επιφυλακτική στάση απέναντι στην χρήση του όρου «συμπεριλιπτική εκπαίδευση» για τα ελληνικά εκπαιδευτικά δεδομένα. Συγκεκριμένα αναφέρει πως ο όρος «</a:t>
            </a:r>
            <a:r>
              <a:rPr b="0" lang="en-US" sz="2800" spc="-1" strike="noStrike">
                <a:solidFill>
                  <a:srgbClr val="000000"/>
                </a:solidFill>
                <a:latin typeface="Times New Roman"/>
              </a:rPr>
              <a:t>inclusive </a:t>
            </a:r>
            <a:r>
              <a:rPr b="0" lang="el-GR" sz="2800" spc="-1" strike="noStrike">
                <a:solidFill>
                  <a:srgbClr val="000000"/>
                </a:solidFill>
                <a:latin typeface="Times New Roman"/>
              </a:rPr>
              <a:t>εκπαίδευση», πιθανότατα θα εξελιχθεί σε πολύ δημοφιλή όρο, αν και διφορούμενο</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250560" y="1392120"/>
            <a:ext cx="87138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ενδέχεται να μη προσθέσει τίποτα καινούργιο στο υπάρχον θεωρητικό πλαίσιο της ένταξης. </a:t>
            </a:r>
            <a:br>
              <a:rPr sz="2800"/>
            </a:br>
            <a:r>
              <a:rPr b="0" lang="el-GR" sz="2800" spc="-1" strike="noStrike">
                <a:solidFill>
                  <a:srgbClr val="000000"/>
                </a:solidFill>
                <a:latin typeface="Times New Roman"/>
              </a:rPr>
              <a:t>Στην Ελλάδα, ο όρος «ένταξη», περικλείει, όπως τουλάχιστον προκύπτει από την ελληνική βιβλιογραφία αλλά και από την ίδια την εμπειρία, την εννοιολογική διάσταση του όρου «</a:t>
            </a:r>
            <a:r>
              <a:rPr b="0" lang="en-US" sz="2800" spc="-1" strike="noStrike">
                <a:solidFill>
                  <a:srgbClr val="000000"/>
                </a:solidFill>
                <a:latin typeface="Times New Roman"/>
              </a:rPr>
              <a:t>inclusion</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250560" y="1392120"/>
            <a:ext cx="87138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χώρα μας δεν μπορούμε ακόμη</a:t>
            </a:r>
            <a:br>
              <a:rPr sz="2800"/>
            </a:br>
            <a:r>
              <a:rPr b="0" lang="el-GR" sz="2800" spc="-1" strike="noStrike">
                <a:solidFill>
                  <a:srgbClr val="000000"/>
                </a:solidFill>
                <a:latin typeface="Times New Roman"/>
              </a:rPr>
              <a:t> να μιλάμε για «συμπεριλιπτική εκπαίδευση»,</a:t>
            </a:r>
            <a:br>
              <a:rPr sz="2800"/>
            </a:br>
            <a:r>
              <a:rPr b="0" lang="el-GR" sz="2800" spc="-1" strike="noStrike">
                <a:solidFill>
                  <a:srgbClr val="000000"/>
                </a:solidFill>
                <a:latin typeface="Times New Roman"/>
              </a:rPr>
              <a:t>δηλαδή την μετατροπή των υπαρχουσών δομών, το οποίο σημαίνει μετάβαση από ένα μοντέλο κοινωνικής πρόνοιας σε ένα μοντέλο ίσων ευκαιριών και δικαιωμάτων, με ταυτόχρονη άρση των προκαταλήψεων και αποδοχή της διαφορετικότητας. </a:t>
            </a: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άλλη πλευρά</a:t>
            </a:r>
            <a:br>
              <a:rPr sz="2800"/>
            </a:br>
            <a:r>
              <a:rPr b="0" lang="el-GR" sz="2800" spc="-1" strike="noStrike">
                <a:solidFill>
                  <a:srgbClr val="000000"/>
                </a:solidFill>
                <a:latin typeface="Times New Roman"/>
              </a:rPr>
              <a:t>ο όρος </a:t>
            </a:r>
            <a:r>
              <a:rPr b="0" lang="en-US" sz="2800" spc="-1" strike="noStrike">
                <a:solidFill>
                  <a:srgbClr val="000000"/>
                </a:solidFill>
                <a:latin typeface="Times New Roman"/>
              </a:rPr>
              <a:t>“integration” </a:t>
            </a:r>
            <a:r>
              <a:rPr b="0" lang="el-GR" sz="2800" spc="-1" strike="noStrike">
                <a:solidFill>
                  <a:srgbClr val="000000"/>
                </a:solidFill>
                <a:latin typeface="Times New Roman"/>
              </a:rPr>
              <a:t>δηλώνει την</a:t>
            </a:r>
            <a:br>
              <a:rPr sz="2800"/>
            </a:br>
            <a:r>
              <a:rPr b="0" lang="el-GR" sz="2800" spc="-1" strike="noStrike">
                <a:solidFill>
                  <a:srgbClr val="000000"/>
                </a:solidFill>
                <a:latin typeface="Times New Roman"/>
              </a:rPr>
              <a:t>ολοκλήρωση τινός ως αυτοτελούς, ακέραιου μέρους ενός ευρύτερου όλου </a:t>
            </a:r>
            <a:br>
              <a:rPr sz="2800"/>
            </a:br>
            <a:r>
              <a:rPr b="0" lang="el-GR" sz="2800" spc="-1" strike="noStrike">
                <a:solidFill>
                  <a:srgbClr val="000000"/>
                </a:solidFill>
                <a:latin typeface="Times New Roman"/>
              </a:rPr>
              <a:t>(λατινικά: </a:t>
            </a:r>
            <a:r>
              <a:rPr b="0" lang="en-US" sz="2800" spc="-1" strike="noStrike">
                <a:solidFill>
                  <a:srgbClr val="000000"/>
                </a:solidFill>
                <a:latin typeface="Times New Roman"/>
              </a:rPr>
              <a:t>integer</a:t>
            </a:r>
            <a:r>
              <a:rPr b="0" lang="el-GR" sz="2800" spc="-1" strike="noStrike">
                <a:solidFill>
                  <a:srgbClr val="000000"/>
                </a:solidFill>
                <a:latin typeface="Times New Roman"/>
              </a:rPr>
              <a:t>= ακέραιος, ολόκληρος, </a:t>
            </a:r>
            <a:r>
              <a:rPr b="0" lang="en-US" sz="2800" spc="-1" strike="noStrike">
                <a:solidFill>
                  <a:srgbClr val="000000"/>
                </a:solidFill>
                <a:latin typeface="Times New Roman"/>
              </a:rPr>
              <a:t>integrare</a:t>
            </a:r>
            <a:r>
              <a:rPr b="0" lang="el-GR" sz="2800" spc="-1" strike="noStrike">
                <a:solidFill>
                  <a:srgbClr val="000000"/>
                </a:solidFill>
                <a:latin typeface="Times New Roman"/>
              </a:rPr>
              <a:t>= ολοκληρώνω, ακεραιοποιώ, </a:t>
            </a:r>
            <a:r>
              <a:rPr b="0" lang="en-US" sz="2800" spc="-1" strike="noStrike">
                <a:solidFill>
                  <a:srgbClr val="000000"/>
                </a:solidFill>
                <a:latin typeface="Times New Roman"/>
              </a:rPr>
              <a:t>integritas</a:t>
            </a:r>
            <a:r>
              <a:rPr b="0" lang="el-GR" sz="2800" spc="-1" strike="noStrike">
                <a:solidFill>
                  <a:srgbClr val="000000"/>
                </a:solidFill>
                <a:latin typeface="Times New Roman"/>
              </a:rPr>
              <a:t>= ιδιότητα της ολοκλήρωσης, ακεραιότητα).</a:t>
            </a:r>
            <a:br>
              <a:rPr sz="2000"/>
            </a:b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539280" y="1212840"/>
            <a:ext cx="8348760" cy="457200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Υπάρχουν αρκετές διχογνωμίες σχετικά με την ταύτιση ή την διαφοροποίηση των δύο όρων. Ωστόσο η </a:t>
            </a:r>
            <a:r>
              <a:rPr b="0" lang="en-US" sz="2800" spc="-1" strike="noStrike">
                <a:solidFill>
                  <a:srgbClr val="000000"/>
                </a:solidFill>
                <a:latin typeface="Times New Roman"/>
              </a:rPr>
              <a:t>Vislie </a:t>
            </a:r>
            <a:r>
              <a:rPr b="0" lang="el-GR" sz="2800" spc="-1" strike="noStrike">
                <a:solidFill>
                  <a:srgbClr val="000000"/>
                </a:solidFill>
                <a:latin typeface="Times New Roman"/>
              </a:rPr>
              <a:t>(2003) αναφέρει χαρακτηριστικά πως οι δύο αυτοί όροι διαφέρουν ριζικά και πως δεν θα πρέπει να συγχέονται. Συγκεκριμένα αναφέρει πως η ενσωμάτωση είναι μια προσπάθεια αναμόρφωσης της ειδικής αγωγής ενώ η ένταξη στοχεύει στην αναδόμηση και την επανοργάνωση της γενικής εκπαίδευσης, έτσι ώστε να μπορεί να ανταποκριθεί στις ανάγκες όλων των μαθητών (</a:t>
            </a:r>
            <a:r>
              <a:rPr b="0" lang="en-US" sz="2800" spc="-1" strike="noStrike">
                <a:solidFill>
                  <a:srgbClr val="000000"/>
                </a:solidFill>
                <a:latin typeface="Times New Roman"/>
              </a:rPr>
              <a:t>Vislie</a:t>
            </a:r>
            <a:r>
              <a:rPr b="0" lang="el-GR" sz="2800" spc="-1" strike="noStrike">
                <a:solidFill>
                  <a:srgbClr val="000000"/>
                </a:solidFill>
                <a:latin typeface="Times New Roman"/>
              </a:rPr>
              <a:t>, 1995).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ομοίως ο </a:t>
            </a:r>
            <a:r>
              <a:rPr b="0" lang="en-US" sz="2800" spc="-1" strike="noStrike">
                <a:solidFill>
                  <a:srgbClr val="000000"/>
                </a:solidFill>
                <a:latin typeface="Times New Roman"/>
              </a:rPr>
              <a:t>Farell </a:t>
            </a:r>
            <a:r>
              <a:rPr b="0" lang="el-GR" sz="2800" spc="-1" strike="noStrike">
                <a:solidFill>
                  <a:srgbClr val="000000"/>
                </a:solidFill>
                <a:latin typeface="Times New Roman"/>
              </a:rPr>
              <a:t>(2000) τονίζει πως χρησιμοποιώντας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δεν γίνεται λόγος, για την ποιότητα των παρεχόμενων υπηρεσιών που διατίθενται στους μαθητές με ε.ε.α, </a:t>
            </a:r>
            <a:br>
              <a:rPr sz="2800"/>
            </a:br>
            <a:r>
              <a:rPr b="0" lang="el-GR" sz="2800" spc="-1" strike="noStrike">
                <a:solidFill>
                  <a:srgbClr val="000000"/>
                </a:solidFill>
                <a:latin typeface="Times New Roman"/>
              </a:rPr>
              <a:t>οι οποίοι φοιτούν στις γενικές τάξεις.</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θετα, όπως  υποστηρίζει η Ζώνιου-Σιδέρη (1996), στην «ενσωμάτωση» τα χαρακτηριστικά του ατόµου εξαφανίζονται, έχοντας αφομοιωθεί πλήρως από τα χαρακτηριστικά του ευρύτερου συνόλου στο οποίο εντάσσεται το άτοµο. </a:t>
            </a:r>
            <a:br>
              <a:rPr sz="2800"/>
            </a:b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ώ αντίθετα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προχωράει παρακάτω, δίνοντας έμφαση στον τρόπο με τον οποίο εντάσσονται οι μαθητές με ε.ε.α. στις γενικές τάξεις και χρησιμοποιώντας εκφράσεις όπως «Σχολεία για όλους», χωρίς να γίνεται ιδιαίτερη αναφορά για τους μαθητές με ε.ε.α.</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κόμα ο </a:t>
            </a:r>
            <a:r>
              <a:rPr b="0" lang="en-US" sz="2800" spc="-1" strike="noStrike">
                <a:solidFill>
                  <a:srgbClr val="000000"/>
                </a:solidFill>
                <a:latin typeface="Times New Roman"/>
              </a:rPr>
              <a:t>Ainscow </a:t>
            </a:r>
            <a:r>
              <a:rPr b="0" lang="el-GR" sz="2800" spc="-1" strike="noStrike">
                <a:solidFill>
                  <a:srgbClr val="000000"/>
                </a:solidFill>
                <a:latin typeface="Times New Roman"/>
              </a:rPr>
              <a:t>(2000) εντοπίζει</a:t>
            </a:r>
            <a:br>
              <a:rPr sz="2800"/>
            </a:br>
            <a:r>
              <a:rPr b="0" lang="el-GR" sz="2800" spc="-1" strike="noStrike">
                <a:solidFill>
                  <a:srgbClr val="000000"/>
                </a:solidFill>
                <a:latin typeface="Times New Roman"/>
              </a:rPr>
              <a:t>μια ποιοτική διαφορά ανάμεσα</a:t>
            </a:r>
            <a:br>
              <a:rPr sz="2800"/>
            </a:br>
            <a:r>
              <a:rPr b="0" lang="el-GR" sz="2800" spc="-1" strike="noStrike">
                <a:solidFill>
                  <a:srgbClr val="000000"/>
                </a:solidFill>
                <a:latin typeface="Times New Roman"/>
              </a:rPr>
              <a:t>στην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και στην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αθώς η ενταξιακή διαδικασία απαιτεί αναδόμηση του εκπαιδευτικού περιβάλλοντος προκειμένου να ενισχυθεί η αίσθηση της «συμμετοχής» στους μαθητές με ε.ε.α., ενώ η ενσωμάτωση συνίσταται την φυσική παρουσία των μαθητών με ε.ε.α στην γενική τάξη χωρίς να έχουν γίνει οι απαραίτητες αλλαγές στο περιβάλλον.</a:t>
            </a:r>
            <a:br>
              <a:rPr sz="2800"/>
            </a:b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90000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ώ λοιπόν σε κοινωνικό, τώρα επίπεδο </a:t>
            </a:r>
            <a:r>
              <a:rPr b="1" lang="el-GR" sz="2800" spc="-1" strike="noStrike">
                <a:solidFill>
                  <a:srgbClr val="000000"/>
                </a:solidFill>
                <a:latin typeface="Times New Roman"/>
              </a:rPr>
              <a:t>η ένταξη αποτελεί αμφίδρομη διεργασία, </a:t>
            </a:r>
            <a:r>
              <a:rPr b="0" lang="el-GR" sz="2800" spc="-1" strike="noStrike">
                <a:solidFill>
                  <a:srgbClr val="000000"/>
                </a:solidFill>
                <a:latin typeface="Times New Roman"/>
              </a:rPr>
              <a:t>κατά την οποία προκύπτει μια συνισταμένη εξελικτική τάση από τις συνεισφέρουσες τάσεις ατόμων και κοινωνικού συνόλου που οδηγούν σε διαρκή μεταβολή και αύξηση του βαθμού κοινωνικής οργάνωσης, </a:t>
            </a:r>
            <a:r>
              <a:rPr b="1" lang="el-GR" sz="2800" spc="-1" strike="noStrike">
                <a:solidFill>
                  <a:srgbClr val="000000"/>
                </a:solidFill>
                <a:latin typeface="Times New Roman"/>
              </a:rPr>
              <a:t>η ενσωμάτωση αποτελεί μονόδρομη, προδιαγεγραμμένη και συχνά βεβιασμένη διεργασία εξομοίωσης προς κατεστημένα πρότυπα</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Θα μεταφράζουμε τους όρου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και «</a:t>
            </a:r>
            <a:r>
              <a:rPr b="0" lang="en-US" sz="2800" spc="-1" strike="noStrike">
                <a:solidFill>
                  <a:srgbClr val="000000"/>
                </a:solidFill>
                <a:latin typeface="Times New Roman"/>
              </a:rPr>
              <a:t>inclusion</a:t>
            </a:r>
            <a:r>
              <a:rPr b="0" lang="el-GR" sz="2800" spc="-1" strike="noStrike">
                <a:solidFill>
                  <a:srgbClr val="000000"/>
                </a:solidFill>
                <a:latin typeface="Times New Roman"/>
              </a:rPr>
              <a:t>» ως «ένταξη» και «ενταξιακή εκπαίδευση»· Όταν δε οι ξένοι συγγραφείς αναφέρουν στα κείμενα τους κάποιον άλλον όρο (π.χ </a:t>
            </a:r>
            <a:r>
              <a:rPr b="0" lang="en-US" sz="2800" spc="-1" strike="noStrike">
                <a:solidFill>
                  <a:srgbClr val="000000"/>
                </a:solidFill>
                <a:latin typeface="Times New Roman"/>
              </a:rPr>
              <a:t>integration</a:t>
            </a:r>
            <a:r>
              <a:rPr b="0" lang="el-GR" sz="2800" spc="-1" strike="noStrike">
                <a:solidFill>
                  <a:srgbClr val="000000"/>
                </a:solidFill>
                <a:latin typeface="Times New Roman"/>
              </a:rPr>
              <a:t>, </a:t>
            </a:r>
            <a:r>
              <a:rPr b="0" lang="en-US" sz="2800" spc="-1" strike="noStrike">
                <a:solidFill>
                  <a:srgbClr val="000000"/>
                </a:solidFill>
                <a:latin typeface="Times New Roman"/>
              </a:rPr>
              <a:t>mainstreaming</a:t>
            </a:r>
            <a:r>
              <a:rPr b="0" lang="el-GR" sz="2800" spc="-1" strike="noStrike">
                <a:solidFill>
                  <a:srgbClr val="000000"/>
                </a:solidFill>
                <a:latin typeface="Times New Roman"/>
              </a:rPr>
              <a:t>), αυτός θα μεταφράζεται ως ενσωμάτωση και θα παραδίδονται σε παρένθεση οι πρωτότυποι όροι προκειμένου να αποφευχθεί η σύγχυση.</a:t>
            </a:r>
            <a:br>
              <a:rPr sz="2800"/>
            </a:b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μιλώντας για «ένταξη» πρέπει πάντα να έχουμε υπόψη, πως η ενταξιακή εκπαίδευση ερμηνεύεται και εφαρμόζεται με πολλούς, διαφορετικούς και συχνά αμφιλεγόμενους τρόπους. Ενώ μερικές χώρες φαίνονται να έχουν δεσμευτεί στην ενταξιακή εκπαίδευση σε επίπεδο ρητορικής, νομοθεσίας και αρχών, σε επίπεδο πρακτικών έχουν αποτύχει.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χάσμα που υπάρχει μεταξύ νομοθεσίας και πρακτικών, όσον αφορά στην ενταξιακή εκπαίδευση είναι πολύ μεγάλο. </a:t>
            </a:r>
            <a:br>
              <a:rPr sz="2800"/>
            </a:br>
            <a:r>
              <a:rPr b="0" lang="el-GR" sz="2800" spc="-1" strike="noStrike">
                <a:solidFill>
                  <a:srgbClr val="000000"/>
                </a:solidFill>
                <a:latin typeface="Times New Roman"/>
              </a:rPr>
              <a:t>Συγκεκριμένα, η ειδική αγωγή στην Ελλάδα δεν έχει γνωρίσει την ίδια εξέλιξη με εκείνη των άλλων χωρών αν και σε επίπεδο πολιτικών και πρακτικών έχει επηρεαστεί βαθύτατα από άλλες Δυτικοευρωπαϊκές χώρες (</a:t>
            </a:r>
            <a:r>
              <a:rPr b="0" lang="en-US" sz="2800" spc="-1" strike="noStrike">
                <a:solidFill>
                  <a:srgbClr val="000000"/>
                </a:solidFill>
                <a:latin typeface="Times New Roman"/>
              </a:rPr>
              <a:t>Vlachou</a:t>
            </a:r>
            <a:r>
              <a:rPr b="0" lang="el-GR" sz="2800" spc="-1" strike="noStrike">
                <a:solidFill>
                  <a:srgbClr val="000000"/>
                </a:solidFill>
                <a:latin typeface="Times New Roman"/>
              </a:rPr>
              <a:t>, 2001).</a:t>
            </a:r>
            <a:br>
              <a:rPr sz="2000"/>
            </a:b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Ένταξη και Ενσωμάτωση: </a:t>
            </a:r>
            <a:br>
              <a:rPr sz="3200"/>
            </a:br>
            <a:r>
              <a:rPr b="1" lang="el-GR" sz="3200" spc="-1" strike="noStrike">
                <a:solidFill>
                  <a:srgbClr val="000000"/>
                </a:solidFill>
                <a:latin typeface="Times New Roman"/>
              </a:rPr>
              <a:t>Σημασιολογική Διασαφήνιση των όρων- Προσδιορισμοί και Οριοθετήσεις</a:t>
            </a:r>
            <a:br>
              <a:rPr sz="3200"/>
            </a:br>
            <a:br>
              <a:rPr sz="2000"/>
            </a:br>
            <a:br>
              <a:rPr sz="2000"/>
            </a:br>
            <a:r>
              <a:rPr b="1" lang="el-GR" sz="1800" spc="-1" strike="noStrike">
                <a:solidFill>
                  <a:srgbClr val="000099"/>
                </a:solidFill>
                <a:latin typeface="Arial"/>
                <a:ea typeface="Arial"/>
              </a:rPr>
              <a:t>ΕΙΣΗΓΗΤΕΣ: Παναγιώτης Ν. Μαντάς-Σπυριδούλα Κατσαντώνη</a:t>
            </a:r>
            <a:br>
              <a:rPr sz="1800"/>
            </a:br>
            <a:br>
              <a:rPr sz="2000"/>
            </a:br>
            <a:endParaRPr b="0" lang="en-US" sz="1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133" name="Picture 9" descr=""/>
          <p:cNvPicPr/>
          <p:nvPr/>
        </p:nvPicPr>
        <p:blipFill>
          <a:blip r:embed="rId1"/>
          <a:stretch/>
        </p:blipFill>
        <p:spPr>
          <a:xfrm>
            <a:off x="0" y="0"/>
            <a:ext cx="9144000" cy="1368360"/>
          </a:xfrm>
          <a:prstGeom prst="rect">
            <a:avLst/>
          </a:prstGeom>
          <a:ln w="0">
            <a:noFill/>
          </a:ln>
        </p:spPr>
      </p:pic>
      <p:pic>
        <p:nvPicPr>
          <p:cNvPr id="1134" name="Picture 10" descr=""/>
          <p:cNvPicPr/>
          <p:nvPr/>
        </p:nvPicPr>
        <p:blipFill>
          <a:blip r:embed="rId2"/>
          <a:stretch/>
        </p:blipFill>
        <p:spPr>
          <a:xfrm>
            <a:off x="1258920" y="2060640"/>
            <a:ext cx="1297080" cy="1528560"/>
          </a:xfrm>
          <a:prstGeom prst="rect">
            <a:avLst/>
          </a:prstGeom>
          <a:ln w="0">
            <a:noFill/>
          </a:ln>
        </p:spPr>
      </p:pic>
      <p:pic>
        <p:nvPicPr>
          <p:cNvPr id="1135" name="12 - Εικόνα" descr=""/>
          <p:cNvPicPr/>
          <p:nvPr/>
        </p:nvPicPr>
        <p:blipFill>
          <a:blip r:embed="rId3"/>
          <a:stretch/>
        </p:blipFill>
        <p:spPr>
          <a:xfrm>
            <a:off x="6948360" y="1989000"/>
            <a:ext cx="1444680" cy="1573200"/>
          </a:xfrm>
          <a:prstGeom prst="rect">
            <a:avLst/>
          </a:prstGeom>
          <a:ln w="0">
            <a:noFill/>
          </a:ln>
        </p:spPr>
      </p:pic>
      <p:sp>
        <p:nvSpPr>
          <p:cNvPr id="1136"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Παναγιώτης Ν. Μαντάς</a:t>
            </a:r>
            <a:endParaRPr b="0" lang="en-US" sz="2000" spc="-1" strike="noStrike">
              <a:solidFill>
                <a:srgbClr val="000000"/>
              </a:solidFill>
              <a:latin typeface="Times New Roman"/>
            </a:endParaRPr>
          </a:p>
        </p:txBody>
      </p:sp>
      <p:sp>
        <p:nvSpPr>
          <p:cNvPr id="1137"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50920" y="1052280"/>
            <a:ext cx="83534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Τσιναρέλης, (1993), υποστηρίζει</a:t>
            </a:r>
            <a:br>
              <a:rPr sz="2800"/>
            </a:br>
            <a:r>
              <a:rPr b="0" lang="el-GR" sz="2800" spc="-1" strike="noStrike">
                <a:solidFill>
                  <a:srgbClr val="000000"/>
                </a:solidFill>
                <a:latin typeface="Times New Roman"/>
              </a:rPr>
              <a:t> ότι ο όρος </a:t>
            </a:r>
            <a:r>
              <a:rPr b="1" lang="el-GR" sz="2800" spc="-1" strike="noStrike">
                <a:solidFill>
                  <a:srgbClr val="000000"/>
                </a:solidFill>
                <a:latin typeface="Times New Roman"/>
              </a:rPr>
              <a:t>ένταξη</a:t>
            </a:r>
            <a:r>
              <a:rPr b="0" lang="el-GR" sz="2800" spc="-1" strike="noStrike">
                <a:solidFill>
                  <a:srgbClr val="000000"/>
                </a:solidFill>
                <a:latin typeface="Times New Roman"/>
              </a:rPr>
              <a:t> δηλώνει την τοποθέτηση και την απόκτηση ρόλων µέσα  σε µια οµάδα, ενός ή µιας οµάδας  ατόµων µε διαφορετικά κοινωνικά, οικονοµικά, βιολογικά ή ψυχολογικά χαρακτηριστικά. </a:t>
            </a:r>
            <a:br>
              <a:rPr sz="2800"/>
            </a:b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112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250920" y="1052280"/>
            <a:ext cx="83534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Τσιναρέλης, (1993),  ορίζει την ενσωµάτωση ως την «</a:t>
            </a:r>
            <a:r>
              <a:rPr b="0" i="1" lang="el-GR" sz="2800" spc="-1" strike="noStrike">
                <a:solidFill>
                  <a:srgbClr val="000000"/>
                </a:solidFill>
                <a:latin typeface="Times New Roman"/>
              </a:rPr>
              <a:t>αποδοχή ενός ατόµου ή µιας οµάδας από ένα σύνολο στο οποίο ενσωµατώνεται και όπου δηµιουργούνται αλληλεπιδραστικές σχέσεις, διατηρώντας ωστόσο τα χαρακτηριστικά της προσωπικότητάς του</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διαφορά λοιπόν των όρων «ένταξη» και «ενσωµάτωση» είναι </a:t>
            </a:r>
            <a:r>
              <a:rPr b="1" lang="el-GR" sz="2800" spc="-1" strike="noStrike">
                <a:solidFill>
                  <a:srgbClr val="000000"/>
                </a:solidFill>
                <a:latin typeface="Times New Roman"/>
              </a:rPr>
              <a:t>ότι στην ένταξη διατηρούνται τα αρχικά βασικά χαρακτηριστικά του ατόµου ή της οµάδας ατόµων,</a:t>
            </a:r>
            <a:r>
              <a:rPr b="0" lang="el-GR" sz="2800" spc="-1" strike="noStrike">
                <a:solidFill>
                  <a:srgbClr val="000000"/>
                </a:solidFill>
                <a:latin typeface="Times New Roman"/>
              </a:rPr>
              <a:t> τα οποία εµπλουτίζονται και µεταβαίνουν σε διαρκώς ανερχόµενα επίπεδα ολοκλήρωσης, </a:t>
            </a:r>
            <a:br>
              <a:rPr sz="2800"/>
            </a:br>
            <a:r>
              <a:rPr b="1" lang="el-GR" sz="2800" spc="-1" strike="noStrike">
                <a:solidFill>
                  <a:srgbClr val="000000"/>
                </a:solidFill>
                <a:latin typeface="Times New Roman"/>
              </a:rPr>
              <a:t>ενώ στην ενσωµάτωση εξαφανίζονται τα αρχικά βασικά χαρακτηριστικά, έχοντας αφομοιωθεί από τα χαρακτηριστικά ενός ευρύτερου συνόλου.</a:t>
            </a:r>
            <a:br>
              <a:rPr sz="2800"/>
            </a:b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1-02-11T09:52:53Z</dcterms:modified>
  <cp:revision>161</cp:revision>
  <dc:subject/>
  <dc:title>Παρουσίαση του PowerPoint</dc:title>
</cp:coreProperties>
</file>