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</p:sldIdLst>
  <p:sldSz cx="9144000" cy="6858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/>
          <p:cNvSpPr/>
          <p:nvPr/>
        </p:nvSpPr>
        <p:spPr>
          <a:xfrm>
            <a:off x="0" y="0"/>
            <a:ext cx="6858000" cy="977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dt" idx="39"/>
          </p:nvPr>
        </p:nvSpPr>
        <p:spPr>
          <a:xfrm>
            <a:off x="3884400" y="0"/>
            <a:ext cx="2971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body"/>
          </p:nvPr>
        </p:nvSpPr>
        <p:spPr>
          <a:xfrm>
            <a:off x="685800" y="4642920"/>
            <a:ext cx="5486400" cy="439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ftr" idx="40"/>
          </p:nvPr>
        </p:nvSpPr>
        <p:spPr>
          <a:xfrm>
            <a:off x="-3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6"/>
          <p:cNvSpPr>
            <a:spLocks noGrp="1"/>
          </p:cNvSpPr>
          <p:nvPr>
            <p:ph type="sldNum" idx="41"/>
          </p:nvPr>
        </p:nvSpPr>
        <p:spPr>
          <a:xfrm>
            <a:off x="388440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830ED-932E-4A81-8020-AF43ADAD9437}" type="slidenum"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Rectangle 6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50468-1323-4468-B954-F70B0DC9D6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669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Rectangle 6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3D3FF-CDB2-43AF-B076-DAE2C0AFE8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672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Rectangle 6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8B57C-585A-46EF-BFE8-A884B65FFA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645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Rectangle 6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262A2-E9AB-4EF7-BE01-363280234B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648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Rectangle 6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48014-E1F4-4603-B075-DDDDF4D36B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651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Rectangle 6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D6EEC-05DB-404E-BFDF-11A707F76A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654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Rectangle 6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AA88A-0C5A-452C-A787-DA57A592A9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Rectangle 6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8E5D7-081B-4950-9C0C-BB8768F3C5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660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Rectangle 6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6E6E3-53E9-46BE-92E9-A652EA1F32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663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Rectangle 6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D8E09-C5C8-470A-A423-E9D701E97F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666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5BF1A-563B-41D6-983A-4CA81E771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04BED-32B3-4227-B0DE-558B47546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95D8E5-A82F-4858-841C-29E6C49BC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88D51F-E6B8-480A-8F40-787297A0C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A82932-BC08-468E-98AE-BAE01F7A5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150336-0019-4D80-8D0F-2F29FC053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B77D35-8374-456B-AB4C-E360FFC86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09F3ED-AAA3-432F-920E-639994D36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7F9CB7-F8AA-4415-9DF1-82402F454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1DB07A-3A94-4D6D-9F33-B7F4D1B15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233036-12E3-4E3D-9134-AD760ADEC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706C62-5790-4E04-A89E-67F949FAA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8D9E7-0F71-4567-B2E1-776A1BBF0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9AD9D3-371D-4002-A172-BA9093802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E43CB7-7B36-4ABE-AF62-786AEBF87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6B1130-1055-4BC9-B556-1D837BF11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DCEA24-0184-422B-9C03-C451EF0BA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FAF45F-302F-4A53-869A-078439280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ECED9B-81F2-4A10-ACD4-9FD1073D8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5AAEA0-FD3B-493D-84AB-244D5D389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1ACBD1-2435-420F-84A5-31DAB3D2B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B19FF3-4854-47A4-9EA3-1E0082413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0C8ACE-ED27-4F3A-9318-DB176572E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8901E-5A34-4EBB-9706-455F0D09F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37801D-B743-49B4-BFFB-487D251D3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8F7FF4-C97B-4340-B2B6-A9866BDF8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A925FB-54DD-4191-B4E3-DEA700FAE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65F9DF-E18D-4F10-A491-3B9FE46FE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574F01-570D-4C1E-9637-71402B75F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9588B2-1C2A-48B5-AC14-4E1202B8C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D4A6AC-DBF6-4565-85F4-7DC556108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0CC44C-7CD7-4398-9B52-44FD9E666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34480A-0951-44F9-9758-D53F5CA1B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C83FB5-1DA8-4A46-A78F-A83B25BAA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21B8B-662C-4543-9E2F-898523CD3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7F6246-33CF-4B80-98A2-78939D3B5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999CAE-939A-4A61-9EBB-7AD51193C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EE1C90-7652-446F-8ED9-1D2246FD9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D32D6C-7503-4D83-A933-2C9CEA771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746EBD-08FE-4107-9B08-3C73219C6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2DC702-B15B-4470-8E19-BD08A37DE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845013-E1D9-49CF-B3E8-DCF5973F9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BD263A-F209-4973-9EEE-15693858F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FE621E-F7C8-4A23-B4A6-E8F27C270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037DC0-CA41-4C37-AF1F-8F5D79B36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49003-C924-4C2D-A13D-F34B2DB26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54B35F-863F-4B10-AF08-162CA1568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D18808-88B5-448C-AF7B-3FAFF4043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F9E267-71D9-4C70-ADB4-286C0EDEA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894DC4-1693-4C8D-ADC7-E132101F4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FF262E-0892-4A47-B88A-1879F0511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447CDFE-BE54-45C1-8C84-6761065F7B0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EDA8AAB-7575-4C51-A380-41E5DA850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AC19842-F1D0-4DB8-B341-E60C08956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CEE2760-317B-41E9-8665-B4B232414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7751EC4-E65A-4D92-96A4-58C5784C7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1A186-1C14-44A7-A6B6-1D208303D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C4F9600-D47E-41EC-AD68-24F1EC56E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D856733-8036-45D4-A053-CA950403C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C4E9E29-A250-40A0-BCFD-85A72C8DF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4B8A305-83DA-4023-817F-E98EE8C80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087C128-7750-42C4-AE87-EA077D4EA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727ECE7-A6C6-4144-BDF0-875C521DB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F502ECE-8A11-486B-BB20-230759929E2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F9882-C341-4191-A0A2-D6F53923B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91566-4478-456D-8059-52F4EEFC7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94CE2-72D0-4B47-B6B9-1E1F6167F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78E7B-6E2D-40FC-8079-54C56FBCD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014E5-C03F-470F-8BFA-8ACB04446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271CE-F432-47EF-9237-A3E6C0AD7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ED534-4255-45D3-BB32-C1ED62DC3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904E3-C076-4949-BCA1-242A978CC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DACFE-CC92-43C7-BA11-AD5C2C48C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4EED9-9D55-4A04-9DF9-21E0E7D6D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301C4D-EE3D-4886-ABA3-E56A95576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C0A282-7476-40EF-B417-A49FF403E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BF3124-E171-4A2C-A987-AFB080383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5F9951-4875-494B-826A-0C9DAA007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150845-1523-4A89-AEC4-210D9CAB6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C79AA-8929-4D7E-BA03-32F996075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EEE5F4-6F58-44B1-A681-292E6861A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24034E-C8AD-4534-8362-95D2ACBAB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9CD97B-442A-4A5D-BD79-1CD8C6112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F6BDE6-742A-4464-8FBD-1C19C624B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4434E4-1DF1-4D98-84E8-85A110847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1EE225-60D5-4FF2-80CD-C82F227E1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B5EDC8-1FDE-426F-B3F5-08B72E697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7453CF-E3D5-457B-B845-6D18BECB6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45D96D-DB68-4EF0-B0B3-40DF5BFC9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80718D-2F02-4642-B154-A1ADCD397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65890-AEE2-4039-9717-9D42B771E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D853F2-CF11-40EE-9A52-E1F47BBAB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8378E6-31D3-4FC5-9C75-4A1E67383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3756A9-5736-4DAF-ACFA-BCDFE322A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85C2BB-62D6-4367-AE03-C36D95894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98AE3F-5CC5-44D7-99E7-6F1158769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12E751-FFF7-4545-877B-A3FF28DC4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1F7AD3-C1FE-4769-9DED-77B3E4059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765A1A-97AD-4BD1-B6D3-E063CA1DA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8319BA-9A8A-4A50-9A6A-0D63CA4D4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C64F6E-C90F-4CC8-B3AB-AC7D9D92E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6F526-2A57-4467-AC24-9411D3302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24328D-69C8-418D-A485-ECFCB4328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EC3748-B287-4497-9CE6-A08AF2C23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737F73-1090-48A5-9204-478E9E9B4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CFD013-3195-4EC3-8E62-0AE184AD1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299DCE-36AD-47AC-9191-47B2B2894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D2CD72-A192-4BE5-834C-B65D7984A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4D69AE-F65D-499B-A559-6B0A093FD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93763F-7BEB-4851-829A-BE71B735A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FCE4CB-8E80-4DE8-B430-3CB4F83C8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8D8556-AD7F-4437-AA2E-E6A496361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49016-193C-40AA-8206-28E34CE1F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A39320-87F3-4DC3-97A6-76D20A847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6BB1F4-37FA-46C1-8032-12AFEF394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7B2ECA-4DB1-42FF-A00A-C272D5FFC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58FE1F-3AFB-4FAB-9268-548AD4603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FF455E-B260-4032-BD9B-F0D3BABDA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8B4F63-DC74-4C9D-A644-A896754D4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4FC7FC-6B52-4C2D-9DF9-AF368A8BD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181156-87A6-4C0A-9707-90511E963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E56A37-400C-468A-B86C-95C7DF797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86F772-F100-409F-9B1F-55C238C9E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A2E2F-A262-46DB-B8D0-8A38E9D3C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E92270-E252-4762-BFFB-054120D69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7794F5-3BC4-4A8F-B31B-0264E5F21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54BF2F-81EC-4437-AC6D-7FA69C5E5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A78D60-B85B-495A-BD5B-B1C77A1A2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C553D9-B95B-494C-9758-9E2F17A85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D42A54-A47E-4338-A1B1-E93EEA3AC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1B7164-00B1-494D-9714-80840AF84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199097-3270-46B8-9E85-952456BAE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D9C636-63B6-4D8F-BA0E-F8319513E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C5AB03-D1DF-4493-AD36-566ECA01B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07E68-1014-4936-A306-F762088EC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69499B-8AD3-472A-8A7B-7AA552858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AE9608-58D5-4D84-AC2B-869E9010B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EE675C-2369-48A0-A20C-06BB36223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A3A6A4-B4F7-4E60-9373-402A83A85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CB4E13-735F-446C-B336-F7B079A10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829785-E91B-473E-BB48-C9F91478F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533887-5371-482D-B72E-473F17257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035CF0-F94A-4A92-A513-714A179E3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0947B8-BFAB-4F89-AADA-C5295BC28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671C85-A844-4B96-8CC9-15844CC83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67C1E-CCF0-4E41-987E-40BCC62C9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E3C527-9924-4950-A22F-8A4DC0785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870D86-86B1-4627-B4A9-8DF2E6FCE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614B1A-D23B-4250-A4FD-6324C165C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C69148-87E8-45E8-88F2-5C3B9A8CD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8541E0-386B-4896-B4EA-837E71CA6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594E10-40EE-499F-B906-7FC04FD0C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842B18-107D-462A-897A-40DED7563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8C2DAA-5E2E-4DF9-987B-7F9456E88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CB932A-1910-48DD-93EF-7BBABBB4C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1FA002-A43D-49D6-9553-5FB09E1B0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D6F2F-B036-4A40-AE77-2BDB7AB55E35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1467F-F06C-4BC7-BADF-422DE8C0E7FC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9BB42-5CE3-4E5F-9085-138A6E9E2DE3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912BA-83EA-4D47-9722-E224BC3D65DC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/7/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sldNum" idx="38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E6A1E-98D8-44D9-97A2-982BC17DD1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A31B8-F760-4611-B4F2-B9B3ED1B3DE1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3B39C-D5E4-4CE0-BE2B-6E15AC6509F8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900C5-E061-4456-8FA3-005C231FCD11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336A3-8EFB-408A-8B8F-D80D50C410C1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1AC08-4CD9-4550-BCA7-35E0C5879DAE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BFF32-D10D-4AFD-867B-A63BB7DBA0DC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190F5-CD09-4746-BCD8-1F3186EAE0A6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A53D3-E2EC-4316-9DE6-C40B1BE88C45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13 - Ορθογώνιο"/>
          <p:cNvSpPr/>
          <p:nvPr/>
        </p:nvSpPr>
        <p:spPr>
          <a:xfrm>
            <a:off x="1763640" y="2997360"/>
            <a:ext cx="57610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2060"/>
                </a:solidFill>
                <a:latin typeface="Times New Roman"/>
              </a:rPr>
              <a:t>Δια-ιδρυματικό – Διατμηματικό Πρόγραμμα Μεταπτυχιακών Σπουδών Ακαδημαϊκού Έτους 20</a:t>
            </a:r>
            <a:r>
              <a:rPr b="1" lang="en-US" sz="2400" spc="-1" strike="noStrike">
                <a:solidFill>
                  <a:srgbClr val="002060"/>
                </a:solidFill>
                <a:latin typeface="Times New Roman"/>
              </a:rPr>
              <a:t>20</a:t>
            </a:r>
            <a:r>
              <a:rPr b="1" lang="el-GR" sz="2400" spc="-1" strike="noStrike">
                <a:solidFill>
                  <a:srgbClr val="002060"/>
                </a:solidFill>
                <a:latin typeface="Times New Roman"/>
              </a:rPr>
              <a:t> - 20</a:t>
            </a:r>
            <a:r>
              <a:rPr b="1" lang="en-US" sz="2400" spc="-1" strike="noStrike">
                <a:solidFill>
                  <a:srgbClr val="002060"/>
                </a:solidFill>
                <a:latin typeface="Times New Roman"/>
              </a:rPr>
              <a:t>21</a:t>
            </a:r>
            <a:r>
              <a:rPr b="1" lang="el-GR" sz="2400" spc="-1" strike="noStrike">
                <a:solidFill>
                  <a:srgbClr val="00206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14 - Ορθογώνιο"/>
          <p:cNvSpPr/>
          <p:nvPr/>
        </p:nvSpPr>
        <p:spPr>
          <a:xfrm>
            <a:off x="1332000" y="4437000"/>
            <a:ext cx="6875280" cy="13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Εξειδίκευση στις Τ.Π.Ε. και Ειδική Αγωγή –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Ψυχοπαιδαγωγική της Ένταξη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15 - Ορθογώνιο"/>
          <p:cNvSpPr/>
          <p:nvPr/>
        </p:nvSpPr>
        <p:spPr>
          <a:xfrm>
            <a:off x="826920" y="5805360"/>
            <a:ext cx="734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0099"/>
                </a:solidFill>
                <a:latin typeface="Arial"/>
                <a:ea typeface="Arial"/>
              </a:rPr>
              <a:t>ΕΙΣΗΓΗΤΕΣ: Παναγιώτης Ν. Μαντάς-Σπυριδούλα Κατσαντώνη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2" name="Picture 9" descr=""/>
          <p:cNvPicPr/>
          <p:nvPr/>
        </p:nvPicPr>
        <p:blipFill>
          <a:blip r:embed="rId1"/>
          <a:stretch/>
        </p:blipFill>
        <p:spPr>
          <a:xfrm>
            <a:off x="0" y="1268280"/>
            <a:ext cx="9144000" cy="1368720"/>
          </a:xfrm>
          <a:prstGeom prst="rect">
            <a:avLst/>
          </a:prstGeom>
          <a:ln w="0">
            <a:noFill/>
          </a:ln>
        </p:spPr>
      </p:pic>
      <p:pic>
        <p:nvPicPr>
          <p:cNvPr id="543" name="Picture 10" descr=""/>
          <p:cNvPicPr/>
          <p:nvPr/>
        </p:nvPicPr>
        <p:blipFill>
          <a:blip r:embed="rId2"/>
          <a:stretch/>
        </p:blipFill>
        <p:spPr>
          <a:xfrm>
            <a:off x="179280" y="0"/>
            <a:ext cx="1009800" cy="1190520"/>
          </a:xfrm>
          <a:prstGeom prst="rect">
            <a:avLst/>
          </a:prstGeom>
          <a:ln w="0">
            <a:noFill/>
          </a:ln>
        </p:spPr>
      </p:pic>
      <p:pic>
        <p:nvPicPr>
          <p:cNvPr id="544" name="Picture 11" descr=""/>
          <p:cNvPicPr/>
          <p:nvPr/>
        </p:nvPicPr>
        <p:blipFill>
          <a:blip r:embed="rId3"/>
          <a:stretch/>
        </p:blipFill>
        <p:spPr>
          <a:xfrm>
            <a:off x="1116000" y="189000"/>
            <a:ext cx="3571920" cy="942840"/>
          </a:xfrm>
          <a:prstGeom prst="rect">
            <a:avLst/>
          </a:prstGeom>
          <a:ln w="0">
            <a:noFill/>
          </a:ln>
        </p:spPr>
      </p:pic>
      <p:pic>
        <p:nvPicPr>
          <p:cNvPr id="545" name="12 - Εικόνα" descr=""/>
          <p:cNvPicPr/>
          <p:nvPr/>
        </p:nvPicPr>
        <p:blipFill>
          <a:blip r:embed="rId4"/>
          <a:stretch/>
        </p:blipFill>
        <p:spPr>
          <a:xfrm>
            <a:off x="5003640" y="0"/>
            <a:ext cx="1121040" cy="1219320"/>
          </a:xfrm>
          <a:prstGeom prst="rect">
            <a:avLst/>
          </a:prstGeom>
          <a:ln w="0">
            <a:noFill/>
          </a:ln>
        </p:spPr>
      </p:pic>
      <p:pic>
        <p:nvPicPr>
          <p:cNvPr id="546" name="Picture 13" descr=""/>
          <p:cNvPicPr/>
          <p:nvPr/>
        </p:nvPicPr>
        <p:blipFill>
          <a:blip r:embed="rId5"/>
          <a:stretch/>
        </p:blipFill>
        <p:spPr>
          <a:xfrm>
            <a:off x="6156360" y="115920"/>
            <a:ext cx="2867040" cy="1009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863640" y="1392120"/>
            <a:ext cx="7596000" cy="439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Απόψεις Γονέων παιδιών με ειδικές εκπαιδευτικές ανάγκες για την ένταξη των μαθητών  με εεα/αναπηρίε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0" name="Ομάδα 1"/>
          <p:cNvGrpSpPr/>
          <p:nvPr/>
        </p:nvGrpSpPr>
        <p:grpSpPr>
          <a:xfrm>
            <a:off x="0" y="115920"/>
            <a:ext cx="9144000" cy="6551640"/>
            <a:chOff x="0" y="115920"/>
            <a:chExt cx="9144000" cy="6551640"/>
          </a:xfrm>
        </p:grpSpPr>
        <p:grpSp>
          <p:nvGrpSpPr>
            <p:cNvPr id="621" name="Ομάδα 1"/>
            <p:cNvGrpSpPr/>
            <p:nvPr/>
          </p:nvGrpSpPr>
          <p:grpSpPr>
            <a:xfrm>
              <a:off x="0" y="115920"/>
              <a:ext cx="9144000" cy="6551640"/>
              <a:chOff x="0" y="115920"/>
              <a:chExt cx="9144000" cy="6551640"/>
            </a:xfrm>
          </p:grpSpPr>
          <p:sp>
            <p:nvSpPr>
              <p:cNvPr id="622" name="Line 4"/>
              <p:cNvSpPr/>
              <p:nvPr/>
            </p:nvSpPr>
            <p:spPr>
              <a:xfrm>
                <a:off x="179280" y="115920"/>
                <a:ext cx="8713800" cy="144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Rectangle 5"/>
              <p:cNvSpPr/>
              <p:nvPr/>
            </p:nvSpPr>
            <p:spPr>
              <a:xfrm>
                <a:off x="1692000" y="187200"/>
                <a:ext cx="6767640" cy="6483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Rectangle 3"/>
              <p:cNvSpPr/>
              <p:nvPr/>
            </p:nvSpPr>
            <p:spPr>
              <a:xfrm>
                <a:off x="0" y="5948640"/>
                <a:ext cx="9144000" cy="71892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25" name="Line 3"/>
            <p:cNvSpPr/>
            <p:nvPr/>
          </p:nvSpPr>
          <p:spPr>
            <a:xfrm>
              <a:off x="179280" y="115920"/>
              <a:ext cx="1440" cy="1368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6" name="Rectangle 1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1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7" name="9 - Εικόνα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863640" y="1392120"/>
            <a:ext cx="7596000" cy="439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Times New Roman"/>
              </a:rPr>
              <a:t>Ένταξη και Ενσωμάτωση: </a:t>
            </a:r>
            <a:br>
              <a:rPr sz="3200"/>
            </a:br>
            <a:r>
              <a:rPr b="1" lang="el-GR" sz="3200" spc="-1" strike="noStrike">
                <a:solidFill>
                  <a:srgbClr val="000000"/>
                </a:solidFill>
                <a:latin typeface="Times New Roman"/>
              </a:rPr>
              <a:t>Σημασιολογική Διασαφήνιση των όρων- Προσδιορισμοί και Οριοθετήσεις</a:t>
            </a:r>
            <a:br>
              <a:rPr sz="3200"/>
            </a:br>
            <a:br>
              <a:rPr sz="2000"/>
            </a:br>
            <a:br>
              <a:rPr sz="2000"/>
            </a:br>
            <a:r>
              <a:rPr b="1" lang="el-GR" sz="2000" spc="-1" strike="noStrike">
                <a:solidFill>
                  <a:srgbClr val="000099"/>
                </a:solidFill>
                <a:latin typeface="Arial"/>
                <a:ea typeface="Arial"/>
              </a:rPr>
              <a:t>ΕΙΣΗΓΗΤΗΣ: Παναγιώτης Ν. Μαντάς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9" name="Ομάδα 1"/>
          <p:cNvGrpSpPr/>
          <p:nvPr/>
        </p:nvGrpSpPr>
        <p:grpSpPr>
          <a:xfrm>
            <a:off x="0" y="115920"/>
            <a:ext cx="9144000" cy="6551640"/>
            <a:chOff x="0" y="115920"/>
            <a:chExt cx="9144000" cy="6551640"/>
          </a:xfrm>
        </p:grpSpPr>
        <p:grpSp>
          <p:nvGrpSpPr>
            <p:cNvPr id="630" name="Ομάδα 1"/>
            <p:cNvGrpSpPr/>
            <p:nvPr/>
          </p:nvGrpSpPr>
          <p:grpSpPr>
            <a:xfrm>
              <a:off x="0" y="115920"/>
              <a:ext cx="9144000" cy="6551640"/>
              <a:chOff x="0" y="115920"/>
              <a:chExt cx="9144000" cy="6551640"/>
            </a:xfrm>
          </p:grpSpPr>
          <p:sp>
            <p:nvSpPr>
              <p:cNvPr id="631" name="Line 4"/>
              <p:cNvSpPr/>
              <p:nvPr/>
            </p:nvSpPr>
            <p:spPr>
              <a:xfrm>
                <a:off x="179280" y="115920"/>
                <a:ext cx="8713800" cy="144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Rectangle 5"/>
              <p:cNvSpPr/>
              <p:nvPr/>
            </p:nvSpPr>
            <p:spPr>
              <a:xfrm>
                <a:off x="1692000" y="187200"/>
                <a:ext cx="6767640" cy="6483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Rectangle 3"/>
              <p:cNvSpPr/>
              <p:nvPr/>
            </p:nvSpPr>
            <p:spPr>
              <a:xfrm>
                <a:off x="0" y="5948640"/>
                <a:ext cx="9144000" cy="71892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34" name="Line 3"/>
            <p:cNvSpPr/>
            <p:nvPr/>
          </p:nvSpPr>
          <p:spPr>
            <a:xfrm>
              <a:off x="179280" y="115920"/>
              <a:ext cx="1440" cy="1368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5" name="Rectangle 1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1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6" name="9 - Εικόνα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14 - Ορθογώνιο"/>
          <p:cNvSpPr/>
          <p:nvPr/>
        </p:nvSpPr>
        <p:spPr>
          <a:xfrm>
            <a:off x="395280" y="3573360"/>
            <a:ext cx="8137440" cy="248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ΤΜΗΜΑ ΕΛΛΗΝΙΚΗΣ ΦΙΛΟΛΟΓΙΑΣ ΔΗΜΟΚΡΙΤΕΙΟΥ ΠΑΝΕΠΙΣΤΗΜΙΟΥ ΘΡΑΚΗΣ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ΕΘΝΙΚΟ ΚΕΝΤΡΟ ΕΡΕΥΝΑΣ ΦΥΣΙΚΩΝ ΕΠΙΣΤΗΜΩΝ «ΔΗΜΟΚΡΙΤΟΣ»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8" name="Picture 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368360"/>
          </a:xfrm>
          <a:prstGeom prst="rect">
            <a:avLst/>
          </a:prstGeom>
          <a:ln w="0">
            <a:noFill/>
          </a:ln>
        </p:spPr>
      </p:pic>
      <p:pic>
        <p:nvPicPr>
          <p:cNvPr id="639" name="Picture 10" descr=""/>
          <p:cNvPicPr/>
          <p:nvPr/>
        </p:nvPicPr>
        <p:blipFill>
          <a:blip r:embed="rId2"/>
          <a:stretch/>
        </p:blipFill>
        <p:spPr>
          <a:xfrm>
            <a:off x="1258920" y="2060640"/>
            <a:ext cx="1297080" cy="1528560"/>
          </a:xfrm>
          <a:prstGeom prst="rect">
            <a:avLst/>
          </a:prstGeom>
          <a:ln w="0">
            <a:noFill/>
          </a:ln>
        </p:spPr>
      </p:pic>
      <p:pic>
        <p:nvPicPr>
          <p:cNvPr id="640" name="12 - Εικόνα" descr=""/>
          <p:cNvPicPr/>
          <p:nvPr/>
        </p:nvPicPr>
        <p:blipFill>
          <a:blip r:embed="rId3"/>
          <a:stretch/>
        </p:blipFill>
        <p:spPr>
          <a:xfrm>
            <a:off x="6948360" y="1989000"/>
            <a:ext cx="1444680" cy="1573200"/>
          </a:xfrm>
          <a:prstGeom prst="rect">
            <a:avLst/>
          </a:prstGeom>
          <a:ln w="0">
            <a:noFill/>
          </a:ln>
        </p:spPr>
      </p:pic>
      <p:sp>
        <p:nvSpPr>
          <p:cNvPr id="641" name="5 - Ορθογώνιο"/>
          <p:cNvSpPr/>
          <p:nvPr/>
        </p:nvSpPr>
        <p:spPr>
          <a:xfrm>
            <a:off x="611280" y="5950080"/>
            <a:ext cx="806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0099"/>
                </a:solidFill>
                <a:latin typeface="Arial"/>
                <a:ea typeface="Arial"/>
              </a:rPr>
              <a:t>ΕΙΣΗΓΗΤΕΣ: Παναγιώτης Ν. Μαντάς-Σπυριδούλα Κατσαντώνη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6 - Ορθογώνιο"/>
          <p:cNvSpPr/>
          <p:nvPr/>
        </p:nvSpPr>
        <p:spPr>
          <a:xfrm>
            <a:off x="179280" y="5084640"/>
            <a:ext cx="8785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Εξειδίκευση στις Τ.Π.Ε. και Ειδική Αγωγή – Ψυχοπαιδαγωγική της Ένταξη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863640" y="1392120"/>
            <a:ext cx="7596000" cy="439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Times New Roman"/>
              </a:rPr>
              <a:t>Ενότητα 4</a:t>
            </a:r>
            <a:br>
              <a:rPr sz="3200"/>
            </a:br>
            <a:r>
              <a:rPr b="1" lang="el-GR" sz="3200" spc="-1" strike="noStrike">
                <a:solidFill>
                  <a:srgbClr val="000000"/>
                </a:solidFill>
                <a:latin typeface="Times New Roman"/>
              </a:rPr>
              <a:t>Ένταξη και Ενσωμάτωση: </a:t>
            </a:r>
            <a:br>
              <a:rPr sz="3200"/>
            </a:br>
            <a:r>
              <a:rPr b="1" lang="el-GR" sz="3200" spc="-1" strike="noStrike">
                <a:solidFill>
                  <a:srgbClr val="000000"/>
                </a:solidFill>
                <a:latin typeface="Times New Roman"/>
              </a:rPr>
              <a:t>Σημασιολογική Διασαφήνιση των όρων- Προσδιορισμοί και Οριοθετήσεις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1" lang="el-GR" sz="2000" spc="-1" strike="noStrike">
                <a:solidFill>
                  <a:srgbClr val="000099"/>
                </a:solidFill>
                <a:latin typeface="Arial"/>
                <a:ea typeface="Arial"/>
              </a:rPr>
              <a:t>  </a:t>
            </a:r>
            <a:r>
              <a:rPr b="1" lang="el-GR" sz="1800" spc="-1" strike="noStrike">
                <a:solidFill>
                  <a:srgbClr val="000099"/>
                </a:solidFill>
                <a:latin typeface="Arial"/>
                <a:ea typeface="Arial"/>
              </a:rPr>
              <a:t>ΕΙΣΗΓΗΤΕΣ: Παναγιώτης Ν. Μαντάς-Σπυριδούλα Κατσαντώνη</a:t>
            </a:r>
            <a:br>
              <a:rPr sz="1800"/>
            </a:br>
            <a:br>
              <a:rPr sz="32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8" name="Ομάδα 1"/>
          <p:cNvGrpSpPr/>
          <p:nvPr/>
        </p:nvGrpSpPr>
        <p:grpSpPr>
          <a:xfrm>
            <a:off x="0" y="115920"/>
            <a:ext cx="9144000" cy="6551640"/>
            <a:chOff x="0" y="115920"/>
            <a:chExt cx="9144000" cy="6551640"/>
          </a:xfrm>
        </p:grpSpPr>
        <p:grpSp>
          <p:nvGrpSpPr>
            <p:cNvPr id="549" name="Ομάδα 1"/>
            <p:cNvGrpSpPr/>
            <p:nvPr/>
          </p:nvGrpSpPr>
          <p:grpSpPr>
            <a:xfrm>
              <a:off x="0" y="115920"/>
              <a:ext cx="9144000" cy="6551640"/>
              <a:chOff x="0" y="115920"/>
              <a:chExt cx="9144000" cy="6551640"/>
            </a:xfrm>
          </p:grpSpPr>
          <p:sp>
            <p:nvSpPr>
              <p:cNvPr id="550" name="Line 4"/>
              <p:cNvSpPr/>
              <p:nvPr/>
            </p:nvSpPr>
            <p:spPr>
              <a:xfrm>
                <a:off x="179280" y="115920"/>
                <a:ext cx="8713800" cy="144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Rectangle 5"/>
              <p:cNvSpPr/>
              <p:nvPr/>
            </p:nvSpPr>
            <p:spPr>
              <a:xfrm>
                <a:off x="1692000" y="187200"/>
                <a:ext cx="6767640" cy="6483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Rectangle 3"/>
              <p:cNvSpPr/>
              <p:nvPr/>
            </p:nvSpPr>
            <p:spPr>
              <a:xfrm>
                <a:off x="0" y="5948640"/>
                <a:ext cx="9144000" cy="71892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3" name="Line 3"/>
            <p:cNvSpPr/>
            <p:nvPr/>
          </p:nvSpPr>
          <p:spPr>
            <a:xfrm>
              <a:off x="179280" y="115920"/>
              <a:ext cx="1440" cy="1368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4" name="Rectangle 1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1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5" name="9 - Εικόνα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863640" y="1392120"/>
            <a:ext cx="7596000" cy="439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Times New Roman"/>
              </a:rPr>
              <a:t>Θεματικοί Άξονες Ενότητας 4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7" name="Ομάδα 1"/>
          <p:cNvGrpSpPr/>
          <p:nvPr/>
        </p:nvGrpSpPr>
        <p:grpSpPr>
          <a:xfrm>
            <a:off x="0" y="115920"/>
            <a:ext cx="9144000" cy="6551640"/>
            <a:chOff x="0" y="115920"/>
            <a:chExt cx="9144000" cy="6551640"/>
          </a:xfrm>
        </p:grpSpPr>
        <p:grpSp>
          <p:nvGrpSpPr>
            <p:cNvPr id="558" name="Ομάδα 1"/>
            <p:cNvGrpSpPr/>
            <p:nvPr/>
          </p:nvGrpSpPr>
          <p:grpSpPr>
            <a:xfrm>
              <a:off x="0" y="115920"/>
              <a:ext cx="9144000" cy="6551640"/>
              <a:chOff x="0" y="115920"/>
              <a:chExt cx="9144000" cy="6551640"/>
            </a:xfrm>
          </p:grpSpPr>
          <p:sp>
            <p:nvSpPr>
              <p:cNvPr id="559" name="Line 4"/>
              <p:cNvSpPr/>
              <p:nvPr/>
            </p:nvSpPr>
            <p:spPr>
              <a:xfrm>
                <a:off x="179280" y="115920"/>
                <a:ext cx="8713800" cy="144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Rectangle 5"/>
              <p:cNvSpPr/>
              <p:nvPr/>
            </p:nvSpPr>
            <p:spPr>
              <a:xfrm>
                <a:off x="1692000" y="187200"/>
                <a:ext cx="6767640" cy="6483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Rectangle 3"/>
              <p:cNvSpPr/>
              <p:nvPr/>
            </p:nvSpPr>
            <p:spPr>
              <a:xfrm>
                <a:off x="0" y="5948640"/>
                <a:ext cx="9144000" cy="71892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2" name="Line 3"/>
            <p:cNvSpPr/>
            <p:nvPr/>
          </p:nvSpPr>
          <p:spPr>
            <a:xfrm>
              <a:off x="179280" y="115920"/>
              <a:ext cx="1440" cy="1368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3" name="Rectangle 1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1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4" name="9 - Εικόνα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863640" y="1392120"/>
            <a:ext cx="7596000" cy="439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4.1.Ένταξη και Ενσωμάτωση: </a:t>
            </a:r>
            <a:br>
              <a:rPr sz="2800"/>
            </a:br>
            <a:br>
              <a:rPr sz="2800"/>
            </a:b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Σημασιολογική Διασαφήνιση των όρων- Προσδιορισμοί και Οριοθετήσεις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6" name="Ομάδα 1"/>
          <p:cNvGrpSpPr/>
          <p:nvPr/>
        </p:nvGrpSpPr>
        <p:grpSpPr>
          <a:xfrm>
            <a:off x="0" y="115920"/>
            <a:ext cx="9144000" cy="6551640"/>
            <a:chOff x="0" y="115920"/>
            <a:chExt cx="9144000" cy="6551640"/>
          </a:xfrm>
        </p:grpSpPr>
        <p:grpSp>
          <p:nvGrpSpPr>
            <p:cNvPr id="567" name="Ομάδα 1"/>
            <p:cNvGrpSpPr/>
            <p:nvPr/>
          </p:nvGrpSpPr>
          <p:grpSpPr>
            <a:xfrm>
              <a:off x="0" y="115920"/>
              <a:ext cx="9144000" cy="6551640"/>
              <a:chOff x="0" y="115920"/>
              <a:chExt cx="9144000" cy="6551640"/>
            </a:xfrm>
          </p:grpSpPr>
          <p:sp>
            <p:nvSpPr>
              <p:cNvPr id="568" name="Line 4"/>
              <p:cNvSpPr/>
              <p:nvPr/>
            </p:nvSpPr>
            <p:spPr>
              <a:xfrm>
                <a:off x="179280" y="115920"/>
                <a:ext cx="8713800" cy="144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Rectangle 5"/>
              <p:cNvSpPr/>
              <p:nvPr/>
            </p:nvSpPr>
            <p:spPr>
              <a:xfrm>
                <a:off x="1692000" y="187200"/>
                <a:ext cx="6767640" cy="6483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Rectangle 3"/>
              <p:cNvSpPr/>
              <p:nvPr/>
            </p:nvSpPr>
            <p:spPr>
              <a:xfrm>
                <a:off x="0" y="5948640"/>
                <a:ext cx="9144000" cy="71892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71" name="Line 3"/>
            <p:cNvSpPr/>
            <p:nvPr/>
          </p:nvSpPr>
          <p:spPr>
            <a:xfrm>
              <a:off x="179280" y="115920"/>
              <a:ext cx="1440" cy="1368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2" name="Rectangle 1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1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3" name="9 - Εικόνα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863640" y="1392120"/>
            <a:ext cx="7596000" cy="439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4.2.Αντιλήψεις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στάσεις και απόψεις  </a:t>
            </a:r>
            <a:br>
              <a:rPr sz="2800"/>
            </a:b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των εκπαιδευτικών </a:t>
            </a:r>
            <a:br>
              <a:rPr sz="2800"/>
            </a:b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για την ένταξη των μαθητών με εεα/αναπηρίες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5" name="Ομάδα 1"/>
          <p:cNvGrpSpPr/>
          <p:nvPr/>
        </p:nvGrpSpPr>
        <p:grpSpPr>
          <a:xfrm>
            <a:off x="0" y="115920"/>
            <a:ext cx="9144000" cy="6551640"/>
            <a:chOff x="0" y="115920"/>
            <a:chExt cx="9144000" cy="6551640"/>
          </a:xfrm>
        </p:grpSpPr>
        <p:grpSp>
          <p:nvGrpSpPr>
            <p:cNvPr id="576" name="Ομάδα 1"/>
            <p:cNvGrpSpPr/>
            <p:nvPr/>
          </p:nvGrpSpPr>
          <p:grpSpPr>
            <a:xfrm>
              <a:off x="0" y="115920"/>
              <a:ext cx="9144000" cy="6551640"/>
              <a:chOff x="0" y="115920"/>
              <a:chExt cx="9144000" cy="6551640"/>
            </a:xfrm>
          </p:grpSpPr>
          <p:sp>
            <p:nvSpPr>
              <p:cNvPr id="577" name="Line 4"/>
              <p:cNvSpPr/>
              <p:nvPr/>
            </p:nvSpPr>
            <p:spPr>
              <a:xfrm>
                <a:off x="179280" y="115920"/>
                <a:ext cx="8713800" cy="144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Rectangle 5"/>
              <p:cNvSpPr/>
              <p:nvPr/>
            </p:nvSpPr>
            <p:spPr>
              <a:xfrm>
                <a:off x="1692000" y="187200"/>
                <a:ext cx="6767640" cy="6483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Rectangle 3"/>
              <p:cNvSpPr/>
              <p:nvPr/>
            </p:nvSpPr>
            <p:spPr>
              <a:xfrm>
                <a:off x="0" y="5948640"/>
                <a:ext cx="9144000" cy="71892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0" name="Line 3"/>
            <p:cNvSpPr/>
            <p:nvPr/>
          </p:nvSpPr>
          <p:spPr>
            <a:xfrm>
              <a:off x="179280" y="115920"/>
              <a:ext cx="1440" cy="1368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1" name="Rectangle 1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1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2" name="9 - Εικόνα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863640" y="1392120"/>
            <a:ext cx="7596000" cy="439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.3.</a:t>
            </a: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Ο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Ρόλος των εκπαιδευτικών και οι απόψεις τους για την ένταξη των μαθητών με  ΕΕΑ/ΑΝΑΠΗΡΙΕΣ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4" name="Ομάδα 1"/>
          <p:cNvGrpSpPr/>
          <p:nvPr/>
        </p:nvGrpSpPr>
        <p:grpSpPr>
          <a:xfrm>
            <a:off x="0" y="115920"/>
            <a:ext cx="9144000" cy="6551640"/>
            <a:chOff x="0" y="115920"/>
            <a:chExt cx="9144000" cy="6551640"/>
          </a:xfrm>
        </p:grpSpPr>
        <p:grpSp>
          <p:nvGrpSpPr>
            <p:cNvPr id="585" name="Ομάδα 1"/>
            <p:cNvGrpSpPr/>
            <p:nvPr/>
          </p:nvGrpSpPr>
          <p:grpSpPr>
            <a:xfrm>
              <a:off x="0" y="115920"/>
              <a:ext cx="9144000" cy="6551640"/>
              <a:chOff x="0" y="115920"/>
              <a:chExt cx="9144000" cy="6551640"/>
            </a:xfrm>
          </p:grpSpPr>
          <p:sp>
            <p:nvSpPr>
              <p:cNvPr id="586" name="Line 4"/>
              <p:cNvSpPr/>
              <p:nvPr/>
            </p:nvSpPr>
            <p:spPr>
              <a:xfrm>
                <a:off x="179280" y="115920"/>
                <a:ext cx="8713800" cy="144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Rectangle 5"/>
              <p:cNvSpPr/>
              <p:nvPr/>
            </p:nvSpPr>
            <p:spPr>
              <a:xfrm>
                <a:off x="1692000" y="187200"/>
                <a:ext cx="6767640" cy="6483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Rectangle 3"/>
              <p:cNvSpPr/>
              <p:nvPr/>
            </p:nvSpPr>
            <p:spPr>
              <a:xfrm>
                <a:off x="0" y="5948640"/>
                <a:ext cx="9144000" cy="71892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9" name="Line 3"/>
            <p:cNvSpPr/>
            <p:nvPr/>
          </p:nvSpPr>
          <p:spPr>
            <a:xfrm>
              <a:off x="179280" y="115920"/>
              <a:ext cx="1440" cy="1368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0" name="Rectangle 1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1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1" name="9 - Εικόνα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863280" y="1392120"/>
            <a:ext cx="7885080" cy="439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.4. </a:t>
            </a: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Απόψεις  και αντιλήψεις  </a:t>
            </a:r>
            <a:br>
              <a:rPr sz="2800"/>
            </a:b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των εκπαιδευτικών</a:t>
            </a:r>
            <a:br>
              <a:rPr sz="2800"/>
            </a:b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της Γενικής Τάξης για την ένταξη μαθητών </a:t>
            </a:r>
            <a:br>
              <a:rPr sz="2800"/>
            </a:b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με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Ειδικές Μαθησιακές Ανάγκες </a:t>
            </a:r>
            <a:br>
              <a:rPr sz="2800"/>
            </a:b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μέσα από έρευνες.</a:t>
            </a:r>
            <a:br>
              <a:rPr sz="1800"/>
            </a:b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3" name="Ομάδα 1"/>
          <p:cNvGrpSpPr/>
          <p:nvPr/>
        </p:nvGrpSpPr>
        <p:grpSpPr>
          <a:xfrm>
            <a:off x="0" y="115920"/>
            <a:ext cx="9144000" cy="6551640"/>
            <a:chOff x="0" y="115920"/>
            <a:chExt cx="9144000" cy="6551640"/>
          </a:xfrm>
        </p:grpSpPr>
        <p:grpSp>
          <p:nvGrpSpPr>
            <p:cNvPr id="594" name="Ομάδα 1"/>
            <p:cNvGrpSpPr/>
            <p:nvPr/>
          </p:nvGrpSpPr>
          <p:grpSpPr>
            <a:xfrm>
              <a:off x="0" y="115920"/>
              <a:ext cx="9144000" cy="6551640"/>
              <a:chOff x="0" y="115920"/>
              <a:chExt cx="9144000" cy="6551640"/>
            </a:xfrm>
          </p:grpSpPr>
          <p:sp>
            <p:nvSpPr>
              <p:cNvPr id="595" name="Line 4"/>
              <p:cNvSpPr/>
              <p:nvPr/>
            </p:nvSpPr>
            <p:spPr>
              <a:xfrm>
                <a:off x="179280" y="115920"/>
                <a:ext cx="8713800" cy="144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Rectangle 5"/>
              <p:cNvSpPr/>
              <p:nvPr/>
            </p:nvSpPr>
            <p:spPr>
              <a:xfrm>
                <a:off x="1692000" y="187200"/>
                <a:ext cx="6767640" cy="6483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Rectangle 3"/>
              <p:cNvSpPr/>
              <p:nvPr/>
            </p:nvSpPr>
            <p:spPr>
              <a:xfrm>
                <a:off x="0" y="5948640"/>
                <a:ext cx="9144000" cy="71892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98" name="Line 3"/>
            <p:cNvSpPr/>
            <p:nvPr/>
          </p:nvSpPr>
          <p:spPr>
            <a:xfrm>
              <a:off x="179280" y="115920"/>
              <a:ext cx="1440" cy="1368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9" name="Rectangle 1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1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0" name="9 - Εικόνα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863640" y="1392120"/>
            <a:ext cx="7596000" cy="439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.5.</a:t>
            </a: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Οι αντιλήψεις των μαθητών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για την ένταξη των συμμαθητών τους με εεα/αναπηρίες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2" name="Ομάδα 1"/>
          <p:cNvGrpSpPr/>
          <p:nvPr/>
        </p:nvGrpSpPr>
        <p:grpSpPr>
          <a:xfrm>
            <a:off x="0" y="115920"/>
            <a:ext cx="9144000" cy="6551640"/>
            <a:chOff x="0" y="115920"/>
            <a:chExt cx="9144000" cy="6551640"/>
          </a:xfrm>
        </p:grpSpPr>
        <p:grpSp>
          <p:nvGrpSpPr>
            <p:cNvPr id="603" name="Ομάδα 1"/>
            <p:cNvGrpSpPr/>
            <p:nvPr/>
          </p:nvGrpSpPr>
          <p:grpSpPr>
            <a:xfrm>
              <a:off x="0" y="115920"/>
              <a:ext cx="9144000" cy="6551640"/>
              <a:chOff x="0" y="115920"/>
              <a:chExt cx="9144000" cy="6551640"/>
            </a:xfrm>
          </p:grpSpPr>
          <p:sp>
            <p:nvSpPr>
              <p:cNvPr id="604" name="Line 4"/>
              <p:cNvSpPr/>
              <p:nvPr/>
            </p:nvSpPr>
            <p:spPr>
              <a:xfrm>
                <a:off x="179280" y="115920"/>
                <a:ext cx="8713800" cy="144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Rectangle 5"/>
              <p:cNvSpPr/>
              <p:nvPr/>
            </p:nvSpPr>
            <p:spPr>
              <a:xfrm>
                <a:off x="1692000" y="187200"/>
                <a:ext cx="6767640" cy="6483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Rectangle 3"/>
              <p:cNvSpPr/>
              <p:nvPr/>
            </p:nvSpPr>
            <p:spPr>
              <a:xfrm>
                <a:off x="0" y="5948640"/>
                <a:ext cx="9144000" cy="71892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7" name="Line 3"/>
            <p:cNvSpPr/>
            <p:nvPr/>
          </p:nvSpPr>
          <p:spPr>
            <a:xfrm>
              <a:off x="179280" y="115920"/>
              <a:ext cx="1440" cy="1368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8" name="Rectangle 1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1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9" name="9 - Εικόνα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863640" y="1392120"/>
            <a:ext cx="7596000" cy="439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.6. </a:t>
            </a: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Οι αντιλήψεις </a:t>
            </a:r>
            <a:br>
              <a:rPr sz="2800"/>
            </a:b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του Οικογενειακού Περιβάλλοντος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800"/>
            </a:b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για την ένταξη </a:t>
            </a:r>
            <a:br>
              <a:rPr sz="2800"/>
            </a:b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των μαθητών  με εεα/αναπηρίες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1" name="Ομάδα 1"/>
          <p:cNvGrpSpPr/>
          <p:nvPr/>
        </p:nvGrpSpPr>
        <p:grpSpPr>
          <a:xfrm>
            <a:off x="0" y="115920"/>
            <a:ext cx="9144000" cy="6551640"/>
            <a:chOff x="0" y="115920"/>
            <a:chExt cx="9144000" cy="6551640"/>
          </a:xfrm>
        </p:grpSpPr>
        <p:grpSp>
          <p:nvGrpSpPr>
            <p:cNvPr id="612" name="Ομάδα 1"/>
            <p:cNvGrpSpPr/>
            <p:nvPr/>
          </p:nvGrpSpPr>
          <p:grpSpPr>
            <a:xfrm>
              <a:off x="0" y="115920"/>
              <a:ext cx="9144000" cy="6551640"/>
              <a:chOff x="0" y="115920"/>
              <a:chExt cx="9144000" cy="6551640"/>
            </a:xfrm>
          </p:grpSpPr>
          <p:sp>
            <p:nvSpPr>
              <p:cNvPr id="613" name="Line 4"/>
              <p:cNvSpPr/>
              <p:nvPr/>
            </p:nvSpPr>
            <p:spPr>
              <a:xfrm>
                <a:off x="179280" y="115920"/>
                <a:ext cx="8713800" cy="144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Rectangle 5"/>
              <p:cNvSpPr/>
              <p:nvPr/>
            </p:nvSpPr>
            <p:spPr>
              <a:xfrm>
                <a:off x="1692000" y="187200"/>
                <a:ext cx="6767640" cy="6483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Rectangle 3"/>
              <p:cNvSpPr/>
              <p:nvPr/>
            </p:nvSpPr>
            <p:spPr>
              <a:xfrm>
                <a:off x="0" y="5948640"/>
                <a:ext cx="9144000" cy="71892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6" name="Line 3"/>
            <p:cNvSpPr/>
            <p:nvPr/>
          </p:nvSpPr>
          <p:spPr>
            <a:xfrm>
              <a:off x="179280" y="115920"/>
              <a:ext cx="1440" cy="1368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7" name="Rectangle 1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1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9 - Εικόνα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2T18:34:10Z</dcterms:created>
  <dc:creator>Maria Petmesidou</dc:creator>
  <dc:description/>
  <dc:language>en-US</dc:language>
  <cp:lastModifiedBy>MANTAS</cp:lastModifiedBy>
  <dcterms:modified xsi:type="dcterms:W3CDTF">2020-10-13T09:30:42Z</dcterms:modified>
  <cp:revision>158</cp:revision>
  <dc:subject/>
  <dc:title>Παρουσίαση του PowerPoint</dc:title>
</cp:coreProperties>
</file>