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85800" y="4642920"/>
            <a:ext cx="5486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40"/>
          </p:nvPr>
        </p:nvSpPr>
        <p:spPr>
          <a:xfrm>
            <a:off x="-3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41"/>
          </p:nvPr>
        </p:nvSpPr>
        <p:spPr>
          <a:xfrm>
            <a:off x="388440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4032-3D3B-4D49-8BBD-097F4EDB949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ED60-5591-437C-A165-A63DAAACE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040A-68BD-439A-A468-D343DCA0B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6070-7EF0-48BB-84E3-6768AAE6A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23D1-7175-4E6F-BB8E-2F0A857E88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3CA6-7438-483B-95F9-876BCBDD7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BA02-A1CD-4020-A2CC-7F799B5F5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5E2D-9AF1-4662-BFA6-E6497C00B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96AC-2615-4FE7-ABA3-41F201D7C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0B7C-1A39-40FC-A04E-AD311B647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C0C-5322-4C4D-BE28-57D00E770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6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3D2C-A7ED-4B23-8ED9-57F8049F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456-7415-405F-BCC0-098763E2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8BE3-5ADB-4A7A-A203-22346AEF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4EA8ED-54F1-4254-A46F-47B077B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F01E5-6EF6-4B89-A7C4-3A477F5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BC31-13BD-4F98-B5E8-353B8A93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2A229-7F9E-4419-9086-D89F2A1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83B7F-2753-46E2-B513-475D7542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53314-5EC9-4399-9312-1FF5BC33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92CFA-C634-4F28-8535-82599050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EF4512-8EC4-4A4B-AD52-000B1DFDD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61032-839F-41F7-91CD-B15D0CB8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A329B-9B26-42C8-8AD6-7219EAE0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CD3-701A-4515-B862-4F8F5DE88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2C0B3-D26B-49CA-BA56-B106330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952DB-93DD-4DE3-ABC1-7B6269E1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FAA7-8678-4807-BD51-A520BCA9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A4209-6423-4A46-9137-14CA9B7E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806FB-ADC0-45C5-94A5-3173F828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873EF-38C0-4505-A73A-74E0CAC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DF25D-E624-45F3-A1D6-4F14538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4A1EE-4D11-4187-83BA-A6BDA0D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58216-4C4B-4A1E-8CE8-ABDD3A76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6710-ABD1-46A4-8421-6B7D066E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2799-68DF-4DAF-929E-418296E47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0D6D1-D5E7-47D3-B7D5-C2F3CA66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1DB3D-454E-4AC0-A018-B178587C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0F244-A160-42DE-8ABC-30431058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CD98F4-152F-4DE6-85A5-F9753957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0E87A-C3F2-4478-9190-883D1CCC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5E337-2EC3-4E4B-BD06-999FCDFE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3D6DC-2E7C-4408-BCF3-265A09B8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A271-B710-40B2-A7F2-A443372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74A4D-01DE-49BA-95D8-EEDB83EC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88B56F-A48A-4719-B268-FED6236B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A0E-1EB7-4524-BBB2-491E3698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6D35F-2556-4BEA-85A4-DC86407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05A22-93C4-45B1-8F97-A6AB42A6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D9FD8-D8E4-4946-BD79-C841435E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43920-C65F-4B5D-AFF9-6E7CCC58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03B69-3F0F-4D08-A08E-0ECC5FBE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5A42D-3F5B-41A2-B26D-01F7F3D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BF6E4-CB75-42B4-B9A6-2817B75F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4F976-4B88-4B58-AFDD-EAF0F2A1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7E38B-750C-4C50-81BC-A42A3AA8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412FD-FE2F-493E-9EFD-1977FBE3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A354-5BD1-47C0-A14B-0A89F3E2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09660-C386-4604-BB45-447757B0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48151-2055-4B18-9E28-6C8083D2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20634-6108-4D24-BDA2-93A7040F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C11E1-6E99-4CFA-925F-811EDA9C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690A5-B68C-4B2E-9E39-2946465E0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A4A03A-4DA7-4782-9E68-7E8F2F49A3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5F04E2-463A-42E0-86EB-D234EE56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A86819-6E33-4065-84A8-A3F3483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46B2A3-92B2-4E26-89AA-C447734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185B81-775D-4744-AA70-B1BC9E8D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2C7A-2274-43EF-AB7D-2C7FFDA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59CE88-E3F9-4479-924B-47D14401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6D1328-D0D9-43C5-B104-B06ED06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F0387A-6F3F-42C8-B5A2-F4CB5A1B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EB0487-0E8C-49E4-9E1A-0AE7C8DF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D7E794-9D10-49C3-BF23-AF228293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BBC7AD-D400-424E-99A2-A67727BA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D0ADB-4FDC-4347-93B8-F3C0A85B9A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215B-DD34-46E3-B237-9F01C8FB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81B6-8010-419E-AB05-11A1DDD3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9A0A-6F9C-47BF-9DB5-AF229AB1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3F12-19BE-48B6-9CEA-E0F30FD4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2130-ABF9-44FA-A0DB-51750C5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B3AD-4829-4608-BB14-A1D6209D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5CC6-798C-4DDA-966E-01019F8F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C353-F187-4995-9914-DBD0E6C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57F0-F82A-4341-8D8E-9959CF4E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C17-4132-4DED-ACA3-EE481F90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60A75-A31A-4CE1-B11C-2D090B0E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F425D-7E2F-49A5-A22D-872304EA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A8CDD-9B4F-46CF-935E-7946CEE7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5A54-9BC0-4B29-9D9F-DCAE3679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B7092-9725-49A7-81D1-FB6C7DD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330A-1EEC-4C90-9BAB-4F72CD6C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634D-679D-4F9D-9E79-4B5D141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91EB-D690-4D47-8BDA-A6D69200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EDEBA-8666-49DD-B3D0-CDC614D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73C1-16D6-4D9C-B3A3-CFCBC8E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6468-8112-42C0-85CC-15E0EC4B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34F0E-C7D5-435E-B09A-FE0BEAC9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68FD-9AD6-4622-86E8-2077F8E5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6CD74-F913-4212-A80E-2F5928A5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1072F-E018-494A-81E7-5E8143BC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5BE4-5E76-41D3-BB57-0383099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D46-9939-4E4E-BEAB-5627EA8B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03A3-015F-464E-929B-A3E57C1F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BE9CB-5ECE-4C60-A481-F72BD482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A1736-9855-4317-99C2-CB2014F8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A42E2-BB84-4527-B44B-8015C4AB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6254-2DD5-4A9A-98B3-3876C8E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9E3A-47E0-4DE4-80F5-88E7054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AD738-EE81-44C8-8086-701B32D2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25EFF-25AC-4896-BA59-4E7E19EB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3D01-5FBB-40AD-ABD3-4673BD99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408D-53FF-410E-AFBD-20879D0A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CB21-7107-4B70-A937-7EC3CB8D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CED90-E432-4CAB-B5C6-A0B6D237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33972-937A-49AF-A845-BBC89AA0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D55B-6E82-48DF-A936-159B3E2A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63E8E-0598-49BA-9DAD-0B77D96E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CB502-E7DE-4C2B-8212-3D007756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AD855-A484-46D2-92F9-FB44702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0185-480B-423D-8032-905F34DC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DB239-C629-4966-B4A8-2ECCCFB8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AC75-9516-49BE-B9D3-6F6DEDE5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B598-9747-48F5-A61D-C9D74AA7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81C-665E-439A-8F04-53BD3FAE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DBB30-797E-4DF1-B683-37C6D373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880A3-3A85-43CF-B800-5D16C8F1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2CD75-F71D-4DAE-831B-D219BCCE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B25A-99A4-42EF-BCC5-6C439FC3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0D53-101F-4F85-B768-F4D6544D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6C14E-0701-48D5-A8EC-3DD31F9D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5C330-0F08-484B-8308-A1A292B4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AF7AE-72BA-4618-A9CF-96D230E6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0A52-B034-4B50-BD7C-BEA4AB77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B9273-71A3-45AE-94C0-6C3BEDC5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F48-1812-47A0-BC78-6C5F113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9FE25-07DB-40CF-B0AA-BE209A7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2F66-FB87-4902-AF78-171CE41D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416AC-45D2-4775-AB57-ACD62835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DC2D1-E8EE-4D81-BB51-008EA18D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C76FA-1074-45C3-B1DF-4BF5A64F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CF890-C201-4716-AC6B-8830F266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75400-2413-40CE-8650-3728BA56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80576-9FE6-4755-B851-8EFB883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52E30-8637-4CD8-A46D-9A2530FF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C069-738E-48EE-A239-B2B79C3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A50-3BE5-4E7B-A483-5ABA5168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F9E02-8D25-435C-8424-C9304719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EC071-E58B-43C5-9DC4-2E3D7796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23F38-FDD4-48A7-9429-1881C9EA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3270A-34E1-4844-B433-9DEAA289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93CA4-B7A1-498E-AF29-6254A03B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28C6C-CC00-4FBA-A8A4-16413467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8DB92-02A7-49AE-9133-7CEAA597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9AFFE-5D6E-44F3-BE3E-6A6087CC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4DBA5-0F2C-45FF-9CCB-4E60133F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2D40A-C62F-4A5F-9E65-E13471F0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E448-CD24-4077-90B9-011158CD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600D8-515C-4027-AB9E-FB0DF45C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7B47-4985-4F55-B72F-83552205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F5D21-D3C3-44D8-9A4E-5B71FB0F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19554-3DB8-4A01-85A6-44D899CD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65156-B110-49DD-B129-908F80FC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B896C-22AD-4185-9E45-86D27B34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E0E4-88B3-469C-B8C5-C88A184C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F2AB-5FAD-44CE-90A9-D19A2FFDF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250BD-5A45-47AB-AA6D-7C4CED97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4924E-DE61-4A25-B73A-8BE4F3E2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AA62-A27D-475E-A8EC-C08B1A71BD4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33D1-AACE-4EFC-992E-820F6B40520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955B-2F7B-45BD-B06E-71E4C0EBEFC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7468-BBDE-493A-822E-DF79D81A4F0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1BB4-D5A9-435F-B48A-F330022AE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935-DEBB-47A6-A9AB-B2795CBAC283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4784-DB87-4D12-B979-565127BC18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5263-6043-4CE3-A24A-22E5337561F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DE81-6CF2-408E-A091-71F10995A9D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FC22-891D-4BCE-9402-8C6ACBF2D45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9E90-F362-40D0-857E-438CB00B4F7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D7EB-A759-4355-A36D-4154A4FC411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1B2E-9729-4CF1-890B-C9719684237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13 - Ορθογώνιο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0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1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14 - Ορθογώνιο"/>
          <p:cNvSpPr/>
          <p:nvPr/>
        </p:nvSpPr>
        <p:spPr>
          <a:xfrm>
            <a:off x="1332000" y="4437000"/>
            <a:ext cx="6875280" cy="13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15 - Ορθογώνιο"/>
          <p:cNvSpPr/>
          <p:nvPr/>
        </p:nvSpPr>
        <p:spPr>
          <a:xfrm>
            <a:off x="826920" y="5805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9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1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5" name="12 - Εικόνα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3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2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Η  δομή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21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22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7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  H διαρρύθμιση της σχολικής τάξη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0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31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αι διαμόρφωση περιβάλλοντος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,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3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4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Rectangle 1"/>
          <p:cNvSpPr/>
          <p:nvPr/>
        </p:nvSpPr>
        <p:spPr>
          <a:xfrm>
            <a:off x="1298520" y="2060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14 - Ορθογώνιο"/>
          <p:cNvSpPr/>
          <p:nvPr/>
        </p:nvSpPr>
        <p:spPr>
          <a:xfrm>
            <a:off x="395280" y="3573360"/>
            <a:ext cx="81374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9" name="12 - Εικόνα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50" name="5 - Ορθογώνιο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Γούπος Θεόδωρος,  δρ. Παιδαγωγικώ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6 - Ορθογώνιο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6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ργάνωση υποδομών και διαμόρφωση περιβάλλοντος εκπαίδευσης και μάθηση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ΗΣ: </a:t>
            </a: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Γούπος Θεόδωρος,  δρ. Παιδαγωγικών</a:t>
            </a:r>
            <a:br>
              <a:rPr sz="3200"/>
            </a:br>
            <a:br>
              <a:rPr sz="3200"/>
            </a:br>
            <a:br>
              <a:rPr sz="28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49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0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3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της Ενότητας 6 </a:t>
            </a: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58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59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6.1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Ανθρωποκεντρική/Παιδαγωγική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προσέγγιση του σχολικο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χώρου 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67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68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1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2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H ποιότητα του Σχολικού Χώρου</a:t>
            </a:r>
            <a:br>
              <a:rPr sz="3200"/>
            </a:b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76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77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3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Κριτήρια ποιότητας του σχολικού χώρου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85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86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4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Οι Οικονομικοί πόροι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594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595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5.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Η Σχολική Τάξη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03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04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6.5.1.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Η Σχολική τάξη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Οργάνωση σχολικής τάξης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ο νηπιαγωγείο , στο δημοτικό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στις άλλες βαθμίδες, </a:t>
            </a:r>
            <a:br>
              <a:rPr sz="3600"/>
            </a:b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γωνιές μάθησης, κλπ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Ομάδα 1"/>
          <p:cNvGrpSpPr/>
          <p:nvPr/>
        </p:nvGrpSpPr>
        <p:grpSpPr>
          <a:xfrm>
            <a:off x="0" y="115920"/>
            <a:ext cx="9144000" cy="6551640"/>
            <a:chOff x="0" y="115920"/>
            <a:chExt cx="9144000" cy="6551640"/>
          </a:xfrm>
        </p:grpSpPr>
        <p:grpSp>
          <p:nvGrpSpPr>
            <p:cNvPr id="612" name="Ομάδα 1"/>
            <p:cNvGrpSpPr/>
            <p:nvPr/>
          </p:nvGrpSpPr>
          <p:grpSpPr>
            <a:xfrm>
              <a:off x="0" y="115920"/>
              <a:ext cx="9144000" cy="6551640"/>
              <a:chOff x="0" y="115920"/>
              <a:chExt cx="9144000" cy="6551640"/>
            </a:xfrm>
          </p:grpSpPr>
          <p:sp>
            <p:nvSpPr>
              <p:cNvPr id="613" name="Line 4"/>
              <p:cNvSpPr/>
              <p:nvPr/>
            </p:nvSpPr>
            <p:spPr>
              <a:xfrm>
                <a:off x="179280" y="115920"/>
                <a:ext cx="8713800" cy="1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1692000" y="187200"/>
                <a:ext cx="6767640" cy="6483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3"/>
              <p:cNvSpPr/>
              <p:nvPr/>
            </p:nvSpPr>
            <p:spPr>
              <a:xfrm>
                <a:off x="0" y="5948640"/>
                <a:ext cx="9144000" cy="71892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Line 3"/>
            <p:cNvSpPr/>
            <p:nvPr/>
          </p:nvSpPr>
          <p:spPr>
            <a:xfrm>
              <a:off x="179280" y="115920"/>
              <a:ext cx="144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Rectangle 1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9 - Εικόνα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>user</cp:lastModifiedBy>
  <dcterms:modified xsi:type="dcterms:W3CDTF">2020-09-27T09:12:55Z</dcterms:modified>
  <cp:revision>152</cp:revision>
  <dc:subject/>
  <dc:title>Παρουσίαση του PowerPoint</dc:title>
</cp:coreProperties>
</file>